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6115-5EBD-4E59-B9DF-7DD99E9DA4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60D7-5CEB-4B63-822D-C624343EBD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AEC7-63D8-4F44-B7E6-2D9CF9A2C1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CD10-DD43-47CC-9E9C-D447E5166B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E82A-7E38-4CBC-A6D9-621703180A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7C95-663E-4ADF-8908-09ACA3D6EF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44B4-2A16-4DE7-86F5-14E410128D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4316-0135-457D-B00E-4B1AADE8A5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D6D3-FFCF-49D1-8E16-CA9602BE86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6A41-9129-4B6C-AA14-134E15E05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18FB-65E7-4136-A5B2-686F37F9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9E24-0256-4705-93AA-C698241E4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1079-7FAB-48A0-9F35-4C32D22F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8B78-0558-4FF4-B20E-53681BBA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88E4-F9C9-4F73-B21A-B56FB9C5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F820-022E-4E48-B620-BB1B1E55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70D7-1E74-4814-9781-47CA1CDE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218A-1971-4387-8AC3-BE51C2D2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F8E8-E3E4-432F-955B-625EBF84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BE74-7B2F-4F67-B07E-A932150E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EB41-3C8C-4F6B-ACDE-B2DD6882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7F01-7834-430E-A4AE-7E2C6B8217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4800600" y="0"/>
            <a:ext cx="4343400" cy="173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1.1/1.2: Variables, Exponents, and Order of Op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5840280"/>
            <a:ext cx="9144000" cy="1017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4800600" y="4327920"/>
            <a:ext cx="4343400" cy="253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tubbornness is also determination. It's simply a matter of shifting from ‘won't power’ to ‘will power.’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Determination"/>
          <p:cNvPicPr/>
          <p:nvPr/>
        </p:nvPicPr>
        <p:blipFill>
          <a:blip r:embed="rId1"/>
          <a:srcRect l="0" t="0" r="0" b="4267"/>
          <a:stretch/>
        </p:blipFill>
        <p:spPr>
          <a:xfrm>
            <a:off x="0" y="0"/>
            <a:ext cx="477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Box 2"/>
          <p:cNvSpPr/>
          <p:nvPr/>
        </p:nvSpPr>
        <p:spPr>
          <a:xfrm>
            <a:off x="4800600" y="0"/>
            <a:ext cx="4343400" cy="173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1.1/1.2: Variables, Exponents, and Order of Op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0" y="5840280"/>
            <a:ext cx="9144000" cy="1017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4800600" y="4327920"/>
            <a:ext cx="4343400" cy="253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tubbornness is also determination. It's simply a matter of shifting from ‘won't power’ to ‘will power.’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5" descr="Determination"/>
          <p:cNvPicPr/>
          <p:nvPr/>
        </p:nvPicPr>
        <p:blipFill>
          <a:blip r:embed="rId1"/>
          <a:srcRect l="0" t="0" r="0" b="4267"/>
          <a:stretch/>
        </p:blipFill>
        <p:spPr>
          <a:xfrm>
            <a:off x="0" y="0"/>
            <a:ext cx="4776840" cy="685800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6"/>
          <p:cNvSpPr/>
          <p:nvPr/>
        </p:nvSpPr>
        <p:spPr>
          <a:xfrm>
            <a:off x="4800600" y="2362320"/>
            <a:ext cx="4343400" cy="137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HOMEWOR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.6 #3-14, 21,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.12 #5-8, 19-22, 33-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80008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riting Algebraic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609480" y="1644480"/>
            <a:ext cx="358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1) 5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more tha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609480" y="2711520"/>
            <a:ext cx="4496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2) Th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quotien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2"/>
          <p:cNvSpPr/>
          <p:nvPr/>
        </p:nvSpPr>
        <p:spPr>
          <a:xfrm>
            <a:off x="609480" y="3854520"/>
            <a:ext cx="358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3) 17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less tha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3"/>
          <p:cNvSpPr/>
          <p:nvPr/>
        </p:nvSpPr>
        <p:spPr>
          <a:xfrm>
            <a:off x="609480" y="4997520"/>
            <a:ext cx="4496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4) Th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roduc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f 7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4"/>
          <p:cNvSpPr/>
          <p:nvPr/>
        </p:nvSpPr>
        <p:spPr>
          <a:xfrm>
            <a:off x="0" y="990720"/>
            <a:ext cx="861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Write an algebraic expression for each phr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6393"/>
          <p:cNvGrpSpPr/>
          <p:nvPr/>
        </p:nvGrpSpPr>
        <p:grpSpPr>
          <a:xfrm>
            <a:off x="2073240" y="1584360"/>
            <a:ext cx="5392800" cy="4259160"/>
            <a:chOff x="2073240" y="1584360"/>
            <a:chExt cx="5392800" cy="4259160"/>
          </a:xfrm>
        </p:grpSpPr>
        <p:sp>
          <p:nvSpPr>
            <p:cNvPr id="60" name="SMARTInkAnnotation391"/>
            <p:cNvSpPr/>
            <p:nvPr/>
          </p:nvSpPr>
          <p:spPr>
            <a:xfrm>
              <a:off x="3086640" y="1873800"/>
              <a:ext cx="325800" cy="289440"/>
            </a:xfrm>
            <a:custGeom>
              <a:avLst/>
              <a:gdLst>
                <a:gd name="textAreaLeft" fmla="*/ 0 w 325800"/>
                <a:gd name="textAreaRight" fmla="*/ 326160 w 32580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325918" h="289561">
                  <a:moveTo>
                    <a:pt x="0" y="289560"/>
                  </a:moveTo>
                  <a:lnTo>
                    <a:pt x="18697" y="289560"/>
                  </a:lnTo>
                  <a:lnTo>
                    <a:pt x="22624" y="288713"/>
                  </a:lnTo>
                  <a:lnTo>
                    <a:pt x="25243" y="287302"/>
                  </a:lnTo>
                  <a:lnTo>
                    <a:pt x="26989" y="285515"/>
                  </a:lnTo>
                  <a:lnTo>
                    <a:pt x="31539" y="284323"/>
                  </a:lnTo>
                  <a:lnTo>
                    <a:pt x="37960" y="283529"/>
                  </a:lnTo>
                  <a:lnTo>
                    <a:pt x="45626" y="282999"/>
                  </a:lnTo>
                  <a:lnTo>
                    <a:pt x="53278" y="280953"/>
                  </a:lnTo>
                  <a:lnTo>
                    <a:pt x="60918" y="277895"/>
                  </a:lnTo>
                  <a:lnTo>
                    <a:pt x="68552" y="274164"/>
                  </a:lnTo>
                  <a:lnTo>
                    <a:pt x="77029" y="270829"/>
                  </a:lnTo>
                  <a:lnTo>
                    <a:pt x="86066" y="267760"/>
                  </a:lnTo>
                  <a:lnTo>
                    <a:pt x="95477" y="264866"/>
                  </a:lnTo>
                  <a:lnTo>
                    <a:pt x="105138" y="261244"/>
                  </a:lnTo>
                  <a:lnTo>
                    <a:pt x="114965" y="257136"/>
                  </a:lnTo>
                  <a:lnTo>
                    <a:pt x="124904" y="252704"/>
                  </a:lnTo>
                  <a:lnTo>
                    <a:pt x="134069" y="248056"/>
                  </a:lnTo>
                  <a:lnTo>
                    <a:pt x="142719" y="243264"/>
                  </a:lnTo>
                  <a:lnTo>
                    <a:pt x="151026" y="238376"/>
                  </a:lnTo>
                  <a:lnTo>
                    <a:pt x="159951" y="233424"/>
                  </a:lnTo>
                  <a:lnTo>
                    <a:pt x="178898" y="223407"/>
                  </a:lnTo>
                  <a:lnTo>
                    <a:pt x="208605" y="208246"/>
                  </a:lnTo>
                  <a:lnTo>
                    <a:pt x="217810" y="202331"/>
                  </a:lnTo>
                  <a:lnTo>
                    <a:pt x="226487" y="195847"/>
                  </a:lnTo>
                  <a:lnTo>
                    <a:pt x="234811" y="188985"/>
                  </a:lnTo>
                  <a:lnTo>
                    <a:pt x="242901" y="181870"/>
                  </a:lnTo>
                  <a:lnTo>
                    <a:pt x="250834" y="174587"/>
                  </a:lnTo>
                  <a:lnTo>
                    <a:pt x="258663" y="167191"/>
                  </a:lnTo>
                  <a:lnTo>
                    <a:pt x="265575" y="159721"/>
                  </a:lnTo>
                  <a:lnTo>
                    <a:pt x="271877" y="152200"/>
                  </a:lnTo>
                  <a:lnTo>
                    <a:pt x="277771" y="144647"/>
                  </a:lnTo>
                  <a:lnTo>
                    <a:pt x="284241" y="137071"/>
                  </a:lnTo>
                  <a:lnTo>
                    <a:pt x="291094" y="129481"/>
                  </a:lnTo>
                  <a:lnTo>
                    <a:pt x="298203" y="121881"/>
                  </a:lnTo>
                  <a:lnTo>
                    <a:pt x="303788" y="114274"/>
                  </a:lnTo>
                  <a:lnTo>
                    <a:pt x="308359" y="106662"/>
                  </a:lnTo>
                  <a:lnTo>
                    <a:pt x="312253" y="99048"/>
                  </a:lnTo>
                  <a:lnTo>
                    <a:pt x="315695" y="91432"/>
                  </a:lnTo>
                  <a:lnTo>
                    <a:pt x="318836" y="83815"/>
                  </a:lnTo>
                  <a:lnTo>
                    <a:pt x="321778" y="76197"/>
                  </a:lnTo>
                  <a:lnTo>
                    <a:pt x="323738" y="68578"/>
                  </a:lnTo>
                  <a:lnTo>
                    <a:pt x="325046" y="60959"/>
                  </a:lnTo>
                  <a:lnTo>
                    <a:pt x="325917" y="53339"/>
                  </a:lnTo>
                  <a:lnTo>
                    <a:pt x="325652" y="45719"/>
                  </a:lnTo>
                  <a:lnTo>
                    <a:pt x="324628" y="38099"/>
                  </a:lnTo>
                  <a:lnTo>
                    <a:pt x="323098" y="30480"/>
                  </a:lnTo>
                  <a:lnTo>
                    <a:pt x="322079" y="24553"/>
                  </a:lnTo>
                  <a:lnTo>
                    <a:pt x="320946" y="15710"/>
                  </a:lnTo>
                  <a:lnTo>
                    <a:pt x="319798" y="12167"/>
                  </a:lnTo>
                  <a:lnTo>
                    <a:pt x="318185" y="8958"/>
                  </a:lnTo>
                  <a:lnTo>
                    <a:pt x="3124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SMARTInkAnnotation392"/>
            <p:cNvSpPr/>
            <p:nvPr/>
          </p:nvSpPr>
          <p:spPr>
            <a:xfrm>
              <a:off x="2915280" y="1805400"/>
              <a:ext cx="308520" cy="320040"/>
            </a:xfrm>
            <a:custGeom>
              <a:avLst/>
              <a:gdLst>
                <a:gd name="textAreaLeft" fmla="*/ 0 w 308520"/>
                <a:gd name="textAreaRight" fmla="*/ 308880 w 30852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308556" h="320041">
                  <a:moveTo>
                    <a:pt x="278075" y="0"/>
                  </a:moveTo>
                  <a:lnTo>
                    <a:pt x="265939" y="0"/>
                  </a:lnTo>
                  <a:lnTo>
                    <a:pt x="258978" y="1694"/>
                  </a:lnTo>
                  <a:lnTo>
                    <a:pt x="250950" y="4516"/>
                  </a:lnTo>
                  <a:lnTo>
                    <a:pt x="242212" y="8091"/>
                  </a:lnTo>
                  <a:lnTo>
                    <a:pt x="234693" y="10474"/>
                  </a:lnTo>
                  <a:lnTo>
                    <a:pt x="227987" y="12062"/>
                  </a:lnTo>
                  <a:lnTo>
                    <a:pt x="221823" y="13122"/>
                  </a:lnTo>
                  <a:lnTo>
                    <a:pt x="213481" y="15521"/>
                  </a:lnTo>
                  <a:lnTo>
                    <a:pt x="203685" y="18814"/>
                  </a:lnTo>
                  <a:lnTo>
                    <a:pt x="192922" y="22703"/>
                  </a:lnTo>
                  <a:lnTo>
                    <a:pt x="180666" y="27835"/>
                  </a:lnTo>
                  <a:lnTo>
                    <a:pt x="167416" y="33797"/>
                  </a:lnTo>
                  <a:lnTo>
                    <a:pt x="129012" y="52065"/>
                  </a:lnTo>
                  <a:lnTo>
                    <a:pt x="117739" y="57570"/>
                  </a:lnTo>
                  <a:lnTo>
                    <a:pt x="105991" y="64627"/>
                  </a:lnTo>
                  <a:lnTo>
                    <a:pt x="93926" y="72718"/>
                  </a:lnTo>
                  <a:lnTo>
                    <a:pt x="81649" y="81499"/>
                  </a:lnTo>
                  <a:lnTo>
                    <a:pt x="70924" y="89893"/>
                  </a:lnTo>
                  <a:lnTo>
                    <a:pt x="61234" y="98028"/>
                  </a:lnTo>
                  <a:lnTo>
                    <a:pt x="52235" y="105992"/>
                  </a:lnTo>
                  <a:lnTo>
                    <a:pt x="44541" y="113841"/>
                  </a:lnTo>
                  <a:lnTo>
                    <a:pt x="37719" y="121614"/>
                  </a:lnTo>
                  <a:lnTo>
                    <a:pt x="31478" y="129336"/>
                  </a:lnTo>
                  <a:lnTo>
                    <a:pt x="25623" y="137871"/>
                  </a:lnTo>
                  <a:lnTo>
                    <a:pt x="20027" y="146947"/>
                  </a:lnTo>
                  <a:lnTo>
                    <a:pt x="14603" y="156385"/>
                  </a:lnTo>
                  <a:lnTo>
                    <a:pt x="10987" y="165216"/>
                  </a:lnTo>
                  <a:lnTo>
                    <a:pt x="8576" y="173644"/>
                  </a:lnTo>
                  <a:lnTo>
                    <a:pt x="6969" y="181803"/>
                  </a:lnTo>
                  <a:lnTo>
                    <a:pt x="5051" y="189782"/>
                  </a:lnTo>
                  <a:lnTo>
                    <a:pt x="2926" y="197641"/>
                  </a:lnTo>
                  <a:lnTo>
                    <a:pt x="662" y="205421"/>
                  </a:lnTo>
                  <a:lnTo>
                    <a:pt x="0" y="213147"/>
                  </a:lnTo>
                  <a:lnTo>
                    <a:pt x="404" y="220838"/>
                  </a:lnTo>
                  <a:lnTo>
                    <a:pt x="1521" y="228506"/>
                  </a:lnTo>
                  <a:lnTo>
                    <a:pt x="3113" y="235310"/>
                  </a:lnTo>
                  <a:lnTo>
                    <a:pt x="5020" y="241540"/>
                  </a:lnTo>
                  <a:lnTo>
                    <a:pt x="7138" y="247387"/>
                  </a:lnTo>
                  <a:lnTo>
                    <a:pt x="10244" y="252978"/>
                  </a:lnTo>
                  <a:lnTo>
                    <a:pt x="14008" y="258399"/>
                  </a:lnTo>
                  <a:lnTo>
                    <a:pt x="18210" y="263706"/>
                  </a:lnTo>
                  <a:lnTo>
                    <a:pt x="23552" y="268937"/>
                  </a:lnTo>
                  <a:lnTo>
                    <a:pt x="29653" y="274118"/>
                  </a:lnTo>
                  <a:lnTo>
                    <a:pt x="36260" y="279265"/>
                  </a:lnTo>
                  <a:lnTo>
                    <a:pt x="42358" y="284391"/>
                  </a:lnTo>
                  <a:lnTo>
                    <a:pt x="48117" y="289500"/>
                  </a:lnTo>
                  <a:lnTo>
                    <a:pt x="53650" y="294600"/>
                  </a:lnTo>
                  <a:lnTo>
                    <a:pt x="60725" y="298847"/>
                  </a:lnTo>
                  <a:lnTo>
                    <a:pt x="68829" y="302525"/>
                  </a:lnTo>
                  <a:lnTo>
                    <a:pt x="77617" y="305823"/>
                  </a:lnTo>
                  <a:lnTo>
                    <a:pt x="86863" y="308022"/>
                  </a:lnTo>
                  <a:lnTo>
                    <a:pt x="96414" y="309488"/>
                  </a:lnTo>
                  <a:lnTo>
                    <a:pt x="106168" y="310466"/>
                  </a:lnTo>
                  <a:lnTo>
                    <a:pt x="116903" y="311964"/>
                  </a:lnTo>
                  <a:lnTo>
                    <a:pt x="140121" y="315886"/>
                  </a:lnTo>
                  <a:lnTo>
                    <a:pt x="152239" y="317271"/>
                  </a:lnTo>
                  <a:lnTo>
                    <a:pt x="164551" y="318194"/>
                  </a:lnTo>
                  <a:lnTo>
                    <a:pt x="176993" y="318809"/>
                  </a:lnTo>
                  <a:lnTo>
                    <a:pt x="202105" y="319493"/>
                  </a:lnTo>
                  <a:lnTo>
                    <a:pt x="308555" y="3200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SMARTInkAnnotation393"/>
            <p:cNvSpPr/>
            <p:nvPr/>
          </p:nvSpPr>
          <p:spPr>
            <a:xfrm>
              <a:off x="4534200" y="1767240"/>
              <a:ext cx="45360" cy="24372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45721" h="243841">
                  <a:moveTo>
                    <a:pt x="45720" y="0"/>
                  </a:moveTo>
                  <a:lnTo>
                    <a:pt x="45720" y="4045"/>
                  </a:lnTo>
                  <a:lnTo>
                    <a:pt x="44874" y="6084"/>
                  </a:lnTo>
                  <a:lnTo>
                    <a:pt x="43462" y="8289"/>
                  </a:lnTo>
                  <a:lnTo>
                    <a:pt x="41675" y="10606"/>
                  </a:lnTo>
                  <a:lnTo>
                    <a:pt x="40484" y="12998"/>
                  </a:lnTo>
                  <a:lnTo>
                    <a:pt x="39159" y="17912"/>
                  </a:lnTo>
                  <a:lnTo>
                    <a:pt x="38571" y="25177"/>
                  </a:lnTo>
                  <a:lnTo>
                    <a:pt x="38414" y="29485"/>
                  </a:lnTo>
                  <a:lnTo>
                    <a:pt x="37463" y="34896"/>
                  </a:lnTo>
                  <a:lnTo>
                    <a:pt x="35982" y="41044"/>
                  </a:lnTo>
                  <a:lnTo>
                    <a:pt x="34148" y="47683"/>
                  </a:lnTo>
                  <a:lnTo>
                    <a:pt x="32079" y="53802"/>
                  </a:lnTo>
                  <a:lnTo>
                    <a:pt x="29853" y="59575"/>
                  </a:lnTo>
                  <a:lnTo>
                    <a:pt x="27522" y="65117"/>
                  </a:lnTo>
                  <a:lnTo>
                    <a:pt x="25968" y="71351"/>
                  </a:lnTo>
                  <a:lnTo>
                    <a:pt x="24932" y="78047"/>
                  </a:lnTo>
                  <a:lnTo>
                    <a:pt x="24242" y="85052"/>
                  </a:lnTo>
                  <a:lnTo>
                    <a:pt x="22935" y="91415"/>
                  </a:lnTo>
                  <a:lnTo>
                    <a:pt x="21217" y="97350"/>
                  </a:lnTo>
                  <a:lnTo>
                    <a:pt x="19225" y="103000"/>
                  </a:lnTo>
                  <a:lnTo>
                    <a:pt x="17896" y="109307"/>
                  </a:lnTo>
                  <a:lnTo>
                    <a:pt x="17011" y="116051"/>
                  </a:lnTo>
                  <a:lnTo>
                    <a:pt x="16420" y="123087"/>
                  </a:lnTo>
                  <a:lnTo>
                    <a:pt x="15180" y="130318"/>
                  </a:lnTo>
                  <a:lnTo>
                    <a:pt x="13508" y="137679"/>
                  </a:lnTo>
                  <a:lnTo>
                    <a:pt x="11545" y="145126"/>
                  </a:lnTo>
                  <a:lnTo>
                    <a:pt x="10237" y="151784"/>
                  </a:lnTo>
                  <a:lnTo>
                    <a:pt x="9365" y="157916"/>
                  </a:lnTo>
                  <a:lnTo>
                    <a:pt x="8783" y="163698"/>
                  </a:lnTo>
                  <a:lnTo>
                    <a:pt x="8396" y="170092"/>
                  </a:lnTo>
                  <a:lnTo>
                    <a:pt x="7965" y="183970"/>
                  </a:lnTo>
                  <a:lnTo>
                    <a:pt x="7722" y="202018"/>
                  </a:lnTo>
                  <a:lnTo>
                    <a:pt x="6841" y="206645"/>
                  </a:lnTo>
                  <a:lnTo>
                    <a:pt x="5408" y="210577"/>
                  </a:lnTo>
                  <a:lnTo>
                    <a:pt x="3605" y="214044"/>
                  </a:lnTo>
                  <a:lnTo>
                    <a:pt x="2403" y="218050"/>
                  </a:lnTo>
                  <a:lnTo>
                    <a:pt x="1603" y="222413"/>
                  </a:lnTo>
                  <a:lnTo>
                    <a:pt x="1069" y="227016"/>
                  </a:lnTo>
                  <a:lnTo>
                    <a:pt x="474" y="234387"/>
                  </a:lnTo>
                  <a:lnTo>
                    <a:pt x="0" y="2438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SMARTInkAnnotation394"/>
            <p:cNvSpPr/>
            <p:nvPr/>
          </p:nvSpPr>
          <p:spPr>
            <a:xfrm>
              <a:off x="4846680" y="1729080"/>
              <a:ext cx="297000" cy="226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97181" h="22861">
                  <a:moveTo>
                    <a:pt x="0" y="22860"/>
                  </a:moveTo>
                  <a:lnTo>
                    <a:pt x="11351" y="22860"/>
                  </a:lnTo>
                  <a:lnTo>
                    <a:pt x="15187" y="22013"/>
                  </a:lnTo>
                  <a:lnTo>
                    <a:pt x="20285" y="20602"/>
                  </a:lnTo>
                  <a:lnTo>
                    <a:pt x="26223" y="18815"/>
                  </a:lnTo>
                  <a:lnTo>
                    <a:pt x="31875" y="17623"/>
                  </a:lnTo>
                  <a:lnTo>
                    <a:pt x="37337" y="16829"/>
                  </a:lnTo>
                  <a:lnTo>
                    <a:pt x="42671" y="16299"/>
                  </a:lnTo>
                  <a:lnTo>
                    <a:pt x="49614" y="15946"/>
                  </a:lnTo>
                  <a:lnTo>
                    <a:pt x="66359" y="15554"/>
                  </a:lnTo>
                  <a:lnTo>
                    <a:pt x="75566" y="14603"/>
                  </a:lnTo>
                  <a:lnTo>
                    <a:pt x="85090" y="13122"/>
                  </a:lnTo>
                  <a:lnTo>
                    <a:pt x="94827" y="11288"/>
                  </a:lnTo>
                  <a:lnTo>
                    <a:pt x="104704" y="10065"/>
                  </a:lnTo>
                  <a:lnTo>
                    <a:pt x="114676" y="9250"/>
                  </a:lnTo>
                  <a:lnTo>
                    <a:pt x="124710" y="8707"/>
                  </a:lnTo>
                  <a:lnTo>
                    <a:pt x="147149" y="8103"/>
                  </a:lnTo>
                  <a:lnTo>
                    <a:pt x="192003" y="7715"/>
                  </a:lnTo>
                  <a:lnTo>
                    <a:pt x="202508" y="6837"/>
                  </a:lnTo>
                  <a:lnTo>
                    <a:pt x="212899" y="5405"/>
                  </a:lnTo>
                  <a:lnTo>
                    <a:pt x="223212" y="3603"/>
                  </a:lnTo>
                  <a:lnTo>
                    <a:pt x="233475" y="2402"/>
                  </a:lnTo>
                  <a:lnTo>
                    <a:pt x="243703" y="1601"/>
                  </a:lnTo>
                  <a:lnTo>
                    <a:pt x="262405" y="712"/>
                  </a:lnTo>
                  <a:lnTo>
                    <a:pt x="281608" y="211"/>
                  </a:lnTo>
                  <a:lnTo>
                    <a:pt x="29718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SMARTInkAnnotation395"/>
            <p:cNvSpPr/>
            <p:nvPr/>
          </p:nvSpPr>
          <p:spPr>
            <a:xfrm>
              <a:off x="4793400" y="1759680"/>
              <a:ext cx="225720" cy="14112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225900" h="141228">
                  <a:moveTo>
                    <a:pt x="30471" y="0"/>
                  </a:moveTo>
                  <a:lnTo>
                    <a:pt x="30471" y="32000"/>
                  </a:lnTo>
                  <a:lnTo>
                    <a:pt x="29624" y="36573"/>
                  </a:lnTo>
                  <a:lnTo>
                    <a:pt x="28213" y="42162"/>
                  </a:lnTo>
                  <a:lnTo>
                    <a:pt x="26426" y="48428"/>
                  </a:lnTo>
                  <a:lnTo>
                    <a:pt x="25234" y="54299"/>
                  </a:lnTo>
                  <a:lnTo>
                    <a:pt x="24440" y="59906"/>
                  </a:lnTo>
                  <a:lnTo>
                    <a:pt x="23910" y="65337"/>
                  </a:lnTo>
                  <a:lnTo>
                    <a:pt x="22710" y="70652"/>
                  </a:lnTo>
                  <a:lnTo>
                    <a:pt x="21064" y="75888"/>
                  </a:lnTo>
                  <a:lnTo>
                    <a:pt x="19120" y="81072"/>
                  </a:lnTo>
                  <a:lnTo>
                    <a:pt x="16977" y="86221"/>
                  </a:lnTo>
                  <a:lnTo>
                    <a:pt x="14701" y="91347"/>
                  </a:lnTo>
                  <a:lnTo>
                    <a:pt x="12339" y="96458"/>
                  </a:lnTo>
                  <a:lnTo>
                    <a:pt x="10762" y="101559"/>
                  </a:lnTo>
                  <a:lnTo>
                    <a:pt x="9712" y="106653"/>
                  </a:lnTo>
                  <a:lnTo>
                    <a:pt x="9012" y="111742"/>
                  </a:lnTo>
                  <a:lnTo>
                    <a:pt x="5976" y="119654"/>
                  </a:lnTo>
                  <a:lnTo>
                    <a:pt x="2651" y="125993"/>
                  </a:lnTo>
                  <a:lnTo>
                    <a:pt x="516" y="134703"/>
                  </a:lnTo>
                  <a:lnTo>
                    <a:pt x="224" y="136915"/>
                  </a:lnTo>
                  <a:lnTo>
                    <a:pt x="60" y="141227"/>
                  </a:lnTo>
                  <a:lnTo>
                    <a:pt x="0" y="137863"/>
                  </a:lnTo>
                  <a:lnTo>
                    <a:pt x="6076" y="130369"/>
                  </a:lnTo>
                  <a:lnTo>
                    <a:pt x="10598" y="122571"/>
                  </a:lnTo>
                  <a:lnTo>
                    <a:pt x="13836" y="118120"/>
                  </a:lnTo>
                  <a:lnTo>
                    <a:pt x="17688" y="113460"/>
                  </a:lnTo>
                  <a:lnTo>
                    <a:pt x="21948" y="108660"/>
                  </a:lnTo>
                  <a:lnTo>
                    <a:pt x="31199" y="98811"/>
                  </a:lnTo>
                  <a:lnTo>
                    <a:pt x="36036" y="93814"/>
                  </a:lnTo>
                  <a:lnTo>
                    <a:pt x="41801" y="89636"/>
                  </a:lnTo>
                  <a:lnTo>
                    <a:pt x="48184" y="86004"/>
                  </a:lnTo>
                  <a:lnTo>
                    <a:pt x="54980" y="82736"/>
                  </a:lnTo>
                  <a:lnTo>
                    <a:pt x="62050" y="79711"/>
                  </a:lnTo>
                  <a:lnTo>
                    <a:pt x="69304" y="76847"/>
                  </a:lnTo>
                  <a:lnTo>
                    <a:pt x="76680" y="74091"/>
                  </a:lnTo>
                  <a:lnTo>
                    <a:pt x="83290" y="71408"/>
                  </a:lnTo>
                  <a:lnTo>
                    <a:pt x="89390" y="68772"/>
                  </a:lnTo>
                  <a:lnTo>
                    <a:pt x="95151" y="66168"/>
                  </a:lnTo>
                  <a:lnTo>
                    <a:pt x="101531" y="64432"/>
                  </a:lnTo>
                  <a:lnTo>
                    <a:pt x="108325" y="63275"/>
                  </a:lnTo>
                  <a:lnTo>
                    <a:pt x="115393" y="62503"/>
                  </a:lnTo>
                  <a:lnTo>
                    <a:pt x="122646" y="62836"/>
                  </a:lnTo>
                  <a:lnTo>
                    <a:pt x="130021" y="63904"/>
                  </a:lnTo>
                  <a:lnTo>
                    <a:pt x="137477" y="65463"/>
                  </a:lnTo>
                  <a:lnTo>
                    <a:pt x="144989" y="67348"/>
                  </a:lnTo>
                  <a:lnTo>
                    <a:pt x="152536" y="69452"/>
                  </a:lnTo>
                  <a:lnTo>
                    <a:pt x="160108" y="71702"/>
                  </a:lnTo>
                  <a:lnTo>
                    <a:pt x="167696" y="74895"/>
                  </a:lnTo>
                  <a:lnTo>
                    <a:pt x="175294" y="78716"/>
                  </a:lnTo>
                  <a:lnTo>
                    <a:pt x="182900" y="82958"/>
                  </a:lnTo>
                  <a:lnTo>
                    <a:pt x="189664" y="87478"/>
                  </a:lnTo>
                  <a:lnTo>
                    <a:pt x="195865" y="92186"/>
                  </a:lnTo>
                  <a:lnTo>
                    <a:pt x="201695" y="97017"/>
                  </a:lnTo>
                  <a:lnTo>
                    <a:pt x="207273" y="101931"/>
                  </a:lnTo>
                  <a:lnTo>
                    <a:pt x="217988" y="111907"/>
                  </a:lnTo>
                  <a:lnTo>
                    <a:pt x="222369" y="117785"/>
                  </a:lnTo>
                  <a:lnTo>
                    <a:pt x="225899" y="1238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MARTInkAnnotation396"/>
            <p:cNvSpPr/>
            <p:nvPr/>
          </p:nvSpPr>
          <p:spPr>
            <a:xfrm>
              <a:off x="4506840" y="1896840"/>
              <a:ext cx="217800" cy="2628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217830" h="26397">
                  <a:moveTo>
                    <a:pt x="0" y="26396"/>
                  </a:moveTo>
                  <a:lnTo>
                    <a:pt x="5937" y="25452"/>
                  </a:lnTo>
                  <a:lnTo>
                    <a:pt x="14760" y="24588"/>
                  </a:lnTo>
                  <a:lnTo>
                    <a:pt x="24030" y="24012"/>
                  </a:lnTo>
                  <a:lnTo>
                    <a:pt x="33596" y="22781"/>
                  </a:lnTo>
                  <a:lnTo>
                    <a:pt x="43361" y="21114"/>
                  </a:lnTo>
                  <a:lnTo>
                    <a:pt x="53257" y="19156"/>
                  </a:lnTo>
                  <a:lnTo>
                    <a:pt x="63241" y="17851"/>
                  </a:lnTo>
                  <a:lnTo>
                    <a:pt x="73284" y="16981"/>
                  </a:lnTo>
                  <a:lnTo>
                    <a:pt x="83366" y="16400"/>
                  </a:lnTo>
                  <a:lnTo>
                    <a:pt x="93473" y="15167"/>
                  </a:lnTo>
                  <a:lnTo>
                    <a:pt x="103598" y="13498"/>
                  </a:lnTo>
                  <a:lnTo>
                    <a:pt x="113736" y="11539"/>
                  </a:lnTo>
                  <a:lnTo>
                    <a:pt x="123880" y="10232"/>
                  </a:lnTo>
                  <a:lnTo>
                    <a:pt x="134029" y="9362"/>
                  </a:lnTo>
                  <a:lnTo>
                    <a:pt x="144183" y="8781"/>
                  </a:lnTo>
                  <a:lnTo>
                    <a:pt x="152645" y="7548"/>
                  </a:lnTo>
                  <a:lnTo>
                    <a:pt x="159979" y="5878"/>
                  </a:lnTo>
                  <a:lnTo>
                    <a:pt x="166563" y="3919"/>
                  </a:lnTo>
                  <a:lnTo>
                    <a:pt x="173492" y="2613"/>
                  </a:lnTo>
                  <a:lnTo>
                    <a:pt x="180651" y="1742"/>
                  </a:lnTo>
                  <a:lnTo>
                    <a:pt x="187964" y="1161"/>
                  </a:lnTo>
                  <a:lnTo>
                    <a:pt x="194532" y="774"/>
                  </a:lnTo>
                  <a:lnTo>
                    <a:pt x="217829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SMARTInkAnnotation397"/>
            <p:cNvSpPr/>
            <p:nvPr/>
          </p:nvSpPr>
          <p:spPr>
            <a:xfrm>
              <a:off x="3924720" y="1782360"/>
              <a:ext cx="304560" cy="258840"/>
            </a:xfrm>
            <a:custGeom>
              <a:avLst/>
              <a:gdLst>
                <a:gd name="textAreaLeft" fmla="*/ 0 w 304560"/>
                <a:gd name="textAreaRight" fmla="*/ 304560 w 3045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304801" h="259081">
                  <a:moveTo>
                    <a:pt x="304800" y="0"/>
                  </a:moveTo>
                  <a:lnTo>
                    <a:pt x="300755" y="0"/>
                  </a:lnTo>
                  <a:lnTo>
                    <a:pt x="298717" y="847"/>
                  </a:lnTo>
                  <a:lnTo>
                    <a:pt x="294194" y="4045"/>
                  </a:lnTo>
                  <a:lnTo>
                    <a:pt x="292650" y="6930"/>
                  </a:lnTo>
                  <a:lnTo>
                    <a:pt x="290933" y="14651"/>
                  </a:lnTo>
                  <a:lnTo>
                    <a:pt x="288782" y="18234"/>
                  </a:lnTo>
                  <a:lnTo>
                    <a:pt x="281877" y="24473"/>
                  </a:lnTo>
                  <a:lnTo>
                    <a:pt x="273163" y="32326"/>
                  </a:lnTo>
                  <a:lnTo>
                    <a:pt x="263646" y="41460"/>
                  </a:lnTo>
                  <a:lnTo>
                    <a:pt x="253772" y="51165"/>
                  </a:lnTo>
                  <a:lnTo>
                    <a:pt x="247921" y="55276"/>
                  </a:lnTo>
                  <a:lnTo>
                    <a:pt x="241481" y="58864"/>
                  </a:lnTo>
                  <a:lnTo>
                    <a:pt x="234648" y="62103"/>
                  </a:lnTo>
                  <a:lnTo>
                    <a:pt x="228398" y="66802"/>
                  </a:lnTo>
                  <a:lnTo>
                    <a:pt x="222539" y="72475"/>
                  </a:lnTo>
                  <a:lnTo>
                    <a:pt x="216939" y="78796"/>
                  </a:lnTo>
                  <a:lnTo>
                    <a:pt x="210666" y="84704"/>
                  </a:lnTo>
                  <a:lnTo>
                    <a:pt x="203945" y="90336"/>
                  </a:lnTo>
                  <a:lnTo>
                    <a:pt x="170861" y="115587"/>
                  </a:lnTo>
                  <a:lnTo>
                    <a:pt x="162167" y="122778"/>
                  </a:lnTo>
                  <a:lnTo>
                    <a:pt x="153831" y="130112"/>
                  </a:lnTo>
                  <a:lnTo>
                    <a:pt x="145735" y="137541"/>
                  </a:lnTo>
                  <a:lnTo>
                    <a:pt x="137796" y="144188"/>
                  </a:lnTo>
                  <a:lnTo>
                    <a:pt x="129964" y="150312"/>
                  </a:lnTo>
                  <a:lnTo>
                    <a:pt x="122203" y="156088"/>
                  </a:lnTo>
                  <a:lnTo>
                    <a:pt x="114489" y="162479"/>
                  </a:lnTo>
                  <a:lnTo>
                    <a:pt x="106805" y="169279"/>
                  </a:lnTo>
                  <a:lnTo>
                    <a:pt x="99144" y="176353"/>
                  </a:lnTo>
                  <a:lnTo>
                    <a:pt x="91496" y="182762"/>
                  </a:lnTo>
                  <a:lnTo>
                    <a:pt x="83857" y="188728"/>
                  </a:lnTo>
                  <a:lnTo>
                    <a:pt x="76225" y="194399"/>
                  </a:lnTo>
                  <a:lnTo>
                    <a:pt x="69443" y="199873"/>
                  </a:lnTo>
                  <a:lnTo>
                    <a:pt x="63229" y="205215"/>
                  </a:lnTo>
                  <a:lnTo>
                    <a:pt x="57393" y="210470"/>
                  </a:lnTo>
                  <a:lnTo>
                    <a:pt x="46392" y="220824"/>
                  </a:lnTo>
                  <a:lnTo>
                    <a:pt x="41089" y="225956"/>
                  </a:lnTo>
                  <a:lnTo>
                    <a:pt x="35859" y="230224"/>
                  </a:lnTo>
                  <a:lnTo>
                    <a:pt x="30679" y="233916"/>
                  </a:lnTo>
                  <a:lnTo>
                    <a:pt x="21255" y="240276"/>
                  </a:lnTo>
                  <a:lnTo>
                    <a:pt x="14245" y="245925"/>
                  </a:lnTo>
                  <a:lnTo>
                    <a:pt x="5537" y="253865"/>
                  </a:lnTo>
                  <a:lnTo>
                    <a:pt x="0" y="2590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SMARTInkAnnotation398"/>
            <p:cNvSpPr/>
            <p:nvPr/>
          </p:nvSpPr>
          <p:spPr>
            <a:xfrm>
              <a:off x="3917160" y="1782360"/>
              <a:ext cx="236160" cy="24372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236221" h="243841">
                  <a:moveTo>
                    <a:pt x="0" y="0"/>
                  </a:moveTo>
                  <a:lnTo>
                    <a:pt x="4045" y="4045"/>
                  </a:lnTo>
                  <a:lnTo>
                    <a:pt x="5237" y="6084"/>
                  </a:lnTo>
                  <a:lnTo>
                    <a:pt x="6561" y="10606"/>
                  </a:lnTo>
                  <a:lnTo>
                    <a:pt x="8608" y="12997"/>
                  </a:lnTo>
                  <a:lnTo>
                    <a:pt x="15397" y="17912"/>
                  </a:lnTo>
                  <a:lnTo>
                    <a:pt x="21801" y="25177"/>
                  </a:lnTo>
                  <a:lnTo>
                    <a:pt x="24694" y="29485"/>
                  </a:lnTo>
                  <a:lnTo>
                    <a:pt x="27470" y="34050"/>
                  </a:lnTo>
                  <a:lnTo>
                    <a:pt x="30166" y="38787"/>
                  </a:lnTo>
                  <a:lnTo>
                    <a:pt x="32811" y="43638"/>
                  </a:lnTo>
                  <a:lnTo>
                    <a:pt x="36267" y="49412"/>
                  </a:lnTo>
                  <a:lnTo>
                    <a:pt x="44623" y="62601"/>
                  </a:lnTo>
                  <a:lnTo>
                    <a:pt x="49222" y="68827"/>
                  </a:lnTo>
                  <a:lnTo>
                    <a:pt x="53982" y="74672"/>
                  </a:lnTo>
                  <a:lnTo>
                    <a:pt x="58847" y="80261"/>
                  </a:lnTo>
                  <a:lnTo>
                    <a:pt x="63785" y="86527"/>
                  </a:lnTo>
                  <a:lnTo>
                    <a:pt x="68771" y="93245"/>
                  </a:lnTo>
                  <a:lnTo>
                    <a:pt x="78825" y="107482"/>
                  </a:lnTo>
                  <a:lnTo>
                    <a:pt x="104151" y="144886"/>
                  </a:lnTo>
                  <a:lnTo>
                    <a:pt x="109227" y="151624"/>
                  </a:lnTo>
                  <a:lnTo>
                    <a:pt x="114305" y="157809"/>
                  </a:lnTo>
                  <a:lnTo>
                    <a:pt x="119383" y="163626"/>
                  </a:lnTo>
                  <a:lnTo>
                    <a:pt x="124462" y="170044"/>
                  </a:lnTo>
                  <a:lnTo>
                    <a:pt x="129542" y="176863"/>
                  </a:lnTo>
                  <a:lnTo>
                    <a:pt x="134621" y="183949"/>
                  </a:lnTo>
                  <a:lnTo>
                    <a:pt x="140548" y="190366"/>
                  </a:lnTo>
                  <a:lnTo>
                    <a:pt x="147039" y="196337"/>
                  </a:lnTo>
                  <a:lnTo>
                    <a:pt x="153906" y="202011"/>
                  </a:lnTo>
                  <a:lnTo>
                    <a:pt x="161024" y="206641"/>
                  </a:lnTo>
                  <a:lnTo>
                    <a:pt x="168309" y="210574"/>
                  </a:lnTo>
                  <a:lnTo>
                    <a:pt x="188441" y="220155"/>
                  </a:lnTo>
                  <a:lnTo>
                    <a:pt x="194207" y="222970"/>
                  </a:lnTo>
                  <a:lnTo>
                    <a:pt x="200592" y="225693"/>
                  </a:lnTo>
                  <a:lnTo>
                    <a:pt x="207387" y="228355"/>
                  </a:lnTo>
                  <a:lnTo>
                    <a:pt x="214458" y="230977"/>
                  </a:lnTo>
                  <a:lnTo>
                    <a:pt x="220019" y="233571"/>
                  </a:lnTo>
                  <a:lnTo>
                    <a:pt x="224572" y="236148"/>
                  </a:lnTo>
                  <a:lnTo>
                    <a:pt x="236220" y="2438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SMARTInkAnnotation399"/>
            <p:cNvSpPr/>
            <p:nvPr/>
          </p:nvSpPr>
          <p:spPr>
            <a:xfrm>
              <a:off x="2442960" y="2507040"/>
              <a:ext cx="138600" cy="5256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8886" h="52896">
                  <a:moveTo>
                    <a:pt x="41489" y="52895"/>
                  </a:moveTo>
                  <a:lnTo>
                    <a:pt x="30883" y="52895"/>
                  </a:lnTo>
                  <a:lnTo>
                    <a:pt x="28492" y="52048"/>
                  </a:lnTo>
                  <a:lnTo>
                    <a:pt x="26051" y="50637"/>
                  </a:lnTo>
                  <a:lnTo>
                    <a:pt x="23577" y="48850"/>
                  </a:lnTo>
                  <a:lnTo>
                    <a:pt x="21081" y="47658"/>
                  </a:lnTo>
                  <a:lnTo>
                    <a:pt x="18570" y="46864"/>
                  </a:lnTo>
                  <a:lnTo>
                    <a:pt x="16050" y="46334"/>
                  </a:lnTo>
                  <a:lnTo>
                    <a:pt x="13523" y="45135"/>
                  </a:lnTo>
                  <a:lnTo>
                    <a:pt x="10991" y="43488"/>
                  </a:lnTo>
                  <a:lnTo>
                    <a:pt x="8457" y="41544"/>
                  </a:lnTo>
                  <a:lnTo>
                    <a:pt x="5921" y="40247"/>
                  </a:lnTo>
                  <a:lnTo>
                    <a:pt x="3384" y="39383"/>
                  </a:lnTo>
                  <a:lnTo>
                    <a:pt x="845" y="38807"/>
                  </a:lnTo>
                  <a:lnTo>
                    <a:pt x="0" y="37577"/>
                  </a:lnTo>
                  <a:lnTo>
                    <a:pt x="283" y="35909"/>
                  </a:lnTo>
                  <a:lnTo>
                    <a:pt x="1318" y="33951"/>
                  </a:lnTo>
                  <a:lnTo>
                    <a:pt x="2855" y="31799"/>
                  </a:lnTo>
                  <a:lnTo>
                    <a:pt x="4727" y="29518"/>
                  </a:lnTo>
                  <a:lnTo>
                    <a:pt x="6821" y="27151"/>
                  </a:lnTo>
                  <a:lnTo>
                    <a:pt x="9910" y="24725"/>
                  </a:lnTo>
                  <a:lnTo>
                    <a:pt x="13663" y="22262"/>
                  </a:lnTo>
                  <a:lnTo>
                    <a:pt x="17858" y="19773"/>
                  </a:lnTo>
                  <a:lnTo>
                    <a:pt x="22349" y="17267"/>
                  </a:lnTo>
                  <a:lnTo>
                    <a:pt x="31853" y="12225"/>
                  </a:lnTo>
                  <a:lnTo>
                    <a:pt x="46724" y="4626"/>
                  </a:lnTo>
                  <a:lnTo>
                    <a:pt x="51753" y="2936"/>
                  </a:lnTo>
                  <a:lnTo>
                    <a:pt x="56798" y="1809"/>
                  </a:lnTo>
                  <a:lnTo>
                    <a:pt x="61855" y="1058"/>
                  </a:lnTo>
                  <a:lnTo>
                    <a:pt x="66920" y="557"/>
                  </a:lnTo>
                  <a:lnTo>
                    <a:pt x="71989" y="223"/>
                  </a:lnTo>
                  <a:lnTo>
                    <a:pt x="77063" y="0"/>
                  </a:lnTo>
                  <a:lnTo>
                    <a:pt x="82138" y="699"/>
                  </a:lnTo>
                  <a:lnTo>
                    <a:pt x="87215" y="2011"/>
                  </a:lnTo>
                  <a:lnTo>
                    <a:pt x="92293" y="3732"/>
                  </a:lnTo>
                  <a:lnTo>
                    <a:pt x="96525" y="4880"/>
                  </a:lnTo>
                  <a:lnTo>
                    <a:pt x="100193" y="5645"/>
                  </a:lnTo>
                  <a:lnTo>
                    <a:pt x="103485" y="6155"/>
                  </a:lnTo>
                  <a:lnTo>
                    <a:pt x="106526" y="6495"/>
                  </a:lnTo>
                  <a:lnTo>
                    <a:pt x="109400" y="6722"/>
                  </a:lnTo>
                  <a:lnTo>
                    <a:pt x="112163" y="6873"/>
                  </a:lnTo>
                  <a:lnTo>
                    <a:pt x="114005" y="7820"/>
                  </a:lnTo>
                  <a:lnTo>
                    <a:pt x="115234" y="9299"/>
                  </a:lnTo>
                  <a:lnTo>
                    <a:pt x="116052" y="11131"/>
                  </a:lnTo>
                  <a:lnTo>
                    <a:pt x="115751" y="13199"/>
                  </a:lnTo>
                  <a:lnTo>
                    <a:pt x="114704" y="15424"/>
                  </a:lnTo>
                  <a:lnTo>
                    <a:pt x="113159" y="17755"/>
                  </a:lnTo>
                  <a:lnTo>
                    <a:pt x="111282" y="20155"/>
                  </a:lnTo>
                  <a:lnTo>
                    <a:pt x="109184" y="22602"/>
                  </a:lnTo>
                  <a:lnTo>
                    <a:pt x="106939" y="25080"/>
                  </a:lnTo>
                  <a:lnTo>
                    <a:pt x="102187" y="30090"/>
                  </a:lnTo>
                  <a:lnTo>
                    <a:pt x="99735" y="32612"/>
                  </a:lnTo>
                  <a:lnTo>
                    <a:pt x="96406" y="34293"/>
                  </a:lnTo>
                  <a:lnTo>
                    <a:pt x="92494" y="35414"/>
                  </a:lnTo>
                  <a:lnTo>
                    <a:pt x="88192" y="36161"/>
                  </a:lnTo>
                  <a:lnTo>
                    <a:pt x="84478" y="37506"/>
                  </a:lnTo>
                  <a:lnTo>
                    <a:pt x="81155" y="39249"/>
                  </a:lnTo>
                  <a:lnTo>
                    <a:pt x="78093" y="41258"/>
                  </a:lnTo>
                  <a:lnTo>
                    <a:pt x="74358" y="42597"/>
                  </a:lnTo>
                  <a:lnTo>
                    <a:pt x="70175" y="43490"/>
                  </a:lnTo>
                  <a:lnTo>
                    <a:pt x="65693" y="44085"/>
                  </a:lnTo>
                  <a:lnTo>
                    <a:pt x="61858" y="44481"/>
                  </a:lnTo>
                  <a:lnTo>
                    <a:pt x="58455" y="44746"/>
                  </a:lnTo>
                  <a:lnTo>
                    <a:pt x="55340" y="44923"/>
                  </a:lnTo>
                  <a:lnTo>
                    <a:pt x="49620" y="45118"/>
                  </a:lnTo>
                  <a:lnTo>
                    <a:pt x="39050" y="45244"/>
                  </a:lnTo>
                  <a:lnTo>
                    <a:pt x="38170" y="44408"/>
                  </a:lnTo>
                  <a:lnTo>
                    <a:pt x="38430" y="43004"/>
                  </a:lnTo>
                  <a:lnTo>
                    <a:pt x="39449" y="41221"/>
                  </a:lnTo>
                  <a:lnTo>
                    <a:pt x="40976" y="39186"/>
                  </a:lnTo>
                  <a:lnTo>
                    <a:pt x="42840" y="36982"/>
                  </a:lnTo>
                  <a:lnTo>
                    <a:pt x="44930" y="34666"/>
                  </a:lnTo>
                  <a:lnTo>
                    <a:pt x="47170" y="33123"/>
                  </a:lnTo>
                  <a:lnTo>
                    <a:pt x="49509" y="32094"/>
                  </a:lnTo>
                  <a:lnTo>
                    <a:pt x="51916" y="31407"/>
                  </a:lnTo>
                  <a:lnTo>
                    <a:pt x="55214" y="30103"/>
                  </a:lnTo>
                  <a:lnTo>
                    <a:pt x="59106" y="28387"/>
                  </a:lnTo>
                  <a:lnTo>
                    <a:pt x="63393" y="26397"/>
                  </a:lnTo>
                  <a:lnTo>
                    <a:pt x="67945" y="25069"/>
                  </a:lnTo>
                  <a:lnTo>
                    <a:pt x="72673" y="24185"/>
                  </a:lnTo>
                  <a:lnTo>
                    <a:pt x="77519" y="23595"/>
                  </a:lnTo>
                  <a:lnTo>
                    <a:pt x="83289" y="22355"/>
                  </a:lnTo>
                  <a:lnTo>
                    <a:pt x="89675" y="20682"/>
                  </a:lnTo>
                  <a:lnTo>
                    <a:pt x="96473" y="18720"/>
                  </a:lnTo>
                  <a:lnTo>
                    <a:pt x="102699" y="17412"/>
                  </a:lnTo>
                  <a:lnTo>
                    <a:pt x="108542" y="16539"/>
                  </a:lnTo>
                  <a:lnTo>
                    <a:pt x="114131" y="15958"/>
                  </a:lnTo>
                  <a:lnTo>
                    <a:pt x="118704" y="15570"/>
                  </a:lnTo>
                  <a:lnTo>
                    <a:pt x="122599" y="15312"/>
                  </a:lnTo>
                  <a:lnTo>
                    <a:pt x="129184" y="15025"/>
                  </a:lnTo>
                  <a:lnTo>
                    <a:pt x="134934" y="14897"/>
                  </a:lnTo>
                  <a:lnTo>
                    <a:pt x="136805" y="15710"/>
                  </a:lnTo>
                  <a:lnTo>
                    <a:pt x="138053" y="17098"/>
                  </a:lnTo>
                  <a:lnTo>
                    <a:pt x="138885" y="18871"/>
                  </a:lnTo>
                  <a:lnTo>
                    <a:pt x="138593" y="20052"/>
                  </a:lnTo>
                  <a:lnTo>
                    <a:pt x="137552" y="20840"/>
                  </a:lnTo>
                  <a:lnTo>
                    <a:pt x="133842" y="22104"/>
                  </a:lnTo>
                  <a:lnTo>
                    <a:pt x="128819" y="24535"/>
                  </a:lnTo>
                  <a:lnTo>
                    <a:pt x="125109" y="26368"/>
                  </a:lnTo>
                  <a:lnTo>
                    <a:pt x="121789" y="28437"/>
                  </a:lnTo>
                  <a:lnTo>
                    <a:pt x="118729" y="30663"/>
                  </a:lnTo>
                  <a:lnTo>
                    <a:pt x="115842" y="32994"/>
                  </a:lnTo>
                  <a:lnTo>
                    <a:pt x="112225" y="35394"/>
                  </a:lnTo>
                  <a:lnTo>
                    <a:pt x="108119" y="37841"/>
                  </a:lnTo>
                  <a:lnTo>
                    <a:pt x="103689" y="40319"/>
                  </a:lnTo>
                  <a:lnTo>
                    <a:pt x="100736" y="42818"/>
                  </a:lnTo>
                  <a:lnTo>
                    <a:pt x="98767" y="45330"/>
                  </a:lnTo>
                  <a:lnTo>
                    <a:pt x="97454" y="47852"/>
                  </a:lnTo>
                  <a:lnTo>
                    <a:pt x="95732" y="49533"/>
                  </a:lnTo>
                  <a:lnTo>
                    <a:pt x="93738" y="50654"/>
                  </a:lnTo>
                  <a:lnTo>
                    <a:pt x="87209" y="5289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SMARTInkAnnotation400"/>
            <p:cNvSpPr/>
            <p:nvPr/>
          </p:nvSpPr>
          <p:spPr>
            <a:xfrm>
              <a:off x="2194920" y="2659320"/>
              <a:ext cx="556200" cy="22320"/>
            </a:xfrm>
            <a:custGeom>
              <a:avLst/>
              <a:gdLst>
                <a:gd name="textAreaLeft" fmla="*/ 0 w 556200"/>
                <a:gd name="textAreaRight" fmla="*/ 556560 w 5562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556261" h="22519">
                  <a:moveTo>
                    <a:pt x="0" y="22518"/>
                  </a:moveTo>
                  <a:lnTo>
                    <a:pt x="13122" y="22518"/>
                  </a:lnTo>
                  <a:lnTo>
                    <a:pt x="17214" y="21672"/>
                  </a:lnTo>
                  <a:lnTo>
                    <a:pt x="30793" y="18473"/>
                  </a:lnTo>
                  <a:lnTo>
                    <a:pt x="39156" y="17281"/>
                  </a:lnTo>
                  <a:lnTo>
                    <a:pt x="48117" y="16487"/>
                  </a:lnTo>
                  <a:lnTo>
                    <a:pt x="57478" y="15957"/>
                  </a:lnTo>
                  <a:lnTo>
                    <a:pt x="79168" y="15369"/>
                  </a:lnTo>
                  <a:lnTo>
                    <a:pt x="90879" y="15212"/>
                  </a:lnTo>
                  <a:lnTo>
                    <a:pt x="103766" y="14261"/>
                  </a:lnTo>
                  <a:lnTo>
                    <a:pt x="117437" y="12780"/>
                  </a:lnTo>
                  <a:lnTo>
                    <a:pt x="131632" y="10946"/>
                  </a:lnTo>
                  <a:lnTo>
                    <a:pt x="147021" y="9723"/>
                  </a:lnTo>
                  <a:lnTo>
                    <a:pt x="163208" y="8908"/>
                  </a:lnTo>
                  <a:lnTo>
                    <a:pt x="179925" y="8365"/>
                  </a:lnTo>
                  <a:lnTo>
                    <a:pt x="197844" y="7156"/>
                  </a:lnTo>
                  <a:lnTo>
                    <a:pt x="235815" y="3555"/>
                  </a:lnTo>
                  <a:lnTo>
                    <a:pt x="254577" y="2256"/>
                  </a:lnTo>
                  <a:lnTo>
                    <a:pt x="273011" y="1390"/>
                  </a:lnTo>
                  <a:lnTo>
                    <a:pt x="309299" y="428"/>
                  </a:lnTo>
                  <a:lnTo>
                    <a:pt x="345182" y="0"/>
                  </a:lnTo>
                  <a:lnTo>
                    <a:pt x="363048" y="733"/>
                  </a:lnTo>
                  <a:lnTo>
                    <a:pt x="380885" y="2068"/>
                  </a:lnTo>
                  <a:lnTo>
                    <a:pt x="398704" y="3805"/>
                  </a:lnTo>
                  <a:lnTo>
                    <a:pt x="415662" y="4962"/>
                  </a:lnTo>
                  <a:lnTo>
                    <a:pt x="432048" y="5734"/>
                  </a:lnTo>
                  <a:lnTo>
                    <a:pt x="448052" y="6249"/>
                  </a:lnTo>
                  <a:lnTo>
                    <a:pt x="462955" y="7439"/>
                  </a:lnTo>
                  <a:lnTo>
                    <a:pt x="477123" y="9078"/>
                  </a:lnTo>
                  <a:lnTo>
                    <a:pt x="490802" y="11018"/>
                  </a:lnTo>
                  <a:lnTo>
                    <a:pt x="502461" y="12312"/>
                  </a:lnTo>
                  <a:lnTo>
                    <a:pt x="512774" y="13174"/>
                  </a:lnTo>
                  <a:lnTo>
                    <a:pt x="522189" y="13749"/>
                  </a:lnTo>
                  <a:lnTo>
                    <a:pt x="530160" y="14978"/>
                  </a:lnTo>
                  <a:lnTo>
                    <a:pt x="537167" y="16645"/>
                  </a:lnTo>
                  <a:lnTo>
                    <a:pt x="556260" y="2251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SMARTInkAnnotation401"/>
            <p:cNvSpPr/>
            <p:nvPr/>
          </p:nvSpPr>
          <p:spPr>
            <a:xfrm>
              <a:off x="2394360" y="2773440"/>
              <a:ext cx="96840" cy="378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97043" h="38098">
                  <a:moveTo>
                    <a:pt x="14021" y="0"/>
                  </a:moveTo>
                  <a:lnTo>
                    <a:pt x="58558" y="0"/>
                  </a:lnTo>
                  <a:lnTo>
                    <a:pt x="58952" y="847"/>
                  </a:lnTo>
                  <a:lnTo>
                    <a:pt x="59215" y="2258"/>
                  </a:lnTo>
                  <a:lnTo>
                    <a:pt x="59391" y="4045"/>
                  </a:lnTo>
                  <a:lnTo>
                    <a:pt x="58661" y="6084"/>
                  </a:lnTo>
                  <a:lnTo>
                    <a:pt x="57328" y="8289"/>
                  </a:lnTo>
                  <a:lnTo>
                    <a:pt x="55592" y="10606"/>
                  </a:lnTo>
                  <a:lnTo>
                    <a:pt x="53589" y="12151"/>
                  </a:lnTo>
                  <a:lnTo>
                    <a:pt x="51406" y="13181"/>
                  </a:lnTo>
                  <a:lnTo>
                    <a:pt x="49104" y="13867"/>
                  </a:lnTo>
                  <a:lnTo>
                    <a:pt x="46723" y="14325"/>
                  </a:lnTo>
                  <a:lnTo>
                    <a:pt x="44289" y="14630"/>
                  </a:lnTo>
                  <a:lnTo>
                    <a:pt x="41820" y="14833"/>
                  </a:lnTo>
                  <a:lnTo>
                    <a:pt x="39327" y="15816"/>
                  </a:lnTo>
                  <a:lnTo>
                    <a:pt x="36818" y="17317"/>
                  </a:lnTo>
                  <a:lnTo>
                    <a:pt x="34299" y="19165"/>
                  </a:lnTo>
                  <a:lnTo>
                    <a:pt x="30926" y="20396"/>
                  </a:lnTo>
                  <a:lnTo>
                    <a:pt x="26985" y="21218"/>
                  </a:lnTo>
                  <a:lnTo>
                    <a:pt x="22663" y="21765"/>
                  </a:lnTo>
                  <a:lnTo>
                    <a:pt x="18936" y="22130"/>
                  </a:lnTo>
                  <a:lnTo>
                    <a:pt x="15605" y="22374"/>
                  </a:lnTo>
                  <a:lnTo>
                    <a:pt x="8219" y="22764"/>
                  </a:lnTo>
                  <a:lnTo>
                    <a:pt x="4951" y="22817"/>
                  </a:lnTo>
                  <a:lnTo>
                    <a:pt x="0" y="22852"/>
                  </a:lnTo>
                  <a:lnTo>
                    <a:pt x="3187" y="22858"/>
                  </a:lnTo>
                  <a:lnTo>
                    <a:pt x="5106" y="22012"/>
                  </a:lnTo>
                  <a:lnTo>
                    <a:pt x="7231" y="20601"/>
                  </a:lnTo>
                  <a:lnTo>
                    <a:pt x="9494" y="18814"/>
                  </a:lnTo>
                  <a:lnTo>
                    <a:pt x="12696" y="17623"/>
                  </a:lnTo>
                  <a:lnTo>
                    <a:pt x="16525" y="16829"/>
                  </a:lnTo>
                  <a:lnTo>
                    <a:pt x="20770" y="16299"/>
                  </a:lnTo>
                  <a:lnTo>
                    <a:pt x="25294" y="15099"/>
                  </a:lnTo>
                  <a:lnTo>
                    <a:pt x="30003" y="13453"/>
                  </a:lnTo>
                  <a:lnTo>
                    <a:pt x="34836" y="11509"/>
                  </a:lnTo>
                  <a:lnTo>
                    <a:pt x="39751" y="10212"/>
                  </a:lnTo>
                  <a:lnTo>
                    <a:pt x="44721" y="9348"/>
                  </a:lnTo>
                  <a:lnTo>
                    <a:pt x="49728" y="8772"/>
                  </a:lnTo>
                  <a:lnTo>
                    <a:pt x="54759" y="7541"/>
                  </a:lnTo>
                  <a:lnTo>
                    <a:pt x="59806" y="5874"/>
                  </a:lnTo>
                  <a:lnTo>
                    <a:pt x="64865" y="3916"/>
                  </a:lnTo>
                  <a:lnTo>
                    <a:pt x="69083" y="3457"/>
                  </a:lnTo>
                  <a:lnTo>
                    <a:pt x="72742" y="3998"/>
                  </a:lnTo>
                  <a:lnTo>
                    <a:pt x="76029" y="5206"/>
                  </a:lnTo>
                  <a:lnTo>
                    <a:pt x="79913" y="6010"/>
                  </a:lnTo>
                  <a:lnTo>
                    <a:pt x="84196" y="6547"/>
                  </a:lnTo>
                  <a:lnTo>
                    <a:pt x="88744" y="6905"/>
                  </a:lnTo>
                  <a:lnTo>
                    <a:pt x="91776" y="7990"/>
                  </a:lnTo>
                  <a:lnTo>
                    <a:pt x="93798" y="9560"/>
                  </a:lnTo>
                  <a:lnTo>
                    <a:pt x="97042" y="14118"/>
                  </a:lnTo>
                  <a:lnTo>
                    <a:pt x="96462" y="14492"/>
                  </a:lnTo>
                  <a:lnTo>
                    <a:pt x="93559" y="14908"/>
                  </a:lnTo>
                  <a:lnTo>
                    <a:pt x="91600" y="15865"/>
                  </a:lnTo>
                  <a:lnTo>
                    <a:pt x="89447" y="17350"/>
                  </a:lnTo>
                  <a:lnTo>
                    <a:pt x="87165" y="19187"/>
                  </a:lnTo>
                  <a:lnTo>
                    <a:pt x="84797" y="20411"/>
                  </a:lnTo>
                  <a:lnTo>
                    <a:pt x="82372" y="21228"/>
                  </a:lnTo>
                  <a:lnTo>
                    <a:pt x="79908" y="21772"/>
                  </a:lnTo>
                  <a:lnTo>
                    <a:pt x="76572" y="22981"/>
                  </a:lnTo>
                  <a:lnTo>
                    <a:pt x="72655" y="24634"/>
                  </a:lnTo>
                  <a:lnTo>
                    <a:pt x="68351" y="26583"/>
                  </a:lnTo>
                  <a:lnTo>
                    <a:pt x="59052" y="31006"/>
                  </a:lnTo>
                  <a:lnTo>
                    <a:pt x="54202" y="33371"/>
                  </a:lnTo>
                  <a:lnTo>
                    <a:pt x="50121" y="34947"/>
                  </a:lnTo>
                  <a:lnTo>
                    <a:pt x="46555" y="35998"/>
                  </a:lnTo>
                  <a:lnTo>
                    <a:pt x="43330" y="36699"/>
                  </a:lnTo>
                  <a:lnTo>
                    <a:pt x="40334" y="37166"/>
                  </a:lnTo>
                  <a:lnTo>
                    <a:pt x="37490" y="37477"/>
                  </a:lnTo>
                  <a:lnTo>
                    <a:pt x="29303" y="38097"/>
                  </a:lnTo>
                  <a:lnTo>
                    <a:pt x="36881" y="304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SMARTInkAnnotation402"/>
            <p:cNvSpPr/>
            <p:nvPr/>
          </p:nvSpPr>
          <p:spPr>
            <a:xfrm>
              <a:off x="5128560" y="2530800"/>
              <a:ext cx="219240" cy="26388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263880"/>
                <a:gd name="textAreaBottom" fmla="*/ 264240 h 263880"/>
              </a:gdLst>
              <a:ahLst/>
              <a:rect l="textAreaLeft" t="textAreaTop" r="textAreaRight" b="textAreaBottom"/>
              <a:pathLst>
                <a:path w="219277" h="263860">
                  <a:moveTo>
                    <a:pt x="60932" y="59415"/>
                  </a:moveTo>
                  <a:lnTo>
                    <a:pt x="56887" y="59415"/>
                  </a:lnTo>
                  <a:lnTo>
                    <a:pt x="55696" y="60262"/>
                  </a:lnTo>
                  <a:lnTo>
                    <a:pt x="54901" y="61673"/>
                  </a:lnTo>
                  <a:lnTo>
                    <a:pt x="53626" y="65976"/>
                  </a:lnTo>
                  <a:lnTo>
                    <a:pt x="49360" y="70766"/>
                  </a:lnTo>
                  <a:lnTo>
                    <a:pt x="48137" y="73756"/>
                  </a:lnTo>
                  <a:lnTo>
                    <a:pt x="46779" y="81593"/>
                  </a:lnTo>
                  <a:lnTo>
                    <a:pt x="43917" y="88463"/>
                  </a:lnTo>
                  <a:lnTo>
                    <a:pt x="41969" y="91480"/>
                  </a:lnTo>
                  <a:lnTo>
                    <a:pt x="39804" y="99348"/>
                  </a:lnTo>
                  <a:lnTo>
                    <a:pt x="39227" y="103817"/>
                  </a:lnTo>
                  <a:lnTo>
                    <a:pt x="37995" y="108490"/>
                  </a:lnTo>
                  <a:lnTo>
                    <a:pt x="36328" y="113298"/>
                  </a:lnTo>
                  <a:lnTo>
                    <a:pt x="34369" y="118197"/>
                  </a:lnTo>
                  <a:lnTo>
                    <a:pt x="33064" y="124003"/>
                  </a:lnTo>
                  <a:lnTo>
                    <a:pt x="32193" y="130414"/>
                  </a:lnTo>
                  <a:lnTo>
                    <a:pt x="31613" y="137228"/>
                  </a:lnTo>
                  <a:lnTo>
                    <a:pt x="30379" y="143463"/>
                  </a:lnTo>
                  <a:lnTo>
                    <a:pt x="28710" y="149314"/>
                  </a:lnTo>
                  <a:lnTo>
                    <a:pt x="26751" y="154908"/>
                  </a:lnTo>
                  <a:lnTo>
                    <a:pt x="25445" y="161177"/>
                  </a:lnTo>
                  <a:lnTo>
                    <a:pt x="24574" y="167896"/>
                  </a:lnTo>
                  <a:lnTo>
                    <a:pt x="23994" y="174916"/>
                  </a:lnTo>
                  <a:lnTo>
                    <a:pt x="22760" y="181289"/>
                  </a:lnTo>
                  <a:lnTo>
                    <a:pt x="21091" y="187231"/>
                  </a:lnTo>
                  <a:lnTo>
                    <a:pt x="19131" y="192886"/>
                  </a:lnTo>
                  <a:lnTo>
                    <a:pt x="17825" y="198348"/>
                  </a:lnTo>
                  <a:lnTo>
                    <a:pt x="16954" y="203684"/>
                  </a:lnTo>
                  <a:lnTo>
                    <a:pt x="16374" y="208935"/>
                  </a:lnTo>
                  <a:lnTo>
                    <a:pt x="15140" y="214128"/>
                  </a:lnTo>
                  <a:lnTo>
                    <a:pt x="13471" y="219284"/>
                  </a:lnTo>
                  <a:lnTo>
                    <a:pt x="11511" y="224414"/>
                  </a:lnTo>
                  <a:lnTo>
                    <a:pt x="9334" y="232372"/>
                  </a:lnTo>
                  <a:lnTo>
                    <a:pt x="8366" y="239578"/>
                  </a:lnTo>
                  <a:lnTo>
                    <a:pt x="8108" y="243870"/>
                  </a:lnTo>
                  <a:lnTo>
                    <a:pt x="7694" y="254836"/>
                  </a:lnTo>
                  <a:lnTo>
                    <a:pt x="7601" y="263859"/>
                  </a:lnTo>
                  <a:lnTo>
                    <a:pt x="7593" y="249725"/>
                  </a:lnTo>
                  <a:lnTo>
                    <a:pt x="6745" y="245555"/>
                  </a:lnTo>
                  <a:lnTo>
                    <a:pt x="5335" y="241081"/>
                  </a:lnTo>
                  <a:lnTo>
                    <a:pt x="3548" y="236406"/>
                  </a:lnTo>
                  <a:lnTo>
                    <a:pt x="2355" y="231596"/>
                  </a:lnTo>
                  <a:lnTo>
                    <a:pt x="1561" y="226695"/>
                  </a:lnTo>
                  <a:lnTo>
                    <a:pt x="1031" y="221735"/>
                  </a:lnTo>
                  <a:lnTo>
                    <a:pt x="678" y="215889"/>
                  </a:lnTo>
                  <a:lnTo>
                    <a:pt x="286" y="202619"/>
                  </a:lnTo>
                  <a:lnTo>
                    <a:pt x="0" y="162382"/>
                  </a:lnTo>
                  <a:lnTo>
                    <a:pt x="838" y="156000"/>
                  </a:lnTo>
                  <a:lnTo>
                    <a:pt x="2242" y="149205"/>
                  </a:lnTo>
                  <a:lnTo>
                    <a:pt x="4025" y="142135"/>
                  </a:lnTo>
                  <a:lnTo>
                    <a:pt x="5215" y="134882"/>
                  </a:lnTo>
                  <a:lnTo>
                    <a:pt x="6008" y="127506"/>
                  </a:lnTo>
                  <a:lnTo>
                    <a:pt x="6536" y="120049"/>
                  </a:lnTo>
                  <a:lnTo>
                    <a:pt x="7735" y="112537"/>
                  </a:lnTo>
                  <a:lnTo>
                    <a:pt x="9380" y="104990"/>
                  </a:lnTo>
                  <a:lnTo>
                    <a:pt x="11324" y="97418"/>
                  </a:lnTo>
                  <a:lnTo>
                    <a:pt x="13467" y="90677"/>
                  </a:lnTo>
                  <a:lnTo>
                    <a:pt x="15742" y="84490"/>
                  </a:lnTo>
                  <a:lnTo>
                    <a:pt x="18105" y="78672"/>
                  </a:lnTo>
                  <a:lnTo>
                    <a:pt x="19681" y="73099"/>
                  </a:lnTo>
                  <a:lnTo>
                    <a:pt x="20731" y="67691"/>
                  </a:lnTo>
                  <a:lnTo>
                    <a:pt x="21432" y="62393"/>
                  </a:lnTo>
                  <a:lnTo>
                    <a:pt x="23592" y="57167"/>
                  </a:lnTo>
                  <a:lnTo>
                    <a:pt x="26726" y="51989"/>
                  </a:lnTo>
                  <a:lnTo>
                    <a:pt x="30508" y="46845"/>
                  </a:lnTo>
                  <a:lnTo>
                    <a:pt x="34722" y="41722"/>
                  </a:lnTo>
                  <a:lnTo>
                    <a:pt x="39226" y="36613"/>
                  </a:lnTo>
                  <a:lnTo>
                    <a:pt x="47898" y="27267"/>
                  </a:lnTo>
                  <a:lnTo>
                    <a:pt x="54575" y="20292"/>
                  </a:lnTo>
                  <a:lnTo>
                    <a:pt x="59234" y="17246"/>
                  </a:lnTo>
                  <a:lnTo>
                    <a:pt x="64880" y="14369"/>
                  </a:lnTo>
                  <a:lnTo>
                    <a:pt x="71184" y="11605"/>
                  </a:lnTo>
                  <a:lnTo>
                    <a:pt x="82704" y="6275"/>
                  </a:lnTo>
                  <a:lnTo>
                    <a:pt x="88147" y="3668"/>
                  </a:lnTo>
                  <a:lnTo>
                    <a:pt x="94316" y="1930"/>
                  </a:lnTo>
                  <a:lnTo>
                    <a:pt x="100968" y="772"/>
                  </a:lnTo>
                  <a:lnTo>
                    <a:pt x="107943" y="0"/>
                  </a:lnTo>
                  <a:lnTo>
                    <a:pt x="115132" y="331"/>
                  </a:lnTo>
                  <a:lnTo>
                    <a:pt x="122466" y="1399"/>
                  </a:lnTo>
                  <a:lnTo>
                    <a:pt x="129895" y="2958"/>
                  </a:lnTo>
                  <a:lnTo>
                    <a:pt x="137387" y="4844"/>
                  </a:lnTo>
                  <a:lnTo>
                    <a:pt x="144922" y="6947"/>
                  </a:lnTo>
                  <a:lnTo>
                    <a:pt x="160068" y="11543"/>
                  </a:lnTo>
                  <a:lnTo>
                    <a:pt x="175265" y="16407"/>
                  </a:lnTo>
                  <a:lnTo>
                    <a:pt x="182028" y="18890"/>
                  </a:lnTo>
                  <a:lnTo>
                    <a:pt x="188229" y="21392"/>
                  </a:lnTo>
                  <a:lnTo>
                    <a:pt x="194057" y="23906"/>
                  </a:lnTo>
                  <a:lnTo>
                    <a:pt x="198789" y="27276"/>
                  </a:lnTo>
                  <a:lnTo>
                    <a:pt x="202789" y="31215"/>
                  </a:lnTo>
                  <a:lnTo>
                    <a:pt x="206304" y="35535"/>
                  </a:lnTo>
                  <a:lnTo>
                    <a:pt x="209493" y="40109"/>
                  </a:lnTo>
                  <a:lnTo>
                    <a:pt x="212467" y="44851"/>
                  </a:lnTo>
                  <a:lnTo>
                    <a:pt x="215295" y="49706"/>
                  </a:lnTo>
                  <a:lnTo>
                    <a:pt x="218438" y="57357"/>
                  </a:lnTo>
                  <a:lnTo>
                    <a:pt x="219276" y="60583"/>
                  </a:lnTo>
                  <a:lnTo>
                    <a:pt x="218988" y="64427"/>
                  </a:lnTo>
                  <a:lnTo>
                    <a:pt x="217950" y="68683"/>
                  </a:lnTo>
                  <a:lnTo>
                    <a:pt x="216411" y="73214"/>
                  </a:lnTo>
                  <a:lnTo>
                    <a:pt x="214700" y="80506"/>
                  </a:lnTo>
                  <a:lnTo>
                    <a:pt x="214244" y="83635"/>
                  </a:lnTo>
                  <a:lnTo>
                    <a:pt x="209222" y="91628"/>
                  </a:lnTo>
                  <a:lnTo>
                    <a:pt x="205512" y="96131"/>
                  </a:lnTo>
                  <a:lnTo>
                    <a:pt x="201346" y="99979"/>
                  </a:lnTo>
                  <a:lnTo>
                    <a:pt x="196874" y="103391"/>
                  </a:lnTo>
                  <a:lnTo>
                    <a:pt x="192201" y="106512"/>
                  </a:lnTo>
                  <a:lnTo>
                    <a:pt x="187391" y="108593"/>
                  </a:lnTo>
                  <a:lnTo>
                    <a:pt x="182492" y="109981"/>
                  </a:lnTo>
                  <a:lnTo>
                    <a:pt x="177532" y="110905"/>
                  </a:lnTo>
                  <a:lnTo>
                    <a:pt x="172532" y="112369"/>
                  </a:lnTo>
                  <a:lnTo>
                    <a:pt x="167505" y="114191"/>
                  </a:lnTo>
                  <a:lnTo>
                    <a:pt x="162461" y="116252"/>
                  </a:lnTo>
                  <a:lnTo>
                    <a:pt x="156558" y="117627"/>
                  </a:lnTo>
                  <a:lnTo>
                    <a:pt x="150083" y="118543"/>
                  </a:lnTo>
                  <a:lnTo>
                    <a:pt x="143226" y="119153"/>
                  </a:lnTo>
                  <a:lnTo>
                    <a:pt x="136114" y="119561"/>
                  </a:lnTo>
                  <a:lnTo>
                    <a:pt x="121440" y="120013"/>
                  </a:lnTo>
                  <a:lnTo>
                    <a:pt x="75456" y="120354"/>
                  </a:lnTo>
                  <a:lnTo>
                    <a:pt x="67952" y="120366"/>
                  </a:lnTo>
                  <a:lnTo>
                    <a:pt x="64765" y="119522"/>
                  </a:lnTo>
                  <a:lnTo>
                    <a:pt x="58967" y="116327"/>
                  </a:lnTo>
                  <a:lnTo>
                    <a:pt x="53568" y="114343"/>
                  </a:lnTo>
                  <a:lnTo>
                    <a:pt x="45692" y="11275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SMARTInkAnnotation403"/>
            <p:cNvSpPr/>
            <p:nvPr/>
          </p:nvSpPr>
          <p:spPr>
            <a:xfrm>
              <a:off x="5097960" y="2567520"/>
              <a:ext cx="434160" cy="449640"/>
            </a:xfrm>
            <a:custGeom>
              <a:avLst/>
              <a:gdLst>
                <a:gd name="textAreaLeft" fmla="*/ 0 w 434160"/>
                <a:gd name="textAreaRight" fmla="*/ 434520 w 43416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434341" h="449582">
                  <a:moveTo>
                    <a:pt x="434340" y="0"/>
                  </a:moveTo>
                  <a:lnTo>
                    <a:pt x="434340" y="11351"/>
                  </a:lnTo>
                  <a:lnTo>
                    <a:pt x="433494" y="12648"/>
                  </a:lnTo>
                  <a:lnTo>
                    <a:pt x="432082" y="13512"/>
                  </a:lnTo>
                  <a:lnTo>
                    <a:pt x="430295" y="14088"/>
                  </a:lnTo>
                  <a:lnTo>
                    <a:pt x="428257" y="16165"/>
                  </a:lnTo>
                  <a:lnTo>
                    <a:pt x="421343" y="27179"/>
                  </a:lnTo>
                  <a:lnTo>
                    <a:pt x="413932" y="41167"/>
                  </a:lnTo>
                  <a:lnTo>
                    <a:pt x="408901" y="51034"/>
                  </a:lnTo>
                  <a:lnTo>
                    <a:pt x="401585" y="61064"/>
                  </a:lnTo>
                  <a:lnTo>
                    <a:pt x="391843" y="72013"/>
                  </a:lnTo>
                  <a:lnTo>
                    <a:pt x="379045" y="85346"/>
                  </a:lnTo>
                  <a:lnTo>
                    <a:pt x="312369" y="152440"/>
                  </a:lnTo>
                  <a:lnTo>
                    <a:pt x="303920" y="160047"/>
                  </a:lnTo>
                  <a:lnTo>
                    <a:pt x="294900" y="167658"/>
                  </a:lnTo>
                  <a:lnTo>
                    <a:pt x="285500" y="175272"/>
                  </a:lnTo>
                  <a:lnTo>
                    <a:pt x="275847" y="183735"/>
                  </a:lnTo>
                  <a:lnTo>
                    <a:pt x="266025" y="192763"/>
                  </a:lnTo>
                  <a:lnTo>
                    <a:pt x="238278" y="219393"/>
                  </a:lnTo>
                  <a:lnTo>
                    <a:pt x="202101" y="255192"/>
                  </a:lnTo>
                  <a:lnTo>
                    <a:pt x="192307" y="264108"/>
                  </a:lnTo>
                  <a:lnTo>
                    <a:pt x="182392" y="272592"/>
                  </a:lnTo>
                  <a:lnTo>
                    <a:pt x="172395" y="280788"/>
                  </a:lnTo>
                  <a:lnTo>
                    <a:pt x="152256" y="296668"/>
                  </a:lnTo>
                  <a:lnTo>
                    <a:pt x="142144" y="304459"/>
                  </a:lnTo>
                  <a:lnTo>
                    <a:pt x="132863" y="312193"/>
                  </a:lnTo>
                  <a:lnTo>
                    <a:pt x="124135" y="319889"/>
                  </a:lnTo>
                  <a:lnTo>
                    <a:pt x="107665" y="335213"/>
                  </a:lnTo>
                  <a:lnTo>
                    <a:pt x="91878" y="350491"/>
                  </a:lnTo>
                  <a:lnTo>
                    <a:pt x="84112" y="357274"/>
                  </a:lnTo>
                  <a:lnTo>
                    <a:pt x="76395" y="363489"/>
                  </a:lnTo>
                  <a:lnTo>
                    <a:pt x="68710" y="369327"/>
                  </a:lnTo>
                  <a:lnTo>
                    <a:pt x="55656" y="382585"/>
                  </a:lnTo>
                  <a:lnTo>
                    <a:pt x="44209" y="395251"/>
                  </a:lnTo>
                  <a:lnTo>
                    <a:pt x="33478" y="403703"/>
                  </a:lnTo>
                  <a:lnTo>
                    <a:pt x="21961" y="413221"/>
                  </a:lnTo>
                  <a:lnTo>
                    <a:pt x="10484" y="424023"/>
                  </a:lnTo>
                  <a:lnTo>
                    <a:pt x="5224" y="429190"/>
                  </a:lnTo>
                  <a:lnTo>
                    <a:pt x="3483" y="431754"/>
                  </a:lnTo>
                  <a:lnTo>
                    <a:pt x="1548" y="436860"/>
                  </a:lnTo>
                  <a:lnTo>
                    <a:pt x="0" y="44958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SMARTInkAnnotation404"/>
            <p:cNvSpPr/>
            <p:nvPr/>
          </p:nvSpPr>
          <p:spPr>
            <a:xfrm>
              <a:off x="5433840" y="2796120"/>
              <a:ext cx="151200" cy="113040"/>
            </a:xfrm>
            <a:custGeom>
              <a:avLst/>
              <a:gdLst>
                <a:gd name="textAreaLeft" fmla="*/ 0 w 151200"/>
                <a:gd name="textAreaRight" fmla="*/ 151200 w 1512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151232" h="113073">
                  <a:moveTo>
                    <a:pt x="136580" y="7592"/>
                  </a:moveTo>
                  <a:lnTo>
                    <a:pt x="130019" y="1031"/>
                  </a:lnTo>
                  <a:lnTo>
                    <a:pt x="127173" y="443"/>
                  </a:lnTo>
                  <a:lnTo>
                    <a:pt x="123086" y="181"/>
                  </a:lnTo>
                  <a:lnTo>
                    <a:pt x="118448" y="65"/>
                  </a:lnTo>
                  <a:lnTo>
                    <a:pt x="111075" y="0"/>
                  </a:lnTo>
                  <a:lnTo>
                    <a:pt x="107724" y="837"/>
                  </a:lnTo>
                  <a:lnTo>
                    <a:pt x="103796" y="2242"/>
                  </a:lnTo>
                  <a:lnTo>
                    <a:pt x="99484" y="4025"/>
                  </a:lnTo>
                  <a:lnTo>
                    <a:pt x="94916" y="5214"/>
                  </a:lnTo>
                  <a:lnTo>
                    <a:pt x="90178" y="6006"/>
                  </a:lnTo>
                  <a:lnTo>
                    <a:pt x="85325" y="6535"/>
                  </a:lnTo>
                  <a:lnTo>
                    <a:pt x="79551" y="8581"/>
                  </a:lnTo>
                  <a:lnTo>
                    <a:pt x="73160" y="11638"/>
                  </a:lnTo>
                  <a:lnTo>
                    <a:pt x="60133" y="18703"/>
                  </a:lnTo>
                  <a:lnTo>
                    <a:pt x="48699" y="24666"/>
                  </a:lnTo>
                  <a:lnTo>
                    <a:pt x="43280" y="28288"/>
                  </a:lnTo>
                  <a:lnTo>
                    <a:pt x="37973" y="32396"/>
                  </a:lnTo>
                  <a:lnTo>
                    <a:pt x="32742" y="36828"/>
                  </a:lnTo>
                  <a:lnTo>
                    <a:pt x="27562" y="41476"/>
                  </a:lnTo>
                  <a:lnTo>
                    <a:pt x="17290" y="51156"/>
                  </a:lnTo>
                  <a:lnTo>
                    <a:pt x="6032" y="62081"/>
                  </a:lnTo>
                  <a:lnTo>
                    <a:pt x="3828" y="65084"/>
                  </a:lnTo>
                  <a:lnTo>
                    <a:pt x="2358" y="67933"/>
                  </a:lnTo>
                  <a:lnTo>
                    <a:pt x="1379" y="70680"/>
                  </a:lnTo>
                  <a:lnTo>
                    <a:pt x="726" y="74204"/>
                  </a:lnTo>
                  <a:lnTo>
                    <a:pt x="291" y="78247"/>
                  </a:lnTo>
                  <a:lnTo>
                    <a:pt x="0" y="82635"/>
                  </a:lnTo>
                  <a:lnTo>
                    <a:pt x="654" y="86408"/>
                  </a:lnTo>
                  <a:lnTo>
                    <a:pt x="1936" y="89769"/>
                  </a:lnTo>
                  <a:lnTo>
                    <a:pt x="3637" y="92857"/>
                  </a:lnTo>
                  <a:lnTo>
                    <a:pt x="5618" y="95762"/>
                  </a:lnTo>
                  <a:lnTo>
                    <a:pt x="7786" y="98545"/>
                  </a:lnTo>
                  <a:lnTo>
                    <a:pt x="10077" y="101248"/>
                  </a:lnTo>
                  <a:lnTo>
                    <a:pt x="13298" y="103049"/>
                  </a:lnTo>
                  <a:lnTo>
                    <a:pt x="17139" y="104250"/>
                  </a:lnTo>
                  <a:lnTo>
                    <a:pt x="21393" y="105051"/>
                  </a:lnTo>
                  <a:lnTo>
                    <a:pt x="25922" y="106431"/>
                  </a:lnTo>
                  <a:lnTo>
                    <a:pt x="30635" y="108198"/>
                  </a:lnTo>
                  <a:lnTo>
                    <a:pt x="35470" y="110223"/>
                  </a:lnTo>
                  <a:lnTo>
                    <a:pt x="41233" y="111573"/>
                  </a:lnTo>
                  <a:lnTo>
                    <a:pt x="47616" y="112472"/>
                  </a:lnTo>
                  <a:lnTo>
                    <a:pt x="54411" y="113072"/>
                  </a:lnTo>
                  <a:lnTo>
                    <a:pt x="61480" y="112626"/>
                  </a:lnTo>
                  <a:lnTo>
                    <a:pt x="68734" y="111481"/>
                  </a:lnTo>
                  <a:lnTo>
                    <a:pt x="76109" y="109871"/>
                  </a:lnTo>
                  <a:lnTo>
                    <a:pt x="83566" y="107952"/>
                  </a:lnTo>
                  <a:lnTo>
                    <a:pt x="91078" y="105825"/>
                  </a:lnTo>
                  <a:lnTo>
                    <a:pt x="98626" y="103561"/>
                  </a:lnTo>
                  <a:lnTo>
                    <a:pt x="105350" y="100358"/>
                  </a:lnTo>
                  <a:lnTo>
                    <a:pt x="111527" y="96529"/>
                  </a:lnTo>
                  <a:lnTo>
                    <a:pt x="117338" y="92284"/>
                  </a:lnTo>
                  <a:lnTo>
                    <a:pt x="122906" y="88606"/>
                  </a:lnTo>
                  <a:lnTo>
                    <a:pt x="128311" y="85308"/>
                  </a:lnTo>
                  <a:lnTo>
                    <a:pt x="133607" y="82263"/>
                  </a:lnTo>
                  <a:lnTo>
                    <a:pt x="137985" y="78539"/>
                  </a:lnTo>
                  <a:lnTo>
                    <a:pt x="141750" y="74364"/>
                  </a:lnTo>
                  <a:lnTo>
                    <a:pt x="145107" y="69886"/>
                  </a:lnTo>
                  <a:lnTo>
                    <a:pt x="147345" y="65208"/>
                  </a:lnTo>
                  <a:lnTo>
                    <a:pt x="148837" y="60396"/>
                  </a:lnTo>
                  <a:lnTo>
                    <a:pt x="149831" y="55495"/>
                  </a:lnTo>
                  <a:lnTo>
                    <a:pt x="150494" y="51380"/>
                  </a:lnTo>
                  <a:lnTo>
                    <a:pt x="150937" y="47791"/>
                  </a:lnTo>
                  <a:lnTo>
                    <a:pt x="151231" y="44551"/>
                  </a:lnTo>
                  <a:lnTo>
                    <a:pt x="150581" y="41545"/>
                  </a:lnTo>
                  <a:lnTo>
                    <a:pt x="149301" y="38694"/>
                  </a:lnTo>
                  <a:lnTo>
                    <a:pt x="147601" y="35947"/>
                  </a:lnTo>
                  <a:lnTo>
                    <a:pt x="145620" y="33268"/>
                  </a:lnTo>
                  <a:lnTo>
                    <a:pt x="143454" y="30636"/>
                  </a:lnTo>
                  <a:lnTo>
                    <a:pt x="141163" y="28035"/>
                  </a:lnTo>
                  <a:lnTo>
                    <a:pt x="137942" y="25454"/>
                  </a:lnTo>
                  <a:lnTo>
                    <a:pt x="134102" y="22887"/>
                  </a:lnTo>
                  <a:lnTo>
                    <a:pt x="123861" y="16728"/>
                  </a:lnTo>
                  <a:lnTo>
                    <a:pt x="120203" y="15886"/>
                  </a:lnTo>
                  <a:lnTo>
                    <a:pt x="113721" y="152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SMARTInkAnnotation405"/>
            <p:cNvSpPr/>
            <p:nvPr/>
          </p:nvSpPr>
          <p:spPr>
            <a:xfrm>
              <a:off x="5464440" y="2925720"/>
              <a:ext cx="136440" cy="1674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136540" h="167472">
                  <a:moveTo>
                    <a:pt x="83338" y="0"/>
                  </a:moveTo>
                  <a:lnTo>
                    <a:pt x="75725" y="0"/>
                  </a:lnTo>
                  <a:lnTo>
                    <a:pt x="71674" y="4045"/>
                  </a:lnTo>
                  <a:lnTo>
                    <a:pt x="70483" y="6084"/>
                  </a:lnTo>
                  <a:lnTo>
                    <a:pt x="69157" y="10606"/>
                  </a:lnTo>
                  <a:lnTo>
                    <a:pt x="67111" y="13844"/>
                  </a:lnTo>
                  <a:lnTo>
                    <a:pt x="64053" y="17696"/>
                  </a:lnTo>
                  <a:lnTo>
                    <a:pt x="60321" y="21957"/>
                  </a:lnTo>
                  <a:lnTo>
                    <a:pt x="53917" y="28950"/>
                  </a:lnTo>
                  <a:lnTo>
                    <a:pt x="47401" y="35727"/>
                  </a:lnTo>
                  <a:lnTo>
                    <a:pt x="24534" y="58776"/>
                  </a:lnTo>
                  <a:lnTo>
                    <a:pt x="20428" y="63738"/>
                  </a:lnTo>
                  <a:lnTo>
                    <a:pt x="16845" y="68738"/>
                  </a:lnTo>
                  <a:lnTo>
                    <a:pt x="13609" y="73766"/>
                  </a:lnTo>
                  <a:lnTo>
                    <a:pt x="10605" y="79657"/>
                  </a:lnTo>
                  <a:lnTo>
                    <a:pt x="7756" y="86125"/>
                  </a:lnTo>
                  <a:lnTo>
                    <a:pt x="5009" y="92976"/>
                  </a:lnTo>
                  <a:lnTo>
                    <a:pt x="3179" y="99238"/>
                  </a:lnTo>
                  <a:lnTo>
                    <a:pt x="1958" y="105105"/>
                  </a:lnTo>
                  <a:lnTo>
                    <a:pt x="1145" y="110710"/>
                  </a:lnTo>
                  <a:lnTo>
                    <a:pt x="602" y="115294"/>
                  </a:lnTo>
                  <a:lnTo>
                    <a:pt x="241" y="119196"/>
                  </a:lnTo>
                  <a:lnTo>
                    <a:pt x="0" y="122644"/>
                  </a:lnTo>
                  <a:lnTo>
                    <a:pt x="685" y="126636"/>
                  </a:lnTo>
                  <a:lnTo>
                    <a:pt x="1990" y="130991"/>
                  </a:lnTo>
                  <a:lnTo>
                    <a:pt x="3706" y="135587"/>
                  </a:lnTo>
                  <a:lnTo>
                    <a:pt x="5697" y="140345"/>
                  </a:lnTo>
                  <a:lnTo>
                    <a:pt x="7870" y="145210"/>
                  </a:lnTo>
                  <a:lnTo>
                    <a:pt x="10166" y="150147"/>
                  </a:lnTo>
                  <a:lnTo>
                    <a:pt x="13390" y="154284"/>
                  </a:lnTo>
                  <a:lnTo>
                    <a:pt x="17232" y="157890"/>
                  </a:lnTo>
                  <a:lnTo>
                    <a:pt x="21488" y="161140"/>
                  </a:lnTo>
                  <a:lnTo>
                    <a:pt x="26864" y="163307"/>
                  </a:lnTo>
                  <a:lnTo>
                    <a:pt x="32988" y="164751"/>
                  </a:lnTo>
                  <a:lnTo>
                    <a:pt x="39611" y="165714"/>
                  </a:lnTo>
                  <a:lnTo>
                    <a:pt x="46566" y="166356"/>
                  </a:lnTo>
                  <a:lnTo>
                    <a:pt x="53744" y="166784"/>
                  </a:lnTo>
                  <a:lnTo>
                    <a:pt x="67645" y="167260"/>
                  </a:lnTo>
                  <a:lnTo>
                    <a:pt x="79467" y="167471"/>
                  </a:lnTo>
                  <a:lnTo>
                    <a:pt x="85837" y="166681"/>
                  </a:lnTo>
                  <a:lnTo>
                    <a:pt x="92623" y="165307"/>
                  </a:lnTo>
                  <a:lnTo>
                    <a:pt x="99688" y="163545"/>
                  </a:lnTo>
                  <a:lnTo>
                    <a:pt x="105244" y="160677"/>
                  </a:lnTo>
                  <a:lnTo>
                    <a:pt x="109796" y="157071"/>
                  </a:lnTo>
                  <a:lnTo>
                    <a:pt x="113676" y="152974"/>
                  </a:lnTo>
                  <a:lnTo>
                    <a:pt x="117110" y="148549"/>
                  </a:lnTo>
                  <a:lnTo>
                    <a:pt x="120245" y="143906"/>
                  </a:lnTo>
                  <a:lnTo>
                    <a:pt x="123182" y="139118"/>
                  </a:lnTo>
                  <a:lnTo>
                    <a:pt x="125987" y="134232"/>
                  </a:lnTo>
                  <a:lnTo>
                    <a:pt x="131362" y="124288"/>
                  </a:lnTo>
                  <a:lnTo>
                    <a:pt x="133134" y="119265"/>
                  </a:lnTo>
                  <a:lnTo>
                    <a:pt x="134315" y="114223"/>
                  </a:lnTo>
                  <a:lnTo>
                    <a:pt x="135103" y="109169"/>
                  </a:lnTo>
                  <a:lnTo>
                    <a:pt x="135627" y="104106"/>
                  </a:lnTo>
                  <a:lnTo>
                    <a:pt x="135977" y="99037"/>
                  </a:lnTo>
                  <a:lnTo>
                    <a:pt x="136366" y="89737"/>
                  </a:lnTo>
                  <a:lnTo>
                    <a:pt x="136539" y="82781"/>
                  </a:lnTo>
                  <a:lnTo>
                    <a:pt x="134892" y="78894"/>
                  </a:lnTo>
                  <a:lnTo>
                    <a:pt x="132100" y="74609"/>
                  </a:lnTo>
                  <a:lnTo>
                    <a:pt x="128546" y="70059"/>
                  </a:lnTo>
                  <a:lnTo>
                    <a:pt x="125330" y="66180"/>
                  </a:lnTo>
                  <a:lnTo>
                    <a:pt x="122339" y="62746"/>
                  </a:lnTo>
                  <a:lnTo>
                    <a:pt x="119498" y="59611"/>
                  </a:lnTo>
                  <a:lnTo>
                    <a:pt x="115912" y="57521"/>
                  </a:lnTo>
                  <a:lnTo>
                    <a:pt x="111827" y="56127"/>
                  </a:lnTo>
                  <a:lnTo>
                    <a:pt x="107410" y="55198"/>
                  </a:lnTo>
                  <a:lnTo>
                    <a:pt x="103619" y="53732"/>
                  </a:lnTo>
                  <a:lnTo>
                    <a:pt x="100246" y="51908"/>
                  </a:lnTo>
                  <a:lnTo>
                    <a:pt x="90957" y="457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SMARTInkAnnotation406"/>
            <p:cNvSpPr/>
            <p:nvPr/>
          </p:nvSpPr>
          <p:spPr>
            <a:xfrm>
              <a:off x="5959080" y="3093480"/>
              <a:ext cx="118440" cy="17532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118672" h="175261">
                  <a:moveTo>
                    <a:pt x="91439" y="0"/>
                  </a:moveTo>
                  <a:lnTo>
                    <a:pt x="95485" y="0"/>
                  </a:lnTo>
                  <a:lnTo>
                    <a:pt x="97522" y="847"/>
                  </a:lnTo>
                  <a:lnTo>
                    <a:pt x="99728" y="2258"/>
                  </a:lnTo>
                  <a:lnTo>
                    <a:pt x="102045" y="4046"/>
                  </a:lnTo>
                  <a:lnTo>
                    <a:pt x="103590" y="6084"/>
                  </a:lnTo>
                  <a:lnTo>
                    <a:pt x="104620" y="8289"/>
                  </a:lnTo>
                  <a:lnTo>
                    <a:pt x="105764" y="12998"/>
                  </a:lnTo>
                  <a:lnTo>
                    <a:pt x="106272" y="17912"/>
                  </a:lnTo>
                  <a:lnTo>
                    <a:pt x="107255" y="20408"/>
                  </a:lnTo>
                  <a:lnTo>
                    <a:pt x="110604" y="25439"/>
                  </a:lnTo>
                  <a:lnTo>
                    <a:pt x="111836" y="28813"/>
                  </a:lnTo>
                  <a:lnTo>
                    <a:pt x="112657" y="32755"/>
                  </a:lnTo>
                  <a:lnTo>
                    <a:pt x="113205" y="37077"/>
                  </a:lnTo>
                  <a:lnTo>
                    <a:pt x="113569" y="40805"/>
                  </a:lnTo>
                  <a:lnTo>
                    <a:pt x="113813" y="44136"/>
                  </a:lnTo>
                  <a:lnTo>
                    <a:pt x="113975" y="47204"/>
                  </a:lnTo>
                  <a:lnTo>
                    <a:pt x="114155" y="55129"/>
                  </a:lnTo>
                  <a:lnTo>
                    <a:pt x="114204" y="59613"/>
                  </a:lnTo>
                  <a:lnTo>
                    <a:pt x="115082" y="63449"/>
                  </a:lnTo>
                  <a:lnTo>
                    <a:pt x="116515" y="66852"/>
                  </a:lnTo>
                  <a:lnTo>
                    <a:pt x="118316" y="69968"/>
                  </a:lnTo>
                  <a:lnTo>
                    <a:pt x="118671" y="74586"/>
                  </a:lnTo>
                  <a:lnTo>
                    <a:pt x="118059" y="80204"/>
                  </a:lnTo>
                  <a:lnTo>
                    <a:pt x="116806" y="86489"/>
                  </a:lnTo>
                  <a:lnTo>
                    <a:pt x="115124" y="92373"/>
                  </a:lnTo>
                  <a:lnTo>
                    <a:pt x="113155" y="97989"/>
                  </a:lnTo>
                  <a:lnTo>
                    <a:pt x="110997" y="103426"/>
                  </a:lnTo>
                  <a:lnTo>
                    <a:pt x="109558" y="108744"/>
                  </a:lnTo>
                  <a:lnTo>
                    <a:pt x="108598" y="113983"/>
                  </a:lnTo>
                  <a:lnTo>
                    <a:pt x="107959" y="119168"/>
                  </a:lnTo>
                  <a:lnTo>
                    <a:pt x="105839" y="124319"/>
                  </a:lnTo>
                  <a:lnTo>
                    <a:pt x="102732" y="129446"/>
                  </a:lnTo>
                  <a:lnTo>
                    <a:pt x="98968" y="134558"/>
                  </a:lnTo>
                  <a:lnTo>
                    <a:pt x="94765" y="138812"/>
                  </a:lnTo>
                  <a:lnTo>
                    <a:pt x="90269" y="142494"/>
                  </a:lnTo>
                  <a:lnTo>
                    <a:pt x="85579" y="145796"/>
                  </a:lnTo>
                  <a:lnTo>
                    <a:pt x="80759" y="149691"/>
                  </a:lnTo>
                  <a:lnTo>
                    <a:pt x="75853" y="153981"/>
                  </a:lnTo>
                  <a:lnTo>
                    <a:pt x="70889" y="158534"/>
                  </a:lnTo>
                  <a:lnTo>
                    <a:pt x="65886" y="161569"/>
                  </a:lnTo>
                  <a:lnTo>
                    <a:pt x="60857" y="163593"/>
                  </a:lnTo>
                  <a:lnTo>
                    <a:pt x="55811" y="164942"/>
                  </a:lnTo>
                  <a:lnTo>
                    <a:pt x="50754" y="166688"/>
                  </a:lnTo>
                  <a:lnTo>
                    <a:pt x="45689" y="168699"/>
                  </a:lnTo>
                  <a:lnTo>
                    <a:pt x="40619" y="170885"/>
                  </a:lnTo>
                  <a:lnTo>
                    <a:pt x="35546" y="172344"/>
                  </a:lnTo>
                  <a:lnTo>
                    <a:pt x="30470" y="173316"/>
                  </a:lnTo>
                  <a:lnTo>
                    <a:pt x="25393" y="173964"/>
                  </a:lnTo>
                  <a:lnTo>
                    <a:pt x="21162" y="174396"/>
                  </a:lnTo>
                  <a:lnTo>
                    <a:pt x="17495" y="174684"/>
                  </a:lnTo>
                  <a:lnTo>
                    <a:pt x="14203" y="174876"/>
                  </a:lnTo>
                  <a:lnTo>
                    <a:pt x="8287" y="175089"/>
                  </a:lnTo>
                  <a:lnTo>
                    <a:pt x="0" y="1752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SMARTInkAnnotation407"/>
            <p:cNvSpPr/>
            <p:nvPr/>
          </p:nvSpPr>
          <p:spPr>
            <a:xfrm>
              <a:off x="6347880" y="2689560"/>
              <a:ext cx="205200" cy="28908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05229" h="289272">
                  <a:moveTo>
                    <a:pt x="45720" y="83675"/>
                  </a:moveTo>
                  <a:lnTo>
                    <a:pt x="45720" y="101587"/>
                  </a:lnTo>
                  <a:lnTo>
                    <a:pt x="44873" y="104083"/>
                  </a:lnTo>
                  <a:lnTo>
                    <a:pt x="40483" y="111641"/>
                  </a:lnTo>
                  <a:lnTo>
                    <a:pt x="39159" y="116706"/>
                  </a:lnTo>
                  <a:lnTo>
                    <a:pt x="38570" y="124038"/>
                  </a:lnTo>
                  <a:lnTo>
                    <a:pt x="38413" y="128364"/>
                  </a:lnTo>
                  <a:lnTo>
                    <a:pt x="37462" y="132941"/>
                  </a:lnTo>
                  <a:lnTo>
                    <a:pt x="35981" y="137686"/>
                  </a:lnTo>
                  <a:lnTo>
                    <a:pt x="34147" y="142542"/>
                  </a:lnTo>
                  <a:lnTo>
                    <a:pt x="32079" y="147473"/>
                  </a:lnTo>
                  <a:lnTo>
                    <a:pt x="29853" y="152453"/>
                  </a:lnTo>
                  <a:lnTo>
                    <a:pt x="27521" y="157468"/>
                  </a:lnTo>
                  <a:lnTo>
                    <a:pt x="25968" y="163350"/>
                  </a:lnTo>
                  <a:lnTo>
                    <a:pt x="24932" y="169812"/>
                  </a:lnTo>
                  <a:lnTo>
                    <a:pt x="24241" y="176659"/>
                  </a:lnTo>
                  <a:lnTo>
                    <a:pt x="22934" y="183765"/>
                  </a:lnTo>
                  <a:lnTo>
                    <a:pt x="21217" y="191041"/>
                  </a:lnTo>
                  <a:lnTo>
                    <a:pt x="19224" y="198433"/>
                  </a:lnTo>
                  <a:lnTo>
                    <a:pt x="17896" y="205053"/>
                  </a:lnTo>
                  <a:lnTo>
                    <a:pt x="17011" y="211161"/>
                  </a:lnTo>
                  <a:lnTo>
                    <a:pt x="16421" y="216925"/>
                  </a:lnTo>
                  <a:lnTo>
                    <a:pt x="15180" y="222462"/>
                  </a:lnTo>
                  <a:lnTo>
                    <a:pt x="13507" y="227846"/>
                  </a:lnTo>
                  <a:lnTo>
                    <a:pt x="11545" y="233129"/>
                  </a:lnTo>
                  <a:lnTo>
                    <a:pt x="10236" y="238344"/>
                  </a:lnTo>
                  <a:lnTo>
                    <a:pt x="9364" y="243514"/>
                  </a:lnTo>
                  <a:lnTo>
                    <a:pt x="8783" y="248655"/>
                  </a:lnTo>
                  <a:lnTo>
                    <a:pt x="7549" y="253775"/>
                  </a:lnTo>
                  <a:lnTo>
                    <a:pt x="5879" y="258881"/>
                  </a:lnTo>
                  <a:lnTo>
                    <a:pt x="3920" y="263979"/>
                  </a:lnTo>
                  <a:lnTo>
                    <a:pt x="1742" y="271901"/>
                  </a:lnTo>
                  <a:lnTo>
                    <a:pt x="774" y="278244"/>
                  </a:lnTo>
                  <a:lnTo>
                    <a:pt x="153" y="286958"/>
                  </a:lnTo>
                  <a:lnTo>
                    <a:pt x="9" y="289271"/>
                  </a:lnTo>
                  <a:lnTo>
                    <a:pt x="0" y="260893"/>
                  </a:lnTo>
                  <a:lnTo>
                    <a:pt x="846" y="255160"/>
                  </a:lnTo>
                  <a:lnTo>
                    <a:pt x="2257" y="248799"/>
                  </a:lnTo>
                  <a:lnTo>
                    <a:pt x="4046" y="242017"/>
                  </a:lnTo>
                  <a:lnTo>
                    <a:pt x="5237" y="234957"/>
                  </a:lnTo>
                  <a:lnTo>
                    <a:pt x="6032" y="227709"/>
                  </a:lnTo>
                  <a:lnTo>
                    <a:pt x="6561" y="220338"/>
                  </a:lnTo>
                  <a:lnTo>
                    <a:pt x="6914" y="212884"/>
                  </a:lnTo>
                  <a:lnTo>
                    <a:pt x="7306" y="197828"/>
                  </a:lnTo>
                  <a:lnTo>
                    <a:pt x="7527" y="171026"/>
                  </a:lnTo>
                  <a:lnTo>
                    <a:pt x="8405" y="162229"/>
                  </a:lnTo>
                  <a:lnTo>
                    <a:pt x="9836" y="153825"/>
                  </a:lnTo>
                  <a:lnTo>
                    <a:pt x="11638" y="145681"/>
                  </a:lnTo>
                  <a:lnTo>
                    <a:pt x="12838" y="137713"/>
                  </a:lnTo>
                  <a:lnTo>
                    <a:pt x="13639" y="129860"/>
                  </a:lnTo>
                  <a:lnTo>
                    <a:pt x="14173" y="122085"/>
                  </a:lnTo>
                  <a:lnTo>
                    <a:pt x="15375" y="114362"/>
                  </a:lnTo>
                  <a:lnTo>
                    <a:pt x="17024" y="106673"/>
                  </a:lnTo>
                  <a:lnTo>
                    <a:pt x="18969" y="99007"/>
                  </a:lnTo>
                  <a:lnTo>
                    <a:pt x="20266" y="92203"/>
                  </a:lnTo>
                  <a:lnTo>
                    <a:pt x="21130" y="85973"/>
                  </a:lnTo>
                  <a:lnTo>
                    <a:pt x="21707" y="80127"/>
                  </a:lnTo>
                  <a:lnTo>
                    <a:pt x="23784" y="73690"/>
                  </a:lnTo>
                  <a:lnTo>
                    <a:pt x="26863" y="66858"/>
                  </a:lnTo>
                  <a:lnTo>
                    <a:pt x="30608" y="59764"/>
                  </a:lnTo>
                  <a:lnTo>
                    <a:pt x="33106" y="53341"/>
                  </a:lnTo>
                  <a:lnTo>
                    <a:pt x="34771" y="47366"/>
                  </a:lnTo>
                  <a:lnTo>
                    <a:pt x="35880" y="41689"/>
                  </a:lnTo>
                  <a:lnTo>
                    <a:pt x="38313" y="36211"/>
                  </a:lnTo>
                  <a:lnTo>
                    <a:pt x="41629" y="30866"/>
                  </a:lnTo>
                  <a:lnTo>
                    <a:pt x="45533" y="25609"/>
                  </a:lnTo>
                  <a:lnTo>
                    <a:pt x="49829" y="21257"/>
                  </a:lnTo>
                  <a:lnTo>
                    <a:pt x="54386" y="17510"/>
                  </a:lnTo>
                  <a:lnTo>
                    <a:pt x="59117" y="14165"/>
                  </a:lnTo>
                  <a:lnTo>
                    <a:pt x="63965" y="11088"/>
                  </a:lnTo>
                  <a:lnTo>
                    <a:pt x="68890" y="8191"/>
                  </a:lnTo>
                  <a:lnTo>
                    <a:pt x="73867" y="5412"/>
                  </a:lnTo>
                  <a:lnTo>
                    <a:pt x="78878" y="3560"/>
                  </a:lnTo>
                  <a:lnTo>
                    <a:pt x="83912" y="2325"/>
                  </a:lnTo>
                  <a:lnTo>
                    <a:pt x="88961" y="1502"/>
                  </a:lnTo>
                  <a:lnTo>
                    <a:pt x="94867" y="953"/>
                  </a:lnTo>
                  <a:lnTo>
                    <a:pt x="101345" y="587"/>
                  </a:lnTo>
                  <a:lnTo>
                    <a:pt x="114469" y="180"/>
                  </a:lnTo>
                  <a:lnTo>
                    <a:pt x="125946" y="0"/>
                  </a:lnTo>
                  <a:lnTo>
                    <a:pt x="131377" y="798"/>
                  </a:lnTo>
                  <a:lnTo>
                    <a:pt x="136691" y="2177"/>
                  </a:lnTo>
                  <a:lnTo>
                    <a:pt x="141928" y="3943"/>
                  </a:lnTo>
                  <a:lnTo>
                    <a:pt x="147111" y="5967"/>
                  </a:lnTo>
                  <a:lnTo>
                    <a:pt x="152261" y="8163"/>
                  </a:lnTo>
                  <a:lnTo>
                    <a:pt x="157388" y="10474"/>
                  </a:lnTo>
                  <a:lnTo>
                    <a:pt x="163345" y="13707"/>
                  </a:lnTo>
                  <a:lnTo>
                    <a:pt x="169857" y="17557"/>
                  </a:lnTo>
                  <a:lnTo>
                    <a:pt x="176737" y="21816"/>
                  </a:lnTo>
                  <a:lnTo>
                    <a:pt x="182172" y="26349"/>
                  </a:lnTo>
                  <a:lnTo>
                    <a:pt x="186641" y="31065"/>
                  </a:lnTo>
                  <a:lnTo>
                    <a:pt x="190467" y="35901"/>
                  </a:lnTo>
                  <a:lnTo>
                    <a:pt x="193865" y="39973"/>
                  </a:lnTo>
                  <a:lnTo>
                    <a:pt x="199898" y="46754"/>
                  </a:lnTo>
                  <a:lnTo>
                    <a:pt x="201845" y="50594"/>
                  </a:lnTo>
                  <a:lnTo>
                    <a:pt x="204009" y="59377"/>
                  </a:lnTo>
                  <a:lnTo>
                    <a:pt x="204586" y="64090"/>
                  </a:lnTo>
                  <a:lnTo>
                    <a:pt x="204971" y="68925"/>
                  </a:lnTo>
                  <a:lnTo>
                    <a:pt x="205228" y="73841"/>
                  </a:lnTo>
                  <a:lnTo>
                    <a:pt x="204552" y="78813"/>
                  </a:lnTo>
                  <a:lnTo>
                    <a:pt x="203255" y="83820"/>
                  </a:lnTo>
                  <a:lnTo>
                    <a:pt x="201543" y="88852"/>
                  </a:lnTo>
                  <a:lnTo>
                    <a:pt x="197383" y="96700"/>
                  </a:lnTo>
                  <a:lnTo>
                    <a:pt x="195089" y="99978"/>
                  </a:lnTo>
                  <a:lnTo>
                    <a:pt x="191866" y="103011"/>
                  </a:lnTo>
                  <a:lnTo>
                    <a:pt x="188024" y="105879"/>
                  </a:lnTo>
                  <a:lnTo>
                    <a:pt x="183768" y="108638"/>
                  </a:lnTo>
                  <a:lnTo>
                    <a:pt x="179239" y="111323"/>
                  </a:lnTo>
                  <a:lnTo>
                    <a:pt x="174526" y="113960"/>
                  </a:lnTo>
                  <a:lnTo>
                    <a:pt x="169690" y="116565"/>
                  </a:lnTo>
                  <a:lnTo>
                    <a:pt x="164774" y="118302"/>
                  </a:lnTo>
                  <a:lnTo>
                    <a:pt x="159802" y="119460"/>
                  </a:lnTo>
                  <a:lnTo>
                    <a:pt x="154795" y="120232"/>
                  </a:lnTo>
                  <a:lnTo>
                    <a:pt x="149764" y="120746"/>
                  </a:lnTo>
                  <a:lnTo>
                    <a:pt x="144715" y="121089"/>
                  </a:lnTo>
                  <a:lnTo>
                    <a:pt x="139657" y="121318"/>
                  </a:lnTo>
                  <a:lnTo>
                    <a:pt x="127263" y="121572"/>
                  </a:lnTo>
                  <a:lnTo>
                    <a:pt x="120402" y="121639"/>
                  </a:lnTo>
                  <a:lnTo>
                    <a:pt x="114134" y="120838"/>
                  </a:lnTo>
                  <a:lnTo>
                    <a:pt x="108263" y="119457"/>
                  </a:lnTo>
                  <a:lnTo>
                    <a:pt x="102656" y="117690"/>
                  </a:lnTo>
                  <a:lnTo>
                    <a:pt x="97224" y="116511"/>
                  </a:lnTo>
                  <a:lnTo>
                    <a:pt x="91909" y="115726"/>
                  </a:lnTo>
                  <a:lnTo>
                    <a:pt x="86672" y="115202"/>
                  </a:lnTo>
                  <a:lnTo>
                    <a:pt x="82335" y="114007"/>
                  </a:lnTo>
                  <a:lnTo>
                    <a:pt x="78597" y="112363"/>
                  </a:lnTo>
                  <a:lnTo>
                    <a:pt x="68580" y="10653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MARTInkAnnotation408"/>
            <p:cNvSpPr/>
            <p:nvPr/>
          </p:nvSpPr>
          <p:spPr>
            <a:xfrm>
              <a:off x="6813000" y="2697120"/>
              <a:ext cx="75600" cy="756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75741" h="7621">
                  <a:moveTo>
                    <a:pt x="45282" y="0"/>
                  </a:moveTo>
                  <a:lnTo>
                    <a:pt x="0" y="0"/>
                  </a:lnTo>
                  <a:lnTo>
                    <a:pt x="36356" y="0"/>
                  </a:lnTo>
                  <a:lnTo>
                    <a:pt x="41025" y="847"/>
                  </a:lnTo>
                  <a:lnTo>
                    <a:pt x="45830" y="2258"/>
                  </a:lnTo>
                  <a:lnTo>
                    <a:pt x="50727" y="4045"/>
                  </a:lnTo>
                  <a:lnTo>
                    <a:pt x="55685" y="5237"/>
                  </a:lnTo>
                  <a:lnTo>
                    <a:pt x="60684" y="6032"/>
                  </a:lnTo>
                  <a:lnTo>
                    <a:pt x="75740" y="7618"/>
                  </a:lnTo>
                  <a:lnTo>
                    <a:pt x="45282" y="76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SMARTInkAnnotation409"/>
            <p:cNvSpPr/>
            <p:nvPr/>
          </p:nvSpPr>
          <p:spPr>
            <a:xfrm>
              <a:off x="6766920" y="2826720"/>
              <a:ext cx="281880" cy="3024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81941" h="30451">
                  <a:moveTo>
                    <a:pt x="0" y="30450"/>
                  </a:moveTo>
                  <a:lnTo>
                    <a:pt x="4045" y="26405"/>
                  </a:lnTo>
                  <a:lnTo>
                    <a:pt x="6083" y="25213"/>
                  </a:lnTo>
                  <a:lnTo>
                    <a:pt x="8288" y="24419"/>
                  </a:lnTo>
                  <a:lnTo>
                    <a:pt x="13844" y="23536"/>
                  </a:lnTo>
                  <a:lnTo>
                    <a:pt x="21957" y="23144"/>
                  </a:lnTo>
                  <a:lnTo>
                    <a:pt x="26491" y="22193"/>
                  </a:lnTo>
                  <a:lnTo>
                    <a:pt x="31207" y="20712"/>
                  </a:lnTo>
                  <a:lnTo>
                    <a:pt x="36045" y="18878"/>
                  </a:lnTo>
                  <a:lnTo>
                    <a:pt x="40963" y="17655"/>
                  </a:lnTo>
                  <a:lnTo>
                    <a:pt x="45936" y="16840"/>
                  </a:lnTo>
                  <a:lnTo>
                    <a:pt x="50944" y="16297"/>
                  </a:lnTo>
                  <a:lnTo>
                    <a:pt x="56823" y="15935"/>
                  </a:lnTo>
                  <a:lnTo>
                    <a:pt x="70128" y="15532"/>
                  </a:lnTo>
                  <a:lnTo>
                    <a:pt x="77232" y="14578"/>
                  </a:lnTo>
                  <a:lnTo>
                    <a:pt x="84508" y="13096"/>
                  </a:lnTo>
                  <a:lnTo>
                    <a:pt x="91899" y="11260"/>
                  </a:lnTo>
                  <a:lnTo>
                    <a:pt x="99365" y="10037"/>
                  </a:lnTo>
                  <a:lnTo>
                    <a:pt x="106885" y="9221"/>
                  </a:lnTo>
                  <a:lnTo>
                    <a:pt x="114436" y="8678"/>
                  </a:lnTo>
                  <a:lnTo>
                    <a:pt x="122857" y="7468"/>
                  </a:lnTo>
                  <a:lnTo>
                    <a:pt x="131858" y="5816"/>
                  </a:lnTo>
                  <a:lnTo>
                    <a:pt x="141245" y="3867"/>
                  </a:lnTo>
                  <a:lnTo>
                    <a:pt x="150044" y="2568"/>
                  </a:lnTo>
                  <a:lnTo>
                    <a:pt x="158449" y="1702"/>
                  </a:lnTo>
                  <a:lnTo>
                    <a:pt x="166593" y="1125"/>
                  </a:lnTo>
                  <a:lnTo>
                    <a:pt x="175409" y="740"/>
                  </a:lnTo>
                  <a:lnTo>
                    <a:pt x="194235" y="312"/>
                  </a:lnTo>
                  <a:lnTo>
                    <a:pt x="243499" y="0"/>
                  </a:lnTo>
                  <a:lnTo>
                    <a:pt x="250386" y="837"/>
                  </a:lnTo>
                  <a:lnTo>
                    <a:pt x="256671" y="2241"/>
                  </a:lnTo>
                  <a:lnTo>
                    <a:pt x="262554" y="4024"/>
                  </a:lnTo>
                  <a:lnTo>
                    <a:pt x="267322" y="5213"/>
                  </a:lnTo>
                  <a:lnTo>
                    <a:pt x="271348" y="6005"/>
                  </a:lnTo>
                  <a:lnTo>
                    <a:pt x="281940" y="759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SMARTInkAnnotation410"/>
            <p:cNvSpPr/>
            <p:nvPr/>
          </p:nvSpPr>
          <p:spPr>
            <a:xfrm>
              <a:off x="6904440" y="2971440"/>
              <a:ext cx="67680" cy="151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67895" h="15241">
                  <a:moveTo>
                    <a:pt x="52795" y="7620"/>
                  </a:moveTo>
                  <a:lnTo>
                    <a:pt x="59356" y="1059"/>
                  </a:lnTo>
                  <a:lnTo>
                    <a:pt x="60555" y="706"/>
                  </a:lnTo>
                  <a:lnTo>
                    <a:pt x="62201" y="471"/>
                  </a:lnTo>
                  <a:lnTo>
                    <a:pt x="66882" y="93"/>
                  </a:lnTo>
                  <a:lnTo>
                    <a:pt x="65265" y="42"/>
                  </a:lnTo>
                  <a:lnTo>
                    <a:pt x="0" y="0"/>
                  </a:lnTo>
                  <a:lnTo>
                    <a:pt x="10109" y="0"/>
                  </a:lnTo>
                  <a:lnTo>
                    <a:pt x="13330" y="847"/>
                  </a:lnTo>
                  <a:lnTo>
                    <a:pt x="17171" y="2258"/>
                  </a:lnTo>
                  <a:lnTo>
                    <a:pt x="21427" y="4045"/>
                  </a:lnTo>
                  <a:lnTo>
                    <a:pt x="25109" y="5237"/>
                  </a:lnTo>
                  <a:lnTo>
                    <a:pt x="28411" y="6031"/>
                  </a:lnTo>
                  <a:lnTo>
                    <a:pt x="31459" y="6561"/>
                  </a:lnTo>
                  <a:lnTo>
                    <a:pt x="35184" y="6914"/>
                  </a:lnTo>
                  <a:lnTo>
                    <a:pt x="39361" y="7150"/>
                  </a:lnTo>
                  <a:lnTo>
                    <a:pt x="43839" y="7306"/>
                  </a:lnTo>
                  <a:lnTo>
                    <a:pt x="47672" y="8257"/>
                  </a:lnTo>
                  <a:lnTo>
                    <a:pt x="51071" y="9738"/>
                  </a:lnTo>
                  <a:lnTo>
                    <a:pt x="54187" y="11573"/>
                  </a:lnTo>
                  <a:lnTo>
                    <a:pt x="57108" y="12795"/>
                  </a:lnTo>
                  <a:lnTo>
                    <a:pt x="59905" y="13610"/>
                  </a:lnTo>
                  <a:lnTo>
                    <a:pt x="67894" y="15212"/>
                  </a:lnTo>
                  <a:lnTo>
                    <a:pt x="52795" y="152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SMARTInkAnnotation411"/>
            <p:cNvSpPr/>
            <p:nvPr/>
          </p:nvSpPr>
          <p:spPr>
            <a:xfrm>
              <a:off x="7271640" y="2704680"/>
              <a:ext cx="142200" cy="12780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142470" h="128025">
                  <a:moveTo>
                    <a:pt x="127552" y="15240"/>
                  </a:moveTo>
                  <a:lnTo>
                    <a:pt x="131596" y="15240"/>
                  </a:lnTo>
                  <a:lnTo>
                    <a:pt x="132789" y="14394"/>
                  </a:lnTo>
                  <a:lnTo>
                    <a:pt x="133582" y="12982"/>
                  </a:lnTo>
                  <a:lnTo>
                    <a:pt x="134858" y="8679"/>
                  </a:lnTo>
                  <a:lnTo>
                    <a:pt x="137289" y="5833"/>
                  </a:lnTo>
                  <a:lnTo>
                    <a:pt x="142469" y="342"/>
                  </a:lnTo>
                  <a:lnTo>
                    <a:pt x="138651" y="101"/>
                  </a:lnTo>
                  <a:lnTo>
                    <a:pt x="127340" y="13"/>
                  </a:lnTo>
                  <a:lnTo>
                    <a:pt x="124870" y="9"/>
                  </a:lnTo>
                  <a:lnTo>
                    <a:pt x="121531" y="1699"/>
                  </a:lnTo>
                  <a:lnTo>
                    <a:pt x="117611" y="4520"/>
                  </a:lnTo>
                  <a:lnTo>
                    <a:pt x="113304" y="8093"/>
                  </a:lnTo>
                  <a:lnTo>
                    <a:pt x="107895" y="10476"/>
                  </a:lnTo>
                  <a:lnTo>
                    <a:pt x="101746" y="12063"/>
                  </a:lnTo>
                  <a:lnTo>
                    <a:pt x="95108" y="13122"/>
                  </a:lnTo>
                  <a:lnTo>
                    <a:pt x="88142" y="15522"/>
                  </a:lnTo>
                  <a:lnTo>
                    <a:pt x="80959" y="18815"/>
                  </a:lnTo>
                  <a:lnTo>
                    <a:pt x="73630" y="22703"/>
                  </a:lnTo>
                  <a:lnTo>
                    <a:pt x="66203" y="26142"/>
                  </a:lnTo>
                  <a:lnTo>
                    <a:pt x="58712" y="29281"/>
                  </a:lnTo>
                  <a:lnTo>
                    <a:pt x="51180" y="32221"/>
                  </a:lnTo>
                  <a:lnTo>
                    <a:pt x="44464" y="35874"/>
                  </a:lnTo>
                  <a:lnTo>
                    <a:pt x="38293" y="40003"/>
                  </a:lnTo>
                  <a:lnTo>
                    <a:pt x="32485" y="44448"/>
                  </a:lnTo>
                  <a:lnTo>
                    <a:pt x="26921" y="49106"/>
                  </a:lnTo>
                  <a:lnTo>
                    <a:pt x="21518" y="53904"/>
                  </a:lnTo>
                  <a:lnTo>
                    <a:pt x="16222" y="58796"/>
                  </a:lnTo>
                  <a:lnTo>
                    <a:pt x="11845" y="63751"/>
                  </a:lnTo>
                  <a:lnTo>
                    <a:pt x="8081" y="68747"/>
                  </a:lnTo>
                  <a:lnTo>
                    <a:pt x="4724" y="73771"/>
                  </a:lnTo>
                  <a:lnTo>
                    <a:pt x="2486" y="78815"/>
                  </a:lnTo>
                  <a:lnTo>
                    <a:pt x="994" y="83869"/>
                  </a:lnTo>
                  <a:lnTo>
                    <a:pt x="0" y="88933"/>
                  </a:lnTo>
                  <a:lnTo>
                    <a:pt x="184" y="93156"/>
                  </a:lnTo>
                  <a:lnTo>
                    <a:pt x="1153" y="96817"/>
                  </a:lnTo>
                  <a:lnTo>
                    <a:pt x="2646" y="100105"/>
                  </a:lnTo>
                  <a:lnTo>
                    <a:pt x="5334" y="103143"/>
                  </a:lnTo>
                  <a:lnTo>
                    <a:pt x="8820" y="106016"/>
                  </a:lnTo>
                  <a:lnTo>
                    <a:pt x="12837" y="108777"/>
                  </a:lnTo>
                  <a:lnTo>
                    <a:pt x="18055" y="111465"/>
                  </a:lnTo>
                  <a:lnTo>
                    <a:pt x="24074" y="114103"/>
                  </a:lnTo>
                  <a:lnTo>
                    <a:pt x="30626" y="116709"/>
                  </a:lnTo>
                  <a:lnTo>
                    <a:pt x="36688" y="119293"/>
                  </a:lnTo>
                  <a:lnTo>
                    <a:pt x="47939" y="124421"/>
                  </a:lnTo>
                  <a:lnTo>
                    <a:pt x="54157" y="126128"/>
                  </a:lnTo>
                  <a:lnTo>
                    <a:pt x="60842" y="127265"/>
                  </a:lnTo>
                  <a:lnTo>
                    <a:pt x="67838" y="128024"/>
                  </a:lnTo>
                  <a:lnTo>
                    <a:pt x="74195" y="127682"/>
                  </a:lnTo>
                  <a:lnTo>
                    <a:pt x="80128" y="126608"/>
                  </a:lnTo>
                  <a:lnTo>
                    <a:pt x="85776" y="125046"/>
                  </a:lnTo>
                  <a:lnTo>
                    <a:pt x="91235" y="122310"/>
                  </a:lnTo>
                  <a:lnTo>
                    <a:pt x="96568" y="118794"/>
                  </a:lnTo>
                  <a:lnTo>
                    <a:pt x="101815" y="114756"/>
                  </a:lnTo>
                  <a:lnTo>
                    <a:pt x="106160" y="110371"/>
                  </a:lnTo>
                  <a:lnTo>
                    <a:pt x="109904" y="105754"/>
                  </a:lnTo>
                  <a:lnTo>
                    <a:pt x="113248" y="100983"/>
                  </a:lnTo>
                  <a:lnTo>
                    <a:pt x="116322" y="96108"/>
                  </a:lnTo>
                  <a:lnTo>
                    <a:pt x="119218" y="91166"/>
                  </a:lnTo>
                  <a:lnTo>
                    <a:pt x="121996" y="86177"/>
                  </a:lnTo>
                  <a:lnTo>
                    <a:pt x="123847" y="80311"/>
                  </a:lnTo>
                  <a:lnTo>
                    <a:pt x="125083" y="73861"/>
                  </a:lnTo>
                  <a:lnTo>
                    <a:pt x="125906" y="67021"/>
                  </a:lnTo>
                  <a:lnTo>
                    <a:pt x="125608" y="60767"/>
                  </a:lnTo>
                  <a:lnTo>
                    <a:pt x="124564" y="54905"/>
                  </a:lnTo>
                  <a:lnTo>
                    <a:pt x="123019" y="49303"/>
                  </a:lnTo>
                  <a:lnTo>
                    <a:pt x="121144" y="43875"/>
                  </a:lnTo>
                  <a:lnTo>
                    <a:pt x="119046" y="38564"/>
                  </a:lnTo>
                  <a:lnTo>
                    <a:pt x="116801" y="33329"/>
                  </a:lnTo>
                  <a:lnTo>
                    <a:pt x="113611" y="28993"/>
                  </a:lnTo>
                  <a:lnTo>
                    <a:pt x="109792" y="25255"/>
                  </a:lnTo>
                  <a:lnTo>
                    <a:pt x="105551" y="21917"/>
                  </a:lnTo>
                  <a:lnTo>
                    <a:pt x="101031" y="18844"/>
                  </a:lnTo>
                  <a:lnTo>
                    <a:pt x="96324" y="15950"/>
                  </a:lnTo>
                  <a:lnTo>
                    <a:pt x="91494" y="13173"/>
                  </a:lnTo>
                  <a:lnTo>
                    <a:pt x="81610" y="7830"/>
                  </a:lnTo>
                  <a:lnTo>
                    <a:pt x="76604" y="5220"/>
                  </a:lnTo>
                  <a:lnTo>
                    <a:pt x="72420" y="3480"/>
                  </a:lnTo>
                  <a:lnTo>
                    <a:pt x="68783" y="2320"/>
                  </a:lnTo>
                  <a:lnTo>
                    <a:pt x="65512" y="1547"/>
                  </a:lnTo>
                  <a:lnTo>
                    <a:pt x="62486" y="1031"/>
                  </a:lnTo>
                  <a:lnTo>
                    <a:pt x="59621" y="687"/>
                  </a:lnTo>
                  <a:lnTo>
                    <a:pt x="5135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SMARTInkAnnotation412"/>
            <p:cNvSpPr/>
            <p:nvPr/>
          </p:nvSpPr>
          <p:spPr>
            <a:xfrm>
              <a:off x="7289280" y="2826720"/>
              <a:ext cx="176760" cy="21924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176790" h="219332">
                  <a:moveTo>
                    <a:pt x="64137" y="37996"/>
                  </a:moveTo>
                  <a:lnTo>
                    <a:pt x="64137" y="0"/>
                  </a:lnTo>
                  <a:lnTo>
                    <a:pt x="64137" y="3972"/>
                  </a:lnTo>
                  <a:lnTo>
                    <a:pt x="63290" y="6000"/>
                  </a:lnTo>
                  <a:lnTo>
                    <a:pt x="58053" y="13746"/>
                  </a:lnTo>
                  <a:lnTo>
                    <a:pt x="55847" y="17596"/>
                  </a:lnTo>
                  <a:lnTo>
                    <a:pt x="53531" y="21856"/>
                  </a:lnTo>
                  <a:lnTo>
                    <a:pt x="51140" y="25543"/>
                  </a:lnTo>
                  <a:lnTo>
                    <a:pt x="46225" y="31897"/>
                  </a:lnTo>
                  <a:lnTo>
                    <a:pt x="43729" y="35623"/>
                  </a:lnTo>
                  <a:lnTo>
                    <a:pt x="41218" y="39801"/>
                  </a:lnTo>
                  <a:lnTo>
                    <a:pt x="38697" y="44279"/>
                  </a:lnTo>
                  <a:lnTo>
                    <a:pt x="36171" y="49805"/>
                  </a:lnTo>
                  <a:lnTo>
                    <a:pt x="33639" y="56029"/>
                  </a:lnTo>
                  <a:lnTo>
                    <a:pt x="31105" y="62718"/>
                  </a:lnTo>
                  <a:lnTo>
                    <a:pt x="27723" y="68870"/>
                  </a:lnTo>
                  <a:lnTo>
                    <a:pt x="23774" y="74666"/>
                  </a:lnTo>
                  <a:lnTo>
                    <a:pt x="19449" y="80223"/>
                  </a:lnTo>
                  <a:lnTo>
                    <a:pt x="15717" y="86467"/>
                  </a:lnTo>
                  <a:lnTo>
                    <a:pt x="12385" y="93170"/>
                  </a:lnTo>
                  <a:lnTo>
                    <a:pt x="6422" y="106545"/>
                  </a:lnTo>
                  <a:lnTo>
                    <a:pt x="951" y="118133"/>
                  </a:lnTo>
                  <a:lnTo>
                    <a:pt x="0" y="124441"/>
                  </a:lnTo>
                  <a:lnTo>
                    <a:pt x="211" y="131186"/>
                  </a:lnTo>
                  <a:lnTo>
                    <a:pt x="1200" y="138223"/>
                  </a:lnTo>
                  <a:lnTo>
                    <a:pt x="2706" y="144607"/>
                  </a:lnTo>
                  <a:lnTo>
                    <a:pt x="4557" y="150557"/>
                  </a:lnTo>
                  <a:lnTo>
                    <a:pt x="6636" y="156217"/>
                  </a:lnTo>
                  <a:lnTo>
                    <a:pt x="9717" y="161683"/>
                  </a:lnTo>
                  <a:lnTo>
                    <a:pt x="13464" y="167021"/>
                  </a:lnTo>
                  <a:lnTo>
                    <a:pt x="17654" y="172272"/>
                  </a:lnTo>
                  <a:lnTo>
                    <a:pt x="22142" y="177467"/>
                  </a:lnTo>
                  <a:lnTo>
                    <a:pt x="26827" y="182623"/>
                  </a:lnTo>
                  <a:lnTo>
                    <a:pt x="31644" y="187754"/>
                  </a:lnTo>
                  <a:lnTo>
                    <a:pt x="36548" y="192021"/>
                  </a:lnTo>
                  <a:lnTo>
                    <a:pt x="41511" y="195713"/>
                  </a:lnTo>
                  <a:lnTo>
                    <a:pt x="46513" y="199021"/>
                  </a:lnTo>
                  <a:lnTo>
                    <a:pt x="51541" y="202073"/>
                  </a:lnTo>
                  <a:lnTo>
                    <a:pt x="56587" y="204954"/>
                  </a:lnTo>
                  <a:lnTo>
                    <a:pt x="66707" y="210413"/>
                  </a:lnTo>
                  <a:lnTo>
                    <a:pt x="76851" y="215661"/>
                  </a:lnTo>
                  <a:lnTo>
                    <a:pt x="82773" y="217400"/>
                  </a:lnTo>
                  <a:lnTo>
                    <a:pt x="89261" y="218559"/>
                  </a:lnTo>
                  <a:lnTo>
                    <a:pt x="96126" y="219331"/>
                  </a:lnTo>
                  <a:lnTo>
                    <a:pt x="103244" y="219000"/>
                  </a:lnTo>
                  <a:lnTo>
                    <a:pt x="110528" y="217931"/>
                  </a:lnTo>
                  <a:lnTo>
                    <a:pt x="117924" y="216373"/>
                  </a:lnTo>
                  <a:lnTo>
                    <a:pt x="124548" y="214487"/>
                  </a:lnTo>
                  <a:lnTo>
                    <a:pt x="130658" y="212384"/>
                  </a:lnTo>
                  <a:lnTo>
                    <a:pt x="136424" y="210134"/>
                  </a:lnTo>
                  <a:lnTo>
                    <a:pt x="141962" y="207788"/>
                  </a:lnTo>
                  <a:lnTo>
                    <a:pt x="152630" y="202924"/>
                  </a:lnTo>
                  <a:lnTo>
                    <a:pt x="156999" y="199595"/>
                  </a:lnTo>
                  <a:lnTo>
                    <a:pt x="160759" y="195682"/>
                  </a:lnTo>
                  <a:lnTo>
                    <a:pt x="164111" y="191380"/>
                  </a:lnTo>
                  <a:lnTo>
                    <a:pt x="167193" y="185972"/>
                  </a:lnTo>
                  <a:lnTo>
                    <a:pt x="170094" y="179826"/>
                  </a:lnTo>
                  <a:lnTo>
                    <a:pt x="172875" y="173190"/>
                  </a:lnTo>
                  <a:lnTo>
                    <a:pt x="174728" y="167072"/>
                  </a:lnTo>
                  <a:lnTo>
                    <a:pt x="175965" y="161300"/>
                  </a:lnTo>
                  <a:lnTo>
                    <a:pt x="176789" y="155759"/>
                  </a:lnTo>
                  <a:lnTo>
                    <a:pt x="176491" y="150371"/>
                  </a:lnTo>
                  <a:lnTo>
                    <a:pt x="175446" y="145086"/>
                  </a:lnTo>
                  <a:lnTo>
                    <a:pt x="173903" y="139870"/>
                  </a:lnTo>
                  <a:lnTo>
                    <a:pt x="171181" y="134698"/>
                  </a:lnTo>
                  <a:lnTo>
                    <a:pt x="167673" y="129558"/>
                  </a:lnTo>
                  <a:lnTo>
                    <a:pt x="163641" y="124437"/>
                  </a:lnTo>
                  <a:lnTo>
                    <a:pt x="160106" y="119330"/>
                  </a:lnTo>
                  <a:lnTo>
                    <a:pt x="156903" y="114232"/>
                  </a:lnTo>
                  <a:lnTo>
                    <a:pt x="153920" y="109140"/>
                  </a:lnTo>
                  <a:lnTo>
                    <a:pt x="150239" y="104052"/>
                  </a:lnTo>
                  <a:lnTo>
                    <a:pt x="146093" y="98967"/>
                  </a:lnTo>
                  <a:lnTo>
                    <a:pt x="141633" y="93883"/>
                  </a:lnTo>
                  <a:lnTo>
                    <a:pt x="136968" y="89648"/>
                  </a:lnTo>
                  <a:lnTo>
                    <a:pt x="132164" y="85977"/>
                  </a:lnTo>
                  <a:lnTo>
                    <a:pt x="127269" y="82683"/>
                  </a:lnTo>
                  <a:lnTo>
                    <a:pt x="122311" y="79641"/>
                  </a:lnTo>
                  <a:lnTo>
                    <a:pt x="117313" y="76766"/>
                  </a:lnTo>
                  <a:lnTo>
                    <a:pt x="112287" y="74003"/>
                  </a:lnTo>
                  <a:lnTo>
                    <a:pt x="108091" y="72161"/>
                  </a:lnTo>
                  <a:lnTo>
                    <a:pt x="104446" y="70932"/>
                  </a:lnTo>
                  <a:lnTo>
                    <a:pt x="94617" y="6847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SMARTInkAnnotation413"/>
            <p:cNvSpPr/>
            <p:nvPr/>
          </p:nvSpPr>
          <p:spPr>
            <a:xfrm>
              <a:off x="2271240" y="1584360"/>
              <a:ext cx="7560" cy="198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7621" h="198121">
                  <a:moveTo>
                    <a:pt x="7620" y="0"/>
                  </a:moveTo>
                  <a:lnTo>
                    <a:pt x="7620" y="66154"/>
                  </a:lnTo>
                  <a:lnTo>
                    <a:pt x="6773" y="72043"/>
                  </a:lnTo>
                  <a:lnTo>
                    <a:pt x="5362" y="78508"/>
                  </a:lnTo>
                  <a:lnTo>
                    <a:pt x="3575" y="85359"/>
                  </a:lnTo>
                  <a:lnTo>
                    <a:pt x="2383" y="91619"/>
                  </a:lnTo>
                  <a:lnTo>
                    <a:pt x="1589" y="97486"/>
                  </a:lnTo>
                  <a:lnTo>
                    <a:pt x="1059" y="103091"/>
                  </a:lnTo>
                  <a:lnTo>
                    <a:pt x="706" y="108521"/>
                  </a:lnTo>
                  <a:lnTo>
                    <a:pt x="471" y="113834"/>
                  </a:lnTo>
                  <a:lnTo>
                    <a:pt x="210" y="124253"/>
                  </a:lnTo>
                  <a:lnTo>
                    <a:pt x="0" y="192908"/>
                  </a:lnTo>
                  <a:lnTo>
                    <a:pt x="847" y="194645"/>
                  </a:lnTo>
                  <a:lnTo>
                    <a:pt x="2258" y="195803"/>
                  </a:lnTo>
                  <a:lnTo>
                    <a:pt x="7620" y="198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SMARTInkAnnotation414"/>
            <p:cNvSpPr/>
            <p:nvPr/>
          </p:nvSpPr>
          <p:spPr>
            <a:xfrm>
              <a:off x="2126520" y="1698480"/>
              <a:ext cx="297000" cy="1512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97181" h="15213">
                  <a:moveTo>
                    <a:pt x="0" y="15212"/>
                  </a:moveTo>
                  <a:lnTo>
                    <a:pt x="40090" y="15212"/>
                  </a:lnTo>
                  <a:lnTo>
                    <a:pt x="47047" y="14365"/>
                  </a:lnTo>
                  <a:lnTo>
                    <a:pt x="54225" y="12954"/>
                  </a:lnTo>
                  <a:lnTo>
                    <a:pt x="61550" y="11167"/>
                  </a:lnTo>
                  <a:lnTo>
                    <a:pt x="69820" y="9975"/>
                  </a:lnTo>
                  <a:lnTo>
                    <a:pt x="78720" y="9181"/>
                  </a:lnTo>
                  <a:lnTo>
                    <a:pt x="88040" y="8651"/>
                  </a:lnTo>
                  <a:lnTo>
                    <a:pt x="109685" y="8063"/>
                  </a:lnTo>
                  <a:lnTo>
                    <a:pt x="121383" y="7906"/>
                  </a:lnTo>
                  <a:lnTo>
                    <a:pt x="133415" y="6955"/>
                  </a:lnTo>
                  <a:lnTo>
                    <a:pt x="145670" y="5474"/>
                  </a:lnTo>
                  <a:lnTo>
                    <a:pt x="158074" y="3640"/>
                  </a:lnTo>
                  <a:lnTo>
                    <a:pt x="169729" y="2417"/>
                  </a:lnTo>
                  <a:lnTo>
                    <a:pt x="180886" y="1602"/>
                  </a:lnTo>
                  <a:lnTo>
                    <a:pt x="191711" y="1059"/>
                  </a:lnTo>
                  <a:lnTo>
                    <a:pt x="212769" y="455"/>
                  </a:lnTo>
                  <a:lnTo>
                    <a:pt x="269795" y="0"/>
                  </a:lnTo>
                  <a:lnTo>
                    <a:pt x="275536" y="838"/>
                  </a:lnTo>
                  <a:lnTo>
                    <a:pt x="281058" y="2242"/>
                  </a:lnTo>
                  <a:lnTo>
                    <a:pt x="297180" y="75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SMARTInkAnnotation415"/>
            <p:cNvSpPr/>
            <p:nvPr/>
          </p:nvSpPr>
          <p:spPr>
            <a:xfrm>
              <a:off x="2073240" y="3886200"/>
              <a:ext cx="373320" cy="756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373381" h="7621">
                  <a:moveTo>
                    <a:pt x="0" y="7620"/>
                  </a:moveTo>
                  <a:lnTo>
                    <a:pt x="25505" y="7620"/>
                  </a:lnTo>
                  <a:lnTo>
                    <a:pt x="28857" y="6774"/>
                  </a:lnTo>
                  <a:lnTo>
                    <a:pt x="32785" y="5362"/>
                  </a:lnTo>
                  <a:lnTo>
                    <a:pt x="37097" y="3575"/>
                  </a:lnTo>
                  <a:lnTo>
                    <a:pt x="41665" y="2383"/>
                  </a:lnTo>
                  <a:lnTo>
                    <a:pt x="46403" y="1589"/>
                  </a:lnTo>
                  <a:lnTo>
                    <a:pt x="51256" y="1059"/>
                  </a:lnTo>
                  <a:lnTo>
                    <a:pt x="57030" y="706"/>
                  </a:lnTo>
                  <a:lnTo>
                    <a:pt x="70220" y="314"/>
                  </a:lnTo>
                  <a:lnTo>
                    <a:pt x="135636" y="12"/>
                  </a:lnTo>
                  <a:lnTo>
                    <a:pt x="231246" y="0"/>
                  </a:lnTo>
                  <a:lnTo>
                    <a:pt x="240524" y="847"/>
                  </a:lnTo>
                  <a:lnTo>
                    <a:pt x="249250" y="2258"/>
                  </a:lnTo>
                  <a:lnTo>
                    <a:pt x="257607" y="4045"/>
                  </a:lnTo>
                  <a:lnTo>
                    <a:pt x="265718" y="5237"/>
                  </a:lnTo>
                  <a:lnTo>
                    <a:pt x="273665" y="6031"/>
                  </a:lnTo>
                  <a:lnTo>
                    <a:pt x="281504" y="6561"/>
                  </a:lnTo>
                  <a:lnTo>
                    <a:pt x="289269" y="6914"/>
                  </a:lnTo>
                  <a:lnTo>
                    <a:pt x="304671" y="7306"/>
                  </a:lnTo>
                  <a:lnTo>
                    <a:pt x="348059" y="7608"/>
                  </a:lnTo>
                  <a:lnTo>
                    <a:pt x="351419" y="7612"/>
                  </a:lnTo>
                  <a:lnTo>
                    <a:pt x="354507" y="6768"/>
                  </a:lnTo>
                  <a:lnTo>
                    <a:pt x="357411" y="5359"/>
                  </a:lnTo>
                  <a:lnTo>
                    <a:pt x="364111" y="1058"/>
                  </a:lnTo>
                  <a:lnTo>
                    <a:pt x="365508" y="706"/>
                  </a:lnTo>
                  <a:lnTo>
                    <a:pt x="367285" y="471"/>
                  </a:lnTo>
                  <a:lnTo>
                    <a:pt x="37338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SMARTInkAnnotation416"/>
            <p:cNvSpPr/>
            <p:nvPr/>
          </p:nvSpPr>
          <p:spPr>
            <a:xfrm>
              <a:off x="3741840" y="4069800"/>
              <a:ext cx="357840" cy="18216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358108" h="182352">
                  <a:moveTo>
                    <a:pt x="38067" y="68186"/>
                  </a:moveTo>
                  <a:lnTo>
                    <a:pt x="38067" y="79758"/>
                  </a:lnTo>
                  <a:lnTo>
                    <a:pt x="38913" y="81828"/>
                  </a:lnTo>
                  <a:lnTo>
                    <a:pt x="42111" y="86384"/>
                  </a:lnTo>
                  <a:lnTo>
                    <a:pt x="44098" y="91232"/>
                  </a:lnTo>
                  <a:lnTo>
                    <a:pt x="44628" y="93710"/>
                  </a:lnTo>
                  <a:lnTo>
                    <a:pt x="44981" y="97055"/>
                  </a:lnTo>
                  <a:lnTo>
                    <a:pt x="45216" y="100979"/>
                  </a:lnTo>
                  <a:lnTo>
                    <a:pt x="45373" y="105288"/>
                  </a:lnTo>
                  <a:lnTo>
                    <a:pt x="44631" y="109007"/>
                  </a:lnTo>
                  <a:lnTo>
                    <a:pt x="43290" y="112334"/>
                  </a:lnTo>
                  <a:lnTo>
                    <a:pt x="41549" y="115397"/>
                  </a:lnTo>
                  <a:lnTo>
                    <a:pt x="40388" y="119134"/>
                  </a:lnTo>
                  <a:lnTo>
                    <a:pt x="39614" y="123317"/>
                  </a:lnTo>
                  <a:lnTo>
                    <a:pt x="39098" y="127800"/>
                  </a:lnTo>
                  <a:lnTo>
                    <a:pt x="37908" y="131635"/>
                  </a:lnTo>
                  <a:lnTo>
                    <a:pt x="36268" y="135039"/>
                  </a:lnTo>
                  <a:lnTo>
                    <a:pt x="34327" y="138155"/>
                  </a:lnTo>
                  <a:lnTo>
                    <a:pt x="32187" y="141925"/>
                  </a:lnTo>
                  <a:lnTo>
                    <a:pt x="27551" y="150630"/>
                  </a:lnTo>
                  <a:lnTo>
                    <a:pt x="25977" y="154476"/>
                  </a:lnTo>
                  <a:lnTo>
                    <a:pt x="24926" y="157885"/>
                  </a:lnTo>
                  <a:lnTo>
                    <a:pt x="24227" y="161006"/>
                  </a:lnTo>
                  <a:lnTo>
                    <a:pt x="22067" y="163932"/>
                  </a:lnTo>
                  <a:lnTo>
                    <a:pt x="15151" y="169442"/>
                  </a:lnTo>
                  <a:lnTo>
                    <a:pt x="12629" y="172097"/>
                  </a:lnTo>
                  <a:lnTo>
                    <a:pt x="10949" y="174713"/>
                  </a:lnTo>
                  <a:lnTo>
                    <a:pt x="9828" y="177304"/>
                  </a:lnTo>
                  <a:lnTo>
                    <a:pt x="8234" y="179031"/>
                  </a:lnTo>
                  <a:lnTo>
                    <a:pt x="6325" y="180183"/>
                  </a:lnTo>
                  <a:lnTo>
                    <a:pt x="339" y="182351"/>
                  </a:lnTo>
                  <a:lnTo>
                    <a:pt x="77" y="178401"/>
                  </a:lnTo>
                  <a:lnTo>
                    <a:pt x="0" y="171868"/>
                  </a:lnTo>
                  <a:lnTo>
                    <a:pt x="835" y="168634"/>
                  </a:lnTo>
                  <a:lnTo>
                    <a:pt x="2239" y="164785"/>
                  </a:lnTo>
                  <a:lnTo>
                    <a:pt x="4022" y="160526"/>
                  </a:lnTo>
                  <a:lnTo>
                    <a:pt x="6057" y="155992"/>
                  </a:lnTo>
                  <a:lnTo>
                    <a:pt x="10576" y="146440"/>
                  </a:lnTo>
                  <a:lnTo>
                    <a:pt x="13813" y="140675"/>
                  </a:lnTo>
                  <a:lnTo>
                    <a:pt x="17664" y="134292"/>
                  </a:lnTo>
                  <a:lnTo>
                    <a:pt x="21925" y="127497"/>
                  </a:lnTo>
                  <a:lnTo>
                    <a:pt x="25612" y="121273"/>
                  </a:lnTo>
                  <a:lnTo>
                    <a:pt x="28917" y="115431"/>
                  </a:lnTo>
                  <a:lnTo>
                    <a:pt x="31967" y="109843"/>
                  </a:lnTo>
                  <a:lnTo>
                    <a:pt x="36540" y="103577"/>
                  </a:lnTo>
                  <a:lnTo>
                    <a:pt x="42129" y="96860"/>
                  </a:lnTo>
                  <a:lnTo>
                    <a:pt x="48395" y="89842"/>
                  </a:lnTo>
                  <a:lnTo>
                    <a:pt x="54266" y="82623"/>
                  </a:lnTo>
                  <a:lnTo>
                    <a:pt x="59873" y="75271"/>
                  </a:lnTo>
                  <a:lnTo>
                    <a:pt x="65304" y="67829"/>
                  </a:lnTo>
                  <a:lnTo>
                    <a:pt x="71465" y="61175"/>
                  </a:lnTo>
                  <a:lnTo>
                    <a:pt x="78112" y="55046"/>
                  </a:lnTo>
                  <a:lnTo>
                    <a:pt x="85084" y="49266"/>
                  </a:lnTo>
                  <a:lnTo>
                    <a:pt x="91425" y="43719"/>
                  </a:lnTo>
                  <a:lnTo>
                    <a:pt x="97345" y="38328"/>
                  </a:lnTo>
                  <a:lnTo>
                    <a:pt x="102986" y="33041"/>
                  </a:lnTo>
                  <a:lnTo>
                    <a:pt x="108440" y="28669"/>
                  </a:lnTo>
                  <a:lnTo>
                    <a:pt x="113769" y="24908"/>
                  </a:lnTo>
                  <a:lnTo>
                    <a:pt x="119015" y="21554"/>
                  </a:lnTo>
                  <a:lnTo>
                    <a:pt x="123359" y="18471"/>
                  </a:lnTo>
                  <a:lnTo>
                    <a:pt x="130444" y="12788"/>
                  </a:lnTo>
                  <a:lnTo>
                    <a:pt x="134364" y="10934"/>
                  </a:lnTo>
                  <a:lnTo>
                    <a:pt x="143237" y="8874"/>
                  </a:lnTo>
                  <a:lnTo>
                    <a:pt x="153707" y="7714"/>
                  </a:lnTo>
                  <a:lnTo>
                    <a:pt x="164829" y="7322"/>
                  </a:lnTo>
                  <a:lnTo>
                    <a:pt x="170041" y="7269"/>
                  </a:lnTo>
                  <a:lnTo>
                    <a:pt x="171770" y="8101"/>
                  </a:lnTo>
                  <a:lnTo>
                    <a:pt x="172922" y="9503"/>
                  </a:lnTo>
                  <a:lnTo>
                    <a:pt x="173690" y="11284"/>
                  </a:lnTo>
                  <a:lnTo>
                    <a:pt x="174203" y="14165"/>
                  </a:lnTo>
                  <a:lnTo>
                    <a:pt x="174544" y="17778"/>
                  </a:lnTo>
                  <a:lnTo>
                    <a:pt x="174771" y="21881"/>
                  </a:lnTo>
                  <a:lnTo>
                    <a:pt x="174077" y="26309"/>
                  </a:lnTo>
                  <a:lnTo>
                    <a:pt x="172767" y="30955"/>
                  </a:lnTo>
                  <a:lnTo>
                    <a:pt x="171047" y="35745"/>
                  </a:lnTo>
                  <a:lnTo>
                    <a:pt x="169901" y="40632"/>
                  </a:lnTo>
                  <a:lnTo>
                    <a:pt x="169136" y="45584"/>
                  </a:lnTo>
                  <a:lnTo>
                    <a:pt x="168626" y="50578"/>
                  </a:lnTo>
                  <a:lnTo>
                    <a:pt x="167439" y="55600"/>
                  </a:lnTo>
                  <a:lnTo>
                    <a:pt x="165802" y="60642"/>
                  </a:lnTo>
                  <a:lnTo>
                    <a:pt x="163864" y="65697"/>
                  </a:lnTo>
                  <a:lnTo>
                    <a:pt x="161724" y="70760"/>
                  </a:lnTo>
                  <a:lnTo>
                    <a:pt x="159452" y="75829"/>
                  </a:lnTo>
                  <a:lnTo>
                    <a:pt x="157090" y="80901"/>
                  </a:lnTo>
                  <a:lnTo>
                    <a:pt x="154669" y="85130"/>
                  </a:lnTo>
                  <a:lnTo>
                    <a:pt x="152209" y="88795"/>
                  </a:lnTo>
                  <a:lnTo>
                    <a:pt x="149722" y="92086"/>
                  </a:lnTo>
                  <a:lnTo>
                    <a:pt x="148063" y="95126"/>
                  </a:lnTo>
                  <a:lnTo>
                    <a:pt x="146221" y="100761"/>
                  </a:lnTo>
                  <a:lnTo>
                    <a:pt x="145402" y="106088"/>
                  </a:lnTo>
                  <a:lnTo>
                    <a:pt x="144758" y="113770"/>
                  </a:lnTo>
                  <a:lnTo>
                    <a:pt x="148795" y="109821"/>
                  </a:lnTo>
                  <a:lnTo>
                    <a:pt x="150832" y="106949"/>
                  </a:lnTo>
                  <a:lnTo>
                    <a:pt x="153038" y="103341"/>
                  </a:lnTo>
                  <a:lnTo>
                    <a:pt x="155354" y="99242"/>
                  </a:lnTo>
                  <a:lnTo>
                    <a:pt x="158592" y="94818"/>
                  </a:lnTo>
                  <a:lnTo>
                    <a:pt x="162444" y="90173"/>
                  </a:lnTo>
                  <a:lnTo>
                    <a:pt x="166705" y="85384"/>
                  </a:lnTo>
                  <a:lnTo>
                    <a:pt x="170392" y="80498"/>
                  </a:lnTo>
                  <a:lnTo>
                    <a:pt x="173697" y="75547"/>
                  </a:lnTo>
                  <a:lnTo>
                    <a:pt x="176747" y="70554"/>
                  </a:lnTo>
                  <a:lnTo>
                    <a:pt x="181320" y="64685"/>
                  </a:lnTo>
                  <a:lnTo>
                    <a:pt x="186909" y="58231"/>
                  </a:lnTo>
                  <a:lnTo>
                    <a:pt x="199046" y="45135"/>
                  </a:lnTo>
                  <a:lnTo>
                    <a:pt x="210084" y="33670"/>
                  </a:lnTo>
                  <a:lnTo>
                    <a:pt x="214552" y="28242"/>
                  </a:lnTo>
                  <a:lnTo>
                    <a:pt x="218377" y="22930"/>
                  </a:lnTo>
                  <a:lnTo>
                    <a:pt x="221773" y="17695"/>
                  </a:lnTo>
                  <a:lnTo>
                    <a:pt x="226577" y="14205"/>
                  </a:lnTo>
                  <a:lnTo>
                    <a:pt x="232321" y="11879"/>
                  </a:lnTo>
                  <a:lnTo>
                    <a:pt x="238690" y="10328"/>
                  </a:lnTo>
                  <a:lnTo>
                    <a:pt x="248024" y="6347"/>
                  </a:lnTo>
                  <a:lnTo>
                    <a:pt x="251698" y="4100"/>
                  </a:lnTo>
                  <a:lnTo>
                    <a:pt x="260296" y="1603"/>
                  </a:lnTo>
                  <a:lnTo>
                    <a:pt x="269762" y="494"/>
                  </a:lnTo>
                  <a:lnTo>
                    <a:pt x="279613" y="0"/>
                  </a:lnTo>
                  <a:lnTo>
                    <a:pt x="289637" y="2039"/>
                  </a:lnTo>
                  <a:lnTo>
                    <a:pt x="298889" y="5768"/>
                  </a:lnTo>
                  <a:lnTo>
                    <a:pt x="305823" y="10247"/>
                  </a:lnTo>
                  <a:lnTo>
                    <a:pt x="311728" y="15060"/>
                  </a:lnTo>
                  <a:lnTo>
                    <a:pt x="314487" y="17528"/>
                  </a:lnTo>
                  <a:lnTo>
                    <a:pt x="317174" y="20867"/>
                  </a:lnTo>
                  <a:lnTo>
                    <a:pt x="319812" y="24787"/>
                  </a:lnTo>
                  <a:lnTo>
                    <a:pt x="322417" y="29094"/>
                  </a:lnTo>
                  <a:lnTo>
                    <a:pt x="325000" y="34504"/>
                  </a:lnTo>
                  <a:lnTo>
                    <a:pt x="327569" y="40651"/>
                  </a:lnTo>
                  <a:lnTo>
                    <a:pt x="330128" y="47289"/>
                  </a:lnTo>
                  <a:lnTo>
                    <a:pt x="332681" y="53408"/>
                  </a:lnTo>
                  <a:lnTo>
                    <a:pt x="335230" y="59181"/>
                  </a:lnTo>
                  <a:lnTo>
                    <a:pt x="337776" y="64722"/>
                  </a:lnTo>
                  <a:lnTo>
                    <a:pt x="339473" y="70111"/>
                  </a:lnTo>
                  <a:lnTo>
                    <a:pt x="340604" y="75395"/>
                  </a:lnTo>
                  <a:lnTo>
                    <a:pt x="341358" y="80612"/>
                  </a:lnTo>
                  <a:lnTo>
                    <a:pt x="342708" y="86630"/>
                  </a:lnTo>
                  <a:lnTo>
                    <a:pt x="344455" y="93182"/>
                  </a:lnTo>
                  <a:lnTo>
                    <a:pt x="346465" y="100090"/>
                  </a:lnTo>
                  <a:lnTo>
                    <a:pt x="347806" y="106389"/>
                  </a:lnTo>
                  <a:lnTo>
                    <a:pt x="348699" y="112281"/>
                  </a:lnTo>
                  <a:lnTo>
                    <a:pt x="349295" y="117903"/>
                  </a:lnTo>
                  <a:lnTo>
                    <a:pt x="349693" y="122497"/>
                  </a:lnTo>
                  <a:lnTo>
                    <a:pt x="349957" y="126407"/>
                  </a:lnTo>
                  <a:lnTo>
                    <a:pt x="350252" y="133009"/>
                  </a:lnTo>
                  <a:lnTo>
                    <a:pt x="350383" y="138765"/>
                  </a:lnTo>
                  <a:lnTo>
                    <a:pt x="351263" y="141485"/>
                  </a:lnTo>
                  <a:lnTo>
                    <a:pt x="354501" y="146765"/>
                  </a:lnTo>
                  <a:lnTo>
                    <a:pt x="358107" y="15200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SMARTInkAnnotation417"/>
            <p:cNvSpPr/>
            <p:nvPr/>
          </p:nvSpPr>
          <p:spPr>
            <a:xfrm>
              <a:off x="4199040" y="4183560"/>
              <a:ext cx="198000" cy="226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98122" h="22861">
                  <a:moveTo>
                    <a:pt x="0" y="22860"/>
                  </a:moveTo>
                  <a:lnTo>
                    <a:pt x="4045" y="22860"/>
                  </a:lnTo>
                  <a:lnTo>
                    <a:pt x="5237" y="22014"/>
                  </a:lnTo>
                  <a:lnTo>
                    <a:pt x="6032" y="20603"/>
                  </a:lnTo>
                  <a:lnTo>
                    <a:pt x="6561" y="18815"/>
                  </a:lnTo>
                  <a:lnTo>
                    <a:pt x="8608" y="17623"/>
                  </a:lnTo>
                  <a:lnTo>
                    <a:pt x="11665" y="16829"/>
                  </a:lnTo>
                  <a:lnTo>
                    <a:pt x="15397" y="16299"/>
                  </a:lnTo>
                  <a:lnTo>
                    <a:pt x="19578" y="15946"/>
                  </a:lnTo>
                  <a:lnTo>
                    <a:pt x="24059" y="15711"/>
                  </a:lnTo>
                  <a:lnTo>
                    <a:pt x="33553" y="15449"/>
                  </a:lnTo>
                  <a:lnTo>
                    <a:pt x="43417" y="15333"/>
                  </a:lnTo>
                  <a:lnTo>
                    <a:pt x="49265" y="14455"/>
                  </a:lnTo>
                  <a:lnTo>
                    <a:pt x="55703" y="13024"/>
                  </a:lnTo>
                  <a:lnTo>
                    <a:pt x="62535" y="11222"/>
                  </a:lnTo>
                  <a:lnTo>
                    <a:pt x="69631" y="10022"/>
                  </a:lnTo>
                  <a:lnTo>
                    <a:pt x="76900" y="9221"/>
                  </a:lnTo>
                  <a:lnTo>
                    <a:pt x="84288" y="8687"/>
                  </a:lnTo>
                  <a:lnTo>
                    <a:pt x="91751" y="8332"/>
                  </a:lnTo>
                  <a:lnTo>
                    <a:pt x="106818" y="7936"/>
                  </a:lnTo>
                  <a:lnTo>
                    <a:pt x="180209" y="7622"/>
                  </a:lnTo>
                  <a:lnTo>
                    <a:pt x="184487" y="6775"/>
                  </a:lnTo>
                  <a:lnTo>
                    <a:pt x="188184" y="5364"/>
                  </a:lnTo>
                  <a:lnTo>
                    <a:pt x="198121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SMARTInkAnnotation418"/>
            <p:cNvSpPr/>
            <p:nvPr/>
          </p:nvSpPr>
          <p:spPr>
            <a:xfrm>
              <a:off x="4564800" y="4031280"/>
              <a:ext cx="22680" cy="2055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22859" h="205741">
                  <a:moveTo>
                    <a:pt x="22858" y="0"/>
                  </a:moveTo>
                  <a:lnTo>
                    <a:pt x="18468" y="0"/>
                  </a:lnTo>
                  <a:lnTo>
                    <a:pt x="22113" y="0"/>
                  </a:lnTo>
                  <a:lnTo>
                    <a:pt x="22527" y="4516"/>
                  </a:lnTo>
                  <a:lnTo>
                    <a:pt x="22637" y="8091"/>
                  </a:lnTo>
                  <a:lnTo>
                    <a:pt x="21864" y="11320"/>
                  </a:lnTo>
                  <a:lnTo>
                    <a:pt x="20502" y="14320"/>
                  </a:lnTo>
                  <a:lnTo>
                    <a:pt x="18747" y="17167"/>
                  </a:lnTo>
                  <a:lnTo>
                    <a:pt x="17577" y="20758"/>
                  </a:lnTo>
                  <a:lnTo>
                    <a:pt x="16798" y="24845"/>
                  </a:lnTo>
                  <a:lnTo>
                    <a:pt x="16278" y="29263"/>
                  </a:lnTo>
                  <a:lnTo>
                    <a:pt x="15931" y="33902"/>
                  </a:lnTo>
                  <a:lnTo>
                    <a:pt x="15700" y="38688"/>
                  </a:lnTo>
                  <a:lnTo>
                    <a:pt x="15546" y="43572"/>
                  </a:lnTo>
                  <a:lnTo>
                    <a:pt x="14597" y="48522"/>
                  </a:lnTo>
                  <a:lnTo>
                    <a:pt x="13117" y="53514"/>
                  </a:lnTo>
                  <a:lnTo>
                    <a:pt x="11284" y="58536"/>
                  </a:lnTo>
                  <a:lnTo>
                    <a:pt x="10062" y="63577"/>
                  </a:lnTo>
                  <a:lnTo>
                    <a:pt x="9247" y="68632"/>
                  </a:lnTo>
                  <a:lnTo>
                    <a:pt x="8704" y="73695"/>
                  </a:lnTo>
                  <a:lnTo>
                    <a:pt x="7495" y="79609"/>
                  </a:lnTo>
                  <a:lnTo>
                    <a:pt x="5842" y="86093"/>
                  </a:lnTo>
                  <a:lnTo>
                    <a:pt x="3894" y="92955"/>
                  </a:lnTo>
                  <a:lnTo>
                    <a:pt x="2595" y="99224"/>
                  </a:lnTo>
                  <a:lnTo>
                    <a:pt x="1730" y="105096"/>
                  </a:lnTo>
                  <a:lnTo>
                    <a:pt x="1152" y="110704"/>
                  </a:lnTo>
                  <a:lnTo>
                    <a:pt x="767" y="116983"/>
                  </a:lnTo>
                  <a:lnTo>
                    <a:pt x="339" y="130733"/>
                  </a:lnTo>
                  <a:lnTo>
                    <a:pt x="42" y="159508"/>
                  </a:lnTo>
                  <a:lnTo>
                    <a:pt x="0" y="188990"/>
                  </a:lnTo>
                  <a:lnTo>
                    <a:pt x="846" y="192033"/>
                  </a:lnTo>
                  <a:lnTo>
                    <a:pt x="2256" y="194062"/>
                  </a:lnTo>
                  <a:lnTo>
                    <a:pt x="4044" y="195415"/>
                  </a:lnTo>
                  <a:lnTo>
                    <a:pt x="5235" y="197163"/>
                  </a:lnTo>
                  <a:lnTo>
                    <a:pt x="6030" y="199175"/>
                  </a:lnTo>
                  <a:lnTo>
                    <a:pt x="7618" y="2057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SMARTInkAnnotation419"/>
            <p:cNvSpPr/>
            <p:nvPr/>
          </p:nvSpPr>
          <p:spPr>
            <a:xfrm>
              <a:off x="4732200" y="4023720"/>
              <a:ext cx="242280" cy="26640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242293" h="266357">
                  <a:moveTo>
                    <a:pt x="0" y="7276"/>
                  </a:moveTo>
                  <a:lnTo>
                    <a:pt x="0" y="13837"/>
                  </a:lnTo>
                  <a:lnTo>
                    <a:pt x="847" y="14190"/>
                  </a:lnTo>
                  <a:lnTo>
                    <a:pt x="4045" y="14582"/>
                  </a:lnTo>
                  <a:lnTo>
                    <a:pt x="6084" y="15533"/>
                  </a:lnTo>
                  <a:lnTo>
                    <a:pt x="12997" y="20071"/>
                  </a:lnTo>
                  <a:lnTo>
                    <a:pt x="17912" y="21429"/>
                  </a:lnTo>
                  <a:lnTo>
                    <a:pt x="22102" y="21791"/>
                  </a:lnTo>
                  <a:lnTo>
                    <a:pt x="27435" y="22033"/>
                  </a:lnTo>
                  <a:lnTo>
                    <a:pt x="44818" y="22373"/>
                  </a:lnTo>
                  <a:lnTo>
                    <a:pt x="151283" y="22515"/>
                  </a:lnTo>
                  <a:lnTo>
                    <a:pt x="159275" y="21668"/>
                  </a:lnTo>
                  <a:lnTo>
                    <a:pt x="167144" y="20258"/>
                  </a:lnTo>
                  <a:lnTo>
                    <a:pt x="174929" y="18471"/>
                  </a:lnTo>
                  <a:lnTo>
                    <a:pt x="181813" y="17279"/>
                  </a:lnTo>
                  <a:lnTo>
                    <a:pt x="188095" y="16485"/>
                  </a:lnTo>
                  <a:lnTo>
                    <a:pt x="193977" y="15955"/>
                  </a:lnTo>
                  <a:lnTo>
                    <a:pt x="199591" y="14756"/>
                  </a:lnTo>
                  <a:lnTo>
                    <a:pt x="205027" y="13109"/>
                  </a:lnTo>
                  <a:lnTo>
                    <a:pt x="210345" y="11164"/>
                  </a:lnTo>
                  <a:lnTo>
                    <a:pt x="214737" y="9868"/>
                  </a:lnTo>
                  <a:lnTo>
                    <a:pt x="221874" y="8428"/>
                  </a:lnTo>
                  <a:lnTo>
                    <a:pt x="227869" y="5530"/>
                  </a:lnTo>
                  <a:lnTo>
                    <a:pt x="230653" y="3572"/>
                  </a:lnTo>
                  <a:lnTo>
                    <a:pt x="236003" y="1396"/>
                  </a:lnTo>
                  <a:lnTo>
                    <a:pt x="242292" y="0"/>
                  </a:lnTo>
                  <a:lnTo>
                    <a:pt x="241961" y="732"/>
                  </a:lnTo>
                  <a:lnTo>
                    <a:pt x="239337" y="3803"/>
                  </a:lnTo>
                  <a:lnTo>
                    <a:pt x="238298" y="5807"/>
                  </a:lnTo>
                  <a:lnTo>
                    <a:pt x="237143" y="10292"/>
                  </a:lnTo>
                  <a:lnTo>
                    <a:pt x="235143" y="12673"/>
                  </a:lnTo>
                  <a:lnTo>
                    <a:pt x="228404" y="17577"/>
                  </a:lnTo>
                  <a:lnTo>
                    <a:pt x="224236" y="20070"/>
                  </a:lnTo>
                  <a:lnTo>
                    <a:pt x="219764" y="22579"/>
                  </a:lnTo>
                  <a:lnTo>
                    <a:pt x="215090" y="25098"/>
                  </a:lnTo>
                  <a:lnTo>
                    <a:pt x="210279" y="28470"/>
                  </a:lnTo>
                  <a:lnTo>
                    <a:pt x="205380" y="32412"/>
                  </a:lnTo>
                  <a:lnTo>
                    <a:pt x="200420" y="36733"/>
                  </a:lnTo>
                  <a:lnTo>
                    <a:pt x="196267" y="42154"/>
                  </a:lnTo>
                  <a:lnTo>
                    <a:pt x="192651" y="48308"/>
                  </a:lnTo>
                  <a:lnTo>
                    <a:pt x="189394" y="54951"/>
                  </a:lnTo>
                  <a:lnTo>
                    <a:pt x="184683" y="61073"/>
                  </a:lnTo>
                  <a:lnTo>
                    <a:pt x="179002" y="66847"/>
                  </a:lnTo>
                  <a:lnTo>
                    <a:pt x="172675" y="72390"/>
                  </a:lnTo>
                  <a:lnTo>
                    <a:pt x="166763" y="78625"/>
                  </a:lnTo>
                  <a:lnTo>
                    <a:pt x="161129" y="85322"/>
                  </a:lnTo>
                  <a:lnTo>
                    <a:pt x="155679" y="92327"/>
                  </a:lnTo>
                  <a:lnTo>
                    <a:pt x="150353" y="99537"/>
                  </a:lnTo>
                  <a:lnTo>
                    <a:pt x="127380" y="131616"/>
                  </a:lnTo>
                  <a:lnTo>
                    <a:pt x="120480" y="140970"/>
                  </a:lnTo>
                  <a:lnTo>
                    <a:pt x="115033" y="148898"/>
                  </a:lnTo>
                  <a:lnTo>
                    <a:pt x="110555" y="155878"/>
                  </a:lnTo>
                  <a:lnTo>
                    <a:pt x="106724" y="162224"/>
                  </a:lnTo>
                  <a:lnTo>
                    <a:pt x="103323" y="168995"/>
                  </a:lnTo>
                  <a:lnTo>
                    <a:pt x="100208" y="176049"/>
                  </a:lnTo>
                  <a:lnTo>
                    <a:pt x="97285" y="183291"/>
                  </a:lnTo>
                  <a:lnTo>
                    <a:pt x="93644" y="190660"/>
                  </a:lnTo>
                  <a:lnTo>
                    <a:pt x="89523" y="198112"/>
                  </a:lnTo>
                  <a:lnTo>
                    <a:pt x="85081" y="205620"/>
                  </a:lnTo>
                  <a:lnTo>
                    <a:pt x="82121" y="212319"/>
                  </a:lnTo>
                  <a:lnTo>
                    <a:pt x="80148" y="218478"/>
                  </a:lnTo>
                  <a:lnTo>
                    <a:pt x="78832" y="224277"/>
                  </a:lnTo>
                  <a:lnTo>
                    <a:pt x="77108" y="228990"/>
                  </a:lnTo>
                  <a:lnTo>
                    <a:pt x="72935" y="236485"/>
                  </a:lnTo>
                  <a:lnTo>
                    <a:pt x="70516" y="242638"/>
                  </a:lnTo>
                  <a:lnTo>
                    <a:pt x="69871" y="245464"/>
                  </a:lnTo>
                  <a:lnTo>
                    <a:pt x="66896" y="250862"/>
                  </a:lnTo>
                  <a:lnTo>
                    <a:pt x="64917" y="253487"/>
                  </a:lnTo>
                  <a:lnTo>
                    <a:pt x="62719" y="258661"/>
                  </a:lnTo>
                  <a:lnTo>
                    <a:pt x="60960" y="2663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SMARTInkAnnotation420"/>
            <p:cNvSpPr/>
            <p:nvPr/>
          </p:nvSpPr>
          <p:spPr>
            <a:xfrm>
              <a:off x="4740120" y="4160880"/>
              <a:ext cx="266400" cy="2268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66701" h="22861">
                  <a:moveTo>
                    <a:pt x="0" y="22860"/>
                  </a:moveTo>
                  <a:lnTo>
                    <a:pt x="190288" y="22860"/>
                  </a:lnTo>
                  <a:lnTo>
                    <a:pt x="197979" y="22014"/>
                  </a:lnTo>
                  <a:lnTo>
                    <a:pt x="205646" y="20603"/>
                  </a:lnTo>
                  <a:lnTo>
                    <a:pt x="213297" y="18816"/>
                  </a:lnTo>
                  <a:lnTo>
                    <a:pt x="220091" y="17623"/>
                  </a:lnTo>
                  <a:lnTo>
                    <a:pt x="226314" y="16829"/>
                  </a:lnTo>
                  <a:lnTo>
                    <a:pt x="232156" y="16299"/>
                  </a:lnTo>
                  <a:lnTo>
                    <a:pt x="236897" y="15100"/>
                  </a:lnTo>
                  <a:lnTo>
                    <a:pt x="240904" y="13453"/>
                  </a:lnTo>
                  <a:lnTo>
                    <a:pt x="244422" y="11509"/>
                  </a:lnTo>
                  <a:lnTo>
                    <a:pt x="247615" y="10213"/>
                  </a:lnTo>
                  <a:lnTo>
                    <a:pt x="250589" y="9349"/>
                  </a:lnTo>
                  <a:lnTo>
                    <a:pt x="253420" y="8772"/>
                  </a:lnTo>
                  <a:lnTo>
                    <a:pt x="256153" y="7542"/>
                  </a:lnTo>
                  <a:lnTo>
                    <a:pt x="258821" y="5875"/>
                  </a:lnTo>
                  <a:lnTo>
                    <a:pt x="26670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SMARTInkAnnotation421"/>
            <p:cNvSpPr/>
            <p:nvPr/>
          </p:nvSpPr>
          <p:spPr>
            <a:xfrm>
              <a:off x="2339640" y="4983840"/>
              <a:ext cx="360" cy="75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" h="7621">
                  <a:moveTo>
                    <a:pt x="0" y="0"/>
                  </a:moveTo>
                  <a:lnTo>
                    <a:pt x="0" y="76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SMARTInkAnnotation422"/>
            <p:cNvSpPr/>
            <p:nvPr/>
          </p:nvSpPr>
          <p:spPr>
            <a:xfrm>
              <a:off x="2301840" y="4968720"/>
              <a:ext cx="106200" cy="453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06296" h="45395">
                  <a:moveTo>
                    <a:pt x="22830" y="22857"/>
                  </a:moveTo>
                  <a:lnTo>
                    <a:pt x="3886" y="22857"/>
                  </a:lnTo>
                  <a:lnTo>
                    <a:pt x="2581" y="23703"/>
                  </a:lnTo>
                  <a:lnTo>
                    <a:pt x="1710" y="25115"/>
                  </a:lnTo>
                  <a:lnTo>
                    <a:pt x="1130" y="26902"/>
                  </a:lnTo>
                  <a:lnTo>
                    <a:pt x="743" y="27247"/>
                  </a:lnTo>
                  <a:lnTo>
                    <a:pt x="486" y="26630"/>
                  </a:lnTo>
                  <a:lnTo>
                    <a:pt x="0" y="23078"/>
                  </a:lnTo>
                  <a:lnTo>
                    <a:pt x="837" y="22157"/>
                  </a:lnTo>
                  <a:lnTo>
                    <a:pt x="6059" y="16818"/>
                  </a:lnTo>
                  <a:lnTo>
                    <a:pt x="10579" y="12270"/>
                  </a:lnTo>
                  <a:lnTo>
                    <a:pt x="12969" y="10719"/>
                  </a:lnTo>
                  <a:lnTo>
                    <a:pt x="15410" y="9686"/>
                  </a:lnTo>
                  <a:lnTo>
                    <a:pt x="21364" y="8025"/>
                  </a:lnTo>
                  <a:lnTo>
                    <a:pt x="22700" y="7043"/>
                  </a:lnTo>
                  <a:lnTo>
                    <a:pt x="24437" y="5541"/>
                  </a:lnTo>
                  <a:lnTo>
                    <a:pt x="26441" y="3693"/>
                  </a:lnTo>
                  <a:lnTo>
                    <a:pt x="28624" y="2461"/>
                  </a:lnTo>
                  <a:lnTo>
                    <a:pt x="30926" y="1640"/>
                  </a:lnTo>
                  <a:lnTo>
                    <a:pt x="33307" y="1092"/>
                  </a:lnTo>
                  <a:lnTo>
                    <a:pt x="35742" y="1574"/>
                  </a:lnTo>
                  <a:lnTo>
                    <a:pt x="38211" y="2742"/>
                  </a:lnTo>
                  <a:lnTo>
                    <a:pt x="40704" y="4367"/>
                  </a:lnTo>
                  <a:lnTo>
                    <a:pt x="43213" y="5450"/>
                  </a:lnTo>
                  <a:lnTo>
                    <a:pt x="45732" y="6172"/>
                  </a:lnTo>
                  <a:lnTo>
                    <a:pt x="48258" y="6654"/>
                  </a:lnTo>
                  <a:lnTo>
                    <a:pt x="50789" y="6975"/>
                  </a:lnTo>
                  <a:lnTo>
                    <a:pt x="53323" y="7189"/>
                  </a:lnTo>
                  <a:lnTo>
                    <a:pt x="55858" y="7332"/>
                  </a:lnTo>
                  <a:lnTo>
                    <a:pt x="60934" y="7490"/>
                  </a:lnTo>
                  <a:lnTo>
                    <a:pt x="63472" y="7532"/>
                  </a:lnTo>
                  <a:lnTo>
                    <a:pt x="66012" y="8407"/>
                  </a:lnTo>
                  <a:lnTo>
                    <a:pt x="68551" y="9837"/>
                  </a:lnTo>
                  <a:lnTo>
                    <a:pt x="74665" y="14171"/>
                  </a:lnTo>
                  <a:lnTo>
                    <a:pt x="77759" y="14763"/>
                  </a:lnTo>
                  <a:lnTo>
                    <a:pt x="79770" y="14921"/>
                  </a:lnTo>
                  <a:lnTo>
                    <a:pt x="81110" y="15873"/>
                  </a:lnTo>
                  <a:lnTo>
                    <a:pt x="82003" y="17354"/>
                  </a:lnTo>
                  <a:lnTo>
                    <a:pt x="83686" y="22535"/>
                  </a:lnTo>
                  <a:lnTo>
                    <a:pt x="81486" y="22714"/>
                  </a:lnTo>
                  <a:lnTo>
                    <a:pt x="79714" y="22762"/>
                  </a:lnTo>
                  <a:lnTo>
                    <a:pt x="78533" y="23641"/>
                  </a:lnTo>
                  <a:lnTo>
                    <a:pt x="77745" y="25073"/>
                  </a:lnTo>
                  <a:lnTo>
                    <a:pt x="77220" y="26874"/>
                  </a:lnTo>
                  <a:lnTo>
                    <a:pt x="76023" y="28075"/>
                  </a:lnTo>
                  <a:lnTo>
                    <a:pt x="74379" y="28876"/>
                  </a:lnTo>
                  <a:lnTo>
                    <a:pt x="69702" y="30161"/>
                  </a:lnTo>
                  <a:lnTo>
                    <a:pt x="66804" y="30337"/>
                  </a:lnTo>
                  <a:lnTo>
                    <a:pt x="62694" y="30415"/>
                  </a:lnTo>
                  <a:lnTo>
                    <a:pt x="39075" y="30475"/>
                  </a:lnTo>
                  <a:lnTo>
                    <a:pt x="36200" y="31322"/>
                  </a:lnTo>
                  <a:lnTo>
                    <a:pt x="34283" y="32734"/>
                  </a:lnTo>
                  <a:lnTo>
                    <a:pt x="33006" y="34521"/>
                  </a:lnTo>
                  <a:lnTo>
                    <a:pt x="31307" y="35714"/>
                  </a:lnTo>
                  <a:lnTo>
                    <a:pt x="29328" y="36508"/>
                  </a:lnTo>
                  <a:lnTo>
                    <a:pt x="24113" y="37783"/>
                  </a:lnTo>
                  <a:lnTo>
                    <a:pt x="23686" y="37041"/>
                  </a:lnTo>
                  <a:lnTo>
                    <a:pt x="23401" y="35700"/>
                  </a:lnTo>
                  <a:lnTo>
                    <a:pt x="22943" y="31509"/>
                  </a:lnTo>
                  <a:lnTo>
                    <a:pt x="22905" y="30318"/>
                  </a:lnTo>
                  <a:lnTo>
                    <a:pt x="22863" y="26738"/>
                  </a:lnTo>
                  <a:lnTo>
                    <a:pt x="23699" y="25444"/>
                  </a:lnTo>
                  <a:lnTo>
                    <a:pt x="25102" y="24582"/>
                  </a:lnTo>
                  <a:lnTo>
                    <a:pt x="26885" y="24007"/>
                  </a:lnTo>
                  <a:lnTo>
                    <a:pt x="28074" y="22777"/>
                  </a:lnTo>
                  <a:lnTo>
                    <a:pt x="28866" y="21111"/>
                  </a:lnTo>
                  <a:lnTo>
                    <a:pt x="29394" y="19153"/>
                  </a:lnTo>
                  <a:lnTo>
                    <a:pt x="30593" y="17848"/>
                  </a:lnTo>
                  <a:lnTo>
                    <a:pt x="32239" y="16977"/>
                  </a:lnTo>
                  <a:lnTo>
                    <a:pt x="34183" y="16397"/>
                  </a:lnTo>
                  <a:lnTo>
                    <a:pt x="37172" y="15164"/>
                  </a:lnTo>
                  <a:lnTo>
                    <a:pt x="40858" y="13495"/>
                  </a:lnTo>
                  <a:lnTo>
                    <a:pt x="45008" y="11536"/>
                  </a:lnTo>
                  <a:lnTo>
                    <a:pt x="48623" y="10230"/>
                  </a:lnTo>
                  <a:lnTo>
                    <a:pt x="51878" y="9359"/>
                  </a:lnTo>
                  <a:lnTo>
                    <a:pt x="54895" y="8779"/>
                  </a:lnTo>
                  <a:lnTo>
                    <a:pt x="57754" y="8391"/>
                  </a:lnTo>
                  <a:lnTo>
                    <a:pt x="60506" y="8133"/>
                  </a:lnTo>
                  <a:lnTo>
                    <a:pt x="63187" y="7961"/>
                  </a:lnTo>
                  <a:lnTo>
                    <a:pt x="70682" y="7770"/>
                  </a:lnTo>
                  <a:lnTo>
                    <a:pt x="105451" y="7618"/>
                  </a:lnTo>
                  <a:lnTo>
                    <a:pt x="105851" y="8464"/>
                  </a:lnTo>
                  <a:lnTo>
                    <a:pt x="106117" y="9875"/>
                  </a:lnTo>
                  <a:lnTo>
                    <a:pt x="106295" y="11662"/>
                  </a:lnTo>
                  <a:lnTo>
                    <a:pt x="105567" y="12854"/>
                  </a:lnTo>
                  <a:lnTo>
                    <a:pt x="104235" y="13648"/>
                  </a:lnTo>
                  <a:lnTo>
                    <a:pt x="102500" y="14178"/>
                  </a:lnTo>
                  <a:lnTo>
                    <a:pt x="101343" y="15378"/>
                  </a:lnTo>
                  <a:lnTo>
                    <a:pt x="100572" y="17025"/>
                  </a:lnTo>
                  <a:lnTo>
                    <a:pt x="100058" y="18969"/>
                  </a:lnTo>
                  <a:lnTo>
                    <a:pt x="98869" y="21112"/>
                  </a:lnTo>
                  <a:lnTo>
                    <a:pt x="97230" y="23387"/>
                  </a:lnTo>
                  <a:lnTo>
                    <a:pt x="95290" y="25750"/>
                  </a:lnTo>
                  <a:lnTo>
                    <a:pt x="92303" y="27326"/>
                  </a:lnTo>
                  <a:lnTo>
                    <a:pt x="88619" y="28376"/>
                  </a:lnTo>
                  <a:lnTo>
                    <a:pt x="84469" y="29076"/>
                  </a:lnTo>
                  <a:lnTo>
                    <a:pt x="80856" y="30390"/>
                  </a:lnTo>
                  <a:lnTo>
                    <a:pt x="77601" y="32112"/>
                  </a:lnTo>
                  <a:lnTo>
                    <a:pt x="74584" y="34107"/>
                  </a:lnTo>
                  <a:lnTo>
                    <a:pt x="70879" y="35438"/>
                  </a:lnTo>
                  <a:lnTo>
                    <a:pt x="66716" y="36324"/>
                  </a:lnTo>
                  <a:lnTo>
                    <a:pt x="62248" y="36915"/>
                  </a:lnTo>
                  <a:lnTo>
                    <a:pt x="58422" y="37310"/>
                  </a:lnTo>
                  <a:lnTo>
                    <a:pt x="55025" y="37572"/>
                  </a:lnTo>
                  <a:lnTo>
                    <a:pt x="51913" y="37747"/>
                  </a:lnTo>
                  <a:lnTo>
                    <a:pt x="48146" y="38710"/>
                  </a:lnTo>
                  <a:lnTo>
                    <a:pt x="43940" y="40199"/>
                  </a:lnTo>
                  <a:lnTo>
                    <a:pt x="39444" y="42039"/>
                  </a:lnTo>
                  <a:lnTo>
                    <a:pt x="35599" y="43265"/>
                  </a:lnTo>
                  <a:lnTo>
                    <a:pt x="32190" y="44082"/>
                  </a:lnTo>
                  <a:lnTo>
                    <a:pt x="29070" y="44627"/>
                  </a:lnTo>
                  <a:lnTo>
                    <a:pt x="26143" y="44991"/>
                  </a:lnTo>
                  <a:lnTo>
                    <a:pt x="23345" y="45232"/>
                  </a:lnTo>
                  <a:lnTo>
                    <a:pt x="20634" y="45394"/>
                  </a:lnTo>
                  <a:lnTo>
                    <a:pt x="17979" y="44656"/>
                  </a:lnTo>
                  <a:lnTo>
                    <a:pt x="15363" y="43315"/>
                  </a:lnTo>
                  <a:lnTo>
                    <a:pt x="8045" y="38403"/>
                  </a:lnTo>
                  <a:lnTo>
                    <a:pt x="7893" y="37454"/>
                  </a:lnTo>
                  <a:lnTo>
                    <a:pt x="7792" y="35975"/>
                  </a:lnTo>
                  <a:lnTo>
                    <a:pt x="7725" y="34142"/>
                  </a:lnTo>
                  <a:lnTo>
                    <a:pt x="7630" y="27518"/>
                  </a:lnTo>
                  <a:lnTo>
                    <a:pt x="8463" y="25117"/>
                  </a:lnTo>
                  <a:lnTo>
                    <a:pt x="9866" y="22671"/>
                  </a:lnTo>
                  <a:lnTo>
                    <a:pt x="11647" y="20192"/>
                  </a:lnTo>
                  <a:lnTo>
                    <a:pt x="13682" y="18541"/>
                  </a:lnTo>
                  <a:lnTo>
                    <a:pt x="15884" y="17440"/>
                  </a:lnTo>
                  <a:lnTo>
                    <a:pt x="18200" y="16705"/>
                  </a:lnTo>
                  <a:lnTo>
                    <a:pt x="21436" y="15369"/>
                  </a:lnTo>
                  <a:lnTo>
                    <a:pt x="25288" y="13632"/>
                  </a:lnTo>
                  <a:lnTo>
                    <a:pt x="29549" y="11627"/>
                  </a:lnTo>
                  <a:lnTo>
                    <a:pt x="33236" y="9444"/>
                  </a:lnTo>
                  <a:lnTo>
                    <a:pt x="36541" y="7142"/>
                  </a:lnTo>
                  <a:lnTo>
                    <a:pt x="39590" y="4760"/>
                  </a:lnTo>
                  <a:lnTo>
                    <a:pt x="42470" y="3172"/>
                  </a:lnTo>
                  <a:lnTo>
                    <a:pt x="45237" y="2114"/>
                  </a:lnTo>
                  <a:lnTo>
                    <a:pt x="47928" y="1408"/>
                  </a:lnTo>
                  <a:lnTo>
                    <a:pt x="51415" y="938"/>
                  </a:lnTo>
                  <a:lnTo>
                    <a:pt x="55434" y="624"/>
                  </a:lnTo>
                  <a:lnTo>
                    <a:pt x="67782" y="34"/>
                  </a:lnTo>
                  <a:lnTo>
                    <a:pt x="72789" y="4"/>
                  </a:lnTo>
                  <a:lnTo>
                    <a:pt x="70999" y="0"/>
                  </a:lnTo>
                  <a:lnTo>
                    <a:pt x="70182" y="846"/>
                  </a:lnTo>
                  <a:lnTo>
                    <a:pt x="69638" y="2256"/>
                  </a:lnTo>
                  <a:lnTo>
                    <a:pt x="69275" y="4043"/>
                  </a:lnTo>
                  <a:lnTo>
                    <a:pt x="69034" y="6081"/>
                  </a:lnTo>
                  <a:lnTo>
                    <a:pt x="68873" y="8286"/>
                  </a:lnTo>
                  <a:lnTo>
                    <a:pt x="68765" y="10603"/>
                  </a:lnTo>
                  <a:lnTo>
                    <a:pt x="67847" y="12995"/>
                  </a:lnTo>
                  <a:lnTo>
                    <a:pt x="66388" y="15436"/>
                  </a:lnTo>
                  <a:lnTo>
                    <a:pt x="64569" y="17910"/>
                  </a:lnTo>
                  <a:lnTo>
                    <a:pt x="62509" y="19559"/>
                  </a:lnTo>
                  <a:lnTo>
                    <a:pt x="60290" y="20658"/>
                  </a:lnTo>
                  <a:lnTo>
                    <a:pt x="53310" y="2285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SMARTInkAnnotation423"/>
            <p:cNvSpPr/>
            <p:nvPr/>
          </p:nvSpPr>
          <p:spPr>
            <a:xfrm>
              <a:off x="4740120" y="5167080"/>
              <a:ext cx="296640" cy="33516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296824" h="335279">
                  <a:moveTo>
                    <a:pt x="0" y="30477"/>
                  </a:moveTo>
                  <a:lnTo>
                    <a:pt x="36790" y="30477"/>
                  </a:lnTo>
                  <a:lnTo>
                    <a:pt x="42307" y="29631"/>
                  </a:lnTo>
                  <a:lnTo>
                    <a:pt x="48524" y="28220"/>
                  </a:lnTo>
                  <a:lnTo>
                    <a:pt x="55209" y="26432"/>
                  </a:lnTo>
                  <a:lnTo>
                    <a:pt x="63053" y="25240"/>
                  </a:lnTo>
                  <a:lnTo>
                    <a:pt x="71668" y="24446"/>
                  </a:lnTo>
                  <a:lnTo>
                    <a:pt x="80798" y="23916"/>
                  </a:lnTo>
                  <a:lnTo>
                    <a:pt x="90272" y="22717"/>
                  </a:lnTo>
                  <a:lnTo>
                    <a:pt x="99975" y="21070"/>
                  </a:lnTo>
                  <a:lnTo>
                    <a:pt x="109829" y="19126"/>
                  </a:lnTo>
                  <a:lnTo>
                    <a:pt x="118940" y="17830"/>
                  </a:lnTo>
                  <a:lnTo>
                    <a:pt x="127553" y="16966"/>
                  </a:lnTo>
                  <a:lnTo>
                    <a:pt x="135835" y="16389"/>
                  </a:lnTo>
                  <a:lnTo>
                    <a:pt x="143896" y="15159"/>
                  </a:lnTo>
                  <a:lnTo>
                    <a:pt x="151811" y="13491"/>
                  </a:lnTo>
                  <a:lnTo>
                    <a:pt x="159627" y="11533"/>
                  </a:lnTo>
                  <a:lnTo>
                    <a:pt x="167377" y="10228"/>
                  </a:lnTo>
                  <a:lnTo>
                    <a:pt x="175085" y="9358"/>
                  </a:lnTo>
                  <a:lnTo>
                    <a:pt x="182763" y="8778"/>
                  </a:lnTo>
                  <a:lnTo>
                    <a:pt x="190422" y="8391"/>
                  </a:lnTo>
                  <a:lnTo>
                    <a:pt x="205705" y="7961"/>
                  </a:lnTo>
                  <a:lnTo>
                    <a:pt x="213337" y="7000"/>
                  </a:lnTo>
                  <a:lnTo>
                    <a:pt x="220964" y="5512"/>
                  </a:lnTo>
                  <a:lnTo>
                    <a:pt x="228589" y="3674"/>
                  </a:lnTo>
                  <a:lnTo>
                    <a:pt x="235366" y="2448"/>
                  </a:lnTo>
                  <a:lnTo>
                    <a:pt x="241577" y="1632"/>
                  </a:lnTo>
                  <a:lnTo>
                    <a:pt x="247411" y="1087"/>
                  </a:lnTo>
                  <a:lnTo>
                    <a:pt x="252994" y="724"/>
                  </a:lnTo>
                  <a:lnTo>
                    <a:pt x="258409" y="481"/>
                  </a:lnTo>
                  <a:lnTo>
                    <a:pt x="271862" y="140"/>
                  </a:lnTo>
                  <a:lnTo>
                    <a:pt x="293116" y="0"/>
                  </a:lnTo>
                  <a:lnTo>
                    <a:pt x="294470" y="846"/>
                  </a:lnTo>
                  <a:lnTo>
                    <a:pt x="295373" y="2256"/>
                  </a:lnTo>
                  <a:lnTo>
                    <a:pt x="296823" y="6558"/>
                  </a:lnTo>
                  <a:lnTo>
                    <a:pt x="294763" y="9405"/>
                  </a:lnTo>
                  <a:lnTo>
                    <a:pt x="293028" y="11349"/>
                  </a:lnTo>
                  <a:lnTo>
                    <a:pt x="291872" y="13492"/>
                  </a:lnTo>
                  <a:lnTo>
                    <a:pt x="289398" y="21399"/>
                  </a:lnTo>
                  <a:lnTo>
                    <a:pt x="285819" y="29547"/>
                  </a:lnTo>
                  <a:lnTo>
                    <a:pt x="279043" y="39609"/>
                  </a:lnTo>
                  <a:lnTo>
                    <a:pt x="271903" y="47518"/>
                  </a:lnTo>
                  <a:lnTo>
                    <a:pt x="263932" y="56677"/>
                  </a:lnTo>
                  <a:lnTo>
                    <a:pt x="257567" y="66393"/>
                  </a:lnTo>
                  <a:lnTo>
                    <a:pt x="249659" y="76355"/>
                  </a:lnTo>
                  <a:lnTo>
                    <a:pt x="245178" y="81383"/>
                  </a:lnTo>
                  <a:lnTo>
                    <a:pt x="240499" y="87274"/>
                  </a:lnTo>
                  <a:lnTo>
                    <a:pt x="235686" y="93742"/>
                  </a:lnTo>
                  <a:lnTo>
                    <a:pt x="230784" y="100594"/>
                  </a:lnTo>
                  <a:lnTo>
                    <a:pt x="224975" y="106855"/>
                  </a:lnTo>
                  <a:lnTo>
                    <a:pt x="218563" y="112723"/>
                  </a:lnTo>
                  <a:lnTo>
                    <a:pt x="211749" y="118327"/>
                  </a:lnTo>
                  <a:lnTo>
                    <a:pt x="205513" y="123758"/>
                  </a:lnTo>
                  <a:lnTo>
                    <a:pt x="199662" y="129070"/>
                  </a:lnTo>
                  <a:lnTo>
                    <a:pt x="187798" y="140336"/>
                  </a:lnTo>
                  <a:lnTo>
                    <a:pt x="156089" y="171631"/>
                  </a:lnTo>
                  <a:lnTo>
                    <a:pt x="150626" y="177920"/>
                  </a:lnTo>
                  <a:lnTo>
                    <a:pt x="145290" y="184652"/>
                  </a:lnTo>
                  <a:lnTo>
                    <a:pt x="140040" y="191680"/>
                  </a:lnTo>
                  <a:lnTo>
                    <a:pt x="134000" y="198060"/>
                  </a:lnTo>
                  <a:lnTo>
                    <a:pt x="127433" y="204005"/>
                  </a:lnTo>
                  <a:lnTo>
                    <a:pt x="120515" y="209663"/>
                  </a:lnTo>
                  <a:lnTo>
                    <a:pt x="114210" y="215974"/>
                  </a:lnTo>
                  <a:lnTo>
                    <a:pt x="108313" y="222722"/>
                  </a:lnTo>
                  <a:lnTo>
                    <a:pt x="102688" y="229761"/>
                  </a:lnTo>
                  <a:lnTo>
                    <a:pt x="96399" y="235299"/>
                  </a:lnTo>
                  <a:lnTo>
                    <a:pt x="89666" y="239839"/>
                  </a:lnTo>
                  <a:lnTo>
                    <a:pt x="82637" y="243712"/>
                  </a:lnTo>
                  <a:lnTo>
                    <a:pt x="77105" y="247987"/>
                  </a:lnTo>
                  <a:lnTo>
                    <a:pt x="68700" y="257253"/>
                  </a:lnTo>
                  <a:lnTo>
                    <a:pt x="59884" y="267016"/>
                  </a:lnTo>
                  <a:lnTo>
                    <a:pt x="51169" y="276999"/>
                  </a:lnTo>
                  <a:lnTo>
                    <a:pt x="41501" y="291293"/>
                  </a:lnTo>
                  <a:lnTo>
                    <a:pt x="33275" y="301266"/>
                  </a:lnTo>
                  <a:lnTo>
                    <a:pt x="25475" y="309583"/>
                  </a:lnTo>
                  <a:lnTo>
                    <a:pt x="20353" y="314827"/>
                  </a:lnTo>
                  <a:lnTo>
                    <a:pt x="18649" y="317411"/>
                  </a:lnTo>
                  <a:lnTo>
                    <a:pt x="16754" y="322539"/>
                  </a:lnTo>
                  <a:lnTo>
                    <a:pt x="15439" y="333015"/>
                  </a:lnTo>
                  <a:lnTo>
                    <a:pt x="15240" y="33527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SMARTInkAnnotation424"/>
            <p:cNvSpPr/>
            <p:nvPr/>
          </p:nvSpPr>
          <p:spPr>
            <a:xfrm>
              <a:off x="4740120" y="5372640"/>
              <a:ext cx="220680" cy="75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20980" h="7621">
                  <a:moveTo>
                    <a:pt x="0" y="0"/>
                  </a:moveTo>
                  <a:lnTo>
                    <a:pt x="47682" y="0"/>
                  </a:lnTo>
                  <a:lnTo>
                    <a:pt x="54648" y="846"/>
                  </a:lnTo>
                  <a:lnTo>
                    <a:pt x="61832" y="2258"/>
                  </a:lnTo>
                  <a:lnTo>
                    <a:pt x="69161" y="4045"/>
                  </a:lnTo>
                  <a:lnTo>
                    <a:pt x="75740" y="5237"/>
                  </a:lnTo>
                  <a:lnTo>
                    <a:pt x="81820" y="6032"/>
                  </a:lnTo>
                  <a:lnTo>
                    <a:pt x="87567" y="6561"/>
                  </a:lnTo>
                  <a:lnTo>
                    <a:pt x="93937" y="6914"/>
                  </a:lnTo>
                  <a:lnTo>
                    <a:pt x="107789" y="7307"/>
                  </a:lnTo>
                  <a:lnTo>
                    <a:pt x="141890" y="7593"/>
                  </a:lnTo>
                  <a:lnTo>
                    <a:pt x="220979" y="76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SMARTInkAnnotation425"/>
            <p:cNvSpPr/>
            <p:nvPr/>
          </p:nvSpPr>
          <p:spPr>
            <a:xfrm>
              <a:off x="5075640" y="5334480"/>
              <a:ext cx="83160" cy="36720"/>
            </a:xfrm>
            <a:custGeom>
              <a:avLst/>
              <a:gdLst>
                <a:gd name="textAreaLeft" fmla="*/ 0 w 83160"/>
                <a:gd name="textAreaRight" fmla="*/ 83520 w 831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3289" h="37034">
                  <a:moveTo>
                    <a:pt x="60533" y="7620"/>
                  </a:moveTo>
                  <a:lnTo>
                    <a:pt x="60533" y="11665"/>
                  </a:lnTo>
                  <a:lnTo>
                    <a:pt x="61379" y="12857"/>
                  </a:lnTo>
                  <a:lnTo>
                    <a:pt x="62790" y="13651"/>
                  </a:lnTo>
                  <a:lnTo>
                    <a:pt x="67094" y="14926"/>
                  </a:lnTo>
                  <a:lnTo>
                    <a:pt x="67447" y="15877"/>
                  </a:lnTo>
                  <a:lnTo>
                    <a:pt x="67682" y="17359"/>
                  </a:lnTo>
                  <a:lnTo>
                    <a:pt x="67838" y="19192"/>
                  </a:lnTo>
                  <a:lnTo>
                    <a:pt x="68789" y="20415"/>
                  </a:lnTo>
                  <a:lnTo>
                    <a:pt x="70271" y="21230"/>
                  </a:lnTo>
                  <a:lnTo>
                    <a:pt x="74685" y="22538"/>
                  </a:lnTo>
                  <a:lnTo>
                    <a:pt x="75048" y="23492"/>
                  </a:lnTo>
                  <a:lnTo>
                    <a:pt x="75290" y="24975"/>
                  </a:lnTo>
                  <a:lnTo>
                    <a:pt x="75451" y="26810"/>
                  </a:lnTo>
                  <a:lnTo>
                    <a:pt x="74711" y="28033"/>
                  </a:lnTo>
                  <a:lnTo>
                    <a:pt x="73372" y="28849"/>
                  </a:lnTo>
                  <a:lnTo>
                    <a:pt x="69183" y="30158"/>
                  </a:lnTo>
                  <a:lnTo>
                    <a:pt x="67993" y="30266"/>
                  </a:lnTo>
                  <a:lnTo>
                    <a:pt x="66353" y="30337"/>
                  </a:lnTo>
                  <a:lnTo>
                    <a:pt x="64413" y="30385"/>
                  </a:lnTo>
                  <a:lnTo>
                    <a:pt x="62273" y="31263"/>
                  </a:lnTo>
                  <a:lnTo>
                    <a:pt x="59999" y="32696"/>
                  </a:lnTo>
                  <a:lnTo>
                    <a:pt x="57636" y="34497"/>
                  </a:lnTo>
                  <a:lnTo>
                    <a:pt x="54368" y="35698"/>
                  </a:lnTo>
                  <a:lnTo>
                    <a:pt x="50496" y="36499"/>
                  </a:lnTo>
                  <a:lnTo>
                    <a:pt x="46221" y="37033"/>
                  </a:lnTo>
                  <a:lnTo>
                    <a:pt x="42525" y="36542"/>
                  </a:lnTo>
                  <a:lnTo>
                    <a:pt x="39214" y="35368"/>
                  </a:lnTo>
                  <a:lnTo>
                    <a:pt x="36160" y="33739"/>
                  </a:lnTo>
                  <a:lnTo>
                    <a:pt x="32431" y="32653"/>
                  </a:lnTo>
                  <a:lnTo>
                    <a:pt x="28252" y="31928"/>
                  </a:lnTo>
                  <a:lnTo>
                    <a:pt x="17467" y="30766"/>
                  </a:lnTo>
                  <a:lnTo>
                    <a:pt x="15735" y="29824"/>
                  </a:lnTo>
                  <a:lnTo>
                    <a:pt x="13735" y="28349"/>
                  </a:lnTo>
                  <a:lnTo>
                    <a:pt x="11554" y="26519"/>
                  </a:lnTo>
                  <a:lnTo>
                    <a:pt x="9253" y="25300"/>
                  </a:lnTo>
                  <a:lnTo>
                    <a:pt x="6873" y="24487"/>
                  </a:lnTo>
                  <a:lnTo>
                    <a:pt x="4439" y="23944"/>
                  </a:lnTo>
                  <a:lnTo>
                    <a:pt x="2817" y="22736"/>
                  </a:lnTo>
                  <a:lnTo>
                    <a:pt x="1736" y="21084"/>
                  </a:lnTo>
                  <a:lnTo>
                    <a:pt x="0" y="16394"/>
                  </a:lnTo>
                  <a:lnTo>
                    <a:pt x="704" y="16010"/>
                  </a:lnTo>
                  <a:lnTo>
                    <a:pt x="2020" y="15753"/>
                  </a:lnTo>
                  <a:lnTo>
                    <a:pt x="3744" y="15582"/>
                  </a:lnTo>
                  <a:lnTo>
                    <a:pt x="4893" y="14622"/>
                  </a:lnTo>
                  <a:lnTo>
                    <a:pt x="5660" y="13134"/>
                  </a:lnTo>
                  <a:lnTo>
                    <a:pt x="6171" y="11296"/>
                  </a:lnTo>
                  <a:lnTo>
                    <a:pt x="8204" y="10071"/>
                  </a:lnTo>
                  <a:lnTo>
                    <a:pt x="11253" y="9254"/>
                  </a:lnTo>
                  <a:lnTo>
                    <a:pt x="14979" y="8709"/>
                  </a:lnTo>
                  <a:lnTo>
                    <a:pt x="19157" y="7500"/>
                  </a:lnTo>
                  <a:lnTo>
                    <a:pt x="23636" y="5847"/>
                  </a:lnTo>
                  <a:lnTo>
                    <a:pt x="28315" y="3897"/>
                  </a:lnTo>
                  <a:lnTo>
                    <a:pt x="32281" y="2599"/>
                  </a:lnTo>
                  <a:lnTo>
                    <a:pt x="35771" y="1732"/>
                  </a:lnTo>
                  <a:lnTo>
                    <a:pt x="38944" y="1155"/>
                  </a:lnTo>
                  <a:lnTo>
                    <a:pt x="42754" y="770"/>
                  </a:lnTo>
                  <a:lnTo>
                    <a:pt x="46987" y="513"/>
                  </a:lnTo>
                  <a:lnTo>
                    <a:pt x="51502" y="342"/>
                  </a:lnTo>
                  <a:lnTo>
                    <a:pt x="55359" y="1075"/>
                  </a:lnTo>
                  <a:lnTo>
                    <a:pt x="58777" y="2410"/>
                  </a:lnTo>
                  <a:lnTo>
                    <a:pt x="61902" y="4147"/>
                  </a:lnTo>
                  <a:lnTo>
                    <a:pt x="64832" y="5304"/>
                  </a:lnTo>
                  <a:lnTo>
                    <a:pt x="67633" y="6076"/>
                  </a:lnTo>
                  <a:lnTo>
                    <a:pt x="70346" y="6591"/>
                  </a:lnTo>
                  <a:lnTo>
                    <a:pt x="72154" y="7781"/>
                  </a:lnTo>
                  <a:lnTo>
                    <a:pt x="73361" y="9420"/>
                  </a:lnTo>
                  <a:lnTo>
                    <a:pt x="74164" y="11360"/>
                  </a:lnTo>
                  <a:lnTo>
                    <a:pt x="75548" y="12654"/>
                  </a:lnTo>
                  <a:lnTo>
                    <a:pt x="77316" y="13515"/>
                  </a:lnTo>
                  <a:lnTo>
                    <a:pt x="79341" y="14090"/>
                  </a:lnTo>
                  <a:lnTo>
                    <a:pt x="80692" y="15320"/>
                  </a:lnTo>
                  <a:lnTo>
                    <a:pt x="81592" y="16987"/>
                  </a:lnTo>
                  <a:lnTo>
                    <a:pt x="83037" y="21700"/>
                  </a:lnTo>
                  <a:lnTo>
                    <a:pt x="83155" y="22933"/>
                  </a:lnTo>
                  <a:lnTo>
                    <a:pt x="83234" y="24602"/>
                  </a:lnTo>
                  <a:lnTo>
                    <a:pt x="83288" y="26562"/>
                  </a:lnTo>
                  <a:lnTo>
                    <a:pt x="82476" y="27868"/>
                  </a:lnTo>
                  <a:lnTo>
                    <a:pt x="81088" y="28738"/>
                  </a:lnTo>
                  <a:lnTo>
                    <a:pt x="76822" y="30136"/>
                  </a:lnTo>
                  <a:lnTo>
                    <a:pt x="75626" y="30251"/>
                  </a:lnTo>
                  <a:lnTo>
                    <a:pt x="73981" y="30327"/>
                  </a:lnTo>
                  <a:lnTo>
                    <a:pt x="69896" y="30412"/>
                  </a:lnTo>
                  <a:lnTo>
                    <a:pt x="56902" y="30477"/>
                  </a:lnTo>
                  <a:lnTo>
                    <a:pt x="54725" y="29632"/>
                  </a:lnTo>
                  <a:lnTo>
                    <a:pt x="52427" y="28222"/>
                  </a:lnTo>
                  <a:lnTo>
                    <a:pt x="46702" y="23919"/>
                  </a:lnTo>
                  <a:lnTo>
                    <a:pt x="46232" y="22720"/>
                  </a:lnTo>
                  <a:lnTo>
                    <a:pt x="45919" y="21073"/>
                  </a:lnTo>
                  <a:lnTo>
                    <a:pt x="45329" y="15582"/>
                  </a:lnTo>
                  <a:lnTo>
                    <a:pt x="45296" y="8709"/>
                  </a:lnTo>
                  <a:lnTo>
                    <a:pt x="46141" y="8346"/>
                  </a:lnTo>
                  <a:lnTo>
                    <a:pt x="47551" y="8104"/>
                  </a:lnTo>
                  <a:lnTo>
                    <a:pt x="49339" y="7943"/>
                  </a:lnTo>
                  <a:lnTo>
                    <a:pt x="51376" y="6988"/>
                  </a:lnTo>
                  <a:lnTo>
                    <a:pt x="53582" y="5506"/>
                  </a:lnTo>
                  <a:lnTo>
                    <a:pt x="55898" y="3671"/>
                  </a:lnTo>
                  <a:lnTo>
                    <a:pt x="58290" y="2447"/>
                  </a:lnTo>
                  <a:lnTo>
                    <a:pt x="60732" y="1632"/>
                  </a:lnTo>
                  <a:lnTo>
                    <a:pt x="67718" y="95"/>
                  </a:lnTo>
                  <a:lnTo>
                    <a:pt x="70217" y="43"/>
                  </a:lnTo>
                  <a:lnTo>
                    <a:pt x="7577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SMARTInkAnnotation426"/>
            <p:cNvSpPr/>
            <p:nvPr/>
          </p:nvSpPr>
          <p:spPr>
            <a:xfrm>
              <a:off x="5212440" y="5296680"/>
              <a:ext cx="280080" cy="37944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280340" h="379322">
                  <a:moveTo>
                    <a:pt x="30376" y="0"/>
                  </a:moveTo>
                  <a:lnTo>
                    <a:pt x="26331" y="4045"/>
                  </a:lnTo>
                  <a:lnTo>
                    <a:pt x="24292" y="5237"/>
                  </a:lnTo>
                  <a:lnTo>
                    <a:pt x="17379" y="7760"/>
                  </a:lnTo>
                  <a:lnTo>
                    <a:pt x="12464" y="11352"/>
                  </a:lnTo>
                  <a:lnTo>
                    <a:pt x="10815" y="13495"/>
                  </a:lnTo>
                  <a:lnTo>
                    <a:pt x="9715" y="15770"/>
                  </a:lnTo>
                  <a:lnTo>
                    <a:pt x="8982" y="18133"/>
                  </a:lnTo>
                  <a:lnTo>
                    <a:pt x="5910" y="23017"/>
                  </a:lnTo>
                  <a:lnTo>
                    <a:pt x="3905" y="25505"/>
                  </a:lnTo>
                  <a:lnTo>
                    <a:pt x="2569" y="28010"/>
                  </a:lnTo>
                  <a:lnTo>
                    <a:pt x="1084" y="33051"/>
                  </a:lnTo>
                  <a:lnTo>
                    <a:pt x="248" y="44695"/>
                  </a:lnTo>
                  <a:lnTo>
                    <a:pt x="0" y="54824"/>
                  </a:lnTo>
                  <a:lnTo>
                    <a:pt x="812" y="57716"/>
                  </a:lnTo>
                  <a:lnTo>
                    <a:pt x="3972" y="63187"/>
                  </a:lnTo>
                  <a:lnTo>
                    <a:pt x="10457" y="68441"/>
                  </a:lnTo>
                  <a:lnTo>
                    <a:pt x="14557" y="71027"/>
                  </a:lnTo>
                  <a:lnTo>
                    <a:pt x="21370" y="78416"/>
                  </a:lnTo>
                  <a:lnTo>
                    <a:pt x="24372" y="82758"/>
                  </a:lnTo>
                  <a:lnTo>
                    <a:pt x="28914" y="85652"/>
                  </a:lnTo>
                  <a:lnTo>
                    <a:pt x="34481" y="87581"/>
                  </a:lnTo>
                  <a:lnTo>
                    <a:pt x="40733" y="88868"/>
                  </a:lnTo>
                  <a:lnTo>
                    <a:pt x="46593" y="89725"/>
                  </a:lnTo>
                  <a:lnTo>
                    <a:pt x="52195" y="90297"/>
                  </a:lnTo>
                  <a:lnTo>
                    <a:pt x="57622" y="90678"/>
                  </a:lnTo>
                  <a:lnTo>
                    <a:pt x="63780" y="90932"/>
                  </a:lnTo>
                  <a:lnTo>
                    <a:pt x="77395" y="91214"/>
                  </a:lnTo>
                  <a:lnTo>
                    <a:pt x="84583" y="90443"/>
                  </a:lnTo>
                  <a:lnTo>
                    <a:pt x="91914" y="89082"/>
                  </a:lnTo>
                  <a:lnTo>
                    <a:pt x="99341" y="87328"/>
                  </a:lnTo>
                  <a:lnTo>
                    <a:pt x="106833" y="85312"/>
                  </a:lnTo>
                  <a:lnTo>
                    <a:pt x="121930" y="80814"/>
                  </a:lnTo>
                  <a:lnTo>
                    <a:pt x="144710" y="73522"/>
                  </a:lnTo>
                  <a:lnTo>
                    <a:pt x="151472" y="70182"/>
                  </a:lnTo>
                  <a:lnTo>
                    <a:pt x="157673" y="66261"/>
                  </a:lnTo>
                  <a:lnTo>
                    <a:pt x="163501" y="61954"/>
                  </a:lnTo>
                  <a:lnTo>
                    <a:pt x="169079" y="57390"/>
                  </a:lnTo>
                  <a:lnTo>
                    <a:pt x="174492" y="52653"/>
                  </a:lnTo>
                  <a:lnTo>
                    <a:pt x="179793" y="47802"/>
                  </a:lnTo>
                  <a:lnTo>
                    <a:pt x="185020" y="43722"/>
                  </a:lnTo>
                  <a:lnTo>
                    <a:pt x="190199" y="40155"/>
                  </a:lnTo>
                  <a:lnTo>
                    <a:pt x="195345" y="36930"/>
                  </a:lnTo>
                  <a:lnTo>
                    <a:pt x="203320" y="28831"/>
                  </a:lnTo>
                  <a:lnTo>
                    <a:pt x="209687" y="20434"/>
                  </a:lnTo>
                  <a:lnTo>
                    <a:pt x="218415" y="10402"/>
                  </a:lnTo>
                  <a:lnTo>
                    <a:pt x="226691" y="1833"/>
                  </a:lnTo>
                  <a:lnTo>
                    <a:pt x="228391" y="107"/>
                  </a:lnTo>
                  <a:lnTo>
                    <a:pt x="228465" y="4077"/>
                  </a:lnTo>
                  <a:lnTo>
                    <a:pt x="229322" y="6105"/>
                  </a:lnTo>
                  <a:lnTo>
                    <a:pt x="236781" y="17700"/>
                  </a:lnTo>
                  <a:lnTo>
                    <a:pt x="241491" y="27340"/>
                  </a:lnTo>
                  <a:lnTo>
                    <a:pt x="243933" y="33467"/>
                  </a:lnTo>
                  <a:lnTo>
                    <a:pt x="246407" y="40091"/>
                  </a:lnTo>
                  <a:lnTo>
                    <a:pt x="248057" y="47048"/>
                  </a:lnTo>
                  <a:lnTo>
                    <a:pt x="249157" y="54225"/>
                  </a:lnTo>
                  <a:lnTo>
                    <a:pt x="249890" y="61551"/>
                  </a:lnTo>
                  <a:lnTo>
                    <a:pt x="251226" y="69820"/>
                  </a:lnTo>
                  <a:lnTo>
                    <a:pt x="252962" y="78721"/>
                  </a:lnTo>
                  <a:lnTo>
                    <a:pt x="257150" y="97641"/>
                  </a:lnTo>
                  <a:lnTo>
                    <a:pt x="264267" y="128179"/>
                  </a:lnTo>
                  <a:lnTo>
                    <a:pt x="276783" y="188451"/>
                  </a:lnTo>
                  <a:lnTo>
                    <a:pt x="278468" y="200140"/>
                  </a:lnTo>
                  <a:lnTo>
                    <a:pt x="279590" y="211320"/>
                  </a:lnTo>
                  <a:lnTo>
                    <a:pt x="280339" y="222160"/>
                  </a:lnTo>
                  <a:lnTo>
                    <a:pt x="279991" y="232773"/>
                  </a:lnTo>
                  <a:lnTo>
                    <a:pt x="278913" y="243236"/>
                  </a:lnTo>
                  <a:lnTo>
                    <a:pt x="277347" y="253597"/>
                  </a:lnTo>
                  <a:lnTo>
                    <a:pt x="275457" y="263892"/>
                  </a:lnTo>
                  <a:lnTo>
                    <a:pt x="271099" y="284361"/>
                  </a:lnTo>
                  <a:lnTo>
                    <a:pt x="268751" y="293714"/>
                  </a:lnTo>
                  <a:lnTo>
                    <a:pt x="266340" y="302489"/>
                  </a:lnTo>
                  <a:lnTo>
                    <a:pt x="263885" y="310879"/>
                  </a:lnTo>
                  <a:lnTo>
                    <a:pt x="260555" y="319013"/>
                  </a:lnTo>
                  <a:lnTo>
                    <a:pt x="256643" y="326975"/>
                  </a:lnTo>
                  <a:lnTo>
                    <a:pt x="252341" y="334824"/>
                  </a:lnTo>
                  <a:lnTo>
                    <a:pt x="247779" y="341749"/>
                  </a:lnTo>
                  <a:lnTo>
                    <a:pt x="243045" y="348059"/>
                  </a:lnTo>
                  <a:lnTo>
                    <a:pt x="238195" y="353960"/>
                  </a:lnTo>
                  <a:lnTo>
                    <a:pt x="230549" y="362773"/>
                  </a:lnTo>
                  <a:lnTo>
                    <a:pt x="223482" y="369512"/>
                  </a:lnTo>
                  <a:lnTo>
                    <a:pt x="219226" y="372496"/>
                  </a:lnTo>
                  <a:lnTo>
                    <a:pt x="210830" y="377220"/>
                  </a:lnTo>
                  <a:lnTo>
                    <a:pt x="204275" y="379321"/>
                  </a:lnTo>
                  <a:lnTo>
                    <a:pt x="200496" y="379033"/>
                  </a:lnTo>
                  <a:lnTo>
                    <a:pt x="191781" y="376458"/>
                  </a:lnTo>
                  <a:lnTo>
                    <a:pt x="184520" y="372490"/>
                  </a:lnTo>
                  <a:lnTo>
                    <a:pt x="177625" y="367905"/>
                  </a:lnTo>
                  <a:lnTo>
                    <a:pt x="168915" y="363045"/>
                  </a:lnTo>
                  <a:lnTo>
                    <a:pt x="165916" y="359716"/>
                  </a:lnTo>
                  <a:lnTo>
                    <a:pt x="163916" y="355805"/>
                  </a:lnTo>
                  <a:lnTo>
                    <a:pt x="160847" y="346942"/>
                  </a:lnTo>
                  <a:lnTo>
                    <a:pt x="156661" y="337359"/>
                  </a:lnTo>
                  <a:lnTo>
                    <a:pt x="153589" y="326489"/>
                  </a:lnTo>
                  <a:lnTo>
                    <a:pt x="150613" y="318391"/>
                  </a:lnTo>
                  <a:lnTo>
                    <a:pt x="144676" y="3048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SMARTInkAnnotation427"/>
            <p:cNvSpPr/>
            <p:nvPr/>
          </p:nvSpPr>
          <p:spPr>
            <a:xfrm>
              <a:off x="5806800" y="5472000"/>
              <a:ext cx="60480" cy="1904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60837" h="190501">
                  <a:moveTo>
                    <a:pt x="22859" y="0"/>
                  </a:moveTo>
                  <a:lnTo>
                    <a:pt x="22859" y="7306"/>
                  </a:lnTo>
                  <a:lnTo>
                    <a:pt x="23706" y="8257"/>
                  </a:lnTo>
                  <a:lnTo>
                    <a:pt x="26904" y="11572"/>
                  </a:lnTo>
                  <a:lnTo>
                    <a:pt x="28096" y="13642"/>
                  </a:lnTo>
                  <a:lnTo>
                    <a:pt x="29420" y="18198"/>
                  </a:lnTo>
                  <a:lnTo>
                    <a:pt x="30619" y="20599"/>
                  </a:lnTo>
                  <a:lnTo>
                    <a:pt x="32267" y="23046"/>
                  </a:lnTo>
                  <a:lnTo>
                    <a:pt x="34211" y="25524"/>
                  </a:lnTo>
                  <a:lnTo>
                    <a:pt x="36354" y="28022"/>
                  </a:lnTo>
                  <a:lnTo>
                    <a:pt x="38629" y="30535"/>
                  </a:lnTo>
                  <a:lnTo>
                    <a:pt x="40992" y="33056"/>
                  </a:lnTo>
                  <a:lnTo>
                    <a:pt x="42567" y="36431"/>
                  </a:lnTo>
                  <a:lnTo>
                    <a:pt x="43619" y="40374"/>
                  </a:lnTo>
                  <a:lnTo>
                    <a:pt x="44319" y="44696"/>
                  </a:lnTo>
                  <a:lnTo>
                    <a:pt x="45632" y="49270"/>
                  </a:lnTo>
                  <a:lnTo>
                    <a:pt x="47355" y="54014"/>
                  </a:lnTo>
                  <a:lnTo>
                    <a:pt x="49350" y="58870"/>
                  </a:lnTo>
                  <a:lnTo>
                    <a:pt x="51527" y="63799"/>
                  </a:lnTo>
                  <a:lnTo>
                    <a:pt x="56203" y="73793"/>
                  </a:lnTo>
                  <a:lnTo>
                    <a:pt x="57788" y="78828"/>
                  </a:lnTo>
                  <a:lnTo>
                    <a:pt x="58845" y="83879"/>
                  </a:lnTo>
                  <a:lnTo>
                    <a:pt x="59550" y="88939"/>
                  </a:lnTo>
                  <a:lnTo>
                    <a:pt x="60020" y="94006"/>
                  </a:lnTo>
                  <a:lnTo>
                    <a:pt x="60333" y="99077"/>
                  </a:lnTo>
                  <a:lnTo>
                    <a:pt x="60681" y="108381"/>
                  </a:lnTo>
                  <a:lnTo>
                    <a:pt x="60836" y="115338"/>
                  </a:lnTo>
                  <a:lnTo>
                    <a:pt x="60030" y="119225"/>
                  </a:lnTo>
                  <a:lnTo>
                    <a:pt x="58647" y="123511"/>
                  </a:lnTo>
                  <a:lnTo>
                    <a:pt x="56878" y="128060"/>
                  </a:lnTo>
                  <a:lnTo>
                    <a:pt x="55698" y="132786"/>
                  </a:lnTo>
                  <a:lnTo>
                    <a:pt x="54912" y="137631"/>
                  </a:lnTo>
                  <a:lnTo>
                    <a:pt x="54388" y="142554"/>
                  </a:lnTo>
                  <a:lnTo>
                    <a:pt x="53192" y="147530"/>
                  </a:lnTo>
                  <a:lnTo>
                    <a:pt x="51548" y="152539"/>
                  </a:lnTo>
                  <a:lnTo>
                    <a:pt x="49604" y="157573"/>
                  </a:lnTo>
                  <a:lnTo>
                    <a:pt x="47463" y="161775"/>
                  </a:lnTo>
                  <a:lnTo>
                    <a:pt x="45189" y="165424"/>
                  </a:lnTo>
                  <a:lnTo>
                    <a:pt x="42826" y="168702"/>
                  </a:lnTo>
                  <a:lnTo>
                    <a:pt x="39557" y="171735"/>
                  </a:lnTo>
                  <a:lnTo>
                    <a:pt x="35684" y="174603"/>
                  </a:lnTo>
                  <a:lnTo>
                    <a:pt x="31409" y="177362"/>
                  </a:lnTo>
                  <a:lnTo>
                    <a:pt x="27713" y="180048"/>
                  </a:lnTo>
                  <a:lnTo>
                    <a:pt x="24402" y="182685"/>
                  </a:lnTo>
                  <a:lnTo>
                    <a:pt x="21348" y="185290"/>
                  </a:lnTo>
                  <a:lnTo>
                    <a:pt x="17618" y="187026"/>
                  </a:lnTo>
                  <a:lnTo>
                    <a:pt x="13439" y="188184"/>
                  </a:lnTo>
                  <a:lnTo>
                    <a:pt x="0" y="1905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SMARTInkAnnotation428"/>
            <p:cNvSpPr/>
            <p:nvPr/>
          </p:nvSpPr>
          <p:spPr>
            <a:xfrm>
              <a:off x="5997240" y="5136480"/>
              <a:ext cx="349920" cy="373320"/>
            </a:xfrm>
            <a:custGeom>
              <a:avLst/>
              <a:gdLst>
                <a:gd name="textAreaLeft" fmla="*/ 0 w 349920"/>
                <a:gd name="textAreaRight" fmla="*/ 349920 w 34992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50136" h="373371">
                  <a:moveTo>
                    <a:pt x="0" y="60950"/>
                  </a:moveTo>
                  <a:lnTo>
                    <a:pt x="17911" y="60950"/>
                  </a:lnTo>
                  <a:lnTo>
                    <a:pt x="27434" y="63208"/>
                  </a:lnTo>
                  <a:lnTo>
                    <a:pt x="33529" y="64995"/>
                  </a:lnTo>
                  <a:lnTo>
                    <a:pt x="40133" y="65340"/>
                  </a:lnTo>
                  <a:lnTo>
                    <a:pt x="47075" y="64723"/>
                  </a:lnTo>
                  <a:lnTo>
                    <a:pt x="54244" y="63466"/>
                  </a:lnTo>
                  <a:lnTo>
                    <a:pt x="61562" y="62628"/>
                  </a:lnTo>
                  <a:lnTo>
                    <a:pt x="68981" y="62068"/>
                  </a:lnTo>
                  <a:lnTo>
                    <a:pt x="76467" y="61695"/>
                  </a:lnTo>
                  <a:lnTo>
                    <a:pt x="93816" y="61281"/>
                  </a:lnTo>
                  <a:lnTo>
                    <a:pt x="103185" y="61171"/>
                  </a:lnTo>
                  <a:lnTo>
                    <a:pt x="111969" y="60251"/>
                  </a:lnTo>
                  <a:lnTo>
                    <a:pt x="120366" y="58791"/>
                  </a:lnTo>
                  <a:lnTo>
                    <a:pt x="128503" y="56970"/>
                  </a:lnTo>
                  <a:lnTo>
                    <a:pt x="136469" y="54911"/>
                  </a:lnTo>
                  <a:lnTo>
                    <a:pt x="144319" y="52690"/>
                  </a:lnTo>
                  <a:lnTo>
                    <a:pt x="152093" y="50363"/>
                  </a:lnTo>
                  <a:lnTo>
                    <a:pt x="160661" y="48812"/>
                  </a:lnTo>
                  <a:lnTo>
                    <a:pt x="169761" y="47778"/>
                  </a:lnTo>
                  <a:lnTo>
                    <a:pt x="179214" y="47089"/>
                  </a:lnTo>
                  <a:lnTo>
                    <a:pt x="188056" y="45782"/>
                  </a:lnTo>
                  <a:lnTo>
                    <a:pt x="196491" y="44065"/>
                  </a:lnTo>
                  <a:lnTo>
                    <a:pt x="232323" y="35225"/>
                  </a:lnTo>
                  <a:lnTo>
                    <a:pt x="240395" y="32794"/>
                  </a:lnTo>
                  <a:lnTo>
                    <a:pt x="247469" y="30326"/>
                  </a:lnTo>
                  <a:lnTo>
                    <a:pt x="253880" y="27834"/>
                  </a:lnTo>
                  <a:lnTo>
                    <a:pt x="260693" y="24480"/>
                  </a:lnTo>
                  <a:lnTo>
                    <a:pt x="267775" y="20550"/>
                  </a:lnTo>
                  <a:lnTo>
                    <a:pt x="275037" y="16237"/>
                  </a:lnTo>
                  <a:lnTo>
                    <a:pt x="281571" y="13361"/>
                  </a:lnTo>
                  <a:lnTo>
                    <a:pt x="287620" y="11445"/>
                  </a:lnTo>
                  <a:lnTo>
                    <a:pt x="293346" y="10166"/>
                  </a:lnTo>
                  <a:lnTo>
                    <a:pt x="304224" y="6488"/>
                  </a:lnTo>
                  <a:lnTo>
                    <a:pt x="313858" y="2879"/>
                  </a:lnTo>
                  <a:lnTo>
                    <a:pt x="320960" y="1274"/>
                  </a:lnTo>
                  <a:lnTo>
                    <a:pt x="329197" y="561"/>
                  </a:lnTo>
                  <a:lnTo>
                    <a:pt x="340193" y="103"/>
                  </a:lnTo>
                  <a:lnTo>
                    <a:pt x="349222" y="0"/>
                  </a:lnTo>
                  <a:lnTo>
                    <a:pt x="349655" y="844"/>
                  </a:lnTo>
                  <a:lnTo>
                    <a:pt x="350135" y="4038"/>
                  </a:lnTo>
                  <a:lnTo>
                    <a:pt x="349416" y="6075"/>
                  </a:lnTo>
                  <a:lnTo>
                    <a:pt x="346361" y="10597"/>
                  </a:lnTo>
                  <a:lnTo>
                    <a:pt x="337499" y="21245"/>
                  </a:lnTo>
                  <a:lnTo>
                    <a:pt x="332597" y="29475"/>
                  </a:lnTo>
                  <a:lnTo>
                    <a:pt x="327596" y="38777"/>
                  </a:lnTo>
                  <a:lnTo>
                    <a:pt x="321705" y="49402"/>
                  </a:lnTo>
                  <a:lnTo>
                    <a:pt x="313442" y="62591"/>
                  </a:lnTo>
                  <a:lnTo>
                    <a:pt x="299269" y="84296"/>
                  </a:lnTo>
                  <a:lnTo>
                    <a:pt x="294339" y="90907"/>
                  </a:lnTo>
                  <a:lnTo>
                    <a:pt x="289359" y="97008"/>
                  </a:lnTo>
                  <a:lnTo>
                    <a:pt x="284346" y="102769"/>
                  </a:lnTo>
                  <a:lnTo>
                    <a:pt x="278464" y="109996"/>
                  </a:lnTo>
                  <a:lnTo>
                    <a:pt x="265155" y="127057"/>
                  </a:lnTo>
                  <a:lnTo>
                    <a:pt x="258897" y="134655"/>
                  </a:lnTo>
                  <a:lnTo>
                    <a:pt x="253031" y="141413"/>
                  </a:lnTo>
                  <a:lnTo>
                    <a:pt x="247426" y="147612"/>
                  </a:lnTo>
                  <a:lnTo>
                    <a:pt x="241150" y="155131"/>
                  </a:lnTo>
                  <a:lnTo>
                    <a:pt x="227404" y="172517"/>
                  </a:lnTo>
                  <a:lnTo>
                    <a:pt x="221029" y="181048"/>
                  </a:lnTo>
                  <a:lnTo>
                    <a:pt x="209430" y="197300"/>
                  </a:lnTo>
                  <a:lnTo>
                    <a:pt x="183030" y="236103"/>
                  </a:lnTo>
                  <a:lnTo>
                    <a:pt x="162589" y="266669"/>
                  </a:lnTo>
                  <a:lnTo>
                    <a:pt x="158346" y="274296"/>
                  </a:lnTo>
                  <a:lnTo>
                    <a:pt x="154671" y="281921"/>
                  </a:lnTo>
                  <a:lnTo>
                    <a:pt x="151374" y="289544"/>
                  </a:lnTo>
                  <a:lnTo>
                    <a:pt x="147482" y="296319"/>
                  </a:lnTo>
                  <a:lnTo>
                    <a:pt x="143194" y="302530"/>
                  </a:lnTo>
                  <a:lnTo>
                    <a:pt x="134761" y="313945"/>
                  </a:lnTo>
                  <a:lnTo>
                    <a:pt x="128192" y="324664"/>
                  </a:lnTo>
                  <a:lnTo>
                    <a:pt x="122450" y="335071"/>
                  </a:lnTo>
                  <a:lnTo>
                    <a:pt x="117921" y="344495"/>
                  </a:lnTo>
                  <a:lnTo>
                    <a:pt x="115372" y="354561"/>
                  </a:lnTo>
                  <a:lnTo>
                    <a:pt x="114511" y="365546"/>
                  </a:lnTo>
                  <a:lnTo>
                    <a:pt x="114300" y="37337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SMARTInkAnnotation429"/>
            <p:cNvSpPr/>
            <p:nvPr/>
          </p:nvSpPr>
          <p:spPr>
            <a:xfrm>
              <a:off x="6066000" y="5365080"/>
              <a:ext cx="198000" cy="756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98122" h="7621">
                  <a:moveTo>
                    <a:pt x="0" y="0"/>
                  </a:moveTo>
                  <a:lnTo>
                    <a:pt x="21958" y="0"/>
                  </a:lnTo>
                  <a:lnTo>
                    <a:pt x="27338" y="846"/>
                  </a:lnTo>
                  <a:lnTo>
                    <a:pt x="33466" y="2258"/>
                  </a:lnTo>
                  <a:lnTo>
                    <a:pt x="40091" y="4045"/>
                  </a:lnTo>
                  <a:lnTo>
                    <a:pt x="47047" y="5237"/>
                  </a:lnTo>
                  <a:lnTo>
                    <a:pt x="54225" y="6032"/>
                  </a:lnTo>
                  <a:lnTo>
                    <a:pt x="61550" y="6561"/>
                  </a:lnTo>
                  <a:lnTo>
                    <a:pt x="68973" y="6914"/>
                  </a:lnTo>
                  <a:lnTo>
                    <a:pt x="83995" y="7306"/>
                  </a:lnTo>
                  <a:lnTo>
                    <a:pt x="125020" y="7601"/>
                  </a:lnTo>
                  <a:lnTo>
                    <a:pt x="198121" y="76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SMARTInkAnnotation430"/>
            <p:cNvSpPr/>
            <p:nvPr/>
          </p:nvSpPr>
          <p:spPr>
            <a:xfrm>
              <a:off x="6348240" y="5365800"/>
              <a:ext cx="235800" cy="47772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235897" h="477891">
                  <a:moveTo>
                    <a:pt x="22536" y="29992"/>
                  </a:moveTo>
                  <a:lnTo>
                    <a:pt x="18491" y="34037"/>
                  </a:lnTo>
                  <a:lnTo>
                    <a:pt x="16453" y="35229"/>
                  </a:lnTo>
                  <a:lnTo>
                    <a:pt x="11931" y="36553"/>
                  </a:lnTo>
                  <a:lnTo>
                    <a:pt x="10386" y="37753"/>
                  </a:lnTo>
                  <a:lnTo>
                    <a:pt x="9356" y="39399"/>
                  </a:lnTo>
                  <a:lnTo>
                    <a:pt x="8212" y="43486"/>
                  </a:lnTo>
                  <a:lnTo>
                    <a:pt x="7703" y="48125"/>
                  </a:lnTo>
                  <a:lnTo>
                    <a:pt x="3371" y="59542"/>
                  </a:lnTo>
                  <a:lnTo>
                    <a:pt x="1318" y="68807"/>
                  </a:lnTo>
                  <a:lnTo>
                    <a:pt x="162" y="83544"/>
                  </a:lnTo>
                  <a:lnTo>
                    <a:pt x="0" y="88554"/>
                  </a:lnTo>
                  <a:lnTo>
                    <a:pt x="739" y="92740"/>
                  </a:lnTo>
                  <a:lnTo>
                    <a:pt x="5824" y="103524"/>
                  </a:lnTo>
                  <a:lnTo>
                    <a:pt x="17597" y="126829"/>
                  </a:lnTo>
                  <a:lnTo>
                    <a:pt x="24856" y="136812"/>
                  </a:lnTo>
                  <a:lnTo>
                    <a:pt x="29162" y="141846"/>
                  </a:lnTo>
                  <a:lnTo>
                    <a:pt x="33727" y="146048"/>
                  </a:lnTo>
                  <a:lnTo>
                    <a:pt x="38463" y="149696"/>
                  </a:lnTo>
                  <a:lnTo>
                    <a:pt x="43315" y="152974"/>
                  </a:lnTo>
                  <a:lnTo>
                    <a:pt x="48242" y="156007"/>
                  </a:lnTo>
                  <a:lnTo>
                    <a:pt x="53219" y="158875"/>
                  </a:lnTo>
                  <a:lnTo>
                    <a:pt x="58232" y="161634"/>
                  </a:lnTo>
                  <a:lnTo>
                    <a:pt x="64113" y="163474"/>
                  </a:lnTo>
                  <a:lnTo>
                    <a:pt x="70575" y="164699"/>
                  </a:lnTo>
                  <a:lnTo>
                    <a:pt x="77421" y="165517"/>
                  </a:lnTo>
                  <a:lnTo>
                    <a:pt x="83680" y="166062"/>
                  </a:lnTo>
                  <a:lnTo>
                    <a:pt x="89545" y="166425"/>
                  </a:lnTo>
                  <a:lnTo>
                    <a:pt x="95149" y="166667"/>
                  </a:lnTo>
                  <a:lnTo>
                    <a:pt x="100578" y="165982"/>
                  </a:lnTo>
                  <a:lnTo>
                    <a:pt x="105891" y="164679"/>
                  </a:lnTo>
                  <a:lnTo>
                    <a:pt x="111126" y="162963"/>
                  </a:lnTo>
                  <a:lnTo>
                    <a:pt x="117156" y="160126"/>
                  </a:lnTo>
                  <a:lnTo>
                    <a:pt x="123716" y="156541"/>
                  </a:lnTo>
                  <a:lnTo>
                    <a:pt x="130629" y="152458"/>
                  </a:lnTo>
                  <a:lnTo>
                    <a:pt x="145084" y="143406"/>
                  </a:lnTo>
                  <a:lnTo>
                    <a:pt x="152495" y="138621"/>
                  </a:lnTo>
                  <a:lnTo>
                    <a:pt x="159129" y="132892"/>
                  </a:lnTo>
                  <a:lnTo>
                    <a:pt x="165246" y="126532"/>
                  </a:lnTo>
                  <a:lnTo>
                    <a:pt x="171016" y="119752"/>
                  </a:lnTo>
                  <a:lnTo>
                    <a:pt x="176556" y="113538"/>
                  </a:lnTo>
                  <a:lnTo>
                    <a:pt x="187226" y="102119"/>
                  </a:lnTo>
                  <a:lnTo>
                    <a:pt x="192444" y="95857"/>
                  </a:lnTo>
                  <a:lnTo>
                    <a:pt x="197614" y="89142"/>
                  </a:lnTo>
                  <a:lnTo>
                    <a:pt x="202755" y="82125"/>
                  </a:lnTo>
                  <a:lnTo>
                    <a:pt x="207029" y="74907"/>
                  </a:lnTo>
                  <a:lnTo>
                    <a:pt x="214035" y="60114"/>
                  </a:lnTo>
                  <a:lnTo>
                    <a:pt x="219972" y="47331"/>
                  </a:lnTo>
                  <a:lnTo>
                    <a:pt x="230681" y="25327"/>
                  </a:lnTo>
                  <a:lnTo>
                    <a:pt x="233579" y="17194"/>
                  </a:lnTo>
                  <a:lnTo>
                    <a:pt x="235590" y="3220"/>
                  </a:lnTo>
                  <a:lnTo>
                    <a:pt x="235855" y="0"/>
                  </a:lnTo>
                  <a:lnTo>
                    <a:pt x="235892" y="14206"/>
                  </a:lnTo>
                  <a:lnTo>
                    <a:pt x="235896" y="105751"/>
                  </a:lnTo>
                  <a:lnTo>
                    <a:pt x="235050" y="117751"/>
                  </a:lnTo>
                  <a:lnTo>
                    <a:pt x="233638" y="129985"/>
                  </a:lnTo>
                  <a:lnTo>
                    <a:pt x="231851" y="142374"/>
                  </a:lnTo>
                  <a:lnTo>
                    <a:pt x="230659" y="154867"/>
                  </a:lnTo>
                  <a:lnTo>
                    <a:pt x="229865" y="167428"/>
                  </a:lnTo>
                  <a:lnTo>
                    <a:pt x="229335" y="180037"/>
                  </a:lnTo>
                  <a:lnTo>
                    <a:pt x="228135" y="192674"/>
                  </a:lnTo>
                  <a:lnTo>
                    <a:pt x="226489" y="205334"/>
                  </a:lnTo>
                  <a:lnTo>
                    <a:pt x="224544" y="218006"/>
                  </a:lnTo>
                  <a:lnTo>
                    <a:pt x="223248" y="231535"/>
                  </a:lnTo>
                  <a:lnTo>
                    <a:pt x="222385" y="245634"/>
                  </a:lnTo>
                  <a:lnTo>
                    <a:pt x="221808" y="260113"/>
                  </a:lnTo>
                  <a:lnTo>
                    <a:pt x="220577" y="273999"/>
                  </a:lnTo>
                  <a:lnTo>
                    <a:pt x="218911" y="287490"/>
                  </a:lnTo>
                  <a:lnTo>
                    <a:pt x="216953" y="300718"/>
                  </a:lnTo>
                  <a:lnTo>
                    <a:pt x="213954" y="314616"/>
                  </a:lnTo>
                  <a:lnTo>
                    <a:pt x="210261" y="328961"/>
                  </a:lnTo>
                  <a:lnTo>
                    <a:pt x="202490" y="356754"/>
                  </a:lnTo>
                  <a:lnTo>
                    <a:pt x="196213" y="380395"/>
                  </a:lnTo>
                  <a:lnTo>
                    <a:pt x="191661" y="390594"/>
                  </a:lnTo>
                  <a:lnTo>
                    <a:pt x="186086" y="399933"/>
                  </a:lnTo>
                  <a:lnTo>
                    <a:pt x="179829" y="408700"/>
                  </a:lnTo>
                  <a:lnTo>
                    <a:pt x="174812" y="417084"/>
                  </a:lnTo>
                  <a:lnTo>
                    <a:pt x="170620" y="425213"/>
                  </a:lnTo>
                  <a:lnTo>
                    <a:pt x="166979" y="433173"/>
                  </a:lnTo>
                  <a:lnTo>
                    <a:pt x="162012" y="440172"/>
                  </a:lnTo>
                  <a:lnTo>
                    <a:pt x="156159" y="446532"/>
                  </a:lnTo>
                  <a:lnTo>
                    <a:pt x="149719" y="452465"/>
                  </a:lnTo>
                  <a:lnTo>
                    <a:pt x="142885" y="457268"/>
                  </a:lnTo>
                  <a:lnTo>
                    <a:pt x="135788" y="461316"/>
                  </a:lnTo>
                  <a:lnTo>
                    <a:pt x="110194" y="473896"/>
                  </a:lnTo>
                  <a:lnTo>
                    <a:pt x="104681" y="475788"/>
                  </a:lnTo>
                  <a:lnTo>
                    <a:pt x="99313" y="477049"/>
                  </a:lnTo>
                  <a:lnTo>
                    <a:pt x="94041" y="477890"/>
                  </a:lnTo>
                  <a:lnTo>
                    <a:pt x="88833" y="477604"/>
                  </a:lnTo>
                  <a:lnTo>
                    <a:pt x="83668" y="476567"/>
                  </a:lnTo>
                  <a:lnTo>
                    <a:pt x="78530" y="475029"/>
                  </a:lnTo>
                  <a:lnTo>
                    <a:pt x="73412" y="474003"/>
                  </a:lnTo>
                  <a:lnTo>
                    <a:pt x="68306" y="473319"/>
                  </a:lnTo>
                  <a:lnTo>
                    <a:pt x="63210" y="472863"/>
                  </a:lnTo>
                  <a:lnTo>
                    <a:pt x="58118" y="471713"/>
                  </a:lnTo>
                  <a:lnTo>
                    <a:pt x="53031" y="470099"/>
                  </a:lnTo>
                  <a:lnTo>
                    <a:pt x="47946" y="468176"/>
                  </a:lnTo>
                  <a:lnTo>
                    <a:pt x="42863" y="465202"/>
                  </a:lnTo>
                  <a:lnTo>
                    <a:pt x="37780" y="461525"/>
                  </a:lnTo>
                  <a:lnTo>
                    <a:pt x="25548" y="451548"/>
                  </a:lnTo>
                  <a:lnTo>
                    <a:pt x="21617" y="447925"/>
                  </a:lnTo>
                  <a:lnTo>
                    <a:pt x="14916" y="4414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80008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riting Algebraic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09480" y="1644480"/>
            <a:ext cx="6324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5) Th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su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f a number and 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609480" y="3124080"/>
            <a:ext cx="403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6) A number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minu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09480" y="4572000"/>
            <a:ext cx="6248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7) 6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less tha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3333ff"/>
                </a:solidFill>
                <a:latin typeface="Calibri"/>
              </a:rPr>
              <a:t>twic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 nu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0" y="990720"/>
            <a:ext cx="861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Define a variable and write an algebraic express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4124"/>
          <p:cNvGrpSpPr/>
          <p:nvPr/>
        </p:nvGrpSpPr>
        <p:grpSpPr>
          <a:xfrm>
            <a:off x="1569960" y="1584360"/>
            <a:ext cx="3969000" cy="3848040"/>
            <a:chOff x="1569960" y="1584360"/>
            <a:chExt cx="3969000" cy="3848040"/>
          </a:xfrm>
        </p:grpSpPr>
        <p:sp>
          <p:nvSpPr>
            <p:cNvPr id="107" name="SMARTInkAnnotation336"/>
            <p:cNvSpPr/>
            <p:nvPr/>
          </p:nvSpPr>
          <p:spPr>
            <a:xfrm>
              <a:off x="2110680" y="1584360"/>
              <a:ext cx="11880" cy="2512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12010" h="251461">
                  <a:moveTo>
                    <a:pt x="0" y="0"/>
                  </a:moveTo>
                  <a:lnTo>
                    <a:pt x="6561" y="6561"/>
                  </a:lnTo>
                  <a:lnTo>
                    <a:pt x="6914" y="7761"/>
                  </a:lnTo>
                  <a:lnTo>
                    <a:pt x="7150" y="9407"/>
                  </a:lnTo>
                  <a:lnTo>
                    <a:pt x="7411" y="14341"/>
                  </a:lnTo>
                  <a:lnTo>
                    <a:pt x="7558" y="26639"/>
                  </a:lnTo>
                  <a:lnTo>
                    <a:pt x="7612" y="50963"/>
                  </a:lnTo>
                  <a:lnTo>
                    <a:pt x="8462" y="55989"/>
                  </a:lnTo>
                  <a:lnTo>
                    <a:pt x="9875" y="61033"/>
                  </a:lnTo>
                  <a:lnTo>
                    <a:pt x="11663" y="66088"/>
                  </a:lnTo>
                  <a:lnTo>
                    <a:pt x="12009" y="71152"/>
                  </a:lnTo>
                  <a:lnTo>
                    <a:pt x="11393" y="76222"/>
                  </a:lnTo>
                  <a:lnTo>
                    <a:pt x="10135" y="81294"/>
                  </a:lnTo>
                  <a:lnTo>
                    <a:pt x="9297" y="86370"/>
                  </a:lnTo>
                  <a:lnTo>
                    <a:pt x="8738" y="91447"/>
                  </a:lnTo>
                  <a:lnTo>
                    <a:pt x="8365" y="96524"/>
                  </a:lnTo>
                  <a:lnTo>
                    <a:pt x="8117" y="102450"/>
                  </a:lnTo>
                  <a:lnTo>
                    <a:pt x="7841" y="115807"/>
                  </a:lnTo>
                  <a:lnTo>
                    <a:pt x="6921" y="122078"/>
                  </a:lnTo>
                  <a:lnTo>
                    <a:pt x="5461" y="127952"/>
                  </a:lnTo>
                  <a:lnTo>
                    <a:pt x="3641" y="133561"/>
                  </a:lnTo>
                  <a:lnTo>
                    <a:pt x="2427" y="139841"/>
                  </a:lnTo>
                  <a:lnTo>
                    <a:pt x="1618" y="146567"/>
                  </a:lnTo>
                  <a:lnTo>
                    <a:pt x="1079" y="153592"/>
                  </a:lnTo>
                  <a:lnTo>
                    <a:pt x="719" y="159968"/>
                  </a:lnTo>
                  <a:lnTo>
                    <a:pt x="320" y="171568"/>
                  </a:lnTo>
                  <a:lnTo>
                    <a:pt x="1060" y="177032"/>
                  </a:lnTo>
                  <a:lnTo>
                    <a:pt x="2400" y="182368"/>
                  </a:lnTo>
                  <a:lnTo>
                    <a:pt x="4140" y="187619"/>
                  </a:lnTo>
                  <a:lnTo>
                    <a:pt x="5300" y="192812"/>
                  </a:lnTo>
                  <a:lnTo>
                    <a:pt x="6073" y="197968"/>
                  </a:lnTo>
                  <a:lnTo>
                    <a:pt x="6589" y="203099"/>
                  </a:lnTo>
                  <a:lnTo>
                    <a:pt x="6933" y="207366"/>
                  </a:lnTo>
                  <a:lnTo>
                    <a:pt x="7162" y="211057"/>
                  </a:lnTo>
                  <a:lnTo>
                    <a:pt x="7417" y="218263"/>
                  </a:lnTo>
                  <a:lnTo>
                    <a:pt x="7615" y="243447"/>
                  </a:lnTo>
                  <a:lnTo>
                    <a:pt x="7620" y="2514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SMARTInkAnnotation337"/>
            <p:cNvSpPr/>
            <p:nvPr/>
          </p:nvSpPr>
          <p:spPr>
            <a:xfrm>
              <a:off x="1965960" y="1729080"/>
              <a:ext cx="273960" cy="22680"/>
            </a:xfrm>
            <a:custGeom>
              <a:avLst/>
              <a:gdLst>
                <a:gd name="textAreaLeft" fmla="*/ 0 w 273960"/>
                <a:gd name="textAreaRight" fmla="*/ 274320 w 27396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74321" h="22861">
                  <a:moveTo>
                    <a:pt x="0" y="22860"/>
                  </a:moveTo>
                  <a:lnTo>
                    <a:pt x="36332" y="22860"/>
                  </a:lnTo>
                  <a:lnTo>
                    <a:pt x="41155" y="22013"/>
                  </a:lnTo>
                  <a:lnTo>
                    <a:pt x="46063" y="20602"/>
                  </a:lnTo>
                  <a:lnTo>
                    <a:pt x="51029" y="18815"/>
                  </a:lnTo>
                  <a:lnTo>
                    <a:pt x="56879" y="17623"/>
                  </a:lnTo>
                  <a:lnTo>
                    <a:pt x="63319" y="16829"/>
                  </a:lnTo>
                  <a:lnTo>
                    <a:pt x="70153" y="16299"/>
                  </a:lnTo>
                  <a:lnTo>
                    <a:pt x="77249" y="15100"/>
                  </a:lnTo>
                  <a:lnTo>
                    <a:pt x="84519" y="13453"/>
                  </a:lnTo>
                  <a:lnTo>
                    <a:pt x="91906" y="11509"/>
                  </a:lnTo>
                  <a:lnTo>
                    <a:pt x="99371" y="10213"/>
                  </a:lnTo>
                  <a:lnTo>
                    <a:pt x="106887" y="9348"/>
                  </a:lnTo>
                  <a:lnTo>
                    <a:pt x="114438" y="8772"/>
                  </a:lnTo>
                  <a:lnTo>
                    <a:pt x="121166" y="8388"/>
                  </a:lnTo>
                  <a:lnTo>
                    <a:pt x="133156" y="7961"/>
                  </a:lnTo>
                  <a:lnTo>
                    <a:pt x="160734" y="7687"/>
                  </a:lnTo>
                  <a:lnTo>
                    <a:pt x="239803" y="7621"/>
                  </a:lnTo>
                  <a:lnTo>
                    <a:pt x="244535" y="6774"/>
                  </a:lnTo>
                  <a:lnTo>
                    <a:pt x="248537" y="5363"/>
                  </a:lnTo>
                  <a:lnTo>
                    <a:pt x="252051" y="3575"/>
                  </a:lnTo>
                  <a:lnTo>
                    <a:pt x="255241" y="2384"/>
                  </a:lnTo>
                  <a:lnTo>
                    <a:pt x="258214" y="1589"/>
                  </a:lnTo>
                  <a:lnTo>
                    <a:pt x="261043" y="1060"/>
                  </a:lnTo>
                  <a:lnTo>
                    <a:pt x="266443" y="471"/>
                  </a:lnTo>
                  <a:lnTo>
                    <a:pt x="2743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SMARTInkAnnotation338"/>
            <p:cNvSpPr/>
            <p:nvPr/>
          </p:nvSpPr>
          <p:spPr>
            <a:xfrm>
              <a:off x="3474720" y="1599480"/>
              <a:ext cx="335160" cy="18288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335281" h="182881">
                  <a:moveTo>
                    <a:pt x="335280" y="0"/>
                  </a:moveTo>
                  <a:lnTo>
                    <a:pt x="324674" y="10606"/>
                  </a:lnTo>
                  <a:lnTo>
                    <a:pt x="317584" y="15438"/>
                  </a:lnTo>
                  <a:lnTo>
                    <a:pt x="313323" y="17912"/>
                  </a:lnTo>
                  <a:lnTo>
                    <a:pt x="308789" y="21255"/>
                  </a:lnTo>
                  <a:lnTo>
                    <a:pt x="304073" y="25177"/>
                  </a:lnTo>
                  <a:lnTo>
                    <a:pt x="299235" y="29484"/>
                  </a:lnTo>
                  <a:lnTo>
                    <a:pt x="294317" y="33203"/>
                  </a:lnTo>
                  <a:lnTo>
                    <a:pt x="289345" y="36529"/>
                  </a:lnTo>
                  <a:lnTo>
                    <a:pt x="284337" y="39593"/>
                  </a:lnTo>
                  <a:lnTo>
                    <a:pt x="265152" y="51995"/>
                  </a:lnTo>
                  <a:lnTo>
                    <a:pt x="220845" y="81385"/>
                  </a:lnTo>
                  <a:lnTo>
                    <a:pt x="212423" y="86430"/>
                  </a:lnTo>
                  <a:lnTo>
                    <a:pt x="203423" y="91487"/>
                  </a:lnTo>
                  <a:lnTo>
                    <a:pt x="194035" y="96551"/>
                  </a:lnTo>
                  <a:lnTo>
                    <a:pt x="185237" y="101621"/>
                  </a:lnTo>
                  <a:lnTo>
                    <a:pt x="176831" y="106694"/>
                  </a:lnTo>
                  <a:lnTo>
                    <a:pt x="168687" y="111769"/>
                  </a:lnTo>
                  <a:lnTo>
                    <a:pt x="160718" y="116000"/>
                  </a:lnTo>
                  <a:lnTo>
                    <a:pt x="152866" y="119666"/>
                  </a:lnTo>
                  <a:lnTo>
                    <a:pt x="145090" y="122957"/>
                  </a:lnTo>
                  <a:lnTo>
                    <a:pt x="136520" y="126845"/>
                  </a:lnTo>
                  <a:lnTo>
                    <a:pt x="117967" y="135680"/>
                  </a:lnTo>
                  <a:lnTo>
                    <a:pt x="109971" y="140407"/>
                  </a:lnTo>
                  <a:lnTo>
                    <a:pt x="102947" y="145251"/>
                  </a:lnTo>
                  <a:lnTo>
                    <a:pt x="96571" y="150174"/>
                  </a:lnTo>
                  <a:lnTo>
                    <a:pt x="88935" y="154303"/>
                  </a:lnTo>
                  <a:lnTo>
                    <a:pt x="80456" y="157902"/>
                  </a:lnTo>
                  <a:lnTo>
                    <a:pt x="71418" y="161148"/>
                  </a:lnTo>
                  <a:lnTo>
                    <a:pt x="63699" y="164159"/>
                  </a:lnTo>
                  <a:lnTo>
                    <a:pt x="56859" y="167013"/>
                  </a:lnTo>
                  <a:lnTo>
                    <a:pt x="50606" y="169762"/>
                  </a:lnTo>
                  <a:lnTo>
                    <a:pt x="43897" y="171595"/>
                  </a:lnTo>
                  <a:lnTo>
                    <a:pt x="36885" y="172816"/>
                  </a:lnTo>
                  <a:lnTo>
                    <a:pt x="29670" y="173631"/>
                  </a:lnTo>
                  <a:lnTo>
                    <a:pt x="19396" y="176794"/>
                  </a:lnTo>
                  <a:lnTo>
                    <a:pt x="12007" y="180175"/>
                  </a:lnTo>
                  <a:lnTo>
                    <a:pt x="8851" y="181077"/>
                  </a:lnTo>
                  <a:lnTo>
                    <a:pt x="0" y="1828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SMARTInkAnnotation339"/>
            <p:cNvSpPr/>
            <p:nvPr/>
          </p:nvSpPr>
          <p:spPr>
            <a:xfrm>
              <a:off x="3512880" y="1614600"/>
              <a:ext cx="236160" cy="1828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236222" h="182881">
                  <a:moveTo>
                    <a:pt x="0" y="0"/>
                  </a:moveTo>
                  <a:lnTo>
                    <a:pt x="8091" y="4045"/>
                  </a:lnTo>
                  <a:lnTo>
                    <a:pt x="14320" y="8289"/>
                  </a:lnTo>
                  <a:lnTo>
                    <a:pt x="20758" y="13844"/>
                  </a:lnTo>
                  <a:lnTo>
                    <a:pt x="29263" y="21958"/>
                  </a:lnTo>
                  <a:lnTo>
                    <a:pt x="43572" y="36045"/>
                  </a:lnTo>
                  <a:lnTo>
                    <a:pt x="49368" y="40964"/>
                  </a:lnTo>
                  <a:lnTo>
                    <a:pt x="55772" y="45936"/>
                  </a:lnTo>
                  <a:lnTo>
                    <a:pt x="62582" y="50944"/>
                  </a:lnTo>
                  <a:lnTo>
                    <a:pt x="69661" y="56823"/>
                  </a:lnTo>
                  <a:lnTo>
                    <a:pt x="76921" y="63282"/>
                  </a:lnTo>
                  <a:lnTo>
                    <a:pt x="90914" y="76385"/>
                  </a:lnTo>
                  <a:lnTo>
                    <a:pt x="102778" y="87854"/>
                  </a:lnTo>
                  <a:lnTo>
                    <a:pt x="109159" y="93282"/>
                  </a:lnTo>
                  <a:lnTo>
                    <a:pt x="115952" y="98595"/>
                  </a:lnTo>
                  <a:lnTo>
                    <a:pt x="123022" y="103830"/>
                  </a:lnTo>
                  <a:lnTo>
                    <a:pt x="131121" y="109013"/>
                  </a:lnTo>
                  <a:lnTo>
                    <a:pt x="139907" y="114162"/>
                  </a:lnTo>
                  <a:lnTo>
                    <a:pt x="149152" y="119288"/>
                  </a:lnTo>
                  <a:lnTo>
                    <a:pt x="157854" y="124399"/>
                  </a:lnTo>
                  <a:lnTo>
                    <a:pt x="174298" y="134593"/>
                  </a:lnTo>
                  <a:lnTo>
                    <a:pt x="181392" y="139682"/>
                  </a:lnTo>
                  <a:lnTo>
                    <a:pt x="187815" y="144768"/>
                  </a:lnTo>
                  <a:lnTo>
                    <a:pt x="193790" y="149852"/>
                  </a:lnTo>
                  <a:lnTo>
                    <a:pt x="199467" y="154088"/>
                  </a:lnTo>
                  <a:lnTo>
                    <a:pt x="204945" y="157759"/>
                  </a:lnTo>
                  <a:lnTo>
                    <a:pt x="210290" y="161053"/>
                  </a:lnTo>
                  <a:lnTo>
                    <a:pt x="214700" y="164095"/>
                  </a:lnTo>
                  <a:lnTo>
                    <a:pt x="221858" y="169733"/>
                  </a:lnTo>
                  <a:lnTo>
                    <a:pt x="227862" y="175062"/>
                  </a:lnTo>
                  <a:lnTo>
                    <a:pt x="236221" y="1828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SMARTInkAnnotation340"/>
            <p:cNvSpPr/>
            <p:nvPr/>
          </p:nvSpPr>
          <p:spPr>
            <a:xfrm>
              <a:off x="2293560" y="2186280"/>
              <a:ext cx="312120" cy="21312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312421" h="213361">
                  <a:moveTo>
                    <a:pt x="312420" y="0"/>
                  </a:moveTo>
                  <a:lnTo>
                    <a:pt x="308375" y="0"/>
                  </a:lnTo>
                  <a:lnTo>
                    <a:pt x="307183" y="847"/>
                  </a:lnTo>
                  <a:lnTo>
                    <a:pt x="306389" y="2258"/>
                  </a:lnTo>
                  <a:lnTo>
                    <a:pt x="305859" y="4045"/>
                  </a:lnTo>
                  <a:lnTo>
                    <a:pt x="304660" y="5237"/>
                  </a:lnTo>
                  <a:lnTo>
                    <a:pt x="303013" y="6031"/>
                  </a:lnTo>
                  <a:lnTo>
                    <a:pt x="301069" y="6561"/>
                  </a:lnTo>
                  <a:lnTo>
                    <a:pt x="298926" y="8607"/>
                  </a:lnTo>
                  <a:lnTo>
                    <a:pt x="296651" y="11665"/>
                  </a:lnTo>
                  <a:lnTo>
                    <a:pt x="294287" y="15397"/>
                  </a:lnTo>
                  <a:lnTo>
                    <a:pt x="289403" y="21801"/>
                  </a:lnTo>
                  <a:lnTo>
                    <a:pt x="286916" y="24694"/>
                  </a:lnTo>
                  <a:lnTo>
                    <a:pt x="279636" y="30166"/>
                  </a:lnTo>
                  <a:lnTo>
                    <a:pt x="271602" y="35420"/>
                  </a:lnTo>
                  <a:lnTo>
                    <a:pt x="265210" y="40578"/>
                  </a:lnTo>
                  <a:lnTo>
                    <a:pt x="261474" y="43985"/>
                  </a:lnTo>
                  <a:lnTo>
                    <a:pt x="252806" y="52287"/>
                  </a:lnTo>
                  <a:lnTo>
                    <a:pt x="193031" y="111772"/>
                  </a:lnTo>
                  <a:lnTo>
                    <a:pt x="187107" y="116001"/>
                  </a:lnTo>
                  <a:lnTo>
                    <a:pt x="180618" y="119667"/>
                  </a:lnTo>
                  <a:lnTo>
                    <a:pt x="173752" y="122958"/>
                  </a:lnTo>
                  <a:lnTo>
                    <a:pt x="166635" y="126846"/>
                  </a:lnTo>
                  <a:lnTo>
                    <a:pt x="159350" y="131130"/>
                  </a:lnTo>
                  <a:lnTo>
                    <a:pt x="151953" y="135680"/>
                  </a:lnTo>
                  <a:lnTo>
                    <a:pt x="145329" y="140407"/>
                  </a:lnTo>
                  <a:lnTo>
                    <a:pt x="139219" y="145251"/>
                  </a:lnTo>
                  <a:lnTo>
                    <a:pt x="133453" y="150174"/>
                  </a:lnTo>
                  <a:lnTo>
                    <a:pt x="127069" y="155149"/>
                  </a:lnTo>
                  <a:lnTo>
                    <a:pt x="120273" y="160160"/>
                  </a:lnTo>
                  <a:lnTo>
                    <a:pt x="113202" y="165193"/>
                  </a:lnTo>
                  <a:lnTo>
                    <a:pt x="106795" y="169395"/>
                  </a:lnTo>
                  <a:lnTo>
                    <a:pt x="100830" y="173044"/>
                  </a:lnTo>
                  <a:lnTo>
                    <a:pt x="95160" y="176323"/>
                  </a:lnTo>
                  <a:lnTo>
                    <a:pt x="89686" y="180202"/>
                  </a:lnTo>
                  <a:lnTo>
                    <a:pt x="84345" y="184481"/>
                  </a:lnTo>
                  <a:lnTo>
                    <a:pt x="79090" y="189028"/>
                  </a:lnTo>
                  <a:lnTo>
                    <a:pt x="73047" y="192058"/>
                  </a:lnTo>
                  <a:lnTo>
                    <a:pt x="66478" y="194079"/>
                  </a:lnTo>
                  <a:lnTo>
                    <a:pt x="59559" y="195426"/>
                  </a:lnTo>
                  <a:lnTo>
                    <a:pt x="53252" y="197170"/>
                  </a:lnTo>
                  <a:lnTo>
                    <a:pt x="47355" y="199181"/>
                  </a:lnTo>
                  <a:lnTo>
                    <a:pt x="41730" y="201367"/>
                  </a:lnTo>
                  <a:lnTo>
                    <a:pt x="36287" y="202825"/>
                  </a:lnTo>
                  <a:lnTo>
                    <a:pt x="30964" y="203797"/>
                  </a:lnTo>
                  <a:lnTo>
                    <a:pt x="25723" y="204444"/>
                  </a:lnTo>
                  <a:lnTo>
                    <a:pt x="17641" y="207422"/>
                  </a:lnTo>
                  <a:lnTo>
                    <a:pt x="11227" y="210721"/>
                  </a:lnTo>
                  <a:lnTo>
                    <a:pt x="8332" y="211601"/>
                  </a:lnTo>
                  <a:lnTo>
                    <a:pt x="0" y="2133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SMARTInkAnnotation341"/>
            <p:cNvSpPr/>
            <p:nvPr/>
          </p:nvSpPr>
          <p:spPr>
            <a:xfrm>
              <a:off x="2270880" y="2216520"/>
              <a:ext cx="319680" cy="198000"/>
            </a:xfrm>
            <a:custGeom>
              <a:avLst/>
              <a:gdLst>
                <a:gd name="textAreaLeft" fmla="*/ 0 w 319680"/>
                <a:gd name="textAreaRight" fmla="*/ 320040 w 31968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320041" h="198121">
                  <a:moveTo>
                    <a:pt x="0" y="0"/>
                  </a:moveTo>
                  <a:lnTo>
                    <a:pt x="10606" y="0"/>
                  </a:lnTo>
                  <a:lnTo>
                    <a:pt x="12151" y="847"/>
                  </a:lnTo>
                  <a:lnTo>
                    <a:pt x="13180" y="2258"/>
                  </a:lnTo>
                  <a:lnTo>
                    <a:pt x="13867" y="4046"/>
                  </a:lnTo>
                  <a:lnTo>
                    <a:pt x="15171" y="5237"/>
                  </a:lnTo>
                  <a:lnTo>
                    <a:pt x="16888" y="6031"/>
                  </a:lnTo>
                  <a:lnTo>
                    <a:pt x="21899" y="7761"/>
                  </a:lnTo>
                  <a:lnTo>
                    <a:pt x="29771" y="11352"/>
                  </a:lnTo>
                  <a:lnTo>
                    <a:pt x="43723" y="18133"/>
                  </a:lnTo>
                  <a:lnTo>
                    <a:pt x="47775" y="21402"/>
                  </a:lnTo>
                  <a:lnTo>
                    <a:pt x="51324" y="25275"/>
                  </a:lnTo>
                  <a:lnTo>
                    <a:pt x="54536" y="29550"/>
                  </a:lnTo>
                  <a:lnTo>
                    <a:pt x="58371" y="33247"/>
                  </a:lnTo>
                  <a:lnTo>
                    <a:pt x="62621" y="36558"/>
                  </a:lnTo>
                  <a:lnTo>
                    <a:pt x="85653" y="52001"/>
                  </a:lnTo>
                  <a:lnTo>
                    <a:pt x="91816" y="56681"/>
                  </a:lnTo>
                  <a:lnTo>
                    <a:pt x="97617" y="61494"/>
                  </a:lnTo>
                  <a:lnTo>
                    <a:pt x="103178" y="66396"/>
                  </a:lnTo>
                  <a:lnTo>
                    <a:pt x="113873" y="76359"/>
                  </a:lnTo>
                  <a:lnTo>
                    <a:pt x="119095" y="81386"/>
                  </a:lnTo>
                  <a:lnTo>
                    <a:pt x="125117" y="85584"/>
                  </a:lnTo>
                  <a:lnTo>
                    <a:pt x="131671" y="89229"/>
                  </a:lnTo>
                  <a:lnTo>
                    <a:pt x="138581" y="92506"/>
                  </a:lnTo>
                  <a:lnTo>
                    <a:pt x="145727" y="96384"/>
                  </a:lnTo>
                  <a:lnTo>
                    <a:pt x="153032" y="100663"/>
                  </a:lnTo>
                  <a:lnTo>
                    <a:pt x="167921" y="109933"/>
                  </a:lnTo>
                  <a:lnTo>
                    <a:pt x="205777" y="134714"/>
                  </a:lnTo>
                  <a:lnTo>
                    <a:pt x="228611" y="149888"/>
                  </a:lnTo>
                  <a:lnTo>
                    <a:pt x="235380" y="154112"/>
                  </a:lnTo>
                  <a:lnTo>
                    <a:pt x="241587" y="157775"/>
                  </a:lnTo>
                  <a:lnTo>
                    <a:pt x="247418" y="161063"/>
                  </a:lnTo>
                  <a:lnTo>
                    <a:pt x="258413" y="166975"/>
                  </a:lnTo>
                  <a:lnTo>
                    <a:pt x="263715" y="169737"/>
                  </a:lnTo>
                  <a:lnTo>
                    <a:pt x="269790" y="172425"/>
                  </a:lnTo>
                  <a:lnTo>
                    <a:pt x="276380" y="175063"/>
                  </a:lnTo>
                  <a:lnTo>
                    <a:pt x="283313" y="177669"/>
                  </a:lnTo>
                  <a:lnTo>
                    <a:pt x="289629" y="180252"/>
                  </a:lnTo>
                  <a:lnTo>
                    <a:pt x="295533" y="182822"/>
                  </a:lnTo>
                  <a:lnTo>
                    <a:pt x="301162" y="185381"/>
                  </a:lnTo>
                  <a:lnTo>
                    <a:pt x="309674" y="190483"/>
                  </a:lnTo>
                  <a:lnTo>
                    <a:pt x="320040" y="198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SMARTInkAnnotation342"/>
            <p:cNvSpPr/>
            <p:nvPr/>
          </p:nvSpPr>
          <p:spPr>
            <a:xfrm>
              <a:off x="2720520" y="2307960"/>
              <a:ext cx="205560" cy="1512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05741" h="15241">
                  <a:moveTo>
                    <a:pt x="0" y="15240"/>
                  </a:moveTo>
                  <a:lnTo>
                    <a:pt x="6561" y="15240"/>
                  </a:lnTo>
                  <a:lnTo>
                    <a:pt x="7761" y="14394"/>
                  </a:lnTo>
                  <a:lnTo>
                    <a:pt x="9407" y="12982"/>
                  </a:lnTo>
                  <a:lnTo>
                    <a:pt x="11352" y="11195"/>
                  </a:lnTo>
                  <a:lnTo>
                    <a:pt x="14341" y="10003"/>
                  </a:lnTo>
                  <a:lnTo>
                    <a:pt x="18028" y="9209"/>
                  </a:lnTo>
                  <a:lnTo>
                    <a:pt x="22178" y="8679"/>
                  </a:lnTo>
                  <a:lnTo>
                    <a:pt x="27486" y="8326"/>
                  </a:lnTo>
                  <a:lnTo>
                    <a:pt x="33564" y="8091"/>
                  </a:lnTo>
                  <a:lnTo>
                    <a:pt x="51996" y="7760"/>
                  </a:lnTo>
                  <a:lnTo>
                    <a:pt x="77440" y="7648"/>
                  </a:lnTo>
                  <a:lnTo>
                    <a:pt x="83800" y="6792"/>
                  </a:lnTo>
                  <a:lnTo>
                    <a:pt x="89733" y="5375"/>
                  </a:lnTo>
                  <a:lnTo>
                    <a:pt x="95382" y="3583"/>
                  </a:lnTo>
                  <a:lnTo>
                    <a:pt x="100841" y="2389"/>
                  </a:lnTo>
                  <a:lnTo>
                    <a:pt x="106175" y="1593"/>
                  </a:lnTo>
                  <a:lnTo>
                    <a:pt x="111423" y="1062"/>
                  </a:lnTo>
                  <a:lnTo>
                    <a:pt x="117462" y="708"/>
                  </a:lnTo>
                  <a:lnTo>
                    <a:pt x="130945" y="315"/>
                  </a:lnTo>
                  <a:lnTo>
                    <a:pt x="191920" y="5"/>
                  </a:lnTo>
                  <a:lnTo>
                    <a:pt x="20574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SMARTInkAnnotation343"/>
            <p:cNvSpPr/>
            <p:nvPr/>
          </p:nvSpPr>
          <p:spPr>
            <a:xfrm>
              <a:off x="2728080" y="2407320"/>
              <a:ext cx="174960" cy="75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75261" h="7593">
                  <a:moveTo>
                    <a:pt x="0" y="7592"/>
                  </a:moveTo>
                  <a:lnTo>
                    <a:pt x="77720" y="7592"/>
                  </a:lnTo>
                  <a:lnTo>
                    <a:pt x="83987" y="6745"/>
                  </a:lnTo>
                  <a:lnTo>
                    <a:pt x="89858" y="5334"/>
                  </a:lnTo>
                  <a:lnTo>
                    <a:pt x="95465" y="3547"/>
                  </a:lnTo>
                  <a:lnTo>
                    <a:pt x="100897" y="2355"/>
                  </a:lnTo>
                  <a:lnTo>
                    <a:pt x="106211" y="1561"/>
                  </a:lnTo>
                  <a:lnTo>
                    <a:pt x="111447" y="1031"/>
                  </a:lnTo>
                  <a:lnTo>
                    <a:pt x="117479" y="678"/>
                  </a:lnTo>
                  <a:lnTo>
                    <a:pt x="130953" y="286"/>
                  </a:lnTo>
                  <a:lnTo>
                    <a:pt x="160733" y="0"/>
                  </a:lnTo>
                  <a:lnTo>
                    <a:pt x="163882" y="837"/>
                  </a:lnTo>
                  <a:lnTo>
                    <a:pt x="166828" y="2242"/>
                  </a:lnTo>
                  <a:lnTo>
                    <a:pt x="175260" y="75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SMARTInkAnnotation344"/>
            <p:cNvSpPr/>
            <p:nvPr/>
          </p:nvSpPr>
          <p:spPr>
            <a:xfrm>
              <a:off x="3132360" y="2300400"/>
              <a:ext cx="326880" cy="11412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327203" h="114187">
                  <a:moveTo>
                    <a:pt x="129082" y="7619"/>
                  </a:moveTo>
                  <a:lnTo>
                    <a:pt x="129082" y="1058"/>
                  </a:lnTo>
                  <a:lnTo>
                    <a:pt x="128235" y="705"/>
                  </a:lnTo>
                  <a:lnTo>
                    <a:pt x="121776" y="27"/>
                  </a:lnTo>
                  <a:lnTo>
                    <a:pt x="110119" y="0"/>
                  </a:lnTo>
                  <a:lnTo>
                    <a:pt x="107973" y="846"/>
                  </a:lnTo>
                  <a:lnTo>
                    <a:pt x="100061" y="6083"/>
                  </a:lnTo>
                  <a:lnTo>
                    <a:pt x="96189" y="8288"/>
                  </a:lnTo>
                  <a:lnTo>
                    <a:pt x="91913" y="10605"/>
                  </a:lnTo>
                  <a:lnTo>
                    <a:pt x="87369" y="13843"/>
                  </a:lnTo>
                  <a:lnTo>
                    <a:pt x="82647" y="17695"/>
                  </a:lnTo>
                  <a:lnTo>
                    <a:pt x="77805" y="21957"/>
                  </a:lnTo>
                  <a:lnTo>
                    <a:pt x="72884" y="25644"/>
                  </a:lnTo>
                  <a:lnTo>
                    <a:pt x="67910" y="28949"/>
                  </a:lnTo>
                  <a:lnTo>
                    <a:pt x="62900" y="31999"/>
                  </a:lnTo>
                  <a:lnTo>
                    <a:pt x="57868" y="35726"/>
                  </a:lnTo>
                  <a:lnTo>
                    <a:pt x="52819" y="39903"/>
                  </a:lnTo>
                  <a:lnTo>
                    <a:pt x="47760" y="44382"/>
                  </a:lnTo>
                  <a:lnTo>
                    <a:pt x="42694" y="48214"/>
                  </a:lnTo>
                  <a:lnTo>
                    <a:pt x="37623" y="51616"/>
                  </a:lnTo>
                  <a:lnTo>
                    <a:pt x="32550" y="54730"/>
                  </a:lnTo>
                  <a:lnTo>
                    <a:pt x="28320" y="58500"/>
                  </a:lnTo>
                  <a:lnTo>
                    <a:pt x="24654" y="62707"/>
                  </a:lnTo>
                  <a:lnTo>
                    <a:pt x="21363" y="67204"/>
                  </a:lnTo>
                  <a:lnTo>
                    <a:pt x="18323" y="71049"/>
                  </a:lnTo>
                  <a:lnTo>
                    <a:pt x="15450" y="74459"/>
                  </a:lnTo>
                  <a:lnTo>
                    <a:pt x="12687" y="77579"/>
                  </a:lnTo>
                  <a:lnTo>
                    <a:pt x="7360" y="83304"/>
                  </a:lnTo>
                  <a:lnTo>
                    <a:pt x="4754" y="86016"/>
                  </a:lnTo>
                  <a:lnTo>
                    <a:pt x="3017" y="89517"/>
                  </a:lnTo>
                  <a:lnTo>
                    <a:pt x="1858" y="93544"/>
                  </a:lnTo>
                  <a:lnTo>
                    <a:pt x="0" y="104084"/>
                  </a:lnTo>
                  <a:lnTo>
                    <a:pt x="694" y="105796"/>
                  </a:lnTo>
                  <a:lnTo>
                    <a:pt x="2003" y="107784"/>
                  </a:lnTo>
                  <a:lnTo>
                    <a:pt x="3723" y="109955"/>
                  </a:lnTo>
                  <a:lnTo>
                    <a:pt x="6562" y="111404"/>
                  </a:lnTo>
                  <a:lnTo>
                    <a:pt x="14233" y="113012"/>
                  </a:lnTo>
                  <a:lnTo>
                    <a:pt x="23287" y="113727"/>
                  </a:lnTo>
                  <a:lnTo>
                    <a:pt x="32955" y="114045"/>
                  </a:lnTo>
                  <a:lnTo>
                    <a:pt x="42896" y="114186"/>
                  </a:lnTo>
                  <a:lnTo>
                    <a:pt x="52960" y="111991"/>
                  </a:lnTo>
                  <a:lnTo>
                    <a:pt x="58014" y="110220"/>
                  </a:lnTo>
                  <a:lnTo>
                    <a:pt x="63077" y="108193"/>
                  </a:lnTo>
                  <a:lnTo>
                    <a:pt x="68145" y="105995"/>
                  </a:lnTo>
                  <a:lnTo>
                    <a:pt x="73217" y="103683"/>
                  </a:lnTo>
                  <a:lnTo>
                    <a:pt x="83369" y="101114"/>
                  </a:lnTo>
                  <a:lnTo>
                    <a:pt x="88447" y="100429"/>
                  </a:lnTo>
                  <a:lnTo>
                    <a:pt x="94371" y="98279"/>
                  </a:lnTo>
                  <a:lnTo>
                    <a:pt x="100862" y="95152"/>
                  </a:lnTo>
                  <a:lnTo>
                    <a:pt x="107728" y="91375"/>
                  </a:lnTo>
                  <a:lnTo>
                    <a:pt x="113153" y="88010"/>
                  </a:lnTo>
                  <a:lnTo>
                    <a:pt x="117616" y="84919"/>
                  </a:lnTo>
                  <a:lnTo>
                    <a:pt x="121438" y="82013"/>
                  </a:lnTo>
                  <a:lnTo>
                    <a:pt x="125679" y="79228"/>
                  </a:lnTo>
                  <a:lnTo>
                    <a:pt x="130200" y="76525"/>
                  </a:lnTo>
                  <a:lnTo>
                    <a:pt x="134907" y="73876"/>
                  </a:lnTo>
                  <a:lnTo>
                    <a:pt x="138045" y="71264"/>
                  </a:lnTo>
                  <a:lnTo>
                    <a:pt x="140138" y="68676"/>
                  </a:lnTo>
                  <a:lnTo>
                    <a:pt x="141532" y="66103"/>
                  </a:lnTo>
                  <a:lnTo>
                    <a:pt x="147541" y="54393"/>
                  </a:lnTo>
                  <a:lnTo>
                    <a:pt x="149855" y="51502"/>
                  </a:lnTo>
                  <a:lnTo>
                    <a:pt x="152244" y="49574"/>
                  </a:lnTo>
                  <a:lnTo>
                    <a:pt x="154683" y="48289"/>
                  </a:lnTo>
                  <a:lnTo>
                    <a:pt x="156309" y="46586"/>
                  </a:lnTo>
                  <a:lnTo>
                    <a:pt x="157394" y="44604"/>
                  </a:lnTo>
                  <a:lnTo>
                    <a:pt x="158116" y="42435"/>
                  </a:lnTo>
                  <a:lnTo>
                    <a:pt x="159445" y="40143"/>
                  </a:lnTo>
                  <a:lnTo>
                    <a:pt x="161177" y="37769"/>
                  </a:lnTo>
                  <a:lnTo>
                    <a:pt x="167161" y="30504"/>
                  </a:lnTo>
                  <a:lnTo>
                    <a:pt x="167173" y="30490"/>
                  </a:lnTo>
                  <a:lnTo>
                    <a:pt x="167179" y="34528"/>
                  </a:lnTo>
                  <a:lnTo>
                    <a:pt x="168026" y="36565"/>
                  </a:lnTo>
                  <a:lnTo>
                    <a:pt x="169439" y="38770"/>
                  </a:lnTo>
                  <a:lnTo>
                    <a:pt x="171226" y="41086"/>
                  </a:lnTo>
                  <a:lnTo>
                    <a:pt x="173265" y="43477"/>
                  </a:lnTo>
                  <a:lnTo>
                    <a:pt x="175470" y="45918"/>
                  </a:lnTo>
                  <a:lnTo>
                    <a:pt x="180179" y="50888"/>
                  </a:lnTo>
                  <a:lnTo>
                    <a:pt x="185094" y="55919"/>
                  </a:lnTo>
                  <a:lnTo>
                    <a:pt x="188436" y="58445"/>
                  </a:lnTo>
                  <a:lnTo>
                    <a:pt x="192358" y="60976"/>
                  </a:lnTo>
                  <a:lnTo>
                    <a:pt x="196666" y="63511"/>
                  </a:lnTo>
                  <a:lnTo>
                    <a:pt x="201231" y="66047"/>
                  </a:lnTo>
                  <a:lnTo>
                    <a:pt x="210819" y="71122"/>
                  </a:lnTo>
                  <a:lnTo>
                    <a:pt x="240882" y="86359"/>
                  </a:lnTo>
                  <a:lnTo>
                    <a:pt x="246795" y="88899"/>
                  </a:lnTo>
                  <a:lnTo>
                    <a:pt x="253278" y="91439"/>
                  </a:lnTo>
                  <a:lnTo>
                    <a:pt x="260139" y="93979"/>
                  </a:lnTo>
                  <a:lnTo>
                    <a:pt x="266406" y="95673"/>
                  </a:lnTo>
                  <a:lnTo>
                    <a:pt x="272279" y="96802"/>
                  </a:lnTo>
                  <a:lnTo>
                    <a:pt x="277886" y="97554"/>
                  </a:lnTo>
                  <a:lnTo>
                    <a:pt x="283318" y="98056"/>
                  </a:lnTo>
                  <a:lnTo>
                    <a:pt x="288633" y="98390"/>
                  </a:lnTo>
                  <a:lnTo>
                    <a:pt x="293869" y="98613"/>
                  </a:lnTo>
                  <a:lnTo>
                    <a:pt x="299053" y="99608"/>
                  </a:lnTo>
                  <a:lnTo>
                    <a:pt x="304203" y="101119"/>
                  </a:lnTo>
                  <a:lnTo>
                    <a:pt x="313593" y="104208"/>
                  </a:lnTo>
                  <a:lnTo>
                    <a:pt x="317283" y="105032"/>
                  </a:lnTo>
                  <a:lnTo>
                    <a:pt x="327202" y="10667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SMARTInkAnnotation345"/>
            <p:cNvSpPr/>
            <p:nvPr/>
          </p:nvSpPr>
          <p:spPr>
            <a:xfrm>
              <a:off x="3611880" y="2163240"/>
              <a:ext cx="129240" cy="26640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129541" h="266701">
                  <a:moveTo>
                    <a:pt x="129540" y="0"/>
                  </a:moveTo>
                  <a:lnTo>
                    <a:pt x="129540" y="4045"/>
                  </a:lnTo>
                  <a:lnTo>
                    <a:pt x="128694" y="6084"/>
                  </a:lnTo>
                  <a:lnTo>
                    <a:pt x="123457" y="13844"/>
                  </a:lnTo>
                  <a:lnTo>
                    <a:pt x="121252" y="17696"/>
                  </a:lnTo>
                  <a:lnTo>
                    <a:pt x="118934" y="21957"/>
                  </a:lnTo>
                  <a:lnTo>
                    <a:pt x="116543" y="25645"/>
                  </a:lnTo>
                  <a:lnTo>
                    <a:pt x="114102" y="28950"/>
                  </a:lnTo>
                  <a:lnTo>
                    <a:pt x="111628" y="32000"/>
                  </a:lnTo>
                  <a:lnTo>
                    <a:pt x="109132" y="36573"/>
                  </a:lnTo>
                  <a:lnTo>
                    <a:pt x="106621" y="42162"/>
                  </a:lnTo>
                  <a:lnTo>
                    <a:pt x="104101" y="48428"/>
                  </a:lnTo>
                  <a:lnTo>
                    <a:pt x="101574" y="54299"/>
                  </a:lnTo>
                  <a:lnTo>
                    <a:pt x="96509" y="65337"/>
                  </a:lnTo>
                  <a:lnTo>
                    <a:pt x="93973" y="71498"/>
                  </a:lnTo>
                  <a:lnTo>
                    <a:pt x="91435" y="78146"/>
                  </a:lnTo>
                  <a:lnTo>
                    <a:pt x="88897" y="85117"/>
                  </a:lnTo>
                  <a:lnTo>
                    <a:pt x="85511" y="92305"/>
                  </a:lnTo>
                  <a:lnTo>
                    <a:pt x="81561" y="99636"/>
                  </a:lnTo>
                  <a:lnTo>
                    <a:pt x="77234" y="107065"/>
                  </a:lnTo>
                  <a:lnTo>
                    <a:pt x="73502" y="114556"/>
                  </a:lnTo>
                  <a:lnTo>
                    <a:pt x="70169" y="122091"/>
                  </a:lnTo>
                  <a:lnTo>
                    <a:pt x="67099" y="129654"/>
                  </a:lnTo>
                  <a:lnTo>
                    <a:pt x="63360" y="137236"/>
                  </a:lnTo>
                  <a:lnTo>
                    <a:pt x="59173" y="144831"/>
                  </a:lnTo>
                  <a:lnTo>
                    <a:pt x="54689" y="152434"/>
                  </a:lnTo>
                  <a:lnTo>
                    <a:pt x="50853" y="160043"/>
                  </a:lnTo>
                  <a:lnTo>
                    <a:pt x="47448" y="167655"/>
                  </a:lnTo>
                  <a:lnTo>
                    <a:pt x="44332" y="175270"/>
                  </a:lnTo>
                  <a:lnTo>
                    <a:pt x="40562" y="182887"/>
                  </a:lnTo>
                  <a:lnTo>
                    <a:pt x="36354" y="190505"/>
                  </a:lnTo>
                  <a:lnTo>
                    <a:pt x="31856" y="198123"/>
                  </a:lnTo>
                  <a:lnTo>
                    <a:pt x="24600" y="211104"/>
                  </a:lnTo>
                  <a:lnTo>
                    <a:pt x="18554" y="222517"/>
                  </a:lnTo>
                  <a:lnTo>
                    <a:pt x="13044" y="233235"/>
                  </a:lnTo>
                  <a:lnTo>
                    <a:pt x="10031" y="241384"/>
                  </a:lnTo>
                  <a:lnTo>
                    <a:pt x="9227" y="244743"/>
                  </a:lnTo>
                  <a:lnTo>
                    <a:pt x="6076" y="250732"/>
                  </a:lnTo>
                  <a:lnTo>
                    <a:pt x="4051" y="253515"/>
                  </a:lnTo>
                  <a:lnTo>
                    <a:pt x="1800" y="258865"/>
                  </a:lnTo>
                  <a:lnTo>
                    <a:pt x="0" y="2667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MARTInkAnnotation346"/>
            <p:cNvSpPr/>
            <p:nvPr/>
          </p:nvSpPr>
          <p:spPr>
            <a:xfrm>
              <a:off x="3710880" y="2163240"/>
              <a:ext cx="136800" cy="25884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37160" h="259081">
                  <a:moveTo>
                    <a:pt x="137159" y="0"/>
                  </a:moveTo>
                  <a:lnTo>
                    <a:pt x="133114" y="0"/>
                  </a:lnTo>
                  <a:lnTo>
                    <a:pt x="131922" y="847"/>
                  </a:lnTo>
                  <a:lnTo>
                    <a:pt x="131128" y="2258"/>
                  </a:lnTo>
                  <a:lnTo>
                    <a:pt x="130598" y="4045"/>
                  </a:lnTo>
                  <a:lnTo>
                    <a:pt x="130010" y="10547"/>
                  </a:lnTo>
                  <a:lnTo>
                    <a:pt x="129853" y="14651"/>
                  </a:lnTo>
                  <a:lnTo>
                    <a:pt x="128055" y="19081"/>
                  </a:lnTo>
                  <a:lnTo>
                    <a:pt x="125163" y="23727"/>
                  </a:lnTo>
                  <a:lnTo>
                    <a:pt x="121542" y="28518"/>
                  </a:lnTo>
                  <a:lnTo>
                    <a:pt x="118281" y="34252"/>
                  </a:lnTo>
                  <a:lnTo>
                    <a:pt x="115261" y="40615"/>
                  </a:lnTo>
                  <a:lnTo>
                    <a:pt x="112400" y="47397"/>
                  </a:lnTo>
                  <a:lnTo>
                    <a:pt x="106964" y="59447"/>
                  </a:lnTo>
                  <a:lnTo>
                    <a:pt x="104329" y="65032"/>
                  </a:lnTo>
                  <a:lnTo>
                    <a:pt x="101726" y="72141"/>
                  </a:lnTo>
                  <a:lnTo>
                    <a:pt x="99143" y="80268"/>
                  </a:lnTo>
                  <a:lnTo>
                    <a:pt x="96575" y="89072"/>
                  </a:lnTo>
                  <a:lnTo>
                    <a:pt x="92323" y="97481"/>
                  </a:lnTo>
                  <a:lnTo>
                    <a:pt x="86949" y="105628"/>
                  </a:lnTo>
                  <a:lnTo>
                    <a:pt x="80826" y="113598"/>
                  </a:lnTo>
                  <a:lnTo>
                    <a:pt x="75050" y="121452"/>
                  </a:lnTo>
                  <a:lnTo>
                    <a:pt x="64118" y="136952"/>
                  </a:lnTo>
                  <a:lnTo>
                    <a:pt x="48442" y="159958"/>
                  </a:lnTo>
                  <a:lnTo>
                    <a:pt x="44148" y="167599"/>
                  </a:lnTo>
                  <a:lnTo>
                    <a:pt x="40438" y="175233"/>
                  </a:lnTo>
                  <a:lnTo>
                    <a:pt x="37119" y="182862"/>
                  </a:lnTo>
                  <a:lnTo>
                    <a:pt x="33212" y="190488"/>
                  </a:lnTo>
                  <a:lnTo>
                    <a:pt x="28914" y="198112"/>
                  </a:lnTo>
                  <a:lnTo>
                    <a:pt x="24356" y="205735"/>
                  </a:lnTo>
                  <a:lnTo>
                    <a:pt x="20470" y="212510"/>
                  </a:lnTo>
                  <a:lnTo>
                    <a:pt x="13896" y="224553"/>
                  </a:lnTo>
                  <a:lnTo>
                    <a:pt x="10957" y="229289"/>
                  </a:lnTo>
                  <a:lnTo>
                    <a:pt x="8151" y="233293"/>
                  </a:lnTo>
                  <a:lnTo>
                    <a:pt x="5434" y="236808"/>
                  </a:lnTo>
                  <a:lnTo>
                    <a:pt x="2415" y="242973"/>
                  </a:lnTo>
                  <a:lnTo>
                    <a:pt x="1073" y="248535"/>
                  </a:lnTo>
                  <a:lnTo>
                    <a:pt x="318" y="255579"/>
                  </a:lnTo>
                  <a:lnTo>
                    <a:pt x="0" y="2590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SMARTInkAnnotation347"/>
            <p:cNvSpPr/>
            <p:nvPr/>
          </p:nvSpPr>
          <p:spPr>
            <a:xfrm>
              <a:off x="3543120" y="2277720"/>
              <a:ext cx="365400" cy="3780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65761" h="38101">
                  <a:moveTo>
                    <a:pt x="0" y="0"/>
                  </a:moveTo>
                  <a:lnTo>
                    <a:pt x="51441" y="0"/>
                  </a:lnTo>
                  <a:lnTo>
                    <a:pt x="60541" y="847"/>
                  </a:lnTo>
                  <a:lnTo>
                    <a:pt x="69994" y="2258"/>
                  </a:lnTo>
                  <a:lnTo>
                    <a:pt x="79683" y="4045"/>
                  </a:lnTo>
                  <a:lnTo>
                    <a:pt x="89529" y="5237"/>
                  </a:lnTo>
                  <a:lnTo>
                    <a:pt x="99479" y="6031"/>
                  </a:lnTo>
                  <a:lnTo>
                    <a:pt x="109499" y="6561"/>
                  </a:lnTo>
                  <a:lnTo>
                    <a:pt x="120413" y="7761"/>
                  </a:lnTo>
                  <a:lnTo>
                    <a:pt x="131922" y="9407"/>
                  </a:lnTo>
                  <a:lnTo>
                    <a:pt x="143828" y="11352"/>
                  </a:lnTo>
                  <a:lnTo>
                    <a:pt x="155999" y="12648"/>
                  </a:lnTo>
                  <a:lnTo>
                    <a:pt x="168345" y="13512"/>
                  </a:lnTo>
                  <a:lnTo>
                    <a:pt x="180810" y="14088"/>
                  </a:lnTo>
                  <a:lnTo>
                    <a:pt x="192506" y="15319"/>
                  </a:lnTo>
                  <a:lnTo>
                    <a:pt x="203691" y="16986"/>
                  </a:lnTo>
                  <a:lnTo>
                    <a:pt x="250021" y="25745"/>
                  </a:lnTo>
                  <a:lnTo>
                    <a:pt x="261507" y="27323"/>
                  </a:lnTo>
                  <a:lnTo>
                    <a:pt x="272551" y="28376"/>
                  </a:lnTo>
                  <a:lnTo>
                    <a:pt x="283301" y="29077"/>
                  </a:lnTo>
                  <a:lnTo>
                    <a:pt x="302018" y="29856"/>
                  </a:lnTo>
                  <a:lnTo>
                    <a:pt x="310565" y="30064"/>
                  </a:lnTo>
                  <a:lnTo>
                    <a:pt x="318804" y="31050"/>
                  </a:lnTo>
                  <a:lnTo>
                    <a:pt x="326836" y="32553"/>
                  </a:lnTo>
                  <a:lnTo>
                    <a:pt x="334730" y="34402"/>
                  </a:lnTo>
                  <a:lnTo>
                    <a:pt x="341687" y="35635"/>
                  </a:lnTo>
                  <a:lnTo>
                    <a:pt x="348018" y="36457"/>
                  </a:lnTo>
                  <a:lnTo>
                    <a:pt x="365760" y="381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SMARTInkAnnotation348"/>
            <p:cNvSpPr/>
            <p:nvPr/>
          </p:nvSpPr>
          <p:spPr>
            <a:xfrm>
              <a:off x="3512880" y="2361600"/>
              <a:ext cx="304560" cy="22680"/>
            </a:xfrm>
            <a:custGeom>
              <a:avLst/>
              <a:gdLst/>
              <a:ahLst/>
              <a:rect l="l" t="t" r="r" b="b"/>
              <a:pathLst>
                <a:path w="304801" h="22861">
                  <a:moveTo>
                    <a:pt x="0" y="0"/>
                  </a:moveTo>
                  <a:lnTo>
                    <a:pt x="4045" y="4045"/>
                  </a:lnTo>
                  <a:lnTo>
                    <a:pt x="6083" y="5237"/>
                  </a:lnTo>
                  <a:lnTo>
                    <a:pt x="8289" y="6031"/>
                  </a:lnTo>
                  <a:lnTo>
                    <a:pt x="10606" y="6561"/>
                  </a:lnTo>
                  <a:lnTo>
                    <a:pt x="15439" y="7150"/>
                  </a:lnTo>
                  <a:lnTo>
                    <a:pt x="21255" y="7411"/>
                  </a:lnTo>
                  <a:lnTo>
                    <a:pt x="34896" y="7558"/>
                  </a:lnTo>
                  <a:lnTo>
                    <a:pt x="200793" y="7620"/>
                  </a:lnTo>
                  <a:lnTo>
                    <a:pt x="210062" y="8467"/>
                  </a:lnTo>
                  <a:lnTo>
                    <a:pt x="218782" y="9878"/>
                  </a:lnTo>
                  <a:lnTo>
                    <a:pt x="227135" y="11666"/>
                  </a:lnTo>
                  <a:lnTo>
                    <a:pt x="235243" y="12857"/>
                  </a:lnTo>
                  <a:lnTo>
                    <a:pt x="243189" y="13651"/>
                  </a:lnTo>
                  <a:lnTo>
                    <a:pt x="251026" y="14181"/>
                  </a:lnTo>
                  <a:lnTo>
                    <a:pt x="259638" y="15380"/>
                  </a:lnTo>
                  <a:lnTo>
                    <a:pt x="268765" y="17027"/>
                  </a:lnTo>
                  <a:lnTo>
                    <a:pt x="278237" y="18972"/>
                  </a:lnTo>
                  <a:lnTo>
                    <a:pt x="285397" y="20268"/>
                  </a:lnTo>
                  <a:lnTo>
                    <a:pt x="291019" y="21132"/>
                  </a:lnTo>
                  <a:lnTo>
                    <a:pt x="304800" y="228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SMARTInkAnnotation349"/>
            <p:cNvSpPr/>
            <p:nvPr/>
          </p:nvSpPr>
          <p:spPr>
            <a:xfrm>
              <a:off x="4564440" y="2254680"/>
              <a:ext cx="190440" cy="1980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190501" h="198121">
                  <a:moveTo>
                    <a:pt x="190500" y="0"/>
                  </a:moveTo>
                  <a:lnTo>
                    <a:pt x="190500" y="11352"/>
                  </a:lnTo>
                  <a:lnTo>
                    <a:pt x="189653" y="13495"/>
                  </a:lnTo>
                  <a:lnTo>
                    <a:pt x="186455" y="18133"/>
                  </a:lnTo>
                  <a:lnTo>
                    <a:pt x="182212" y="23017"/>
                  </a:lnTo>
                  <a:lnTo>
                    <a:pt x="177503" y="28010"/>
                  </a:lnTo>
                  <a:lnTo>
                    <a:pt x="161687" y="44033"/>
                  </a:lnTo>
                  <a:lnTo>
                    <a:pt x="153423" y="52308"/>
                  </a:lnTo>
                  <a:lnTo>
                    <a:pt x="149696" y="56886"/>
                  </a:lnTo>
                  <a:lnTo>
                    <a:pt x="146364" y="61630"/>
                  </a:lnTo>
                  <a:lnTo>
                    <a:pt x="143296" y="66487"/>
                  </a:lnTo>
                  <a:lnTo>
                    <a:pt x="140404" y="70572"/>
                  </a:lnTo>
                  <a:lnTo>
                    <a:pt x="137630" y="74141"/>
                  </a:lnTo>
                  <a:lnTo>
                    <a:pt x="134933" y="77367"/>
                  </a:lnTo>
                  <a:lnTo>
                    <a:pt x="131442" y="81212"/>
                  </a:lnTo>
                  <a:lnTo>
                    <a:pt x="123048" y="89999"/>
                  </a:lnTo>
                  <a:lnTo>
                    <a:pt x="119285" y="94713"/>
                  </a:lnTo>
                  <a:lnTo>
                    <a:pt x="115930" y="99549"/>
                  </a:lnTo>
                  <a:lnTo>
                    <a:pt x="112847" y="104466"/>
                  </a:lnTo>
                  <a:lnTo>
                    <a:pt x="109098" y="108591"/>
                  </a:lnTo>
                  <a:lnTo>
                    <a:pt x="104905" y="112187"/>
                  </a:lnTo>
                  <a:lnTo>
                    <a:pt x="100417" y="115432"/>
                  </a:lnTo>
                  <a:lnTo>
                    <a:pt x="95732" y="119288"/>
                  </a:lnTo>
                  <a:lnTo>
                    <a:pt x="90914" y="123552"/>
                  </a:lnTo>
                  <a:lnTo>
                    <a:pt x="81046" y="132805"/>
                  </a:lnTo>
                  <a:lnTo>
                    <a:pt x="71016" y="142562"/>
                  </a:lnTo>
                  <a:lnTo>
                    <a:pt x="65971" y="146688"/>
                  </a:lnTo>
                  <a:lnTo>
                    <a:pt x="60913" y="150286"/>
                  </a:lnTo>
                  <a:lnTo>
                    <a:pt x="55849" y="153530"/>
                  </a:lnTo>
                  <a:lnTo>
                    <a:pt x="50779" y="157387"/>
                  </a:lnTo>
                  <a:lnTo>
                    <a:pt x="45707" y="161651"/>
                  </a:lnTo>
                  <a:lnTo>
                    <a:pt x="36400" y="170059"/>
                  </a:lnTo>
                  <a:lnTo>
                    <a:pt x="29443" y="176617"/>
                  </a:lnTo>
                  <a:lnTo>
                    <a:pt x="25555" y="179552"/>
                  </a:lnTo>
                  <a:lnTo>
                    <a:pt x="21270" y="182355"/>
                  </a:lnTo>
                  <a:lnTo>
                    <a:pt x="16720" y="185070"/>
                  </a:lnTo>
                  <a:lnTo>
                    <a:pt x="12841" y="187727"/>
                  </a:lnTo>
                  <a:lnTo>
                    <a:pt x="9407" y="190345"/>
                  </a:lnTo>
                  <a:lnTo>
                    <a:pt x="0" y="198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SMARTInkAnnotation350"/>
            <p:cNvSpPr/>
            <p:nvPr/>
          </p:nvSpPr>
          <p:spPr>
            <a:xfrm>
              <a:off x="4548960" y="2292840"/>
              <a:ext cx="243720" cy="13716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43840" h="137161">
                  <a:moveTo>
                    <a:pt x="0" y="0"/>
                  </a:moveTo>
                  <a:lnTo>
                    <a:pt x="6560" y="0"/>
                  </a:lnTo>
                  <a:lnTo>
                    <a:pt x="11351" y="4045"/>
                  </a:lnTo>
                  <a:lnTo>
                    <a:pt x="15769" y="8289"/>
                  </a:lnTo>
                  <a:lnTo>
                    <a:pt x="18133" y="10606"/>
                  </a:lnTo>
                  <a:lnTo>
                    <a:pt x="21401" y="12997"/>
                  </a:lnTo>
                  <a:lnTo>
                    <a:pt x="25274" y="15438"/>
                  </a:lnTo>
                  <a:lnTo>
                    <a:pt x="29549" y="17912"/>
                  </a:lnTo>
                  <a:lnTo>
                    <a:pt x="34092" y="21255"/>
                  </a:lnTo>
                  <a:lnTo>
                    <a:pt x="38815" y="25177"/>
                  </a:lnTo>
                  <a:lnTo>
                    <a:pt x="43656" y="29485"/>
                  </a:lnTo>
                  <a:lnTo>
                    <a:pt x="48577" y="33203"/>
                  </a:lnTo>
                  <a:lnTo>
                    <a:pt x="53552" y="36529"/>
                  </a:lnTo>
                  <a:lnTo>
                    <a:pt x="58561" y="39592"/>
                  </a:lnTo>
                  <a:lnTo>
                    <a:pt x="63594" y="43328"/>
                  </a:lnTo>
                  <a:lnTo>
                    <a:pt x="68642" y="47512"/>
                  </a:lnTo>
                  <a:lnTo>
                    <a:pt x="73701" y="51995"/>
                  </a:lnTo>
                  <a:lnTo>
                    <a:pt x="78767" y="55830"/>
                  </a:lnTo>
                  <a:lnTo>
                    <a:pt x="83838" y="59233"/>
                  </a:lnTo>
                  <a:lnTo>
                    <a:pt x="88912" y="62349"/>
                  </a:lnTo>
                  <a:lnTo>
                    <a:pt x="108188" y="74824"/>
                  </a:lnTo>
                  <a:lnTo>
                    <a:pt x="114459" y="78669"/>
                  </a:lnTo>
                  <a:lnTo>
                    <a:pt x="120332" y="82080"/>
                  </a:lnTo>
                  <a:lnTo>
                    <a:pt x="131374" y="88126"/>
                  </a:lnTo>
                  <a:lnTo>
                    <a:pt x="141926" y="93636"/>
                  </a:lnTo>
                  <a:lnTo>
                    <a:pt x="147957" y="97138"/>
                  </a:lnTo>
                  <a:lnTo>
                    <a:pt x="167734" y="109309"/>
                  </a:lnTo>
                  <a:lnTo>
                    <a:pt x="173629" y="112666"/>
                  </a:lnTo>
                  <a:lnTo>
                    <a:pt x="179252" y="115751"/>
                  </a:lnTo>
                  <a:lnTo>
                    <a:pt x="184695" y="117807"/>
                  </a:lnTo>
                  <a:lnTo>
                    <a:pt x="190016" y="119178"/>
                  </a:lnTo>
                  <a:lnTo>
                    <a:pt x="195257" y="120092"/>
                  </a:lnTo>
                  <a:lnTo>
                    <a:pt x="201291" y="121548"/>
                  </a:lnTo>
                  <a:lnTo>
                    <a:pt x="207854" y="123365"/>
                  </a:lnTo>
                  <a:lnTo>
                    <a:pt x="214769" y="125423"/>
                  </a:lnTo>
                  <a:lnTo>
                    <a:pt x="220226" y="126796"/>
                  </a:lnTo>
                  <a:lnTo>
                    <a:pt x="224710" y="127710"/>
                  </a:lnTo>
                  <a:lnTo>
                    <a:pt x="228546" y="128320"/>
                  </a:lnTo>
                  <a:lnTo>
                    <a:pt x="235067" y="131256"/>
                  </a:lnTo>
                  <a:lnTo>
                    <a:pt x="243839" y="1371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SMARTInkAnnotation351"/>
            <p:cNvSpPr/>
            <p:nvPr/>
          </p:nvSpPr>
          <p:spPr>
            <a:xfrm>
              <a:off x="4938480" y="2208960"/>
              <a:ext cx="14400" cy="220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14402" h="220981">
                  <a:moveTo>
                    <a:pt x="6781" y="0"/>
                  </a:moveTo>
                  <a:lnTo>
                    <a:pt x="6781" y="32065"/>
                  </a:lnTo>
                  <a:lnTo>
                    <a:pt x="5934" y="35770"/>
                  </a:lnTo>
                  <a:lnTo>
                    <a:pt x="4523" y="39934"/>
                  </a:lnTo>
                  <a:lnTo>
                    <a:pt x="2736" y="44403"/>
                  </a:lnTo>
                  <a:lnTo>
                    <a:pt x="2390" y="49075"/>
                  </a:lnTo>
                  <a:lnTo>
                    <a:pt x="3008" y="53883"/>
                  </a:lnTo>
                  <a:lnTo>
                    <a:pt x="4266" y="58782"/>
                  </a:lnTo>
                  <a:lnTo>
                    <a:pt x="4257" y="63741"/>
                  </a:lnTo>
                  <a:lnTo>
                    <a:pt x="3405" y="68741"/>
                  </a:lnTo>
                  <a:lnTo>
                    <a:pt x="1991" y="73768"/>
                  </a:lnTo>
                  <a:lnTo>
                    <a:pt x="1047" y="78811"/>
                  </a:lnTo>
                  <a:lnTo>
                    <a:pt x="419" y="83868"/>
                  </a:lnTo>
                  <a:lnTo>
                    <a:pt x="0" y="88932"/>
                  </a:lnTo>
                  <a:lnTo>
                    <a:pt x="566" y="94848"/>
                  </a:lnTo>
                  <a:lnTo>
                    <a:pt x="1791" y="101332"/>
                  </a:lnTo>
                  <a:lnTo>
                    <a:pt x="3454" y="108195"/>
                  </a:lnTo>
                  <a:lnTo>
                    <a:pt x="4563" y="114463"/>
                  </a:lnTo>
                  <a:lnTo>
                    <a:pt x="5303" y="120336"/>
                  </a:lnTo>
                  <a:lnTo>
                    <a:pt x="5796" y="125944"/>
                  </a:lnTo>
                  <a:lnTo>
                    <a:pt x="6124" y="131376"/>
                  </a:lnTo>
                  <a:lnTo>
                    <a:pt x="6489" y="141927"/>
                  </a:lnTo>
                  <a:lnTo>
                    <a:pt x="6743" y="165341"/>
                  </a:lnTo>
                  <a:lnTo>
                    <a:pt x="6773" y="181391"/>
                  </a:lnTo>
                  <a:lnTo>
                    <a:pt x="7622" y="185274"/>
                  </a:lnTo>
                  <a:lnTo>
                    <a:pt x="9035" y="188710"/>
                  </a:lnTo>
                  <a:lnTo>
                    <a:pt x="10824" y="191846"/>
                  </a:lnTo>
                  <a:lnTo>
                    <a:pt x="12016" y="194784"/>
                  </a:lnTo>
                  <a:lnTo>
                    <a:pt x="12811" y="197590"/>
                  </a:lnTo>
                  <a:lnTo>
                    <a:pt x="13341" y="200306"/>
                  </a:lnTo>
                  <a:lnTo>
                    <a:pt x="13695" y="203811"/>
                  </a:lnTo>
                  <a:lnTo>
                    <a:pt x="13930" y="207841"/>
                  </a:lnTo>
                  <a:lnTo>
                    <a:pt x="14401" y="2209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SMARTInkAnnotation352"/>
            <p:cNvSpPr/>
            <p:nvPr/>
          </p:nvSpPr>
          <p:spPr>
            <a:xfrm>
              <a:off x="4884480" y="2331000"/>
              <a:ext cx="174960" cy="3024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75261" h="30481">
                  <a:moveTo>
                    <a:pt x="0" y="30480"/>
                  </a:moveTo>
                  <a:lnTo>
                    <a:pt x="17912" y="30480"/>
                  </a:lnTo>
                  <a:lnTo>
                    <a:pt x="22102" y="29633"/>
                  </a:lnTo>
                  <a:lnTo>
                    <a:pt x="27435" y="28222"/>
                  </a:lnTo>
                  <a:lnTo>
                    <a:pt x="33530" y="26435"/>
                  </a:lnTo>
                  <a:lnTo>
                    <a:pt x="40133" y="25243"/>
                  </a:lnTo>
                  <a:lnTo>
                    <a:pt x="47076" y="24449"/>
                  </a:lnTo>
                  <a:lnTo>
                    <a:pt x="54244" y="23919"/>
                  </a:lnTo>
                  <a:lnTo>
                    <a:pt x="61563" y="22720"/>
                  </a:lnTo>
                  <a:lnTo>
                    <a:pt x="68982" y="21073"/>
                  </a:lnTo>
                  <a:lnTo>
                    <a:pt x="76468" y="19129"/>
                  </a:lnTo>
                  <a:lnTo>
                    <a:pt x="83998" y="16986"/>
                  </a:lnTo>
                  <a:lnTo>
                    <a:pt x="99140" y="12347"/>
                  </a:lnTo>
                  <a:lnTo>
                    <a:pt x="106733" y="10772"/>
                  </a:lnTo>
                  <a:lnTo>
                    <a:pt x="114335" y="9721"/>
                  </a:lnTo>
                  <a:lnTo>
                    <a:pt x="121944" y="9021"/>
                  </a:lnTo>
                  <a:lnTo>
                    <a:pt x="128709" y="7707"/>
                  </a:lnTo>
                  <a:lnTo>
                    <a:pt x="134913" y="5985"/>
                  </a:lnTo>
                  <a:lnTo>
                    <a:pt x="140742" y="3990"/>
                  </a:lnTo>
                  <a:lnTo>
                    <a:pt x="145475" y="2660"/>
                  </a:lnTo>
                  <a:lnTo>
                    <a:pt x="149476" y="1773"/>
                  </a:lnTo>
                  <a:lnTo>
                    <a:pt x="152991" y="1182"/>
                  </a:lnTo>
                  <a:lnTo>
                    <a:pt x="157027" y="788"/>
                  </a:lnTo>
                  <a:lnTo>
                    <a:pt x="161412" y="526"/>
                  </a:lnTo>
                  <a:lnTo>
                    <a:pt x="1752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SMARTInkAnnotation353"/>
            <p:cNvSpPr/>
            <p:nvPr/>
          </p:nvSpPr>
          <p:spPr>
            <a:xfrm>
              <a:off x="5189040" y="2216520"/>
              <a:ext cx="22680" cy="198000"/>
            </a:xfrm>
            <a:custGeom>
              <a:avLst/>
              <a:gdLst>
                <a:gd name="textAreaLeft" fmla="*/ 0 w 22680"/>
                <a:gd name="textAreaRight" fmla="*/ 22680 w 2268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22861" h="198121">
                  <a:moveTo>
                    <a:pt x="0" y="0"/>
                  </a:moveTo>
                  <a:lnTo>
                    <a:pt x="0" y="17913"/>
                  </a:lnTo>
                  <a:lnTo>
                    <a:pt x="847" y="21255"/>
                  </a:lnTo>
                  <a:lnTo>
                    <a:pt x="2258" y="25177"/>
                  </a:lnTo>
                  <a:lnTo>
                    <a:pt x="4045" y="29485"/>
                  </a:lnTo>
                  <a:lnTo>
                    <a:pt x="5237" y="34050"/>
                  </a:lnTo>
                  <a:lnTo>
                    <a:pt x="6031" y="38787"/>
                  </a:lnTo>
                  <a:lnTo>
                    <a:pt x="6561" y="43638"/>
                  </a:lnTo>
                  <a:lnTo>
                    <a:pt x="6914" y="49412"/>
                  </a:lnTo>
                  <a:lnTo>
                    <a:pt x="7306" y="62601"/>
                  </a:lnTo>
                  <a:lnTo>
                    <a:pt x="7593" y="96218"/>
                  </a:lnTo>
                  <a:lnTo>
                    <a:pt x="7619" y="149539"/>
                  </a:lnTo>
                  <a:lnTo>
                    <a:pt x="8466" y="154726"/>
                  </a:lnTo>
                  <a:lnTo>
                    <a:pt x="9877" y="159877"/>
                  </a:lnTo>
                  <a:lnTo>
                    <a:pt x="11665" y="165005"/>
                  </a:lnTo>
                  <a:lnTo>
                    <a:pt x="12857" y="170117"/>
                  </a:lnTo>
                  <a:lnTo>
                    <a:pt x="13651" y="175218"/>
                  </a:lnTo>
                  <a:lnTo>
                    <a:pt x="14181" y="180312"/>
                  </a:lnTo>
                  <a:lnTo>
                    <a:pt x="15381" y="184555"/>
                  </a:lnTo>
                  <a:lnTo>
                    <a:pt x="17027" y="188230"/>
                  </a:lnTo>
                  <a:lnTo>
                    <a:pt x="22860" y="198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SMARTInkAnnotation354"/>
            <p:cNvSpPr/>
            <p:nvPr/>
          </p:nvSpPr>
          <p:spPr>
            <a:xfrm>
              <a:off x="5295960" y="2186280"/>
              <a:ext cx="243000" cy="26316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243316" h="263288">
                  <a:moveTo>
                    <a:pt x="0" y="38069"/>
                  </a:moveTo>
                  <a:lnTo>
                    <a:pt x="0" y="23916"/>
                  </a:lnTo>
                  <a:lnTo>
                    <a:pt x="846" y="23554"/>
                  </a:lnTo>
                  <a:lnTo>
                    <a:pt x="4045" y="23151"/>
                  </a:lnTo>
                  <a:lnTo>
                    <a:pt x="10546" y="20715"/>
                  </a:lnTo>
                  <a:lnTo>
                    <a:pt x="14651" y="18879"/>
                  </a:lnTo>
                  <a:lnTo>
                    <a:pt x="21469" y="14583"/>
                  </a:lnTo>
                  <a:lnTo>
                    <a:pt x="24473" y="12252"/>
                  </a:lnTo>
                  <a:lnTo>
                    <a:pt x="28168" y="10697"/>
                  </a:lnTo>
                  <a:lnTo>
                    <a:pt x="32326" y="9661"/>
                  </a:lnTo>
                  <a:lnTo>
                    <a:pt x="36791" y="8971"/>
                  </a:lnTo>
                  <a:lnTo>
                    <a:pt x="42307" y="7664"/>
                  </a:lnTo>
                  <a:lnTo>
                    <a:pt x="48525" y="5946"/>
                  </a:lnTo>
                  <a:lnTo>
                    <a:pt x="55210" y="3953"/>
                  </a:lnTo>
                  <a:lnTo>
                    <a:pt x="62206" y="2625"/>
                  </a:lnTo>
                  <a:lnTo>
                    <a:pt x="69411" y="1740"/>
                  </a:lnTo>
                  <a:lnTo>
                    <a:pt x="76754" y="1150"/>
                  </a:lnTo>
                  <a:lnTo>
                    <a:pt x="85036" y="756"/>
                  </a:lnTo>
                  <a:lnTo>
                    <a:pt x="103270" y="319"/>
                  </a:lnTo>
                  <a:lnTo>
                    <a:pt x="152100" y="0"/>
                  </a:lnTo>
                  <a:lnTo>
                    <a:pt x="158974" y="836"/>
                  </a:lnTo>
                  <a:lnTo>
                    <a:pt x="165249" y="2241"/>
                  </a:lnTo>
                  <a:lnTo>
                    <a:pt x="171127" y="4024"/>
                  </a:lnTo>
                  <a:lnTo>
                    <a:pt x="175890" y="5212"/>
                  </a:lnTo>
                  <a:lnTo>
                    <a:pt x="183442" y="6533"/>
                  </a:lnTo>
                  <a:lnTo>
                    <a:pt x="189621" y="9377"/>
                  </a:lnTo>
                  <a:lnTo>
                    <a:pt x="192453" y="11321"/>
                  </a:lnTo>
                  <a:lnTo>
                    <a:pt x="194342" y="13464"/>
                  </a:lnTo>
                  <a:lnTo>
                    <a:pt x="195602" y="15739"/>
                  </a:lnTo>
                  <a:lnTo>
                    <a:pt x="196441" y="18102"/>
                  </a:lnTo>
                  <a:lnTo>
                    <a:pt x="196154" y="20525"/>
                  </a:lnTo>
                  <a:lnTo>
                    <a:pt x="195116" y="22986"/>
                  </a:lnTo>
                  <a:lnTo>
                    <a:pt x="189610" y="30496"/>
                  </a:lnTo>
                  <a:lnTo>
                    <a:pt x="187367" y="33020"/>
                  </a:lnTo>
                  <a:lnTo>
                    <a:pt x="183331" y="36397"/>
                  </a:lnTo>
                  <a:lnTo>
                    <a:pt x="178101" y="40341"/>
                  </a:lnTo>
                  <a:lnTo>
                    <a:pt x="172073" y="44664"/>
                  </a:lnTo>
                  <a:lnTo>
                    <a:pt x="165515" y="48392"/>
                  </a:lnTo>
                  <a:lnTo>
                    <a:pt x="158604" y="51724"/>
                  </a:lnTo>
                  <a:lnTo>
                    <a:pt x="151456" y="54793"/>
                  </a:lnTo>
                  <a:lnTo>
                    <a:pt x="144151" y="58531"/>
                  </a:lnTo>
                  <a:lnTo>
                    <a:pt x="136740" y="62717"/>
                  </a:lnTo>
                  <a:lnTo>
                    <a:pt x="129261" y="67201"/>
                  </a:lnTo>
                  <a:lnTo>
                    <a:pt x="122580" y="71037"/>
                  </a:lnTo>
                  <a:lnTo>
                    <a:pt x="110642" y="77557"/>
                  </a:lnTo>
                  <a:lnTo>
                    <a:pt x="105935" y="80481"/>
                  </a:lnTo>
                  <a:lnTo>
                    <a:pt x="98447" y="85988"/>
                  </a:lnTo>
                  <a:lnTo>
                    <a:pt x="94418" y="88642"/>
                  </a:lnTo>
                  <a:lnTo>
                    <a:pt x="90039" y="91258"/>
                  </a:lnTo>
                  <a:lnTo>
                    <a:pt x="85425" y="93848"/>
                  </a:lnTo>
                  <a:lnTo>
                    <a:pt x="83197" y="96422"/>
                  </a:lnTo>
                  <a:lnTo>
                    <a:pt x="82559" y="98984"/>
                  </a:lnTo>
                  <a:lnTo>
                    <a:pt x="82979" y="101539"/>
                  </a:lnTo>
                  <a:lnTo>
                    <a:pt x="85704" y="106636"/>
                  </a:lnTo>
                  <a:lnTo>
                    <a:pt x="87616" y="109181"/>
                  </a:lnTo>
                  <a:lnTo>
                    <a:pt x="94256" y="114265"/>
                  </a:lnTo>
                  <a:lnTo>
                    <a:pt x="98397" y="116806"/>
                  </a:lnTo>
                  <a:lnTo>
                    <a:pt x="103698" y="119348"/>
                  </a:lnTo>
                  <a:lnTo>
                    <a:pt x="109772" y="121888"/>
                  </a:lnTo>
                  <a:lnTo>
                    <a:pt x="116362" y="124428"/>
                  </a:lnTo>
                  <a:lnTo>
                    <a:pt x="124141" y="126969"/>
                  </a:lnTo>
                  <a:lnTo>
                    <a:pt x="132714" y="129509"/>
                  </a:lnTo>
                  <a:lnTo>
                    <a:pt x="141816" y="132049"/>
                  </a:lnTo>
                  <a:lnTo>
                    <a:pt x="158703" y="137129"/>
                  </a:lnTo>
                  <a:lnTo>
                    <a:pt x="166762" y="139669"/>
                  </a:lnTo>
                  <a:lnTo>
                    <a:pt x="174675" y="143056"/>
                  </a:lnTo>
                  <a:lnTo>
                    <a:pt x="182490" y="147007"/>
                  </a:lnTo>
                  <a:lnTo>
                    <a:pt x="190240" y="151334"/>
                  </a:lnTo>
                  <a:lnTo>
                    <a:pt x="197946" y="155066"/>
                  </a:lnTo>
                  <a:lnTo>
                    <a:pt x="205624" y="158400"/>
                  </a:lnTo>
                  <a:lnTo>
                    <a:pt x="213283" y="161470"/>
                  </a:lnTo>
                  <a:lnTo>
                    <a:pt x="219235" y="166056"/>
                  </a:lnTo>
                  <a:lnTo>
                    <a:pt x="224050" y="171654"/>
                  </a:lnTo>
                  <a:lnTo>
                    <a:pt x="228107" y="177926"/>
                  </a:lnTo>
                  <a:lnTo>
                    <a:pt x="231658" y="182954"/>
                  </a:lnTo>
                  <a:lnTo>
                    <a:pt x="237861" y="190798"/>
                  </a:lnTo>
                  <a:lnTo>
                    <a:pt x="239854" y="194922"/>
                  </a:lnTo>
                  <a:lnTo>
                    <a:pt x="241183" y="199364"/>
                  </a:lnTo>
                  <a:lnTo>
                    <a:pt x="242069" y="204019"/>
                  </a:lnTo>
                  <a:lnTo>
                    <a:pt x="242659" y="208816"/>
                  </a:lnTo>
                  <a:lnTo>
                    <a:pt x="243053" y="213707"/>
                  </a:lnTo>
                  <a:lnTo>
                    <a:pt x="243315" y="218661"/>
                  </a:lnTo>
                  <a:lnTo>
                    <a:pt x="242643" y="222810"/>
                  </a:lnTo>
                  <a:lnTo>
                    <a:pt x="239639" y="229679"/>
                  </a:lnTo>
                  <a:lnTo>
                    <a:pt x="233224" y="235553"/>
                  </a:lnTo>
                  <a:lnTo>
                    <a:pt x="211263" y="250269"/>
                  </a:lnTo>
                  <a:lnTo>
                    <a:pt x="205188" y="253196"/>
                  </a:lnTo>
                  <a:lnTo>
                    <a:pt x="199446" y="255147"/>
                  </a:lnTo>
                  <a:lnTo>
                    <a:pt x="193924" y="256447"/>
                  </a:lnTo>
                  <a:lnTo>
                    <a:pt x="188549" y="257315"/>
                  </a:lnTo>
                  <a:lnTo>
                    <a:pt x="183273" y="257893"/>
                  </a:lnTo>
                  <a:lnTo>
                    <a:pt x="178062" y="258278"/>
                  </a:lnTo>
                  <a:lnTo>
                    <a:pt x="172048" y="259382"/>
                  </a:lnTo>
                  <a:lnTo>
                    <a:pt x="165499" y="260964"/>
                  </a:lnTo>
                  <a:lnTo>
                    <a:pt x="158593" y="262866"/>
                  </a:lnTo>
                  <a:lnTo>
                    <a:pt x="151449" y="263287"/>
                  </a:lnTo>
                  <a:lnTo>
                    <a:pt x="144145" y="262721"/>
                  </a:lnTo>
                  <a:lnTo>
                    <a:pt x="136737" y="261497"/>
                  </a:lnTo>
                  <a:lnTo>
                    <a:pt x="130104" y="260681"/>
                  </a:lnTo>
                  <a:lnTo>
                    <a:pt x="123990" y="260137"/>
                  </a:lnTo>
                  <a:lnTo>
                    <a:pt x="118220" y="259774"/>
                  </a:lnTo>
                  <a:lnTo>
                    <a:pt x="112680" y="258686"/>
                  </a:lnTo>
                  <a:lnTo>
                    <a:pt x="107293" y="257114"/>
                  </a:lnTo>
                  <a:lnTo>
                    <a:pt x="102009" y="255219"/>
                  </a:lnTo>
                  <a:lnTo>
                    <a:pt x="96793" y="253109"/>
                  </a:lnTo>
                  <a:lnTo>
                    <a:pt x="91622" y="250856"/>
                  </a:lnTo>
                  <a:lnTo>
                    <a:pt x="81361" y="246094"/>
                  </a:lnTo>
                  <a:lnTo>
                    <a:pt x="71156" y="241156"/>
                  </a:lnTo>
                  <a:lnTo>
                    <a:pt x="66910" y="238654"/>
                  </a:lnTo>
                  <a:lnTo>
                    <a:pt x="59936" y="233616"/>
                  </a:lnTo>
                  <a:lnTo>
                    <a:pt x="53341" y="22856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SMARTInkAnnotation355"/>
            <p:cNvSpPr/>
            <p:nvPr/>
          </p:nvSpPr>
          <p:spPr>
            <a:xfrm>
              <a:off x="2895480" y="3077640"/>
              <a:ext cx="525600" cy="7560"/>
            </a:xfrm>
            <a:custGeom>
              <a:avLst/>
              <a:gdLst>
                <a:gd name="textAreaLeft" fmla="*/ 0 w 525600"/>
                <a:gd name="textAreaRight" fmla="*/ 525960 w 525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525781" h="7621">
                  <a:moveTo>
                    <a:pt x="0" y="0"/>
                  </a:moveTo>
                  <a:lnTo>
                    <a:pt x="22924" y="0"/>
                  </a:lnTo>
                  <a:lnTo>
                    <a:pt x="26289" y="847"/>
                  </a:lnTo>
                  <a:lnTo>
                    <a:pt x="29380" y="2258"/>
                  </a:lnTo>
                  <a:lnTo>
                    <a:pt x="32287" y="4045"/>
                  </a:lnTo>
                  <a:lnTo>
                    <a:pt x="36764" y="5237"/>
                  </a:lnTo>
                  <a:lnTo>
                    <a:pt x="42289" y="6032"/>
                  </a:lnTo>
                  <a:lnTo>
                    <a:pt x="48513" y="6561"/>
                  </a:lnTo>
                  <a:lnTo>
                    <a:pt x="54355" y="6914"/>
                  </a:lnTo>
                  <a:lnTo>
                    <a:pt x="65362" y="7306"/>
                  </a:lnTo>
                  <a:lnTo>
                    <a:pt x="81079" y="7527"/>
                  </a:lnTo>
                  <a:lnTo>
                    <a:pt x="52578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SMARTInkAnnotation356"/>
            <p:cNvSpPr/>
            <p:nvPr/>
          </p:nvSpPr>
          <p:spPr>
            <a:xfrm>
              <a:off x="1821240" y="3054960"/>
              <a:ext cx="228240" cy="16740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28601" h="167641">
                  <a:moveTo>
                    <a:pt x="228600" y="0"/>
                  </a:moveTo>
                  <a:lnTo>
                    <a:pt x="217249" y="11352"/>
                  </a:lnTo>
                  <a:lnTo>
                    <a:pt x="215953" y="13494"/>
                  </a:lnTo>
                  <a:lnTo>
                    <a:pt x="214512" y="18133"/>
                  </a:lnTo>
                  <a:lnTo>
                    <a:pt x="211614" y="23017"/>
                  </a:lnTo>
                  <a:lnTo>
                    <a:pt x="209656" y="25505"/>
                  </a:lnTo>
                  <a:lnTo>
                    <a:pt x="207504" y="28857"/>
                  </a:lnTo>
                  <a:lnTo>
                    <a:pt x="205223" y="32785"/>
                  </a:lnTo>
                  <a:lnTo>
                    <a:pt x="202855" y="37097"/>
                  </a:lnTo>
                  <a:lnTo>
                    <a:pt x="199583" y="40818"/>
                  </a:lnTo>
                  <a:lnTo>
                    <a:pt x="195709" y="44145"/>
                  </a:lnTo>
                  <a:lnTo>
                    <a:pt x="191433" y="47210"/>
                  </a:lnTo>
                  <a:lnTo>
                    <a:pt x="186889" y="50947"/>
                  </a:lnTo>
                  <a:lnTo>
                    <a:pt x="182166" y="55131"/>
                  </a:lnTo>
                  <a:lnTo>
                    <a:pt x="172403" y="64296"/>
                  </a:lnTo>
                  <a:lnTo>
                    <a:pt x="147278" y="89005"/>
                  </a:lnTo>
                  <a:lnTo>
                    <a:pt x="141366" y="94050"/>
                  </a:lnTo>
                  <a:lnTo>
                    <a:pt x="134884" y="99107"/>
                  </a:lnTo>
                  <a:lnTo>
                    <a:pt x="128022" y="104171"/>
                  </a:lnTo>
                  <a:lnTo>
                    <a:pt x="121755" y="108394"/>
                  </a:lnTo>
                  <a:lnTo>
                    <a:pt x="115883" y="112056"/>
                  </a:lnTo>
                  <a:lnTo>
                    <a:pt x="110276" y="115344"/>
                  </a:lnTo>
                  <a:lnTo>
                    <a:pt x="97271" y="123513"/>
                  </a:lnTo>
                  <a:lnTo>
                    <a:pt x="90248" y="128062"/>
                  </a:lnTo>
                  <a:lnTo>
                    <a:pt x="83025" y="131941"/>
                  </a:lnTo>
                  <a:lnTo>
                    <a:pt x="75670" y="135374"/>
                  </a:lnTo>
                  <a:lnTo>
                    <a:pt x="68227" y="138510"/>
                  </a:lnTo>
                  <a:lnTo>
                    <a:pt x="55441" y="144251"/>
                  </a:lnTo>
                  <a:lnTo>
                    <a:pt x="38722" y="152243"/>
                  </a:lnTo>
                  <a:lnTo>
                    <a:pt x="33435" y="154836"/>
                  </a:lnTo>
                  <a:lnTo>
                    <a:pt x="29063" y="156564"/>
                  </a:lnTo>
                  <a:lnTo>
                    <a:pt x="21948" y="158484"/>
                  </a:lnTo>
                  <a:lnTo>
                    <a:pt x="15964" y="161595"/>
                  </a:lnTo>
                  <a:lnTo>
                    <a:pt x="13182" y="163610"/>
                  </a:lnTo>
                  <a:lnTo>
                    <a:pt x="7834" y="165849"/>
                  </a:lnTo>
                  <a:lnTo>
                    <a:pt x="0" y="1676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SMARTInkAnnotation357"/>
            <p:cNvSpPr/>
            <p:nvPr/>
          </p:nvSpPr>
          <p:spPr>
            <a:xfrm>
              <a:off x="1828800" y="3070080"/>
              <a:ext cx="243720" cy="13716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43841" h="137161">
                  <a:moveTo>
                    <a:pt x="0" y="0"/>
                  </a:moveTo>
                  <a:lnTo>
                    <a:pt x="18133" y="0"/>
                  </a:lnTo>
                  <a:lnTo>
                    <a:pt x="25275" y="2258"/>
                  </a:lnTo>
                  <a:lnTo>
                    <a:pt x="29550" y="4046"/>
                  </a:lnTo>
                  <a:lnTo>
                    <a:pt x="34093" y="6084"/>
                  </a:lnTo>
                  <a:lnTo>
                    <a:pt x="43657" y="10606"/>
                  </a:lnTo>
                  <a:lnTo>
                    <a:pt x="81792" y="29485"/>
                  </a:lnTo>
                  <a:lnTo>
                    <a:pt x="89242" y="34050"/>
                  </a:lnTo>
                  <a:lnTo>
                    <a:pt x="95901" y="38786"/>
                  </a:lnTo>
                  <a:lnTo>
                    <a:pt x="102034" y="43638"/>
                  </a:lnTo>
                  <a:lnTo>
                    <a:pt x="108663" y="47718"/>
                  </a:lnTo>
                  <a:lnTo>
                    <a:pt x="115622" y="51286"/>
                  </a:lnTo>
                  <a:lnTo>
                    <a:pt x="122801" y="54510"/>
                  </a:lnTo>
                  <a:lnTo>
                    <a:pt x="130128" y="58354"/>
                  </a:lnTo>
                  <a:lnTo>
                    <a:pt x="137552" y="62609"/>
                  </a:lnTo>
                  <a:lnTo>
                    <a:pt x="145041" y="67140"/>
                  </a:lnTo>
                  <a:lnTo>
                    <a:pt x="160136" y="76689"/>
                  </a:lnTo>
                  <a:lnTo>
                    <a:pt x="167717" y="81606"/>
                  </a:lnTo>
                  <a:lnTo>
                    <a:pt x="174465" y="86578"/>
                  </a:lnTo>
                  <a:lnTo>
                    <a:pt x="180657" y="91585"/>
                  </a:lnTo>
                  <a:lnTo>
                    <a:pt x="186478" y="96617"/>
                  </a:lnTo>
                  <a:lnTo>
                    <a:pt x="192898" y="102511"/>
                  </a:lnTo>
                  <a:lnTo>
                    <a:pt x="206806" y="115834"/>
                  </a:lnTo>
                  <a:lnTo>
                    <a:pt x="213224" y="120403"/>
                  </a:lnTo>
                  <a:lnTo>
                    <a:pt x="219196" y="123449"/>
                  </a:lnTo>
                  <a:lnTo>
                    <a:pt x="224871" y="125479"/>
                  </a:lnTo>
                  <a:lnTo>
                    <a:pt x="229501" y="127679"/>
                  </a:lnTo>
                  <a:lnTo>
                    <a:pt x="233434" y="129993"/>
                  </a:lnTo>
                  <a:lnTo>
                    <a:pt x="243840" y="1371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SMARTInkAnnotation358"/>
            <p:cNvSpPr/>
            <p:nvPr/>
          </p:nvSpPr>
          <p:spPr>
            <a:xfrm>
              <a:off x="1569960" y="3641760"/>
              <a:ext cx="243720" cy="16740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43841" h="167641">
                  <a:moveTo>
                    <a:pt x="243840" y="0"/>
                  </a:moveTo>
                  <a:lnTo>
                    <a:pt x="239795" y="4045"/>
                  </a:lnTo>
                  <a:lnTo>
                    <a:pt x="238603" y="6084"/>
                  </a:lnTo>
                  <a:lnTo>
                    <a:pt x="237279" y="10606"/>
                  </a:lnTo>
                  <a:lnTo>
                    <a:pt x="236079" y="12151"/>
                  </a:lnTo>
                  <a:lnTo>
                    <a:pt x="234433" y="13180"/>
                  </a:lnTo>
                  <a:lnTo>
                    <a:pt x="232489" y="13867"/>
                  </a:lnTo>
                  <a:lnTo>
                    <a:pt x="230346" y="16018"/>
                  </a:lnTo>
                  <a:lnTo>
                    <a:pt x="228071" y="19146"/>
                  </a:lnTo>
                  <a:lnTo>
                    <a:pt x="225707" y="22924"/>
                  </a:lnTo>
                  <a:lnTo>
                    <a:pt x="223285" y="26289"/>
                  </a:lnTo>
                  <a:lnTo>
                    <a:pt x="220823" y="29380"/>
                  </a:lnTo>
                  <a:lnTo>
                    <a:pt x="218335" y="32287"/>
                  </a:lnTo>
                  <a:lnTo>
                    <a:pt x="214984" y="35071"/>
                  </a:lnTo>
                  <a:lnTo>
                    <a:pt x="211056" y="37774"/>
                  </a:lnTo>
                  <a:lnTo>
                    <a:pt x="206744" y="40423"/>
                  </a:lnTo>
                  <a:lnTo>
                    <a:pt x="203022" y="43882"/>
                  </a:lnTo>
                  <a:lnTo>
                    <a:pt x="199695" y="47881"/>
                  </a:lnTo>
                  <a:lnTo>
                    <a:pt x="196630" y="52241"/>
                  </a:lnTo>
                  <a:lnTo>
                    <a:pt x="192893" y="55994"/>
                  </a:lnTo>
                  <a:lnTo>
                    <a:pt x="188709" y="59343"/>
                  </a:lnTo>
                  <a:lnTo>
                    <a:pt x="184226" y="62422"/>
                  </a:lnTo>
                  <a:lnTo>
                    <a:pt x="179544" y="66168"/>
                  </a:lnTo>
                  <a:lnTo>
                    <a:pt x="174729" y="70359"/>
                  </a:lnTo>
                  <a:lnTo>
                    <a:pt x="169826" y="74846"/>
                  </a:lnTo>
                  <a:lnTo>
                    <a:pt x="159863" y="84347"/>
                  </a:lnTo>
                  <a:lnTo>
                    <a:pt x="154835" y="89251"/>
                  </a:lnTo>
                  <a:lnTo>
                    <a:pt x="148944" y="93367"/>
                  </a:lnTo>
                  <a:lnTo>
                    <a:pt x="142476" y="96958"/>
                  </a:lnTo>
                  <a:lnTo>
                    <a:pt x="135624" y="100199"/>
                  </a:lnTo>
                  <a:lnTo>
                    <a:pt x="129363" y="104053"/>
                  </a:lnTo>
                  <a:lnTo>
                    <a:pt x="123495" y="108315"/>
                  </a:lnTo>
                  <a:lnTo>
                    <a:pt x="117890" y="112850"/>
                  </a:lnTo>
                  <a:lnTo>
                    <a:pt x="112460" y="116720"/>
                  </a:lnTo>
                  <a:lnTo>
                    <a:pt x="107147" y="120147"/>
                  </a:lnTo>
                  <a:lnTo>
                    <a:pt x="101911" y="123278"/>
                  </a:lnTo>
                  <a:lnTo>
                    <a:pt x="89320" y="131273"/>
                  </a:lnTo>
                  <a:lnTo>
                    <a:pt x="82407" y="135775"/>
                  </a:lnTo>
                  <a:lnTo>
                    <a:pt x="76105" y="138777"/>
                  </a:lnTo>
                  <a:lnTo>
                    <a:pt x="70210" y="140778"/>
                  </a:lnTo>
                  <a:lnTo>
                    <a:pt x="64587" y="142112"/>
                  </a:lnTo>
                  <a:lnTo>
                    <a:pt x="58298" y="143848"/>
                  </a:lnTo>
                  <a:lnTo>
                    <a:pt x="44537" y="148035"/>
                  </a:lnTo>
                  <a:lnTo>
                    <a:pt x="39004" y="150336"/>
                  </a:lnTo>
                  <a:lnTo>
                    <a:pt x="34469" y="152717"/>
                  </a:lnTo>
                  <a:lnTo>
                    <a:pt x="30600" y="155152"/>
                  </a:lnTo>
                  <a:lnTo>
                    <a:pt x="26327" y="157621"/>
                  </a:lnTo>
                  <a:lnTo>
                    <a:pt x="17063" y="162623"/>
                  </a:lnTo>
                  <a:lnTo>
                    <a:pt x="9559" y="165410"/>
                  </a:lnTo>
                  <a:lnTo>
                    <a:pt x="0" y="1676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SMARTInkAnnotation359"/>
            <p:cNvSpPr/>
            <p:nvPr/>
          </p:nvSpPr>
          <p:spPr>
            <a:xfrm>
              <a:off x="1600200" y="3626640"/>
              <a:ext cx="236160" cy="1980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236221" h="198121">
                  <a:moveTo>
                    <a:pt x="0" y="0"/>
                  </a:moveTo>
                  <a:lnTo>
                    <a:pt x="0" y="4045"/>
                  </a:lnTo>
                  <a:lnTo>
                    <a:pt x="847" y="5237"/>
                  </a:lnTo>
                  <a:lnTo>
                    <a:pt x="2258" y="6031"/>
                  </a:lnTo>
                  <a:lnTo>
                    <a:pt x="6084" y="6914"/>
                  </a:lnTo>
                  <a:lnTo>
                    <a:pt x="10606" y="7307"/>
                  </a:lnTo>
                  <a:lnTo>
                    <a:pt x="12997" y="8258"/>
                  </a:lnTo>
                  <a:lnTo>
                    <a:pt x="17912" y="11573"/>
                  </a:lnTo>
                  <a:lnTo>
                    <a:pt x="21255" y="14488"/>
                  </a:lnTo>
                  <a:lnTo>
                    <a:pt x="25177" y="18126"/>
                  </a:lnTo>
                  <a:lnTo>
                    <a:pt x="39593" y="32085"/>
                  </a:lnTo>
                  <a:lnTo>
                    <a:pt x="44175" y="35784"/>
                  </a:lnTo>
                  <a:lnTo>
                    <a:pt x="49770" y="39942"/>
                  </a:lnTo>
                  <a:lnTo>
                    <a:pt x="56040" y="44409"/>
                  </a:lnTo>
                  <a:lnTo>
                    <a:pt x="61913" y="49079"/>
                  </a:lnTo>
                  <a:lnTo>
                    <a:pt x="67522" y="53886"/>
                  </a:lnTo>
                  <a:lnTo>
                    <a:pt x="72955" y="58784"/>
                  </a:lnTo>
                  <a:lnTo>
                    <a:pt x="78270" y="64590"/>
                  </a:lnTo>
                  <a:lnTo>
                    <a:pt x="83507" y="71000"/>
                  </a:lnTo>
                  <a:lnTo>
                    <a:pt x="88691" y="77813"/>
                  </a:lnTo>
                  <a:lnTo>
                    <a:pt x="93841" y="84048"/>
                  </a:lnTo>
                  <a:lnTo>
                    <a:pt x="98967" y="89899"/>
                  </a:lnTo>
                  <a:lnTo>
                    <a:pt x="104078" y="95493"/>
                  </a:lnTo>
                  <a:lnTo>
                    <a:pt x="110026" y="100915"/>
                  </a:lnTo>
                  <a:lnTo>
                    <a:pt x="116530" y="106224"/>
                  </a:lnTo>
                  <a:lnTo>
                    <a:pt x="123407" y="111456"/>
                  </a:lnTo>
                  <a:lnTo>
                    <a:pt x="129685" y="116637"/>
                  </a:lnTo>
                  <a:lnTo>
                    <a:pt x="135563" y="121785"/>
                  </a:lnTo>
                  <a:lnTo>
                    <a:pt x="141175" y="126910"/>
                  </a:lnTo>
                  <a:lnTo>
                    <a:pt x="151927" y="137120"/>
                  </a:lnTo>
                  <a:lnTo>
                    <a:pt x="157165" y="142213"/>
                  </a:lnTo>
                  <a:lnTo>
                    <a:pt x="163196" y="147302"/>
                  </a:lnTo>
                  <a:lnTo>
                    <a:pt x="169758" y="152388"/>
                  </a:lnTo>
                  <a:lnTo>
                    <a:pt x="176672" y="157472"/>
                  </a:lnTo>
                  <a:lnTo>
                    <a:pt x="182975" y="162555"/>
                  </a:lnTo>
                  <a:lnTo>
                    <a:pt x="188870" y="167636"/>
                  </a:lnTo>
                  <a:lnTo>
                    <a:pt x="194494" y="172717"/>
                  </a:lnTo>
                  <a:lnTo>
                    <a:pt x="200783" y="176952"/>
                  </a:lnTo>
                  <a:lnTo>
                    <a:pt x="207515" y="180621"/>
                  </a:lnTo>
                  <a:lnTo>
                    <a:pt x="214543" y="183914"/>
                  </a:lnTo>
                  <a:lnTo>
                    <a:pt x="220076" y="186956"/>
                  </a:lnTo>
                  <a:lnTo>
                    <a:pt x="224611" y="189831"/>
                  </a:lnTo>
                  <a:lnTo>
                    <a:pt x="236220" y="198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SMARTInkAnnotation360"/>
            <p:cNvSpPr/>
            <p:nvPr/>
          </p:nvSpPr>
          <p:spPr>
            <a:xfrm>
              <a:off x="1943280" y="3718080"/>
              <a:ext cx="152280" cy="151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52401" h="15241">
                  <a:moveTo>
                    <a:pt x="0" y="15240"/>
                  </a:moveTo>
                  <a:lnTo>
                    <a:pt x="0" y="11195"/>
                  </a:lnTo>
                  <a:lnTo>
                    <a:pt x="847" y="10003"/>
                  </a:lnTo>
                  <a:lnTo>
                    <a:pt x="2258" y="9209"/>
                  </a:lnTo>
                  <a:lnTo>
                    <a:pt x="6561" y="7934"/>
                  </a:lnTo>
                  <a:lnTo>
                    <a:pt x="9407" y="7759"/>
                  </a:lnTo>
                  <a:lnTo>
                    <a:pt x="11351" y="7713"/>
                  </a:lnTo>
                  <a:lnTo>
                    <a:pt x="14341" y="6835"/>
                  </a:lnTo>
                  <a:lnTo>
                    <a:pt x="18027" y="5404"/>
                  </a:lnTo>
                  <a:lnTo>
                    <a:pt x="22178" y="3603"/>
                  </a:lnTo>
                  <a:lnTo>
                    <a:pt x="26639" y="2402"/>
                  </a:lnTo>
                  <a:lnTo>
                    <a:pt x="31306" y="1601"/>
                  </a:lnTo>
                  <a:lnTo>
                    <a:pt x="36111" y="1068"/>
                  </a:lnTo>
                  <a:lnTo>
                    <a:pt x="41854" y="712"/>
                  </a:lnTo>
                  <a:lnTo>
                    <a:pt x="55008" y="317"/>
                  </a:lnTo>
                  <a:lnTo>
                    <a:pt x="107624" y="19"/>
                  </a:lnTo>
                  <a:lnTo>
                    <a:pt x="1524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SMARTInkAnnotation361"/>
            <p:cNvSpPr/>
            <p:nvPr/>
          </p:nvSpPr>
          <p:spPr>
            <a:xfrm>
              <a:off x="1935360" y="3794040"/>
              <a:ext cx="174960" cy="1512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75261" h="15241">
                  <a:moveTo>
                    <a:pt x="0" y="15240"/>
                  </a:moveTo>
                  <a:lnTo>
                    <a:pt x="10606" y="15240"/>
                  </a:lnTo>
                  <a:lnTo>
                    <a:pt x="13844" y="14394"/>
                  </a:lnTo>
                  <a:lnTo>
                    <a:pt x="17696" y="12983"/>
                  </a:lnTo>
                  <a:lnTo>
                    <a:pt x="21957" y="11195"/>
                  </a:lnTo>
                  <a:lnTo>
                    <a:pt x="27338" y="9157"/>
                  </a:lnTo>
                  <a:lnTo>
                    <a:pt x="40090" y="4634"/>
                  </a:lnTo>
                  <a:lnTo>
                    <a:pt x="46200" y="3090"/>
                  </a:lnTo>
                  <a:lnTo>
                    <a:pt x="51967" y="2060"/>
                  </a:lnTo>
                  <a:lnTo>
                    <a:pt x="57505" y="1373"/>
                  </a:lnTo>
                  <a:lnTo>
                    <a:pt x="62890" y="915"/>
                  </a:lnTo>
                  <a:lnTo>
                    <a:pt x="68173" y="610"/>
                  </a:lnTo>
                  <a:lnTo>
                    <a:pt x="73389" y="407"/>
                  </a:lnTo>
                  <a:lnTo>
                    <a:pt x="92865" y="121"/>
                  </a:lnTo>
                  <a:lnTo>
                    <a:pt x="1752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SMARTInkAnnotation362"/>
            <p:cNvSpPr/>
            <p:nvPr/>
          </p:nvSpPr>
          <p:spPr>
            <a:xfrm>
              <a:off x="2210400" y="3664440"/>
              <a:ext cx="349920" cy="120600"/>
            </a:xfrm>
            <a:custGeom>
              <a:avLst/>
              <a:gdLst>
                <a:gd name="textAreaLeft" fmla="*/ 0 w 349920"/>
                <a:gd name="textAreaRight" fmla="*/ 349920 w 3499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50036" h="120721">
                  <a:moveTo>
                    <a:pt x="98575" y="0"/>
                  </a:moveTo>
                  <a:lnTo>
                    <a:pt x="87224" y="0"/>
                  </a:lnTo>
                  <a:lnTo>
                    <a:pt x="85081" y="847"/>
                  </a:lnTo>
                  <a:lnTo>
                    <a:pt x="77173" y="6083"/>
                  </a:lnTo>
                  <a:lnTo>
                    <a:pt x="73301" y="8289"/>
                  </a:lnTo>
                  <a:lnTo>
                    <a:pt x="64482" y="12997"/>
                  </a:lnTo>
                  <a:lnTo>
                    <a:pt x="54918" y="17912"/>
                  </a:lnTo>
                  <a:lnTo>
                    <a:pt x="49997" y="21255"/>
                  </a:lnTo>
                  <a:lnTo>
                    <a:pt x="45023" y="25176"/>
                  </a:lnTo>
                  <a:lnTo>
                    <a:pt x="40014" y="29484"/>
                  </a:lnTo>
                  <a:lnTo>
                    <a:pt x="34981" y="33203"/>
                  </a:lnTo>
                  <a:lnTo>
                    <a:pt x="29933" y="36529"/>
                  </a:lnTo>
                  <a:lnTo>
                    <a:pt x="24873" y="39593"/>
                  </a:lnTo>
                  <a:lnTo>
                    <a:pt x="20654" y="43328"/>
                  </a:lnTo>
                  <a:lnTo>
                    <a:pt x="16994" y="47512"/>
                  </a:lnTo>
                  <a:lnTo>
                    <a:pt x="13708" y="51995"/>
                  </a:lnTo>
                  <a:lnTo>
                    <a:pt x="10670" y="55830"/>
                  </a:lnTo>
                  <a:lnTo>
                    <a:pt x="7799" y="59233"/>
                  </a:lnTo>
                  <a:lnTo>
                    <a:pt x="5038" y="62349"/>
                  </a:lnTo>
                  <a:lnTo>
                    <a:pt x="3197" y="66119"/>
                  </a:lnTo>
                  <a:lnTo>
                    <a:pt x="1970" y="70326"/>
                  </a:lnTo>
                  <a:lnTo>
                    <a:pt x="1152" y="74824"/>
                  </a:lnTo>
                  <a:lnTo>
                    <a:pt x="606" y="78670"/>
                  </a:lnTo>
                  <a:lnTo>
                    <a:pt x="242" y="82080"/>
                  </a:lnTo>
                  <a:lnTo>
                    <a:pt x="0" y="85200"/>
                  </a:lnTo>
                  <a:lnTo>
                    <a:pt x="685" y="88126"/>
                  </a:lnTo>
                  <a:lnTo>
                    <a:pt x="1989" y="90925"/>
                  </a:lnTo>
                  <a:lnTo>
                    <a:pt x="3704" y="93636"/>
                  </a:lnTo>
                  <a:lnTo>
                    <a:pt x="6541" y="96291"/>
                  </a:lnTo>
                  <a:lnTo>
                    <a:pt x="10126" y="98908"/>
                  </a:lnTo>
                  <a:lnTo>
                    <a:pt x="14209" y="101499"/>
                  </a:lnTo>
                  <a:lnTo>
                    <a:pt x="18624" y="104072"/>
                  </a:lnTo>
                  <a:lnTo>
                    <a:pt x="23261" y="106635"/>
                  </a:lnTo>
                  <a:lnTo>
                    <a:pt x="28046" y="109190"/>
                  </a:lnTo>
                  <a:lnTo>
                    <a:pt x="33776" y="110893"/>
                  </a:lnTo>
                  <a:lnTo>
                    <a:pt x="40136" y="112029"/>
                  </a:lnTo>
                  <a:lnTo>
                    <a:pt x="46916" y="112786"/>
                  </a:lnTo>
                  <a:lnTo>
                    <a:pt x="53129" y="113290"/>
                  </a:lnTo>
                  <a:lnTo>
                    <a:pt x="58964" y="113627"/>
                  </a:lnTo>
                  <a:lnTo>
                    <a:pt x="64548" y="113851"/>
                  </a:lnTo>
                  <a:lnTo>
                    <a:pt x="70810" y="113154"/>
                  </a:lnTo>
                  <a:lnTo>
                    <a:pt x="77525" y="111842"/>
                  </a:lnTo>
                  <a:lnTo>
                    <a:pt x="84542" y="110122"/>
                  </a:lnTo>
                  <a:lnTo>
                    <a:pt x="91760" y="108974"/>
                  </a:lnTo>
                  <a:lnTo>
                    <a:pt x="99112" y="108210"/>
                  </a:lnTo>
                  <a:lnTo>
                    <a:pt x="106553" y="107700"/>
                  </a:lnTo>
                  <a:lnTo>
                    <a:pt x="113207" y="105666"/>
                  </a:lnTo>
                  <a:lnTo>
                    <a:pt x="119336" y="102618"/>
                  </a:lnTo>
                  <a:lnTo>
                    <a:pt x="125116" y="98892"/>
                  </a:lnTo>
                  <a:lnTo>
                    <a:pt x="129816" y="95561"/>
                  </a:lnTo>
                  <a:lnTo>
                    <a:pt x="133796" y="92494"/>
                  </a:lnTo>
                  <a:lnTo>
                    <a:pt x="137295" y="89603"/>
                  </a:lnTo>
                  <a:lnTo>
                    <a:pt x="141322" y="86828"/>
                  </a:lnTo>
                  <a:lnTo>
                    <a:pt x="145700" y="84133"/>
                  </a:lnTo>
                  <a:lnTo>
                    <a:pt x="150312" y="81488"/>
                  </a:lnTo>
                  <a:lnTo>
                    <a:pt x="153386" y="78033"/>
                  </a:lnTo>
                  <a:lnTo>
                    <a:pt x="155436" y="74035"/>
                  </a:lnTo>
                  <a:lnTo>
                    <a:pt x="156802" y="69677"/>
                  </a:lnTo>
                  <a:lnTo>
                    <a:pt x="158560" y="65924"/>
                  </a:lnTo>
                  <a:lnTo>
                    <a:pt x="160578" y="62576"/>
                  </a:lnTo>
                  <a:lnTo>
                    <a:pt x="162771" y="59498"/>
                  </a:lnTo>
                  <a:lnTo>
                    <a:pt x="164232" y="55752"/>
                  </a:lnTo>
                  <a:lnTo>
                    <a:pt x="165207" y="51561"/>
                  </a:lnTo>
                  <a:lnTo>
                    <a:pt x="165856" y="47074"/>
                  </a:lnTo>
                  <a:lnTo>
                    <a:pt x="167136" y="43236"/>
                  </a:lnTo>
                  <a:lnTo>
                    <a:pt x="168836" y="39831"/>
                  </a:lnTo>
                  <a:lnTo>
                    <a:pt x="170816" y="36714"/>
                  </a:lnTo>
                  <a:lnTo>
                    <a:pt x="172135" y="33789"/>
                  </a:lnTo>
                  <a:lnTo>
                    <a:pt x="173015" y="30993"/>
                  </a:lnTo>
                  <a:lnTo>
                    <a:pt x="174428" y="24466"/>
                  </a:lnTo>
                  <a:lnTo>
                    <a:pt x="174621" y="21317"/>
                  </a:lnTo>
                  <a:lnTo>
                    <a:pt x="174745" y="16441"/>
                  </a:lnTo>
                  <a:lnTo>
                    <a:pt x="174766" y="19641"/>
                  </a:lnTo>
                  <a:lnTo>
                    <a:pt x="174774" y="26623"/>
                  </a:lnTo>
                  <a:lnTo>
                    <a:pt x="175622" y="28755"/>
                  </a:lnTo>
                  <a:lnTo>
                    <a:pt x="177033" y="31023"/>
                  </a:lnTo>
                  <a:lnTo>
                    <a:pt x="178820" y="33382"/>
                  </a:lnTo>
                  <a:lnTo>
                    <a:pt x="181705" y="36648"/>
                  </a:lnTo>
                  <a:lnTo>
                    <a:pt x="189426" y="44793"/>
                  </a:lnTo>
                  <a:lnTo>
                    <a:pt x="193856" y="48489"/>
                  </a:lnTo>
                  <a:lnTo>
                    <a:pt x="198502" y="51799"/>
                  </a:lnTo>
                  <a:lnTo>
                    <a:pt x="203293" y="54853"/>
                  </a:lnTo>
                  <a:lnTo>
                    <a:pt x="208181" y="58582"/>
                  </a:lnTo>
                  <a:lnTo>
                    <a:pt x="213132" y="62761"/>
                  </a:lnTo>
                  <a:lnTo>
                    <a:pt x="218127" y="67241"/>
                  </a:lnTo>
                  <a:lnTo>
                    <a:pt x="223996" y="71074"/>
                  </a:lnTo>
                  <a:lnTo>
                    <a:pt x="230449" y="74476"/>
                  </a:lnTo>
                  <a:lnTo>
                    <a:pt x="237291" y="77591"/>
                  </a:lnTo>
                  <a:lnTo>
                    <a:pt x="244392" y="81360"/>
                  </a:lnTo>
                  <a:lnTo>
                    <a:pt x="251666" y="85567"/>
                  </a:lnTo>
                  <a:lnTo>
                    <a:pt x="259056" y="90065"/>
                  </a:lnTo>
                  <a:lnTo>
                    <a:pt x="266522" y="93910"/>
                  </a:lnTo>
                  <a:lnTo>
                    <a:pt x="274040" y="97320"/>
                  </a:lnTo>
                  <a:lnTo>
                    <a:pt x="281592" y="100440"/>
                  </a:lnTo>
                  <a:lnTo>
                    <a:pt x="289167" y="103367"/>
                  </a:lnTo>
                  <a:lnTo>
                    <a:pt x="304356" y="108876"/>
                  </a:lnTo>
                  <a:lnTo>
                    <a:pt x="315058" y="111889"/>
                  </a:lnTo>
                  <a:lnTo>
                    <a:pt x="323483" y="114075"/>
                  </a:lnTo>
                  <a:lnTo>
                    <a:pt x="328100" y="115844"/>
                  </a:lnTo>
                  <a:lnTo>
                    <a:pt x="336900" y="119220"/>
                  </a:lnTo>
                  <a:lnTo>
                    <a:pt x="343633" y="120720"/>
                  </a:lnTo>
                  <a:lnTo>
                    <a:pt x="345767" y="120273"/>
                  </a:lnTo>
                  <a:lnTo>
                    <a:pt x="347190" y="119128"/>
                  </a:lnTo>
                  <a:lnTo>
                    <a:pt x="350035" y="1143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SMARTInkAnnotation363"/>
            <p:cNvSpPr/>
            <p:nvPr/>
          </p:nvSpPr>
          <p:spPr>
            <a:xfrm>
              <a:off x="2674800" y="3603600"/>
              <a:ext cx="53280" cy="1904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341" h="190501">
                  <a:moveTo>
                    <a:pt x="53340" y="0"/>
                  </a:moveTo>
                  <a:lnTo>
                    <a:pt x="53340" y="4045"/>
                  </a:lnTo>
                  <a:lnTo>
                    <a:pt x="52493" y="6084"/>
                  </a:lnTo>
                  <a:lnTo>
                    <a:pt x="51082" y="8289"/>
                  </a:lnTo>
                  <a:lnTo>
                    <a:pt x="49295" y="10606"/>
                  </a:lnTo>
                  <a:lnTo>
                    <a:pt x="48103" y="13844"/>
                  </a:lnTo>
                  <a:lnTo>
                    <a:pt x="47309" y="17696"/>
                  </a:lnTo>
                  <a:lnTo>
                    <a:pt x="46779" y="21958"/>
                  </a:lnTo>
                  <a:lnTo>
                    <a:pt x="46426" y="25645"/>
                  </a:lnTo>
                  <a:lnTo>
                    <a:pt x="46191" y="28950"/>
                  </a:lnTo>
                  <a:lnTo>
                    <a:pt x="46034" y="32000"/>
                  </a:lnTo>
                  <a:lnTo>
                    <a:pt x="45083" y="35727"/>
                  </a:lnTo>
                  <a:lnTo>
                    <a:pt x="43602" y="39905"/>
                  </a:lnTo>
                  <a:lnTo>
                    <a:pt x="41768" y="44383"/>
                  </a:lnTo>
                  <a:lnTo>
                    <a:pt x="39698" y="49062"/>
                  </a:lnTo>
                  <a:lnTo>
                    <a:pt x="35142" y="58776"/>
                  </a:lnTo>
                  <a:lnTo>
                    <a:pt x="27816" y="73766"/>
                  </a:lnTo>
                  <a:lnTo>
                    <a:pt x="26164" y="78810"/>
                  </a:lnTo>
                  <a:lnTo>
                    <a:pt x="25063" y="83867"/>
                  </a:lnTo>
                  <a:lnTo>
                    <a:pt x="24329" y="88931"/>
                  </a:lnTo>
                  <a:lnTo>
                    <a:pt x="22992" y="94848"/>
                  </a:lnTo>
                  <a:lnTo>
                    <a:pt x="21255" y="101332"/>
                  </a:lnTo>
                  <a:lnTo>
                    <a:pt x="19250" y="108194"/>
                  </a:lnTo>
                  <a:lnTo>
                    <a:pt x="17067" y="114463"/>
                  </a:lnTo>
                  <a:lnTo>
                    <a:pt x="14764" y="120336"/>
                  </a:lnTo>
                  <a:lnTo>
                    <a:pt x="12383" y="125944"/>
                  </a:lnTo>
                  <a:lnTo>
                    <a:pt x="7479" y="136690"/>
                  </a:lnTo>
                  <a:lnTo>
                    <a:pt x="4986" y="141927"/>
                  </a:lnTo>
                  <a:lnTo>
                    <a:pt x="3324" y="147111"/>
                  </a:lnTo>
                  <a:lnTo>
                    <a:pt x="2216" y="152261"/>
                  </a:lnTo>
                  <a:lnTo>
                    <a:pt x="1478" y="157387"/>
                  </a:lnTo>
                  <a:lnTo>
                    <a:pt x="985" y="161652"/>
                  </a:lnTo>
                  <a:lnTo>
                    <a:pt x="657" y="165341"/>
                  </a:lnTo>
                  <a:lnTo>
                    <a:pt x="438" y="168648"/>
                  </a:lnTo>
                  <a:lnTo>
                    <a:pt x="195" y="174579"/>
                  </a:lnTo>
                  <a:lnTo>
                    <a:pt x="39" y="181240"/>
                  </a:lnTo>
                  <a:lnTo>
                    <a:pt x="0" y="1905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SMARTInkAnnotation364"/>
            <p:cNvSpPr/>
            <p:nvPr/>
          </p:nvSpPr>
          <p:spPr>
            <a:xfrm>
              <a:off x="2766240" y="3536280"/>
              <a:ext cx="98640" cy="24264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98717" h="242781">
                  <a:moveTo>
                    <a:pt x="76200" y="6560"/>
                  </a:moveTo>
                  <a:lnTo>
                    <a:pt x="82761" y="6560"/>
                  </a:lnTo>
                  <a:lnTo>
                    <a:pt x="85607" y="4303"/>
                  </a:lnTo>
                  <a:lnTo>
                    <a:pt x="90288" y="0"/>
                  </a:lnTo>
                  <a:lnTo>
                    <a:pt x="91519" y="493"/>
                  </a:lnTo>
                  <a:lnTo>
                    <a:pt x="93186" y="1669"/>
                  </a:lnTo>
                  <a:lnTo>
                    <a:pt x="95144" y="3299"/>
                  </a:lnTo>
                  <a:lnTo>
                    <a:pt x="96449" y="5233"/>
                  </a:lnTo>
                  <a:lnTo>
                    <a:pt x="97900" y="9639"/>
                  </a:lnTo>
                  <a:lnTo>
                    <a:pt x="98716" y="16880"/>
                  </a:lnTo>
                  <a:lnTo>
                    <a:pt x="96649" y="24129"/>
                  </a:lnTo>
                  <a:lnTo>
                    <a:pt x="94913" y="28433"/>
                  </a:lnTo>
                  <a:lnTo>
                    <a:pt x="93755" y="32995"/>
                  </a:lnTo>
                  <a:lnTo>
                    <a:pt x="92984" y="37730"/>
                  </a:lnTo>
                  <a:lnTo>
                    <a:pt x="92469" y="42580"/>
                  </a:lnTo>
                  <a:lnTo>
                    <a:pt x="90433" y="48354"/>
                  </a:lnTo>
                  <a:lnTo>
                    <a:pt x="87382" y="54742"/>
                  </a:lnTo>
                  <a:lnTo>
                    <a:pt x="83655" y="61542"/>
                  </a:lnTo>
                  <a:lnTo>
                    <a:pt x="80323" y="68614"/>
                  </a:lnTo>
                  <a:lnTo>
                    <a:pt x="77256" y="75870"/>
                  </a:lnTo>
                  <a:lnTo>
                    <a:pt x="74364" y="83247"/>
                  </a:lnTo>
                  <a:lnTo>
                    <a:pt x="71589" y="89858"/>
                  </a:lnTo>
                  <a:lnTo>
                    <a:pt x="68893" y="95959"/>
                  </a:lnTo>
                  <a:lnTo>
                    <a:pt x="66248" y="101719"/>
                  </a:lnTo>
                  <a:lnTo>
                    <a:pt x="63639" y="108100"/>
                  </a:lnTo>
                  <a:lnTo>
                    <a:pt x="61053" y="114893"/>
                  </a:lnTo>
                  <a:lnTo>
                    <a:pt x="55921" y="129215"/>
                  </a:lnTo>
                  <a:lnTo>
                    <a:pt x="50818" y="144047"/>
                  </a:lnTo>
                  <a:lnTo>
                    <a:pt x="47425" y="151558"/>
                  </a:lnTo>
                  <a:lnTo>
                    <a:pt x="43470" y="159105"/>
                  </a:lnTo>
                  <a:lnTo>
                    <a:pt x="35407" y="173418"/>
                  </a:lnTo>
                  <a:lnTo>
                    <a:pt x="29001" y="185424"/>
                  </a:lnTo>
                  <a:lnTo>
                    <a:pt x="12793" y="217251"/>
                  </a:lnTo>
                  <a:lnTo>
                    <a:pt x="10222" y="221527"/>
                  </a:lnTo>
                  <a:lnTo>
                    <a:pt x="7661" y="225225"/>
                  </a:lnTo>
                  <a:lnTo>
                    <a:pt x="5108" y="228537"/>
                  </a:lnTo>
                  <a:lnTo>
                    <a:pt x="2270" y="234474"/>
                  </a:lnTo>
                  <a:lnTo>
                    <a:pt x="0" y="2427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SMARTInkAnnotation365"/>
            <p:cNvSpPr/>
            <p:nvPr/>
          </p:nvSpPr>
          <p:spPr>
            <a:xfrm>
              <a:off x="2545200" y="3687480"/>
              <a:ext cx="365400" cy="2268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365761" h="22833">
                  <a:moveTo>
                    <a:pt x="0" y="7592"/>
                  </a:moveTo>
                  <a:lnTo>
                    <a:pt x="4045" y="7592"/>
                  </a:lnTo>
                  <a:lnTo>
                    <a:pt x="6930" y="6745"/>
                  </a:lnTo>
                  <a:lnTo>
                    <a:pt x="10547" y="5335"/>
                  </a:lnTo>
                  <a:lnTo>
                    <a:pt x="14651" y="3547"/>
                  </a:lnTo>
                  <a:lnTo>
                    <a:pt x="19081" y="2355"/>
                  </a:lnTo>
                  <a:lnTo>
                    <a:pt x="23727" y="1561"/>
                  </a:lnTo>
                  <a:lnTo>
                    <a:pt x="28518" y="1032"/>
                  </a:lnTo>
                  <a:lnTo>
                    <a:pt x="35099" y="678"/>
                  </a:lnTo>
                  <a:lnTo>
                    <a:pt x="51442" y="286"/>
                  </a:lnTo>
                  <a:lnTo>
                    <a:pt x="109499" y="0"/>
                  </a:lnTo>
                  <a:lnTo>
                    <a:pt x="120413" y="837"/>
                  </a:lnTo>
                  <a:lnTo>
                    <a:pt x="131922" y="2242"/>
                  </a:lnTo>
                  <a:lnTo>
                    <a:pt x="143828" y="4026"/>
                  </a:lnTo>
                  <a:lnTo>
                    <a:pt x="155999" y="5215"/>
                  </a:lnTo>
                  <a:lnTo>
                    <a:pt x="168346" y="6007"/>
                  </a:lnTo>
                  <a:lnTo>
                    <a:pt x="180811" y="6535"/>
                  </a:lnTo>
                  <a:lnTo>
                    <a:pt x="192507" y="7735"/>
                  </a:lnTo>
                  <a:lnTo>
                    <a:pt x="203691" y="9380"/>
                  </a:lnTo>
                  <a:lnTo>
                    <a:pt x="214534" y="11324"/>
                  </a:lnTo>
                  <a:lnTo>
                    <a:pt x="225996" y="12620"/>
                  </a:lnTo>
                  <a:lnTo>
                    <a:pt x="237871" y="13484"/>
                  </a:lnTo>
                  <a:lnTo>
                    <a:pt x="261507" y="14444"/>
                  </a:lnTo>
                  <a:lnTo>
                    <a:pt x="293008" y="14984"/>
                  </a:lnTo>
                  <a:lnTo>
                    <a:pt x="310566" y="15111"/>
                  </a:lnTo>
                  <a:lnTo>
                    <a:pt x="319651" y="15991"/>
                  </a:lnTo>
                  <a:lnTo>
                    <a:pt x="329094" y="17425"/>
                  </a:lnTo>
                  <a:lnTo>
                    <a:pt x="338776" y="19227"/>
                  </a:lnTo>
                  <a:lnTo>
                    <a:pt x="346077" y="20429"/>
                  </a:lnTo>
                  <a:lnTo>
                    <a:pt x="351792" y="21230"/>
                  </a:lnTo>
                  <a:lnTo>
                    <a:pt x="365760" y="228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MARTInkAnnotation366"/>
            <p:cNvSpPr/>
            <p:nvPr/>
          </p:nvSpPr>
          <p:spPr>
            <a:xfrm>
              <a:off x="2598480" y="3634200"/>
              <a:ext cx="319680" cy="30240"/>
            </a:xfrm>
            <a:custGeom>
              <a:avLst/>
              <a:gdLst>
                <a:gd name="textAreaLeft" fmla="*/ 0 w 319680"/>
                <a:gd name="textAreaRight" fmla="*/ 320040 w 3196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320041" h="30478">
                  <a:moveTo>
                    <a:pt x="0" y="7617"/>
                  </a:moveTo>
                  <a:lnTo>
                    <a:pt x="6561" y="7617"/>
                  </a:lnTo>
                  <a:lnTo>
                    <a:pt x="7760" y="6770"/>
                  </a:lnTo>
                  <a:lnTo>
                    <a:pt x="9407" y="5360"/>
                  </a:lnTo>
                  <a:lnTo>
                    <a:pt x="11352" y="3572"/>
                  </a:lnTo>
                  <a:lnTo>
                    <a:pt x="13494" y="2381"/>
                  </a:lnTo>
                  <a:lnTo>
                    <a:pt x="15770" y="1586"/>
                  </a:lnTo>
                  <a:lnTo>
                    <a:pt x="21402" y="703"/>
                  </a:lnTo>
                  <a:lnTo>
                    <a:pt x="29550" y="311"/>
                  </a:lnTo>
                  <a:lnTo>
                    <a:pt x="43657" y="90"/>
                  </a:lnTo>
                  <a:lnTo>
                    <a:pt x="103564" y="0"/>
                  </a:lnTo>
                  <a:lnTo>
                    <a:pt x="113069" y="846"/>
                  </a:lnTo>
                  <a:lnTo>
                    <a:pt x="122793" y="2256"/>
                  </a:lnTo>
                  <a:lnTo>
                    <a:pt x="132662" y="4043"/>
                  </a:lnTo>
                  <a:lnTo>
                    <a:pt x="142628" y="5234"/>
                  </a:lnTo>
                  <a:lnTo>
                    <a:pt x="152659" y="6029"/>
                  </a:lnTo>
                  <a:lnTo>
                    <a:pt x="162732" y="6558"/>
                  </a:lnTo>
                  <a:lnTo>
                    <a:pt x="173682" y="7758"/>
                  </a:lnTo>
                  <a:lnTo>
                    <a:pt x="185215" y="9404"/>
                  </a:lnTo>
                  <a:lnTo>
                    <a:pt x="209318" y="13492"/>
                  </a:lnTo>
                  <a:lnTo>
                    <a:pt x="234141" y="18130"/>
                  </a:lnTo>
                  <a:lnTo>
                    <a:pt x="246688" y="19706"/>
                  </a:lnTo>
                  <a:lnTo>
                    <a:pt x="259285" y="20756"/>
                  </a:lnTo>
                  <a:lnTo>
                    <a:pt x="271917" y="21457"/>
                  </a:lnTo>
                  <a:lnTo>
                    <a:pt x="282878" y="22770"/>
                  </a:lnTo>
                  <a:lnTo>
                    <a:pt x="292725" y="24493"/>
                  </a:lnTo>
                  <a:lnTo>
                    <a:pt x="320040" y="3047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MARTInkAnnotation367"/>
            <p:cNvSpPr/>
            <p:nvPr/>
          </p:nvSpPr>
          <p:spPr>
            <a:xfrm>
              <a:off x="3558600" y="3656880"/>
              <a:ext cx="289440" cy="15984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289561" h="160021">
                  <a:moveTo>
                    <a:pt x="289560" y="0"/>
                  </a:moveTo>
                  <a:lnTo>
                    <a:pt x="282999" y="0"/>
                  </a:lnTo>
                  <a:lnTo>
                    <a:pt x="282646" y="847"/>
                  </a:lnTo>
                  <a:lnTo>
                    <a:pt x="282254" y="4045"/>
                  </a:lnTo>
                  <a:lnTo>
                    <a:pt x="281303" y="5237"/>
                  </a:lnTo>
                  <a:lnTo>
                    <a:pt x="279822" y="6031"/>
                  </a:lnTo>
                  <a:lnTo>
                    <a:pt x="277988" y="6561"/>
                  </a:lnTo>
                  <a:lnTo>
                    <a:pt x="273693" y="9407"/>
                  </a:lnTo>
                  <a:lnTo>
                    <a:pt x="268082" y="14088"/>
                  </a:lnTo>
                  <a:lnTo>
                    <a:pt x="263065" y="18944"/>
                  </a:lnTo>
                  <a:lnTo>
                    <a:pt x="256336" y="23377"/>
                  </a:lnTo>
                  <a:lnTo>
                    <a:pt x="248547" y="28170"/>
                  </a:lnTo>
                  <a:lnTo>
                    <a:pt x="242263" y="33122"/>
                  </a:lnTo>
                  <a:lnTo>
                    <a:pt x="239402" y="35628"/>
                  </a:lnTo>
                  <a:lnTo>
                    <a:pt x="236649" y="38146"/>
                  </a:lnTo>
                  <a:lnTo>
                    <a:pt x="233965" y="40670"/>
                  </a:lnTo>
                  <a:lnTo>
                    <a:pt x="230484" y="43200"/>
                  </a:lnTo>
                  <a:lnTo>
                    <a:pt x="226469" y="45734"/>
                  </a:lnTo>
                  <a:lnTo>
                    <a:pt x="222100" y="48269"/>
                  </a:lnTo>
                  <a:lnTo>
                    <a:pt x="217493" y="51653"/>
                  </a:lnTo>
                  <a:lnTo>
                    <a:pt x="212729" y="55602"/>
                  </a:lnTo>
                  <a:lnTo>
                    <a:pt x="207859" y="59928"/>
                  </a:lnTo>
                  <a:lnTo>
                    <a:pt x="202920" y="63659"/>
                  </a:lnTo>
                  <a:lnTo>
                    <a:pt x="197933" y="66993"/>
                  </a:lnTo>
                  <a:lnTo>
                    <a:pt x="192916" y="70062"/>
                  </a:lnTo>
                  <a:lnTo>
                    <a:pt x="187031" y="72954"/>
                  </a:lnTo>
                  <a:lnTo>
                    <a:pt x="180567" y="75730"/>
                  </a:lnTo>
                  <a:lnTo>
                    <a:pt x="173718" y="78427"/>
                  </a:lnTo>
                  <a:lnTo>
                    <a:pt x="167459" y="81918"/>
                  </a:lnTo>
                  <a:lnTo>
                    <a:pt x="161593" y="85939"/>
                  </a:lnTo>
                  <a:lnTo>
                    <a:pt x="155989" y="90312"/>
                  </a:lnTo>
                  <a:lnTo>
                    <a:pt x="149712" y="94922"/>
                  </a:lnTo>
                  <a:lnTo>
                    <a:pt x="135965" y="104558"/>
                  </a:lnTo>
                  <a:lnTo>
                    <a:pt x="128744" y="108652"/>
                  </a:lnTo>
                  <a:lnTo>
                    <a:pt x="121390" y="112228"/>
                  </a:lnTo>
                  <a:lnTo>
                    <a:pt x="113946" y="115459"/>
                  </a:lnTo>
                  <a:lnTo>
                    <a:pt x="106444" y="119306"/>
                  </a:lnTo>
                  <a:lnTo>
                    <a:pt x="98903" y="123564"/>
                  </a:lnTo>
                  <a:lnTo>
                    <a:pt x="91336" y="128096"/>
                  </a:lnTo>
                  <a:lnTo>
                    <a:pt x="83750" y="131964"/>
                  </a:lnTo>
                  <a:lnTo>
                    <a:pt x="76154" y="135389"/>
                  </a:lnTo>
                  <a:lnTo>
                    <a:pt x="68549" y="138520"/>
                  </a:lnTo>
                  <a:lnTo>
                    <a:pt x="61786" y="141453"/>
                  </a:lnTo>
                  <a:lnTo>
                    <a:pt x="49756" y="146970"/>
                  </a:lnTo>
                  <a:lnTo>
                    <a:pt x="43331" y="148780"/>
                  </a:lnTo>
                  <a:lnTo>
                    <a:pt x="36507" y="149987"/>
                  </a:lnTo>
                  <a:lnTo>
                    <a:pt x="29418" y="150792"/>
                  </a:lnTo>
                  <a:lnTo>
                    <a:pt x="22999" y="152174"/>
                  </a:lnTo>
                  <a:lnTo>
                    <a:pt x="17026" y="153943"/>
                  </a:lnTo>
                  <a:lnTo>
                    <a:pt x="0" y="1600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SMARTInkAnnotation368"/>
            <p:cNvSpPr/>
            <p:nvPr/>
          </p:nvSpPr>
          <p:spPr>
            <a:xfrm>
              <a:off x="3611880" y="3664440"/>
              <a:ext cx="243720" cy="13716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43841" h="137161">
                  <a:moveTo>
                    <a:pt x="0" y="0"/>
                  </a:moveTo>
                  <a:lnTo>
                    <a:pt x="6561" y="0"/>
                  </a:lnTo>
                  <a:lnTo>
                    <a:pt x="11352" y="4045"/>
                  </a:lnTo>
                  <a:lnTo>
                    <a:pt x="14341" y="5237"/>
                  </a:lnTo>
                  <a:lnTo>
                    <a:pt x="18027" y="6031"/>
                  </a:lnTo>
                  <a:lnTo>
                    <a:pt x="22178" y="6561"/>
                  </a:lnTo>
                  <a:lnTo>
                    <a:pt x="26639" y="7760"/>
                  </a:lnTo>
                  <a:lnTo>
                    <a:pt x="31306" y="9407"/>
                  </a:lnTo>
                  <a:lnTo>
                    <a:pt x="36111" y="11352"/>
                  </a:lnTo>
                  <a:lnTo>
                    <a:pt x="40160" y="13495"/>
                  </a:lnTo>
                  <a:lnTo>
                    <a:pt x="43707" y="15770"/>
                  </a:lnTo>
                  <a:lnTo>
                    <a:pt x="46918" y="18133"/>
                  </a:lnTo>
                  <a:lnTo>
                    <a:pt x="51599" y="20555"/>
                  </a:lnTo>
                  <a:lnTo>
                    <a:pt x="57260" y="23017"/>
                  </a:lnTo>
                  <a:lnTo>
                    <a:pt x="63573" y="25505"/>
                  </a:lnTo>
                  <a:lnTo>
                    <a:pt x="69476" y="28010"/>
                  </a:lnTo>
                  <a:lnTo>
                    <a:pt x="80549" y="33052"/>
                  </a:lnTo>
                  <a:lnTo>
                    <a:pt x="85873" y="36428"/>
                  </a:lnTo>
                  <a:lnTo>
                    <a:pt x="91115" y="40372"/>
                  </a:lnTo>
                  <a:lnTo>
                    <a:pt x="96304" y="44695"/>
                  </a:lnTo>
                  <a:lnTo>
                    <a:pt x="102302" y="48423"/>
                  </a:lnTo>
                  <a:lnTo>
                    <a:pt x="108841" y="51755"/>
                  </a:lnTo>
                  <a:lnTo>
                    <a:pt x="115741" y="54824"/>
                  </a:lnTo>
                  <a:lnTo>
                    <a:pt x="122034" y="58562"/>
                  </a:lnTo>
                  <a:lnTo>
                    <a:pt x="127923" y="62749"/>
                  </a:lnTo>
                  <a:lnTo>
                    <a:pt x="133542" y="67232"/>
                  </a:lnTo>
                  <a:lnTo>
                    <a:pt x="138981" y="71915"/>
                  </a:lnTo>
                  <a:lnTo>
                    <a:pt x="144301" y="76730"/>
                  </a:lnTo>
                  <a:lnTo>
                    <a:pt x="149541" y="81633"/>
                  </a:lnTo>
                  <a:lnTo>
                    <a:pt x="155574" y="85749"/>
                  </a:lnTo>
                  <a:lnTo>
                    <a:pt x="162136" y="89340"/>
                  </a:lnTo>
                  <a:lnTo>
                    <a:pt x="169051" y="92580"/>
                  </a:lnTo>
                  <a:lnTo>
                    <a:pt x="176200" y="96433"/>
                  </a:lnTo>
                  <a:lnTo>
                    <a:pt x="183507" y="100695"/>
                  </a:lnTo>
                  <a:lnTo>
                    <a:pt x="190918" y="105230"/>
                  </a:lnTo>
                  <a:lnTo>
                    <a:pt x="197552" y="109100"/>
                  </a:lnTo>
                  <a:lnTo>
                    <a:pt x="209439" y="115658"/>
                  </a:lnTo>
                  <a:lnTo>
                    <a:pt x="225651" y="124110"/>
                  </a:lnTo>
                  <a:lnTo>
                    <a:pt x="230020" y="126767"/>
                  </a:lnTo>
                  <a:lnTo>
                    <a:pt x="233781" y="129384"/>
                  </a:lnTo>
                  <a:lnTo>
                    <a:pt x="243840" y="1371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SMARTInkAnnotation369"/>
            <p:cNvSpPr/>
            <p:nvPr/>
          </p:nvSpPr>
          <p:spPr>
            <a:xfrm>
              <a:off x="3962520" y="3733200"/>
              <a:ext cx="136800" cy="1512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37161" h="15241">
                  <a:moveTo>
                    <a:pt x="0" y="15240"/>
                  </a:moveTo>
                  <a:lnTo>
                    <a:pt x="4045" y="11195"/>
                  </a:lnTo>
                  <a:lnTo>
                    <a:pt x="6931" y="10004"/>
                  </a:lnTo>
                  <a:lnTo>
                    <a:pt x="10546" y="9209"/>
                  </a:lnTo>
                  <a:lnTo>
                    <a:pt x="14651" y="8679"/>
                  </a:lnTo>
                  <a:lnTo>
                    <a:pt x="19081" y="8326"/>
                  </a:lnTo>
                  <a:lnTo>
                    <a:pt x="23727" y="8091"/>
                  </a:lnTo>
                  <a:lnTo>
                    <a:pt x="28518" y="7934"/>
                  </a:lnTo>
                  <a:lnTo>
                    <a:pt x="32558" y="6983"/>
                  </a:lnTo>
                  <a:lnTo>
                    <a:pt x="36099" y="5502"/>
                  </a:lnTo>
                  <a:lnTo>
                    <a:pt x="39306" y="3668"/>
                  </a:lnTo>
                  <a:lnTo>
                    <a:pt x="43984" y="2446"/>
                  </a:lnTo>
                  <a:lnTo>
                    <a:pt x="49643" y="1630"/>
                  </a:lnTo>
                  <a:lnTo>
                    <a:pt x="55955" y="1087"/>
                  </a:lnTo>
                  <a:lnTo>
                    <a:pt x="61857" y="725"/>
                  </a:lnTo>
                  <a:lnTo>
                    <a:pt x="72929" y="322"/>
                  </a:lnTo>
                  <a:lnTo>
                    <a:pt x="93836" y="64"/>
                  </a:lnTo>
                  <a:lnTo>
                    <a:pt x="1371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SMARTInkAnnotation370"/>
            <p:cNvSpPr/>
            <p:nvPr/>
          </p:nvSpPr>
          <p:spPr>
            <a:xfrm>
              <a:off x="4160520" y="3603600"/>
              <a:ext cx="190440" cy="98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90488" h="98717">
                  <a:moveTo>
                    <a:pt x="30467" y="0"/>
                  </a:moveTo>
                  <a:lnTo>
                    <a:pt x="30467" y="11351"/>
                  </a:lnTo>
                  <a:lnTo>
                    <a:pt x="29621" y="13494"/>
                  </a:lnTo>
                  <a:lnTo>
                    <a:pt x="28209" y="15770"/>
                  </a:lnTo>
                  <a:lnTo>
                    <a:pt x="26422" y="18133"/>
                  </a:lnTo>
                  <a:lnTo>
                    <a:pt x="25230" y="20556"/>
                  </a:lnTo>
                  <a:lnTo>
                    <a:pt x="24436" y="23017"/>
                  </a:lnTo>
                  <a:lnTo>
                    <a:pt x="23906" y="25505"/>
                  </a:lnTo>
                  <a:lnTo>
                    <a:pt x="21860" y="28010"/>
                  </a:lnTo>
                  <a:lnTo>
                    <a:pt x="18802" y="30527"/>
                  </a:lnTo>
                  <a:lnTo>
                    <a:pt x="15070" y="33051"/>
                  </a:lnTo>
                  <a:lnTo>
                    <a:pt x="11736" y="35581"/>
                  </a:lnTo>
                  <a:lnTo>
                    <a:pt x="8666" y="38114"/>
                  </a:lnTo>
                  <a:lnTo>
                    <a:pt x="5773" y="40649"/>
                  </a:lnTo>
                  <a:lnTo>
                    <a:pt x="3844" y="44033"/>
                  </a:lnTo>
                  <a:lnTo>
                    <a:pt x="2559" y="47982"/>
                  </a:lnTo>
                  <a:lnTo>
                    <a:pt x="1701" y="52308"/>
                  </a:lnTo>
                  <a:lnTo>
                    <a:pt x="1129" y="56039"/>
                  </a:lnTo>
                  <a:lnTo>
                    <a:pt x="749" y="59373"/>
                  </a:lnTo>
                  <a:lnTo>
                    <a:pt x="137" y="66762"/>
                  </a:lnTo>
                  <a:lnTo>
                    <a:pt x="87" y="68214"/>
                  </a:lnTo>
                  <a:lnTo>
                    <a:pt x="17" y="74305"/>
                  </a:lnTo>
                  <a:lnTo>
                    <a:pt x="0" y="79026"/>
                  </a:lnTo>
                  <a:lnTo>
                    <a:pt x="842" y="80624"/>
                  </a:lnTo>
                  <a:lnTo>
                    <a:pt x="2251" y="81690"/>
                  </a:lnTo>
                  <a:lnTo>
                    <a:pt x="6920" y="83720"/>
                  </a:lnTo>
                  <a:lnTo>
                    <a:pt x="14640" y="87445"/>
                  </a:lnTo>
                  <a:lnTo>
                    <a:pt x="19068" y="88777"/>
                  </a:lnTo>
                  <a:lnTo>
                    <a:pt x="23715" y="89665"/>
                  </a:lnTo>
                  <a:lnTo>
                    <a:pt x="28506" y="90256"/>
                  </a:lnTo>
                  <a:lnTo>
                    <a:pt x="33392" y="91498"/>
                  </a:lnTo>
                  <a:lnTo>
                    <a:pt x="38344" y="93172"/>
                  </a:lnTo>
                  <a:lnTo>
                    <a:pt x="43338" y="95135"/>
                  </a:lnTo>
                  <a:lnTo>
                    <a:pt x="50055" y="96443"/>
                  </a:lnTo>
                  <a:lnTo>
                    <a:pt x="57919" y="97316"/>
                  </a:lnTo>
                  <a:lnTo>
                    <a:pt x="66548" y="97897"/>
                  </a:lnTo>
                  <a:lnTo>
                    <a:pt x="80652" y="98543"/>
                  </a:lnTo>
                  <a:lnTo>
                    <a:pt x="86783" y="98716"/>
                  </a:lnTo>
                  <a:lnTo>
                    <a:pt x="93412" y="97983"/>
                  </a:lnTo>
                  <a:lnTo>
                    <a:pt x="100370" y="96649"/>
                  </a:lnTo>
                  <a:lnTo>
                    <a:pt x="107549" y="94913"/>
                  </a:lnTo>
                  <a:lnTo>
                    <a:pt x="114029" y="93755"/>
                  </a:lnTo>
                  <a:lnTo>
                    <a:pt x="120041" y="92983"/>
                  </a:lnTo>
                  <a:lnTo>
                    <a:pt x="125743" y="92469"/>
                  </a:lnTo>
                  <a:lnTo>
                    <a:pt x="131238" y="92126"/>
                  </a:lnTo>
                  <a:lnTo>
                    <a:pt x="141858" y="91745"/>
                  </a:lnTo>
                  <a:lnTo>
                    <a:pt x="147061" y="90797"/>
                  </a:lnTo>
                  <a:lnTo>
                    <a:pt x="152223" y="89318"/>
                  </a:lnTo>
                  <a:lnTo>
                    <a:pt x="157358" y="87485"/>
                  </a:lnTo>
                  <a:lnTo>
                    <a:pt x="161628" y="86263"/>
                  </a:lnTo>
                  <a:lnTo>
                    <a:pt x="165321" y="85449"/>
                  </a:lnTo>
                  <a:lnTo>
                    <a:pt x="168629" y="84906"/>
                  </a:lnTo>
                  <a:lnTo>
                    <a:pt x="172529" y="84544"/>
                  </a:lnTo>
                  <a:lnTo>
                    <a:pt x="176822" y="84303"/>
                  </a:lnTo>
                  <a:lnTo>
                    <a:pt x="190487" y="838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SMARTInkAnnotation371"/>
            <p:cNvSpPr/>
            <p:nvPr/>
          </p:nvSpPr>
          <p:spPr>
            <a:xfrm>
              <a:off x="4313160" y="3550320"/>
              <a:ext cx="83520" cy="2588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83716" h="259081">
                  <a:moveTo>
                    <a:pt x="83715" y="0"/>
                  </a:moveTo>
                  <a:lnTo>
                    <a:pt x="72363" y="11352"/>
                  </a:lnTo>
                  <a:lnTo>
                    <a:pt x="71067" y="13495"/>
                  </a:lnTo>
                  <a:lnTo>
                    <a:pt x="68396" y="21402"/>
                  </a:lnTo>
                  <a:lnTo>
                    <a:pt x="66729" y="25275"/>
                  </a:lnTo>
                  <a:lnTo>
                    <a:pt x="62619" y="34093"/>
                  </a:lnTo>
                  <a:lnTo>
                    <a:pt x="57970" y="43657"/>
                  </a:lnTo>
                  <a:lnTo>
                    <a:pt x="56392" y="48579"/>
                  </a:lnTo>
                  <a:lnTo>
                    <a:pt x="55340" y="53553"/>
                  </a:lnTo>
                  <a:lnTo>
                    <a:pt x="54638" y="58562"/>
                  </a:lnTo>
                  <a:lnTo>
                    <a:pt x="53324" y="63594"/>
                  </a:lnTo>
                  <a:lnTo>
                    <a:pt x="51600" y="68643"/>
                  </a:lnTo>
                  <a:lnTo>
                    <a:pt x="49605" y="73702"/>
                  </a:lnTo>
                  <a:lnTo>
                    <a:pt x="47429" y="78768"/>
                  </a:lnTo>
                  <a:lnTo>
                    <a:pt x="42753" y="88913"/>
                  </a:lnTo>
                  <a:lnTo>
                    <a:pt x="40320" y="94835"/>
                  </a:lnTo>
                  <a:lnTo>
                    <a:pt x="37852" y="101324"/>
                  </a:lnTo>
                  <a:lnTo>
                    <a:pt x="35360" y="108189"/>
                  </a:lnTo>
                  <a:lnTo>
                    <a:pt x="32851" y="114459"/>
                  </a:lnTo>
                  <a:lnTo>
                    <a:pt x="30332" y="120333"/>
                  </a:lnTo>
                  <a:lnTo>
                    <a:pt x="27807" y="125942"/>
                  </a:lnTo>
                  <a:lnTo>
                    <a:pt x="25276" y="132221"/>
                  </a:lnTo>
                  <a:lnTo>
                    <a:pt x="20206" y="145972"/>
                  </a:lnTo>
                  <a:lnTo>
                    <a:pt x="17669" y="152348"/>
                  </a:lnTo>
                  <a:lnTo>
                    <a:pt x="15131" y="158292"/>
                  </a:lnTo>
                  <a:lnTo>
                    <a:pt x="12592" y="163948"/>
                  </a:lnTo>
                  <a:lnTo>
                    <a:pt x="10900" y="169412"/>
                  </a:lnTo>
                  <a:lnTo>
                    <a:pt x="9772" y="174748"/>
                  </a:lnTo>
                  <a:lnTo>
                    <a:pt x="9020" y="179998"/>
                  </a:lnTo>
                  <a:lnTo>
                    <a:pt x="7671" y="185193"/>
                  </a:lnTo>
                  <a:lnTo>
                    <a:pt x="5925" y="190349"/>
                  </a:lnTo>
                  <a:lnTo>
                    <a:pt x="3916" y="195479"/>
                  </a:lnTo>
                  <a:lnTo>
                    <a:pt x="2576" y="200592"/>
                  </a:lnTo>
                  <a:lnTo>
                    <a:pt x="1682" y="205695"/>
                  </a:lnTo>
                  <a:lnTo>
                    <a:pt x="1086" y="210790"/>
                  </a:lnTo>
                  <a:lnTo>
                    <a:pt x="688" y="215880"/>
                  </a:lnTo>
                  <a:lnTo>
                    <a:pt x="425" y="220967"/>
                  </a:lnTo>
                  <a:lnTo>
                    <a:pt x="130" y="231134"/>
                  </a:lnTo>
                  <a:lnTo>
                    <a:pt x="0" y="241298"/>
                  </a:lnTo>
                  <a:lnTo>
                    <a:pt x="812" y="245532"/>
                  </a:lnTo>
                  <a:lnTo>
                    <a:pt x="2200" y="249201"/>
                  </a:lnTo>
                  <a:lnTo>
                    <a:pt x="7515" y="2590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SMARTInkAnnotation372"/>
            <p:cNvSpPr/>
            <p:nvPr/>
          </p:nvSpPr>
          <p:spPr>
            <a:xfrm>
              <a:off x="1722240" y="4479840"/>
              <a:ext cx="792360" cy="60840"/>
            </a:xfrm>
            <a:custGeom>
              <a:avLst/>
              <a:gdLst>
                <a:gd name="textAreaLeft" fmla="*/ 0 w 792360"/>
                <a:gd name="textAreaRight" fmla="*/ 792720 w 7923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792481" h="60961">
                  <a:moveTo>
                    <a:pt x="0" y="60960"/>
                  </a:moveTo>
                  <a:lnTo>
                    <a:pt x="18133" y="60960"/>
                  </a:lnTo>
                  <a:lnTo>
                    <a:pt x="21402" y="60114"/>
                  </a:lnTo>
                  <a:lnTo>
                    <a:pt x="25275" y="58702"/>
                  </a:lnTo>
                  <a:lnTo>
                    <a:pt x="29550" y="56915"/>
                  </a:lnTo>
                  <a:lnTo>
                    <a:pt x="34093" y="55723"/>
                  </a:lnTo>
                  <a:lnTo>
                    <a:pt x="48578" y="54046"/>
                  </a:lnTo>
                  <a:lnTo>
                    <a:pt x="68643" y="53480"/>
                  </a:lnTo>
                  <a:lnTo>
                    <a:pt x="84867" y="53368"/>
                  </a:lnTo>
                  <a:lnTo>
                    <a:pt x="88752" y="52512"/>
                  </a:lnTo>
                  <a:lnTo>
                    <a:pt x="93034" y="51095"/>
                  </a:lnTo>
                  <a:lnTo>
                    <a:pt x="97583" y="49303"/>
                  </a:lnTo>
                  <a:lnTo>
                    <a:pt x="102309" y="48109"/>
                  </a:lnTo>
                  <a:lnTo>
                    <a:pt x="117050" y="46428"/>
                  </a:lnTo>
                  <a:lnTo>
                    <a:pt x="137202" y="45859"/>
                  </a:lnTo>
                  <a:lnTo>
                    <a:pt x="157489" y="45747"/>
                  </a:lnTo>
                  <a:lnTo>
                    <a:pt x="163412" y="44892"/>
                  </a:lnTo>
                  <a:lnTo>
                    <a:pt x="169902" y="43475"/>
                  </a:lnTo>
                  <a:lnTo>
                    <a:pt x="176768" y="41683"/>
                  </a:lnTo>
                  <a:lnTo>
                    <a:pt x="183885" y="40489"/>
                  </a:lnTo>
                  <a:lnTo>
                    <a:pt x="206038" y="38808"/>
                  </a:lnTo>
                  <a:lnTo>
                    <a:pt x="228688" y="38310"/>
                  </a:lnTo>
                  <a:lnTo>
                    <a:pt x="266712" y="38127"/>
                  </a:lnTo>
                  <a:lnTo>
                    <a:pt x="274328" y="37272"/>
                  </a:lnTo>
                  <a:lnTo>
                    <a:pt x="281945" y="35855"/>
                  </a:lnTo>
                  <a:lnTo>
                    <a:pt x="289564" y="34063"/>
                  </a:lnTo>
                  <a:lnTo>
                    <a:pt x="298029" y="32869"/>
                  </a:lnTo>
                  <a:lnTo>
                    <a:pt x="316466" y="31542"/>
                  </a:lnTo>
                  <a:lnTo>
                    <a:pt x="333692" y="30952"/>
                  </a:lnTo>
                  <a:lnTo>
                    <a:pt x="349814" y="29843"/>
                  </a:lnTo>
                  <a:lnTo>
                    <a:pt x="357669" y="28362"/>
                  </a:lnTo>
                  <a:lnTo>
                    <a:pt x="365446" y="26528"/>
                  </a:lnTo>
                  <a:lnTo>
                    <a:pt x="373171" y="25306"/>
                  </a:lnTo>
                  <a:lnTo>
                    <a:pt x="388527" y="23947"/>
                  </a:lnTo>
                  <a:lnTo>
                    <a:pt x="396178" y="22738"/>
                  </a:lnTo>
                  <a:lnTo>
                    <a:pt x="403819" y="21085"/>
                  </a:lnTo>
                  <a:lnTo>
                    <a:pt x="411452" y="19137"/>
                  </a:lnTo>
                  <a:lnTo>
                    <a:pt x="419082" y="17838"/>
                  </a:lnTo>
                  <a:lnTo>
                    <a:pt x="442801" y="16010"/>
                  </a:lnTo>
                  <a:lnTo>
                    <a:pt x="461243" y="15582"/>
                  </a:lnTo>
                  <a:lnTo>
                    <a:pt x="470055" y="14621"/>
                  </a:lnTo>
                  <a:lnTo>
                    <a:pt x="478470" y="13134"/>
                  </a:lnTo>
                  <a:lnTo>
                    <a:pt x="486620" y="11296"/>
                  </a:lnTo>
                  <a:lnTo>
                    <a:pt x="494593" y="10071"/>
                  </a:lnTo>
                  <a:lnTo>
                    <a:pt x="517951" y="8346"/>
                  </a:lnTo>
                  <a:lnTo>
                    <a:pt x="540958" y="7836"/>
                  </a:lnTo>
                  <a:lnTo>
                    <a:pt x="706089" y="7620"/>
                  </a:lnTo>
                  <a:lnTo>
                    <a:pt x="711179" y="6774"/>
                  </a:lnTo>
                  <a:lnTo>
                    <a:pt x="716266" y="5363"/>
                  </a:lnTo>
                  <a:lnTo>
                    <a:pt x="721351" y="3576"/>
                  </a:lnTo>
                  <a:lnTo>
                    <a:pt x="726434" y="2383"/>
                  </a:lnTo>
                  <a:lnTo>
                    <a:pt x="740832" y="706"/>
                  </a:lnTo>
                  <a:lnTo>
                    <a:pt x="764408" y="28"/>
                  </a:lnTo>
                  <a:lnTo>
                    <a:pt x="7924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SMARTInkAnnotation373"/>
            <p:cNvSpPr/>
            <p:nvPr/>
          </p:nvSpPr>
          <p:spPr>
            <a:xfrm>
              <a:off x="1615680" y="5098320"/>
              <a:ext cx="289080" cy="31104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89407" h="311329">
                  <a:moveTo>
                    <a:pt x="7466" y="44628"/>
                  </a:moveTo>
                  <a:lnTo>
                    <a:pt x="11511" y="44628"/>
                  </a:lnTo>
                  <a:lnTo>
                    <a:pt x="13550" y="43782"/>
                  </a:lnTo>
                  <a:lnTo>
                    <a:pt x="20463" y="39391"/>
                  </a:lnTo>
                  <a:lnTo>
                    <a:pt x="28721" y="36868"/>
                  </a:lnTo>
                  <a:lnTo>
                    <a:pt x="36951" y="33277"/>
                  </a:lnTo>
                  <a:lnTo>
                    <a:pt x="59194" y="22450"/>
                  </a:lnTo>
                  <a:lnTo>
                    <a:pt x="67352" y="19683"/>
                  </a:lnTo>
                  <a:lnTo>
                    <a:pt x="75330" y="17838"/>
                  </a:lnTo>
                  <a:lnTo>
                    <a:pt x="83188" y="16608"/>
                  </a:lnTo>
                  <a:lnTo>
                    <a:pt x="90968" y="14941"/>
                  </a:lnTo>
                  <a:lnTo>
                    <a:pt x="98694" y="12983"/>
                  </a:lnTo>
                  <a:lnTo>
                    <a:pt x="106384" y="10832"/>
                  </a:lnTo>
                  <a:lnTo>
                    <a:pt x="114052" y="9398"/>
                  </a:lnTo>
                  <a:lnTo>
                    <a:pt x="121703" y="8441"/>
                  </a:lnTo>
                  <a:lnTo>
                    <a:pt x="129344" y="7804"/>
                  </a:lnTo>
                  <a:lnTo>
                    <a:pt x="136978" y="7378"/>
                  </a:lnTo>
                  <a:lnTo>
                    <a:pt x="152234" y="6906"/>
                  </a:lnTo>
                  <a:lnTo>
                    <a:pt x="159858" y="5933"/>
                  </a:lnTo>
                  <a:lnTo>
                    <a:pt x="167481" y="4439"/>
                  </a:lnTo>
                  <a:lnTo>
                    <a:pt x="175102" y="2595"/>
                  </a:lnTo>
                  <a:lnTo>
                    <a:pt x="182724" y="1366"/>
                  </a:lnTo>
                  <a:lnTo>
                    <a:pt x="190344" y="547"/>
                  </a:lnTo>
                  <a:lnTo>
                    <a:pt x="197965" y="0"/>
                  </a:lnTo>
                  <a:lnTo>
                    <a:pt x="204739" y="483"/>
                  </a:lnTo>
                  <a:lnTo>
                    <a:pt x="210948" y="1652"/>
                  </a:lnTo>
                  <a:lnTo>
                    <a:pt x="216781" y="3277"/>
                  </a:lnTo>
                  <a:lnTo>
                    <a:pt x="222362" y="4361"/>
                  </a:lnTo>
                  <a:lnTo>
                    <a:pt x="227777" y="5083"/>
                  </a:lnTo>
                  <a:lnTo>
                    <a:pt x="233080" y="5565"/>
                  </a:lnTo>
                  <a:lnTo>
                    <a:pt x="238309" y="6733"/>
                  </a:lnTo>
                  <a:lnTo>
                    <a:pt x="243488" y="8358"/>
                  </a:lnTo>
                  <a:lnTo>
                    <a:pt x="248634" y="10288"/>
                  </a:lnTo>
                  <a:lnTo>
                    <a:pt x="256609" y="12432"/>
                  </a:lnTo>
                  <a:lnTo>
                    <a:pt x="259922" y="13004"/>
                  </a:lnTo>
                  <a:lnTo>
                    <a:pt x="265860" y="15898"/>
                  </a:lnTo>
                  <a:lnTo>
                    <a:pt x="273963" y="22287"/>
                  </a:lnTo>
                  <a:lnTo>
                    <a:pt x="276571" y="24654"/>
                  </a:lnTo>
                  <a:lnTo>
                    <a:pt x="281725" y="31800"/>
                  </a:lnTo>
                  <a:lnTo>
                    <a:pt x="285993" y="39773"/>
                  </a:lnTo>
                  <a:lnTo>
                    <a:pt x="287889" y="46140"/>
                  </a:lnTo>
                  <a:lnTo>
                    <a:pt x="288732" y="54048"/>
                  </a:lnTo>
                  <a:lnTo>
                    <a:pt x="289106" y="63208"/>
                  </a:lnTo>
                  <a:lnTo>
                    <a:pt x="289273" y="72924"/>
                  </a:lnTo>
                  <a:lnTo>
                    <a:pt x="288471" y="78732"/>
                  </a:lnTo>
                  <a:lnTo>
                    <a:pt x="287089" y="85144"/>
                  </a:lnTo>
                  <a:lnTo>
                    <a:pt x="285321" y="91959"/>
                  </a:lnTo>
                  <a:lnTo>
                    <a:pt x="282450" y="98195"/>
                  </a:lnTo>
                  <a:lnTo>
                    <a:pt x="278842" y="104046"/>
                  </a:lnTo>
                  <a:lnTo>
                    <a:pt x="274743" y="109640"/>
                  </a:lnTo>
                  <a:lnTo>
                    <a:pt x="270317" y="115063"/>
                  </a:lnTo>
                  <a:lnTo>
                    <a:pt x="265674" y="120371"/>
                  </a:lnTo>
                  <a:lnTo>
                    <a:pt x="260884" y="125604"/>
                  </a:lnTo>
                  <a:lnTo>
                    <a:pt x="255999" y="131632"/>
                  </a:lnTo>
                  <a:lnTo>
                    <a:pt x="251048" y="138191"/>
                  </a:lnTo>
                  <a:lnTo>
                    <a:pt x="246054" y="145103"/>
                  </a:lnTo>
                  <a:lnTo>
                    <a:pt x="240184" y="151405"/>
                  </a:lnTo>
                  <a:lnTo>
                    <a:pt x="233732" y="157299"/>
                  </a:lnTo>
                  <a:lnTo>
                    <a:pt x="226890" y="162922"/>
                  </a:lnTo>
                  <a:lnTo>
                    <a:pt x="219789" y="168365"/>
                  </a:lnTo>
                  <a:lnTo>
                    <a:pt x="212514" y="173686"/>
                  </a:lnTo>
                  <a:lnTo>
                    <a:pt x="205125" y="178927"/>
                  </a:lnTo>
                  <a:lnTo>
                    <a:pt x="196812" y="184114"/>
                  </a:lnTo>
                  <a:lnTo>
                    <a:pt x="187883" y="189265"/>
                  </a:lnTo>
                  <a:lnTo>
                    <a:pt x="178544" y="194393"/>
                  </a:lnTo>
                  <a:lnTo>
                    <a:pt x="169778" y="198658"/>
                  </a:lnTo>
                  <a:lnTo>
                    <a:pt x="161394" y="202348"/>
                  </a:lnTo>
                  <a:lnTo>
                    <a:pt x="153265" y="205655"/>
                  </a:lnTo>
                  <a:lnTo>
                    <a:pt x="144459" y="208706"/>
                  </a:lnTo>
                  <a:lnTo>
                    <a:pt x="135201" y="211586"/>
                  </a:lnTo>
                  <a:lnTo>
                    <a:pt x="125643" y="214354"/>
                  </a:lnTo>
                  <a:lnTo>
                    <a:pt x="116730" y="217892"/>
                  </a:lnTo>
                  <a:lnTo>
                    <a:pt x="108249" y="221944"/>
                  </a:lnTo>
                  <a:lnTo>
                    <a:pt x="100055" y="226339"/>
                  </a:lnTo>
                  <a:lnTo>
                    <a:pt x="91205" y="230116"/>
                  </a:lnTo>
                  <a:lnTo>
                    <a:pt x="81919" y="233479"/>
                  </a:lnTo>
                  <a:lnTo>
                    <a:pt x="72341" y="236569"/>
                  </a:lnTo>
                  <a:lnTo>
                    <a:pt x="64263" y="239475"/>
                  </a:lnTo>
                  <a:lnTo>
                    <a:pt x="57184" y="242259"/>
                  </a:lnTo>
                  <a:lnTo>
                    <a:pt x="50772" y="244962"/>
                  </a:lnTo>
                  <a:lnTo>
                    <a:pt x="43956" y="246764"/>
                  </a:lnTo>
                  <a:lnTo>
                    <a:pt x="36873" y="247966"/>
                  </a:lnTo>
                  <a:lnTo>
                    <a:pt x="29611" y="248767"/>
                  </a:lnTo>
                  <a:lnTo>
                    <a:pt x="23923" y="250147"/>
                  </a:lnTo>
                  <a:lnTo>
                    <a:pt x="11872" y="255288"/>
                  </a:lnTo>
                  <a:lnTo>
                    <a:pt x="3786" y="257188"/>
                  </a:lnTo>
                  <a:lnTo>
                    <a:pt x="0" y="257957"/>
                  </a:lnTo>
                  <a:lnTo>
                    <a:pt x="114503" y="257988"/>
                  </a:lnTo>
                  <a:lnTo>
                    <a:pt x="121157" y="258835"/>
                  </a:lnTo>
                  <a:lnTo>
                    <a:pt x="127287" y="260245"/>
                  </a:lnTo>
                  <a:lnTo>
                    <a:pt x="133067" y="262033"/>
                  </a:lnTo>
                  <a:lnTo>
                    <a:pt x="139460" y="263225"/>
                  </a:lnTo>
                  <a:lnTo>
                    <a:pt x="146262" y="264019"/>
                  </a:lnTo>
                  <a:lnTo>
                    <a:pt x="153337" y="264549"/>
                  </a:lnTo>
                  <a:lnTo>
                    <a:pt x="159746" y="265749"/>
                  </a:lnTo>
                  <a:lnTo>
                    <a:pt x="165713" y="267396"/>
                  </a:lnTo>
                  <a:lnTo>
                    <a:pt x="171384" y="269340"/>
                  </a:lnTo>
                  <a:lnTo>
                    <a:pt x="176858" y="271483"/>
                  </a:lnTo>
                  <a:lnTo>
                    <a:pt x="182201" y="273758"/>
                  </a:lnTo>
                  <a:lnTo>
                    <a:pt x="187456" y="276121"/>
                  </a:lnTo>
                  <a:lnTo>
                    <a:pt x="192652" y="277697"/>
                  </a:lnTo>
                  <a:lnTo>
                    <a:pt x="197811" y="278747"/>
                  </a:lnTo>
                  <a:lnTo>
                    <a:pt x="202942" y="279447"/>
                  </a:lnTo>
                  <a:lnTo>
                    <a:pt x="208057" y="280761"/>
                  </a:lnTo>
                  <a:lnTo>
                    <a:pt x="213160" y="282483"/>
                  </a:lnTo>
                  <a:lnTo>
                    <a:pt x="218255" y="284478"/>
                  </a:lnTo>
                  <a:lnTo>
                    <a:pt x="223346" y="286655"/>
                  </a:lnTo>
                  <a:lnTo>
                    <a:pt x="233517" y="291332"/>
                  </a:lnTo>
                  <a:lnTo>
                    <a:pt x="248763" y="298724"/>
                  </a:lnTo>
                  <a:lnTo>
                    <a:pt x="253844" y="300385"/>
                  </a:lnTo>
                  <a:lnTo>
                    <a:pt x="258925" y="301493"/>
                  </a:lnTo>
                  <a:lnTo>
                    <a:pt x="264005" y="302231"/>
                  </a:lnTo>
                  <a:lnTo>
                    <a:pt x="271908" y="305310"/>
                  </a:lnTo>
                  <a:lnTo>
                    <a:pt x="278243" y="308653"/>
                  </a:lnTo>
                  <a:lnTo>
                    <a:pt x="281117" y="309544"/>
                  </a:lnTo>
                  <a:lnTo>
                    <a:pt x="289406" y="3113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SMARTInkAnnotation374"/>
            <p:cNvSpPr/>
            <p:nvPr/>
          </p:nvSpPr>
          <p:spPr>
            <a:xfrm>
              <a:off x="2019240" y="5158080"/>
              <a:ext cx="273960" cy="190440"/>
            </a:xfrm>
            <a:custGeom>
              <a:avLst/>
              <a:gdLst>
                <a:gd name="textAreaLeft" fmla="*/ 0 w 273960"/>
                <a:gd name="textAreaRight" fmla="*/ 274320 w 2739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274321" h="190501">
                  <a:moveTo>
                    <a:pt x="274320" y="0"/>
                  </a:moveTo>
                  <a:lnTo>
                    <a:pt x="267759" y="6561"/>
                  </a:lnTo>
                  <a:lnTo>
                    <a:pt x="264913" y="7149"/>
                  </a:lnTo>
                  <a:lnTo>
                    <a:pt x="262969" y="7306"/>
                  </a:lnTo>
                  <a:lnTo>
                    <a:pt x="260826" y="9104"/>
                  </a:lnTo>
                  <a:lnTo>
                    <a:pt x="258551" y="11996"/>
                  </a:lnTo>
                  <a:lnTo>
                    <a:pt x="256187" y="15617"/>
                  </a:lnTo>
                  <a:lnTo>
                    <a:pt x="253765" y="18878"/>
                  </a:lnTo>
                  <a:lnTo>
                    <a:pt x="248816" y="24759"/>
                  </a:lnTo>
                  <a:lnTo>
                    <a:pt x="241536" y="30196"/>
                  </a:lnTo>
                  <a:lnTo>
                    <a:pt x="233503" y="35433"/>
                  </a:lnTo>
                  <a:lnTo>
                    <a:pt x="227111" y="40584"/>
                  </a:lnTo>
                  <a:lnTo>
                    <a:pt x="223374" y="43989"/>
                  </a:lnTo>
                  <a:lnTo>
                    <a:pt x="214706" y="52288"/>
                  </a:lnTo>
                  <a:lnTo>
                    <a:pt x="209177" y="56026"/>
                  </a:lnTo>
                  <a:lnTo>
                    <a:pt x="202952" y="59364"/>
                  </a:lnTo>
                  <a:lnTo>
                    <a:pt x="196261" y="62436"/>
                  </a:lnTo>
                  <a:lnTo>
                    <a:pt x="190108" y="66178"/>
                  </a:lnTo>
                  <a:lnTo>
                    <a:pt x="184312" y="70364"/>
                  </a:lnTo>
                  <a:lnTo>
                    <a:pt x="178755" y="74850"/>
                  </a:lnTo>
                  <a:lnTo>
                    <a:pt x="172510" y="79533"/>
                  </a:lnTo>
                  <a:lnTo>
                    <a:pt x="158798" y="89253"/>
                  </a:lnTo>
                  <a:lnTo>
                    <a:pt x="152432" y="94215"/>
                  </a:lnTo>
                  <a:lnTo>
                    <a:pt x="146495" y="99217"/>
                  </a:lnTo>
                  <a:lnTo>
                    <a:pt x="140843" y="104245"/>
                  </a:lnTo>
                  <a:lnTo>
                    <a:pt x="134535" y="109290"/>
                  </a:lnTo>
                  <a:lnTo>
                    <a:pt x="127791" y="114347"/>
                  </a:lnTo>
                  <a:lnTo>
                    <a:pt x="120754" y="119411"/>
                  </a:lnTo>
                  <a:lnTo>
                    <a:pt x="114369" y="124481"/>
                  </a:lnTo>
                  <a:lnTo>
                    <a:pt x="108420" y="129553"/>
                  </a:lnTo>
                  <a:lnTo>
                    <a:pt x="102760" y="134629"/>
                  </a:lnTo>
                  <a:lnTo>
                    <a:pt x="97293" y="138860"/>
                  </a:lnTo>
                  <a:lnTo>
                    <a:pt x="91956" y="142526"/>
                  </a:lnTo>
                  <a:lnTo>
                    <a:pt x="86704" y="145818"/>
                  </a:lnTo>
                  <a:lnTo>
                    <a:pt x="81509" y="148859"/>
                  </a:lnTo>
                  <a:lnTo>
                    <a:pt x="76353" y="151732"/>
                  </a:lnTo>
                  <a:lnTo>
                    <a:pt x="71222" y="154495"/>
                  </a:lnTo>
                  <a:lnTo>
                    <a:pt x="66108" y="158030"/>
                  </a:lnTo>
                  <a:lnTo>
                    <a:pt x="61005" y="162080"/>
                  </a:lnTo>
                  <a:lnTo>
                    <a:pt x="55910" y="166474"/>
                  </a:lnTo>
                  <a:lnTo>
                    <a:pt x="50820" y="170249"/>
                  </a:lnTo>
                  <a:lnTo>
                    <a:pt x="45733" y="173613"/>
                  </a:lnTo>
                  <a:lnTo>
                    <a:pt x="40649" y="176702"/>
                  </a:lnTo>
                  <a:lnTo>
                    <a:pt x="35566" y="178761"/>
                  </a:lnTo>
                  <a:lnTo>
                    <a:pt x="30484" y="180134"/>
                  </a:lnTo>
                  <a:lnTo>
                    <a:pt x="25403" y="181050"/>
                  </a:lnTo>
                  <a:lnTo>
                    <a:pt x="17499" y="184324"/>
                  </a:lnTo>
                  <a:lnTo>
                    <a:pt x="11164" y="187755"/>
                  </a:lnTo>
                  <a:lnTo>
                    <a:pt x="3684" y="189687"/>
                  </a:lnTo>
                  <a:lnTo>
                    <a:pt x="0" y="1905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SMARTInkAnnotation375"/>
            <p:cNvSpPr/>
            <p:nvPr/>
          </p:nvSpPr>
          <p:spPr>
            <a:xfrm>
              <a:off x="2064960" y="5166000"/>
              <a:ext cx="258840" cy="2055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259081" h="205741">
                  <a:moveTo>
                    <a:pt x="0" y="0"/>
                  </a:moveTo>
                  <a:lnTo>
                    <a:pt x="11573" y="0"/>
                  </a:lnTo>
                  <a:lnTo>
                    <a:pt x="13641" y="846"/>
                  </a:lnTo>
                  <a:lnTo>
                    <a:pt x="21446" y="6083"/>
                  </a:lnTo>
                  <a:lnTo>
                    <a:pt x="25304" y="8289"/>
                  </a:lnTo>
                  <a:lnTo>
                    <a:pt x="29569" y="10606"/>
                  </a:lnTo>
                  <a:lnTo>
                    <a:pt x="33260" y="13844"/>
                  </a:lnTo>
                  <a:lnTo>
                    <a:pt x="36566" y="17696"/>
                  </a:lnTo>
                  <a:lnTo>
                    <a:pt x="39618" y="21957"/>
                  </a:lnTo>
                  <a:lnTo>
                    <a:pt x="43345" y="26491"/>
                  </a:lnTo>
                  <a:lnTo>
                    <a:pt x="47524" y="31207"/>
                  </a:lnTo>
                  <a:lnTo>
                    <a:pt x="52002" y="36045"/>
                  </a:lnTo>
                  <a:lnTo>
                    <a:pt x="57528" y="40964"/>
                  </a:lnTo>
                  <a:lnTo>
                    <a:pt x="63752" y="45935"/>
                  </a:lnTo>
                  <a:lnTo>
                    <a:pt x="70442" y="50943"/>
                  </a:lnTo>
                  <a:lnTo>
                    <a:pt x="76595" y="56823"/>
                  </a:lnTo>
                  <a:lnTo>
                    <a:pt x="82390" y="63282"/>
                  </a:lnTo>
                  <a:lnTo>
                    <a:pt x="87947" y="70128"/>
                  </a:lnTo>
                  <a:lnTo>
                    <a:pt x="94191" y="76385"/>
                  </a:lnTo>
                  <a:lnTo>
                    <a:pt x="100894" y="82250"/>
                  </a:lnTo>
                  <a:lnTo>
                    <a:pt x="107903" y="87854"/>
                  </a:lnTo>
                  <a:lnTo>
                    <a:pt x="114269" y="94129"/>
                  </a:lnTo>
                  <a:lnTo>
                    <a:pt x="120206" y="100853"/>
                  </a:lnTo>
                  <a:lnTo>
                    <a:pt x="125857" y="107875"/>
                  </a:lnTo>
                  <a:lnTo>
                    <a:pt x="133012" y="114250"/>
                  </a:lnTo>
                  <a:lnTo>
                    <a:pt x="141168" y="120193"/>
                  </a:lnTo>
                  <a:lnTo>
                    <a:pt x="149992" y="125849"/>
                  </a:lnTo>
                  <a:lnTo>
                    <a:pt x="158415" y="132159"/>
                  </a:lnTo>
                  <a:lnTo>
                    <a:pt x="166570" y="138906"/>
                  </a:lnTo>
                  <a:lnTo>
                    <a:pt x="174547" y="145944"/>
                  </a:lnTo>
                  <a:lnTo>
                    <a:pt x="187925" y="158280"/>
                  </a:lnTo>
                  <a:lnTo>
                    <a:pt x="193863" y="163940"/>
                  </a:lnTo>
                  <a:lnTo>
                    <a:pt x="200362" y="168560"/>
                  </a:lnTo>
                  <a:lnTo>
                    <a:pt x="207235" y="172486"/>
                  </a:lnTo>
                  <a:lnTo>
                    <a:pt x="214357" y="175951"/>
                  </a:lnTo>
                  <a:lnTo>
                    <a:pt x="220798" y="179954"/>
                  </a:lnTo>
                  <a:lnTo>
                    <a:pt x="226785" y="184316"/>
                  </a:lnTo>
                  <a:lnTo>
                    <a:pt x="232470" y="188918"/>
                  </a:lnTo>
                  <a:lnTo>
                    <a:pt x="237107" y="191985"/>
                  </a:lnTo>
                  <a:lnTo>
                    <a:pt x="244516" y="195393"/>
                  </a:lnTo>
                  <a:lnTo>
                    <a:pt x="250632" y="199166"/>
                  </a:lnTo>
                  <a:lnTo>
                    <a:pt x="259080" y="2057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MARTInkAnnotation376"/>
            <p:cNvSpPr/>
            <p:nvPr/>
          </p:nvSpPr>
          <p:spPr>
            <a:xfrm>
              <a:off x="2423160" y="5265000"/>
              <a:ext cx="99000" cy="756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99061" h="7621">
                  <a:moveTo>
                    <a:pt x="0" y="7620"/>
                  </a:moveTo>
                  <a:lnTo>
                    <a:pt x="4045" y="3575"/>
                  </a:lnTo>
                  <a:lnTo>
                    <a:pt x="6084" y="2383"/>
                  </a:lnTo>
                  <a:lnTo>
                    <a:pt x="8289" y="1589"/>
                  </a:lnTo>
                  <a:lnTo>
                    <a:pt x="10606" y="1059"/>
                  </a:lnTo>
                  <a:lnTo>
                    <a:pt x="12997" y="706"/>
                  </a:lnTo>
                  <a:lnTo>
                    <a:pt x="15438" y="471"/>
                  </a:lnTo>
                  <a:lnTo>
                    <a:pt x="17912" y="314"/>
                  </a:lnTo>
                  <a:lnTo>
                    <a:pt x="27434" y="140"/>
                  </a:lnTo>
                  <a:lnTo>
                    <a:pt x="990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MARTInkAnnotation377"/>
            <p:cNvSpPr/>
            <p:nvPr/>
          </p:nvSpPr>
          <p:spPr>
            <a:xfrm>
              <a:off x="2728800" y="5066640"/>
              <a:ext cx="235080" cy="3657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365760"/>
                <a:gd name="textAreaBottom" fmla="*/ 366120 h 365760"/>
              </a:gdLst>
              <a:ahLst/>
              <a:rect l="textAreaLeft" t="textAreaTop" r="textAreaRight" b="textAreaBottom"/>
              <a:pathLst>
                <a:path w="235221" h="365761">
                  <a:moveTo>
                    <a:pt x="90677" y="0"/>
                  </a:moveTo>
                  <a:lnTo>
                    <a:pt x="90677" y="6561"/>
                  </a:lnTo>
                  <a:lnTo>
                    <a:pt x="86632" y="15397"/>
                  </a:lnTo>
                  <a:lnTo>
                    <a:pt x="83747" y="18731"/>
                  </a:lnTo>
                  <a:lnTo>
                    <a:pt x="80131" y="21801"/>
                  </a:lnTo>
                  <a:lnTo>
                    <a:pt x="76026" y="24694"/>
                  </a:lnTo>
                  <a:lnTo>
                    <a:pt x="69208" y="32424"/>
                  </a:lnTo>
                  <a:lnTo>
                    <a:pt x="63355" y="41504"/>
                  </a:lnTo>
                  <a:lnTo>
                    <a:pt x="57932" y="51184"/>
                  </a:lnTo>
                  <a:lnTo>
                    <a:pt x="54454" y="56983"/>
                  </a:lnTo>
                  <a:lnTo>
                    <a:pt x="46074" y="70199"/>
                  </a:lnTo>
                  <a:lnTo>
                    <a:pt x="42315" y="76433"/>
                  </a:lnTo>
                  <a:lnTo>
                    <a:pt x="38962" y="82281"/>
                  </a:lnTo>
                  <a:lnTo>
                    <a:pt x="32980" y="93296"/>
                  </a:lnTo>
                  <a:lnTo>
                    <a:pt x="27498" y="103836"/>
                  </a:lnTo>
                  <a:lnTo>
                    <a:pt x="24851" y="109864"/>
                  </a:lnTo>
                  <a:lnTo>
                    <a:pt x="22240" y="116423"/>
                  </a:lnTo>
                  <a:lnTo>
                    <a:pt x="19652" y="123335"/>
                  </a:lnTo>
                  <a:lnTo>
                    <a:pt x="16234" y="130484"/>
                  </a:lnTo>
                  <a:lnTo>
                    <a:pt x="12262" y="137789"/>
                  </a:lnTo>
                  <a:lnTo>
                    <a:pt x="7920" y="145199"/>
                  </a:lnTo>
                  <a:lnTo>
                    <a:pt x="5026" y="152679"/>
                  </a:lnTo>
                  <a:lnTo>
                    <a:pt x="3097" y="160207"/>
                  </a:lnTo>
                  <a:lnTo>
                    <a:pt x="1810" y="167764"/>
                  </a:lnTo>
                  <a:lnTo>
                    <a:pt x="953" y="174496"/>
                  </a:lnTo>
                  <a:lnTo>
                    <a:pt x="381" y="180677"/>
                  </a:lnTo>
                  <a:lnTo>
                    <a:pt x="0" y="186491"/>
                  </a:lnTo>
                  <a:lnTo>
                    <a:pt x="592" y="192908"/>
                  </a:lnTo>
                  <a:lnTo>
                    <a:pt x="1834" y="199725"/>
                  </a:lnTo>
                  <a:lnTo>
                    <a:pt x="3508" y="206810"/>
                  </a:lnTo>
                  <a:lnTo>
                    <a:pt x="5471" y="213227"/>
                  </a:lnTo>
                  <a:lnTo>
                    <a:pt x="7627" y="219198"/>
                  </a:lnTo>
                  <a:lnTo>
                    <a:pt x="9910" y="224872"/>
                  </a:lnTo>
                  <a:lnTo>
                    <a:pt x="16963" y="235692"/>
                  </a:lnTo>
                  <a:lnTo>
                    <a:pt x="21215" y="240948"/>
                  </a:lnTo>
                  <a:lnTo>
                    <a:pt x="25742" y="245299"/>
                  </a:lnTo>
                  <a:lnTo>
                    <a:pt x="30454" y="249046"/>
                  </a:lnTo>
                  <a:lnTo>
                    <a:pt x="54228" y="265188"/>
                  </a:lnTo>
                  <a:lnTo>
                    <a:pt x="61297" y="269079"/>
                  </a:lnTo>
                  <a:lnTo>
                    <a:pt x="68551" y="272519"/>
                  </a:lnTo>
                  <a:lnTo>
                    <a:pt x="75927" y="275660"/>
                  </a:lnTo>
                  <a:lnTo>
                    <a:pt x="83383" y="277753"/>
                  </a:lnTo>
                  <a:lnTo>
                    <a:pt x="90895" y="279148"/>
                  </a:lnTo>
                  <a:lnTo>
                    <a:pt x="98442" y="280079"/>
                  </a:lnTo>
                  <a:lnTo>
                    <a:pt x="106861" y="280700"/>
                  </a:lnTo>
                  <a:lnTo>
                    <a:pt x="115859" y="281113"/>
                  </a:lnTo>
                  <a:lnTo>
                    <a:pt x="140190" y="281695"/>
                  </a:lnTo>
                  <a:lnTo>
                    <a:pt x="146546" y="281777"/>
                  </a:lnTo>
                  <a:lnTo>
                    <a:pt x="153323" y="280984"/>
                  </a:lnTo>
                  <a:lnTo>
                    <a:pt x="160381" y="279609"/>
                  </a:lnTo>
                  <a:lnTo>
                    <a:pt x="167626" y="277846"/>
                  </a:lnTo>
                  <a:lnTo>
                    <a:pt x="174150" y="275824"/>
                  </a:lnTo>
                  <a:lnTo>
                    <a:pt x="180192" y="273630"/>
                  </a:lnTo>
                  <a:lnTo>
                    <a:pt x="185914" y="271320"/>
                  </a:lnTo>
                  <a:lnTo>
                    <a:pt x="191422" y="268086"/>
                  </a:lnTo>
                  <a:lnTo>
                    <a:pt x="196787" y="264238"/>
                  </a:lnTo>
                  <a:lnTo>
                    <a:pt x="202057" y="259979"/>
                  </a:lnTo>
                  <a:lnTo>
                    <a:pt x="206417" y="255446"/>
                  </a:lnTo>
                  <a:lnTo>
                    <a:pt x="217445" y="240976"/>
                  </a:lnTo>
                  <a:lnTo>
                    <a:pt x="221756" y="236004"/>
                  </a:lnTo>
                  <a:lnTo>
                    <a:pt x="226323" y="230996"/>
                  </a:lnTo>
                  <a:lnTo>
                    <a:pt x="229368" y="225964"/>
                  </a:lnTo>
                  <a:lnTo>
                    <a:pt x="232750" y="215857"/>
                  </a:lnTo>
                  <a:lnTo>
                    <a:pt x="234655" y="204693"/>
                  </a:lnTo>
                  <a:lnTo>
                    <a:pt x="235101" y="196526"/>
                  </a:lnTo>
                  <a:lnTo>
                    <a:pt x="235220" y="191977"/>
                  </a:lnTo>
                  <a:lnTo>
                    <a:pt x="234452" y="188098"/>
                  </a:lnTo>
                  <a:lnTo>
                    <a:pt x="231342" y="181530"/>
                  </a:lnTo>
                  <a:lnTo>
                    <a:pt x="224830" y="173073"/>
                  </a:lnTo>
                  <a:lnTo>
                    <a:pt x="217539" y="165204"/>
                  </a:lnTo>
                  <a:lnTo>
                    <a:pt x="214198" y="163476"/>
                  </a:lnTo>
                  <a:lnTo>
                    <a:pt x="210278" y="162325"/>
                  </a:lnTo>
                  <a:lnTo>
                    <a:pt x="205971" y="161556"/>
                  </a:lnTo>
                  <a:lnTo>
                    <a:pt x="202253" y="161891"/>
                  </a:lnTo>
                  <a:lnTo>
                    <a:pt x="198928" y="162961"/>
                  </a:lnTo>
                  <a:lnTo>
                    <a:pt x="192975" y="166407"/>
                  </a:lnTo>
                  <a:lnTo>
                    <a:pt x="187507" y="170761"/>
                  </a:lnTo>
                  <a:lnTo>
                    <a:pt x="184017" y="173107"/>
                  </a:lnTo>
                  <a:lnTo>
                    <a:pt x="179997" y="175519"/>
                  </a:lnTo>
                  <a:lnTo>
                    <a:pt x="175624" y="177972"/>
                  </a:lnTo>
                  <a:lnTo>
                    <a:pt x="168507" y="185215"/>
                  </a:lnTo>
                  <a:lnTo>
                    <a:pt x="162521" y="194077"/>
                  </a:lnTo>
                  <a:lnTo>
                    <a:pt x="157039" y="203661"/>
                  </a:lnTo>
                  <a:lnTo>
                    <a:pt x="154392" y="209434"/>
                  </a:lnTo>
                  <a:lnTo>
                    <a:pt x="151780" y="215822"/>
                  </a:lnTo>
                  <a:lnTo>
                    <a:pt x="149192" y="222622"/>
                  </a:lnTo>
                  <a:lnTo>
                    <a:pt x="147467" y="229695"/>
                  </a:lnTo>
                  <a:lnTo>
                    <a:pt x="146318" y="236950"/>
                  </a:lnTo>
                  <a:lnTo>
                    <a:pt x="145551" y="244327"/>
                  </a:lnTo>
                  <a:lnTo>
                    <a:pt x="145040" y="251784"/>
                  </a:lnTo>
                  <a:lnTo>
                    <a:pt x="144699" y="259296"/>
                  </a:lnTo>
                  <a:lnTo>
                    <a:pt x="144219" y="279746"/>
                  </a:lnTo>
                  <a:lnTo>
                    <a:pt x="144152" y="285557"/>
                  </a:lnTo>
                  <a:lnTo>
                    <a:pt x="144954" y="291972"/>
                  </a:lnTo>
                  <a:lnTo>
                    <a:pt x="146335" y="298788"/>
                  </a:lnTo>
                  <a:lnTo>
                    <a:pt x="148102" y="305872"/>
                  </a:lnTo>
                  <a:lnTo>
                    <a:pt x="150127" y="312288"/>
                  </a:lnTo>
                  <a:lnTo>
                    <a:pt x="152324" y="318258"/>
                  </a:lnTo>
                  <a:lnTo>
                    <a:pt x="157023" y="329408"/>
                  </a:lnTo>
                  <a:lnTo>
                    <a:pt x="161933" y="340008"/>
                  </a:lnTo>
                  <a:lnTo>
                    <a:pt x="166938" y="348105"/>
                  </a:lnTo>
                  <a:lnTo>
                    <a:pt x="171984" y="354527"/>
                  </a:lnTo>
                  <a:lnTo>
                    <a:pt x="178738" y="362055"/>
                  </a:lnTo>
                  <a:lnTo>
                    <a:pt x="182117" y="3657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SMARTInkAnnotation378"/>
            <p:cNvSpPr/>
            <p:nvPr/>
          </p:nvSpPr>
          <p:spPr>
            <a:xfrm>
              <a:off x="4129920" y="4449600"/>
              <a:ext cx="319680" cy="205560"/>
            </a:xfrm>
            <a:custGeom>
              <a:avLst/>
              <a:gdLst>
                <a:gd name="textAreaLeft" fmla="*/ 0 w 319680"/>
                <a:gd name="textAreaRight" fmla="*/ 320040 w 31968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320040" h="205741">
                  <a:moveTo>
                    <a:pt x="320039" y="0"/>
                  </a:moveTo>
                  <a:lnTo>
                    <a:pt x="315994" y="0"/>
                  </a:lnTo>
                  <a:lnTo>
                    <a:pt x="313956" y="846"/>
                  </a:lnTo>
                  <a:lnTo>
                    <a:pt x="306172" y="6561"/>
                  </a:lnTo>
                  <a:lnTo>
                    <a:pt x="301161" y="11352"/>
                  </a:lnTo>
                  <a:lnTo>
                    <a:pt x="246332" y="66088"/>
                  </a:lnTo>
                  <a:lnTo>
                    <a:pt x="240421" y="71152"/>
                  </a:lnTo>
                  <a:lnTo>
                    <a:pt x="233940" y="76222"/>
                  </a:lnTo>
                  <a:lnTo>
                    <a:pt x="227080" y="81295"/>
                  </a:lnTo>
                  <a:lnTo>
                    <a:pt x="220812" y="86370"/>
                  </a:lnTo>
                  <a:lnTo>
                    <a:pt x="214942" y="91446"/>
                  </a:lnTo>
                  <a:lnTo>
                    <a:pt x="209334" y="96524"/>
                  </a:lnTo>
                  <a:lnTo>
                    <a:pt x="202209" y="100756"/>
                  </a:lnTo>
                  <a:lnTo>
                    <a:pt x="194073" y="104424"/>
                  </a:lnTo>
                  <a:lnTo>
                    <a:pt x="185261" y="107716"/>
                  </a:lnTo>
                  <a:lnTo>
                    <a:pt x="177694" y="111604"/>
                  </a:lnTo>
                  <a:lnTo>
                    <a:pt x="170957" y="115889"/>
                  </a:lnTo>
                  <a:lnTo>
                    <a:pt x="164771" y="120440"/>
                  </a:lnTo>
                  <a:lnTo>
                    <a:pt x="157260" y="125166"/>
                  </a:lnTo>
                  <a:lnTo>
                    <a:pt x="148867" y="130011"/>
                  </a:lnTo>
                  <a:lnTo>
                    <a:pt x="139884" y="134934"/>
                  </a:lnTo>
                  <a:lnTo>
                    <a:pt x="131356" y="139910"/>
                  </a:lnTo>
                  <a:lnTo>
                    <a:pt x="115107" y="149953"/>
                  </a:lnTo>
                  <a:lnTo>
                    <a:pt x="107217" y="154155"/>
                  </a:lnTo>
                  <a:lnTo>
                    <a:pt x="99419" y="157804"/>
                  </a:lnTo>
                  <a:lnTo>
                    <a:pt x="91678" y="161083"/>
                  </a:lnTo>
                  <a:lnTo>
                    <a:pt x="84825" y="164962"/>
                  </a:lnTo>
                  <a:lnTo>
                    <a:pt x="78564" y="169242"/>
                  </a:lnTo>
                  <a:lnTo>
                    <a:pt x="72695" y="173788"/>
                  </a:lnTo>
                  <a:lnTo>
                    <a:pt x="66244" y="177665"/>
                  </a:lnTo>
                  <a:lnTo>
                    <a:pt x="59403" y="181097"/>
                  </a:lnTo>
                  <a:lnTo>
                    <a:pt x="52301" y="184231"/>
                  </a:lnTo>
                  <a:lnTo>
                    <a:pt x="46721" y="187167"/>
                  </a:lnTo>
                  <a:lnTo>
                    <a:pt x="33975" y="195346"/>
                  </a:lnTo>
                  <a:lnTo>
                    <a:pt x="24695" y="200556"/>
                  </a:lnTo>
                  <a:lnTo>
                    <a:pt x="17184" y="203436"/>
                  </a:lnTo>
                  <a:lnTo>
                    <a:pt x="8196" y="205058"/>
                  </a:lnTo>
                  <a:lnTo>
                    <a:pt x="0" y="2057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SMARTInkAnnotation379"/>
            <p:cNvSpPr/>
            <p:nvPr/>
          </p:nvSpPr>
          <p:spPr>
            <a:xfrm>
              <a:off x="4129920" y="4464720"/>
              <a:ext cx="251280" cy="25128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251460" h="251368">
                  <a:moveTo>
                    <a:pt x="0" y="7528"/>
                  </a:moveTo>
                  <a:lnTo>
                    <a:pt x="0" y="3482"/>
                  </a:lnTo>
                  <a:lnTo>
                    <a:pt x="846" y="2291"/>
                  </a:lnTo>
                  <a:lnTo>
                    <a:pt x="2257" y="1496"/>
                  </a:lnTo>
                  <a:lnTo>
                    <a:pt x="6560" y="221"/>
                  </a:lnTo>
                  <a:lnTo>
                    <a:pt x="11664" y="47"/>
                  </a:lnTo>
                  <a:lnTo>
                    <a:pt x="15396" y="0"/>
                  </a:lnTo>
                  <a:lnTo>
                    <a:pt x="18731" y="816"/>
                  </a:lnTo>
                  <a:lnTo>
                    <a:pt x="24693" y="3980"/>
                  </a:lnTo>
                  <a:lnTo>
                    <a:pt x="32424" y="8209"/>
                  </a:lnTo>
                  <a:lnTo>
                    <a:pt x="51183" y="17822"/>
                  </a:lnTo>
                  <a:lnTo>
                    <a:pt x="56136" y="21164"/>
                  </a:lnTo>
                  <a:lnTo>
                    <a:pt x="61130" y="25085"/>
                  </a:lnTo>
                  <a:lnTo>
                    <a:pt x="66153" y="29392"/>
                  </a:lnTo>
                  <a:lnTo>
                    <a:pt x="71195" y="33957"/>
                  </a:lnTo>
                  <a:lnTo>
                    <a:pt x="81313" y="43545"/>
                  </a:lnTo>
                  <a:lnTo>
                    <a:pt x="96529" y="58463"/>
                  </a:lnTo>
                  <a:lnTo>
                    <a:pt x="100759" y="63498"/>
                  </a:lnTo>
                  <a:lnTo>
                    <a:pt x="104426" y="68547"/>
                  </a:lnTo>
                  <a:lnTo>
                    <a:pt x="107717" y="73608"/>
                  </a:lnTo>
                  <a:lnTo>
                    <a:pt x="112451" y="79520"/>
                  </a:lnTo>
                  <a:lnTo>
                    <a:pt x="118148" y="86003"/>
                  </a:lnTo>
                  <a:lnTo>
                    <a:pt x="130403" y="99132"/>
                  </a:lnTo>
                  <a:lnTo>
                    <a:pt x="141494" y="110612"/>
                  </a:lnTo>
                  <a:lnTo>
                    <a:pt x="145976" y="116890"/>
                  </a:lnTo>
                  <a:lnTo>
                    <a:pt x="149811" y="123616"/>
                  </a:lnTo>
                  <a:lnTo>
                    <a:pt x="153213" y="130639"/>
                  </a:lnTo>
                  <a:lnTo>
                    <a:pt x="157175" y="137015"/>
                  </a:lnTo>
                  <a:lnTo>
                    <a:pt x="161510" y="142959"/>
                  </a:lnTo>
                  <a:lnTo>
                    <a:pt x="166094" y="148615"/>
                  </a:lnTo>
                  <a:lnTo>
                    <a:pt x="170842" y="154079"/>
                  </a:lnTo>
                  <a:lnTo>
                    <a:pt x="175700" y="159416"/>
                  </a:lnTo>
                  <a:lnTo>
                    <a:pt x="180633" y="164666"/>
                  </a:lnTo>
                  <a:lnTo>
                    <a:pt x="185615" y="170706"/>
                  </a:lnTo>
                  <a:lnTo>
                    <a:pt x="190630" y="177273"/>
                  </a:lnTo>
                  <a:lnTo>
                    <a:pt x="195667" y="184191"/>
                  </a:lnTo>
                  <a:lnTo>
                    <a:pt x="200718" y="190496"/>
                  </a:lnTo>
                  <a:lnTo>
                    <a:pt x="205778" y="196393"/>
                  </a:lnTo>
                  <a:lnTo>
                    <a:pt x="210845" y="202018"/>
                  </a:lnTo>
                  <a:lnTo>
                    <a:pt x="215070" y="207461"/>
                  </a:lnTo>
                  <a:lnTo>
                    <a:pt x="218733" y="212783"/>
                  </a:lnTo>
                  <a:lnTo>
                    <a:pt x="222022" y="218024"/>
                  </a:lnTo>
                  <a:lnTo>
                    <a:pt x="225908" y="223212"/>
                  </a:lnTo>
                  <a:lnTo>
                    <a:pt x="230191" y="228364"/>
                  </a:lnTo>
                  <a:lnTo>
                    <a:pt x="238621" y="237757"/>
                  </a:lnTo>
                  <a:lnTo>
                    <a:pt x="251459" y="25136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SMARTInkAnnotation380"/>
            <p:cNvSpPr/>
            <p:nvPr/>
          </p:nvSpPr>
          <p:spPr>
            <a:xfrm>
              <a:off x="3169800" y="4335120"/>
              <a:ext cx="281880" cy="22068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281941" h="220977">
                  <a:moveTo>
                    <a:pt x="0" y="91436"/>
                  </a:moveTo>
                  <a:lnTo>
                    <a:pt x="0" y="84875"/>
                  </a:lnTo>
                  <a:lnTo>
                    <a:pt x="2258" y="79772"/>
                  </a:lnTo>
                  <a:lnTo>
                    <a:pt x="4045" y="76040"/>
                  </a:lnTo>
                  <a:lnTo>
                    <a:pt x="8289" y="69635"/>
                  </a:lnTo>
                  <a:lnTo>
                    <a:pt x="10606" y="66743"/>
                  </a:lnTo>
                  <a:lnTo>
                    <a:pt x="17696" y="61270"/>
                  </a:lnTo>
                  <a:lnTo>
                    <a:pt x="25645" y="56015"/>
                  </a:lnTo>
                  <a:lnTo>
                    <a:pt x="32000" y="50858"/>
                  </a:lnTo>
                  <a:lnTo>
                    <a:pt x="36573" y="48297"/>
                  </a:lnTo>
                  <a:lnTo>
                    <a:pt x="42162" y="45744"/>
                  </a:lnTo>
                  <a:lnTo>
                    <a:pt x="48429" y="43195"/>
                  </a:lnTo>
                  <a:lnTo>
                    <a:pt x="54299" y="40649"/>
                  </a:lnTo>
                  <a:lnTo>
                    <a:pt x="65338" y="35562"/>
                  </a:lnTo>
                  <a:lnTo>
                    <a:pt x="71498" y="32173"/>
                  </a:lnTo>
                  <a:lnTo>
                    <a:pt x="78146" y="28221"/>
                  </a:lnTo>
                  <a:lnTo>
                    <a:pt x="85117" y="23893"/>
                  </a:lnTo>
                  <a:lnTo>
                    <a:pt x="91458" y="20161"/>
                  </a:lnTo>
                  <a:lnTo>
                    <a:pt x="97379" y="16826"/>
                  </a:lnTo>
                  <a:lnTo>
                    <a:pt x="103019" y="13756"/>
                  </a:lnTo>
                  <a:lnTo>
                    <a:pt x="109319" y="10862"/>
                  </a:lnTo>
                  <a:lnTo>
                    <a:pt x="116060" y="8087"/>
                  </a:lnTo>
                  <a:lnTo>
                    <a:pt x="123093" y="5391"/>
                  </a:lnTo>
                  <a:lnTo>
                    <a:pt x="130322" y="3593"/>
                  </a:lnTo>
                  <a:lnTo>
                    <a:pt x="137682" y="2394"/>
                  </a:lnTo>
                  <a:lnTo>
                    <a:pt x="145128" y="1594"/>
                  </a:lnTo>
                  <a:lnTo>
                    <a:pt x="151785" y="1062"/>
                  </a:lnTo>
                  <a:lnTo>
                    <a:pt x="157916" y="707"/>
                  </a:lnTo>
                  <a:lnTo>
                    <a:pt x="169245" y="312"/>
                  </a:lnTo>
                  <a:lnTo>
                    <a:pt x="190316" y="58"/>
                  </a:lnTo>
                  <a:lnTo>
                    <a:pt x="222004" y="0"/>
                  </a:lnTo>
                  <a:lnTo>
                    <a:pt x="225050" y="845"/>
                  </a:lnTo>
                  <a:lnTo>
                    <a:pt x="230691" y="4043"/>
                  </a:lnTo>
                  <a:lnTo>
                    <a:pt x="238627" y="10603"/>
                  </a:lnTo>
                  <a:lnTo>
                    <a:pt x="242296" y="13863"/>
                  </a:lnTo>
                  <a:lnTo>
                    <a:pt x="245412" y="19142"/>
                  </a:lnTo>
                  <a:lnTo>
                    <a:pt x="247428" y="22920"/>
                  </a:lnTo>
                  <a:lnTo>
                    <a:pt x="249668" y="29376"/>
                  </a:lnTo>
                  <a:lnTo>
                    <a:pt x="250663" y="35067"/>
                  </a:lnTo>
                  <a:lnTo>
                    <a:pt x="251106" y="40419"/>
                  </a:lnTo>
                  <a:lnTo>
                    <a:pt x="251224" y="43878"/>
                  </a:lnTo>
                  <a:lnTo>
                    <a:pt x="251356" y="52237"/>
                  </a:lnTo>
                  <a:lnTo>
                    <a:pt x="250543" y="55990"/>
                  </a:lnTo>
                  <a:lnTo>
                    <a:pt x="247384" y="62418"/>
                  </a:lnTo>
                  <a:lnTo>
                    <a:pt x="243157" y="70355"/>
                  </a:lnTo>
                  <a:lnTo>
                    <a:pt x="233546" y="89248"/>
                  </a:lnTo>
                  <a:lnTo>
                    <a:pt x="230204" y="93364"/>
                  </a:lnTo>
                  <a:lnTo>
                    <a:pt x="221975" y="100195"/>
                  </a:lnTo>
                  <a:lnTo>
                    <a:pt x="217410" y="104049"/>
                  </a:lnTo>
                  <a:lnTo>
                    <a:pt x="212674" y="108312"/>
                  </a:lnTo>
                  <a:lnTo>
                    <a:pt x="202895" y="117563"/>
                  </a:lnTo>
                  <a:lnTo>
                    <a:pt x="192905" y="127319"/>
                  </a:lnTo>
                  <a:lnTo>
                    <a:pt x="187870" y="131445"/>
                  </a:lnTo>
                  <a:lnTo>
                    <a:pt x="182820" y="135042"/>
                  </a:lnTo>
                  <a:lnTo>
                    <a:pt x="177760" y="138287"/>
                  </a:lnTo>
                  <a:lnTo>
                    <a:pt x="172693" y="141296"/>
                  </a:lnTo>
                  <a:lnTo>
                    <a:pt x="167622" y="144150"/>
                  </a:lnTo>
                  <a:lnTo>
                    <a:pt x="162548" y="146899"/>
                  </a:lnTo>
                  <a:lnTo>
                    <a:pt x="157472" y="150425"/>
                  </a:lnTo>
                  <a:lnTo>
                    <a:pt x="152395" y="154468"/>
                  </a:lnTo>
                  <a:lnTo>
                    <a:pt x="147317" y="158858"/>
                  </a:lnTo>
                  <a:lnTo>
                    <a:pt x="139416" y="165992"/>
                  </a:lnTo>
                  <a:lnTo>
                    <a:pt x="132236" y="171986"/>
                  </a:lnTo>
                  <a:lnTo>
                    <a:pt x="127951" y="174769"/>
                  </a:lnTo>
                  <a:lnTo>
                    <a:pt x="123401" y="177472"/>
                  </a:lnTo>
                  <a:lnTo>
                    <a:pt x="118674" y="180967"/>
                  </a:lnTo>
                  <a:lnTo>
                    <a:pt x="113830" y="184990"/>
                  </a:lnTo>
                  <a:lnTo>
                    <a:pt x="108906" y="189365"/>
                  </a:lnTo>
                  <a:lnTo>
                    <a:pt x="105624" y="193129"/>
                  </a:lnTo>
                  <a:lnTo>
                    <a:pt x="101978" y="199568"/>
                  </a:lnTo>
                  <a:lnTo>
                    <a:pt x="100158" y="201624"/>
                  </a:lnTo>
                  <a:lnTo>
                    <a:pt x="98099" y="202995"/>
                  </a:lnTo>
                  <a:lnTo>
                    <a:pt x="95879" y="203909"/>
                  </a:lnTo>
                  <a:lnTo>
                    <a:pt x="94399" y="205364"/>
                  </a:lnTo>
                  <a:lnTo>
                    <a:pt x="93413" y="207182"/>
                  </a:lnTo>
                  <a:lnTo>
                    <a:pt x="91830" y="212137"/>
                  </a:lnTo>
                  <a:lnTo>
                    <a:pt x="91555" y="217040"/>
                  </a:lnTo>
                  <a:lnTo>
                    <a:pt x="92364" y="218352"/>
                  </a:lnTo>
                  <a:lnTo>
                    <a:pt x="93749" y="219226"/>
                  </a:lnTo>
                  <a:lnTo>
                    <a:pt x="97546" y="220198"/>
                  </a:lnTo>
                  <a:lnTo>
                    <a:pt x="104444" y="220746"/>
                  </a:lnTo>
                  <a:lnTo>
                    <a:pt x="109355" y="220874"/>
                  </a:lnTo>
                  <a:lnTo>
                    <a:pt x="214547" y="220976"/>
                  </a:lnTo>
                  <a:lnTo>
                    <a:pt x="220078" y="220130"/>
                  </a:lnTo>
                  <a:lnTo>
                    <a:pt x="228481" y="216931"/>
                  </a:lnTo>
                  <a:lnTo>
                    <a:pt x="232754" y="215739"/>
                  </a:lnTo>
                  <a:lnTo>
                    <a:pt x="237296" y="214945"/>
                  </a:lnTo>
                  <a:lnTo>
                    <a:pt x="246012" y="214062"/>
                  </a:lnTo>
                  <a:lnTo>
                    <a:pt x="252708" y="213670"/>
                  </a:lnTo>
                  <a:lnTo>
                    <a:pt x="260764" y="213496"/>
                  </a:lnTo>
                  <a:lnTo>
                    <a:pt x="281940" y="2133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SMARTInkAnnotation381"/>
            <p:cNvSpPr/>
            <p:nvPr/>
          </p:nvSpPr>
          <p:spPr>
            <a:xfrm>
              <a:off x="3619440" y="4472280"/>
              <a:ext cx="112320" cy="572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12674" h="57437">
                  <a:moveTo>
                    <a:pt x="83706" y="30477"/>
                  </a:moveTo>
                  <a:lnTo>
                    <a:pt x="83706" y="37038"/>
                  </a:lnTo>
                  <a:lnTo>
                    <a:pt x="82860" y="37391"/>
                  </a:lnTo>
                  <a:lnTo>
                    <a:pt x="79661" y="37783"/>
                  </a:lnTo>
                  <a:lnTo>
                    <a:pt x="78469" y="38734"/>
                  </a:lnTo>
                  <a:lnTo>
                    <a:pt x="77675" y="40216"/>
                  </a:lnTo>
                  <a:lnTo>
                    <a:pt x="77145" y="42049"/>
                  </a:lnTo>
                  <a:lnTo>
                    <a:pt x="75099" y="44118"/>
                  </a:lnTo>
                  <a:lnTo>
                    <a:pt x="72041" y="46344"/>
                  </a:lnTo>
                  <a:lnTo>
                    <a:pt x="68310" y="48676"/>
                  </a:lnTo>
                  <a:lnTo>
                    <a:pt x="64975" y="50229"/>
                  </a:lnTo>
                  <a:lnTo>
                    <a:pt x="61905" y="51265"/>
                  </a:lnTo>
                  <a:lnTo>
                    <a:pt x="59013" y="51956"/>
                  </a:lnTo>
                  <a:lnTo>
                    <a:pt x="56237" y="52416"/>
                  </a:lnTo>
                  <a:lnTo>
                    <a:pt x="53540" y="52723"/>
                  </a:lnTo>
                  <a:lnTo>
                    <a:pt x="50896" y="52928"/>
                  </a:lnTo>
                  <a:lnTo>
                    <a:pt x="47439" y="53064"/>
                  </a:lnTo>
                  <a:lnTo>
                    <a:pt x="35331" y="53256"/>
                  </a:lnTo>
                  <a:lnTo>
                    <a:pt x="16480" y="53326"/>
                  </a:lnTo>
                  <a:lnTo>
                    <a:pt x="13489" y="52483"/>
                  </a:lnTo>
                  <a:lnTo>
                    <a:pt x="11495" y="51074"/>
                  </a:lnTo>
                  <a:lnTo>
                    <a:pt x="10165" y="49288"/>
                  </a:lnTo>
                  <a:lnTo>
                    <a:pt x="8432" y="48098"/>
                  </a:lnTo>
                  <a:lnTo>
                    <a:pt x="6430" y="47304"/>
                  </a:lnTo>
                  <a:lnTo>
                    <a:pt x="4249" y="46776"/>
                  </a:lnTo>
                  <a:lnTo>
                    <a:pt x="2795" y="45576"/>
                  </a:lnTo>
                  <a:lnTo>
                    <a:pt x="1825" y="43929"/>
                  </a:lnTo>
                  <a:lnTo>
                    <a:pt x="1179" y="41985"/>
                  </a:lnTo>
                  <a:lnTo>
                    <a:pt x="748" y="39842"/>
                  </a:lnTo>
                  <a:lnTo>
                    <a:pt x="461" y="37567"/>
                  </a:lnTo>
                  <a:lnTo>
                    <a:pt x="269" y="35204"/>
                  </a:lnTo>
                  <a:lnTo>
                    <a:pt x="141" y="32782"/>
                  </a:lnTo>
                  <a:lnTo>
                    <a:pt x="0" y="27832"/>
                  </a:lnTo>
                  <a:lnTo>
                    <a:pt x="809" y="25327"/>
                  </a:lnTo>
                  <a:lnTo>
                    <a:pt x="2195" y="22810"/>
                  </a:lnTo>
                  <a:lnTo>
                    <a:pt x="3965" y="20286"/>
                  </a:lnTo>
                  <a:lnTo>
                    <a:pt x="5992" y="17757"/>
                  </a:lnTo>
                  <a:lnTo>
                    <a:pt x="8190" y="15224"/>
                  </a:lnTo>
                  <a:lnTo>
                    <a:pt x="10502" y="12688"/>
                  </a:lnTo>
                  <a:lnTo>
                    <a:pt x="13737" y="10151"/>
                  </a:lnTo>
                  <a:lnTo>
                    <a:pt x="17587" y="7613"/>
                  </a:lnTo>
                  <a:lnTo>
                    <a:pt x="21846" y="5074"/>
                  </a:lnTo>
                  <a:lnTo>
                    <a:pt x="25533" y="3382"/>
                  </a:lnTo>
                  <a:lnTo>
                    <a:pt x="28838" y="2254"/>
                  </a:lnTo>
                  <a:lnTo>
                    <a:pt x="31887" y="1501"/>
                  </a:lnTo>
                  <a:lnTo>
                    <a:pt x="34767" y="1000"/>
                  </a:lnTo>
                  <a:lnTo>
                    <a:pt x="37533" y="665"/>
                  </a:lnTo>
                  <a:lnTo>
                    <a:pt x="40225" y="442"/>
                  </a:lnTo>
                  <a:lnTo>
                    <a:pt x="43711" y="294"/>
                  </a:lnTo>
                  <a:lnTo>
                    <a:pt x="52102" y="129"/>
                  </a:lnTo>
                  <a:lnTo>
                    <a:pt x="85838" y="0"/>
                  </a:lnTo>
                  <a:lnTo>
                    <a:pt x="88513" y="846"/>
                  </a:lnTo>
                  <a:lnTo>
                    <a:pt x="91144" y="2256"/>
                  </a:lnTo>
                  <a:lnTo>
                    <a:pt x="93745" y="4043"/>
                  </a:lnTo>
                  <a:lnTo>
                    <a:pt x="96325" y="5235"/>
                  </a:lnTo>
                  <a:lnTo>
                    <a:pt x="98893" y="6029"/>
                  </a:lnTo>
                  <a:lnTo>
                    <a:pt x="101451" y="6558"/>
                  </a:lnTo>
                  <a:lnTo>
                    <a:pt x="103156" y="7758"/>
                  </a:lnTo>
                  <a:lnTo>
                    <a:pt x="104292" y="9404"/>
                  </a:lnTo>
                  <a:lnTo>
                    <a:pt x="105051" y="11348"/>
                  </a:lnTo>
                  <a:lnTo>
                    <a:pt x="105556" y="13492"/>
                  </a:lnTo>
                  <a:lnTo>
                    <a:pt x="105892" y="15767"/>
                  </a:lnTo>
                  <a:lnTo>
                    <a:pt x="106117" y="18130"/>
                  </a:lnTo>
                  <a:lnTo>
                    <a:pt x="105421" y="19706"/>
                  </a:lnTo>
                  <a:lnTo>
                    <a:pt x="104109" y="20756"/>
                  </a:lnTo>
                  <a:lnTo>
                    <a:pt x="102388" y="21456"/>
                  </a:lnTo>
                  <a:lnTo>
                    <a:pt x="101241" y="22770"/>
                  </a:lnTo>
                  <a:lnTo>
                    <a:pt x="100476" y="24492"/>
                  </a:lnTo>
                  <a:lnTo>
                    <a:pt x="99248" y="29295"/>
                  </a:lnTo>
                  <a:lnTo>
                    <a:pt x="98301" y="30536"/>
                  </a:lnTo>
                  <a:lnTo>
                    <a:pt x="96823" y="32210"/>
                  </a:lnTo>
                  <a:lnTo>
                    <a:pt x="94991" y="34172"/>
                  </a:lnTo>
                  <a:lnTo>
                    <a:pt x="92922" y="35481"/>
                  </a:lnTo>
                  <a:lnTo>
                    <a:pt x="90697" y="36353"/>
                  </a:lnTo>
                  <a:lnTo>
                    <a:pt x="88367" y="36934"/>
                  </a:lnTo>
                  <a:lnTo>
                    <a:pt x="85966" y="37322"/>
                  </a:lnTo>
                  <a:lnTo>
                    <a:pt x="83520" y="37581"/>
                  </a:lnTo>
                  <a:lnTo>
                    <a:pt x="81042" y="37753"/>
                  </a:lnTo>
                  <a:lnTo>
                    <a:pt x="78544" y="37867"/>
                  </a:lnTo>
                  <a:lnTo>
                    <a:pt x="73509" y="37995"/>
                  </a:lnTo>
                  <a:lnTo>
                    <a:pt x="58303" y="38088"/>
                  </a:lnTo>
                  <a:lnTo>
                    <a:pt x="55764" y="37244"/>
                  </a:lnTo>
                  <a:lnTo>
                    <a:pt x="53224" y="35835"/>
                  </a:lnTo>
                  <a:lnTo>
                    <a:pt x="50685" y="34049"/>
                  </a:lnTo>
                  <a:lnTo>
                    <a:pt x="48145" y="32858"/>
                  </a:lnTo>
                  <a:lnTo>
                    <a:pt x="45606" y="32065"/>
                  </a:lnTo>
                  <a:lnTo>
                    <a:pt x="43066" y="31536"/>
                  </a:lnTo>
                  <a:lnTo>
                    <a:pt x="41373" y="30336"/>
                  </a:lnTo>
                  <a:lnTo>
                    <a:pt x="40244" y="28689"/>
                  </a:lnTo>
                  <a:lnTo>
                    <a:pt x="39492" y="26745"/>
                  </a:lnTo>
                  <a:lnTo>
                    <a:pt x="38989" y="24603"/>
                  </a:lnTo>
                  <a:lnTo>
                    <a:pt x="38655" y="22327"/>
                  </a:lnTo>
                  <a:lnTo>
                    <a:pt x="38118" y="16638"/>
                  </a:lnTo>
                  <a:lnTo>
                    <a:pt x="38074" y="15324"/>
                  </a:lnTo>
                  <a:lnTo>
                    <a:pt x="38003" y="7132"/>
                  </a:lnTo>
                  <a:lnTo>
                    <a:pt x="37998" y="4754"/>
                  </a:lnTo>
                  <a:lnTo>
                    <a:pt x="38841" y="3169"/>
                  </a:lnTo>
                  <a:lnTo>
                    <a:pt x="40250" y="2112"/>
                  </a:lnTo>
                  <a:lnTo>
                    <a:pt x="42035" y="1407"/>
                  </a:lnTo>
                  <a:lnTo>
                    <a:pt x="44919" y="937"/>
                  </a:lnTo>
                  <a:lnTo>
                    <a:pt x="48534" y="623"/>
                  </a:lnTo>
                  <a:lnTo>
                    <a:pt x="56221" y="276"/>
                  </a:lnTo>
                  <a:lnTo>
                    <a:pt x="62459" y="121"/>
                  </a:lnTo>
                  <a:lnTo>
                    <a:pt x="74777" y="34"/>
                  </a:lnTo>
                  <a:lnTo>
                    <a:pt x="78600" y="868"/>
                  </a:lnTo>
                  <a:lnTo>
                    <a:pt x="81996" y="2271"/>
                  </a:lnTo>
                  <a:lnTo>
                    <a:pt x="85106" y="4053"/>
                  </a:lnTo>
                  <a:lnTo>
                    <a:pt x="88026" y="6088"/>
                  </a:lnTo>
                  <a:lnTo>
                    <a:pt x="90820" y="8291"/>
                  </a:lnTo>
                  <a:lnTo>
                    <a:pt x="93529" y="10607"/>
                  </a:lnTo>
                  <a:lnTo>
                    <a:pt x="96181" y="12997"/>
                  </a:lnTo>
                  <a:lnTo>
                    <a:pt x="101386" y="17911"/>
                  </a:lnTo>
                  <a:lnTo>
                    <a:pt x="112673" y="28984"/>
                  </a:lnTo>
                  <a:lnTo>
                    <a:pt x="112330" y="30328"/>
                  </a:lnTo>
                  <a:lnTo>
                    <a:pt x="111256" y="32072"/>
                  </a:lnTo>
                  <a:lnTo>
                    <a:pt x="109693" y="34080"/>
                  </a:lnTo>
                  <a:lnTo>
                    <a:pt x="107804" y="36265"/>
                  </a:lnTo>
                  <a:lnTo>
                    <a:pt x="105698" y="38570"/>
                  </a:lnTo>
                  <a:lnTo>
                    <a:pt x="101100" y="43387"/>
                  </a:lnTo>
                  <a:lnTo>
                    <a:pt x="96235" y="48350"/>
                  </a:lnTo>
                  <a:lnTo>
                    <a:pt x="92906" y="50013"/>
                  </a:lnTo>
                  <a:lnTo>
                    <a:pt x="88992" y="51121"/>
                  </a:lnTo>
                  <a:lnTo>
                    <a:pt x="84690" y="51859"/>
                  </a:lnTo>
                  <a:lnTo>
                    <a:pt x="80129" y="53199"/>
                  </a:lnTo>
                  <a:lnTo>
                    <a:pt x="75395" y="54938"/>
                  </a:lnTo>
                  <a:lnTo>
                    <a:pt x="70546" y="56944"/>
                  </a:lnTo>
                  <a:lnTo>
                    <a:pt x="66465" y="57436"/>
                  </a:lnTo>
                  <a:lnTo>
                    <a:pt x="62900" y="56916"/>
                  </a:lnTo>
                  <a:lnTo>
                    <a:pt x="59675" y="55723"/>
                  </a:lnTo>
                  <a:lnTo>
                    <a:pt x="56679" y="54928"/>
                  </a:lnTo>
                  <a:lnTo>
                    <a:pt x="53835" y="54397"/>
                  </a:lnTo>
                  <a:lnTo>
                    <a:pt x="47232" y="53546"/>
                  </a:lnTo>
                  <a:lnTo>
                    <a:pt x="44071" y="53430"/>
                  </a:lnTo>
                  <a:lnTo>
                    <a:pt x="42043" y="53399"/>
                  </a:lnTo>
                  <a:lnTo>
                    <a:pt x="39844" y="52532"/>
                  </a:lnTo>
                  <a:lnTo>
                    <a:pt x="37532" y="51106"/>
                  </a:lnTo>
                  <a:lnTo>
                    <a:pt x="35143" y="49310"/>
                  </a:lnTo>
                  <a:lnTo>
                    <a:pt x="33551" y="47266"/>
                  </a:lnTo>
                  <a:lnTo>
                    <a:pt x="32489" y="45056"/>
                  </a:lnTo>
                  <a:lnTo>
                    <a:pt x="31782" y="42736"/>
                  </a:lnTo>
                  <a:lnTo>
                    <a:pt x="31310" y="40344"/>
                  </a:lnTo>
                  <a:lnTo>
                    <a:pt x="30995" y="37901"/>
                  </a:lnTo>
                  <a:lnTo>
                    <a:pt x="30490" y="31944"/>
                  </a:lnTo>
                  <a:lnTo>
                    <a:pt x="31296" y="30608"/>
                  </a:lnTo>
                  <a:lnTo>
                    <a:pt x="32679" y="28871"/>
                  </a:lnTo>
                  <a:lnTo>
                    <a:pt x="34448" y="26866"/>
                  </a:lnTo>
                  <a:lnTo>
                    <a:pt x="38672" y="22381"/>
                  </a:lnTo>
                  <a:lnTo>
                    <a:pt x="40983" y="20000"/>
                  </a:lnTo>
                  <a:lnTo>
                    <a:pt x="43371" y="18412"/>
                  </a:lnTo>
                  <a:lnTo>
                    <a:pt x="45809" y="17354"/>
                  </a:lnTo>
                  <a:lnTo>
                    <a:pt x="48282" y="16648"/>
                  </a:lnTo>
                  <a:lnTo>
                    <a:pt x="50777" y="16178"/>
                  </a:lnTo>
                  <a:lnTo>
                    <a:pt x="53286" y="15864"/>
                  </a:lnTo>
                  <a:lnTo>
                    <a:pt x="55806" y="15655"/>
                  </a:lnTo>
                  <a:lnTo>
                    <a:pt x="59180" y="15516"/>
                  </a:lnTo>
                  <a:lnTo>
                    <a:pt x="67444" y="15361"/>
                  </a:lnTo>
                  <a:lnTo>
                    <a:pt x="71171" y="16167"/>
                  </a:lnTo>
                  <a:lnTo>
                    <a:pt x="74503" y="17550"/>
                  </a:lnTo>
                  <a:lnTo>
                    <a:pt x="77570" y="19319"/>
                  </a:lnTo>
                  <a:lnTo>
                    <a:pt x="80462" y="20498"/>
                  </a:lnTo>
                  <a:lnTo>
                    <a:pt x="83237" y="21285"/>
                  </a:lnTo>
                  <a:lnTo>
                    <a:pt x="89729" y="22547"/>
                  </a:lnTo>
                  <a:lnTo>
                    <a:pt x="90261" y="23496"/>
                  </a:lnTo>
                  <a:lnTo>
                    <a:pt x="90616" y="24977"/>
                  </a:lnTo>
                  <a:lnTo>
                    <a:pt x="91186" y="29391"/>
                  </a:lnTo>
                  <a:lnTo>
                    <a:pt x="90386" y="29753"/>
                  </a:lnTo>
                  <a:lnTo>
                    <a:pt x="87240" y="30155"/>
                  </a:lnTo>
                  <a:lnTo>
                    <a:pt x="84753" y="30382"/>
                  </a:lnTo>
                  <a:lnTo>
                    <a:pt x="81914" y="30434"/>
                  </a:lnTo>
                  <a:lnTo>
                    <a:pt x="60847" y="3047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SMARTInkAnnotation382"/>
            <p:cNvSpPr/>
            <p:nvPr/>
          </p:nvSpPr>
          <p:spPr>
            <a:xfrm>
              <a:off x="3680280" y="5150520"/>
              <a:ext cx="365400" cy="22068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365761" h="220981">
                  <a:moveTo>
                    <a:pt x="365760" y="0"/>
                  </a:moveTo>
                  <a:lnTo>
                    <a:pt x="361715" y="0"/>
                  </a:lnTo>
                  <a:lnTo>
                    <a:pt x="360523" y="1693"/>
                  </a:lnTo>
                  <a:lnTo>
                    <a:pt x="359199" y="8091"/>
                  </a:lnTo>
                  <a:lnTo>
                    <a:pt x="357153" y="10474"/>
                  </a:lnTo>
                  <a:lnTo>
                    <a:pt x="354095" y="12063"/>
                  </a:lnTo>
                  <a:lnTo>
                    <a:pt x="350364" y="13122"/>
                  </a:lnTo>
                  <a:lnTo>
                    <a:pt x="341702" y="18814"/>
                  </a:lnTo>
                  <a:lnTo>
                    <a:pt x="337021" y="22703"/>
                  </a:lnTo>
                  <a:lnTo>
                    <a:pt x="327305" y="29281"/>
                  </a:lnTo>
                  <a:lnTo>
                    <a:pt x="317342" y="35874"/>
                  </a:lnTo>
                  <a:lnTo>
                    <a:pt x="312315" y="40003"/>
                  </a:lnTo>
                  <a:lnTo>
                    <a:pt x="307270" y="44449"/>
                  </a:lnTo>
                  <a:lnTo>
                    <a:pt x="301367" y="49106"/>
                  </a:lnTo>
                  <a:lnTo>
                    <a:pt x="294891" y="53904"/>
                  </a:lnTo>
                  <a:lnTo>
                    <a:pt x="280923" y="63751"/>
                  </a:lnTo>
                  <a:lnTo>
                    <a:pt x="243707" y="88933"/>
                  </a:lnTo>
                  <a:lnTo>
                    <a:pt x="236131" y="94849"/>
                  </a:lnTo>
                  <a:lnTo>
                    <a:pt x="228541" y="101333"/>
                  </a:lnTo>
                  <a:lnTo>
                    <a:pt x="220941" y="108195"/>
                  </a:lnTo>
                  <a:lnTo>
                    <a:pt x="212487" y="114463"/>
                  </a:lnTo>
                  <a:lnTo>
                    <a:pt x="203465" y="120336"/>
                  </a:lnTo>
                  <a:lnTo>
                    <a:pt x="194063" y="125944"/>
                  </a:lnTo>
                  <a:lnTo>
                    <a:pt x="176844" y="136691"/>
                  </a:lnTo>
                  <a:lnTo>
                    <a:pt x="168696" y="141927"/>
                  </a:lnTo>
                  <a:lnTo>
                    <a:pt x="159877" y="147112"/>
                  </a:lnTo>
                  <a:lnTo>
                    <a:pt x="150612" y="152261"/>
                  </a:lnTo>
                  <a:lnTo>
                    <a:pt x="141048" y="157387"/>
                  </a:lnTo>
                  <a:lnTo>
                    <a:pt x="132132" y="162498"/>
                  </a:lnTo>
                  <a:lnTo>
                    <a:pt x="123648" y="167599"/>
                  </a:lnTo>
                  <a:lnTo>
                    <a:pt x="115452" y="172692"/>
                  </a:lnTo>
                  <a:lnTo>
                    <a:pt x="107448" y="176935"/>
                  </a:lnTo>
                  <a:lnTo>
                    <a:pt x="99572" y="180610"/>
                  </a:lnTo>
                  <a:lnTo>
                    <a:pt x="91781" y="183907"/>
                  </a:lnTo>
                  <a:lnTo>
                    <a:pt x="78609" y="189828"/>
                  </a:lnTo>
                  <a:lnTo>
                    <a:pt x="72726" y="192591"/>
                  </a:lnTo>
                  <a:lnTo>
                    <a:pt x="66264" y="195282"/>
                  </a:lnTo>
                  <a:lnTo>
                    <a:pt x="59416" y="197921"/>
                  </a:lnTo>
                  <a:lnTo>
                    <a:pt x="52311" y="200528"/>
                  </a:lnTo>
                  <a:lnTo>
                    <a:pt x="45880" y="203111"/>
                  </a:lnTo>
                  <a:lnTo>
                    <a:pt x="39901" y="205681"/>
                  </a:lnTo>
                  <a:lnTo>
                    <a:pt x="29587" y="209947"/>
                  </a:lnTo>
                  <a:lnTo>
                    <a:pt x="19021" y="213196"/>
                  </a:lnTo>
                  <a:lnTo>
                    <a:pt x="10527" y="218298"/>
                  </a:lnTo>
                  <a:lnTo>
                    <a:pt x="0" y="2209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SMARTInkAnnotation383"/>
            <p:cNvSpPr/>
            <p:nvPr/>
          </p:nvSpPr>
          <p:spPr>
            <a:xfrm>
              <a:off x="3756600" y="5150520"/>
              <a:ext cx="236160" cy="1980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236221" h="198121">
                  <a:moveTo>
                    <a:pt x="0" y="0"/>
                  </a:moveTo>
                  <a:lnTo>
                    <a:pt x="7306" y="0"/>
                  </a:lnTo>
                  <a:lnTo>
                    <a:pt x="13642" y="6084"/>
                  </a:lnTo>
                  <a:lnTo>
                    <a:pt x="18198" y="10606"/>
                  </a:lnTo>
                  <a:lnTo>
                    <a:pt x="21446" y="12151"/>
                  </a:lnTo>
                  <a:lnTo>
                    <a:pt x="25303" y="13181"/>
                  </a:lnTo>
                  <a:lnTo>
                    <a:pt x="29569" y="13867"/>
                  </a:lnTo>
                  <a:lnTo>
                    <a:pt x="34106" y="16018"/>
                  </a:lnTo>
                  <a:lnTo>
                    <a:pt x="38823" y="19146"/>
                  </a:lnTo>
                  <a:lnTo>
                    <a:pt x="43662" y="22924"/>
                  </a:lnTo>
                  <a:lnTo>
                    <a:pt x="47735" y="27136"/>
                  </a:lnTo>
                  <a:lnTo>
                    <a:pt x="51296" y="31638"/>
                  </a:lnTo>
                  <a:lnTo>
                    <a:pt x="54517" y="36332"/>
                  </a:lnTo>
                  <a:lnTo>
                    <a:pt x="58358" y="40308"/>
                  </a:lnTo>
                  <a:lnTo>
                    <a:pt x="62613" y="43806"/>
                  </a:lnTo>
                  <a:lnTo>
                    <a:pt x="67141" y="46984"/>
                  </a:lnTo>
                  <a:lnTo>
                    <a:pt x="71854" y="51643"/>
                  </a:lnTo>
                  <a:lnTo>
                    <a:pt x="76689" y="57288"/>
                  </a:lnTo>
                  <a:lnTo>
                    <a:pt x="81606" y="63592"/>
                  </a:lnTo>
                  <a:lnTo>
                    <a:pt x="85731" y="69488"/>
                  </a:lnTo>
                  <a:lnTo>
                    <a:pt x="89327" y="75112"/>
                  </a:lnTo>
                  <a:lnTo>
                    <a:pt x="92572" y="80555"/>
                  </a:lnTo>
                  <a:lnTo>
                    <a:pt x="96427" y="85877"/>
                  </a:lnTo>
                  <a:lnTo>
                    <a:pt x="100691" y="91118"/>
                  </a:lnTo>
                  <a:lnTo>
                    <a:pt x="105228" y="96305"/>
                  </a:lnTo>
                  <a:lnTo>
                    <a:pt x="109945" y="102304"/>
                  </a:lnTo>
                  <a:lnTo>
                    <a:pt x="114783" y="108843"/>
                  </a:lnTo>
                  <a:lnTo>
                    <a:pt x="119702" y="115741"/>
                  </a:lnTo>
                  <a:lnTo>
                    <a:pt x="123828" y="122035"/>
                  </a:lnTo>
                  <a:lnTo>
                    <a:pt x="127425" y="127923"/>
                  </a:lnTo>
                  <a:lnTo>
                    <a:pt x="130670" y="133542"/>
                  </a:lnTo>
                  <a:lnTo>
                    <a:pt x="134527" y="138982"/>
                  </a:lnTo>
                  <a:lnTo>
                    <a:pt x="138791" y="144301"/>
                  </a:lnTo>
                  <a:lnTo>
                    <a:pt x="143327" y="149541"/>
                  </a:lnTo>
                  <a:lnTo>
                    <a:pt x="148045" y="153881"/>
                  </a:lnTo>
                  <a:lnTo>
                    <a:pt x="152883" y="157620"/>
                  </a:lnTo>
                  <a:lnTo>
                    <a:pt x="157802" y="160960"/>
                  </a:lnTo>
                  <a:lnTo>
                    <a:pt x="162775" y="164880"/>
                  </a:lnTo>
                  <a:lnTo>
                    <a:pt x="167783" y="169187"/>
                  </a:lnTo>
                  <a:lnTo>
                    <a:pt x="172815" y="173751"/>
                  </a:lnTo>
                  <a:lnTo>
                    <a:pt x="177863" y="177641"/>
                  </a:lnTo>
                  <a:lnTo>
                    <a:pt x="182923" y="181080"/>
                  </a:lnTo>
                  <a:lnTo>
                    <a:pt x="187988" y="184221"/>
                  </a:lnTo>
                  <a:lnTo>
                    <a:pt x="192213" y="186314"/>
                  </a:lnTo>
                  <a:lnTo>
                    <a:pt x="203049" y="190106"/>
                  </a:lnTo>
                  <a:lnTo>
                    <a:pt x="207333" y="191931"/>
                  </a:lnTo>
                  <a:lnTo>
                    <a:pt x="211881" y="193994"/>
                  </a:lnTo>
                  <a:lnTo>
                    <a:pt x="219194" y="196286"/>
                  </a:lnTo>
                  <a:lnTo>
                    <a:pt x="226742" y="197758"/>
                  </a:lnTo>
                  <a:lnTo>
                    <a:pt x="230032" y="197959"/>
                  </a:lnTo>
                  <a:lnTo>
                    <a:pt x="236220" y="198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SMARTInkAnnotation384"/>
            <p:cNvSpPr/>
            <p:nvPr/>
          </p:nvSpPr>
          <p:spPr>
            <a:xfrm>
              <a:off x="4099680" y="5280120"/>
              <a:ext cx="213120" cy="1476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13361" h="14927">
                  <a:moveTo>
                    <a:pt x="0" y="0"/>
                  </a:moveTo>
                  <a:lnTo>
                    <a:pt x="10606" y="0"/>
                  </a:lnTo>
                  <a:lnTo>
                    <a:pt x="12997" y="846"/>
                  </a:lnTo>
                  <a:lnTo>
                    <a:pt x="15438" y="2257"/>
                  </a:lnTo>
                  <a:lnTo>
                    <a:pt x="17912" y="4045"/>
                  </a:lnTo>
                  <a:lnTo>
                    <a:pt x="22102" y="5237"/>
                  </a:lnTo>
                  <a:lnTo>
                    <a:pt x="27435" y="6031"/>
                  </a:lnTo>
                  <a:lnTo>
                    <a:pt x="33530" y="6561"/>
                  </a:lnTo>
                  <a:lnTo>
                    <a:pt x="39287" y="6914"/>
                  </a:lnTo>
                  <a:lnTo>
                    <a:pt x="50198" y="7306"/>
                  </a:lnTo>
                  <a:lnTo>
                    <a:pt x="82152" y="7579"/>
                  </a:lnTo>
                  <a:lnTo>
                    <a:pt x="87788" y="7593"/>
                  </a:lnTo>
                  <a:lnTo>
                    <a:pt x="93239" y="8449"/>
                  </a:lnTo>
                  <a:lnTo>
                    <a:pt x="98566" y="9866"/>
                  </a:lnTo>
                  <a:lnTo>
                    <a:pt x="103810" y="11657"/>
                  </a:lnTo>
                  <a:lnTo>
                    <a:pt x="109847" y="12852"/>
                  </a:lnTo>
                  <a:lnTo>
                    <a:pt x="116411" y="13648"/>
                  </a:lnTo>
                  <a:lnTo>
                    <a:pt x="123327" y="14178"/>
                  </a:lnTo>
                  <a:lnTo>
                    <a:pt x="129632" y="14533"/>
                  </a:lnTo>
                  <a:lnTo>
                    <a:pt x="141152" y="14926"/>
                  </a:lnTo>
                  <a:lnTo>
                    <a:pt x="145748" y="14184"/>
                  </a:lnTo>
                  <a:lnTo>
                    <a:pt x="149659" y="12842"/>
                  </a:lnTo>
                  <a:lnTo>
                    <a:pt x="153113" y="11102"/>
                  </a:lnTo>
                  <a:lnTo>
                    <a:pt x="157955" y="9941"/>
                  </a:lnTo>
                  <a:lnTo>
                    <a:pt x="163724" y="9168"/>
                  </a:lnTo>
                  <a:lnTo>
                    <a:pt x="175213" y="8308"/>
                  </a:lnTo>
                  <a:lnTo>
                    <a:pt x="183141" y="7926"/>
                  </a:lnTo>
                  <a:lnTo>
                    <a:pt x="189488" y="7756"/>
                  </a:lnTo>
                  <a:lnTo>
                    <a:pt x="205544" y="7625"/>
                  </a:lnTo>
                  <a:lnTo>
                    <a:pt x="21336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SMARTInkAnnotation385"/>
            <p:cNvSpPr/>
            <p:nvPr/>
          </p:nvSpPr>
          <p:spPr>
            <a:xfrm>
              <a:off x="4084200" y="5318280"/>
              <a:ext cx="243720" cy="3780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43841" h="38101">
                  <a:moveTo>
                    <a:pt x="0" y="38100"/>
                  </a:moveTo>
                  <a:lnTo>
                    <a:pt x="24473" y="38100"/>
                  </a:lnTo>
                  <a:lnTo>
                    <a:pt x="29016" y="37253"/>
                  </a:lnTo>
                  <a:lnTo>
                    <a:pt x="34584" y="35843"/>
                  </a:lnTo>
                  <a:lnTo>
                    <a:pt x="40836" y="34055"/>
                  </a:lnTo>
                  <a:lnTo>
                    <a:pt x="47544" y="32863"/>
                  </a:lnTo>
                  <a:lnTo>
                    <a:pt x="54556" y="32069"/>
                  </a:lnTo>
                  <a:lnTo>
                    <a:pt x="61771" y="31539"/>
                  </a:lnTo>
                  <a:lnTo>
                    <a:pt x="69120" y="31186"/>
                  </a:lnTo>
                  <a:lnTo>
                    <a:pt x="84060" y="30794"/>
                  </a:lnTo>
                  <a:lnTo>
                    <a:pt x="106751" y="30573"/>
                  </a:lnTo>
                  <a:lnTo>
                    <a:pt x="114347" y="29695"/>
                  </a:lnTo>
                  <a:lnTo>
                    <a:pt x="121952" y="28264"/>
                  </a:lnTo>
                  <a:lnTo>
                    <a:pt x="129561" y="26463"/>
                  </a:lnTo>
                  <a:lnTo>
                    <a:pt x="136327" y="25262"/>
                  </a:lnTo>
                  <a:lnTo>
                    <a:pt x="142531" y="24461"/>
                  </a:lnTo>
                  <a:lnTo>
                    <a:pt x="148361" y="23927"/>
                  </a:lnTo>
                  <a:lnTo>
                    <a:pt x="153941" y="22725"/>
                  </a:lnTo>
                  <a:lnTo>
                    <a:pt x="159354" y="21076"/>
                  </a:lnTo>
                  <a:lnTo>
                    <a:pt x="164656" y="19131"/>
                  </a:lnTo>
                  <a:lnTo>
                    <a:pt x="170731" y="17834"/>
                  </a:lnTo>
                  <a:lnTo>
                    <a:pt x="177320" y="16969"/>
                  </a:lnTo>
                  <a:lnTo>
                    <a:pt x="184254" y="16393"/>
                  </a:lnTo>
                  <a:lnTo>
                    <a:pt x="190569" y="15162"/>
                  </a:lnTo>
                  <a:lnTo>
                    <a:pt x="196473" y="13494"/>
                  </a:lnTo>
                  <a:lnTo>
                    <a:pt x="202102" y="11536"/>
                  </a:lnTo>
                  <a:lnTo>
                    <a:pt x="207548" y="9384"/>
                  </a:lnTo>
                  <a:lnTo>
                    <a:pt x="212872" y="7103"/>
                  </a:lnTo>
                  <a:lnTo>
                    <a:pt x="218115" y="4735"/>
                  </a:lnTo>
                  <a:lnTo>
                    <a:pt x="222456" y="3157"/>
                  </a:lnTo>
                  <a:lnTo>
                    <a:pt x="226198" y="2104"/>
                  </a:lnTo>
                  <a:lnTo>
                    <a:pt x="232612" y="935"/>
                  </a:lnTo>
                  <a:lnTo>
                    <a:pt x="235508" y="623"/>
                  </a:lnTo>
                  <a:lnTo>
                    <a:pt x="2438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SMARTInkAnnotation386"/>
            <p:cNvSpPr/>
            <p:nvPr/>
          </p:nvSpPr>
          <p:spPr>
            <a:xfrm>
              <a:off x="4393080" y="5135400"/>
              <a:ext cx="369360" cy="2239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369467" h="224157">
                  <a:moveTo>
                    <a:pt x="209446" y="37996"/>
                  </a:moveTo>
                  <a:lnTo>
                    <a:pt x="209446" y="33952"/>
                  </a:lnTo>
                  <a:lnTo>
                    <a:pt x="210292" y="32759"/>
                  </a:lnTo>
                  <a:lnTo>
                    <a:pt x="211704" y="31965"/>
                  </a:lnTo>
                  <a:lnTo>
                    <a:pt x="216007" y="30690"/>
                  </a:lnTo>
                  <a:lnTo>
                    <a:pt x="216360" y="29739"/>
                  </a:lnTo>
                  <a:lnTo>
                    <a:pt x="216857" y="24355"/>
                  </a:lnTo>
                  <a:lnTo>
                    <a:pt x="216973" y="19798"/>
                  </a:lnTo>
                  <a:lnTo>
                    <a:pt x="216157" y="17397"/>
                  </a:lnTo>
                  <a:lnTo>
                    <a:pt x="211811" y="10820"/>
                  </a:lnTo>
                  <a:lnTo>
                    <a:pt x="210497" y="8985"/>
                  </a:lnTo>
                  <a:lnTo>
                    <a:pt x="201667" y="3906"/>
                  </a:lnTo>
                  <a:lnTo>
                    <a:pt x="193007" y="1678"/>
                  </a:lnTo>
                  <a:lnTo>
                    <a:pt x="183513" y="689"/>
                  </a:lnTo>
                  <a:lnTo>
                    <a:pt x="173650" y="248"/>
                  </a:lnTo>
                  <a:lnTo>
                    <a:pt x="154531" y="0"/>
                  </a:lnTo>
                  <a:lnTo>
                    <a:pt x="147436" y="812"/>
                  </a:lnTo>
                  <a:lnTo>
                    <a:pt x="140166" y="2200"/>
                  </a:lnTo>
                  <a:lnTo>
                    <a:pt x="106203" y="10511"/>
                  </a:lnTo>
                  <a:lnTo>
                    <a:pt x="97437" y="12899"/>
                  </a:lnTo>
                  <a:lnTo>
                    <a:pt x="80925" y="17811"/>
                  </a:lnTo>
                  <a:lnTo>
                    <a:pt x="57348" y="25336"/>
                  </a:lnTo>
                  <a:lnTo>
                    <a:pt x="49628" y="28709"/>
                  </a:lnTo>
                  <a:lnTo>
                    <a:pt x="41940" y="32652"/>
                  </a:lnTo>
                  <a:lnTo>
                    <a:pt x="34275" y="36973"/>
                  </a:lnTo>
                  <a:lnTo>
                    <a:pt x="27473" y="41548"/>
                  </a:lnTo>
                  <a:lnTo>
                    <a:pt x="21243" y="46290"/>
                  </a:lnTo>
                  <a:lnTo>
                    <a:pt x="15397" y="51146"/>
                  </a:lnTo>
                  <a:lnTo>
                    <a:pt x="11501" y="56076"/>
                  </a:lnTo>
                  <a:lnTo>
                    <a:pt x="8902" y="61056"/>
                  </a:lnTo>
                  <a:lnTo>
                    <a:pt x="7170" y="66069"/>
                  </a:lnTo>
                  <a:lnTo>
                    <a:pt x="5169" y="71105"/>
                  </a:lnTo>
                  <a:lnTo>
                    <a:pt x="2988" y="76155"/>
                  </a:lnTo>
                  <a:lnTo>
                    <a:pt x="687" y="81215"/>
                  </a:lnTo>
                  <a:lnTo>
                    <a:pt x="0" y="86283"/>
                  </a:lnTo>
                  <a:lnTo>
                    <a:pt x="389" y="91354"/>
                  </a:lnTo>
                  <a:lnTo>
                    <a:pt x="1495" y="96428"/>
                  </a:lnTo>
                  <a:lnTo>
                    <a:pt x="3925" y="100657"/>
                  </a:lnTo>
                  <a:lnTo>
                    <a:pt x="11141" y="107615"/>
                  </a:lnTo>
                  <a:lnTo>
                    <a:pt x="15436" y="111502"/>
                  </a:lnTo>
                  <a:lnTo>
                    <a:pt x="24724" y="120336"/>
                  </a:lnTo>
                  <a:lnTo>
                    <a:pt x="31265" y="124217"/>
                  </a:lnTo>
                  <a:lnTo>
                    <a:pt x="39012" y="127650"/>
                  </a:lnTo>
                  <a:lnTo>
                    <a:pt x="55804" y="133722"/>
                  </a:lnTo>
                  <a:lnTo>
                    <a:pt x="71734" y="139244"/>
                  </a:lnTo>
                  <a:lnTo>
                    <a:pt x="80385" y="141054"/>
                  </a:lnTo>
                  <a:lnTo>
                    <a:pt x="89539" y="142261"/>
                  </a:lnTo>
                  <a:lnTo>
                    <a:pt x="99027" y="143067"/>
                  </a:lnTo>
                  <a:lnTo>
                    <a:pt x="108740" y="141910"/>
                  </a:lnTo>
                  <a:lnTo>
                    <a:pt x="118602" y="139445"/>
                  </a:lnTo>
                  <a:lnTo>
                    <a:pt x="178555" y="119416"/>
                  </a:lnTo>
                  <a:lnTo>
                    <a:pt x="185466" y="115983"/>
                  </a:lnTo>
                  <a:lnTo>
                    <a:pt x="191766" y="112000"/>
                  </a:lnTo>
                  <a:lnTo>
                    <a:pt x="197659" y="107653"/>
                  </a:lnTo>
                  <a:lnTo>
                    <a:pt x="210981" y="98306"/>
                  </a:lnTo>
                  <a:lnTo>
                    <a:pt x="218089" y="93443"/>
                  </a:lnTo>
                  <a:lnTo>
                    <a:pt x="223675" y="88507"/>
                  </a:lnTo>
                  <a:lnTo>
                    <a:pt x="228245" y="83524"/>
                  </a:lnTo>
                  <a:lnTo>
                    <a:pt x="232139" y="78508"/>
                  </a:lnTo>
                  <a:lnTo>
                    <a:pt x="235581" y="73471"/>
                  </a:lnTo>
                  <a:lnTo>
                    <a:pt x="238723" y="68419"/>
                  </a:lnTo>
                  <a:lnTo>
                    <a:pt x="241664" y="63358"/>
                  </a:lnTo>
                  <a:lnTo>
                    <a:pt x="243625" y="58291"/>
                  </a:lnTo>
                  <a:lnTo>
                    <a:pt x="244932" y="53219"/>
                  </a:lnTo>
                  <a:lnTo>
                    <a:pt x="245803" y="48145"/>
                  </a:lnTo>
                  <a:lnTo>
                    <a:pt x="246385" y="43915"/>
                  </a:lnTo>
                  <a:lnTo>
                    <a:pt x="247030" y="36958"/>
                  </a:lnTo>
                  <a:lnTo>
                    <a:pt x="248048" y="34764"/>
                  </a:lnTo>
                  <a:lnTo>
                    <a:pt x="249574" y="33302"/>
                  </a:lnTo>
                  <a:lnTo>
                    <a:pt x="254839" y="30547"/>
                  </a:lnTo>
                  <a:lnTo>
                    <a:pt x="251024" y="30427"/>
                  </a:lnTo>
                  <a:lnTo>
                    <a:pt x="249865" y="31256"/>
                  </a:lnTo>
                  <a:lnTo>
                    <a:pt x="249092" y="32656"/>
                  </a:lnTo>
                  <a:lnTo>
                    <a:pt x="248576" y="34436"/>
                  </a:lnTo>
                  <a:lnTo>
                    <a:pt x="248004" y="40930"/>
                  </a:lnTo>
                  <a:lnTo>
                    <a:pt x="247852" y="45032"/>
                  </a:lnTo>
                  <a:lnTo>
                    <a:pt x="246903" y="49460"/>
                  </a:lnTo>
                  <a:lnTo>
                    <a:pt x="245424" y="54105"/>
                  </a:lnTo>
                  <a:lnTo>
                    <a:pt x="243592" y="58896"/>
                  </a:lnTo>
                  <a:lnTo>
                    <a:pt x="242369" y="63782"/>
                  </a:lnTo>
                  <a:lnTo>
                    <a:pt x="241555" y="68734"/>
                  </a:lnTo>
                  <a:lnTo>
                    <a:pt x="241012" y="73728"/>
                  </a:lnTo>
                  <a:lnTo>
                    <a:pt x="241497" y="78750"/>
                  </a:lnTo>
                  <a:lnTo>
                    <a:pt x="242667" y="83793"/>
                  </a:lnTo>
                  <a:lnTo>
                    <a:pt x="244293" y="88847"/>
                  </a:lnTo>
                  <a:lnTo>
                    <a:pt x="245377" y="93910"/>
                  </a:lnTo>
                  <a:lnTo>
                    <a:pt x="246101" y="98979"/>
                  </a:lnTo>
                  <a:lnTo>
                    <a:pt x="246583" y="104051"/>
                  </a:lnTo>
                  <a:lnTo>
                    <a:pt x="247750" y="109973"/>
                  </a:lnTo>
                  <a:lnTo>
                    <a:pt x="249375" y="116461"/>
                  </a:lnTo>
                  <a:lnTo>
                    <a:pt x="251306" y="123326"/>
                  </a:lnTo>
                  <a:lnTo>
                    <a:pt x="253439" y="129596"/>
                  </a:lnTo>
                  <a:lnTo>
                    <a:pt x="255708" y="135469"/>
                  </a:lnTo>
                  <a:lnTo>
                    <a:pt x="258068" y="141078"/>
                  </a:lnTo>
                  <a:lnTo>
                    <a:pt x="261334" y="146511"/>
                  </a:lnTo>
                  <a:lnTo>
                    <a:pt x="265205" y="151826"/>
                  </a:lnTo>
                  <a:lnTo>
                    <a:pt x="269478" y="157063"/>
                  </a:lnTo>
                  <a:lnTo>
                    <a:pt x="274021" y="163094"/>
                  </a:lnTo>
                  <a:lnTo>
                    <a:pt x="283584" y="176568"/>
                  </a:lnTo>
                  <a:lnTo>
                    <a:pt x="289351" y="182871"/>
                  </a:lnTo>
                  <a:lnTo>
                    <a:pt x="295736" y="188766"/>
                  </a:lnTo>
                  <a:lnTo>
                    <a:pt x="302533" y="194389"/>
                  </a:lnTo>
                  <a:lnTo>
                    <a:pt x="308758" y="198985"/>
                  </a:lnTo>
                  <a:lnTo>
                    <a:pt x="314600" y="202896"/>
                  </a:lnTo>
                  <a:lnTo>
                    <a:pt x="324761" y="209498"/>
                  </a:lnTo>
                  <a:lnTo>
                    <a:pt x="332100" y="215254"/>
                  </a:lnTo>
                  <a:lnTo>
                    <a:pt x="338184" y="220636"/>
                  </a:lnTo>
                  <a:lnTo>
                    <a:pt x="340991" y="223256"/>
                  </a:lnTo>
                  <a:lnTo>
                    <a:pt x="344556" y="224156"/>
                  </a:lnTo>
                  <a:lnTo>
                    <a:pt x="348626" y="223910"/>
                  </a:lnTo>
                  <a:lnTo>
                    <a:pt x="359235" y="221475"/>
                  </a:lnTo>
                  <a:lnTo>
                    <a:pt x="369466" y="2208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SMARTInkAnnotation387"/>
            <p:cNvSpPr/>
            <p:nvPr/>
          </p:nvSpPr>
          <p:spPr>
            <a:xfrm>
              <a:off x="4823280" y="5028840"/>
              <a:ext cx="190440" cy="2361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190501" h="236221">
                  <a:moveTo>
                    <a:pt x="190500" y="0"/>
                  </a:moveTo>
                  <a:lnTo>
                    <a:pt x="186455" y="0"/>
                  </a:lnTo>
                  <a:lnTo>
                    <a:pt x="185263" y="846"/>
                  </a:lnTo>
                  <a:lnTo>
                    <a:pt x="184469" y="2258"/>
                  </a:lnTo>
                  <a:lnTo>
                    <a:pt x="183194" y="6561"/>
                  </a:lnTo>
                  <a:lnTo>
                    <a:pt x="178928" y="11352"/>
                  </a:lnTo>
                  <a:lnTo>
                    <a:pt x="177705" y="13495"/>
                  </a:lnTo>
                  <a:lnTo>
                    <a:pt x="175137" y="20556"/>
                  </a:lnTo>
                  <a:lnTo>
                    <a:pt x="171537" y="25505"/>
                  </a:lnTo>
                  <a:lnTo>
                    <a:pt x="167114" y="32784"/>
                  </a:lnTo>
                  <a:lnTo>
                    <a:pt x="162326" y="41664"/>
                  </a:lnTo>
                  <a:lnTo>
                    <a:pt x="157376" y="51255"/>
                  </a:lnTo>
                  <a:lnTo>
                    <a:pt x="154025" y="57030"/>
                  </a:lnTo>
                  <a:lnTo>
                    <a:pt x="145784" y="70221"/>
                  </a:lnTo>
                  <a:lnTo>
                    <a:pt x="141216" y="76447"/>
                  </a:lnTo>
                  <a:lnTo>
                    <a:pt x="136477" y="82291"/>
                  </a:lnTo>
                  <a:lnTo>
                    <a:pt x="131625" y="87881"/>
                  </a:lnTo>
                  <a:lnTo>
                    <a:pt x="126696" y="93301"/>
                  </a:lnTo>
                  <a:lnTo>
                    <a:pt x="116706" y="103838"/>
                  </a:lnTo>
                  <a:lnTo>
                    <a:pt x="97515" y="123336"/>
                  </a:lnTo>
                  <a:lnTo>
                    <a:pt x="91257" y="130484"/>
                  </a:lnTo>
                  <a:lnTo>
                    <a:pt x="85391" y="137789"/>
                  </a:lnTo>
                  <a:lnTo>
                    <a:pt x="79787" y="145200"/>
                  </a:lnTo>
                  <a:lnTo>
                    <a:pt x="74358" y="151833"/>
                  </a:lnTo>
                  <a:lnTo>
                    <a:pt x="69046" y="157949"/>
                  </a:lnTo>
                  <a:lnTo>
                    <a:pt x="63811" y="163719"/>
                  </a:lnTo>
                  <a:lnTo>
                    <a:pt x="51220" y="176904"/>
                  </a:lnTo>
                  <a:lnTo>
                    <a:pt x="5622" y="222971"/>
                  </a:lnTo>
                  <a:lnTo>
                    <a:pt x="3748" y="225694"/>
                  </a:lnTo>
                  <a:lnTo>
                    <a:pt x="1110" y="232725"/>
                  </a:lnTo>
                  <a:lnTo>
                    <a:pt x="0" y="2362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SMARTInkAnnotation388"/>
            <p:cNvSpPr/>
            <p:nvPr/>
          </p:nvSpPr>
          <p:spPr>
            <a:xfrm>
              <a:off x="4922640" y="4991040"/>
              <a:ext cx="264960" cy="2890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65298" h="289247">
                  <a:moveTo>
                    <a:pt x="236221" y="7306"/>
                  </a:moveTo>
                  <a:lnTo>
                    <a:pt x="247572" y="7306"/>
                  </a:lnTo>
                  <a:lnTo>
                    <a:pt x="248868" y="6460"/>
                  </a:lnTo>
                  <a:lnTo>
                    <a:pt x="249732" y="5048"/>
                  </a:lnTo>
                  <a:lnTo>
                    <a:pt x="250308" y="3261"/>
                  </a:lnTo>
                  <a:lnTo>
                    <a:pt x="251539" y="2070"/>
                  </a:lnTo>
                  <a:lnTo>
                    <a:pt x="253206" y="1275"/>
                  </a:lnTo>
                  <a:lnTo>
                    <a:pt x="257316" y="392"/>
                  </a:lnTo>
                  <a:lnTo>
                    <a:pt x="261965" y="0"/>
                  </a:lnTo>
                  <a:lnTo>
                    <a:pt x="263543" y="742"/>
                  </a:lnTo>
                  <a:lnTo>
                    <a:pt x="264596" y="2084"/>
                  </a:lnTo>
                  <a:lnTo>
                    <a:pt x="265297" y="3825"/>
                  </a:lnTo>
                  <a:lnTo>
                    <a:pt x="264918" y="4985"/>
                  </a:lnTo>
                  <a:lnTo>
                    <a:pt x="263819" y="5759"/>
                  </a:lnTo>
                  <a:lnTo>
                    <a:pt x="262239" y="6274"/>
                  </a:lnTo>
                  <a:lnTo>
                    <a:pt x="261186" y="7465"/>
                  </a:lnTo>
                  <a:lnTo>
                    <a:pt x="260484" y="9105"/>
                  </a:lnTo>
                  <a:lnTo>
                    <a:pt x="258858" y="14032"/>
                  </a:lnTo>
                  <a:lnTo>
                    <a:pt x="255312" y="21866"/>
                  </a:lnTo>
                  <a:lnTo>
                    <a:pt x="252335" y="26326"/>
                  </a:lnTo>
                  <a:lnTo>
                    <a:pt x="248657" y="30993"/>
                  </a:lnTo>
                  <a:lnTo>
                    <a:pt x="244512" y="35798"/>
                  </a:lnTo>
                  <a:lnTo>
                    <a:pt x="240054" y="40693"/>
                  </a:lnTo>
                  <a:lnTo>
                    <a:pt x="230587" y="50650"/>
                  </a:lnTo>
                  <a:lnTo>
                    <a:pt x="225691" y="56522"/>
                  </a:lnTo>
                  <a:lnTo>
                    <a:pt x="220734" y="62977"/>
                  </a:lnTo>
                  <a:lnTo>
                    <a:pt x="215737" y="69819"/>
                  </a:lnTo>
                  <a:lnTo>
                    <a:pt x="209864" y="76076"/>
                  </a:lnTo>
                  <a:lnTo>
                    <a:pt x="203409" y="81939"/>
                  </a:lnTo>
                  <a:lnTo>
                    <a:pt x="196566" y="87541"/>
                  </a:lnTo>
                  <a:lnTo>
                    <a:pt x="189464" y="93816"/>
                  </a:lnTo>
                  <a:lnTo>
                    <a:pt x="174799" y="107562"/>
                  </a:lnTo>
                  <a:lnTo>
                    <a:pt x="168180" y="114783"/>
                  </a:lnTo>
                  <a:lnTo>
                    <a:pt x="162074" y="122137"/>
                  </a:lnTo>
                  <a:lnTo>
                    <a:pt x="156309" y="129580"/>
                  </a:lnTo>
                  <a:lnTo>
                    <a:pt x="149926" y="137082"/>
                  </a:lnTo>
                  <a:lnTo>
                    <a:pt x="143130" y="144624"/>
                  </a:lnTo>
                  <a:lnTo>
                    <a:pt x="136061" y="152191"/>
                  </a:lnTo>
                  <a:lnTo>
                    <a:pt x="128807" y="158929"/>
                  </a:lnTo>
                  <a:lnTo>
                    <a:pt x="121431" y="165115"/>
                  </a:lnTo>
                  <a:lnTo>
                    <a:pt x="113975" y="170932"/>
                  </a:lnTo>
                  <a:lnTo>
                    <a:pt x="106463" y="177350"/>
                  </a:lnTo>
                  <a:lnTo>
                    <a:pt x="98916" y="184169"/>
                  </a:lnTo>
                  <a:lnTo>
                    <a:pt x="91344" y="191254"/>
                  </a:lnTo>
                  <a:lnTo>
                    <a:pt x="84602" y="198518"/>
                  </a:lnTo>
                  <a:lnTo>
                    <a:pt x="78415" y="205901"/>
                  </a:lnTo>
                  <a:lnTo>
                    <a:pt x="72596" y="213363"/>
                  </a:lnTo>
                  <a:lnTo>
                    <a:pt x="67025" y="220030"/>
                  </a:lnTo>
                  <a:lnTo>
                    <a:pt x="61617" y="226169"/>
                  </a:lnTo>
                  <a:lnTo>
                    <a:pt x="51092" y="237505"/>
                  </a:lnTo>
                  <a:lnTo>
                    <a:pt x="40770" y="248188"/>
                  </a:lnTo>
                  <a:lnTo>
                    <a:pt x="35647" y="252561"/>
                  </a:lnTo>
                  <a:lnTo>
                    <a:pt x="30538" y="256322"/>
                  </a:lnTo>
                  <a:lnTo>
                    <a:pt x="25438" y="259677"/>
                  </a:lnTo>
                  <a:lnTo>
                    <a:pt x="17516" y="267920"/>
                  </a:lnTo>
                  <a:lnTo>
                    <a:pt x="11171" y="276381"/>
                  </a:lnTo>
                  <a:lnTo>
                    <a:pt x="3686" y="285058"/>
                  </a:lnTo>
                  <a:lnTo>
                    <a:pt x="0" y="28924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MARTInkAnnotation389"/>
            <p:cNvSpPr/>
            <p:nvPr/>
          </p:nvSpPr>
          <p:spPr>
            <a:xfrm>
              <a:off x="4800600" y="5082120"/>
              <a:ext cx="380880" cy="3780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81001" h="38071">
                  <a:moveTo>
                    <a:pt x="0" y="0"/>
                  </a:moveTo>
                  <a:lnTo>
                    <a:pt x="28518" y="0"/>
                  </a:lnTo>
                  <a:lnTo>
                    <a:pt x="35099" y="847"/>
                  </a:lnTo>
                  <a:lnTo>
                    <a:pt x="42873" y="2258"/>
                  </a:lnTo>
                  <a:lnTo>
                    <a:pt x="51441" y="4045"/>
                  </a:lnTo>
                  <a:lnTo>
                    <a:pt x="59695" y="6084"/>
                  </a:lnTo>
                  <a:lnTo>
                    <a:pt x="67736" y="8289"/>
                  </a:lnTo>
                  <a:lnTo>
                    <a:pt x="75638" y="10606"/>
                  </a:lnTo>
                  <a:lnTo>
                    <a:pt x="93448" y="15438"/>
                  </a:lnTo>
                  <a:lnTo>
                    <a:pt x="102939" y="17912"/>
                  </a:lnTo>
                  <a:lnTo>
                    <a:pt x="112652" y="19561"/>
                  </a:lnTo>
                  <a:lnTo>
                    <a:pt x="122515" y="20661"/>
                  </a:lnTo>
                  <a:lnTo>
                    <a:pt x="132476" y="21394"/>
                  </a:lnTo>
                  <a:lnTo>
                    <a:pt x="143352" y="22729"/>
                  </a:lnTo>
                  <a:lnTo>
                    <a:pt x="154835" y="24466"/>
                  </a:lnTo>
                  <a:lnTo>
                    <a:pt x="166723" y="26471"/>
                  </a:lnTo>
                  <a:lnTo>
                    <a:pt x="178035" y="27807"/>
                  </a:lnTo>
                  <a:lnTo>
                    <a:pt x="188963" y="28698"/>
                  </a:lnTo>
                  <a:lnTo>
                    <a:pt x="199636" y="29292"/>
                  </a:lnTo>
                  <a:lnTo>
                    <a:pt x="209290" y="30535"/>
                  </a:lnTo>
                  <a:lnTo>
                    <a:pt x="218267" y="32210"/>
                  </a:lnTo>
                  <a:lnTo>
                    <a:pt x="226792" y="34173"/>
                  </a:lnTo>
                  <a:lnTo>
                    <a:pt x="235861" y="35482"/>
                  </a:lnTo>
                  <a:lnTo>
                    <a:pt x="245294" y="36355"/>
                  </a:lnTo>
                  <a:lnTo>
                    <a:pt x="254969" y="36936"/>
                  </a:lnTo>
                  <a:lnTo>
                    <a:pt x="272493" y="37583"/>
                  </a:lnTo>
                  <a:lnTo>
                    <a:pt x="296638" y="37947"/>
                  </a:lnTo>
                  <a:lnTo>
                    <a:pt x="327553" y="38070"/>
                  </a:lnTo>
                  <a:lnTo>
                    <a:pt x="333515" y="37233"/>
                  </a:lnTo>
                  <a:lnTo>
                    <a:pt x="338337" y="35829"/>
                  </a:lnTo>
                  <a:lnTo>
                    <a:pt x="342398" y="34046"/>
                  </a:lnTo>
                  <a:lnTo>
                    <a:pt x="347645" y="32857"/>
                  </a:lnTo>
                  <a:lnTo>
                    <a:pt x="353683" y="32064"/>
                  </a:lnTo>
                  <a:lnTo>
                    <a:pt x="365473" y="31184"/>
                  </a:lnTo>
                  <a:lnTo>
                    <a:pt x="381000" y="304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MARTInkAnnotation390"/>
            <p:cNvSpPr/>
            <p:nvPr/>
          </p:nvSpPr>
          <p:spPr>
            <a:xfrm>
              <a:off x="4739760" y="5158080"/>
              <a:ext cx="342720" cy="532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42901" h="53341">
                  <a:moveTo>
                    <a:pt x="0" y="0"/>
                  </a:moveTo>
                  <a:lnTo>
                    <a:pt x="10605" y="0"/>
                  </a:lnTo>
                  <a:lnTo>
                    <a:pt x="14690" y="847"/>
                  </a:lnTo>
                  <a:lnTo>
                    <a:pt x="19953" y="2258"/>
                  </a:lnTo>
                  <a:lnTo>
                    <a:pt x="26002" y="4045"/>
                  </a:lnTo>
                  <a:lnTo>
                    <a:pt x="32574" y="5237"/>
                  </a:lnTo>
                  <a:lnTo>
                    <a:pt x="39496" y="6031"/>
                  </a:lnTo>
                  <a:lnTo>
                    <a:pt x="46651" y="6561"/>
                  </a:lnTo>
                  <a:lnTo>
                    <a:pt x="53960" y="7761"/>
                  </a:lnTo>
                  <a:lnTo>
                    <a:pt x="61373" y="9407"/>
                  </a:lnTo>
                  <a:lnTo>
                    <a:pt x="68855" y="11351"/>
                  </a:lnTo>
                  <a:lnTo>
                    <a:pt x="88457" y="15770"/>
                  </a:lnTo>
                  <a:lnTo>
                    <a:pt x="99611" y="18133"/>
                  </a:lnTo>
                  <a:lnTo>
                    <a:pt x="110434" y="19709"/>
                  </a:lnTo>
                  <a:lnTo>
                    <a:pt x="121036" y="20759"/>
                  </a:lnTo>
                  <a:lnTo>
                    <a:pt x="131490" y="21459"/>
                  </a:lnTo>
                  <a:lnTo>
                    <a:pt x="141847" y="22773"/>
                  </a:lnTo>
                  <a:lnTo>
                    <a:pt x="152138" y="24495"/>
                  </a:lnTo>
                  <a:lnTo>
                    <a:pt x="162385" y="26490"/>
                  </a:lnTo>
                  <a:lnTo>
                    <a:pt x="182802" y="30965"/>
                  </a:lnTo>
                  <a:lnTo>
                    <a:pt x="192988" y="33343"/>
                  </a:lnTo>
                  <a:lnTo>
                    <a:pt x="203164" y="34929"/>
                  </a:lnTo>
                  <a:lnTo>
                    <a:pt x="213336" y="35986"/>
                  </a:lnTo>
                  <a:lnTo>
                    <a:pt x="223504" y="36690"/>
                  </a:lnTo>
                  <a:lnTo>
                    <a:pt x="232823" y="38007"/>
                  </a:lnTo>
                  <a:lnTo>
                    <a:pt x="241575" y="39731"/>
                  </a:lnTo>
                  <a:lnTo>
                    <a:pt x="249950" y="41728"/>
                  </a:lnTo>
                  <a:lnTo>
                    <a:pt x="258919" y="43058"/>
                  </a:lnTo>
                  <a:lnTo>
                    <a:pt x="268286" y="43946"/>
                  </a:lnTo>
                  <a:lnTo>
                    <a:pt x="277917" y="44537"/>
                  </a:lnTo>
                  <a:lnTo>
                    <a:pt x="286031" y="45778"/>
                  </a:lnTo>
                  <a:lnTo>
                    <a:pt x="293134" y="47452"/>
                  </a:lnTo>
                  <a:lnTo>
                    <a:pt x="299563" y="49415"/>
                  </a:lnTo>
                  <a:lnTo>
                    <a:pt x="305542" y="50723"/>
                  </a:lnTo>
                  <a:lnTo>
                    <a:pt x="311221" y="51595"/>
                  </a:lnTo>
                  <a:lnTo>
                    <a:pt x="321200" y="52565"/>
                  </a:lnTo>
                  <a:lnTo>
                    <a:pt x="331579" y="53110"/>
                  </a:lnTo>
                  <a:lnTo>
                    <a:pt x="342900" y="533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920" bIns="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80008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riting Algebraic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0" y="990720"/>
            <a:ext cx="8610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Define variables and write an </a:t>
            </a: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equation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 to model the relationship in the given t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219320" y="2209680"/>
          <a:ext cx="3200400" cy="3017880"/>
        </p:xfrm>
        <a:graphic>
          <a:graphicData uri="http://schemas.openxmlformats.org/drawingml/2006/table">
            <a:tbl>
              <a:tblPr/>
              <a:tblGrid>
                <a:gridCol w="1904760"/>
                <a:gridCol w="129564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6d2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6d2c3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e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eecb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e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eecb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e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eecb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ee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eeecb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39"/>
          <p:cNvSpPr/>
          <p:nvPr/>
        </p:nvSpPr>
        <p:spPr>
          <a:xfrm>
            <a:off x="304920" y="205740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63522"/>
          <p:cNvGrpSpPr/>
          <p:nvPr/>
        </p:nvGrpSpPr>
        <p:grpSpPr>
          <a:xfrm>
            <a:off x="1889280" y="1836720"/>
            <a:ext cx="5846760" cy="3146400"/>
            <a:chOff x="1889280" y="1836720"/>
            <a:chExt cx="5846760" cy="3146400"/>
          </a:xfrm>
        </p:grpSpPr>
        <p:sp>
          <p:nvSpPr>
            <p:cNvPr id="168" name="SMARTInkAnnotation303"/>
            <p:cNvSpPr/>
            <p:nvPr/>
          </p:nvSpPr>
          <p:spPr>
            <a:xfrm>
              <a:off x="1889280" y="1927800"/>
              <a:ext cx="533160" cy="2588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533401" h="259079">
                  <a:moveTo>
                    <a:pt x="0" y="251460"/>
                  </a:moveTo>
                  <a:lnTo>
                    <a:pt x="0" y="258021"/>
                  </a:lnTo>
                  <a:lnTo>
                    <a:pt x="847" y="258374"/>
                  </a:lnTo>
                  <a:lnTo>
                    <a:pt x="7527" y="259072"/>
                  </a:lnTo>
                  <a:lnTo>
                    <a:pt x="11638" y="259078"/>
                  </a:lnTo>
                  <a:lnTo>
                    <a:pt x="13685" y="258232"/>
                  </a:lnTo>
                  <a:lnTo>
                    <a:pt x="25312" y="250791"/>
                  </a:lnTo>
                  <a:lnTo>
                    <a:pt x="34110" y="245236"/>
                  </a:lnTo>
                  <a:lnTo>
                    <a:pt x="38827" y="241384"/>
                  </a:lnTo>
                  <a:lnTo>
                    <a:pt x="43665" y="237123"/>
                  </a:lnTo>
                  <a:lnTo>
                    <a:pt x="48583" y="231742"/>
                  </a:lnTo>
                  <a:lnTo>
                    <a:pt x="53555" y="225615"/>
                  </a:lnTo>
                  <a:lnTo>
                    <a:pt x="58564" y="218990"/>
                  </a:lnTo>
                  <a:lnTo>
                    <a:pt x="63596" y="212880"/>
                  </a:lnTo>
                  <a:lnTo>
                    <a:pt x="68644" y="207113"/>
                  </a:lnTo>
                  <a:lnTo>
                    <a:pt x="73703" y="201575"/>
                  </a:lnTo>
                  <a:lnTo>
                    <a:pt x="78768" y="195344"/>
                  </a:lnTo>
                  <a:lnTo>
                    <a:pt x="83839" y="188649"/>
                  </a:lnTo>
                  <a:lnTo>
                    <a:pt x="88913" y="181646"/>
                  </a:lnTo>
                  <a:lnTo>
                    <a:pt x="94835" y="174437"/>
                  </a:lnTo>
                  <a:lnTo>
                    <a:pt x="101324" y="167092"/>
                  </a:lnTo>
                  <a:lnTo>
                    <a:pt x="115306" y="152156"/>
                  </a:lnTo>
                  <a:lnTo>
                    <a:pt x="129987" y="137052"/>
                  </a:lnTo>
                  <a:lnTo>
                    <a:pt x="136611" y="129468"/>
                  </a:lnTo>
                  <a:lnTo>
                    <a:pt x="142721" y="121872"/>
                  </a:lnTo>
                  <a:lnTo>
                    <a:pt x="148488" y="114268"/>
                  </a:lnTo>
                  <a:lnTo>
                    <a:pt x="154872" y="107505"/>
                  </a:lnTo>
                  <a:lnTo>
                    <a:pt x="161668" y="101304"/>
                  </a:lnTo>
                  <a:lnTo>
                    <a:pt x="168739" y="95476"/>
                  </a:lnTo>
                  <a:lnTo>
                    <a:pt x="175146" y="89050"/>
                  </a:lnTo>
                  <a:lnTo>
                    <a:pt x="181110" y="82227"/>
                  </a:lnTo>
                  <a:lnTo>
                    <a:pt x="186780" y="75138"/>
                  </a:lnTo>
                  <a:lnTo>
                    <a:pt x="192254" y="68719"/>
                  </a:lnTo>
                  <a:lnTo>
                    <a:pt x="197596" y="62746"/>
                  </a:lnTo>
                  <a:lnTo>
                    <a:pt x="208047" y="51594"/>
                  </a:lnTo>
                  <a:lnTo>
                    <a:pt x="218337" y="40993"/>
                  </a:lnTo>
                  <a:lnTo>
                    <a:pt x="223451" y="36642"/>
                  </a:lnTo>
                  <a:lnTo>
                    <a:pt x="237893" y="26473"/>
                  </a:lnTo>
                  <a:lnTo>
                    <a:pt x="247911" y="18945"/>
                  </a:lnTo>
                  <a:lnTo>
                    <a:pt x="257442" y="15728"/>
                  </a:lnTo>
                  <a:lnTo>
                    <a:pt x="258835" y="16412"/>
                  </a:lnTo>
                  <a:lnTo>
                    <a:pt x="262640" y="19430"/>
                  </a:lnTo>
                  <a:lnTo>
                    <a:pt x="263993" y="22267"/>
                  </a:lnTo>
                  <a:lnTo>
                    <a:pt x="266745" y="35196"/>
                  </a:lnTo>
                  <a:lnTo>
                    <a:pt x="268423" y="41244"/>
                  </a:lnTo>
                  <a:lnTo>
                    <a:pt x="270389" y="47816"/>
                  </a:lnTo>
                  <a:lnTo>
                    <a:pt x="271700" y="53891"/>
                  </a:lnTo>
                  <a:lnTo>
                    <a:pt x="272573" y="59634"/>
                  </a:lnTo>
                  <a:lnTo>
                    <a:pt x="273155" y="65156"/>
                  </a:lnTo>
                  <a:lnTo>
                    <a:pt x="274390" y="71377"/>
                  </a:lnTo>
                  <a:lnTo>
                    <a:pt x="276060" y="78065"/>
                  </a:lnTo>
                  <a:lnTo>
                    <a:pt x="278020" y="85063"/>
                  </a:lnTo>
                  <a:lnTo>
                    <a:pt x="282456" y="99613"/>
                  </a:lnTo>
                  <a:lnTo>
                    <a:pt x="292202" y="129649"/>
                  </a:lnTo>
                  <a:lnTo>
                    <a:pt x="295554" y="136386"/>
                  </a:lnTo>
                  <a:lnTo>
                    <a:pt x="299483" y="142571"/>
                  </a:lnTo>
                  <a:lnTo>
                    <a:pt x="303796" y="148387"/>
                  </a:lnTo>
                  <a:lnTo>
                    <a:pt x="308364" y="153111"/>
                  </a:lnTo>
                  <a:lnTo>
                    <a:pt x="317955" y="160619"/>
                  </a:lnTo>
                  <a:lnTo>
                    <a:pt x="336920" y="173650"/>
                  </a:lnTo>
                  <a:lnTo>
                    <a:pt x="348992" y="181036"/>
                  </a:lnTo>
                  <a:lnTo>
                    <a:pt x="360848" y="187140"/>
                  </a:lnTo>
                  <a:lnTo>
                    <a:pt x="374583" y="192676"/>
                  </a:lnTo>
                  <a:lnTo>
                    <a:pt x="381802" y="193644"/>
                  </a:lnTo>
                  <a:lnTo>
                    <a:pt x="396597" y="192462"/>
                  </a:lnTo>
                  <a:lnTo>
                    <a:pt x="411639" y="191372"/>
                  </a:lnTo>
                  <a:lnTo>
                    <a:pt x="425944" y="190041"/>
                  </a:lnTo>
                  <a:lnTo>
                    <a:pt x="437947" y="186627"/>
                  </a:lnTo>
                  <a:lnTo>
                    <a:pt x="451183" y="180030"/>
                  </a:lnTo>
                  <a:lnTo>
                    <a:pt x="458269" y="175900"/>
                  </a:lnTo>
                  <a:lnTo>
                    <a:pt x="464686" y="171453"/>
                  </a:lnTo>
                  <a:lnTo>
                    <a:pt x="470657" y="166795"/>
                  </a:lnTo>
                  <a:lnTo>
                    <a:pt x="476332" y="161997"/>
                  </a:lnTo>
                  <a:lnTo>
                    <a:pt x="481808" y="156258"/>
                  </a:lnTo>
                  <a:lnTo>
                    <a:pt x="487152" y="149892"/>
                  </a:lnTo>
                  <a:lnTo>
                    <a:pt x="492408" y="143108"/>
                  </a:lnTo>
                  <a:lnTo>
                    <a:pt x="497605" y="136892"/>
                  </a:lnTo>
                  <a:lnTo>
                    <a:pt x="502764" y="131055"/>
                  </a:lnTo>
                  <a:lnTo>
                    <a:pt x="507896" y="125470"/>
                  </a:lnTo>
                  <a:lnTo>
                    <a:pt x="512164" y="119207"/>
                  </a:lnTo>
                  <a:lnTo>
                    <a:pt x="515856" y="112491"/>
                  </a:lnTo>
                  <a:lnTo>
                    <a:pt x="525097" y="93162"/>
                  </a:lnTo>
                  <a:lnTo>
                    <a:pt x="527865" y="87508"/>
                  </a:lnTo>
                  <a:lnTo>
                    <a:pt x="529710" y="81199"/>
                  </a:lnTo>
                  <a:lnTo>
                    <a:pt x="530940" y="74452"/>
                  </a:lnTo>
                  <a:lnTo>
                    <a:pt x="531760" y="67415"/>
                  </a:lnTo>
                  <a:lnTo>
                    <a:pt x="532307" y="61030"/>
                  </a:lnTo>
                  <a:lnTo>
                    <a:pt x="532671" y="55080"/>
                  </a:lnTo>
                  <a:lnTo>
                    <a:pt x="533076" y="43953"/>
                  </a:lnTo>
                  <a:lnTo>
                    <a:pt x="533357" y="21927"/>
                  </a:lnTo>
                  <a:lnTo>
                    <a:pt x="5334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SMARTInkAnnotation304"/>
            <p:cNvSpPr/>
            <p:nvPr/>
          </p:nvSpPr>
          <p:spPr>
            <a:xfrm>
              <a:off x="3494160" y="1958760"/>
              <a:ext cx="322560" cy="235440"/>
            </a:xfrm>
            <a:custGeom>
              <a:avLst/>
              <a:gdLst>
                <a:gd name="textAreaLeft" fmla="*/ 0 w 322560"/>
                <a:gd name="textAreaRight" fmla="*/ 322560 w 32256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322828" h="235739">
                  <a:moveTo>
                    <a:pt x="231387" y="52858"/>
                  </a:moveTo>
                  <a:lnTo>
                    <a:pt x="231387" y="67757"/>
                  </a:lnTo>
                  <a:lnTo>
                    <a:pt x="231387" y="57462"/>
                  </a:lnTo>
                  <a:lnTo>
                    <a:pt x="230540" y="55081"/>
                  </a:lnTo>
                  <a:lnTo>
                    <a:pt x="227343" y="50177"/>
                  </a:lnTo>
                  <a:lnTo>
                    <a:pt x="223098" y="42917"/>
                  </a:lnTo>
                  <a:lnTo>
                    <a:pt x="218390" y="34047"/>
                  </a:lnTo>
                  <a:lnTo>
                    <a:pt x="213475" y="24460"/>
                  </a:lnTo>
                  <a:lnTo>
                    <a:pt x="210132" y="20379"/>
                  </a:lnTo>
                  <a:lnTo>
                    <a:pt x="201903" y="13587"/>
                  </a:lnTo>
                  <a:lnTo>
                    <a:pt x="192601" y="7747"/>
                  </a:lnTo>
                  <a:lnTo>
                    <a:pt x="187750" y="5004"/>
                  </a:lnTo>
                  <a:lnTo>
                    <a:pt x="181975" y="3175"/>
                  </a:lnTo>
                  <a:lnTo>
                    <a:pt x="175586" y="1956"/>
                  </a:lnTo>
                  <a:lnTo>
                    <a:pt x="168786" y="1144"/>
                  </a:lnTo>
                  <a:lnTo>
                    <a:pt x="161714" y="602"/>
                  </a:lnTo>
                  <a:lnTo>
                    <a:pt x="154458" y="241"/>
                  </a:lnTo>
                  <a:lnTo>
                    <a:pt x="147081" y="0"/>
                  </a:lnTo>
                  <a:lnTo>
                    <a:pt x="139623" y="686"/>
                  </a:lnTo>
                  <a:lnTo>
                    <a:pt x="132111" y="1990"/>
                  </a:lnTo>
                  <a:lnTo>
                    <a:pt x="124563" y="3706"/>
                  </a:lnTo>
                  <a:lnTo>
                    <a:pt x="116144" y="6543"/>
                  </a:lnTo>
                  <a:lnTo>
                    <a:pt x="107145" y="10128"/>
                  </a:lnTo>
                  <a:lnTo>
                    <a:pt x="97759" y="14212"/>
                  </a:lnTo>
                  <a:lnTo>
                    <a:pt x="88962" y="18627"/>
                  </a:lnTo>
                  <a:lnTo>
                    <a:pt x="80557" y="23264"/>
                  </a:lnTo>
                  <a:lnTo>
                    <a:pt x="72414" y="28049"/>
                  </a:lnTo>
                  <a:lnTo>
                    <a:pt x="64445" y="33778"/>
                  </a:lnTo>
                  <a:lnTo>
                    <a:pt x="56592" y="40138"/>
                  </a:lnTo>
                  <a:lnTo>
                    <a:pt x="48817" y="46918"/>
                  </a:lnTo>
                  <a:lnTo>
                    <a:pt x="41093" y="53978"/>
                  </a:lnTo>
                  <a:lnTo>
                    <a:pt x="25739" y="68596"/>
                  </a:lnTo>
                  <a:lnTo>
                    <a:pt x="19782" y="76050"/>
                  </a:lnTo>
                  <a:lnTo>
                    <a:pt x="14963" y="83560"/>
                  </a:lnTo>
                  <a:lnTo>
                    <a:pt x="4137" y="104006"/>
                  </a:lnTo>
                  <a:lnTo>
                    <a:pt x="1147" y="109817"/>
                  </a:lnTo>
                  <a:lnTo>
                    <a:pt x="0" y="116230"/>
                  </a:lnTo>
                  <a:lnTo>
                    <a:pt x="83" y="123046"/>
                  </a:lnTo>
                  <a:lnTo>
                    <a:pt x="984" y="130130"/>
                  </a:lnTo>
                  <a:lnTo>
                    <a:pt x="3278" y="137393"/>
                  </a:lnTo>
                  <a:lnTo>
                    <a:pt x="6501" y="144775"/>
                  </a:lnTo>
                  <a:lnTo>
                    <a:pt x="10344" y="152236"/>
                  </a:lnTo>
                  <a:lnTo>
                    <a:pt x="15445" y="158903"/>
                  </a:lnTo>
                  <a:lnTo>
                    <a:pt x="21385" y="165041"/>
                  </a:lnTo>
                  <a:lnTo>
                    <a:pt x="27886" y="170827"/>
                  </a:lnTo>
                  <a:lnTo>
                    <a:pt x="34760" y="176377"/>
                  </a:lnTo>
                  <a:lnTo>
                    <a:pt x="41883" y="181771"/>
                  </a:lnTo>
                  <a:lnTo>
                    <a:pt x="49171" y="187060"/>
                  </a:lnTo>
                  <a:lnTo>
                    <a:pt x="58263" y="192279"/>
                  </a:lnTo>
                  <a:lnTo>
                    <a:pt x="68558" y="197452"/>
                  </a:lnTo>
                  <a:lnTo>
                    <a:pt x="79654" y="202594"/>
                  </a:lnTo>
                  <a:lnTo>
                    <a:pt x="90439" y="206869"/>
                  </a:lnTo>
                  <a:lnTo>
                    <a:pt x="101015" y="210565"/>
                  </a:lnTo>
                  <a:lnTo>
                    <a:pt x="111452" y="213876"/>
                  </a:lnTo>
                  <a:lnTo>
                    <a:pt x="123490" y="216930"/>
                  </a:lnTo>
                  <a:lnTo>
                    <a:pt x="136597" y="219813"/>
                  </a:lnTo>
                  <a:lnTo>
                    <a:pt x="164705" y="225274"/>
                  </a:lnTo>
                  <a:lnTo>
                    <a:pt x="194130" y="230523"/>
                  </a:lnTo>
                  <a:lnTo>
                    <a:pt x="207397" y="232261"/>
                  </a:lnTo>
                  <a:lnTo>
                    <a:pt x="219626" y="233420"/>
                  </a:lnTo>
                  <a:lnTo>
                    <a:pt x="231167" y="234193"/>
                  </a:lnTo>
                  <a:lnTo>
                    <a:pt x="242247" y="234708"/>
                  </a:lnTo>
                  <a:lnTo>
                    <a:pt x="263590" y="235280"/>
                  </a:lnTo>
                  <a:lnTo>
                    <a:pt x="322827" y="2357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SMARTInkAnnotation305"/>
            <p:cNvSpPr/>
            <p:nvPr/>
          </p:nvSpPr>
          <p:spPr>
            <a:xfrm>
              <a:off x="4693320" y="1920240"/>
              <a:ext cx="571320" cy="42660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426600"/>
                <a:gd name="textAreaBottom" fmla="*/ 426960 h 426600"/>
              </a:gdLst>
              <a:ahLst/>
              <a:rect l="textAreaLeft" t="textAreaTop" r="textAreaRight" b="textAreaBottom"/>
              <a:pathLst>
                <a:path w="571501" h="426721">
                  <a:moveTo>
                    <a:pt x="0" y="426720"/>
                  </a:moveTo>
                  <a:lnTo>
                    <a:pt x="0" y="422675"/>
                  </a:lnTo>
                  <a:lnTo>
                    <a:pt x="847" y="420636"/>
                  </a:lnTo>
                  <a:lnTo>
                    <a:pt x="6561" y="412853"/>
                  </a:lnTo>
                  <a:lnTo>
                    <a:pt x="18133" y="400995"/>
                  </a:lnTo>
                  <a:lnTo>
                    <a:pt x="43657" y="375445"/>
                  </a:lnTo>
                  <a:lnTo>
                    <a:pt x="53553" y="363292"/>
                  </a:lnTo>
                  <a:lnTo>
                    <a:pt x="58562" y="356494"/>
                  </a:lnTo>
                  <a:lnTo>
                    <a:pt x="68643" y="342168"/>
                  </a:lnTo>
                  <a:lnTo>
                    <a:pt x="73702" y="334793"/>
                  </a:lnTo>
                  <a:lnTo>
                    <a:pt x="79615" y="327335"/>
                  </a:lnTo>
                  <a:lnTo>
                    <a:pt x="86097" y="319823"/>
                  </a:lnTo>
                  <a:lnTo>
                    <a:pt x="92958" y="312275"/>
                  </a:lnTo>
                  <a:lnTo>
                    <a:pt x="99225" y="303857"/>
                  </a:lnTo>
                  <a:lnTo>
                    <a:pt x="105097" y="294858"/>
                  </a:lnTo>
                  <a:lnTo>
                    <a:pt x="110705" y="285472"/>
                  </a:lnTo>
                  <a:lnTo>
                    <a:pt x="116983" y="275828"/>
                  </a:lnTo>
                  <a:lnTo>
                    <a:pt x="123709" y="266012"/>
                  </a:lnTo>
                  <a:lnTo>
                    <a:pt x="137955" y="246074"/>
                  </a:lnTo>
                  <a:lnTo>
                    <a:pt x="204914" y="155779"/>
                  </a:lnTo>
                  <a:lnTo>
                    <a:pt x="216945" y="138662"/>
                  </a:lnTo>
                  <a:lnTo>
                    <a:pt x="233237" y="114745"/>
                  </a:lnTo>
                  <a:lnTo>
                    <a:pt x="239312" y="106977"/>
                  </a:lnTo>
                  <a:lnTo>
                    <a:pt x="245901" y="99258"/>
                  </a:lnTo>
                  <a:lnTo>
                    <a:pt x="252834" y="91572"/>
                  </a:lnTo>
                  <a:lnTo>
                    <a:pt x="262796" y="78516"/>
                  </a:lnTo>
                  <a:lnTo>
                    <a:pt x="266637" y="72664"/>
                  </a:lnTo>
                  <a:lnTo>
                    <a:pt x="275421" y="63904"/>
                  </a:lnTo>
                  <a:lnTo>
                    <a:pt x="290813" y="51382"/>
                  </a:lnTo>
                  <a:lnTo>
                    <a:pt x="304321" y="38561"/>
                  </a:lnTo>
                  <a:lnTo>
                    <a:pt x="308703" y="46327"/>
                  </a:lnTo>
                  <a:lnTo>
                    <a:pt x="310768" y="52481"/>
                  </a:lnTo>
                  <a:lnTo>
                    <a:pt x="311931" y="62963"/>
                  </a:lnTo>
                  <a:lnTo>
                    <a:pt x="313050" y="72857"/>
                  </a:lnTo>
                  <a:lnTo>
                    <a:pt x="316369" y="85721"/>
                  </a:lnTo>
                  <a:lnTo>
                    <a:pt x="317592" y="92707"/>
                  </a:lnTo>
                  <a:lnTo>
                    <a:pt x="318409" y="99905"/>
                  </a:lnTo>
                  <a:lnTo>
                    <a:pt x="318952" y="107243"/>
                  </a:lnTo>
                  <a:lnTo>
                    <a:pt x="319315" y="114676"/>
                  </a:lnTo>
                  <a:lnTo>
                    <a:pt x="319718" y="129707"/>
                  </a:lnTo>
                  <a:lnTo>
                    <a:pt x="320672" y="137271"/>
                  </a:lnTo>
                  <a:lnTo>
                    <a:pt x="322155" y="144854"/>
                  </a:lnTo>
                  <a:lnTo>
                    <a:pt x="323990" y="152450"/>
                  </a:lnTo>
                  <a:lnTo>
                    <a:pt x="325214" y="160053"/>
                  </a:lnTo>
                  <a:lnTo>
                    <a:pt x="326029" y="167662"/>
                  </a:lnTo>
                  <a:lnTo>
                    <a:pt x="326573" y="175275"/>
                  </a:lnTo>
                  <a:lnTo>
                    <a:pt x="327782" y="182890"/>
                  </a:lnTo>
                  <a:lnTo>
                    <a:pt x="329435" y="190507"/>
                  </a:lnTo>
                  <a:lnTo>
                    <a:pt x="331383" y="198124"/>
                  </a:lnTo>
                  <a:lnTo>
                    <a:pt x="335806" y="211104"/>
                  </a:lnTo>
                  <a:lnTo>
                    <a:pt x="340594" y="222518"/>
                  </a:lnTo>
                  <a:lnTo>
                    <a:pt x="345544" y="233234"/>
                  </a:lnTo>
                  <a:lnTo>
                    <a:pt x="353091" y="248788"/>
                  </a:lnTo>
                  <a:lnTo>
                    <a:pt x="360689" y="260076"/>
                  </a:lnTo>
                  <a:lnTo>
                    <a:pt x="368303" y="268783"/>
                  </a:lnTo>
                  <a:lnTo>
                    <a:pt x="371689" y="270628"/>
                  </a:lnTo>
                  <a:lnTo>
                    <a:pt x="379966" y="272679"/>
                  </a:lnTo>
                  <a:lnTo>
                    <a:pt x="383698" y="272380"/>
                  </a:lnTo>
                  <a:lnTo>
                    <a:pt x="387032" y="271333"/>
                  </a:lnTo>
                  <a:lnTo>
                    <a:pt x="402511" y="263570"/>
                  </a:lnTo>
                  <a:lnTo>
                    <a:pt x="414267" y="256560"/>
                  </a:lnTo>
                  <a:lnTo>
                    <a:pt x="427112" y="247800"/>
                  </a:lnTo>
                  <a:lnTo>
                    <a:pt x="438466" y="238262"/>
                  </a:lnTo>
                  <a:lnTo>
                    <a:pt x="449156" y="226121"/>
                  </a:lnTo>
                  <a:lnTo>
                    <a:pt x="454378" y="219327"/>
                  </a:lnTo>
                  <a:lnTo>
                    <a:pt x="459551" y="211412"/>
                  </a:lnTo>
                  <a:lnTo>
                    <a:pt x="464695" y="202748"/>
                  </a:lnTo>
                  <a:lnTo>
                    <a:pt x="469817" y="193585"/>
                  </a:lnTo>
                  <a:lnTo>
                    <a:pt x="474924" y="184937"/>
                  </a:lnTo>
                  <a:lnTo>
                    <a:pt x="485115" y="168554"/>
                  </a:lnTo>
                  <a:lnTo>
                    <a:pt x="489357" y="160629"/>
                  </a:lnTo>
                  <a:lnTo>
                    <a:pt x="493031" y="152807"/>
                  </a:lnTo>
                  <a:lnTo>
                    <a:pt x="496328" y="145051"/>
                  </a:lnTo>
                  <a:lnTo>
                    <a:pt x="500219" y="137341"/>
                  </a:lnTo>
                  <a:lnTo>
                    <a:pt x="504506" y="129660"/>
                  </a:lnTo>
                  <a:lnTo>
                    <a:pt x="509057" y="122000"/>
                  </a:lnTo>
                  <a:lnTo>
                    <a:pt x="512939" y="114354"/>
                  </a:lnTo>
                  <a:lnTo>
                    <a:pt x="516373" y="106716"/>
                  </a:lnTo>
                  <a:lnTo>
                    <a:pt x="519508" y="99084"/>
                  </a:lnTo>
                  <a:lnTo>
                    <a:pt x="522445" y="91456"/>
                  </a:lnTo>
                  <a:lnTo>
                    <a:pt x="527967" y="76207"/>
                  </a:lnTo>
                  <a:lnTo>
                    <a:pt x="535835" y="53342"/>
                  </a:lnTo>
                  <a:lnTo>
                    <a:pt x="540974" y="42617"/>
                  </a:lnTo>
                  <a:lnTo>
                    <a:pt x="548627" y="29561"/>
                  </a:lnTo>
                  <a:lnTo>
                    <a:pt x="556256" y="17225"/>
                  </a:lnTo>
                  <a:lnTo>
                    <a:pt x="563879" y="8208"/>
                  </a:lnTo>
                  <a:lnTo>
                    <a:pt x="5715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MARTInkAnnotation306"/>
            <p:cNvSpPr/>
            <p:nvPr/>
          </p:nvSpPr>
          <p:spPr>
            <a:xfrm>
              <a:off x="5379120" y="2088000"/>
              <a:ext cx="228600" cy="75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28601" h="7619">
                  <a:moveTo>
                    <a:pt x="0" y="7618"/>
                  </a:moveTo>
                  <a:lnTo>
                    <a:pt x="6561" y="7618"/>
                  </a:lnTo>
                  <a:lnTo>
                    <a:pt x="7760" y="6772"/>
                  </a:lnTo>
                  <a:lnTo>
                    <a:pt x="9408" y="5360"/>
                  </a:lnTo>
                  <a:lnTo>
                    <a:pt x="11352" y="3573"/>
                  </a:lnTo>
                  <a:lnTo>
                    <a:pt x="15188" y="2381"/>
                  </a:lnTo>
                  <a:lnTo>
                    <a:pt x="20285" y="1587"/>
                  </a:lnTo>
                  <a:lnTo>
                    <a:pt x="26224" y="1057"/>
                  </a:lnTo>
                  <a:lnTo>
                    <a:pt x="31876" y="704"/>
                  </a:lnTo>
                  <a:lnTo>
                    <a:pt x="42672" y="312"/>
                  </a:lnTo>
                  <a:lnTo>
                    <a:pt x="162541" y="0"/>
                  </a:lnTo>
                  <a:lnTo>
                    <a:pt x="173555" y="846"/>
                  </a:lnTo>
                  <a:lnTo>
                    <a:pt x="185129" y="2257"/>
                  </a:lnTo>
                  <a:lnTo>
                    <a:pt x="205893" y="5236"/>
                  </a:lnTo>
                  <a:lnTo>
                    <a:pt x="212616" y="6030"/>
                  </a:lnTo>
                  <a:lnTo>
                    <a:pt x="228600" y="76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MARTInkAnnotation307"/>
            <p:cNvSpPr/>
            <p:nvPr/>
          </p:nvSpPr>
          <p:spPr>
            <a:xfrm>
              <a:off x="5432760" y="2156400"/>
              <a:ext cx="198000" cy="756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98121" h="7621">
                  <a:moveTo>
                    <a:pt x="0" y="0"/>
                  </a:moveTo>
                  <a:lnTo>
                    <a:pt x="6561" y="6561"/>
                  </a:lnTo>
                  <a:lnTo>
                    <a:pt x="9454" y="6914"/>
                  </a:lnTo>
                  <a:lnTo>
                    <a:pt x="13923" y="7149"/>
                  </a:lnTo>
                  <a:lnTo>
                    <a:pt x="24814" y="7411"/>
                  </a:lnTo>
                  <a:lnTo>
                    <a:pt x="19812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SMARTInkAnnotation308"/>
            <p:cNvSpPr/>
            <p:nvPr/>
          </p:nvSpPr>
          <p:spPr>
            <a:xfrm>
              <a:off x="5836680" y="1836720"/>
              <a:ext cx="144720" cy="2588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44781" h="259081">
                  <a:moveTo>
                    <a:pt x="144780" y="0"/>
                  </a:moveTo>
                  <a:lnTo>
                    <a:pt x="144780" y="4045"/>
                  </a:lnTo>
                  <a:lnTo>
                    <a:pt x="143934" y="6084"/>
                  </a:lnTo>
                  <a:lnTo>
                    <a:pt x="139543" y="12997"/>
                  </a:lnTo>
                  <a:lnTo>
                    <a:pt x="138219" y="17912"/>
                  </a:lnTo>
                  <a:lnTo>
                    <a:pt x="135373" y="25177"/>
                  </a:lnTo>
                  <a:lnTo>
                    <a:pt x="133429" y="29485"/>
                  </a:lnTo>
                  <a:lnTo>
                    <a:pt x="130439" y="34050"/>
                  </a:lnTo>
                  <a:lnTo>
                    <a:pt x="126754" y="38786"/>
                  </a:lnTo>
                  <a:lnTo>
                    <a:pt x="122602" y="43638"/>
                  </a:lnTo>
                  <a:lnTo>
                    <a:pt x="118141" y="50258"/>
                  </a:lnTo>
                  <a:lnTo>
                    <a:pt x="113475" y="58059"/>
                  </a:lnTo>
                  <a:lnTo>
                    <a:pt x="108669" y="66646"/>
                  </a:lnTo>
                  <a:lnTo>
                    <a:pt x="103773" y="74911"/>
                  </a:lnTo>
                  <a:lnTo>
                    <a:pt x="93817" y="90867"/>
                  </a:lnTo>
                  <a:lnTo>
                    <a:pt x="88792" y="99525"/>
                  </a:lnTo>
                  <a:lnTo>
                    <a:pt x="78693" y="118175"/>
                  </a:lnTo>
                  <a:lnTo>
                    <a:pt x="73629" y="127044"/>
                  </a:lnTo>
                  <a:lnTo>
                    <a:pt x="68559" y="135496"/>
                  </a:lnTo>
                  <a:lnTo>
                    <a:pt x="58411" y="151660"/>
                  </a:lnTo>
                  <a:lnTo>
                    <a:pt x="17780" y="213331"/>
                  </a:lnTo>
                  <a:lnTo>
                    <a:pt x="13547" y="220114"/>
                  </a:lnTo>
                  <a:lnTo>
                    <a:pt x="9878" y="226330"/>
                  </a:lnTo>
                  <a:lnTo>
                    <a:pt x="6585" y="232167"/>
                  </a:lnTo>
                  <a:lnTo>
                    <a:pt x="4390" y="236904"/>
                  </a:lnTo>
                  <a:lnTo>
                    <a:pt x="1952" y="244426"/>
                  </a:lnTo>
                  <a:lnTo>
                    <a:pt x="867" y="250592"/>
                  </a:lnTo>
                  <a:lnTo>
                    <a:pt x="0" y="2590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SMARTInkAnnotation309"/>
            <p:cNvSpPr/>
            <p:nvPr/>
          </p:nvSpPr>
          <p:spPr>
            <a:xfrm>
              <a:off x="5874480" y="1836720"/>
              <a:ext cx="174960" cy="2739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175261" h="274321">
                  <a:moveTo>
                    <a:pt x="175260" y="0"/>
                  </a:moveTo>
                  <a:lnTo>
                    <a:pt x="171215" y="4045"/>
                  </a:lnTo>
                  <a:lnTo>
                    <a:pt x="166972" y="10547"/>
                  </a:lnTo>
                  <a:lnTo>
                    <a:pt x="162263" y="19081"/>
                  </a:lnTo>
                  <a:lnTo>
                    <a:pt x="154852" y="33405"/>
                  </a:lnTo>
                  <a:lnTo>
                    <a:pt x="149821" y="43351"/>
                  </a:lnTo>
                  <a:lnTo>
                    <a:pt x="147294" y="49221"/>
                  </a:lnTo>
                  <a:lnTo>
                    <a:pt x="144763" y="55674"/>
                  </a:lnTo>
                  <a:lnTo>
                    <a:pt x="142229" y="62516"/>
                  </a:lnTo>
                  <a:lnTo>
                    <a:pt x="138846" y="70464"/>
                  </a:lnTo>
                  <a:lnTo>
                    <a:pt x="130571" y="88326"/>
                  </a:lnTo>
                  <a:lnTo>
                    <a:pt x="125148" y="97831"/>
                  </a:lnTo>
                  <a:lnTo>
                    <a:pt x="118992" y="107554"/>
                  </a:lnTo>
                  <a:lnTo>
                    <a:pt x="112348" y="117423"/>
                  </a:lnTo>
                  <a:lnTo>
                    <a:pt x="106225" y="127388"/>
                  </a:lnTo>
                  <a:lnTo>
                    <a:pt x="100451" y="137419"/>
                  </a:lnTo>
                  <a:lnTo>
                    <a:pt x="94907" y="147493"/>
                  </a:lnTo>
                  <a:lnTo>
                    <a:pt x="89518" y="156748"/>
                  </a:lnTo>
                  <a:lnTo>
                    <a:pt x="79015" y="173806"/>
                  </a:lnTo>
                  <a:lnTo>
                    <a:pt x="73843" y="182758"/>
                  </a:lnTo>
                  <a:lnTo>
                    <a:pt x="63582" y="201734"/>
                  </a:lnTo>
                  <a:lnTo>
                    <a:pt x="58474" y="209843"/>
                  </a:lnTo>
                  <a:lnTo>
                    <a:pt x="53376" y="216942"/>
                  </a:lnTo>
                  <a:lnTo>
                    <a:pt x="48284" y="223368"/>
                  </a:lnTo>
                  <a:lnTo>
                    <a:pt x="43196" y="230192"/>
                  </a:lnTo>
                  <a:lnTo>
                    <a:pt x="33028" y="244548"/>
                  </a:lnTo>
                  <a:lnTo>
                    <a:pt x="28791" y="250238"/>
                  </a:lnTo>
                  <a:lnTo>
                    <a:pt x="25121" y="254879"/>
                  </a:lnTo>
                  <a:lnTo>
                    <a:pt x="21827" y="258819"/>
                  </a:lnTo>
                  <a:lnTo>
                    <a:pt x="17938" y="262293"/>
                  </a:lnTo>
                  <a:lnTo>
                    <a:pt x="13653" y="265455"/>
                  </a:lnTo>
                  <a:lnTo>
                    <a:pt x="0" y="2743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SMARTInkAnnotation310"/>
            <p:cNvSpPr/>
            <p:nvPr/>
          </p:nvSpPr>
          <p:spPr>
            <a:xfrm>
              <a:off x="5767920" y="1943280"/>
              <a:ext cx="304560" cy="68400"/>
            </a:xfrm>
            <a:custGeom>
              <a:avLst/>
              <a:gdLst>
                <a:gd name="textAreaLeft" fmla="*/ 0 w 304560"/>
                <a:gd name="textAreaRight" fmla="*/ 304560 w 3045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04801" h="68581">
                  <a:moveTo>
                    <a:pt x="0" y="0"/>
                  </a:moveTo>
                  <a:lnTo>
                    <a:pt x="0" y="4045"/>
                  </a:lnTo>
                  <a:lnTo>
                    <a:pt x="846" y="5237"/>
                  </a:lnTo>
                  <a:lnTo>
                    <a:pt x="2257" y="6031"/>
                  </a:lnTo>
                  <a:lnTo>
                    <a:pt x="6560" y="7306"/>
                  </a:lnTo>
                  <a:lnTo>
                    <a:pt x="19441" y="11572"/>
                  </a:lnTo>
                  <a:lnTo>
                    <a:pt x="24814" y="13642"/>
                  </a:lnTo>
                  <a:lnTo>
                    <a:pt x="30089" y="15868"/>
                  </a:lnTo>
                  <a:lnTo>
                    <a:pt x="35299" y="18199"/>
                  </a:lnTo>
                  <a:lnTo>
                    <a:pt x="43006" y="20599"/>
                  </a:lnTo>
                  <a:lnTo>
                    <a:pt x="52377" y="23046"/>
                  </a:lnTo>
                  <a:lnTo>
                    <a:pt x="104859" y="35585"/>
                  </a:lnTo>
                  <a:lnTo>
                    <a:pt x="128448" y="40651"/>
                  </a:lnTo>
                  <a:lnTo>
                    <a:pt x="155301" y="45725"/>
                  </a:lnTo>
                  <a:lnTo>
                    <a:pt x="196722" y="53342"/>
                  </a:lnTo>
                  <a:lnTo>
                    <a:pt x="209888" y="55881"/>
                  </a:lnTo>
                  <a:lnTo>
                    <a:pt x="222898" y="57574"/>
                  </a:lnTo>
                  <a:lnTo>
                    <a:pt x="235805" y="58703"/>
                  </a:lnTo>
                  <a:lnTo>
                    <a:pt x="258895" y="59957"/>
                  </a:lnTo>
                  <a:lnTo>
                    <a:pt x="274802" y="60514"/>
                  </a:lnTo>
                  <a:lnTo>
                    <a:pt x="281415" y="61509"/>
                  </a:lnTo>
                  <a:lnTo>
                    <a:pt x="287516" y="63020"/>
                  </a:lnTo>
                  <a:lnTo>
                    <a:pt x="304800" y="685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SMARTInkAnnotation311"/>
            <p:cNvSpPr/>
            <p:nvPr/>
          </p:nvSpPr>
          <p:spPr>
            <a:xfrm>
              <a:off x="5790600" y="2049840"/>
              <a:ext cx="281880" cy="756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81942" h="7621">
                  <a:moveTo>
                    <a:pt x="0" y="0"/>
                  </a:moveTo>
                  <a:lnTo>
                    <a:pt x="242337" y="0"/>
                  </a:lnTo>
                  <a:lnTo>
                    <a:pt x="249612" y="847"/>
                  </a:lnTo>
                  <a:lnTo>
                    <a:pt x="256154" y="2258"/>
                  </a:lnTo>
                  <a:lnTo>
                    <a:pt x="262210" y="4045"/>
                  </a:lnTo>
                  <a:lnTo>
                    <a:pt x="267093" y="5237"/>
                  </a:lnTo>
                  <a:lnTo>
                    <a:pt x="271196" y="6031"/>
                  </a:lnTo>
                  <a:lnTo>
                    <a:pt x="281941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SMARTInkAnnotation312"/>
            <p:cNvSpPr/>
            <p:nvPr/>
          </p:nvSpPr>
          <p:spPr>
            <a:xfrm>
              <a:off x="6217560" y="2011680"/>
              <a:ext cx="22680" cy="213120"/>
            </a:xfrm>
            <a:custGeom>
              <a:avLst/>
              <a:gdLst>
                <a:gd name="textAreaLeft" fmla="*/ 0 w 22680"/>
                <a:gd name="textAreaRight" fmla="*/ 22680 w 2268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22861" h="213361">
                  <a:moveTo>
                    <a:pt x="0" y="0"/>
                  </a:moveTo>
                  <a:lnTo>
                    <a:pt x="0" y="17912"/>
                  </a:lnTo>
                  <a:lnTo>
                    <a:pt x="847" y="20408"/>
                  </a:lnTo>
                  <a:lnTo>
                    <a:pt x="2258" y="22919"/>
                  </a:lnTo>
                  <a:lnTo>
                    <a:pt x="4046" y="25439"/>
                  </a:lnTo>
                  <a:lnTo>
                    <a:pt x="5237" y="29659"/>
                  </a:lnTo>
                  <a:lnTo>
                    <a:pt x="6032" y="35013"/>
                  </a:lnTo>
                  <a:lnTo>
                    <a:pt x="6561" y="41122"/>
                  </a:lnTo>
                  <a:lnTo>
                    <a:pt x="6914" y="46888"/>
                  </a:lnTo>
                  <a:lnTo>
                    <a:pt x="7307" y="57810"/>
                  </a:lnTo>
                  <a:lnTo>
                    <a:pt x="6565" y="63940"/>
                  </a:lnTo>
                  <a:lnTo>
                    <a:pt x="5223" y="70567"/>
                  </a:lnTo>
                  <a:lnTo>
                    <a:pt x="3482" y="77525"/>
                  </a:lnTo>
                  <a:lnTo>
                    <a:pt x="2322" y="84703"/>
                  </a:lnTo>
                  <a:lnTo>
                    <a:pt x="1548" y="92029"/>
                  </a:lnTo>
                  <a:lnTo>
                    <a:pt x="1032" y="99453"/>
                  </a:lnTo>
                  <a:lnTo>
                    <a:pt x="688" y="106942"/>
                  </a:lnTo>
                  <a:lnTo>
                    <a:pt x="307" y="122036"/>
                  </a:lnTo>
                  <a:lnTo>
                    <a:pt x="91" y="144815"/>
                  </a:lnTo>
                  <a:lnTo>
                    <a:pt x="907" y="151576"/>
                  </a:lnTo>
                  <a:lnTo>
                    <a:pt x="2298" y="157778"/>
                  </a:lnTo>
                  <a:lnTo>
                    <a:pt x="4072" y="163605"/>
                  </a:lnTo>
                  <a:lnTo>
                    <a:pt x="5255" y="169184"/>
                  </a:lnTo>
                  <a:lnTo>
                    <a:pt x="6044" y="174596"/>
                  </a:lnTo>
                  <a:lnTo>
                    <a:pt x="6569" y="179897"/>
                  </a:lnTo>
                  <a:lnTo>
                    <a:pt x="7766" y="185125"/>
                  </a:lnTo>
                  <a:lnTo>
                    <a:pt x="9411" y="190303"/>
                  </a:lnTo>
                  <a:lnTo>
                    <a:pt x="11354" y="195449"/>
                  </a:lnTo>
                  <a:lnTo>
                    <a:pt x="13496" y="199726"/>
                  </a:lnTo>
                  <a:lnTo>
                    <a:pt x="15771" y="203424"/>
                  </a:lnTo>
                  <a:lnTo>
                    <a:pt x="22860" y="2133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SMARTInkAnnotation313"/>
            <p:cNvSpPr/>
            <p:nvPr/>
          </p:nvSpPr>
          <p:spPr>
            <a:xfrm>
              <a:off x="6164280" y="1935720"/>
              <a:ext cx="393840" cy="33372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393950" h="333891">
                  <a:moveTo>
                    <a:pt x="7527" y="45618"/>
                  </a:moveTo>
                  <a:lnTo>
                    <a:pt x="221" y="38312"/>
                  </a:lnTo>
                  <a:lnTo>
                    <a:pt x="0" y="34046"/>
                  </a:lnTo>
                  <a:lnTo>
                    <a:pt x="816" y="31977"/>
                  </a:lnTo>
                  <a:lnTo>
                    <a:pt x="6009" y="25019"/>
                  </a:lnTo>
                  <a:lnTo>
                    <a:pt x="10521" y="20094"/>
                  </a:lnTo>
                  <a:lnTo>
                    <a:pt x="14603" y="18442"/>
                  </a:lnTo>
                  <a:lnTo>
                    <a:pt x="32484" y="15270"/>
                  </a:lnTo>
                  <a:lnTo>
                    <a:pt x="39405" y="13533"/>
                  </a:lnTo>
                  <a:lnTo>
                    <a:pt x="46559" y="11528"/>
                  </a:lnTo>
                  <a:lnTo>
                    <a:pt x="54715" y="10191"/>
                  </a:lnTo>
                  <a:lnTo>
                    <a:pt x="63538" y="9300"/>
                  </a:lnTo>
                  <a:lnTo>
                    <a:pt x="72808" y="8706"/>
                  </a:lnTo>
                  <a:lnTo>
                    <a:pt x="83221" y="7464"/>
                  </a:lnTo>
                  <a:lnTo>
                    <a:pt x="94397" y="5788"/>
                  </a:lnTo>
                  <a:lnTo>
                    <a:pt x="106080" y="3825"/>
                  </a:lnTo>
                  <a:lnTo>
                    <a:pt x="117256" y="2516"/>
                  </a:lnTo>
                  <a:lnTo>
                    <a:pt x="128093" y="1643"/>
                  </a:lnTo>
                  <a:lnTo>
                    <a:pt x="138705" y="1062"/>
                  </a:lnTo>
                  <a:lnTo>
                    <a:pt x="161783" y="415"/>
                  </a:lnTo>
                  <a:lnTo>
                    <a:pt x="215139" y="0"/>
                  </a:lnTo>
                  <a:lnTo>
                    <a:pt x="228062" y="813"/>
                  </a:lnTo>
                  <a:lnTo>
                    <a:pt x="240064" y="2201"/>
                  </a:lnTo>
                  <a:lnTo>
                    <a:pt x="251451" y="3974"/>
                  </a:lnTo>
                  <a:lnTo>
                    <a:pt x="261584" y="5155"/>
                  </a:lnTo>
                  <a:lnTo>
                    <a:pt x="270878" y="5943"/>
                  </a:lnTo>
                  <a:lnTo>
                    <a:pt x="279614" y="6468"/>
                  </a:lnTo>
                  <a:lnTo>
                    <a:pt x="287978" y="7665"/>
                  </a:lnTo>
                  <a:lnTo>
                    <a:pt x="296095" y="9309"/>
                  </a:lnTo>
                  <a:lnTo>
                    <a:pt x="304046" y="11252"/>
                  </a:lnTo>
                  <a:lnTo>
                    <a:pt x="311039" y="13394"/>
                  </a:lnTo>
                  <a:lnTo>
                    <a:pt x="323326" y="18032"/>
                  </a:lnTo>
                  <a:lnTo>
                    <a:pt x="332173" y="22915"/>
                  </a:lnTo>
                  <a:lnTo>
                    <a:pt x="335718" y="25403"/>
                  </a:lnTo>
                  <a:lnTo>
                    <a:pt x="337235" y="27908"/>
                  </a:lnTo>
                  <a:lnTo>
                    <a:pt x="337400" y="30425"/>
                  </a:lnTo>
                  <a:lnTo>
                    <a:pt x="333585" y="40269"/>
                  </a:lnTo>
                  <a:lnTo>
                    <a:pt x="331579" y="44592"/>
                  </a:lnTo>
                  <a:lnTo>
                    <a:pt x="327702" y="48321"/>
                  </a:lnTo>
                  <a:lnTo>
                    <a:pt x="316620" y="54722"/>
                  </a:lnTo>
                  <a:lnTo>
                    <a:pt x="310109" y="57614"/>
                  </a:lnTo>
                  <a:lnTo>
                    <a:pt x="303229" y="60388"/>
                  </a:lnTo>
                  <a:lnTo>
                    <a:pt x="296102" y="63085"/>
                  </a:lnTo>
                  <a:lnTo>
                    <a:pt x="287964" y="65729"/>
                  </a:lnTo>
                  <a:lnTo>
                    <a:pt x="279152" y="68339"/>
                  </a:lnTo>
                  <a:lnTo>
                    <a:pt x="269890" y="70926"/>
                  </a:lnTo>
                  <a:lnTo>
                    <a:pt x="261176" y="74343"/>
                  </a:lnTo>
                  <a:lnTo>
                    <a:pt x="252826" y="78315"/>
                  </a:lnTo>
                  <a:lnTo>
                    <a:pt x="244720" y="82656"/>
                  </a:lnTo>
                  <a:lnTo>
                    <a:pt x="235929" y="86397"/>
                  </a:lnTo>
                  <a:lnTo>
                    <a:pt x="226682" y="89737"/>
                  </a:lnTo>
                  <a:lnTo>
                    <a:pt x="217130" y="92811"/>
                  </a:lnTo>
                  <a:lnTo>
                    <a:pt x="209915" y="95707"/>
                  </a:lnTo>
                  <a:lnTo>
                    <a:pt x="199642" y="101182"/>
                  </a:lnTo>
                  <a:lnTo>
                    <a:pt x="189098" y="109025"/>
                  </a:lnTo>
                  <a:lnTo>
                    <a:pt x="186995" y="111596"/>
                  </a:lnTo>
                  <a:lnTo>
                    <a:pt x="185591" y="114156"/>
                  </a:lnTo>
                  <a:lnTo>
                    <a:pt x="184656" y="116711"/>
                  </a:lnTo>
                  <a:lnTo>
                    <a:pt x="184881" y="119260"/>
                  </a:lnTo>
                  <a:lnTo>
                    <a:pt x="185877" y="121806"/>
                  </a:lnTo>
                  <a:lnTo>
                    <a:pt x="187387" y="124350"/>
                  </a:lnTo>
                  <a:lnTo>
                    <a:pt x="195837" y="129434"/>
                  </a:lnTo>
                  <a:lnTo>
                    <a:pt x="201648" y="131976"/>
                  </a:lnTo>
                  <a:lnTo>
                    <a:pt x="217134" y="139315"/>
                  </a:lnTo>
                  <a:lnTo>
                    <a:pt x="226005" y="143643"/>
                  </a:lnTo>
                  <a:lnTo>
                    <a:pt x="236153" y="147375"/>
                  </a:lnTo>
                  <a:lnTo>
                    <a:pt x="247150" y="150709"/>
                  </a:lnTo>
                  <a:lnTo>
                    <a:pt x="258716" y="153779"/>
                  </a:lnTo>
                  <a:lnTo>
                    <a:pt x="270659" y="157519"/>
                  </a:lnTo>
                  <a:lnTo>
                    <a:pt x="282856" y="161705"/>
                  </a:lnTo>
                  <a:lnTo>
                    <a:pt x="295220" y="166189"/>
                  </a:lnTo>
                  <a:lnTo>
                    <a:pt x="306002" y="170872"/>
                  </a:lnTo>
                  <a:lnTo>
                    <a:pt x="315730" y="175687"/>
                  </a:lnTo>
                  <a:lnTo>
                    <a:pt x="334160" y="185553"/>
                  </a:lnTo>
                  <a:lnTo>
                    <a:pt x="353640" y="195583"/>
                  </a:lnTo>
                  <a:lnTo>
                    <a:pt x="361882" y="200628"/>
                  </a:lnTo>
                  <a:lnTo>
                    <a:pt x="369071" y="205685"/>
                  </a:lnTo>
                  <a:lnTo>
                    <a:pt x="380727" y="215819"/>
                  </a:lnTo>
                  <a:lnTo>
                    <a:pt x="388729" y="225967"/>
                  </a:lnTo>
                  <a:lnTo>
                    <a:pt x="392850" y="236122"/>
                  </a:lnTo>
                  <a:lnTo>
                    <a:pt x="393949" y="241201"/>
                  </a:lnTo>
                  <a:lnTo>
                    <a:pt x="393835" y="246280"/>
                  </a:lnTo>
                  <a:lnTo>
                    <a:pt x="391451" y="256439"/>
                  </a:lnTo>
                  <a:lnTo>
                    <a:pt x="385311" y="266599"/>
                  </a:lnTo>
                  <a:lnTo>
                    <a:pt x="376091" y="276758"/>
                  </a:lnTo>
                  <a:lnTo>
                    <a:pt x="370076" y="281838"/>
                  </a:lnTo>
                  <a:lnTo>
                    <a:pt x="363527" y="286918"/>
                  </a:lnTo>
                  <a:lnTo>
                    <a:pt x="356620" y="291151"/>
                  </a:lnTo>
                  <a:lnTo>
                    <a:pt x="349476" y="294820"/>
                  </a:lnTo>
                  <a:lnTo>
                    <a:pt x="342172" y="298113"/>
                  </a:lnTo>
                  <a:lnTo>
                    <a:pt x="333917" y="301155"/>
                  </a:lnTo>
                  <a:lnTo>
                    <a:pt x="325027" y="304029"/>
                  </a:lnTo>
                  <a:lnTo>
                    <a:pt x="315714" y="306792"/>
                  </a:lnTo>
                  <a:lnTo>
                    <a:pt x="306118" y="310327"/>
                  </a:lnTo>
                  <a:lnTo>
                    <a:pt x="296335" y="314378"/>
                  </a:lnTo>
                  <a:lnTo>
                    <a:pt x="286426" y="318771"/>
                  </a:lnTo>
                  <a:lnTo>
                    <a:pt x="276432" y="321700"/>
                  </a:lnTo>
                  <a:lnTo>
                    <a:pt x="266384" y="323653"/>
                  </a:lnTo>
                  <a:lnTo>
                    <a:pt x="256299" y="324954"/>
                  </a:lnTo>
                  <a:lnTo>
                    <a:pt x="246188" y="326669"/>
                  </a:lnTo>
                  <a:lnTo>
                    <a:pt x="236062" y="328659"/>
                  </a:lnTo>
                  <a:lnTo>
                    <a:pt x="225923" y="330832"/>
                  </a:lnTo>
                  <a:lnTo>
                    <a:pt x="215777" y="332281"/>
                  </a:lnTo>
                  <a:lnTo>
                    <a:pt x="205627" y="333246"/>
                  </a:lnTo>
                  <a:lnTo>
                    <a:pt x="195474" y="333890"/>
                  </a:lnTo>
                  <a:lnTo>
                    <a:pt x="185318" y="333473"/>
                  </a:lnTo>
                  <a:lnTo>
                    <a:pt x="175161" y="332348"/>
                  </a:lnTo>
                  <a:lnTo>
                    <a:pt x="165003" y="330751"/>
                  </a:lnTo>
                  <a:lnTo>
                    <a:pt x="154844" y="328840"/>
                  </a:lnTo>
                  <a:lnTo>
                    <a:pt x="134526" y="324459"/>
                  </a:lnTo>
                  <a:lnTo>
                    <a:pt x="104046" y="317232"/>
                  </a:lnTo>
                  <a:lnTo>
                    <a:pt x="94733" y="314748"/>
                  </a:lnTo>
                  <a:lnTo>
                    <a:pt x="77612" y="309729"/>
                  </a:lnTo>
                  <a:lnTo>
                    <a:pt x="71184" y="306359"/>
                  </a:lnTo>
                  <a:lnTo>
                    <a:pt x="58091" y="295218"/>
                  </a:lnTo>
                  <a:lnTo>
                    <a:pt x="46083" y="288338"/>
                  </a:lnTo>
                  <a:lnTo>
                    <a:pt x="38007" y="2818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SMARTInkAnnotation314"/>
            <p:cNvSpPr/>
            <p:nvPr/>
          </p:nvSpPr>
          <p:spPr>
            <a:xfrm>
              <a:off x="6610680" y="2107080"/>
              <a:ext cx="223200" cy="14724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223257" h="147317">
                  <a:moveTo>
                    <a:pt x="124929" y="26692"/>
                  </a:moveTo>
                  <a:lnTo>
                    <a:pt x="118368" y="26692"/>
                  </a:lnTo>
                  <a:lnTo>
                    <a:pt x="113264" y="28950"/>
                  </a:lnTo>
                  <a:lnTo>
                    <a:pt x="96190" y="37298"/>
                  </a:lnTo>
                  <a:lnTo>
                    <a:pt x="81513" y="44604"/>
                  </a:lnTo>
                  <a:lnTo>
                    <a:pt x="75664" y="47947"/>
                  </a:lnTo>
                  <a:lnTo>
                    <a:pt x="69226" y="51868"/>
                  </a:lnTo>
                  <a:lnTo>
                    <a:pt x="62394" y="56176"/>
                  </a:lnTo>
                  <a:lnTo>
                    <a:pt x="55299" y="59895"/>
                  </a:lnTo>
                  <a:lnTo>
                    <a:pt x="48029" y="63221"/>
                  </a:lnTo>
                  <a:lnTo>
                    <a:pt x="40642" y="66284"/>
                  </a:lnTo>
                  <a:lnTo>
                    <a:pt x="34024" y="70020"/>
                  </a:lnTo>
                  <a:lnTo>
                    <a:pt x="27920" y="74204"/>
                  </a:lnTo>
                  <a:lnTo>
                    <a:pt x="22156" y="78687"/>
                  </a:lnTo>
                  <a:lnTo>
                    <a:pt x="17467" y="83368"/>
                  </a:lnTo>
                  <a:lnTo>
                    <a:pt x="13494" y="88183"/>
                  </a:lnTo>
                  <a:lnTo>
                    <a:pt x="9998" y="93086"/>
                  </a:lnTo>
                  <a:lnTo>
                    <a:pt x="6822" y="98048"/>
                  </a:lnTo>
                  <a:lnTo>
                    <a:pt x="3858" y="103049"/>
                  </a:lnTo>
                  <a:lnTo>
                    <a:pt x="1035" y="108077"/>
                  </a:lnTo>
                  <a:lnTo>
                    <a:pt x="0" y="112275"/>
                  </a:lnTo>
                  <a:lnTo>
                    <a:pt x="156" y="115921"/>
                  </a:lnTo>
                  <a:lnTo>
                    <a:pt x="1107" y="119198"/>
                  </a:lnTo>
                  <a:lnTo>
                    <a:pt x="4281" y="123076"/>
                  </a:lnTo>
                  <a:lnTo>
                    <a:pt x="8937" y="127354"/>
                  </a:lnTo>
                  <a:lnTo>
                    <a:pt x="14581" y="131900"/>
                  </a:lnTo>
                  <a:lnTo>
                    <a:pt x="21731" y="134931"/>
                  </a:lnTo>
                  <a:lnTo>
                    <a:pt x="29883" y="136951"/>
                  </a:lnTo>
                  <a:lnTo>
                    <a:pt x="38705" y="138298"/>
                  </a:lnTo>
                  <a:lnTo>
                    <a:pt x="59796" y="142052"/>
                  </a:lnTo>
                  <a:lnTo>
                    <a:pt x="71347" y="144239"/>
                  </a:lnTo>
                  <a:lnTo>
                    <a:pt x="83281" y="145697"/>
                  </a:lnTo>
                  <a:lnTo>
                    <a:pt x="95471" y="146668"/>
                  </a:lnTo>
                  <a:lnTo>
                    <a:pt x="107830" y="147316"/>
                  </a:lnTo>
                  <a:lnTo>
                    <a:pt x="120302" y="146902"/>
                  </a:lnTo>
                  <a:lnTo>
                    <a:pt x="132851" y="145778"/>
                  </a:lnTo>
                  <a:lnTo>
                    <a:pt x="145451" y="144183"/>
                  </a:lnTo>
                  <a:lnTo>
                    <a:pt x="156390" y="142272"/>
                  </a:lnTo>
                  <a:lnTo>
                    <a:pt x="166223" y="140152"/>
                  </a:lnTo>
                  <a:lnTo>
                    <a:pt x="175318" y="137892"/>
                  </a:lnTo>
                  <a:lnTo>
                    <a:pt x="183922" y="134692"/>
                  </a:lnTo>
                  <a:lnTo>
                    <a:pt x="192197" y="130865"/>
                  </a:lnTo>
                  <a:lnTo>
                    <a:pt x="200255" y="126621"/>
                  </a:lnTo>
                  <a:lnTo>
                    <a:pt x="206473" y="121251"/>
                  </a:lnTo>
                  <a:lnTo>
                    <a:pt x="211465" y="115131"/>
                  </a:lnTo>
                  <a:lnTo>
                    <a:pt x="215640" y="108511"/>
                  </a:lnTo>
                  <a:lnTo>
                    <a:pt x="218423" y="101558"/>
                  </a:lnTo>
                  <a:lnTo>
                    <a:pt x="220278" y="94383"/>
                  </a:lnTo>
                  <a:lnTo>
                    <a:pt x="221515" y="87059"/>
                  </a:lnTo>
                  <a:lnTo>
                    <a:pt x="222340" y="79637"/>
                  </a:lnTo>
                  <a:lnTo>
                    <a:pt x="222889" y="72149"/>
                  </a:lnTo>
                  <a:lnTo>
                    <a:pt x="223256" y="64616"/>
                  </a:lnTo>
                  <a:lnTo>
                    <a:pt x="221807" y="57055"/>
                  </a:lnTo>
                  <a:lnTo>
                    <a:pt x="219148" y="49474"/>
                  </a:lnTo>
                  <a:lnTo>
                    <a:pt x="215682" y="41880"/>
                  </a:lnTo>
                  <a:lnTo>
                    <a:pt x="211678" y="35971"/>
                  </a:lnTo>
                  <a:lnTo>
                    <a:pt x="207315" y="31184"/>
                  </a:lnTo>
                  <a:lnTo>
                    <a:pt x="202712" y="27147"/>
                  </a:lnTo>
                  <a:lnTo>
                    <a:pt x="197105" y="22762"/>
                  </a:lnTo>
                  <a:lnTo>
                    <a:pt x="190826" y="18145"/>
                  </a:lnTo>
                  <a:lnTo>
                    <a:pt x="184100" y="13374"/>
                  </a:lnTo>
                  <a:lnTo>
                    <a:pt x="177923" y="10193"/>
                  </a:lnTo>
                  <a:lnTo>
                    <a:pt x="172112" y="8073"/>
                  </a:lnTo>
                  <a:lnTo>
                    <a:pt x="166544" y="6659"/>
                  </a:lnTo>
                  <a:lnTo>
                    <a:pt x="160292" y="4870"/>
                  </a:lnTo>
                  <a:lnTo>
                    <a:pt x="146572" y="624"/>
                  </a:lnTo>
                  <a:lnTo>
                    <a:pt x="141051" y="0"/>
                  </a:lnTo>
                  <a:lnTo>
                    <a:pt x="136524" y="431"/>
                  </a:lnTo>
                  <a:lnTo>
                    <a:pt x="132659" y="1564"/>
                  </a:lnTo>
                  <a:lnTo>
                    <a:pt x="128389" y="2320"/>
                  </a:lnTo>
                  <a:lnTo>
                    <a:pt x="123849" y="2824"/>
                  </a:lnTo>
                  <a:lnTo>
                    <a:pt x="119129" y="3160"/>
                  </a:lnTo>
                  <a:lnTo>
                    <a:pt x="115983" y="4231"/>
                  </a:lnTo>
                  <a:lnTo>
                    <a:pt x="113884" y="5791"/>
                  </a:lnTo>
                  <a:lnTo>
                    <a:pt x="109689" y="1145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SMARTInkAnnotation315"/>
            <p:cNvSpPr/>
            <p:nvPr/>
          </p:nvSpPr>
          <p:spPr>
            <a:xfrm>
              <a:off x="6863400" y="2095560"/>
              <a:ext cx="213480" cy="196200"/>
            </a:xfrm>
            <a:custGeom>
              <a:avLst/>
              <a:gdLst>
                <a:gd name="textAreaLeft" fmla="*/ 0 w 213480"/>
                <a:gd name="textAreaRight" fmla="*/ 213840 w 21348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213553" h="196483">
                  <a:moveTo>
                    <a:pt x="131420" y="76200"/>
                  </a:moveTo>
                  <a:lnTo>
                    <a:pt x="131420" y="69639"/>
                  </a:lnTo>
                  <a:lnTo>
                    <a:pt x="130573" y="69286"/>
                  </a:lnTo>
                  <a:lnTo>
                    <a:pt x="125336" y="68789"/>
                  </a:lnTo>
                  <a:lnTo>
                    <a:pt x="120814" y="68673"/>
                  </a:lnTo>
                  <a:lnTo>
                    <a:pt x="97891" y="68588"/>
                  </a:lnTo>
                  <a:lnTo>
                    <a:pt x="92134" y="70279"/>
                  </a:lnTo>
                  <a:lnTo>
                    <a:pt x="86603" y="73099"/>
                  </a:lnTo>
                  <a:lnTo>
                    <a:pt x="81222" y="76673"/>
                  </a:lnTo>
                  <a:lnTo>
                    <a:pt x="74248" y="79902"/>
                  </a:lnTo>
                  <a:lnTo>
                    <a:pt x="66212" y="82901"/>
                  </a:lnTo>
                  <a:lnTo>
                    <a:pt x="57469" y="85748"/>
                  </a:lnTo>
                  <a:lnTo>
                    <a:pt x="49945" y="88492"/>
                  </a:lnTo>
                  <a:lnTo>
                    <a:pt x="43237" y="91168"/>
                  </a:lnTo>
                  <a:lnTo>
                    <a:pt x="37071" y="93799"/>
                  </a:lnTo>
                  <a:lnTo>
                    <a:pt x="30421" y="98092"/>
                  </a:lnTo>
                  <a:lnTo>
                    <a:pt x="23447" y="103495"/>
                  </a:lnTo>
                  <a:lnTo>
                    <a:pt x="16258" y="109637"/>
                  </a:lnTo>
                  <a:lnTo>
                    <a:pt x="10619" y="115424"/>
                  </a:lnTo>
                  <a:lnTo>
                    <a:pt x="6013" y="120976"/>
                  </a:lnTo>
                  <a:lnTo>
                    <a:pt x="2095" y="126371"/>
                  </a:lnTo>
                  <a:lnTo>
                    <a:pt x="330" y="131661"/>
                  </a:lnTo>
                  <a:lnTo>
                    <a:pt x="0" y="136880"/>
                  </a:lnTo>
                  <a:lnTo>
                    <a:pt x="627" y="142054"/>
                  </a:lnTo>
                  <a:lnTo>
                    <a:pt x="2738" y="147196"/>
                  </a:lnTo>
                  <a:lnTo>
                    <a:pt x="5839" y="152317"/>
                  </a:lnTo>
                  <a:lnTo>
                    <a:pt x="9599" y="157425"/>
                  </a:lnTo>
                  <a:lnTo>
                    <a:pt x="13800" y="162523"/>
                  </a:lnTo>
                  <a:lnTo>
                    <a:pt x="18294" y="167615"/>
                  </a:lnTo>
                  <a:lnTo>
                    <a:pt x="22982" y="172704"/>
                  </a:lnTo>
                  <a:lnTo>
                    <a:pt x="29495" y="176943"/>
                  </a:lnTo>
                  <a:lnTo>
                    <a:pt x="37223" y="180615"/>
                  </a:lnTo>
                  <a:lnTo>
                    <a:pt x="45762" y="183910"/>
                  </a:lnTo>
                  <a:lnTo>
                    <a:pt x="55688" y="186953"/>
                  </a:lnTo>
                  <a:lnTo>
                    <a:pt x="66539" y="189829"/>
                  </a:lnTo>
                  <a:lnTo>
                    <a:pt x="78006" y="192593"/>
                  </a:lnTo>
                  <a:lnTo>
                    <a:pt x="89038" y="194435"/>
                  </a:lnTo>
                  <a:lnTo>
                    <a:pt x="99778" y="195664"/>
                  </a:lnTo>
                  <a:lnTo>
                    <a:pt x="110326" y="196482"/>
                  </a:lnTo>
                  <a:lnTo>
                    <a:pt x="120744" y="196182"/>
                  </a:lnTo>
                  <a:lnTo>
                    <a:pt x="131076" y="195135"/>
                  </a:lnTo>
                  <a:lnTo>
                    <a:pt x="141351" y="193590"/>
                  </a:lnTo>
                  <a:lnTo>
                    <a:pt x="150741" y="190866"/>
                  </a:lnTo>
                  <a:lnTo>
                    <a:pt x="159541" y="187358"/>
                  </a:lnTo>
                  <a:lnTo>
                    <a:pt x="167947" y="183325"/>
                  </a:lnTo>
                  <a:lnTo>
                    <a:pt x="175244" y="178944"/>
                  </a:lnTo>
                  <a:lnTo>
                    <a:pt x="181803" y="174329"/>
                  </a:lnTo>
                  <a:lnTo>
                    <a:pt x="187869" y="169559"/>
                  </a:lnTo>
                  <a:lnTo>
                    <a:pt x="192760" y="162993"/>
                  </a:lnTo>
                  <a:lnTo>
                    <a:pt x="196866" y="155229"/>
                  </a:lnTo>
                  <a:lnTo>
                    <a:pt x="200451" y="146666"/>
                  </a:lnTo>
                  <a:lnTo>
                    <a:pt x="203688" y="137571"/>
                  </a:lnTo>
                  <a:lnTo>
                    <a:pt x="206692" y="128120"/>
                  </a:lnTo>
                  <a:lnTo>
                    <a:pt x="209541" y="118433"/>
                  </a:lnTo>
                  <a:lnTo>
                    <a:pt x="211441" y="109436"/>
                  </a:lnTo>
                  <a:lnTo>
                    <a:pt x="212707" y="100897"/>
                  </a:lnTo>
                  <a:lnTo>
                    <a:pt x="213552" y="92665"/>
                  </a:lnTo>
                  <a:lnTo>
                    <a:pt x="213268" y="83790"/>
                  </a:lnTo>
                  <a:lnTo>
                    <a:pt x="212232" y="74487"/>
                  </a:lnTo>
                  <a:lnTo>
                    <a:pt x="210694" y="64898"/>
                  </a:lnTo>
                  <a:lnTo>
                    <a:pt x="207976" y="55965"/>
                  </a:lnTo>
                  <a:lnTo>
                    <a:pt x="204470" y="47470"/>
                  </a:lnTo>
                  <a:lnTo>
                    <a:pt x="200440" y="39267"/>
                  </a:lnTo>
                  <a:lnTo>
                    <a:pt x="196907" y="32951"/>
                  </a:lnTo>
                  <a:lnTo>
                    <a:pt x="193704" y="27894"/>
                  </a:lnTo>
                  <a:lnTo>
                    <a:pt x="190723" y="23676"/>
                  </a:lnTo>
                  <a:lnTo>
                    <a:pt x="187042" y="19171"/>
                  </a:lnTo>
                  <a:lnTo>
                    <a:pt x="182895" y="14474"/>
                  </a:lnTo>
                  <a:lnTo>
                    <a:pt x="178437" y="9649"/>
                  </a:lnTo>
                  <a:lnTo>
                    <a:pt x="174617" y="6433"/>
                  </a:lnTo>
                  <a:lnTo>
                    <a:pt x="171225" y="4289"/>
                  </a:lnTo>
                  <a:lnTo>
                    <a:pt x="1619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SMARTInkAnnotation316"/>
            <p:cNvSpPr/>
            <p:nvPr/>
          </p:nvSpPr>
          <p:spPr>
            <a:xfrm>
              <a:off x="7147440" y="1920240"/>
              <a:ext cx="30240" cy="3121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30443" h="312421">
                  <a:moveTo>
                    <a:pt x="30442" y="0"/>
                  </a:moveTo>
                  <a:lnTo>
                    <a:pt x="30442" y="17912"/>
                  </a:lnTo>
                  <a:lnTo>
                    <a:pt x="29595" y="21255"/>
                  </a:lnTo>
                  <a:lnTo>
                    <a:pt x="28184" y="25177"/>
                  </a:lnTo>
                  <a:lnTo>
                    <a:pt x="26396" y="29485"/>
                  </a:lnTo>
                  <a:lnTo>
                    <a:pt x="25205" y="34896"/>
                  </a:lnTo>
                  <a:lnTo>
                    <a:pt x="24411" y="41044"/>
                  </a:lnTo>
                  <a:lnTo>
                    <a:pt x="23880" y="47683"/>
                  </a:lnTo>
                  <a:lnTo>
                    <a:pt x="22682" y="54649"/>
                  </a:lnTo>
                  <a:lnTo>
                    <a:pt x="21036" y="61832"/>
                  </a:lnTo>
                  <a:lnTo>
                    <a:pt x="9887" y="104412"/>
                  </a:lnTo>
                  <a:lnTo>
                    <a:pt x="4937" y="120912"/>
                  </a:lnTo>
                  <a:lnTo>
                    <a:pt x="3279" y="130562"/>
                  </a:lnTo>
                  <a:lnTo>
                    <a:pt x="2173" y="141228"/>
                  </a:lnTo>
                  <a:lnTo>
                    <a:pt x="1437" y="152572"/>
                  </a:lnTo>
                  <a:lnTo>
                    <a:pt x="617" y="171950"/>
                  </a:lnTo>
                  <a:lnTo>
                    <a:pt x="253" y="189875"/>
                  </a:lnTo>
                  <a:lnTo>
                    <a:pt x="0" y="234967"/>
                  </a:lnTo>
                  <a:lnTo>
                    <a:pt x="834" y="243005"/>
                  </a:lnTo>
                  <a:lnTo>
                    <a:pt x="2237" y="250903"/>
                  </a:lnTo>
                  <a:lnTo>
                    <a:pt x="4019" y="258709"/>
                  </a:lnTo>
                  <a:lnTo>
                    <a:pt x="6053" y="265606"/>
                  </a:lnTo>
                  <a:lnTo>
                    <a:pt x="8256" y="271897"/>
                  </a:lnTo>
                  <a:lnTo>
                    <a:pt x="10572" y="277785"/>
                  </a:lnTo>
                  <a:lnTo>
                    <a:pt x="12962" y="283403"/>
                  </a:lnTo>
                  <a:lnTo>
                    <a:pt x="17874" y="294161"/>
                  </a:lnTo>
                  <a:lnTo>
                    <a:pt x="19524" y="298555"/>
                  </a:lnTo>
                  <a:lnTo>
                    <a:pt x="20623" y="302330"/>
                  </a:lnTo>
                  <a:lnTo>
                    <a:pt x="21356" y="305693"/>
                  </a:lnTo>
                  <a:lnTo>
                    <a:pt x="22692" y="307936"/>
                  </a:lnTo>
                  <a:lnTo>
                    <a:pt x="24428" y="309430"/>
                  </a:lnTo>
                  <a:lnTo>
                    <a:pt x="30442" y="3124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SMARTInkAnnotation317"/>
            <p:cNvSpPr/>
            <p:nvPr/>
          </p:nvSpPr>
          <p:spPr>
            <a:xfrm>
              <a:off x="7179480" y="1958760"/>
              <a:ext cx="280080" cy="26604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280164" h="266387">
                  <a:moveTo>
                    <a:pt x="173483" y="7306"/>
                  </a:moveTo>
                  <a:lnTo>
                    <a:pt x="173483" y="0"/>
                  </a:lnTo>
                  <a:lnTo>
                    <a:pt x="173483" y="10320"/>
                  </a:lnTo>
                  <a:lnTo>
                    <a:pt x="172636" y="12702"/>
                  </a:lnTo>
                  <a:lnTo>
                    <a:pt x="169437" y="17606"/>
                  </a:lnTo>
                  <a:lnTo>
                    <a:pt x="162935" y="24866"/>
                  </a:lnTo>
                  <a:lnTo>
                    <a:pt x="154403" y="33737"/>
                  </a:lnTo>
                  <a:lnTo>
                    <a:pt x="104406" y="83992"/>
                  </a:lnTo>
                  <a:lnTo>
                    <a:pt x="96105" y="90603"/>
                  </a:lnTo>
                  <a:lnTo>
                    <a:pt x="87184" y="96704"/>
                  </a:lnTo>
                  <a:lnTo>
                    <a:pt x="69088" y="107999"/>
                  </a:lnTo>
                  <a:lnTo>
                    <a:pt x="52579" y="118663"/>
                  </a:lnTo>
                  <a:lnTo>
                    <a:pt x="44620" y="123030"/>
                  </a:lnTo>
                  <a:lnTo>
                    <a:pt x="36774" y="126789"/>
                  </a:lnTo>
                  <a:lnTo>
                    <a:pt x="29004" y="130141"/>
                  </a:lnTo>
                  <a:lnTo>
                    <a:pt x="22976" y="133223"/>
                  </a:lnTo>
                  <a:lnTo>
                    <a:pt x="18112" y="136124"/>
                  </a:lnTo>
                  <a:lnTo>
                    <a:pt x="10449" y="140758"/>
                  </a:lnTo>
                  <a:lnTo>
                    <a:pt x="4222" y="142818"/>
                  </a:lnTo>
                  <a:lnTo>
                    <a:pt x="2222" y="144214"/>
                  </a:lnTo>
                  <a:lnTo>
                    <a:pt x="889" y="145992"/>
                  </a:lnTo>
                  <a:lnTo>
                    <a:pt x="0" y="148023"/>
                  </a:lnTo>
                  <a:lnTo>
                    <a:pt x="255" y="149377"/>
                  </a:lnTo>
                  <a:lnTo>
                    <a:pt x="1270" y="150280"/>
                  </a:lnTo>
                  <a:lnTo>
                    <a:pt x="2795" y="150882"/>
                  </a:lnTo>
                  <a:lnTo>
                    <a:pt x="9004" y="151551"/>
                  </a:lnTo>
                  <a:lnTo>
                    <a:pt x="13031" y="151729"/>
                  </a:lnTo>
                  <a:lnTo>
                    <a:pt x="24277" y="151927"/>
                  </a:lnTo>
                  <a:lnTo>
                    <a:pt x="115250" y="152083"/>
                  </a:lnTo>
                  <a:lnTo>
                    <a:pt x="125349" y="153778"/>
                  </a:lnTo>
                  <a:lnTo>
                    <a:pt x="135466" y="156600"/>
                  </a:lnTo>
                  <a:lnTo>
                    <a:pt x="145599" y="160176"/>
                  </a:lnTo>
                  <a:lnTo>
                    <a:pt x="154893" y="164252"/>
                  </a:lnTo>
                  <a:lnTo>
                    <a:pt x="163630" y="168664"/>
                  </a:lnTo>
                  <a:lnTo>
                    <a:pt x="171993" y="173298"/>
                  </a:lnTo>
                  <a:lnTo>
                    <a:pt x="180110" y="178080"/>
                  </a:lnTo>
                  <a:lnTo>
                    <a:pt x="202823" y="192055"/>
                  </a:lnTo>
                  <a:lnTo>
                    <a:pt x="209129" y="195666"/>
                  </a:lnTo>
                  <a:lnTo>
                    <a:pt x="215028" y="198919"/>
                  </a:lnTo>
                  <a:lnTo>
                    <a:pt x="220652" y="202781"/>
                  </a:lnTo>
                  <a:lnTo>
                    <a:pt x="226097" y="207050"/>
                  </a:lnTo>
                  <a:lnTo>
                    <a:pt x="231417" y="211588"/>
                  </a:lnTo>
                  <a:lnTo>
                    <a:pt x="234966" y="216308"/>
                  </a:lnTo>
                  <a:lnTo>
                    <a:pt x="237332" y="221147"/>
                  </a:lnTo>
                  <a:lnTo>
                    <a:pt x="238909" y="226067"/>
                  </a:lnTo>
                  <a:lnTo>
                    <a:pt x="240807" y="231040"/>
                  </a:lnTo>
                  <a:lnTo>
                    <a:pt x="242919" y="236048"/>
                  </a:lnTo>
                  <a:lnTo>
                    <a:pt x="245174" y="241081"/>
                  </a:lnTo>
                  <a:lnTo>
                    <a:pt x="249937" y="248930"/>
                  </a:lnTo>
                  <a:lnTo>
                    <a:pt x="252393" y="252209"/>
                  </a:lnTo>
                  <a:lnTo>
                    <a:pt x="255120" y="258110"/>
                  </a:lnTo>
                  <a:lnTo>
                    <a:pt x="255848" y="260868"/>
                  </a:lnTo>
                  <a:lnTo>
                    <a:pt x="258025" y="262708"/>
                  </a:lnTo>
                  <a:lnTo>
                    <a:pt x="261171" y="263934"/>
                  </a:lnTo>
                  <a:lnTo>
                    <a:pt x="270296" y="265902"/>
                  </a:lnTo>
                  <a:lnTo>
                    <a:pt x="273802" y="266171"/>
                  </a:lnTo>
                  <a:lnTo>
                    <a:pt x="280163" y="26638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SMARTInkAnnotation318"/>
            <p:cNvSpPr/>
            <p:nvPr/>
          </p:nvSpPr>
          <p:spPr>
            <a:xfrm>
              <a:off x="7536960" y="2064960"/>
              <a:ext cx="199080" cy="2271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199301" h="227381">
                  <a:moveTo>
                    <a:pt x="181840" y="0"/>
                  </a:moveTo>
                  <a:lnTo>
                    <a:pt x="181840" y="4045"/>
                  </a:lnTo>
                  <a:lnTo>
                    <a:pt x="180993" y="5237"/>
                  </a:lnTo>
                  <a:lnTo>
                    <a:pt x="179581" y="6031"/>
                  </a:lnTo>
                  <a:lnTo>
                    <a:pt x="175756" y="6914"/>
                  </a:lnTo>
                  <a:lnTo>
                    <a:pt x="171234" y="7306"/>
                  </a:lnTo>
                  <a:lnTo>
                    <a:pt x="161886" y="7480"/>
                  </a:lnTo>
                  <a:lnTo>
                    <a:pt x="112984" y="7612"/>
                  </a:lnTo>
                  <a:lnTo>
                    <a:pt x="103763" y="8461"/>
                  </a:lnTo>
                  <a:lnTo>
                    <a:pt x="93382" y="9874"/>
                  </a:lnTo>
                  <a:lnTo>
                    <a:pt x="82228" y="11663"/>
                  </a:lnTo>
                  <a:lnTo>
                    <a:pt x="72252" y="12855"/>
                  </a:lnTo>
                  <a:lnTo>
                    <a:pt x="63061" y="13650"/>
                  </a:lnTo>
                  <a:lnTo>
                    <a:pt x="54394" y="14180"/>
                  </a:lnTo>
                  <a:lnTo>
                    <a:pt x="46076" y="15380"/>
                  </a:lnTo>
                  <a:lnTo>
                    <a:pt x="37991" y="17027"/>
                  </a:lnTo>
                  <a:lnTo>
                    <a:pt x="30061" y="18971"/>
                  </a:lnTo>
                  <a:lnTo>
                    <a:pt x="23081" y="21114"/>
                  </a:lnTo>
                  <a:lnTo>
                    <a:pt x="16734" y="23389"/>
                  </a:lnTo>
                  <a:lnTo>
                    <a:pt x="10808" y="25753"/>
                  </a:lnTo>
                  <a:lnTo>
                    <a:pt x="6859" y="28175"/>
                  </a:lnTo>
                  <a:lnTo>
                    <a:pt x="4226" y="30637"/>
                  </a:lnTo>
                  <a:lnTo>
                    <a:pt x="2470" y="33125"/>
                  </a:lnTo>
                  <a:lnTo>
                    <a:pt x="1300" y="36476"/>
                  </a:lnTo>
                  <a:lnTo>
                    <a:pt x="520" y="40404"/>
                  </a:lnTo>
                  <a:lnTo>
                    <a:pt x="0" y="44716"/>
                  </a:lnTo>
                  <a:lnTo>
                    <a:pt x="501" y="48438"/>
                  </a:lnTo>
                  <a:lnTo>
                    <a:pt x="1680" y="51765"/>
                  </a:lnTo>
                  <a:lnTo>
                    <a:pt x="5249" y="58567"/>
                  </a:lnTo>
                  <a:lnTo>
                    <a:pt x="9657" y="67234"/>
                  </a:lnTo>
                  <a:lnTo>
                    <a:pt x="14558" y="71916"/>
                  </a:lnTo>
                  <a:lnTo>
                    <a:pt x="21212" y="76731"/>
                  </a:lnTo>
                  <a:lnTo>
                    <a:pt x="29034" y="81634"/>
                  </a:lnTo>
                  <a:lnTo>
                    <a:pt x="37637" y="86596"/>
                  </a:lnTo>
                  <a:lnTo>
                    <a:pt x="56225" y="96625"/>
                  </a:lnTo>
                  <a:lnTo>
                    <a:pt x="65924" y="100823"/>
                  </a:lnTo>
                  <a:lnTo>
                    <a:pt x="75775" y="104469"/>
                  </a:lnTo>
                  <a:lnTo>
                    <a:pt x="85730" y="107746"/>
                  </a:lnTo>
                  <a:lnTo>
                    <a:pt x="95754" y="112471"/>
                  </a:lnTo>
                  <a:lnTo>
                    <a:pt x="105822" y="118161"/>
                  </a:lnTo>
                  <a:lnTo>
                    <a:pt x="133916" y="136046"/>
                  </a:lnTo>
                  <a:lnTo>
                    <a:pt x="166165" y="157260"/>
                  </a:lnTo>
                  <a:lnTo>
                    <a:pt x="173083" y="162413"/>
                  </a:lnTo>
                  <a:lnTo>
                    <a:pt x="179387" y="167543"/>
                  </a:lnTo>
                  <a:lnTo>
                    <a:pt x="190063" y="176910"/>
                  </a:lnTo>
                  <a:lnTo>
                    <a:pt x="197630" y="183896"/>
                  </a:lnTo>
                  <a:lnTo>
                    <a:pt x="199140" y="186944"/>
                  </a:lnTo>
                  <a:lnTo>
                    <a:pt x="199300" y="189823"/>
                  </a:lnTo>
                  <a:lnTo>
                    <a:pt x="197220" y="196126"/>
                  </a:lnTo>
                  <a:lnTo>
                    <a:pt x="195479" y="200177"/>
                  </a:lnTo>
                  <a:lnTo>
                    <a:pt x="193473" y="204571"/>
                  </a:lnTo>
                  <a:lnTo>
                    <a:pt x="191289" y="208348"/>
                  </a:lnTo>
                  <a:lnTo>
                    <a:pt x="186604" y="214801"/>
                  </a:lnTo>
                  <a:lnTo>
                    <a:pt x="182475" y="216861"/>
                  </a:lnTo>
                  <a:lnTo>
                    <a:pt x="177184" y="218234"/>
                  </a:lnTo>
                  <a:lnTo>
                    <a:pt x="171116" y="219149"/>
                  </a:lnTo>
                  <a:lnTo>
                    <a:pt x="165377" y="220606"/>
                  </a:lnTo>
                  <a:lnTo>
                    <a:pt x="159858" y="222424"/>
                  </a:lnTo>
                  <a:lnTo>
                    <a:pt x="154485" y="224483"/>
                  </a:lnTo>
                  <a:lnTo>
                    <a:pt x="148364" y="225855"/>
                  </a:lnTo>
                  <a:lnTo>
                    <a:pt x="141742" y="226770"/>
                  </a:lnTo>
                  <a:lnTo>
                    <a:pt x="134788" y="227380"/>
                  </a:lnTo>
                  <a:lnTo>
                    <a:pt x="127613" y="226940"/>
                  </a:lnTo>
                  <a:lnTo>
                    <a:pt x="120289" y="225800"/>
                  </a:lnTo>
                  <a:lnTo>
                    <a:pt x="112866" y="224193"/>
                  </a:lnTo>
                  <a:lnTo>
                    <a:pt x="105377" y="222276"/>
                  </a:lnTo>
                  <a:lnTo>
                    <a:pt x="97845" y="220150"/>
                  </a:lnTo>
                  <a:lnTo>
                    <a:pt x="90283" y="217887"/>
                  </a:lnTo>
                  <a:lnTo>
                    <a:pt x="72850" y="213114"/>
                  </a:lnTo>
                  <a:lnTo>
                    <a:pt x="63459" y="210656"/>
                  </a:lnTo>
                  <a:lnTo>
                    <a:pt x="55506" y="208171"/>
                  </a:lnTo>
                  <a:lnTo>
                    <a:pt x="48512" y="205667"/>
                  </a:lnTo>
                  <a:lnTo>
                    <a:pt x="42155" y="203152"/>
                  </a:lnTo>
                  <a:lnTo>
                    <a:pt x="36223" y="200628"/>
                  </a:lnTo>
                  <a:lnTo>
                    <a:pt x="25117" y="195566"/>
                  </a:lnTo>
                  <a:lnTo>
                    <a:pt x="20631" y="193031"/>
                  </a:lnTo>
                  <a:lnTo>
                    <a:pt x="16793" y="190493"/>
                  </a:lnTo>
                  <a:lnTo>
                    <a:pt x="6580" y="1828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SMARTInkAnnotation319"/>
            <p:cNvSpPr/>
            <p:nvPr/>
          </p:nvSpPr>
          <p:spPr>
            <a:xfrm>
              <a:off x="4810320" y="2539080"/>
              <a:ext cx="362880" cy="21852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363049" h="218858">
                  <a:moveTo>
                    <a:pt x="111588" y="36471"/>
                  </a:moveTo>
                  <a:lnTo>
                    <a:pt x="111588" y="40517"/>
                  </a:lnTo>
                  <a:lnTo>
                    <a:pt x="112434" y="41708"/>
                  </a:lnTo>
                  <a:lnTo>
                    <a:pt x="113845" y="42502"/>
                  </a:lnTo>
                  <a:lnTo>
                    <a:pt x="115632" y="43032"/>
                  </a:lnTo>
                  <a:lnTo>
                    <a:pt x="116825" y="44232"/>
                  </a:lnTo>
                  <a:lnTo>
                    <a:pt x="117619" y="45878"/>
                  </a:lnTo>
                  <a:lnTo>
                    <a:pt x="118149" y="47823"/>
                  </a:lnTo>
                  <a:lnTo>
                    <a:pt x="120995" y="52241"/>
                  </a:lnTo>
                  <a:lnTo>
                    <a:pt x="122939" y="54604"/>
                  </a:lnTo>
                  <a:lnTo>
                    <a:pt x="124235" y="57027"/>
                  </a:lnTo>
                  <a:lnTo>
                    <a:pt x="125676" y="61976"/>
                  </a:lnTo>
                  <a:lnTo>
                    <a:pt x="128574" y="66998"/>
                  </a:lnTo>
                  <a:lnTo>
                    <a:pt x="130532" y="69522"/>
                  </a:lnTo>
                  <a:lnTo>
                    <a:pt x="132707" y="74585"/>
                  </a:lnTo>
                  <a:lnTo>
                    <a:pt x="133675" y="79658"/>
                  </a:lnTo>
                  <a:lnTo>
                    <a:pt x="134105" y="84734"/>
                  </a:lnTo>
                  <a:lnTo>
                    <a:pt x="135065" y="86426"/>
                  </a:lnTo>
                  <a:lnTo>
                    <a:pt x="136553" y="87555"/>
                  </a:lnTo>
                  <a:lnTo>
                    <a:pt x="142040" y="89800"/>
                  </a:lnTo>
                  <a:lnTo>
                    <a:pt x="142066" y="75159"/>
                  </a:lnTo>
                  <a:lnTo>
                    <a:pt x="142913" y="70730"/>
                  </a:lnTo>
                  <a:lnTo>
                    <a:pt x="144324" y="66083"/>
                  </a:lnTo>
                  <a:lnTo>
                    <a:pt x="146112" y="61293"/>
                  </a:lnTo>
                  <a:lnTo>
                    <a:pt x="147305" y="57253"/>
                  </a:lnTo>
                  <a:lnTo>
                    <a:pt x="148628" y="50505"/>
                  </a:lnTo>
                  <a:lnTo>
                    <a:pt x="148135" y="46674"/>
                  </a:lnTo>
                  <a:lnTo>
                    <a:pt x="146960" y="42426"/>
                  </a:lnTo>
                  <a:lnTo>
                    <a:pt x="145329" y="37901"/>
                  </a:lnTo>
                  <a:lnTo>
                    <a:pt x="143395" y="33191"/>
                  </a:lnTo>
                  <a:lnTo>
                    <a:pt x="141259" y="28358"/>
                  </a:lnTo>
                  <a:lnTo>
                    <a:pt x="138989" y="23442"/>
                  </a:lnTo>
                  <a:lnTo>
                    <a:pt x="136629" y="19319"/>
                  </a:lnTo>
                  <a:lnTo>
                    <a:pt x="134208" y="15723"/>
                  </a:lnTo>
                  <a:lnTo>
                    <a:pt x="131748" y="12479"/>
                  </a:lnTo>
                  <a:lnTo>
                    <a:pt x="124499" y="6617"/>
                  </a:lnTo>
                  <a:lnTo>
                    <a:pt x="120195" y="3869"/>
                  </a:lnTo>
                  <a:lnTo>
                    <a:pt x="110898" y="815"/>
                  </a:lnTo>
                  <a:lnTo>
                    <a:pt x="106048" y="0"/>
                  </a:lnTo>
                  <a:lnTo>
                    <a:pt x="101121" y="1151"/>
                  </a:lnTo>
                  <a:lnTo>
                    <a:pt x="91132" y="6944"/>
                  </a:lnTo>
                  <a:lnTo>
                    <a:pt x="85251" y="10014"/>
                  </a:lnTo>
                  <a:lnTo>
                    <a:pt x="78790" y="12906"/>
                  </a:lnTo>
                  <a:lnTo>
                    <a:pt x="71942" y="15681"/>
                  </a:lnTo>
                  <a:lnTo>
                    <a:pt x="65684" y="19225"/>
                  </a:lnTo>
                  <a:lnTo>
                    <a:pt x="59819" y="23280"/>
                  </a:lnTo>
                  <a:lnTo>
                    <a:pt x="54215" y="27677"/>
                  </a:lnTo>
                  <a:lnTo>
                    <a:pt x="47939" y="33149"/>
                  </a:lnTo>
                  <a:lnTo>
                    <a:pt x="41216" y="39336"/>
                  </a:lnTo>
                  <a:lnTo>
                    <a:pt x="34193" y="46001"/>
                  </a:lnTo>
                  <a:lnTo>
                    <a:pt x="28664" y="52985"/>
                  </a:lnTo>
                  <a:lnTo>
                    <a:pt x="24133" y="60180"/>
                  </a:lnTo>
                  <a:lnTo>
                    <a:pt x="20264" y="67517"/>
                  </a:lnTo>
                  <a:lnTo>
                    <a:pt x="15992" y="74949"/>
                  </a:lnTo>
                  <a:lnTo>
                    <a:pt x="11451" y="82443"/>
                  </a:lnTo>
                  <a:lnTo>
                    <a:pt x="6730" y="89979"/>
                  </a:lnTo>
                  <a:lnTo>
                    <a:pt x="3582" y="97543"/>
                  </a:lnTo>
                  <a:lnTo>
                    <a:pt x="1484" y="105126"/>
                  </a:lnTo>
                  <a:lnTo>
                    <a:pt x="86" y="112721"/>
                  </a:lnTo>
                  <a:lnTo>
                    <a:pt x="0" y="120324"/>
                  </a:lnTo>
                  <a:lnTo>
                    <a:pt x="789" y="127933"/>
                  </a:lnTo>
                  <a:lnTo>
                    <a:pt x="2162" y="135546"/>
                  </a:lnTo>
                  <a:lnTo>
                    <a:pt x="4771" y="142314"/>
                  </a:lnTo>
                  <a:lnTo>
                    <a:pt x="8203" y="148520"/>
                  </a:lnTo>
                  <a:lnTo>
                    <a:pt x="25879" y="174692"/>
                  </a:lnTo>
                  <a:lnTo>
                    <a:pt x="32435" y="181111"/>
                  </a:lnTo>
                  <a:lnTo>
                    <a:pt x="40193" y="187085"/>
                  </a:lnTo>
                  <a:lnTo>
                    <a:pt x="48751" y="192760"/>
                  </a:lnTo>
                  <a:lnTo>
                    <a:pt x="57843" y="197390"/>
                  </a:lnTo>
                  <a:lnTo>
                    <a:pt x="67291" y="201324"/>
                  </a:lnTo>
                  <a:lnTo>
                    <a:pt x="76977" y="204793"/>
                  </a:lnTo>
                  <a:lnTo>
                    <a:pt x="87667" y="207952"/>
                  </a:lnTo>
                  <a:lnTo>
                    <a:pt x="99028" y="210905"/>
                  </a:lnTo>
                  <a:lnTo>
                    <a:pt x="110834" y="213720"/>
                  </a:lnTo>
                  <a:lnTo>
                    <a:pt x="123785" y="215598"/>
                  </a:lnTo>
                  <a:lnTo>
                    <a:pt x="137500" y="216849"/>
                  </a:lnTo>
                  <a:lnTo>
                    <a:pt x="151723" y="217683"/>
                  </a:lnTo>
                  <a:lnTo>
                    <a:pt x="178815" y="218610"/>
                  </a:lnTo>
                  <a:lnTo>
                    <a:pt x="191966" y="218857"/>
                  </a:lnTo>
                  <a:lnTo>
                    <a:pt x="205813" y="218175"/>
                  </a:lnTo>
                  <a:lnTo>
                    <a:pt x="220124" y="216874"/>
                  </a:lnTo>
                  <a:lnTo>
                    <a:pt x="234746" y="215160"/>
                  </a:lnTo>
                  <a:lnTo>
                    <a:pt x="248727" y="213170"/>
                  </a:lnTo>
                  <a:lnTo>
                    <a:pt x="275550" y="208702"/>
                  </a:lnTo>
                  <a:lnTo>
                    <a:pt x="287782" y="205478"/>
                  </a:lnTo>
                  <a:lnTo>
                    <a:pt x="299324" y="201636"/>
                  </a:lnTo>
                  <a:lnTo>
                    <a:pt x="310405" y="197381"/>
                  </a:lnTo>
                  <a:lnTo>
                    <a:pt x="319487" y="193697"/>
                  </a:lnTo>
                  <a:lnTo>
                    <a:pt x="327233" y="190396"/>
                  </a:lnTo>
                  <a:lnTo>
                    <a:pt x="340357" y="184469"/>
                  </a:lnTo>
                  <a:lnTo>
                    <a:pt x="363048" y="17363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SMARTInkAnnotation320"/>
            <p:cNvSpPr/>
            <p:nvPr/>
          </p:nvSpPr>
          <p:spPr>
            <a:xfrm>
              <a:off x="5287680" y="2606040"/>
              <a:ext cx="274320" cy="3024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74321" h="30481">
                  <a:moveTo>
                    <a:pt x="0" y="0"/>
                  </a:moveTo>
                  <a:lnTo>
                    <a:pt x="8091" y="4046"/>
                  </a:lnTo>
                  <a:lnTo>
                    <a:pt x="11320" y="5237"/>
                  </a:lnTo>
                  <a:lnTo>
                    <a:pt x="14320" y="6032"/>
                  </a:lnTo>
                  <a:lnTo>
                    <a:pt x="22451" y="6914"/>
                  </a:lnTo>
                  <a:lnTo>
                    <a:pt x="29361" y="7150"/>
                  </a:lnTo>
                  <a:lnTo>
                    <a:pt x="37354" y="7306"/>
                  </a:lnTo>
                  <a:lnTo>
                    <a:pt x="46070" y="8258"/>
                  </a:lnTo>
                  <a:lnTo>
                    <a:pt x="55266" y="9739"/>
                  </a:lnTo>
                  <a:lnTo>
                    <a:pt x="64784" y="11573"/>
                  </a:lnTo>
                  <a:lnTo>
                    <a:pt x="74516" y="12795"/>
                  </a:lnTo>
                  <a:lnTo>
                    <a:pt x="84391" y="13610"/>
                  </a:lnTo>
                  <a:lnTo>
                    <a:pt x="94360" y="14154"/>
                  </a:lnTo>
                  <a:lnTo>
                    <a:pt x="112211" y="14757"/>
                  </a:lnTo>
                  <a:lnTo>
                    <a:pt x="138799" y="15097"/>
                  </a:lnTo>
                  <a:lnTo>
                    <a:pt x="204331" y="15232"/>
                  </a:lnTo>
                  <a:lnTo>
                    <a:pt x="212421" y="16081"/>
                  </a:lnTo>
                  <a:lnTo>
                    <a:pt x="220354" y="17494"/>
                  </a:lnTo>
                  <a:lnTo>
                    <a:pt x="228183" y="19283"/>
                  </a:lnTo>
                  <a:lnTo>
                    <a:pt x="235095" y="20476"/>
                  </a:lnTo>
                  <a:lnTo>
                    <a:pt x="241397" y="21271"/>
                  </a:lnTo>
                  <a:lnTo>
                    <a:pt x="247291" y="21801"/>
                  </a:lnTo>
                  <a:lnTo>
                    <a:pt x="252068" y="23000"/>
                  </a:lnTo>
                  <a:lnTo>
                    <a:pt x="256099" y="24647"/>
                  </a:lnTo>
                  <a:lnTo>
                    <a:pt x="259633" y="26592"/>
                  </a:lnTo>
                  <a:lnTo>
                    <a:pt x="262835" y="27888"/>
                  </a:lnTo>
                  <a:lnTo>
                    <a:pt x="265816" y="28752"/>
                  </a:lnTo>
                  <a:lnTo>
                    <a:pt x="274320" y="304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SMARTInkAnnotation321"/>
            <p:cNvSpPr/>
            <p:nvPr/>
          </p:nvSpPr>
          <p:spPr>
            <a:xfrm>
              <a:off x="5341320" y="2712600"/>
              <a:ext cx="266400" cy="2268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66701" h="22861">
                  <a:moveTo>
                    <a:pt x="0" y="22860"/>
                  </a:moveTo>
                  <a:lnTo>
                    <a:pt x="154249" y="22860"/>
                  </a:lnTo>
                  <a:lnTo>
                    <a:pt x="163793" y="22013"/>
                  </a:lnTo>
                  <a:lnTo>
                    <a:pt x="172695" y="20602"/>
                  </a:lnTo>
                  <a:lnTo>
                    <a:pt x="181171" y="18815"/>
                  </a:lnTo>
                  <a:lnTo>
                    <a:pt x="190207" y="17623"/>
                  </a:lnTo>
                  <a:lnTo>
                    <a:pt x="199618" y="16829"/>
                  </a:lnTo>
                  <a:lnTo>
                    <a:pt x="209278" y="16299"/>
                  </a:lnTo>
                  <a:lnTo>
                    <a:pt x="217412" y="15100"/>
                  </a:lnTo>
                  <a:lnTo>
                    <a:pt x="224528" y="13453"/>
                  </a:lnTo>
                  <a:lnTo>
                    <a:pt x="230965" y="11509"/>
                  </a:lnTo>
                  <a:lnTo>
                    <a:pt x="236951" y="10213"/>
                  </a:lnTo>
                  <a:lnTo>
                    <a:pt x="242634" y="9349"/>
                  </a:lnTo>
                  <a:lnTo>
                    <a:pt x="248116" y="8772"/>
                  </a:lnTo>
                  <a:lnTo>
                    <a:pt x="252618" y="7542"/>
                  </a:lnTo>
                  <a:lnTo>
                    <a:pt x="256465" y="5875"/>
                  </a:lnTo>
                  <a:lnTo>
                    <a:pt x="2667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SMARTInkAnnotation322"/>
            <p:cNvSpPr/>
            <p:nvPr/>
          </p:nvSpPr>
          <p:spPr>
            <a:xfrm>
              <a:off x="5776560" y="2488680"/>
              <a:ext cx="395280" cy="3070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395340" h="307417">
                  <a:moveTo>
                    <a:pt x="113400" y="79436"/>
                  </a:moveTo>
                  <a:lnTo>
                    <a:pt x="113400" y="83481"/>
                  </a:lnTo>
                  <a:lnTo>
                    <a:pt x="114246" y="84673"/>
                  </a:lnTo>
                  <a:lnTo>
                    <a:pt x="115656" y="85467"/>
                  </a:lnTo>
                  <a:lnTo>
                    <a:pt x="119961" y="86742"/>
                  </a:lnTo>
                  <a:lnTo>
                    <a:pt x="120314" y="87693"/>
                  </a:lnTo>
                  <a:lnTo>
                    <a:pt x="120705" y="91008"/>
                  </a:lnTo>
                  <a:lnTo>
                    <a:pt x="121656" y="93077"/>
                  </a:lnTo>
                  <a:lnTo>
                    <a:pt x="126194" y="100035"/>
                  </a:lnTo>
                  <a:lnTo>
                    <a:pt x="128761" y="107458"/>
                  </a:lnTo>
                  <a:lnTo>
                    <a:pt x="134509" y="115021"/>
                  </a:lnTo>
                  <a:lnTo>
                    <a:pt x="139150" y="120087"/>
                  </a:lnTo>
                  <a:lnTo>
                    <a:pt x="140727" y="122623"/>
                  </a:lnTo>
                  <a:lnTo>
                    <a:pt x="143792" y="130238"/>
                  </a:lnTo>
                  <a:lnTo>
                    <a:pt x="147509" y="135317"/>
                  </a:lnTo>
                  <a:lnTo>
                    <a:pt x="149686" y="137010"/>
                  </a:lnTo>
                  <a:lnTo>
                    <a:pt x="151984" y="138138"/>
                  </a:lnTo>
                  <a:lnTo>
                    <a:pt x="154363" y="138891"/>
                  </a:lnTo>
                  <a:lnTo>
                    <a:pt x="156795" y="138546"/>
                  </a:lnTo>
                  <a:lnTo>
                    <a:pt x="159263" y="137469"/>
                  </a:lnTo>
                  <a:lnTo>
                    <a:pt x="165262" y="133703"/>
                  </a:lnTo>
                  <a:lnTo>
                    <a:pt x="172531" y="121639"/>
                  </a:lnTo>
                  <a:lnTo>
                    <a:pt x="177215" y="115691"/>
                  </a:lnTo>
                  <a:lnTo>
                    <a:pt x="178804" y="111226"/>
                  </a:lnTo>
                  <a:lnTo>
                    <a:pt x="179862" y="105709"/>
                  </a:lnTo>
                  <a:lnTo>
                    <a:pt x="180568" y="99492"/>
                  </a:lnTo>
                  <a:lnTo>
                    <a:pt x="181039" y="93653"/>
                  </a:lnTo>
                  <a:lnTo>
                    <a:pt x="181352" y="88067"/>
                  </a:lnTo>
                  <a:lnTo>
                    <a:pt x="181562" y="82650"/>
                  </a:lnTo>
                  <a:lnTo>
                    <a:pt x="180854" y="77345"/>
                  </a:lnTo>
                  <a:lnTo>
                    <a:pt x="179536" y="72115"/>
                  </a:lnTo>
                  <a:lnTo>
                    <a:pt x="177810" y="66935"/>
                  </a:lnTo>
                  <a:lnTo>
                    <a:pt x="175813" y="61789"/>
                  </a:lnTo>
                  <a:lnTo>
                    <a:pt x="173636" y="56664"/>
                  </a:lnTo>
                  <a:lnTo>
                    <a:pt x="171337" y="51555"/>
                  </a:lnTo>
                  <a:lnTo>
                    <a:pt x="168111" y="45609"/>
                  </a:lnTo>
                  <a:lnTo>
                    <a:pt x="164267" y="39105"/>
                  </a:lnTo>
                  <a:lnTo>
                    <a:pt x="160012" y="32228"/>
                  </a:lnTo>
                  <a:lnTo>
                    <a:pt x="155481" y="26797"/>
                  </a:lnTo>
                  <a:lnTo>
                    <a:pt x="145931" y="18505"/>
                  </a:lnTo>
                  <a:lnTo>
                    <a:pt x="136042" y="11998"/>
                  </a:lnTo>
                  <a:lnTo>
                    <a:pt x="125156" y="6283"/>
                  </a:lnTo>
                  <a:lnTo>
                    <a:pt x="118697" y="3574"/>
                  </a:lnTo>
                  <a:lnTo>
                    <a:pt x="111851" y="921"/>
                  </a:lnTo>
                  <a:lnTo>
                    <a:pt x="105594" y="0"/>
                  </a:lnTo>
                  <a:lnTo>
                    <a:pt x="94126" y="1233"/>
                  </a:lnTo>
                  <a:lnTo>
                    <a:pt x="83385" y="4603"/>
                  </a:lnTo>
                  <a:lnTo>
                    <a:pt x="72120" y="9770"/>
                  </a:lnTo>
                  <a:lnTo>
                    <a:pt x="65560" y="13519"/>
                  </a:lnTo>
                  <a:lnTo>
                    <a:pt x="58646" y="17711"/>
                  </a:lnTo>
                  <a:lnTo>
                    <a:pt x="46449" y="26885"/>
                  </a:lnTo>
                  <a:lnTo>
                    <a:pt x="40826" y="31702"/>
                  </a:lnTo>
                  <a:lnTo>
                    <a:pt x="35384" y="37453"/>
                  </a:lnTo>
                  <a:lnTo>
                    <a:pt x="30062" y="43827"/>
                  </a:lnTo>
                  <a:lnTo>
                    <a:pt x="24821" y="50617"/>
                  </a:lnTo>
                  <a:lnTo>
                    <a:pt x="19634" y="58530"/>
                  </a:lnTo>
                  <a:lnTo>
                    <a:pt x="14483" y="67192"/>
                  </a:lnTo>
                  <a:lnTo>
                    <a:pt x="9355" y="76353"/>
                  </a:lnTo>
                  <a:lnTo>
                    <a:pt x="5936" y="85847"/>
                  </a:lnTo>
                  <a:lnTo>
                    <a:pt x="3657" y="95564"/>
                  </a:lnTo>
                  <a:lnTo>
                    <a:pt x="2138" y="105428"/>
                  </a:lnTo>
                  <a:lnTo>
                    <a:pt x="1125" y="115391"/>
                  </a:lnTo>
                  <a:lnTo>
                    <a:pt x="450" y="125419"/>
                  </a:lnTo>
                  <a:lnTo>
                    <a:pt x="0" y="135491"/>
                  </a:lnTo>
                  <a:lnTo>
                    <a:pt x="2240" y="145593"/>
                  </a:lnTo>
                  <a:lnTo>
                    <a:pt x="6273" y="155714"/>
                  </a:lnTo>
                  <a:lnTo>
                    <a:pt x="11502" y="165848"/>
                  </a:lnTo>
                  <a:lnTo>
                    <a:pt x="16681" y="175144"/>
                  </a:lnTo>
                  <a:lnTo>
                    <a:pt x="21827" y="183881"/>
                  </a:lnTo>
                  <a:lnTo>
                    <a:pt x="26951" y="192246"/>
                  </a:lnTo>
                  <a:lnTo>
                    <a:pt x="32907" y="201210"/>
                  </a:lnTo>
                  <a:lnTo>
                    <a:pt x="46299" y="220200"/>
                  </a:lnTo>
                  <a:lnTo>
                    <a:pt x="54272" y="229158"/>
                  </a:lnTo>
                  <a:lnTo>
                    <a:pt x="62975" y="237671"/>
                  </a:lnTo>
                  <a:lnTo>
                    <a:pt x="72163" y="245886"/>
                  </a:lnTo>
                  <a:lnTo>
                    <a:pt x="82522" y="253902"/>
                  </a:lnTo>
                  <a:lnTo>
                    <a:pt x="93661" y="261787"/>
                  </a:lnTo>
                  <a:lnTo>
                    <a:pt x="105320" y="269583"/>
                  </a:lnTo>
                  <a:lnTo>
                    <a:pt x="118173" y="276474"/>
                  </a:lnTo>
                  <a:lnTo>
                    <a:pt x="131823" y="282762"/>
                  </a:lnTo>
                  <a:lnTo>
                    <a:pt x="146001" y="288646"/>
                  </a:lnTo>
                  <a:lnTo>
                    <a:pt x="159687" y="293416"/>
                  </a:lnTo>
                  <a:lnTo>
                    <a:pt x="173044" y="297443"/>
                  </a:lnTo>
                  <a:lnTo>
                    <a:pt x="186182" y="300974"/>
                  </a:lnTo>
                  <a:lnTo>
                    <a:pt x="199175" y="303328"/>
                  </a:lnTo>
                  <a:lnTo>
                    <a:pt x="212070" y="304897"/>
                  </a:lnTo>
                  <a:lnTo>
                    <a:pt x="224900" y="305943"/>
                  </a:lnTo>
                  <a:lnTo>
                    <a:pt x="238533" y="306641"/>
                  </a:lnTo>
                  <a:lnTo>
                    <a:pt x="267227" y="307416"/>
                  </a:lnTo>
                  <a:lnTo>
                    <a:pt x="280298" y="306776"/>
                  </a:lnTo>
                  <a:lnTo>
                    <a:pt x="292398" y="305503"/>
                  </a:lnTo>
                  <a:lnTo>
                    <a:pt x="303852" y="303807"/>
                  </a:lnTo>
                  <a:lnTo>
                    <a:pt x="314875" y="300984"/>
                  </a:lnTo>
                  <a:lnTo>
                    <a:pt x="325609" y="297408"/>
                  </a:lnTo>
                  <a:lnTo>
                    <a:pt x="336153" y="293331"/>
                  </a:lnTo>
                  <a:lnTo>
                    <a:pt x="345721" y="288072"/>
                  </a:lnTo>
                  <a:lnTo>
                    <a:pt x="354640" y="282027"/>
                  </a:lnTo>
                  <a:lnTo>
                    <a:pt x="363127" y="275457"/>
                  </a:lnTo>
                  <a:lnTo>
                    <a:pt x="374814" y="265898"/>
                  </a:lnTo>
                  <a:lnTo>
                    <a:pt x="382830" y="258828"/>
                  </a:lnTo>
                  <a:lnTo>
                    <a:pt x="395339" y="2470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SMARTInkAnnotation323"/>
            <p:cNvSpPr/>
            <p:nvPr/>
          </p:nvSpPr>
          <p:spPr>
            <a:xfrm>
              <a:off x="6182280" y="2666880"/>
              <a:ext cx="202320" cy="12888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202511" h="129064">
                  <a:moveTo>
                    <a:pt x="142048" y="38100"/>
                  </a:moveTo>
                  <a:lnTo>
                    <a:pt x="142048" y="30794"/>
                  </a:lnTo>
                  <a:lnTo>
                    <a:pt x="139790" y="28362"/>
                  </a:lnTo>
                  <a:lnTo>
                    <a:pt x="138003" y="26528"/>
                  </a:lnTo>
                  <a:lnTo>
                    <a:pt x="135965" y="25305"/>
                  </a:lnTo>
                  <a:lnTo>
                    <a:pt x="131442" y="23947"/>
                  </a:lnTo>
                  <a:lnTo>
                    <a:pt x="128205" y="23584"/>
                  </a:lnTo>
                  <a:lnTo>
                    <a:pt x="124352" y="23343"/>
                  </a:lnTo>
                  <a:lnTo>
                    <a:pt x="120091" y="23182"/>
                  </a:lnTo>
                  <a:lnTo>
                    <a:pt x="101958" y="22956"/>
                  </a:lnTo>
                  <a:lnTo>
                    <a:pt x="95001" y="23770"/>
                  </a:lnTo>
                  <a:lnTo>
                    <a:pt x="87824" y="25160"/>
                  </a:lnTo>
                  <a:lnTo>
                    <a:pt x="80499" y="26934"/>
                  </a:lnTo>
                  <a:lnTo>
                    <a:pt x="73075" y="28962"/>
                  </a:lnTo>
                  <a:lnTo>
                    <a:pt x="58054" y="33475"/>
                  </a:lnTo>
                  <a:lnTo>
                    <a:pt x="50492" y="36710"/>
                  </a:lnTo>
                  <a:lnTo>
                    <a:pt x="42911" y="40560"/>
                  </a:lnTo>
                  <a:lnTo>
                    <a:pt x="35317" y="44820"/>
                  </a:lnTo>
                  <a:lnTo>
                    <a:pt x="29407" y="48507"/>
                  </a:lnTo>
                  <a:lnTo>
                    <a:pt x="24621" y="51811"/>
                  </a:lnTo>
                  <a:lnTo>
                    <a:pt x="20583" y="54861"/>
                  </a:lnTo>
                  <a:lnTo>
                    <a:pt x="16198" y="58587"/>
                  </a:lnTo>
                  <a:lnTo>
                    <a:pt x="11581" y="62765"/>
                  </a:lnTo>
                  <a:lnTo>
                    <a:pt x="6811" y="67243"/>
                  </a:lnTo>
                  <a:lnTo>
                    <a:pt x="3629" y="71922"/>
                  </a:lnTo>
                  <a:lnTo>
                    <a:pt x="1509" y="76735"/>
                  </a:lnTo>
                  <a:lnTo>
                    <a:pt x="95" y="81636"/>
                  </a:lnTo>
                  <a:lnTo>
                    <a:pt x="0" y="85751"/>
                  </a:lnTo>
                  <a:lnTo>
                    <a:pt x="783" y="89340"/>
                  </a:lnTo>
                  <a:lnTo>
                    <a:pt x="2150" y="92580"/>
                  </a:lnTo>
                  <a:lnTo>
                    <a:pt x="4757" y="96434"/>
                  </a:lnTo>
                  <a:lnTo>
                    <a:pt x="8187" y="100696"/>
                  </a:lnTo>
                  <a:lnTo>
                    <a:pt x="12168" y="105231"/>
                  </a:lnTo>
                  <a:lnTo>
                    <a:pt x="17361" y="109100"/>
                  </a:lnTo>
                  <a:lnTo>
                    <a:pt x="23363" y="112527"/>
                  </a:lnTo>
                  <a:lnTo>
                    <a:pt x="29906" y="115658"/>
                  </a:lnTo>
                  <a:lnTo>
                    <a:pt x="37652" y="118592"/>
                  </a:lnTo>
                  <a:lnTo>
                    <a:pt x="46205" y="121394"/>
                  </a:lnTo>
                  <a:lnTo>
                    <a:pt x="55293" y="124110"/>
                  </a:lnTo>
                  <a:lnTo>
                    <a:pt x="63891" y="125920"/>
                  </a:lnTo>
                  <a:lnTo>
                    <a:pt x="72164" y="127127"/>
                  </a:lnTo>
                  <a:lnTo>
                    <a:pt x="80218" y="127931"/>
                  </a:lnTo>
                  <a:lnTo>
                    <a:pt x="88975" y="128467"/>
                  </a:lnTo>
                  <a:lnTo>
                    <a:pt x="107735" y="129063"/>
                  </a:lnTo>
                  <a:lnTo>
                    <a:pt x="116633" y="128375"/>
                  </a:lnTo>
                  <a:lnTo>
                    <a:pt x="125105" y="127070"/>
                  </a:lnTo>
                  <a:lnTo>
                    <a:pt x="133293" y="125354"/>
                  </a:lnTo>
                  <a:lnTo>
                    <a:pt x="141291" y="123362"/>
                  </a:lnTo>
                  <a:lnTo>
                    <a:pt x="149164" y="121188"/>
                  </a:lnTo>
                  <a:lnTo>
                    <a:pt x="156952" y="118892"/>
                  </a:lnTo>
                  <a:lnTo>
                    <a:pt x="163838" y="115668"/>
                  </a:lnTo>
                  <a:lnTo>
                    <a:pt x="170121" y="111825"/>
                  </a:lnTo>
                  <a:lnTo>
                    <a:pt x="176004" y="107570"/>
                  </a:lnTo>
                  <a:lnTo>
                    <a:pt x="180772" y="103040"/>
                  </a:lnTo>
                  <a:lnTo>
                    <a:pt x="184797" y="98327"/>
                  </a:lnTo>
                  <a:lnTo>
                    <a:pt x="188328" y="93491"/>
                  </a:lnTo>
                  <a:lnTo>
                    <a:pt x="191528" y="87728"/>
                  </a:lnTo>
                  <a:lnTo>
                    <a:pt x="194508" y="81345"/>
                  </a:lnTo>
                  <a:lnTo>
                    <a:pt x="197340" y="74550"/>
                  </a:lnTo>
                  <a:lnTo>
                    <a:pt x="199230" y="68326"/>
                  </a:lnTo>
                  <a:lnTo>
                    <a:pt x="200490" y="62485"/>
                  </a:lnTo>
                  <a:lnTo>
                    <a:pt x="201329" y="56896"/>
                  </a:lnTo>
                  <a:lnTo>
                    <a:pt x="201889" y="51478"/>
                  </a:lnTo>
                  <a:lnTo>
                    <a:pt x="202261" y="46172"/>
                  </a:lnTo>
                  <a:lnTo>
                    <a:pt x="202510" y="40941"/>
                  </a:lnTo>
                  <a:lnTo>
                    <a:pt x="200983" y="35761"/>
                  </a:lnTo>
                  <a:lnTo>
                    <a:pt x="198271" y="30614"/>
                  </a:lnTo>
                  <a:lnTo>
                    <a:pt x="194770" y="25489"/>
                  </a:lnTo>
                  <a:lnTo>
                    <a:pt x="191590" y="21226"/>
                  </a:lnTo>
                  <a:lnTo>
                    <a:pt x="188622" y="17537"/>
                  </a:lnTo>
                  <a:lnTo>
                    <a:pt x="185798" y="14231"/>
                  </a:lnTo>
                  <a:lnTo>
                    <a:pt x="183068" y="11181"/>
                  </a:lnTo>
                  <a:lnTo>
                    <a:pt x="177776" y="5534"/>
                  </a:lnTo>
                  <a:lnTo>
                    <a:pt x="175180" y="3689"/>
                  </a:lnTo>
                  <a:lnTo>
                    <a:pt x="172603" y="2459"/>
                  </a:lnTo>
                  <a:lnTo>
                    <a:pt x="16490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SMARTInkAnnotation324"/>
            <p:cNvSpPr/>
            <p:nvPr/>
          </p:nvSpPr>
          <p:spPr>
            <a:xfrm>
              <a:off x="6499440" y="2591280"/>
              <a:ext cx="165960" cy="22032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165990" h="220342">
                  <a:moveTo>
                    <a:pt x="53340" y="7306"/>
                  </a:moveTo>
                  <a:lnTo>
                    <a:pt x="53340" y="0"/>
                  </a:lnTo>
                  <a:lnTo>
                    <a:pt x="53340" y="3824"/>
                  </a:lnTo>
                  <a:lnTo>
                    <a:pt x="52494" y="4985"/>
                  </a:lnTo>
                  <a:lnTo>
                    <a:pt x="51082" y="5759"/>
                  </a:lnTo>
                  <a:lnTo>
                    <a:pt x="49295" y="6274"/>
                  </a:lnTo>
                  <a:lnTo>
                    <a:pt x="48103" y="7465"/>
                  </a:lnTo>
                  <a:lnTo>
                    <a:pt x="47308" y="9105"/>
                  </a:lnTo>
                  <a:lnTo>
                    <a:pt x="46779" y="11046"/>
                  </a:lnTo>
                  <a:lnTo>
                    <a:pt x="43934" y="15459"/>
                  </a:lnTo>
                  <a:lnTo>
                    <a:pt x="39846" y="20243"/>
                  </a:lnTo>
                  <a:lnTo>
                    <a:pt x="35207" y="25191"/>
                  </a:lnTo>
                  <a:lnTo>
                    <a:pt x="31938" y="27696"/>
                  </a:lnTo>
                  <a:lnTo>
                    <a:pt x="28066" y="30213"/>
                  </a:lnTo>
                  <a:lnTo>
                    <a:pt x="23791" y="32737"/>
                  </a:lnTo>
                  <a:lnTo>
                    <a:pt x="20094" y="36114"/>
                  </a:lnTo>
                  <a:lnTo>
                    <a:pt x="16783" y="40058"/>
                  </a:lnTo>
                  <a:lnTo>
                    <a:pt x="13728" y="44381"/>
                  </a:lnTo>
                  <a:lnTo>
                    <a:pt x="11691" y="48109"/>
                  </a:lnTo>
                  <a:lnTo>
                    <a:pt x="9430" y="54510"/>
                  </a:lnTo>
                  <a:lnTo>
                    <a:pt x="7980" y="58249"/>
                  </a:lnTo>
                  <a:lnTo>
                    <a:pt x="6166" y="62434"/>
                  </a:lnTo>
                  <a:lnTo>
                    <a:pt x="4110" y="66918"/>
                  </a:lnTo>
                  <a:lnTo>
                    <a:pt x="3587" y="71601"/>
                  </a:lnTo>
                  <a:lnTo>
                    <a:pt x="4084" y="76416"/>
                  </a:lnTo>
                  <a:lnTo>
                    <a:pt x="5263" y="81319"/>
                  </a:lnTo>
                  <a:lnTo>
                    <a:pt x="6896" y="85435"/>
                  </a:lnTo>
                  <a:lnTo>
                    <a:pt x="10967" y="92265"/>
                  </a:lnTo>
                  <a:lnTo>
                    <a:pt x="14085" y="96119"/>
                  </a:lnTo>
                  <a:lnTo>
                    <a:pt x="17856" y="100381"/>
                  </a:lnTo>
                  <a:lnTo>
                    <a:pt x="22064" y="104916"/>
                  </a:lnTo>
                  <a:lnTo>
                    <a:pt x="26563" y="108786"/>
                  </a:lnTo>
                  <a:lnTo>
                    <a:pt x="31255" y="112213"/>
                  </a:lnTo>
                  <a:lnTo>
                    <a:pt x="54998" y="127841"/>
                  </a:lnTo>
                  <a:lnTo>
                    <a:pt x="62912" y="131689"/>
                  </a:lnTo>
                  <a:lnTo>
                    <a:pt x="71575" y="135102"/>
                  </a:lnTo>
                  <a:lnTo>
                    <a:pt x="105767" y="146662"/>
                  </a:lnTo>
                  <a:lnTo>
                    <a:pt x="112844" y="150163"/>
                  </a:lnTo>
                  <a:lnTo>
                    <a:pt x="119256" y="154191"/>
                  </a:lnTo>
                  <a:lnTo>
                    <a:pt x="125224" y="158569"/>
                  </a:lnTo>
                  <a:lnTo>
                    <a:pt x="130897" y="162335"/>
                  </a:lnTo>
                  <a:lnTo>
                    <a:pt x="136371" y="165692"/>
                  </a:lnTo>
                  <a:lnTo>
                    <a:pt x="141714" y="168777"/>
                  </a:lnTo>
                  <a:lnTo>
                    <a:pt x="146123" y="171680"/>
                  </a:lnTo>
                  <a:lnTo>
                    <a:pt x="149909" y="174462"/>
                  </a:lnTo>
                  <a:lnTo>
                    <a:pt x="153279" y="177163"/>
                  </a:lnTo>
                  <a:lnTo>
                    <a:pt x="156372" y="178964"/>
                  </a:lnTo>
                  <a:lnTo>
                    <a:pt x="159282" y="180165"/>
                  </a:lnTo>
                  <a:lnTo>
                    <a:pt x="162067" y="180965"/>
                  </a:lnTo>
                  <a:lnTo>
                    <a:pt x="163925" y="182345"/>
                  </a:lnTo>
                  <a:lnTo>
                    <a:pt x="165164" y="184112"/>
                  </a:lnTo>
                  <a:lnTo>
                    <a:pt x="165989" y="186137"/>
                  </a:lnTo>
                  <a:lnTo>
                    <a:pt x="165693" y="188333"/>
                  </a:lnTo>
                  <a:lnTo>
                    <a:pt x="164649" y="190644"/>
                  </a:lnTo>
                  <a:lnTo>
                    <a:pt x="161230" y="195470"/>
                  </a:lnTo>
                  <a:lnTo>
                    <a:pt x="156889" y="200437"/>
                  </a:lnTo>
                  <a:lnTo>
                    <a:pt x="152138" y="205466"/>
                  </a:lnTo>
                  <a:lnTo>
                    <a:pt x="149685" y="207993"/>
                  </a:lnTo>
                  <a:lnTo>
                    <a:pt x="146357" y="209677"/>
                  </a:lnTo>
                  <a:lnTo>
                    <a:pt x="142445" y="210800"/>
                  </a:lnTo>
                  <a:lnTo>
                    <a:pt x="138143" y="211549"/>
                  </a:lnTo>
                  <a:lnTo>
                    <a:pt x="132735" y="212048"/>
                  </a:lnTo>
                  <a:lnTo>
                    <a:pt x="126591" y="212381"/>
                  </a:lnTo>
                  <a:lnTo>
                    <a:pt x="119954" y="212602"/>
                  </a:lnTo>
                  <a:lnTo>
                    <a:pt x="113836" y="213597"/>
                  </a:lnTo>
                  <a:lnTo>
                    <a:pt x="108063" y="215107"/>
                  </a:lnTo>
                  <a:lnTo>
                    <a:pt x="102522" y="216960"/>
                  </a:lnTo>
                  <a:lnTo>
                    <a:pt x="96289" y="218195"/>
                  </a:lnTo>
                  <a:lnTo>
                    <a:pt x="89593" y="219019"/>
                  </a:lnTo>
                  <a:lnTo>
                    <a:pt x="82589" y="219568"/>
                  </a:lnTo>
                  <a:lnTo>
                    <a:pt x="76226" y="219934"/>
                  </a:lnTo>
                  <a:lnTo>
                    <a:pt x="64640" y="220341"/>
                  </a:lnTo>
                  <a:lnTo>
                    <a:pt x="60027" y="219602"/>
                  </a:lnTo>
                  <a:lnTo>
                    <a:pt x="56104" y="218264"/>
                  </a:lnTo>
                  <a:lnTo>
                    <a:pt x="52642" y="216524"/>
                  </a:lnTo>
                  <a:lnTo>
                    <a:pt x="47795" y="215365"/>
                  </a:lnTo>
                  <a:lnTo>
                    <a:pt x="42024" y="214592"/>
                  </a:lnTo>
                  <a:lnTo>
                    <a:pt x="35636" y="214077"/>
                  </a:lnTo>
                  <a:lnTo>
                    <a:pt x="30531" y="212886"/>
                  </a:lnTo>
                  <a:lnTo>
                    <a:pt x="26280" y="211246"/>
                  </a:lnTo>
                  <a:lnTo>
                    <a:pt x="22601" y="209306"/>
                  </a:lnTo>
                  <a:lnTo>
                    <a:pt x="20147" y="207166"/>
                  </a:lnTo>
                  <a:lnTo>
                    <a:pt x="18511" y="204893"/>
                  </a:lnTo>
                  <a:lnTo>
                    <a:pt x="17420" y="202531"/>
                  </a:lnTo>
                  <a:lnTo>
                    <a:pt x="15847" y="200955"/>
                  </a:lnTo>
                  <a:lnTo>
                    <a:pt x="13951" y="199906"/>
                  </a:lnTo>
                  <a:lnTo>
                    <a:pt x="9588" y="198739"/>
                  </a:lnTo>
                  <a:lnTo>
                    <a:pt x="7238" y="198429"/>
                  </a:lnTo>
                  <a:lnTo>
                    <a:pt x="0" y="1978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MARTInkAnnotation325"/>
            <p:cNvSpPr/>
            <p:nvPr/>
          </p:nvSpPr>
          <p:spPr>
            <a:xfrm>
              <a:off x="6797160" y="2418840"/>
              <a:ext cx="121320" cy="40788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121608" h="408189">
                  <a:moveTo>
                    <a:pt x="7307" y="11948"/>
                  </a:moveTo>
                  <a:lnTo>
                    <a:pt x="0" y="4642"/>
                  </a:lnTo>
                  <a:lnTo>
                    <a:pt x="2084" y="2210"/>
                  </a:lnTo>
                  <a:lnTo>
                    <a:pt x="3825" y="376"/>
                  </a:lnTo>
                  <a:lnTo>
                    <a:pt x="4985" y="0"/>
                  </a:lnTo>
                  <a:lnTo>
                    <a:pt x="5759" y="596"/>
                  </a:lnTo>
                  <a:lnTo>
                    <a:pt x="6275" y="1840"/>
                  </a:lnTo>
                  <a:lnTo>
                    <a:pt x="9106" y="5480"/>
                  </a:lnTo>
                  <a:lnTo>
                    <a:pt x="11046" y="7636"/>
                  </a:lnTo>
                  <a:lnTo>
                    <a:pt x="12340" y="10767"/>
                  </a:lnTo>
                  <a:lnTo>
                    <a:pt x="14161" y="23263"/>
                  </a:lnTo>
                  <a:lnTo>
                    <a:pt x="14586" y="32782"/>
                  </a:lnTo>
                  <a:lnTo>
                    <a:pt x="14826" y="47660"/>
                  </a:lnTo>
                  <a:lnTo>
                    <a:pt x="14919" y="95168"/>
                  </a:lnTo>
                  <a:lnTo>
                    <a:pt x="14075" y="103835"/>
                  </a:lnTo>
                  <a:lnTo>
                    <a:pt x="12665" y="113000"/>
                  </a:lnTo>
                  <a:lnTo>
                    <a:pt x="10879" y="122495"/>
                  </a:lnTo>
                  <a:lnTo>
                    <a:pt x="10535" y="132213"/>
                  </a:lnTo>
                  <a:lnTo>
                    <a:pt x="11152" y="142078"/>
                  </a:lnTo>
                  <a:lnTo>
                    <a:pt x="12411" y="152041"/>
                  </a:lnTo>
                  <a:lnTo>
                    <a:pt x="13249" y="162070"/>
                  </a:lnTo>
                  <a:lnTo>
                    <a:pt x="13808" y="172143"/>
                  </a:lnTo>
                  <a:lnTo>
                    <a:pt x="14430" y="192366"/>
                  </a:lnTo>
                  <a:lnTo>
                    <a:pt x="14706" y="212643"/>
                  </a:lnTo>
                  <a:lnTo>
                    <a:pt x="15626" y="221945"/>
                  </a:lnTo>
                  <a:lnTo>
                    <a:pt x="17087" y="230686"/>
                  </a:lnTo>
                  <a:lnTo>
                    <a:pt x="20966" y="248018"/>
                  </a:lnTo>
                  <a:lnTo>
                    <a:pt x="25513" y="267010"/>
                  </a:lnTo>
                  <a:lnTo>
                    <a:pt x="28758" y="276816"/>
                  </a:lnTo>
                  <a:lnTo>
                    <a:pt x="32615" y="286740"/>
                  </a:lnTo>
                  <a:lnTo>
                    <a:pt x="36879" y="296743"/>
                  </a:lnTo>
                  <a:lnTo>
                    <a:pt x="40568" y="305951"/>
                  </a:lnTo>
                  <a:lnTo>
                    <a:pt x="46925" y="322956"/>
                  </a:lnTo>
                  <a:lnTo>
                    <a:pt x="50652" y="331047"/>
                  </a:lnTo>
                  <a:lnTo>
                    <a:pt x="54830" y="338980"/>
                  </a:lnTo>
                  <a:lnTo>
                    <a:pt x="59309" y="346810"/>
                  </a:lnTo>
                  <a:lnTo>
                    <a:pt x="64835" y="353723"/>
                  </a:lnTo>
                  <a:lnTo>
                    <a:pt x="71060" y="360025"/>
                  </a:lnTo>
                  <a:lnTo>
                    <a:pt x="77748" y="365919"/>
                  </a:lnTo>
                  <a:lnTo>
                    <a:pt x="83054" y="371542"/>
                  </a:lnTo>
                  <a:lnTo>
                    <a:pt x="87438" y="376984"/>
                  </a:lnTo>
                  <a:lnTo>
                    <a:pt x="91208" y="382305"/>
                  </a:lnTo>
                  <a:lnTo>
                    <a:pt x="95414" y="386700"/>
                  </a:lnTo>
                  <a:lnTo>
                    <a:pt x="99911" y="390476"/>
                  </a:lnTo>
                  <a:lnTo>
                    <a:pt x="104603" y="393840"/>
                  </a:lnTo>
                  <a:lnTo>
                    <a:pt x="108578" y="396929"/>
                  </a:lnTo>
                  <a:lnTo>
                    <a:pt x="112075" y="399835"/>
                  </a:lnTo>
                  <a:lnTo>
                    <a:pt x="121607" y="4081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MARTInkAnnotation326"/>
            <p:cNvSpPr/>
            <p:nvPr/>
          </p:nvSpPr>
          <p:spPr>
            <a:xfrm>
              <a:off x="6751080" y="2606040"/>
              <a:ext cx="266400" cy="990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266702" h="99061">
                  <a:moveTo>
                    <a:pt x="0" y="99060"/>
                  </a:moveTo>
                  <a:lnTo>
                    <a:pt x="0" y="92500"/>
                  </a:lnTo>
                  <a:lnTo>
                    <a:pt x="2258" y="89654"/>
                  </a:lnTo>
                  <a:lnTo>
                    <a:pt x="4046" y="87709"/>
                  </a:lnTo>
                  <a:lnTo>
                    <a:pt x="6084" y="86413"/>
                  </a:lnTo>
                  <a:lnTo>
                    <a:pt x="13844" y="83742"/>
                  </a:lnTo>
                  <a:lnTo>
                    <a:pt x="17696" y="82075"/>
                  </a:lnTo>
                  <a:lnTo>
                    <a:pt x="26492" y="77964"/>
                  </a:lnTo>
                  <a:lnTo>
                    <a:pt x="36046" y="73316"/>
                  </a:lnTo>
                  <a:lnTo>
                    <a:pt x="41810" y="71737"/>
                  </a:lnTo>
                  <a:lnTo>
                    <a:pt x="48194" y="70685"/>
                  </a:lnTo>
                  <a:lnTo>
                    <a:pt x="54989" y="69983"/>
                  </a:lnTo>
                  <a:lnTo>
                    <a:pt x="62059" y="68669"/>
                  </a:lnTo>
                  <a:lnTo>
                    <a:pt x="69313" y="66946"/>
                  </a:lnTo>
                  <a:lnTo>
                    <a:pt x="76689" y="64951"/>
                  </a:lnTo>
                  <a:lnTo>
                    <a:pt x="83299" y="61927"/>
                  </a:lnTo>
                  <a:lnTo>
                    <a:pt x="89400" y="58218"/>
                  </a:lnTo>
                  <a:lnTo>
                    <a:pt x="95161" y="54052"/>
                  </a:lnTo>
                  <a:lnTo>
                    <a:pt x="102386" y="50428"/>
                  </a:lnTo>
                  <a:lnTo>
                    <a:pt x="110591" y="47165"/>
                  </a:lnTo>
                  <a:lnTo>
                    <a:pt x="190437" y="20345"/>
                  </a:lnTo>
                  <a:lnTo>
                    <a:pt x="197232" y="17797"/>
                  </a:lnTo>
                  <a:lnTo>
                    <a:pt x="203455" y="15251"/>
                  </a:lnTo>
                  <a:lnTo>
                    <a:pt x="209297" y="12708"/>
                  </a:lnTo>
                  <a:lnTo>
                    <a:pt x="214884" y="11012"/>
                  </a:lnTo>
                  <a:lnTo>
                    <a:pt x="220304" y="9882"/>
                  </a:lnTo>
                  <a:lnTo>
                    <a:pt x="225609" y="9128"/>
                  </a:lnTo>
                  <a:lnTo>
                    <a:pt x="230840" y="7779"/>
                  </a:lnTo>
                  <a:lnTo>
                    <a:pt x="236020" y="6032"/>
                  </a:lnTo>
                  <a:lnTo>
                    <a:pt x="241166" y="4022"/>
                  </a:lnTo>
                  <a:lnTo>
                    <a:pt x="249143" y="1787"/>
                  </a:lnTo>
                  <a:lnTo>
                    <a:pt x="255511" y="794"/>
                  </a:lnTo>
                  <a:lnTo>
                    <a:pt x="258394" y="530"/>
                  </a:lnTo>
                  <a:lnTo>
                    <a:pt x="266701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SMARTInkAnnotation327"/>
            <p:cNvSpPr/>
            <p:nvPr/>
          </p:nvSpPr>
          <p:spPr>
            <a:xfrm>
              <a:off x="2338560" y="3421440"/>
              <a:ext cx="1104840" cy="60840"/>
            </a:xfrm>
            <a:custGeom>
              <a:avLst/>
              <a:gdLst>
                <a:gd name="textAreaLeft" fmla="*/ 0 w 1104840"/>
                <a:gd name="textAreaRight" fmla="*/ 1105200 w 11048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104901" h="60958">
                  <a:moveTo>
                    <a:pt x="0" y="60957"/>
                  </a:moveTo>
                  <a:lnTo>
                    <a:pt x="44468" y="60957"/>
                  </a:lnTo>
                  <a:lnTo>
                    <a:pt x="48272" y="60111"/>
                  </a:lnTo>
                  <a:lnTo>
                    <a:pt x="51655" y="58700"/>
                  </a:lnTo>
                  <a:lnTo>
                    <a:pt x="54757" y="56912"/>
                  </a:lnTo>
                  <a:lnTo>
                    <a:pt x="58518" y="55721"/>
                  </a:lnTo>
                  <a:lnTo>
                    <a:pt x="71902" y="54043"/>
                  </a:lnTo>
                  <a:lnTo>
                    <a:pt x="96623" y="53430"/>
                  </a:lnTo>
                  <a:lnTo>
                    <a:pt x="100822" y="52552"/>
                  </a:lnTo>
                  <a:lnTo>
                    <a:pt x="104468" y="51121"/>
                  </a:lnTo>
                  <a:lnTo>
                    <a:pt x="107746" y="49320"/>
                  </a:lnTo>
                  <a:lnTo>
                    <a:pt x="112471" y="48119"/>
                  </a:lnTo>
                  <a:lnTo>
                    <a:pt x="130409" y="46429"/>
                  </a:lnTo>
                  <a:lnTo>
                    <a:pt x="163261" y="45779"/>
                  </a:lnTo>
                  <a:lnTo>
                    <a:pt x="312524" y="45717"/>
                  </a:lnTo>
                  <a:lnTo>
                    <a:pt x="319263" y="44870"/>
                  </a:lnTo>
                  <a:lnTo>
                    <a:pt x="325449" y="43459"/>
                  </a:lnTo>
                  <a:lnTo>
                    <a:pt x="331266" y="41672"/>
                  </a:lnTo>
                  <a:lnTo>
                    <a:pt x="337684" y="40480"/>
                  </a:lnTo>
                  <a:lnTo>
                    <a:pt x="358852" y="38803"/>
                  </a:lnTo>
                  <a:lnTo>
                    <a:pt x="388761" y="38236"/>
                  </a:lnTo>
                  <a:lnTo>
                    <a:pt x="419128" y="38125"/>
                  </a:lnTo>
                  <a:lnTo>
                    <a:pt x="426739" y="37269"/>
                  </a:lnTo>
                  <a:lnTo>
                    <a:pt x="434353" y="35852"/>
                  </a:lnTo>
                  <a:lnTo>
                    <a:pt x="441969" y="34060"/>
                  </a:lnTo>
                  <a:lnTo>
                    <a:pt x="449586" y="32866"/>
                  </a:lnTo>
                  <a:lnTo>
                    <a:pt x="471595" y="31185"/>
                  </a:lnTo>
                  <a:lnTo>
                    <a:pt x="490064" y="29840"/>
                  </a:lnTo>
                  <a:lnTo>
                    <a:pt x="496889" y="28359"/>
                  </a:lnTo>
                  <a:lnTo>
                    <a:pt x="503979" y="26525"/>
                  </a:lnTo>
                  <a:lnTo>
                    <a:pt x="511247" y="25302"/>
                  </a:lnTo>
                  <a:lnTo>
                    <a:pt x="534456" y="23582"/>
                  </a:lnTo>
                  <a:lnTo>
                    <a:pt x="560712" y="22225"/>
                  </a:lnTo>
                  <a:lnTo>
                    <a:pt x="567695" y="20743"/>
                  </a:lnTo>
                  <a:lnTo>
                    <a:pt x="574043" y="18907"/>
                  </a:lnTo>
                  <a:lnTo>
                    <a:pt x="580816" y="17684"/>
                  </a:lnTo>
                  <a:lnTo>
                    <a:pt x="602483" y="15962"/>
                  </a:lnTo>
                  <a:lnTo>
                    <a:pt x="632559" y="15380"/>
                  </a:lnTo>
                  <a:lnTo>
                    <a:pt x="685806" y="15246"/>
                  </a:lnTo>
                  <a:lnTo>
                    <a:pt x="694271" y="14396"/>
                  </a:lnTo>
                  <a:lnTo>
                    <a:pt x="703300" y="12983"/>
                  </a:lnTo>
                  <a:lnTo>
                    <a:pt x="712707" y="11194"/>
                  </a:lnTo>
                  <a:lnTo>
                    <a:pt x="721518" y="10002"/>
                  </a:lnTo>
                  <a:lnTo>
                    <a:pt x="746054" y="8324"/>
                  </a:lnTo>
                  <a:lnTo>
                    <a:pt x="774843" y="7757"/>
                  </a:lnTo>
                  <a:lnTo>
                    <a:pt x="788028" y="6833"/>
                  </a:lnTo>
                  <a:lnTo>
                    <a:pt x="796285" y="5400"/>
                  </a:lnTo>
                  <a:lnTo>
                    <a:pt x="805177" y="3599"/>
                  </a:lnTo>
                  <a:lnTo>
                    <a:pt x="812798" y="2398"/>
                  </a:lnTo>
                  <a:lnTo>
                    <a:pt x="832461" y="709"/>
                  </a:lnTo>
                  <a:lnTo>
                    <a:pt x="864882" y="91"/>
                  </a:lnTo>
                  <a:lnTo>
                    <a:pt x="925694" y="0"/>
                  </a:lnTo>
                  <a:lnTo>
                    <a:pt x="932090" y="845"/>
                  </a:lnTo>
                  <a:lnTo>
                    <a:pt x="938893" y="2256"/>
                  </a:lnTo>
                  <a:lnTo>
                    <a:pt x="945969" y="4043"/>
                  </a:lnTo>
                  <a:lnTo>
                    <a:pt x="952379" y="5235"/>
                  </a:lnTo>
                  <a:lnTo>
                    <a:pt x="969492" y="6911"/>
                  </a:lnTo>
                  <a:lnTo>
                    <a:pt x="999621" y="7524"/>
                  </a:lnTo>
                  <a:lnTo>
                    <a:pt x="1090692" y="7617"/>
                  </a:lnTo>
                  <a:lnTo>
                    <a:pt x="1093735" y="8464"/>
                  </a:lnTo>
                  <a:lnTo>
                    <a:pt x="1096610" y="9875"/>
                  </a:lnTo>
                  <a:lnTo>
                    <a:pt x="1104900" y="1523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SMARTInkAnnotation328"/>
            <p:cNvSpPr/>
            <p:nvPr/>
          </p:nvSpPr>
          <p:spPr>
            <a:xfrm>
              <a:off x="2224440" y="3939480"/>
              <a:ext cx="1143000" cy="2232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143001" h="22390">
                  <a:moveTo>
                    <a:pt x="0" y="15240"/>
                  </a:moveTo>
                  <a:lnTo>
                    <a:pt x="89252" y="15240"/>
                  </a:lnTo>
                  <a:lnTo>
                    <a:pt x="95061" y="16086"/>
                  </a:lnTo>
                  <a:lnTo>
                    <a:pt x="101474" y="17498"/>
                  </a:lnTo>
                  <a:lnTo>
                    <a:pt x="108289" y="19285"/>
                  </a:lnTo>
                  <a:lnTo>
                    <a:pt x="113680" y="20477"/>
                  </a:lnTo>
                  <a:lnTo>
                    <a:pt x="118120" y="21271"/>
                  </a:lnTo>
                  <a:lnTo>
                    <a:pt x="121927" y="21801"/>
                  </a:lnTo>
                  <a:lnTo>
                    <a:pt x="132930" y="22389"/>
                  </a:lnTo>
                  <a:lnTo>
                    <a:pt x="145440" y="21804"/>
                  </a:lnTo>
                  <a:lnTo>
                    <a:pt x="151147" y="20462"/>
                  </a:lnTo>
                  <a:lnTo>
                    <a:pt x="156645" y="18722"/>
                  </a:lnTo>
                  <a:lnTo>
                    <a:pt x="162003" y="17561"/>
                  </a:lnTo>
                  <a:lnTo>
                    <a:pt x="167269" y="16788"/>
                  </a:lnTo>
                  <a:lnTo>
                    <a:pt x="172473" y="16272"/>
                  </a:lnTo>
                  <a:lnTo>
                    <a:pt x="182770" y="15699"/>
                  </a:lnTo>
                  <a:lnTo>
                    <a:pt x="213503" y="15300"/>
                  </a:lnTo>
                  <a:lnTo>
                    <a:pt x="328729" y="15240"/>
                  </a:lnTo>
                  <a:lnTo>
                    <a:pt x="335992" y="14393"/>
                  </a:lnTo>
                  <a:lnTo>
                    <a:pt x="343375" y="12983"/>
                  </a:lnTo>
                  <a:lnTo>
                    <a:pt x="350837" y="11195"/>
                  </a:lnTo>
                  <a:lnTo>
                    <a:pt x="359198" y="10003"/>
                  </a:lnTo>
                  <a:lnTo>
                    <a:pt x="368159" y="9209"/>
                  </a:lnTo>
                  <a:lnTo>
                    <a:pt x="377519" y="8679"/>
                  </a:lnTo>
                  <a:lnTo>
                    <a:pt x="394693" y="8091"/>
                  </a:lnTo>
                  <a:lnTo>
                    <a:pt x="426414" y="7713"/>
                  </a:lnTo>
                  <a:lnTo>
                    <a:pt x="495292" y="7623"/>
                  </a:lnTo>
                  <a:lnTo>
                    <a:pt x="503762" y="6775"/>
                  </a:lnTo>
                  <a:lnTo>
                    <a:pt x="512794" y="5363"/>
                  </a:lnTo>
                  <a:lnTo>
                    <a:pt x="522203" y="3576"/>
                  </a:lnTo>
                  <a:lnTo>
                    <a:pt x="531015" y="2384"/>
                  </a:lnTo>
                  <a:lnTo>
                    <a:pt x="539430" y="1589"/>
                  </a:lnTo>
                  <a:lnTo>
                    <a:pt x="547580" y="1059"/>
                  </a:lnTo>
                  <a:lnTo>
                    <a:pt x="563409" y="471"/>
                  </a:lnTo>
                  <a:lnTo>
                    <a:pt x="594267" y="93"/>
                  </a:lnTo>
                  <a:lnTo>
                    <a:pt x="1045343" y="0"/>
                  </a:lnTo>
                  <a:lnTo>
                    <a:pt x="1051649" y="847"/>
                  </a:lnTo>
                  <a:lnTo>
                    <a:pt x="1057546" y="2258"/>
                  </a:lnTo>
                  <a:lnTo>
                    <a:pt x="1063171" y="4045"/>
                  </a:lnTo>
                  <a:lnTo>
                    <a:pt x="1069460" y="5237"/>
                  </a:lnTo>
                  <a:lnTo>
                    <a:pt x="1076193" y="6031"/>
                  </a:lnTo>
                  <a:lnTo>
                    <a:pt x="1088755" y="6914"/>
                  </a:lnTo>
                  <a:lnTo>
                    <a:pt x="1120459" y="7579"/>
                  </a:lnTo>
                  <a:lnTo>
                    <a:pt x="1125433" y="7593"/>
                  </a:lnTo>
                  <a:lnTo>
                    <a:pt x="1129595" y="8448"/>
                  </a:lnTo>
                  <a:lnTo>
                    <a:pt x="1133216" y="9865"/>
                  </a:lnTo>
                  <a:lnTo>
                    <a:pt x="1143000" y="15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SMARTInkAnnotation329"/>
            <p:cNvSpPr/>
            <p:nvPr/>
          </p:nvSpPr>
          <p:spPr>
            <a:xfrm>
              <a:off x="2300760" y="4426920"/>
              <a:ext cx="1028520" cy="75960"/>
            </a:xfrm>
            <a:custGeom>
              <a:avLst/>
              <a:gdLst>
                <a:gd name="textAreaLeft" fmla="*/ 0 w 1028520"/>
                <a:gd name="textAreaRight" fmla="*/ 1028880 w 1028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028701" h="76201">
                  <a:moveTo>
                    <a:pt x="0" y="76200"/>
                  </a:moveTo>
                  <a:lnTo>
                    <a:pt x="25439" y="76200"/>
                  </a:lnTo>
                  <a:lnTo>
                    <a:pt x="32756" y="73942"/>
                  </a:lnTo>
                  <a:lnTo>
                    <a:pt x="37077" y="72155"/>
                  </a:lnTo>
                  <a:lnTo>
                    <a:pt x="44137" y="70169"/>
                  </a:lnTo>
                  <a:lnTo>
                    <a:pt x="59058" y="68789"/>
                  </a:lnTo>
                  <a:lnTo>
                    <a:pt x="67453" y="68673"/>
                  </a:lnTo>
                  <a:lnTo>
                    <a:pt x="76828" y="66364"/>
                  </a:lnTo>
                  <a:lnTo>
                    <a:pt x="81699" y="64563"/>
                  </a:lnTo>
                  <a:lnTo>
                    <a:pt x="89369" y="62562"/>
                  </a:lnTo>
                  <a:lnTo>
                    <a:pt x="115188" y="61171"/>
                  </a:lnTo>
                  <a:lnTo>
                    <a:pt x="142023" y="60988"/>
                  </a:lnTo>
                  <a:lnTo>
                    <a:pt x="154561" y="58715"/>
                  </a:lnTo>
                  <a:lnTo>
                    <a:pt x="161461" y="56923"/>
                  </a:lnTo>
                  <a:lnTo>
                    <a:pt x="175901" y="54932"/>
                  </a:lnTo>
                  <a:lnTo>
                    <a:pt x="205867" y="53655"/>
                  </a:lnTo>
                  <a:lnTo>
                    <a:pt x="248956" y="53367"/>
                  </a:lnTo>
                  <a:lnTo>
                    <a:pt x="273578" y="53348"/>
                  </a:lnTo>
                  <a:lnTo>
                    <a:pt x="291488" y="51086"/>
                  </a:lnTo>
                  <a:lnTo>
                    <a:pt x="301005" y="49297"/>
                  </a:lnTo>
                  <a:lnTo>
                    <a:pt x="316096" y="47310"/>
                  </a:lnTo>
                  <a:lnTo>
                    <a:pt x="347672" y="46035"/>
                  </a:lnTo>
                  <a:lnTo>
                    <a:pt x="514149" y="45721"/>
                  </a:lnTo>
                  <a:lnTo>
                    <a:pt x="533875" y="43463"/>
                  </a:lnTo>
                  <a:lnTo>
                    <a:pt x="543877" y="41675"/>
                  </a:lnTo>
                  <a:lnTo>
                    <a:pt x="564021" y="39689"/>
                  </a:lnTo>
                  <a:lnTo>
                    <a:pt x="594402" y="38571"/>
                  </a:lnTo>
                  <a:lnTo>
                    <a:pt x="614699" y="37463"/>
                  </a:lnTo>
                  <a:lnTo>
                    <a:pt x="624853" y="35982"/>
                  </a:lnTo>
                  <a:lnTo>
                    <a:pt x="635008" y="34148"/>
                  </a:lnTo>
                  <a:lnTo>
                    <a:pt x="653066" y="32110"/>
                  </a:lnTo>
                  <a:lnTo>
                    <a:pt x="671252" y="30358"/>
                  </a:lnTo>
                  <a:lnTo>
                    <a:pt x="682028" y="28706"/>
                  </a:lnTo>
                  <a:lnTo>
                    <a:pt x="693445" y="26757"/>
                  </a:lnTo>
                  <a:lnTo>
                    <a:pt x="712904" y="24592"/>
                  </a:lnTo>
                  <a:lnTo>
                    <a:pt x="740398" y="23373"/>
                  </a:lnTo>
                  <a:lnTo>
                    <a:pt x="775984" y="22962"/>
                  </a:lnTo>
                  <a:lnTo>
                    <a:pt x="794179" y="20648"/>
                  </a:lnTo>
                  <a:lnTo>
                    <a:pt x="803773" y="18845"/>
                  </a:lnTo>
                  <a:lnTo>
                    <a:pt x="823464" y="16842"/>
                  </a:lnTo>
                  <a:lnTo>
                    <a:pt x="842657" y="15106"/>
                  </a:lnTo>
                  <a:lnTo>
                    <a:pt x="851332" y="13457"/>
                  </a:lnTo>
                  <a:lnTo>
                    <a:pt x="859654" y="11511"/>
                  </a:lnTo>
                  <a:lnTo>
                    <a:pt x="875676" y="9350"/>
                  </a:lnTo>
                  <a:lnTo>
                    <a:pt x="891262" y="7542"/>
                  </a:lnTo>
                  <a:lnTo>
                    <a:pt x="898975" y="5875"/>
                  </a:lnTo>
                  <a:lnTo>
                    <a:pt x="906657" y="3917"/>
                  </a:lnTo>
                  <a:lnTo>
                    <a:pt x="921965" y="1741"/>
                  </a:lnTo>
                  <a:lnTo>
                    <a:pt x="948444" y="344"/>
                  </a:lnTo>
                  <a:lnTo>
                    <a:pt x="981192" y="45"/>
                  </a:lnTo>
                  <a:lnTo>
                    <a:pt x="10287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SMARTInkAnnotation330"/>
            <p:cNvSpPr/>
            <p:nvPr/>
          </p:nvSpPr>
          <p:spPr>
            <a:xfrm>
              <a:off x="2407320" y="4914720"/>
              <a:ext cx="830520" cy="68400"/>
            </a:xfrm>
            <a:custGeom>
              <a:avLst/>
              <a:gdLst>
                <a:gd name="textAreaLeft" fmla="*/ 0 w 830520"/>
                <a:gd name="textAreaRight" fmla="*/ 830880 w 8305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830581" h="68581">
                  <a:moveTo>
                    <a:pt x="0" y="68580"/>
                  </a:moveTo>
                  <a:lnTo>
                    <a:pt x="73793" y="68580"/>
                  </a:lnTo>
                  <a:lnTo>
                    <a:pt x="78828" y="67733"/>
                  </a:lnTo>
                  <a:lnTo>
                    <a:pt x="83879" y="66323"/>
                  </a:lnTo>
                  <a:lnTo>
                    <a:pt x="88939" y="64536"/>
                  </a:lnTo>
                  <a:lnTo>
                    <a:pt x="99078" y="62549"/>
                  </a:lnTo>
                  <a:lnTo>
                    <a:pt x="124463" y="61170"/>
                  </a:lnTo>
                  <a:lnTo>
                    <a:pt x="261828" y="60960"/>
                  </a:lnTo>
                  <a:lnTo>
                    <a:pt x="269379" y="60114"/>
                  </a:lnTo>
                  <a:lnTo>
                    <a:pt x="277800" y="58703"/>
                  </a:lnTo>
                  <a:lnTo>
                    <a:pt x="286800" y="56915"/>
                  </a:lnTo>
                  <a:lnTo>
                    <a:pt x="303573" y="54929"/>
                  </a:lnTo>
                  <a:lnTo>
                    <a:pt x="327297" y="53811"/>
                  </a:lnTo>
                  <a:lnTo>
                    <a:pt x="342738" y="52703"/>
                  </a:lnTo>
                  <a:lnTo>
                    <a:pt x="350413" y="51222"/>
                  </a:lnTo>
                  <a:lnTo>
                    <a:pt x="358068" y="49388"/>
                  </a:lnTo>
                  <a:lnTo>
                    <a:pt x="373348" y="47351"/>
                  </a:lnTo>
                  <a:lnTo>
                    <a:pt x="396231" y="46203"/>
                  </a:lnTo>
                  <a:lnTo>
                    <a:pt x="419097" y="45863"/>
                  </a:lnTo>
                  <a:lnTo>
                    <a:pt x="434339" y="44937"/>
                  </a:lnTo>
                  <a:lnTo>
                    <a:pt x="441959" y="43504"/>
                  </a:lnTo>
                  <a:lnTo>
                    <a:pt x="449580" y="41703"/>
                  </a:lnTo>
                  <a:lnTo>
                    <a:pt x="464820" y="39701"/>
                  </a:lnTo>
                  <a:lnTo>
                    <a:pt x="487680" y="38574"/>
                  </a:lnTo>
                  <a:lnTo>
                    <a:pt x="502920" y="37464"/>
                  </a:lnTo>
                  <a:lnTo>
                    <a:pt x="510540" y="35983"/>
                  </a:lnTo>
                  <a:lnTo>
                    <a:pt x="518160" y="34149"/>
                  </a:lnTo>
                  <a:lnTo>
                    <a:pt x="533400" y="32111"/>
                  </a:lnTo>
                  <a:lnTo>
                    <a:pt x="554003" y="30963"/>
                  </a:lnTo>
                  <a:lnTo>
                    <a:pt x="567110" y="29848"/>
                  </a:lnTo>
                  <a:lnTo>
                    <a:pt x="575347" y="28366"/>
                  </a:lnTo>
                  <a:lnTo>
                    <a:pt x="584224" y="26531"/>
                  </a:lnTo>
                  <a:lnTo>
                    <a:pt x="598604" y="24492"/>
                  </a:lnTo>
                  <a:lnTo>
                    <a:pt x="618478" y="23343"/>
                  </a:lnTo>
                  <a:lnTo>
                    <a:pt x="633019" y="22228"/>
                  </a:lnTo>
                  <a:lnTo>
                    <a:pt x="640453" y="20745"/>
                  </a:lnTo>
                  <a:lnTo>
                    <a:pt x="647948" y="18910"/>
                  </a:lnTo>
                  <a:lnTo>
                    <a:pt x="660793" y="16871"/>
                  </a:lnTo>
                  <a:lnTo>
                    <a:pt x="672992" y="15118"/>
                  </a:lnTo>
                  <a:lnTo>
                    <a:pt x="679801" y="13466"/>
                  </a:lnTo>
                  <a:lnTo>
                    <a:pt x="686881" y="11517"/>
                  </a:lnTo>
                  <a:lnTo>
                    <a:pt x="693294" y="10218"/>
                  </a:lnTo>
                  <a:lnTo>
                    <a:pt x="718011" y="8133"/>
                  </a:lnTo>
                  <a:lnTo>
                    <a:pt x="731443" y="7002"/>
                  </a:lnTo>
                  <a:lnTo>
                    <a:pt x="737396" y="5514"/>
                  </a:lnTo>
                  <a:lnTo>
                    <a:pt x="743057" y="3677"/>
                  </a:lnTo>
                  <a:lnTo>
                    <a:pt x="753864" y="1634"/>
                  </a:lnTo>
                  <a:lnTo>
                    <a:pt x="778783" y="143"/>
                  </a:lnTo>
                  <a:lnTo>
                    <a:pt x="8305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SMARTInkAnnotation331"/>
            <p:cNvSpPr/>
            <p:nvPr/>
          </p:nvSpPr>
          <p:spPr>
            <a:xfrm>
              <a:off x="4718520" y="3269520"/>
              <a:ext cx="378720" cy="272160"/>
            </a:xfrm>
            <a:custGeom>
              <a:avLst/>
              <a:gdLst>
                <a:gd name="textAreaLeft" fmla="*/ 0 w 378720"/>
                <a:gd name="textAreaRight" fmla="*/ 379080 w 37872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378918" h="272187">
                  <a:moveTo>
                    <a:pt x="180797" y="52883"/>
                  </a:moveTo>
                  <a:lnTo>
                    <a:pt x="180797" y="71082"/>
                  </a:lnTo>
                  <a:lnTo>
                    <a:pt x="181643" y="73482"/>
                  </a:lnTo>
                  <a:lnTo>
                    <a:pt x="186034" y="80906"/>
                  </a:lnTo>
                  <a:lnTo>
                    <a:pt x="187358" y="85940"/>
                  </a:lnTo>
                  <a:lnTo>
                    <a:pt x="188557" y="87621"/>
                  </a:lnTo>
                  <a:lnTo>
                    <a:pt x="190204" y="88741"/>
                  </a:lnTo>
                  <a:lnTo>
                    <a:pt x="192148" y="89489"/>
                  </a:lnTo>
                  <a:lnTo>
                    <a:pt x="193445" y="90833"/>
                  </a:lnTo>
                  <a:lnTo>
                    <a:pt x="194308" y="92576"/>
                  </a:lnTo>
                  <a:lnTo>
                    <a:pt x="195696" y="97413"/>
                  </a:lnTo>
                  <a:lnTo>
                    <a:pt x="195809" y="96963"/>
                  </a:lnTo>
                  <a:lnTo>
                    <a:pt x="196007" y="91938"/>
                  </a:lnTo>
                  <a:lnTo>
                    <a:pt x="198281" y="86892"/>
                  </a:lnTo>
                  <a:lnTo>
                    <a:pt x="201268" y="79851"/>
                  </a:lnTo>
                  <a:lnTo>
                    <a:pt x="202595" y="73900"/>
                  </a:lnTo>
                  <a:lnTo>
                    <a:pt x="203185" y="66175"/>
                  </a:lnTo>
                  <a:lnTo>
                    <a:pt x="203447" y="57097"/>
                  </a:lnTo>
                  <a:lnTo>
                    <a:pt x="203564" y="47418"/>
                  </a:lnTo>
                  <a:lnTo>
                    <a:pt x="202748" y="42467"/>
                  </a:lnTo>
                  <a:lnTo>
                    <a:pt x="201358" y="37472"/>
                  </a:lnTo>
                  <a:lnTo>
                    <a:pt x="199584" y="32449"/>
                  </a:lnTo>
                  <a:lnTo>
                    <a:pt x="196708" y="28254"/>
                  </a:lnTo>
                  <a:lnTo>
                    <a:pt x="188998" y="21334"/>
                  </a:lnTo>
                  <a:lnTo>
                    <a:pt x="182184" y="15437"/>
                  </a:lnTo>
                  <a:lnTo>
                    <a:pt x="175486" y="9994"/>
                  </a:lnTo>
                  <a:lnTo>
                    <a:pt x="166866" y="4752"/>
                  </a:lnTo>
                  <a:lnTo>
                    <a:pt x="155132" y="1858"/>
                  </a:lnTo>
                  <a:lnTo>
                    <a:pt x="148447" y="1086"/>
                  </a:lnTo>
                  <a:lnTo>
                    <a:pt x="141450" y="572"/>
                  </a:lnTo>
                  <a:lnTo>
                    <a:pt x="134245" y="229"/>
                  </a:lnTo>
                  <a:lnTo>
                    <a:pt x="126903" y="0"/>
                  </a:lnTo>
                  <a:lnTo>
                    <a:pt x="119468" y="694"/>
                  </a:lnTo>
                  <a:lnTo>
                    <a:pt x="111970" y="2004"/>
                  </a:lnTo>
                  <a:lnTo>
                    <a:pt x="104433" y="3724"/>
                  </a:lnTo>
                  <a:lnTo>
                    <a:pt x="96868" y="6563"/>
                  </a:lnTo>
                  <a:lnTo>
                    <a:pt x="89283" y="10150"/>
                  </a:lnTo>
                  <a:lnTo>
                    <a:pt x="81688" y="14234"/>
                  </a:lnTo>
                  <a:lnTo>
                    <a:pt x="74084" y="19497"/>
                  </a:lnTo>
                  <a:lnTo>
                    <a:pt x="66476" y="25546"/>
                  </a:lnTo>
                  <a:lnTo>
                    <a:pt x="58862" y="32118"/>
                  </a:lnTo>
                  <a:lnTo>
                    <a:pt x="51247" y="39040"/>
                  </a:lnTo>
                  <a:lnTo>
                    <a:pt x="36012" y="53504"/>
                  </a:lnTo>
                  <a:lnTo>
                    <a:pt x="29241" y="60917"/>
                  </a:lnTo>
                  <a:lnTo>
                    <a:pt x="23033" y="68399"/>
                  </a:lnTo>
                  <a:lnTo>
                    <a:pt x="17201" y="75927"/>
                  </a:lnTo>
                  <a:lnTo>
                    <a:pt x="12466" y="84332"/>
                  </a:lnTo>
                  <a:lnTo>
                    <a:pt x="8463" y="93322"/>
                  </a:lnTo>
                  <a:lnTo>
                    <a:pt x="4948" y="102703"/>
                  </a:lnTo>
                  <a:lnTo>
                    <a:pt x="2604" y="112343"/>
                  </a:lnTo>
                  <a:lnTo>
                    <a:pt x="1042" y="122156"/>
                  </a:lnTo>
                  <a:lnTo>
                    <a:pt x="0" y="132085"/>
                  </a:lnTo>
                  <a:lnTo>
                    <a:pt x="153" y="141244"/>
                  </a:lnTo>
                  <a:lnTo>
                    <a:pt x="1100" y="149891"/>
                  </a:lnTo>
                  <a:lnTo>
                    <a:pt x="2579" y="158195"/>
                  </a:lnTo>
                  <a:lnTo>
                    <a:pt x="6105" y="166271"/>
                  </a:lnTo>
                  <a:lnTo>
                    <a:pt x="10995" y="174195"/>
                  </a:lnTo>
                  <a:lnTo>
                    <a:pt x="16796" y="182017"/>
                  </a:lnTo>
                  <a:lnTo>
                    <a:pt x="23203" y="189773"/>
                  </a:lnTo>
                  <a:lnTo>
                    <a:pt x="30014" y="197483"/>
                  </a:lnTo>
                  <a:lnTo>
                    <a:pt x="37095" y="205163"/>
                  </a:lnTo>
                  <a:lnTo>
                    <a:pt x="46049" y="212823"/>
                  </a:lnTo>
                  <a:lnTo>
                    <a:pt x="56252" y="220470"/>
                  </a:lnTo>
                  <a:lnTo>
                    <a:pt x="67287" y="228107"/>
                  </a:lnTo>
                  <a:lnTo>
                    <a:pt x="79723" y="234893"/>
                  </a:lnTo>
                  <a:lnTo>
                    <a:pt x="93094" y="241109"/>
                  </a:lnTo>
                  <a:lnTo>
                    <a:pt x="107089" y="246947"/>
                  </a:lnTo>
                  <a:lnTo>
                    <a:pt x="121498" y="251686"/>
                  </a:lnTo>
                  <a:lnTo>
                    <a:pt x="136184" y="255692"/>
                  </a:lnTo>
                  <a:lnTo>
                    <a:pt x="151055" y="259209"/>
                  </a:lnTo>
                  <a:lnTo>
                    <a:pt x="166896" y="262401"/>
                  </a:lnTo>
                  <a:lnTo>
                    <a:pt x="200301" y="268204"/>
                  </a:lnTo>
                  <a:lnTo>
                    <a:pt x="216659" y="270090"/>
                  </a:lnTo>
                  <a:lnTo>
                    <a:pt x="232646" y="271348"/>
                  </a:lnTo>
                  <a:lnTo>
                    <a:pt x="248383" y="272186"/>
                  </a:lnTo>
                  <a:lnTo>
                    <a:pt x="263954" y="271898"/>
                  </a:lnTo>
                  <a:lnTo>
                    <a:pt x="279416" y="270860"/>
                  </a:lnTo>
                  <a:lnTo>
                    <a:pt x="294803" y="269321"/>
                  </a:lnTo>
                  <a:lnTo>
                    <a:pt x="309294" y="267448"/>
                  </a:lnTo>
                  <a:lnTo>
                    <a:pt x="323188" y="265353"/>
                  </a:lnTo>
                  <a:lnTo>
                    <a:pt x="336684" y="263110"/>
                  </a:lnTo>
                  <a:lnTo>
                    <a:pt x="347375" y="260768"/>
                  </a:lnTo>
                  <a:lnTo>
                    <a:pt x="356196" y="258359"/>
                  </a:lnTo>
                  <a:lnTo>
                    <a:pt x="378917" y="25100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SMARTInkAnnotation332"/>
            <p:cNvSpPr/>
            <p:nvPr/>
          </p:nvSpPr>
          <p:spPr>
            <a:xfrm>
              <a:off x="5188680" y="3383280"/>
              <a:ext cx="174960" cy="1188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75261" h="11983">
                  <a:moveTo>
                    <a:pt x="0" y="7592"/>
                  </a:moveTo>
                  <a:lnTo>
                    <a:pt x="0" y="11638"/>
                  </a:lnTo>
                  <a:lnTo>
                    <a:pt x="847" y="11982"/>
                  </a:lnTo>
                  <a:lnTo>
                    <a:pt x="2258" y="11366"/>
                  </a:lnTo>
                  <a:lnTo>
                    <a:pt x="6561" y="8338"/>
                  </a:lnTo>
                  <a:lnTo>
                    <a:pt x="8608" y="8089"/>
                  </a:lnTo>
                  <a:lnTo>
                    <a:pt x="11665" y="7924"/>
                  </a:lnTo>
                  <a:lnTo>
                    <a:pt x="19578" y="7739"/>
                  </a:lnTo>
                  <a:lnTo>
                    <a:pt x="28739" y="7657"/>
                  </a:lnTo>
                  <a:lnTo>
                    <a:pt x="34400" y="6789"/>
                  </a:lnTo>
                  <a:lnTo>
                    <a:pt x="40713" y="5364"/>
                  </a:lnTo>
                  <a:lnTo>
                    <a:pt x="47462" y="3566"/>
                  </a:lnTo>
                  <a:lnTo>
                    <a:pt x="54501" y="2369"/>
                  </a:lnTo>
                  <a:lnTo>
                    <a:pt x="61735" y="1569"/>
                  </a:lnTo>
                  <a:lnTo>
                    <a:pt x="69096" y="1037"/>
                  </a:lnTo>
                  <a:lnTo>
                    <a:pt x="76545" y="682"/>
                  </a:lnTo>
                  <a:lnTo>
                    <a:pt x="91593" y="288"/>
                  </a:lnTo>
                  <a:lnTo>
                    <a:pt x="137173" y="0"/>
                  </a:lnTo>
                  <a:lnTo>
                    <a:pt x="144789" y="837"/>
                  </a:lnTo>
                  <a:lnTo>
                    <a:pt x="152406" y="2242"/>
                  </a:lnTo>
                  <a:lnTo>
                    <a:pt x="175260" y="759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SMARTInkAnnotation333"/>
            <p:cNvSpPr/>
            <p:nvPr/>
          </p:nvSpPr>
          <p:spPr>
            <a:xfrm>
              <a:off x="5173560" y="3489840"/>
              <a:ext cx="205560" cy="2268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05741" h="22834">
                  <a:moveTo>
                    <a:pt x="0" y="15240"/>
                  </a:moveTo>
                  <a:lnTo>
                    <a:pt x="0" y="22546"/>
                  </a:lnTo>
                  <a:lnTo>
                    <a:pt x="4045" y="22767"/>
                  </a:lnTo>
                  <a:lnTo>
                    <a:pt x="14651" y="22833"/>
                  </a:lnTo>
                  <a:lnTo>
                    <a:pt x="19927" y="21995"/>
                  </a:lnTo>
                  <a:lnTo>
                    <a:pt x="25985" y="20590"/>
                  </a:lnTo>
                  <a:lnTo>
                    <a:pt x="32563" y="18807"/>
                  </a:lnTo>
                  <a:lnTo>
                    <a:pt x="39489" y="17618"/>
                  </a:lnTo>
                  <a:lnTo>
                    <a:pt x="46646" y="16826"/>
                  </a:lnTo>
                  <a:lnTo>
                    <a:pt x="53957" y="16297"/>
                  </a:lnTo>
                  <a:lnTo>
                    <a:pt x="62218" y="15945"/>
                  </a:lnTo>
                  <a:lnTo>
                    <a:pt x="80428" y="15554"/>
                  </a:lnTo>
                  <a:lnTo>
                    <a:pt x="90025" y="14602"/>
                  </a:lnTo>
                  <a:lnTo>
                    <a:pt x="99810" y="13122"/>
                  </a:lnTo>
                  <a:lnTo>
                    <a:pt x="109720" y="11288"/>
                  </a:lnTo>
                  <a:lnTo>
                    <a:pt x="118867" y="10065"/>
                  </a:lnTo>
                  <a:lnTo>
                    <a:pt x="127505" y="9250"/>
                  </a:lnTo>
                  <a:lnTo>
                    <a:pt x="135803" y="8707"/>
                  </a:lnTo>
                  <a:lnTo>
                    <a:pt x="143876" y="7498"/>
                  </a:lnTo>
                  <a:lnTo>
                    <a:pt x="151797" y="5845"/>
                  </a:lnTo>
                  <a:lnTo>
                    <a:pt x="159618" y="3897"/>
                  </a:lnTo>
                  <a:lnTo>
                    <a:pt x="167373" y="2598"/>
                  </a:lnTo>
                  <a:lnTo>
                    <a:pt x="175082" y="1732"/>
                  </a:lnTo>
                  <a:lnTo>
                    <a:pt x="188728" y="770"/>
                  </a:lnTo>
                  <a:lnTo>
                    <a:pt x="2057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SMARTInkAnnotation334"/>
            <p:cNvSpPr/>
            <p:nvPr/>
          </p:nvSpPr>
          <p:spPr>
            <a:xfrm>
              <a:off x="5569920" y="3254760"/>
              <a:ext cx="246600" cy="265320"/>
            </a:xfrm>
            <a:custGeom>
              <a:avLst/>
              <a:gdLst>
                <a:gd name="textAreaLeft" fmla="*/ 0 w 246600"/>
                <a:gd name="textAreaRight" fmla="*/ 246960 w 24660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246617" h="265385">
                  <a:moveTo>
                    <a:pt x="15241" y="59777"/>
                  </a:moveTo>
                  <a:lnTo>
                    <a:pt x="15241" y="34273"/>
                  </a:lnTo>
                  <a:lnTo>
                    <a:pt x="16087" y="31767"/>
                  </a:lnTo>
                  <a:lnTo>
                    <a:pt x="19285" y="26726"/>
                  </a:lnTo>
                  <a:lnTo>
                    <a:pt x="21324" y="25043"/>
                  </a:lnTo>
                  <a:lnTo>
                    <a:pt x="23529" y="23921"/>
                  </a:lnTo>
                  <a:lnTo>
                    <a:pt x="29084" y="21828"/>
                  </a:lnTo>
                  <a:lnTo>
                    <a:pt x="32936" y="20084"/>
                  </a:lnTo>
                  <a:lnTo>
                    <a:pt x="46448" y="13585"/>
                  </a:lnTo>
                  <a:lnTo>
                    <a:pt x="51286" y="11202"/>
                  </a:lnTo>
                  <a:lnTo>
                    <a:pt x="57897" y="9614"/>
                  </a:lnTo>
                  <a:lnTo>
                    <a:pt x="65691" y="8555"/>
                  </a:lnTo>
                  <a:lnTo>
                    <a:pt x="74274" y="7849"/>
                  </a:lnTo>
                  <a:lnTo>
                    <a:pt x="82536" y="6532"/>
                  </a:lnTo>
                  <a:lnTo>
                    <a:pt x="90584" y="4807"/>
                  </a:lnTo>
                  <a:lnTo>
                    <a:pt x="98490" y="2810"/>
                  </a:lnTo>
                  <a:lnTo>
                    <a:pt x="106300" y="1479"/>
                  </a:lnTo>
                  <a:lnTo>
                    <a:pt x="114047" y="592"/>
                  </a:lnTo>
                  <a:lnTo>
                    <a:pt x="121751" y="0"/>
                  </a:lnTo>
                  <a:lnTo>
                    <a:pt x="130274" y="452"/>
                  </a:lnTo>
                  <a:lnTo>
                    <a:pt x="139343" y="1601"/>
                  </a:lnTo>
                  <a:lnTo>
                    <a:pt x="148775" y="3213"/>
                  </a:lnTo>
                  <a:lnTo>
                    <a:pt x="157604" y="4288"/>
                  </a:lnTo>
                  <a:lnTo>
                    <a:pt x="166029" y="5004"/>
                  </a:lnTo>
                  <a:lnTo>
                    <a:pt x="174186" y="5482"/>
                  </a:lnTo>
                  <a:lnTo>
                    <a:pt x="190023" y="6012"/>
                  </a:lnTo>
                  <a:lnTo>
                    <a:pt x="197802" y="6154"/>
                  </a:lnTo>
                  <a:lnTo>
                    <a:pt x="204681" y="7095"/>
                  </a:lnTo>
                  <a:lnTo>
                    <a:pt x="210961" y="8569"/>
                  </a:lnTo>
                  <a:lnTo>
                    <a:pt x="216841" y="10399"/>
                  </a:lnTo>
                  <a:lnTo>
                    <a:pt x="221607" y="11618"/>
                  </a:lnTo>
                  <a:lnTo>
                    <a:pt x="229161" y="12973"/>
                  </a:lnTo>
                  <a:lnTo>
                    <a:pt x="235341" y="15833"/>
                  </a:lnTo>
                  <a:lnTo>
                    <a:pt x="238174" y="17781"/>
                  </a:lnTo>
                  <a:lnTo>
                    <a:pt x="239216" y="19080"/>
                  </a:lnTo>
                  <a:lnTo>
                    <a:pt x="239064" y="19946"/>
                  </a:lnTo>
                  <a:lnTo>
                    <a:pt x="232548" y="23422"/>
                  </a:lnTo>
                  <a:lnTo>
                    <a:pt x="228692" y="25381"/>
                  </a:lnTo>
                  <a:lnTo>
                    <a:pt x="223581" y="27532"/>
                  </a:lnTo>
                  <a:lnTo>
                    <a:pt x="217634" y="29814"/>
                  </a:lnTo>
                  <a:lnTo>
                    <a:pt x="211130" y="32182"/>
                  </a:lnTo>
                  <a:lnTo>
                    <a:pt x="204253" y="35454"/>
                  </a:lnTo>
                  <a:lnTo>
                    <a:pt x="197128" y="39328"/>
                  </a:lnTo>
                  <a:lnTo>
                    <a:pt x="189839" y="43604"/>
                  </a:lnTo>
                  <a:lnTo>
                    <a:pt x="182440" y="47302"/>
                  </a:lnTo>
                  <a:lnTo>
                    <a:pt x="174967" y="50614"/>
                  </a:lnTo>
                  <a:lnTo>
                    <a:pt x="167445" y="53668"/>
                  </a:lnTo>
                  <a:lnTo>
                    <a:pt x="159890" y="56551"/>
                  </a:lnTo>
                  <a:lnTo>
                    <a:pt x="144722" y="62013"/>
                  </a:lnTo>
                  <a:lnTo>
                    <a:pt x="137968" y="64654"/>
                  </a:lnTo>
                  <a:lnTo>
                    <a:pt x="131772" y="67262"/>
                  </a:lnTo>
                  <a:lnTo>
                    <a:pt x="120373" y="72417"/>
                  </a:lnTo>
                  <a:lnTo>
                    <a:pt x="109661" y="77531"/>
                  </a:lnTo>
                  <a:lnTo>
                    <a:pt x="106128" y="80080"/>
                  </a:lnTo>
                  <a:lnTo>
                    <a:pt x="103772" y="82625"/>
                  </a:lnTo>
                  <a:lnTo>
                    <a:pt x="102201" y="85169"/>
                  </a:lnTo>
                  <a:lnTo>
                    <a:pt x="102001" y="87712"/>
                  </a:lnTo>
                  <a:lnTo>
                    <a:pt x="102714" y="90254"/>
                  </a:lnTo>
                  <a:lnTo>
                    <a:pt x="104036" y="92795"/>
                  </a:lnTo>
                  <a:lnTo>
                    <a:pt x="110021" y="97876"/>
                  </a:lnTo>
                  <a:lnTo>
                    <a:pt x="113987" y="100416"/>
                  </a:lnTo>
                  <a:lnTo>
                    <a:pt x="118325" y="103803"/>
                  </a:lnTo>
                  <a:lnTo>
                    <a:pt x="122910" y="107755"/>
                  </a:lnTo>
                  <a:lnTo>
                    <a:pt x="127661" y="112082"/>
                  </a:lnTo>
                  <a:lnTo>
                    <a:pt x="133367" y="115814"/>
                  </a:lnTo>
                  <a:lnTo>
                    <a:pt x="139711" y="119148"/>
                  </a:lnTo>
                  <a:lnTo>
                    <a:pt x="146481" y="122218"/>
                  </a:lnTo>
                  <a:lnTo>
                    <a:pt x="172189" y="134628"/>
                  </a:lnTo>
                  <a:lnTo>
                    <a:pt x="180833" y="139311"/>
                  </a:lnTo>
                  <a:lnTo>
                    <a:pt x="189136" y="144127"/>
                  </a:lnTo>
                  <a:lnTo>
                    <a:pt x="205134" y="153992"/>
                  </a:lnTo>
                  <a:lnTo>
                    <a:pt x="220711" y="164022"/>
                  </a:lnTo>
                  <a:lnTo>
                    <a:pt x="226727" y="169067"/>
                  </a:lnTo>
                  <a:lnTo>
                    <a:pt x="231586" y="174124"/>
                  </a:lnTo>
                  <a:lnTo>
                    <a:pt x="235670" y="179188"/>
                  </a:lnTo>
                  <a:lnTo>
                    <a:pt x="239240" y="184258"/>
                  </a:lnTo>
                  <a:lnTo>
                    <a:pt x="242467" y="189331"/>
                  </a:lnTo>
                  <a:lnTo>
                    <a:pt x="245465" y="194406"/>
                  </a:lnTo>
                  <a:lnTo>
                    <a:pt x="246616" y="199483"/>
                  </a:lnTo>
                  <a:lnTo>
                    <a:pt x="246538" y="204561"/>
                  </a:lnTo>
                  <a:lnTo>
                    <a:pt x="245639" y="209640"/>
                  </a:lnTo>
                  <a:lnTo>
                    <a:pt x="243346" y="214719"/>
                  </a:lnTo>
                  <a:lnTo>
                    <a:pt x="240125" y="219798"/>
                  </a:lnTo>
                  <a:lnTo>
                    <a:pt x="236283" y="224878"/>
                  </a:lnTo>
                  <a:lnTo>
                    <a:pt x="231182" y="229111"/>
                  </a:lnTo>
                  <a:lnTo>
                    <a:pt x="225242" y="232780"/>
                  </a:lnTo>
                  <a:lnTo>
                    <a:pt x="218741" y="236072"/>
                  </a:lnTo>
                  <a:lnTo>
                    <a:pt x="211867" y="239114"/>
                  </a:lnTo>
                  <a:lnTo>
                    <a:pt x="204745" y="241988"/>
                  </a:lnTo>
                  <a:lnTo>
                    <a:pt x="197457" y="244751"/>
                  </a:lnTo>
                  <a:lnTo>
                    <a:pt x="189211" y="247440"/>
                  </a:lnTo>
                  <a:lnTo>
                    <a:pt x="180327" y="250079"/>
                  </a:lnTo>
                  <a:lnTo>
                    <a:pt x="161426" y="255269"/>
                  </a:lnTo>
                  <a:lnTo>
                    <a:pt x="141736" y="260398"/>
                  </a:lnTo>
                  <a:lnTo>
                    <a:pt x="131744" y="262104"/>
                  </a:lnTo>
                  <a:lnTo>
                    <a:pt x="121696" y="263242"/>
                  </a:lnTo>
                  <a:lnTo>
                    <a:pt x="111611" y="264001"/>
                  </a:lnTo>
                  <a:lnTo>
                    <a:pt x="101500" y="264506"/>
                  </a:lnTo>
                  <a:lnTo>
                    <a:pt x="81236" y="265068"/>
                  </a:lnTo>
                  <a:lnTo>
                    <a:pt x="54832" y="265384"/>
                  </a:lnTo>
                  <a:lnTo>
                    <a:pt x="47562" y="264582"/>
                  </a:lnTo>
                  <a:lnTo>
                    <a:pt x="41021" y="263200"/>
                  </a:lnTo>
                  <a:lnTo>
                    <a:pt x="34968" y="261433"/>
                  </a:lnTo>
                  <a:lnTo>
                    <a:pt x="29238" y="259407"/>
                  </a:lnTo>
                  <a:lnTo>
                    <a:pt x="23725" y="257211"/>
                  </a:lnTo>
                  <a:lnTo>
                    <a:pt x="18357" y="254900"/>
                  </a:lnTo>
                  <a:lnTo>
                    <a:pt x="13932" y="252512"/>
                  </a:lnTo>
                  <a:lnTo>
                    <a:pt x="6756" y="247602"/>
                  </a:lnTo>
                  <a:lnTo>
                    <a:pt x="4504" y="245107"/>
                  </a:lnTo>
                  <a:lnTo>
                    <a:pt x="3003" y="242597"/>
                  </a:lnTo>
                  <a:lnTo>
                    <a:pt x="0" y="23503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SMARTInkAnnotation335"/>
            <p:cNvSpPr/>
            <p:nvPr/>
          </p:nvSpPr>
          <p:spPr>
            <a:xfrm>
              <a:off x="5897880" y="3299400"/>
              <a:ext cx="266040" cy="266400"/>
            </a:xfrm>
            <a:custGeom>
              <a:avLst/>
              <a:gdLst>
                <a:gd name="textAreaLeft" fmla="*/ 0 w 266040"/>
                <a:gd name="textAreaRight" fmla="*/ 266400 w 26604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266355" h="266701">
                  <a:moveTo>
                    <a:pt x="52994" y="0"/>
                  </a:moveTo>
                  <a:lnTo>
                    <a:pt x="52994" y="56046"/>
                  </a:lnTo>
                  <a:lnTo>
                    <a:pt x="52148" y="61917"/>
                  </a:lnTo>
                  <a:lnTo>
                    <a:pt x="50737" y="67525"/>
                  </a:lnTo>
                  <a:lnTo>
                    <a:pt x="48949" y="72957"/>
                  </a:lnTo>
                  <a:lnTo>
                    <a:pt x="47758" y="78271"/>
                  </a:lnTo>
                  <a:lnTo>
                    <a:pt x="46963" y="83508"/>
                  </a:lnTo>
                  <a:lnTo>
                    <a:pt x="46433" y="88692"/>
                  </a:lnTo>
                  <a:lnTo>
                    <a:pt x="45233" y="94688"/>
                  </a:lnTo>
                  <a:lnTo>
                    <a:pt x="43587" y="101225"/>
                  </a:lnTo>
                  <a:lnTo>
                    <a:pt x="41643" y="108123"/>
                  </a:lnTo>
                  <a:lnTo>
                    <a:pt x="38653" y="115263"/>
                  </a:lnTo>
                  <a:lnTo>
                    <a:pt x="34967" y="122561"/>
                  </a:lnTo>
                  <a:lnTo>
                    <a:pt x="27202" y="136598"/>
                  </a:lnTo>
                  <a:lnTo>
                    <a:pt x="20929" y="148482"/>
                  </a:lnTo>
                  <a:lnTo>
                    <a:pt x="18917" y="154021"/>
                  </a:lnTo>
                  <a:lnTo>
                    <a:pt x="17576" y="159408"/>
                  </a:lnTo>
                  <a:lnTo>
                    <a:pt x="16682" y="164692"/>
                  </a:lnTo>
                  <a:lnTo>
                    <a:pt x="15240" y="169908"/>
                  </a:lnTo>
                  <a:lnTo>
                    <a:pt x="13431" y="175079"/>
                  </a:lnTo>
                  <a:lnTo>
                    <a:pt x="11378" y="180219"/>
                  </a:lnTo>
                  <a:lnTo>
                    <a:pt x="9099" y="188189"/>
                  </a:lnTo>
                  <a:lnTo>
                    <a:pt x="8490" y="191499"/>
                  </a:lnTo>
                  <a:lnTo>
                    <a:pt x="5557" y="197435"/>
                  </a:lnTo>
                  <a:lnTo>
                    <a:pt x="0" y="205254"/>
                  </a:lnTo>
                  <a:lnTo>
                    <a:pt x="3802" y="201551"/>
                  </a:lnTo>
                  <a:lnTo>
                    <a:pt x="4959" y="199561"/>
                  </a:lnTo>
                  <a:lnTo>
                    <a:pt x="6245" y="195091"/>
                  </a:lnTo>
                  <a:lnTo>
                    <a:pt x="7435" y="191021"/>
                  </a:lnTo>
                  <a:lnTo>
                    <a:pt x="13154" y="173157"/>
                  </a:lnTo>
                  <a:lnTo>
                    <a:pt x="17790" y="159085"/>
                  </a:lnTo>
                  <a:lnTo>
                    <a:pt x="21058" y="151777"/>
                  </a:lnTo>
                  <a:lnTo>
                    <a:pt x="24930" y="144364"/>
                  </a:lnTo>
                  <a:lnTo>
                    <a:pt x="29205" y="136883"/>
                  </a:lnTo>
                  <a:lnTo>
                    <a:pt x="38470" y="119539"/>
                  </a:lnTo>
                  <a:lnTo>
                    <a:pt x="43311" y="110173"/>
                  </a:lnTo>
                  <a:lnTo>
                    <a:pt x="48232" y="101389"/>
                  </a:lnTo>
                  <a:lnTo>
                    <a:pt x="53206" y="92993"/>
                  </a:lnTo>
                  <a:lnTo>
                    <a:pt x="58215" y="84855"/>
                  </a:lnTo>
                  <a:lnTo>
                    <a:pt x="62402" y="76890"/>
                  </a:lnTo>
                  <a:lnTo>
                    <a:pt x="66039" y="69040"/>
                  </a:lnTo>
                  <a:lnTo>
                    <a:pt x="69311" y="61267"/>
                  </a:lnTo>
                  <a:lnTo>
                    <a:pt x="72339" y="55238"/>
                  </a:lnTo>
                  <a:lnTo>
                    <a:pt x="75204" y="50372"/>
                  </a:lnTo>
                  <a:lnTo>
                    <a:pt x="77960" y="46282"/>
                  </a:lnTo>
                  <a:lnTo>
                    <a:pt x="81492" y="41861"/>
                  </a:lnTo>
                  <a:lnTo>
                    <a:pt x="85539" y="37221"/>
                  </a:lnTo>
                  <a:lnTo>
                    <a:pt x="89931" y="32434"/>
                  </a:lnTo>
                  <a:lnTo>
                    <a:pt x="94552" y="28396"/>
                  </a:lnTo>
                  <a:lnTo>
                    <a:pt x="99327" y="24857"/>
                  </a:lnTo>
                  <a:lnTo>
                    <a:pt x="104202" y="21652"/>
                  </a:lnTo>
                  <a:lnTo>
                    <a:pt x="109146" y="19515"/>
                  </a:lnTo>
                  <a:lnTo>
                    <a:pt x="114135" y="18089"/>
                  </a:lnTo>
                  <a:lnTo>
                    <a:pt x="119155" y="17139"/>
                  </a:lnTo>
                  <a:lnTo>
                    <a:pt x="126990" y="13827"/>
                  </a:lnTo>
                  <a:lnTo>
                    <a:pt x="130265" y="11758"/>
                  </a:lnTo>
                  <a:lnTo>
                    <a:pt x="134141" y="11226"/>
                  </a:lnTo>
                  <a:lnTo>
                    <a:pt x="138419" y="11717"/>
                  </a:lnTo>
                  <a:lnTo>
                    <a:pt x="142964" y="12891"/>
                  </a:lnTo>
                  <a:lnTo>
                    <a:pt x="147688" y="13674"/>
                  </a:lnTo>
                  <a:lnTo>
                    <a:pt x="152529" y="14196"/>
                  </a:lnTo>
                  <a:lnTo>
                    <a:pt x="157451" y="14544"/>
                  </a:lnTo>
                  <a:lnTo>
                    <a:pt x="162425" y="16470"/>
                  </a:lnTo>
                  <a:lnTo>
                    <a:pt x="167434" y="19446"/>
                  </a:lnTo>
                  <a:lnTo>
                    <a:pt x="172467" y="23124"/>
                  </a:lnTo>
                  <a:lnTo>
                    <a:pt x="177517" y="27269"/>
                  </a:lnTo>
                  <a:lnTo>
                    <a:pt x="182575" y="31727"/>
                  </a:lnTo>
                  <a:lnTo>
                    <a:pt x="192713" y="41194"/>
                  </a:lnTo>
                  <a:lnTo>
                    <a:pt x="202862" y="51046"/>
                  </a:lnTo>
                  <a:lnTo>
                    <a:pt x="207940" y="56891"/>
                  </a:lnTo>
                  <a:lnTo>
                    <a:pt x="213017" y="63327"/>
                  </a:lnTo>
                  <a:lnTo>
                    <a:pt x="218096" y="70158"/>
                  </a:lnTo>
                  <a:lnTo>
                    <a:pt x="222329" y="77252"/>
                  </a:lnTo>
                  <a:lnTo>
                    <a:pt x="225998" y="84521"/>
                  </a:lnTo>
                  <a:lnTo>
                    <a:pt x="229290" y="91908"/>
                  </a:lnTo>
                  <a:lnTo>
                    <a:pt x="232331" y="100218"/>
                  </a:lnTo>
                  <a:lnTo>
                    <a:pt x="235205" y="109146"/>
                  </a:lnTo>
                  <a:lnTo>
                    <a:pt x="237968" y="118484"/>
                  </a:lnTo>
                  <a:lnTo>
                    <a:pt x="239810" y="127249"/>
                  </a:lnTo>
                  <a:lnTo>
                    <a:pt x="241039" y="135633"/>
                  </a:lnTo>
                  <a:lnTo>
                    <a:pt x="241857" y="143762"/>
                  </a:lnTo>
                  <a:lnTo>
                    <a:pt x="242403" y="151722"/>
                  </a:lnTo>
                  <a:lnTo>
                    <a:pt x="242767" y="159568"/>
                  </a:lnTo>
                  <a:lnTo>
                    <a:pt x="243009" y="167338"/>
                  </a:lnTo>
                  <a:lnTo>
                    <a:pt x="244017" y="175059"/>
                  </a:lnTo>
                  <a:lnTo>
                    <a:pt x="245536" y="182746"/>
                  </a:lnTo>
                  <a:lnTo>
                    <a:pt x="247396" y="190411"/>
                  </a:lnTo>
                  <a:lnTo>
                    <a:pt x="249481" y="197214"/>
                  </a:lnTo>
                  <a:lnTo>
                    <a:pt x="251719" y="203443"/>
                  </a:lnTo>
                  <a:lnTo>
                    <a:pt x="254058" y="209289"/>
                  </a:lnTo>
                  <a:lnTo>
                    <a:pt x="255617" y="214879"/>
                  </a:lnTo>
                  <a:lnTo>
                    <a:pt x="256656" y="220299"/>
                  </a:lnTo>
                  <a:lnTo>
                    <a:pt x="257348" y="225606"/>
                  </a:lnTo>
                  <a:lnTo>
                    <a:pt x="257810" y="230838"/>
                  </a:lnTo>
                  <a:lnTo>
                    <a:pt x="258118" y="236018"/>
                  </a:lnTo>
                  <a:lnTo>
                    <a:pt x="258323" y="241166"/>
                  </a:lnTo>
                  <a:lnTo>
                    <a:pt x="259307" y="245444"/>
                  </a:lnTo>
                  <a:lnTo>
                    <a:pt x="263890" y="255510"/>
                  </a:lnTo>
                  <a:lnTo>
                    <a:pt x="265624" y="263008"/>
                  </a:lnTo>
                  <a:lnTo>
                    <a:pt x="266354" y="2667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80008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rder of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0" y="9907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What do you remember about order of operation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MARTInkAnnotation223"/>
          <p:cNvSpPr/>
          <p:nvPr/>
        </p:nvSpPr>
        <p:spPr>
          <a:xfrm>
            <a:off x="419040" y="1646280"/>
            <a:ext cx="44640" cy="419040"/>
          </a:xfrm>
          <a:custGeom>
            <a:avLst/>
            <a:gdLst>
              <a:gd name="textAreaLeft" fmla="*/ 0 w 44640"/>
              <a:gd name="textAreaRight" fmla="*/ 44640 w 4464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44310" h="419101">
                <a:moveTo>
                  <a:pt x="30155" y="0"/>
                </a:moveTo>
                <a:lnTo>
                  <a:pt x="34200" y="0"/>
                </a:lnTo>
                <a:lnTo>
                  <a:pt x="35392" y="847"/>
                </a:lnTo>
                <a:lnTo>
                  <a:pt x="36186" y="2258"/>
                </a:lnTo>
                <a:lnTo>
                  <a:pt x="36716" y="4045"/>
                </a:lnTo>
                <a:lnTo>
                  <a:pt x="37461" y="14651"/>
                </a:lnTo>
                <a:lnTo>
                  <a:pt x="38413" y="18234"/>
                </a:lnTo>
                <a:lnTo>
                  <a:pt x="39893" y="21470"/>
                </a:lnTo>
                <a:lnTo>
                  <a:pt x="41727" y="24473"/>
                </a:lnTo>
                <a:lnTo>
                  <a:pt x="42950" y="29015"/>
                </a:lnTo>
                <a:lnTo>
                  <a:pt x="44309" y="40836"/>
                </a:lnTo>
                <a:lnTo>
                  <a:pt x="43824" y="46697"/>
                </a:lnTo>
                <a:lnTo>
                  <a:pt x="42654" y="52298"/>
                </a:lnTo>
                <a:lnTo>
                  <a:pt x="41028" y="57725"/>
                </a:lnTo>
                <a:lnTo>
                  <a:pt x="39944" y="63884"/>
                </a:lnTo>
                <a:lnTo>
                  <a:pt x="39221" y="70529"/>
                </a:lnTo>
                <a:lnTo>
                  <a:pt x="38739" y="77499"/>
                </a:lnTo>
                <a:lnTo>
                  <a:pt x="38418" y="85533"/>
                </a:lnTo>
                <a:lnTo>
                  <a:pt x="38061" y="103490"/>
                </a:lnTo>
                <a:lnTo>
                  <a:pt x="37119" y="112173"/>
                </a:lnTo>
                <a:lnTo>
                  <a:pt x="35644" y="120502"/>
                </a:lnTo>
                <a:lnTo>
                  <a:pt x="29524" y="146618"/>
                </a:lnTo>
                <a:lnTo>
                  <a:pt x="27194" y="156165"/>
                </a:lnTo>
                <a:lnTo>
                  <a:pt x="25641" y="165917"/>
                </a:lnTo>
                <a:lnTo>
                  <a:pt x="24606" y="175805"/>
                </a:lnTo>
                <a:lnTo>
                  <a:pt x="23916" y="185783"/>
                </a:lnTo>
                <a:lnTo>
                  <a:pt x="22609" y="195822"/>
                </a:lnTo>
                <a:lnTo>
                  <a:pt x="20891" y="205901"/>
                </a:lnTo>
                <a:lnTo>
                  <a:pt x="12050" y="250457"/>
                </a:lnTo>
                <a:lnTo>
                  <a:pt x="10465" y="260952"/>
                </a:lnTo>
                <a:lnTo>
                  <a:pt x="9408" y="270488"/>
                </a:lnTo>
                <a:lnTo>
                  <a:pt x="8704" y="279385"/>
                </a:lnTo>
                <a:lnTo>
                  <a:pt x="8234" y="288704"/>
                </a:lnTo>
                <a:lnTo>
                  <a:pt x="7712" y="308088"/>
                </a:lnTo>
                <a:lnTo>
                  <a:pt x="6727" y="317999"/>
                </a:lnTo>
                <a:lnTo>
                  <a:pt x="5223" y="327993"/>
                </a:lnTo>
                <a:lnTo>
                  <a:pt x="3373" y="338042"/>
                </a:lnTo>
                <a:lnTo>
                  <a:pt x="2140" y="347281"/>
                </a:lnTo>
                <a:lnTo>
                  <a:pt x="1319" y="355981"/>
                </a:lnTo>
                <a:lnTo>
                  <a:pt x="771" y="364321"/>
                </a:lnTo>
                <a:lnTo>
                  <a:pt x="162" y="378103"/>
                </a:lnTo>
                <a:lnTo>
                  <a:pt x="0" y="384148"/>
                </a:lnTo>
                <a:lnTo>
                  <a:pt x="738" y="389872"/>
                </a:lnTo>
                <a:lnTo>
                  <a:pt x="2077" y="395382"/>
                </a:lnTo>
                <a:lnTo>
                  <a:pt x="3816" y="400748"/>
                </a:lnTo>
                <a:lnTo>
                  <a:pt x="4976" y="405172"/>
                </a:lnTo>
                <a:lnTo>
                  <a:pt x="6264" y="412345"/>
                </a:lnTo>
                <a:lnTo>
                  <a:pt x="7295" y="4191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MARTInkAnnotation224"/>
          <p:cNvSpPr/>
          <p:nvPr/>
        </p:nvSpPr>
        <p:spPr>
          <a:xfrm>
            <a:off x="533520" y="1951200"/>
            <a:ext cx="7920" cy="83880"/>
          </a:xfrm>
          <a:custGeom>
            <a:avLst/>
            <a:gdLst>
              <a:gd name="textAreaLeft" fmla="*/ 0 w 7920"/>
              <a:gd name="textAreaRight" fmla="*/ 8280 w 792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7621" h="83821">
                <a:moveTo>
                  <a:pt x="7620" y="0"/>
                </a:moveTo>
                <a:lnTo>
                  <a:pt x="7620" y="29485"/>
                </a:lnTo>
                <a:lnTo>
                  <a:pt x="6773" y="34050"/>
                </a:lnTo>
                <a:lnTo>
                  <a:pt x="5362" y="38786"/>
                </a:lnTo>
                <a:lnTo>
                  <a:pt x="3575" y="43638"/>
                </a:lnTo>
                <a:lnTo>
                  <a:pt x="2383" y="48565"/>
                </a:lnTo>
                <a:lnTo>
                  <a:pt x="1589" y="53544"/>
                </a:lnTo>
                <a:lnTo>
                  <a:pt x="1059" y="58556"/>
                </a:lnTo>
                <a:lnTo>
                  <a:pt x="706" y="62744"/>
                </a:lnTo>
                <a:lnTo>
                  <a:pt x="471" y="66382"/>
                </a:lnTo>
                <a:lnTo>
                  <a:pt x="209" y="72683"/>
                </a:lnTo>
                <a:lnTo>
                  <a:pt x="0" y="838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MARTInkAnnotation225"/>
          <p:cNvSpPr/>
          <p:nvPr/>
        </p:nvSpPr>
        <p:spPr>
          <a:xfrm>
            <a:off x="525600" y="1641600"/>
            <a:ext cx="268200" cy="583920"/>
          </a:xfrm>
          <a:custGeom>
            <a:avLst/>
            <a:gdLst>
              <a:gd name="textAreaLeft" fmla="*/ 0 w 268200"/>
              <a:gd name="textAreaRight" fmla="*/ 268560 w 268200"/>
              <a:gd name="textAreaTop" fmla="*/ 0 h 583920"/>
              <a:gd name="textAreaBottom" fmla="*/ 584280 h 583920"/>
            </a:gdLst>
            <a:ahLst/>
            <a:rect l="textAreaLeft" t="textAreaTop" r="textAreaRight" b="textAreaBottom"/>
            <a:pathLst>
              <a:path w="267720" h="583511">
                <a:moveTo>
                  <a:pt x="0" y="4390"/>
                </a:moveTo>
                <a:lnTo>
                  <a:pt x="4046" y="345"/>
                </a:lnTo>
                <a:lnTo>
                  <a:pt x="6084" y="0"/>
                </a:lnTo>
                <a:lnTo>
                  <a:pt x="8289" y="617"/>
                </a:lnTo>
                <a:lnTo>
                  <a:pt x="10606" y="1874"/>
                </a:lnTo>
                <a:lnTo>
                  <a:pt x="17696" y="3272"/>
                </a:lnTo>
                <a:lnTo>
                  <a:pt x="21957" y="3645"/>
                </a:lnTo>
                <a:lnTo>
                  <a:pt x="26492" y="3893"/>
                </a:lnTo>
                <a:lnTo>
                  <a:pt x="36045" y="4169"/>
                </a:lnTo>
                <a:lnTo>
                  <a:pt x="42657" y="5936"/>
                </a:lnTo>
                <a:lnTo>
                  <a:pt x="50451" y="8807"/>
                </a:lnTo>
                <a:lnTo>
                  <a:pt x="59034" y="12415"/>
                </a:lnTo>
                <a:lnTo>
                  <a:pt x="67296" y="16513"/>
                </a:lnTo>
                <a:lnTo>
                  <a:pt x="75344" y="20939"/>
                </a:lnTo>
                <a:lnTo>
                  <a:pt x="83249" y="25583"/>
                </a:lnTo>
                <a:lnTo>
                  <a:pt x="91906" y="31218"/>
                </a:lnTo>
                <a:lnTo>
                  <a:pt x="101064" y="37516"/>
                </a:lnTo>
                <a:lnTo>
                  <a:pt x="110556" y="44254"/>
                </a:lnTo>
                <a:lnTo>
                  <a:pt x="120271" y="52979"/>
                </a:lnTo>
                <a:lnTo>
                  <a:pt x="130134" y="63030"/>
                </a:lnTo>
                <a:lnTo>
                  <a:pt x="140096" y="73963"/>
                </a:lnTo>
                <a:lnTo>
                  <a:pt x="160196" y="95142"/>
                </a:lnTo>
                <a:lnTo>
                  <a:pt x="170297" y="105532"/>
                </a:lnTo>
                <a:lnTo>
                  <a:pt x="181265" y="117538"/>
                </a:lnTo>
                <a:lnTo>
                  <a:pt x="204740" y="144425"/>
                </a:lnTo>
                <a:lnTo>
                  <a:pt x="215233" y="158706"/>
                </a:lnTo>
                <a:lnTo>
                  <a:pt x="224769" y="173308"/>
                </a:lnTo>
                <a:lnTo>
                  <a:pt x="233666" y="188122"/>
                </a:lnTo>
                <a:lnTo>
                  <a:pt x="240444" y="203925"/>
                </a:lnTo>
                <a:lnTo>
                  <a:pt x="245809" y="220386"/>
                </a:lnTo>
                <a:lnTo>
                  <a:pt x="250233" y="237288"/>
                </a:lnTo>
                <a:lnTo>
                  <a:pt x="254875" y="253635"/>
                </a:lnTo>
                <a:lnTo>
                  <a:pt x="264549" y="285345"/>
                </a:lnTo>
                <a:lnTo>
                  <a:pt x="266959" y="300914"/>
                </a:lnTo>
                <a:lnTo>
                  <a:pt x="267719" y="316372"/>
                </a:lnTo>
                <a:lnTo>
                  <a:pt x="267380" y="331758"/>
                </a:lnTo>
                <a:lnTo>
                  <a:pt x="266306" y="347096"/>
                </a:lnTo>
                <a:lnTo>
                  <a:pt x="264744" y="362401"/>
                </a:lnTo>
                <a:lnTo>
                  <a:pt x="262856" y="377684"/>
                </a:lnTo>
                <a:lnTo>
                  <a:pt x="259057" y="392106"/>
                </a:lnTo>
                <a:lnTo>
                  <a:pt x="253985" y="405954"/>
                </a:lnTo>
                <a:lnTo>
                  <a:pt x="248063" y="419419"/>
                </a:lnTo>
                <a:lnTo>
                  <a:pt x="240729" y="431783"/>
                </a:lnTo>
                <a:lnTo>
                  <a:pt x="232452" y="443412"/>
                </a:lnTo>
                <a:lnTo>
                  <a:pt x="215072" y="465364"/>
                </a:lnTo>
                <a:lnTo>
                  <a:pt x="198881" y="486410"/>
                </a:lnTo>
                <a:lnTo>
                  <a:pt x="189314" y="495916"/>
                </a:lnTo>
                <a:lnTo>
                  <a:pt x="178703" y="504794"/>
                </a:lnTo>
                <a:lnTo>
                  <a:pt x="167395" y="513253"/>
                </a:lnTo>
                <a:lnTo>
                  <a:pt x="155623" y="521432"/>
                </a:lnTo>
                <a:lnTo>
                  <a:pt x="143542" y="529425"/>
                </a:lnTo>
                <a:lnTo>
                  <a:pt x="131255" y="537293"/>
                </a:lnTo>
                <a:lnTo>
                  <a:pt x="118830" y="544232"/>
                </a:lnTo>
                <a:lnTo>
                  <a:pt x="106313" y="550551"/>
                </a:lnTo>
                <a:lnTo>
                  <a:pt x="93736" y="556458"/>
                </a:lnTo>
                <a:lnTo>
                  <a:pt x="81964" y="561242"/>
                </a:lnTo>
                <a:lnTo>
                  <a:pt x="70729" y="565278"/>
                </a:lnTo>
                <a:lnTo>
                  <a:pt x="59853" y="568815"/>
                </a:lnTo>
                <a:lnTo>
                  <a:pt x="49215" y="572020"/>
                </a:lnTo>
                <a:lnTo>
                  <a:pt x="28365" y="577839"/>
                </a:lnTo>
                <a:lnTo>
                  <a:pt x="20603" y="579729"/>
                </a:lnTo>
                <a:lnTo>
                  <a:pt x="14582" y="580990"/>
                </a:lnTo>
                <a:lnTo>
                  <a:pt x="0" y="58351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MARTInkAnnotation226"/>
          <p:cNvSpPr/>
          <p:nvPr/>
        </p:nvSpPr>
        <p:spPr>
          <a:xfrm>
            <a:off x="1373040" y="1706400"/>
            <a:ext cx="395280" cy="495360"/>
          </a:xfrm>
          <a:custGeom>
            <a:avLst/>
            <a:gdLst>
              <a:gd name="textAreaLeft" fmla="*/ 0 w 395280"/>
              <a:gd name="textAreaRight" fmla="*/ 395640 w 39528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394244" h="495301">
                <a:moveTo>
                  <a:pt x="97063" y="0"/>
                </a:moveTo>
                <a:lnTo>
                  <a:pt x="93018" y="12136"/>
                </a:lnTo>
                <a:lnTo>
                  <a:pt x="86516" y="27125"/>
                </a:lnTo>
                <a:lnTo>
                  <a:pt x="78829" y="42536"/>
                </a:lnTo>
                <a:lnTo>
                  <a:pt x="72590" y="52207"/>
                </a:lnTo>
                <a:lnTo>
                  <a:pt x="52182" y="82638"/>
                </a:lnTo>
                <a:lnTo>
                  <a:pt x="45129" y="95732"/>
                </a:lnTo>
                <a:lnTo>
                  <a:pt x="38734" y="109541"/>
                </a:lnTo>
                <a:lnTo>
                  <a:pt x="32777" y="123828"/>
                </a:lnTo>
                <a:lnTo>
                  <a:pt x="27112" y="138432"/>
                </a:lnTo>
                <a:lnTo>
                  <a:pt x="16303" y="168205"/>
                </a:lnTo>
                <a:lnTo>
                  <a:pt x="11896" y="183257"/>
                </a:lnTo>
                <a:lnTo>
                  <a:pt x="8112" y="198371"/>
                </a:lnTo>
                <a:lnTo>
                  <a:pt x="4742" y="213528"/>
                </a:lnTo>
                <a:lnTo>
                  <a:pt x="2496" y="227865"/>
                </a:lnTo>
                <a:lnTo>
                  <a:pt x="998" y="241657"/>
                </a:lnTo>
                <a:lnTo>
                  <a:pt x="0" y="255085"/>
                </a:lnTo>
                <a:lnTo>
                  <a:pt x="181" y="268270"/>
                </a:lnTo>
                <a:lnTo>
                  <a:pt x="1148" y="281293"/>
                </a:lnTo>
                <a:lnTo>
                  <a:pt x="2640" y="294209"/>
                </a:lnTo>
                <a:lnTo>
                  <a:pt x="6174" y="307052"/>
                </a:lnTo>
                <a:lnTo>
                  <a:pt x="11071" y="319848"/>
                </a:lnTo>
                <a:lnTo>
                  <a:pt x="16875" y="332612"/>
                </a:lnTo>
                <a:lnTo>
                  <a:pt x="24978" y="345355"/>
                </a:lnTo>
                <a:lnTo>
                  <a:pt x="34613" y="358083"/>
                </a:lnTo>
                <a:lnTo>
                  <a:pt x="45270" y="370802"/>
                </a:lnTo>
                <a:lnTo>
                  <a:pt x="56607" y="381822"/>
                </a:lnTo>
                <a:lnTo>
                  <a:pt x="68399" y="391708"/>
                </a:lnTo>
                <a:lnTo>
                  <a:pt x="80494" y="400838"/>
                </a:lnTo>
                <a:lnTo>
                  <a:pt x="107479" y="420015"/>
                </a:lnTo>
                <a:lnTo>
                  <a:pt x="121787" y="429870"/>
                </a:lnTo>
                <a:lnTo>
                  <a:pt x="138946" y="438133"/>
                </a:lnTo>
                <a:lnTo>
                  <a:pt x="158005" y="445336"/>
                </a:lnTo>
                <a:lnTo>
                  <a:pt x="178331" y="451830"/>
                </a:lnTo>
                <a:lnTo>
                  <a:pt x="199502" y="457854"/>
                </a:lnTo>
                <a:lnTo>
                  <a:pt x="243345" y="469062"/>
                </a:lnTo>
                <a:lnTo>
                  <a:pt x="310868" y="484892"/>
                </a:lnTo>
                <a:lnTo>
                  <a:pt x="330193" y="488361"/>
                </a:lnTo>
                <a:lnTo>
                  <a:pt x="347310" y="490674"/>
                </a:lnTo>
                <a:lnTo>
                  <a:pt x="394243" y="4953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MARTInkAnnotation227"/>
          <p:cNvSpPr/>
          <p:nvPr/>
        </p:nvSpPr>
        <p:spPr>
          <a:xfrm>
            <a:off x="2979720" y="1730520"/>
            <a:ext cx="285840" cy="403200"/>
          </a:xfrm>
          <a:custGeom>
            <a:avLst/>
            <a:gdLst>
              <a:gd name="textAreaLeft" fmla="*/ 0 w 285840"/>
              <a:gd name="textAreaRight" fmla="*/ 286200 w 28584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286125" h="403861">
                <a:moveTo>
                  <a:pt x="167640" y="0"/>
                </a:moveTo>
                <a:lnTo>
                  <a:pt x="175731" y="4045"/>
                </a:lnTo>
                <a:lnTo>
                  <a:pt x="184218" y="15062"/>
                </a:lnTo>
                <a:lnTo>
                  <a:pt x="188852" y="22742"/>
                </a:lnTo>
                <a:lnTo>
                  <a:pt x="196258" y="33532"/>
                </a:lnTo>
                <a:lnTo>
                  <a:pt x="204066" y="44536"/>
                </a:lnTo>
                <a:lnTo>
                  <a:pt x="216003" y="63539"/>
                </a:lnTo>
                <a:lnTo>
                  <a:pt x="237003" y="98037"/>
                </a:lnTo>
                <a:lnTo>
                  <a:pt x="244362" y="111078"/>
                </a:lnTo>
                <a:lnTo>
                  <a:pt x="259312" y="139115"/>
                </a:lnTo>
                <a:lnTo>
                  <a:pt x="266008" y="153703"/>
                </a:lnTo>
                <a:lnTo>
                  <a:pt x="272165" y="168509"/>
                </a:lnTo>
                <a:lnTo>
                  <a:pt x="277964" y="183459"/>
                </a:lnTo>
                <a:lnTo>
                  <a:pt x="281829" y="197659"/>
                </a:lnTo>
                <a:lnTo>
                  <a:pt x="284406" y="211360"/>
                </a:lnTo>
                <a:lnTo>
                  <a:pt x="286124" y="224727"/>
                </a:lnTo>
                <a:lnTo>
                  <a:pt x="285576" y="237871"/>
                </a:lnTo>
                <a:lnTo>
                  <a:pt x="283517" y="250867"/>
                </a:lnTo>
                <a:lnTo>
                  <a:pt x="280451" y="263765"/>
                </a:lnTo>
                <a:lnTo>
                  <a:pt x="275868" y="275750"/>
                </a:lnTo>
                <a:lnTo>
                  <a:pt x="270272" y="287127"/>
                </a:lnTo>
                <a:lnTo>
                  <a:pt x="264001" y="298098"/>
                </a:lnTo>
                <a:lnTo>
                  <a:pt x="257281" y="307952"/>
                </a:lnTo>
                <a:lnTo>
                  <a:pt x="250261" y="317061"/>
                </a:lnTo>
                <a:lnTo>
                  <a:pt x="243040" y="325674"/>
                </a:lnTo>
                <a:lnTo>
                  <a:pt x="233994" y="333956"/>
                </a:lnTo>
                <a:lnTo>
                  <a:pt x="223729" y="342017"/>
                </a:lnTo>
                <a:lnTo>
                  <a:pt x="212653" y="349932"/>
                </a:lnTo>
                <a:lnTo>
                  <a:pt x="201035" y="356901"/>
                </a:lnTo>
                <a:lnTo>
                  <a:pt x="189057" y="363241"/>
                </a:lnTo>
                <a:lnTo>
                  <a:pt x="176838" y="369161"/>
                </a:lnTo>
                <a:lnTo>
                  <a:pt x="163612" y="374800"/>
                </a:lnTo>
                <a:lnTo>
                  <a:pt x="149715" y="380253"/>
                </a:lnTo>
                <a:lnTo>
                  <a:pt x="135370" y="385582"/>
                </a:lnTo>
                <a:lnTo>
                  <a:pt x="119880" y="389135"/>
                </a:lnTo>
                <a:lnTo>
                  <a:pt x="103627" y="391503"/>
                </a:lnTo>
                <a:lnTo>
                  <a:pt x="86865" y="393082"/>
                </a:lnTo>
                <a:lnTo>
                  <a:pt x="73150" y="394135"/>
                </a:lnTo>
                <a:lnTo>
                  <a:pt x="61467" y="394836"/>
                </a:lnTo>
                <a:lnTo>
                  <a:pt x="51138" y="395304"/>
                </a:lnTo>
                <a:lnTo>
                  <a:pt x="40865" y="396463"/>
                </a:lnTo>
                <a:lnTo>
                  <a:pt x="30631" y="398082"/>
                </a:lnTo>
                <a:lnTo>
                  <a:pt x="0" y="4038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MARTInkAnnotation228"/>
          <p:cNvSpPr/>
          <p:nvPr/>
        </p:nvSpPr>
        <p:spPr>
          <a:xfrm>
            <a:off x="152280" y="2660760"/>
            <a:ext cx="274680" cy="318960"/>
          </a:xfrm>
          <a:custGeom>
            <a:avLst/>
            <a:gdLst>
              <a:gd name="textAreaLeft" fmla="*/ 0 w 274680"/>
              <a:gd name="textAreaRight" fmla="*/ 275040 w 2746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4321" h="318822">
                <a:moveTo>
                  <a:pt x="0" y="59741"/>
                </a:moveTo>
                <a:lnTo>
                  <a:pt x="17912" y="41829"/>
                </a:lnTo>
                <a:lnTo>
                  <a:pt x="22101" y="39333"/>
                </a:lnTo>
                <a:lnTo>
                  <a:pt x="27434" y="36822"/>
                </a:lnTo>
                <a:lnTo>
                  <a:pt x="33530" y="34302"/>
                </a:lnTo>
                <a:lnTo>
                  <a:pt x="40133" y="30929"/>
                </a:lnTo>
                <a:lnTo>
                  <a:pt x="47075" y="26986"/>
                </a:lnTo>
                <a:lnTo>
                  <a:pt x="54244" y="22664"/>
                </a:lnTo>
                <a:lnTo>
                  <a:pt x="62409" y="18936"/>
                </a:lnTo>
                <a:lnTo>
                  <a:pt x="71239" y="15605"/>
                </a:lnTo>
                <a:lnTo>
                  <a:pt x="80513" y="12537"/>
                </a:lnTo>
                <a:lnTo>
                  <a:pt x="90929" y="10491"/>
                </a:lnTo>
                <a:lnTo>
                  <a:pt x="102106" y="9128"/>
                </a:lnTo>
                <a:lnTo>
                  <a:pt x="113791" y="8219"/>
                </a:lnTo>
                <a:lnTo>
                  <a:pt x="124967" y="6766"/>
                </a:lnTo>
                <a:lnTo>
                  <a:pt x="135805" y="4951"/>
                </a:lnTo>
                <a:lnTo>
                  <a:pt x="146416" y="2895"/>
                </a:lnTo>
                <a:lnTo>
                  <a:pt x="156878" y="1523"/>
                </a:lnTo>
                <a:lnTo>
                  <a:pt x="167238" y="609"/>
                </a:lnTo>
                <a:lnTo>
                  <a:pt x="177532" y="0"/>
                </a:lnTo>
                <a:lnTo>
                  <a:pt x="186935" y="440"/>
                </a:lnTo>
                <a:lnTo>
                  <a:pt x="195743" y="1580"/>
                </a:lnTo>
                <a:lnTo>
                  <a:pt x="204155" y="3187"/>
                </a:lnTo>
                <a:lnTo>
                  <a:pt x="212304" y="4259"/>
                </a:lnTo>
                <a:lnTo>
                  <a:pt x="220276" y="4973"/>
                </a:lnTo>
                <a:lnTo>
                  <a:pt x="228131" y="5449"/>
                </a:lnTo>
                <a:lnTo>
                  <a:pt x="235907" y="6613"/>
                </a:lnTo>
                <a:lnTo>
                  <a:pt x="243631" y="8236"/>
                </a:lnTo>
                <a:lnTo>
                  <a:pt x="251321" y="10164"/>
                </a:lnTo>
                <a:lnTo>
                  <a:pt x="257294" y="13143"/>
                </a:lnTo>
                <a:lnTo>
                  <a:pt x="262123" y="16822"/>
                </a:lnTo>
                <a:lnTo>
                  <a:pt x="266189" y="20969"/>
                </a:lnTo>
                <a:lnTo>
                  <a:pt x="268899" y="25426"/>
                </a:lnTo>
                <a:lnTo>
                  <a:pt x="271911" y="34894"/>
                </a:lnTo>
                <a:lnTo>
                  <a:pt x="271867" y="39790"/>
                </a:lnTo>
                <a:lnTo>
                  <a:pt x="269561" y="49745"/>
                </a:lnTo>
                <a:lnTo>
                  <a:pt x="265714" y="62072"/>
                </a:lnTo>
                <a:lnTo>
                  <a:pt x="263503" y="68915"/>
                </a:lnTo>
                <a:lnTo>
                  <a:pt x="259488" y="76017"/>
                </a:lnTo>
                <a:lnTo>
                  <a:pt x="254272" y="83292"/>
                </a:lnTo>
                <a:lnTo>
                  <a:pt x="248255" y="90682"/>
                </a:lnTo>
                <a:lnTo>
                  <a:pt x="241703" y="98148"/>
                </a:lnTo>
                <a:lnTo>
                  <a:pt x="234796" y="105666"/>
                </a:lnTo>
                <a:lnTo>
                  <a:pt x="227650" y="113218"/>
                </a:lnTo>
                <a:lnTo>
                  <a:pt x="220347" y="121639"/>
                </a:lnTo>
                <a:lnTo>
                  <a:pt x="212938" y="130640"/>
                </a:lnTo>
                <a:lnTo>
                  <a:pt x="205459" y="140027"/>
                </a:lnTo>
                <a:lnTo>
                  <a:pt x="197086" y="149671"/>
                </a:lnTo>
                <a:lnTo>
                  <a:pt x="188117" y="159488"/>
                </a:lnTo>
                <a:lnTo>
                  <a:pt x="169968" y="178580"/>
                </a:lnTo>
                <a:lnTo>
                  <a:pt x="153435" y="195532"/>
                </a:lnTo>
                <a:lnTo>
                  <a:pt x="146316" y="204455"/>
                </a:lnTo>
                <a:lnTo>
                  <a:pt x="139878" y="213790"/>
                </a:lnTo>
                <a:lnTo>
                  <a:pt x="133892" y="223401"/>
                </a:lnTo>
                <a:lnTo>
                  <a:pt x="128208" y="231501"/>
                </a:lnTo>
                <a:lnTo>
                  <a:pt x="122725" y="238595"/>
                </a:lnTo>
                <a:lnTo>
                  <a:pt x="117377" y="245017"/>
                </a:lnTo>
                <a:lnTo>
                  <a:pt x="112965" y="251838"/>
                </a:lnTo>
                <a:lnTo>
                  <a:pt x="109176" y="258926"/>
                </a:lnTo>
                <a:lnTo>
                  <a:pt x="105804" y="266191"/>
                </a:lnTo>
                <a:lnTo>
                  <a:pt x="104403" y="272728"/>
                </a:lnTo>
                <a:lnTo>
                  <a:pt x="104315" y="278779"/>
                </a:lnTo>
                <a:lnTo>
                  <a:pt x="105104" y="284506"/>
                </a:lnTo>
                <a:lnTo>
                  <a:pt x="107322" y="289172"/>
                </a:lnTo>
                <a:lnTo>
                  <a:pt x="110495" y="293128"/>
                </a:lnTo>
                <a:lnTo>
                  <a:pt x="118535" y="299782"/>
                </a:lnTo>
                <a:lnTo>
                  <a:pt x="123050" y="302742"/>
                </a:lnTo>
                <a:lnTo>
                  <a:pt x="127754" y="305562"/>
                </a:lnTo>
                <a:lnTo>
                  <a:pt x="134276" y="308288"/>
                </a:lnTo>
                <a:lnTo>
                  <a:pt x="142010" y="310953"/>
                </a:lnTo>
                <a:lnTo>
                  <a:pt x="150554" y="313575"/>
                </a:lnTo>
                <a:lnTo>
                  <a:pt x="158789" y="315324"/>
                </a:lnTo>
                <a:lnTo>
                  <a:pt x="166819" y="316490"/>
                </a:lnTo>
                <a:lnTo>
                  <a:pt x="174713" y="317267"/>
                </a:lnTo>
                <a:lnTo>
                  <a:pt x="184209" y="317785"/>
                </a:lnTo>
                <a:lnTo>
                  <a:pt x="206048" y="318361"/>
                </a:lnTo>
                <a:lnTo>
                  <a:pt x="274320" y="31882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MARTInkAnnotation229"/>
          <p:cNvSpPr/>
          <p:nvPr/>
        </p:nvSpPr>
        <p:spPr>
          <a:xfrm>
            <a:off x="487440" y="2917800"/>
            <a:ext cx="38160" cy="7920"/>
          </a:xfrm>
          <a:custGeom>
            <a:avLst/>
            <a:gdLst>
              <a:gd name="textAreaLeft" fmla="*/ 0 w 38160"/>
              <a:gd name="textAreaRight" fmla="*/ 38520 w 381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38101" h="7621">
                <a:moveTo>
                  <a:pt x="0" y="0"/>
                </a:moveTo>
                <a:lnTo>
                  <a:pt x="0" y="4046"/>
                </a:lnTo>
                <a:lnTo>
                  <a:pt x="847" y="5237"/>
                </a:lnTo>
                <a:lnTo>
                  <a:pt x="2258" y="6031"/>
                </a:lnTo>
                <a:lnTo>
                  <a:pt x="4045" y="6561"/>
                </a:lnTo>
                <a:lnTo>
                  <a:pt x="6930" y="6914"/>
                </a:lnTo>
                <a:lnTo>
                  <a:pt x="10547" y="7149"/>
                </a:lnTo>
                <a:lnTo>
                  <a:pt x="18234" y="7411"/>
                </a:lnTo>
                <a:lnTo>
                  <a:pt x="30068" y="7578"/>
                </a:lnTo>
                <a:lnTo>
                  <a:pt x="-27436" y="76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MARTInkAnnotation230"/>
          <p:cNvSpPr/>
          <p:nvPr/>
        </p:nvSpPr>
        <p:spPr>
          <a:xfrm>
            <a:off x="419040" y="2629080"/>
            <a:ext cx="271440" cy="647640"/>
          </a:xfrm>
          <a:custGeom>
            <a:avLst/>
            <a:gdLst>
              <a:gd name="textAreaLeft" fmla="*/ 0 w 271440"/>
              <a:gd name="textAreaRight" fmla="*/ 271800 w 27144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72094" h="647701">
                <a:moveTo>
                  <a:pt x="0" y="0"/>
                </a:moveTo>
                <a:lnTo>
                  <a:pt x="4045" y="4045"/>
                </a:lnTo>
                <a:lnTo>
                  <a:pt x="6084" y="5237"/>
                </a:lnTo>
                <a:lnTo>
                  <a:pt x="12997" y="7760"/>
                </a:lnTo>
                <a:lnTo>
                  <a:pt x="17912" y="11352"/>
                </a:lnTo>
                <a:lnTo>
                  <a:pt x="22102" y="14341"/>
                </a:lnTo>
                <a:lnTo>
                  <a:pt x="33530" y="22178"/>
                </a:lnTo>
                <a:lnTo>
                  <a:pt x="49333" y="33563"/>
                </a:lnTo>
                <a:lnTo>
                  <a:pt x="58289" y="40156"/>
                </a:lnTo>
                <a:lnTo>
                  <a:pt x="79528" y="56512"/>
                </a:lnTo>
                <a:lnTo>
                  <a:pt x="127658" y="94607"/>
                </a:lnTo>
                <a:lnTo>
                  <a:pt x="140138" y="106251"/>
                </a:lnTo>
                <a:lnTo>
                  <a:pt x="152692" y="119094"/>
                </a:lnTo>
                <a:lnTo>
                  <a:pt x="165295" y="132736"/>
                </a:lnTo>
                <a:lnTo>
                  <a:pt x="177083" y="146911"/>
                </a:lnTo>
                <a:lnTo>
                  <a:pt x="188329" y="161440"/>
                </a:lnTo>
                <a:lnTo>
                  <a:pt x="199212" y="176207"/>
                </a:lnTo>
                <a:lnTo>
                  <a:pt x="220337" y="206161"/>
                </a:lnTo>
                <a:lnTo>
                  <a:pt x="230711" y="221261"/>
                </a:lnTo>
                <a:lnTo>
                  <a:pt x="239321" y="237254"/>
                </a:lnTo>
                <a:lnTo>
                  <a:pt x="246754" y="253842"/>
                </a:lnTo>
                <a:lnTo>
                  <a:pt x="253403" y="270828"/>
                </a:lnTo>
                <a:lnTo>
                  <a:pt x="258682" y="287232"/>
                </a:lnTo>
                <a:lnTo>
                  <a:pt x="263048" y="303248"/>
                </a:lnTo>
                <a:lnTo>
                  <a:pt x="266805" y="319006"/>
                </a:lnTo>
                <a:lnTo>
                  <a:pt x="269310" y="335437"/>
                </a:lnTo>
                <a:lnTo>
                  <a:pt x="270980" y="352318"/>
                </a:lnTo>
                <a:lnTo>
                  <a:pt x="272093" y="369499"/>
                </a:lnTo>
                <a:lnTo>
                  <a:pt x="271989" y="386033"/>
                </a:lnTo>
                <a:lnTo>
                  <a:pt x="271073" y="402135"/>
                </a:lnTo>
                <a:lnTo>
                  <a:pt x="269615" y="417950"/>
                </a:lnTo>
                <a:lnTo>
                  <a:pt x="266950" y="434420"/>
                </a:lnTo>
                <a:lnTo>
                  <a:pt x="263480" y="451327"/>
                </a:lnTo>
                <a:lnTo>
                  <a:pt x="259473" y="468525"/>
                </a:lnTo>
                <a:lnTo>
                  <a:pt x="255109" y="484223"/>
                </a:lnTo>
                <a:lnTo>
                  <a:pt x="250506" y="498922"/>
                </a:lnTo>
                <a:lnTo>
                  <a:pt x="245744" y="512955"/>
                </a:lnTo>
                <a:lnTo>
                  <a:pt x="240029" y="526543"/>
                </a:lnTo>
                <a:lnTo>
                  <a:pt x="233680" y="539836"/>
                </a:lnTo>
                <a:lnTo>
                  <a:pt x="226906" y="552930"/>
                </a:lnTo>
                <a:lnTo>
                  <a:pt x="212607" y="578769"/>
                </a:lnTo>
                <a:lnTo>
                  <a:pt x="205238" y="591586"/>
                </a:lnTo>
                <a:lnTo>
                  <a:pt x="198632" y="601824"/>
                </a:lnTo>
                <a:lnTo>
                  <a:pt x="192535" y="610343"/>
                </a:lnTo>
                <a:lnTo>
                  <a:pt x="186776" y="617715"/>
                </a:lnTo>
                <a:lnTo>
                  <a:pt x="181244" y="624324"/>
                </a:lnTo>
                <a:lnTo>
                  <a:pt x="175863" y="630422"/>
                </a:lnTo>
                <a:lnTo>
                  <a:pt x="160020" y="6477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MARTInkAnnotation231"/>
          <p:cNvSpPr/>
          <p:nvPr/>
        </p:nvSpPr>
        <p:spPr>
          <a:xfrm>
            <a:off x="2270160" y="2506680"/>
            <a:ext cx="260280" cy="236520"/>
          </a:xfrm>
          <a:custGeom>
            <a:avLst/>
            <a:gdLst>
              <a:gd name="textAreaLeft" fmla="*/ 0 w 260280"/>
              <a:gd name="textAreaRight" fmla="*/ 260640 w 2602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59081" h="236097">
                <a:moveTo>
                  <a:pt x="0" y="30356"/>
                </a:moveTo>
                <a:lnTo>
                  <a:pt x="10606" y="19750"/>
                </a:lnTo>
                <a:lnTo>
                  <a:pt x="12997" y="18206"/>
                </a:lnTo>
                <a:lnTo>
                  <a:pt x="17912" y="16489"/>
                </a:lnTo>
                <a:lnTo>
                  <a:pt x="25177" y="13469"/>
                </a:lnTo>
                <a:lnTo>
                  <a:pt x="29485" y="11478"/>
                </a:lnTo>
                <a:lnTo>
                  <a:pt x="34896" y="9304"/>
                </a:lnTo>
                <a:lnTo>
                  <a:pt x="47683" y="4631"/>
                </a:lnTo>
                <a:lnTo>
                  <a:pt x="56342" y="3046"/>
                </a:lnTo>
                <a:lnTo>
                  <a:pt x="66348" y="1989"/>
                </a:lnTo>
                <a:lnTo>
                  <a:pt x="77252" y="1285"/>
                </a:lnTo>
                <a:lnTo>
                  <a:pt x="96141" y="502"/>
                </a:lnTo>
                <a:lnTo>
                  <a:pt x="114696" y="155"/>
                </a:lnTo>
                <a:lnTo>
                  <a:pt x="137054" y="0"/>
                </a:lnTo>
                <a:lnTo>
                  <a:pt x="147249" y="805"/>
                </a:lnTo>
                <a:lnTo>
                  <a:pt x="156587" y="2189"/>
                </a:lnTo>
                <a:lnTo>
                  <a:pt x="165351" y="3958"/>
                </a:lnTo>
                <a:lnTo>
                  <a:pt x="174581" y="5137"/>
                </a:lnTo>
                <a:lnTo>
                  <a:pt x="184121" y="5923"/>
                </a:lnTo>
                <a:lnTo>
                  <a:pt x="193867" y="6448"/>
                </a:lnTo>
                <a:lnTo>
                  <a:pt x="202058" y="8491"/>
                </a:lnTo>
                <a:lnTo>
                  <a:pt x="209212" y="11546"/>
                </a:lnTo>
                <a:lnTo>
                  <a:pt x="215675" y="15276"/>
                </a:lnTo>
                <a:lnTo>
                  <a:pt x="220830" y="18609"/>
                </a:lnTo>
                <a:lnTo>
                  <a:pt x="228816" y="24571"/>
                </a:lnTo>
                <a:lnTo>
                  <a:pt x="230438" y="27346"/>
                </a:lnTo>
                <a:lnTo>
                  <a:pt x="230672" y="30043"/>
                </a:lnTo>
                <a:lnTo>
                  <a:pt x="228674" y="36143"/>
                </a:lnTo>
                <a:lnTo>
                  <a:pt x="226956" y="40141"/>
                </a:lnTo>
                <a:lnTo>
                  <a:pt x="224964" y="44500"/>
                </a:lnTo>
                <a:lnTo>
                  <a:pt x="221096" y="49098"/>
                </a:lnTo>
                <a:lnTo>
                  <a:pt x="215978" y="53858"/>
                </a:lnTo>
                <a:lnTo>
                  <a:pt x="210025" y="58724"/>
                </a:lnTo>
                <a:lnTo>
                  <a:pt x="202670" y="63661"/>
                </a:lnTo>
                <a:lnTo>
                  <a:pt x="194380" y="68646"/>
                </a:lnTo>
                <a:lnTo>
                  <a:pt x="185467" y="73663"/>
                </a:lnTo>
                <a:lnTo>
                  <a:pt x="166532" y="83752"/>
                </a:lnTo>
                <a:lnTo>
                  <a:pt x="156741" y="88814"/>
                </a:lnTo>
                <a:lnTo>
                  <a:pt x="147675" y="94728"/>
                </a:lnTo>
                <a:lnTo>
                  <a:pt x="139090" y="101210"/>
                </a:lnTo>
                <a:lnTo>
                  <a:pt x="130826" y="108072"/>
                </a:lnTo>
                <a:lnTo>
                  <a:pt x="121931" y="114340"/>
                </a:lnTo>
                <a:lnTo>
                  <a:pt x="112614" y="120212"/>
                </a:lnTo>
                <a:lnTo>
                  <a:pt x="103016" y="125820"/>
                </a:lnTo>
                <a:lnTo>
                  <a:pt x="85579" y="136567"/>
                </a:lnTo>
                <a:lnTo>
                  <a:pt x="77372" y="141803"/>
                </a:lnTo>
                <a:lnTo>
                  <a:pt x="71902" y="146987"/>
                </a:lnTo>
                <a:lnTo>
                  <a:pt x="68254" y="152137"/>
                </a:lnTo>
                <a:lnTo>
                  <a:pt x="65823" y="157263"/>
                </a:lnTo>
                <a:lnTo>
                  <a:pt x="64202" y="162374"/>
                </a:lnTo>
                <a:lnTo>
                  <a:pt x="63122" y="167475"/>
                </a:lnTo>
                <a:lnTo>
                  <a:pt x="62401" y="172569"/>
                </a:lnTo>
                <a:lnTo>
                  <a:pt x="63614" y="176811"/>
                </a:lnTo>
                <a:lnTo>
                  <a:pt x="66116" y="180486"/>
                </a:lnTo>
                <a:lnTo>
                  <a:pt x="69477" y="183783"/>
                </a:lnTo>
                <a:lnTo>
                  <a:pt x="74258" y="187674"/>
                </a:lnTo>
                <a:lnTo>
                  <a:pt x="79986" y="191961"/>
                </a:lnTo>
                <a:lnTo>
                  <a:pt x="86344" y="196513"/>
                </a:lnTo>
                <a:lnTo>
                  <a:pt x="94816" y="200394"/>
                </a:lnTo>
                <a:lnTo>
                  <a:pt x="104697" y="203828"/>
                </a:lnTo>
                <a:lnTo>
                  <a:pt x="115518" y="206964"/>
                </a:lnTo>
                <a:lnTo>
                  <a:pt x="126966" y="210748"/>
                </a:lnTo>
                <a:lnTo>
                  <a:pt x="150974" y="219468"/>
                </a:lnTo>
                <a:lnTo>
                  <a:pt x="163302" y="222471"/>
                </a:lnTo>
                <a:lnTo>
                  <a:pt x="175755" y="224472"/>
                </a:lnTo>
                <a:lnTo>
                  <a:pt x="188290" y="225807"/>
                </a:lnTo>
                <a:lnTo>
                  <a:pt x="200034" y="227543"/>
                </a:lnTo>
                <a:lnTo>
                  <a:pt x="211249" y="229548"/>
                </a:lnTo>
                <a:lnTo>
                  <a:pt x="222113" y="231731"/>
                </a:lnTo>
                <a:lnTo>
                  <a:pt x="231049" y="233186"/>
                </a:lnTo>
                <a:lnTo>
                  <a:pt x="238699" y="234156"/>
                </a:lnTo>
                <a:lnTo>
                  <a:pt x="259080" y="23609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MARTInkAnnotation232"/>
          <p:cNvSpPr/>
          <p:nvPr/>
        </p:nvSpPr>
        <p:spPr>
          <a:xfrm>
            <a:off x="1817640" y="2895480"/>
            <a:ext cx="266760" cy="220680"/>
          </a:xfrm>
          <a:custGeom>
            <a:avLst/>
            <a:gdLst>
              <a:gd name="textAreaLeft" fmla="*/ 0 w 266760"/>
              <a:gd name="textAreaRight" fmla="*/ 267120 w 2667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66705" h="220981">
                <a:moveTo>
                  <a:pt x="41505" y="0"/>
                </a:moveTo>
                <a:lnTo>
                  <a:pt x="41505" y="47683"/>
                </a:lnTo>
                <a:lnTo>
                  <a:pt x="40658" y="53802"/>
                </a:lnTo>
                <a:lnTo>
                  <a:pt x="39247" y="59574"/>
                </a:lnTo>
                <a:lnTo>
                  <a:pt x="30899" y="85052"/>
                </a:lnTo>
                <a:lnTo>
                  <a:pt x="29355" y="91414"/>
                </a:lnTo>
                <a:lnTo>
                  <a:pt x="28325" y="97349"/>
                </a:lnTo>
                <a:lnTo>
                  <a:pt x="27638" y="103000"/>
                </a:lnTo>
                <a:lnTo>
                  <a:pt x="26334" y="109306"/>
                </a:lnTo>
                <a:lnTo>
                  <a:pt x="24618" y="116051"/>
                </a:lnTo>
                <a:lnTo>
                  <a:pt x="22627" y="123087"/>
                </a:lnTo>
                <a:lnTo>
                  <a:pt x="20453" y="129472"/>
                </a:lnTo>
                <a:lnTo>
                  <a:pt x="18157" y="135421"/>
                </a:lnTo>
                <a:lnTo>
                  <a:pt x="15780" y="141081"/>
                </a:lnTo>
                <a:lnTo>
                  <a:pt x="13348" y="146547"/>
                </a:lnTo>
                <a:lnTo>
                  <a:pt x="8389" y="157136"/>
                </a:lnTo>
                <a:lnTo>
                  <a:pt x="5881" y="161484"/>
                </a:lnTo>
                <a:lnTo>
                  <a:pt x="3362" y="165230"/>
                </a:lnTo>
                <a:lnTo>
                  <a:pt x="837" y="168573"/>
                </a:lnTo>
                <a:lnTo>
                  <a:pt x="0" y="171649"/>
                </a:lnTo>
                <a:lnTo>
                  <a:pt x="288" y="174546"/>
                </a:lnTo>
                <a:lnTo>
                  <a:pt x="3223" y="182392"/>
                </a:lnTo>
                <a:lnTo>
                  <a:pt x="3351" y="178690"/>
                </a:lnTo>
                <a:lnTo>
                  <a:pt x="4216" y="176700"/>
                </a:lnTo>
                <a:lnTo>
                  <a:pt x="8631" y="169854"/>
                </a:lnTo>
                <a:lnTo>
                  <a:pt x="9961" y="164955"/>
                </a:lnTo>
                <a:lnTo>
                  <a:pt x="12009" y="160770"/>
                </a:lnTo>
                <a:lnTo>
                  <a:pt x="15068" y="155440"/>
                </a:lnTo>
                <a:lnTo>
                  <a:pt x="18800" y="149347"/>
                </a:lnTo>
                <a:lnTo>
                  <a:pt x="22135" y="142745"/>
                </a:lnTo>
                <a:lnTo>
                  <a:pt x="25205" y="135803"/>
                </a:lnTo>
                <a:lnTo>
                  <a:pt x="28098" y="128635"/>
                </a:lnTo>
                <a:lnTo>
                  <a:pt x="31720" y="122163"/>
                </a:lnTo>
                <a:lnTo>
                  <a:pt x="35829" y="116156"/>
                </a:lnTo>
                <a:lnTo>
                  <a:pt x="40261" y="110457"/>
                </a:lnTo>
                <a:lnTo>
                  <a:pt x="45755" y="104965"/>
                </a:lnTo>
                <a:lnTo>
                  <a:pt x="51959" y="99610"/>
                </a:lnTo>
                <a:lnTo>
                  <a:pt x="58634" y="94347"/>
                </a:lnTo>
                <a:lnTo>
                  <a:pt x="65624" y="88298"/>
                </a:lnTo>
                <a:lnTo>
                  <a:pt x="72825" y="81725"/>
                </a:lnTo>
                <a:lnTo>
                  <a:pt x="80165" y="74804"/>
                </a:lnTo>
                <a:lnTo>
                  <a:pt x="86752" y="69342"/>
                </a:lnTo>
                <a:lnTo>
                  <a:pt x="92836" y="64855"/>
                </a:lnTo>
                <a:lnTo>
                  <a:pt x="98586" y="61017"/>
                </a:lnTo>
                <a:lnTo>
                  <a:pt x="104959" y="57611"/>
                </a:lnTo>
                <a:lnTo>
                  <a:pt x="111748" y="54494"/>
                </a:lnTo>
                <a:lnTo>
                  <a:pt x="118814" y="51569"/>
                </a:lnTo>
                <a:lnTo>
                  <a:pt x="125217" y="48773"/>
                </a:lnTo>
                <a:lnTo>
                  <a:pt x="136848" y="43408"/>
                </a:lnTo>
                <a:lnTo>
                  <a:pt x="143167" y="40792"/>
                </a:lnTo>
                <a:lnTo>
                  <a:pt x="149920" y="38201"/>
                </a:lnTo>
                <a:lnTo>
                  <a:pt x="156961" y="35628"/>
                </a:lnTo>
                <a:lnTo>
                  <a:pt x="163349" y="33912"/>
                </a:lnTo>
                <a:lnTo>
                  <a:pt x="169301" y="32768"/>
                </a:lnTo>
                <a:lnTo>
                  <a:pt x="174962" y="32005"/>
                </a:lnTo>
                <a:lnTo>
                  <a:pt x="181277" y="31497"/>
                </a:lnTo>
                <a:lnTo>
                  <a:pt x="188026" y="31158"/>
                </a:lnTo>
                <a:lnTo>
                  <a:pt x="201452" y="30781"/>
                </a:lnTo>
                <a:lnTo>
                  <a:pt x="213064" y="30614"/>
                </a:lnTo>
                <a:lnTo>
                  <a:pt x="217684" y="31416"/>
                </a:lnTo>
                <a:lnTo>
                  <a:pt x="225076" y="34565"/>
                </a:lnTo>
                <a:lnTo>
                  <a:pt x="238042" y="41098"/>
                </a:lnTo>
                <a:lnTo>
                  <a:pt x="242803" y="44332"/>
                </a:lnTo>
                <a:lnTo>
                  <a:pt x="247670" y="48181"/>
                </a:lnTo>
                <a:lnTo>
                  <a:pt x="252609" y="52441"/>
                </a:lnTo>
                <a:lnTo>
                  <a:pt x="255901" y="57821"/>
                </a:lnTo>
                <a:lnTo>
                  <a:pt x="258095" y="63947"/>
                </a:lnTo>
                <a:lnTo>
                  <a:pt x="259559" y="70571"/>
                </a:lnTo>
                <a:lnTo>
                  <a:pt x="260534" y="77528"/>
                </a:lnTo>
                <a:lnTo>
                  <a:pt x="261185" y="84705"/>
                </a:lnTo>
                <a:lnTo>
                  <a:pt x="261618" y="92030"/>
                </a:lnTo>
                <a:lnTo>
                  <a:pt x="262754" y="99453"/>
                </a:lnTo>
                <a:lnTo>
                  <a:pt x="264357" y="106943"/>
                </a:lnTo>
                <a:lnTo>
                  <a:pt x="266273" y="114475"/>
                </a:lnTo>
                <a:lnTo>
                  <a:pt x="266704" y="122037"/>
                </a:lnTo>
                <a:lnTo>
                  <a:pt x="266144" y="129618"/>
                </a:lnTo>
                <a:lnTo>
                  <a:pt x="264925" y="137212"/>
                </a:lnTo>
                <a:lnTo>
                  <a:pt x="264111" y="144815"/>
                </a:lnTo>
                <a:lnTo>
                  <a:pt x="263569" y="152423"/>
                </a:lnTo>
                <a:lnTo>
                  <a:pt x="262967" y="166804"/>
                </a:lnTo>
                <a:lnTo>
                  <a:pt x="262628" y="184419"/>
                </a:lnTo>
                <a:lnTo>
                  <a:pt x="262485" y="2209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MARTInkAnnotation233"/>
          <p:cNvSpPr/>
          <p:nvPr/>
        </p:nvSpPr>
        <p:spPr>
          <a:xfrm>
            <a:off x="182520" y="3567240"/>
            <a:ext cx="353880" cy="349200"/>
          </a:xfrm>
          <a:custGeom>
            <a:avLst/>
            <a:gdLst>
              <a:gd name="textAreaLeft" fmla="*/ 0 w 353880"/>
              <a:gd name="textAreaRight" fmla="*/ 354240 w 35388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353201" h="350035">
                <a:moveTo>
                  <a:pt x="0" y="52989"/>
                </a:moveTo>
                <a:lnTo>
                  <a:pt x="0" y="37850"/>
                </a:lnTo>
                <a:lnTo>
                  <a:pt x="10606" y="27152"/>
                </a:lnTo>
                <a:lnTo>
                  <a:pt x="13844" y="25604"/>
                </a:lnTo>
                <a:lnTo>
                  <a:pt x="21957" y="23885"/>
                </a:lnTo>
                <a:lnTo>
                  <a:pt x="27338" y="22579"/>
                </a:lnTo>
                <a:lnTo>
                  <a:pt x="33466" y="20862"/>
                </a:lnTo>
                <a:lnTo>
                  <a:pt x="47047" y="16697"/>
                </a:lnTo>
                <a:lnTo>
                  <a:pt x="61550" y="12024"/>
                </a:lnTo>
                <a:lnTo>
                  <a:pt x="70667" y="10439"/>
                </a:lnTo>
                <a:lnTo>
                  <a:pt x="80978" y="9382"/>
                </a:lnTo>
                <a:lnTo>
                  <a:pt x="92085" y="8678"/>
                </a:lnTo>
                <a:lnTo>
                  <a:pt x="102877" y="7362"/>
                </a:lnTo>
                <a:lnTo>
                  <a:pt x="113458" y="5637"/>
                </a:lnTo>
                <a:lnTo>
                  <a:pt x="123899" y="3641"/>
                </a:lnTo>
                <a:lnTo>
                  <a:pt x="135092" y="2310"/>
                </a:lnTo>
                <a:lnTo>
                  <a:pt x="146788" y="1423"/>
                </a:lnTo>
                <a:lnTo>
                  <a:pt x="158819" y="832"/>
                </a:lnTo>
                <a:lnTo>
                  <a:pt x="181217" y="175"/>
                </a:lnTo>
                <a:lnTo>
                  <a:pt x="191932" y="0"/>
                </a:lnTo>
                <a:lnTo>
                  <a:pt x="203308" y="729"/>
                </a:lnTo>
                <a:lnTo>
                  <a:pt x="215125" y="2063"/>
                </a:lnTo>
                <a:lnTo>
                  <a:pt x="227237" y="3798"/>
                </a:lnTo>
                <a:lnTo>
                  <a:pt x="238698" y="5802"/>
                </a:lnTo>
                <a:lnTo>
                  <a:pt x="249725" y="7984"/>
                </a:lnTo>
                <a:lnTo>
                  <a:pt x="260463" y="10286"/>
                </a:lnTo>
                <a:lnTo>
                  <a:pt x="269316" y="12667"/>
                </a:lnTo>
                <a:lnTo>
                  <a:pt x="276910" y="15101"/>
                </a:lnTo>
                <a:lnTo>
                  <a:pt x="283667" y="17570"/>
                </a:lnTo>
                <a:lnTo>
                  <a:pt x="289865" y="20063"/>
                </a:lnTo>
                <a:lnTo>
                  <a:pt x="295690" y="22572"/>
                </a:lnTo>
                <a:lnTo>
                  <a:pt x="301266" y="25091"/>
                </a:lnTo>
                <a:lnTo>
                  <a:pt x="305831" y="28463"/>
                </a:lnTo>
                <a:lnTo>
                  <a:pt x="313160" y="36726"/>
                </a:lnTo>
                <a:lnTo>
                  <a:pt x="316982" y="43786"/>
                </a:lnTo>
                <a:lnTo>
                  <a:pt x="318002" y="46853"/>
                </a:lnTo>
                <a:lnTo>
                  <a:pt x="317834" y="50592"/>
                </a:lnTo>
                <a:lnTo>
                  <a:pt x="315391" y="59261"/>
                </a:lnTo>
                <a:lnTo>
                  <a:pt x="311861" y="63944"/>
                </a:lnTo>
                <a:lnTo>
                  <a:pt x="301165" y="73662"/>
                </a:lnTo>
                <a:lnTo>
                  <a:pt x="294756" y="78625"/>
                </a:lnTo>
                <a:lnTo>
                  <a:pt x="287944" y="83626"/>
                </a:lnTo>
                <a:lnTo>
                  <a:pt x="280863" y="88654"/>
                </a:lnTo>
                <a:lnTo>
                  <a:pt x="272755" y="92852"/>
                </a:lnTo>
                <a:lnTo>
                  <a:pt x="263964" y="96498"/>
                </a:lnTo>
                <a:lnTo>
                  <a:pt x="254716" y="99775"/>
                </a:lnTo>
                <a:lnTo>
                  <a:pt x="245164" y="103653"/>
                </a:lnTo>
                <a:lnTo>
                  <a:pt x="235409" y="107931"/>
                </a:lnTo>
                <a:lnTo>
                  <a:pt x="225519" y="112477"/>
                </a:lnTo>
                <a:lnTo>
                  <a:pt x="215540" y="116355"/>
                </a:lnTo>
                <a:lnTo>
                  <a:pt x="205500" y="119786"/>
                </a:lnTo>
                <a:lnTo>
                  <a:pt x="169098" y="131377"/>
                </a:lnTo>
                <a:lnTo>
                  <a:pt x="161838" y="134881"/>
                </a:lnTo>
                <a:lnTo>
                  <a:pt x="155306" y="138910"/>
                </a:lnTo>
                <a:lnTo>
                  <a:pt x="144378" y="147056"/>
                </a:lnTo>
                <a:lnTo>
                  <a:pt x="136699" y="153499"/>
                </a:lnTo>
                <a:lnTo>
                  <a:pt x="132620" y="155556"/>
                </a:lnTo>
                <a:lnTo>
                  <a:pt x="123571" y="157841"/>
                </a:lnTo>
                <a:lnTo>
                  <a:pt x="121327" y="159297"/>
                </a:lnTo>
                <a:lnTo>
                  <a:pt x="120678" y="161114"/>
                </a:lnTo>
                <a:lnTo>
                  <a:pt x="121092" y="163173"/>
                </a:lnTo>
                <a:lnTo>
                  <a:pt x="123810" y="167717"/>
                </a:lnTo>
                <a:lnTo>
                  <a:pt x="125720" y="170114"/>
                </a:lnTo>
                <a:lnTo>
                  <a:pt x="134616" y="175036"/>
                </a:lnTo>
                <a:lnTo>
                  <a:pt x="140544" y="177534"/>
                </a:lnTo>
                <a:lnTo>
                  <a:pt x="147882" y="179199"/>
                </a:lnTo>
                <a:lnTo>
                  <a:pt x="156162" y="180309"/>
                </a:lnTo>
                <a:lnTo>
                  <a:pt x="165068" y="181049"/>
                </a:lnTo>
                <a:lnTo>
                  <a:pt x="174392" y="183236"/>
                </a:lnTo>
                <a:lnTo>
                  <a:pt x="183995" y="186387"/>
                </a:lnTo>
                <a:lnTo>
                  <a:pt x="227785" y="203611"/>
                </a:lnTo>
                <a:lnTo>
                  <a:pt x="239910" y="207590"/>
                </a:lnTo>
                <a:lnTo>
                  <a:pt x="252227" y="211090"/>
                </a:lnTo>
                <a:lnTo>
                  <a:pt x="264671" y="214269"/>
                </a:lnTo>
                <a:lnTo>
                  <a:pt x="276354" y="218083"/>
                </a:lnTo>
                <a:lnTo>
                  <a:pt x="287529" y="222318"/>
                </a:lnTo>
                <a:lnTo>
                  <a:pt x="298366" y="226835"/>
                </a:lnTo>
                <a:lnTo>
                  <a:pt x="308131" y="231540"/>
                </a:lnTo>
                <a:lnTo>
                  <a:pt x="317180" y="236370"/>
                </a:lnTo>
                <a:lnTo>
                  <a:pt x="325754" y="241283"/>
                </a:lnTo>
                <a:lnTo>
                  <a:pt x="332316" y="247098"/>
                </a:lnTo>
                <a:lnTo>
                  <a:pt x="337537" y="253515"/>
                </a:lnTo>
                <a:lnTo>
                  <a:pt x="341865" y="260333"/>
                </a:lnTo>
                <a:lnTo>
                  <a:pt x="345596" y="266572"/>
                </a:lnTo>
                <a:lnTo>
                  <a:pt x="348931" y="272424"/>
                </a:lnTo>
                <a:lnTo>
                  <a:pt x="352001" y="278019"/>
                </a:lnTo>
                <a:lnTo>
                  <a:pt x="353200" y="283442"/>
                </a:lnTo>
                <a:lnTo>
                  <a:pt x="353153" y="288751"/>
                </a:lnTo>
                <a:lnTo>
                  <a:pt x="352276" y="293984"/>
                </a:lnTo>
                <a:lnTo>
                  <a:pt x="349042" y="302056"/>
                </a:lnTo>
                <a:lnTo>
                  <a:pt x="343937" y="309312"/>
                </a:lnTo>
                <a:lnTo>
                  <a:pt x="336023" y="318182"/>
                </a:lnTo>
                <a:lnTo>
                  <a:pt x="330695" y="322071"/>
                </a:lnTo>
                <a:lnTo>
                  <a:pt x="324604" y="325510"/>
                </a:lnTo>
                <a:lnTo>
                  <a:pt x="318002" y="328650"/>
                </a:lnTo>
                <a:lnTo>
                  <a:pt x="311061" y="331590"/>
                </a:lnTo>
                <a:lnTo>
                  <a:pt x="303894" y="334396"/>
                </a:lnTo>
                <a:lnTo>
                  <a:pt x="296576" y="337114"/>
                </a:lnTo>
                <a:lnTo>
                  <a:pt x="288311" y="339772"/>
                </a:lnTo>
                <a:lnTo>
                  <a:pt x="279414" y="342391"/>
                </a:lnTo>
                <a:lnTo>
                  <a:pt x="270096" y="344984"/>
                </a:lnTo>
                <a:lnTo>
                  <a:pt x="261344" y="346712"/>
                </a:lnTo>
                <a:lnTo>
                  <a:pt x="252969" y="347864"/>
                </a:lnTo>
                <a:lnTo>
                  <a:pt x="244846" y="348632"/>
                </a:lnTo>
                <a:lnTo>
                  <a:pt x="235197" y="349145"/>
                </a:lnTo>
                <a:lnTo>
                  <a:pt x="213188" y="349714"/>
                </a:lnTo>
                <a:lnTo>
                  <a:pt x="181041" y="350034"/>
                </a:lnTo>
                <a:lnTo>
                  <a:pt x="171494" y="349232"/>
                </a:lnTo>
                <a:lnTo>
                  <a:pt x="162590" y="347852"/>
                </a:lnTo>
                <a:lnTo>
                  <a:pt x="154113" y="346084"/>
                </a:lnTo>
                <a:lnTo>
                  <a:pt x="145075" y="344906"/>
                </a:lnTo>
                <a:lnTo>
                  <a:pt x="135664" y="344120"/>
                </a:lnTo>
                <a:lnTo>
                  <a:pt x="126002" y="343596"/>
                </a:lnTo>
                <a:lnTo>
                  <a:pt x="117022" y="342401"/>
                </a:lnTo>
                <a:lnTo>
                  <a:pt x="108494" y="340757"/>
                </a:lnTo>
                <a:lnTo>
                  <a:pt x="100270" y="338814"/>
                </a:lnTo>
                <a:lnTo>
                  <a:pt x="92246" y="336672"/>
                </a:lnTo>
                <a:lnTo>
                  <a:pt x="76559" y="332035"/>
                </a:lnTo>
                <a:lnTo>
                  <a:pt x="65635" y="329409"/>
                </a:lnTo>
                <a:lnTo>
                  <a:pt x="54725" y="327931"/>
                </a:lnTo>
                <a:lnTo>
                  <a:pt x="44253" y="327364"/>
                </a:lnTo>
                <a:lnTo>
                  <a:pt x="42202" y="327345"/>
                </a:lnTo>
                <a:lnTo>
                  <a:pt x="40835" y="326486"/>
                </a:lnTo>
                <a:lnTo>
                  <a:pt x="39923" y="325067"/>
                </a:lnTo>
                <a:lnTo>
                  <a:pt x="38100" y="31968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MARTInkAnnotation234"/>
          <p:cNvSpPr/>
          <p:nvPr/>
        </p:nvSpPr>
        <p:spPr>
          <a:xfrm>
            <a:off x="1477800" y="3603600"/>
            <a:ext cx="266760" cy="236520"/>
          </a:xfrm>
          <a:custGeom>
            <a:avLst/>
            <a:gdLst>
              <a:gd name="textAreaLeft" fmla="*/ 0 w 266760"/>
              <a:gd name="textAreaRight" fmla="*/ 267120 w 26676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66701" h="236221">
                <a:moveTo>
                  <a:pt x="266700" y="0"/>
                </a:moveTo>
                <a:lnTo>
                  <a:pt x="262655" y="4045"/>
                </a:lnTo>
                <a:lnTo>
                  <a:pt x="261463" y="6084"/>
                </a:lnTo>
                <a:lnTo>
                  <a:pt x="258940" y="12998"/>
                </a:lnTo>
                <a:lnTo>
                  <a:pt x="255349" y="17912"/>
                </a:lnTo>
                <a:lnTo>
                  <a:pt x="250931" y="25176"/>
                </a:lnTo>
                <a:lnTo>
                  <a:pt x="246145" y="34050"/>
                </a:lnTo>
                <a:lnTo>
                  <a:pt x="233649" y="58556"/>
                </a:lnTo>
                <a:lnTo>
                  <a:pt x="230273" y="63590"/>
                </a:lnTo>
                <a:lnTo>
                  <a:pt x="226329" y="68641"/>
                </a:lnTo>
                <a:lnTo>
                  <a:pt x="222006" y="73700"/>
                </a:lnTo>
                <a:lnTo>
                  <a:pt x="217430" y="78767"/>
                </a:lnTo>
                <a:lnTo>
                  <a:pt x="207831" y="88912"/>
                </a:lnTo>
                <a:lnTo>
                  <a:pt x="192907" y="104143"/>
                </a:lnTo>
                <a:lnTo>
                  <a:pt x="187025" y="109222"/>
                </a:lnTo>
                <a:lnTo>
                  <a:pt x="180563" y="114302"/>
                </a:lnTo>
                <a:lnTo>
                  <a:pt x="173715" y="119381"/>
                </a:lnTo>
                <a:lnTo>
                  <a:pt x="166610" y="125307"/>
                </a:lnTo>
                <a:lnTo>
                  <a:pt x="159334" y="131798"/>
                </a:lnTo>
                <a:lnTo>
                  <a:pt x="151942" y="138666"/>
                </a:lnTo>
                <a:lnTo>
                  <a:pt x="144475" y="144937"/>
                </a:lnTo>
                <a:lnTo>
                  <a:pt x="136957" y="150811"/>
                </a:lnTo>
                <a:lnTo>
                  <a:pt x="129405" y="156421"/>
                </a:lnTo>
                <a:lnTo>
                  <a:pt x="122676" y="161854"/>
                </a:lnTo>
                <a:lnTo>
                  <a:pt x="116498" y="167169"/>
                </a:lnTo>
                <a:lnTo>
                  <a:pt x="110685" y="172406"/>
                </a:lnTo>
                <a:lnTo>
                  <a:pt x="104270" y="177591"/>
                </a:lnTo>
                <a:lnTo>
                  <a:pt x="97453" y="182741"/>
                </a:lnTo>
                <a:lnTo>
                  <a:pt x="90369" y="187867"/>
                </a:lnTo>
                <a:lnTo>
                  <a:pt x="83953" y="192132"/>
                </a:lnTo>
                <a:lnTo>
                  <a:pt x="77982" y="195821"/>
                </a:lnTo>
                <a:lnTo>
                  <a:pt x="72308" y="199127"/>
                </a:lnTo>
                <a:lnTo>
                  <a:pt x="66832" y="203025"/>
                </a:lnTo>
                <a:lnTo>
                  <a:pt x="61488" y="207317"/>
                </a:lnTo>
                <a:lnTo>
                  <a:pt x="56232" y="211871"/>
                </a:lnTo>
                <a:lnTo>
                  <a:pt x="51035" y="214907"/>
                </a:lnTo>
                <a:lnTo>
                  <a:pt x="45877" y="216932"/>
                </a:lnTo>
                <a:lnTo>
                  <a:pt x="40745" y="218281"/>
                </a:lnTo>
                <a:lnTo>
                  <a:pt x="32784" y="222039"/>
                </a:lnTo>
                <a:lnTo>
                  <a:pt x="26424" y="225684"/>
                </a:lnTo>
                <a:lnTo>
                  <a:pt x="20775" y="227304"/>
                </a:lnTo>
                <a:lnTo>
                  <a:pt x="15442" y="230282"/>
                </a:lnTo>
                <a:lnTo>
                  <a:pt x="12835" y="232261"/>
                </a:lnTo>
                <a:lnTo>
                  <a:pt x="7680" y="234461"/>
                </a:lnTo>
                <a:lnTo>
                  <a:pt x="0" y="2362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MARTInkAnnotation235"/>
          <p:cNvSpPr/>
          <p:nvPr/>
        </p:nvSpPr>
        <p:spPr>
          <a:xfrm>
            <a:off x="1469880" y="3597120"/>
            <a:ext cx="312840" cy="243000"/>
          </a:xfrm>
          <a:custGeom>
            <a:avLst/>
            <a:gdLst>
              <a:gd name="textAreaLeft" fmla="*/ 0 w 312840"/>
              <a:gd name="textAreaRight" fmla="*/ 313200 w 31284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312421" h="243841">
                <a:moveTo>
                  <a:pt x="0" y="0"/>
                </a:moveTo>
                <a:lnTo>
                  <a:pt x="14651" y="0"/>
                </a:lnTo>
                <a:lnTo>
                  <a:pt x="18234" y="847"/>
                </a:lnTo>
                <a:lnTo>
                  <a:pt x="24473" y="4045"/>
                </a:lnTo>
                <a:lnTo>
                  <a:pt x="32326" y="8289"/>
                </a:lnTo>
                <a:lnTo>
                  <a:pt x="36791" y="10606"/>
                </a:lnTo>
                <a:lnTo>
                  <a:pt x="42307" y="13844"/>
                </a:lnTo>
                <a:lnTo>
                  <a:pt x="55210" y="21957"/>
                </a:lnTo>
                <a:lnTo>
                  <a:pt x="61360" y="25645"/>
                </a:lnTo>
                <a:lnTo>
                  <a:pt x="67153" y="28950"/>
                </a:lnTo>
                <a:lnTo>
                  <a:pt x="72709" y="32000"/>
                </a:lnTo>
                <a:lnTo>
                  <a:pt x="78106" y="36573"/>
                </a:lnTo>
                <a:lnTo>
                  <a:pt x="83397" y="42162"/>
                </a:lnTo>
                <a:lnTo>
                  <a:pt x="88618" y="48428"/>
                </a:lnTo>
                <a:lnTo>
                  <a:pt x="94639" y="54299"/>
                </a:lnTo>
                <a:lnTo>
                  <a:pt x="101193" y="59906"/>
                </a:lnTo>
                <a:lnTo>
                  <a:pt x="108102" y="65337"/>
                </a:lnTo>
                <a:lnTo>
                  <a:pt x="114401" y="70652"/>
                </a:lnTo>
                <a:lnTo>
                  <a:pt x="120294" y="75887"/>
                </a:lnTo>
                <a:lnTo>
                  <a:pt x="125916" y="81072"/>
                </a:lnTo>
                <a:lnTo>
                  <a:pt x="132204" y="86221"/>
                </a:lnTo>
                <a:lnTo>
                  <a:pt x="138936" y="91348"/>
                </a:lnTo>
                <a:lnTo>
                  <a:pt x="145964" y="96458"/>
                </a:lnTo>
                <a:lnTo>
                  <a:pt x="152343" y="102406"/>
                </a:lnTo>
                <a:lnTo>
                  <a:pt x="158289" y="108910"/>
                </a:lnTo>
                <a:lnTo>
                  <a:pt x="163946" y="115787"/>
                </a:lnTo>
                <a:lnTo>
                  <a:pt x="170257" y="122065"/>
                </a:lnTo>
                <a:lnTo>
                  <a:pt x="177005" y="127943"/>
                </a:lnTo>
                <a:lnTo>
                  <a:pt x="184043" y="133555"/>
                </a:lnTo>
                <a:lnTo>
                  <a:pt x="191276" y="139837"/>
                </a:lnTo>
                <a:lnTo>
                  <a:pt x="198637" y="146565"/>
                </a:lnTo>
                <a:lnTo>
                  <a:pt x="206085" y="153590"/>
                </a:lnTo>
                <a:lnTo>
                  <a:pt x="213590" y="159966"/>
                </a:lnTo>
                <a:lnTo>
                  <a:pt x="221133" y="165911"/>
                </a:lnTo>
                <a:lnTo>
                  <a:pt x="228702" y="171567"/>
                </a:lnTo>
                <a:lnTo>
                  <a:pt x="235441" y="177032"/>
                </a:lnTo>
                <a:lnTo>
                  <a:pt x="241628" y="182368"/>
                </a:lnTo>
                <a:lnTo>
                  <a:pt x="247445" y="187619"/>
                </a:lnTo>
                <a:lnTo>
                  <a:pt x="258425" y="197968"/>
                </a:lnTo>
                <a:lnTo>
                  <a:pt x="263723" y="203099"/>
                </a:lnTo>
                <a:lnTo>
                  <a:pt x="268949" y="207366"/>
                </a:lnTo>
                <a:lnTo>
                  <a:pt x="274126" y="211057"/>
                </a:lnTo>
                <a:lnTo>
                  <a:pt x="283547" y="217416"/>
                </a:lnTo>
                <a:lnTo>
                  <a:pt x="290557" y="223065"/>
                </a:lnTo>
                <a:lnTo>
                  <a:pt x="298752" y="230655"/>
                </a:lnTo>
                <a:lnTo>
                  <a:pt x="312420" y="2438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MARTInkAnnotation236"/>
          <p:cNvSpPr/>
          <p:nvPr/>
        </p:nvSpPr>
        <p:spPr>
          <a:xfrm>
            <a:off x="2011320" y="3483000"/>
            <a:ext cx="228600" cy="372960"/>
          </a:xfrm>
          <a:custGeom>
            <a:avLst/>
            <a:gdLst>
              <a:gd name="textAreaLeft" fmla="*/ 0 w 228600"/>
              <a:gd name="textAreaRight" fmla="*/ 228960 w 22860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229052" h="373381">
                <a:moveTo>
                  <a:pt x="229051" y="0"/>
                </a:moveTo>
                <a:lnTo>
                  <a:pt x="204578" y="0"/>
                </a:lnTo>
                <a:lnTo>
                  <a:pt x="200036" y="847"/>
                </a:lnTo>
                <a:lnTo>
                  <a:pt x="194468" y="2258"/>
                </a:lnTo>
                <a:lnTo>
                  <a:pt x="188216" y="4045"/>
                </a:lnTo>
                <a:lnTo>
                  <a:pt x="180660" y="5237"/>
                </a:lnTo>
                <a:lnTo>
                  <a:pt x="172237" y="6031"/>
                </a:lnTo>
                <a:lnTo>
                  <a:pt x="163235" y="6561"/>
                </a:lnTo>
                <a:lnTo>
                  <a:pt x="153847" y="7761"/>
                </a:lnTo>
                <a:lnTo>
                  <a:pt x="144202" y="9407"/>
                </a:lnTo>
                <a:lnTo>
                  <a:pt x="134385" y="11351"/>
                </a:lnTo>
                <a:lnTo>
                  <a:pt x="124454" y="12648"/>
                </a:lnTo>
                <a:lnTo>
                  <a:pt x="114446" y="13512"/>
                </a:lnTo>
                <a:lnTo>
                  <a:pt x="104388" y="14088"/>
                </a:lnTo>
                <a:lnTo>
                  <a:pt x="94295" y="15319"/>
                </a:lnTo>
                <a:lnTo>
                  <a:pt x="84181" y="16986"/>
                </a:lnTo>
                <a:lnTo>
                  <a:pt x="74051" y="18944"/>
                </a:lnTo>
                <a:lnTo>
                  <a:pt x="53764" y="23377"/>
                </a:lnTo>
                <a:lnTo>
                  <a:pt x="43613" y="25745"/>
                </a:lnTo>
                <a:lnTo>
                  <a:pt x="35152" y="29017"/>
                </a:lnTo>
                <a:lnTo>
                  <a:pt x="27819" y="32891"/>
                </a:lnTo>
                <a:lnTo>
                  <a:pt x="21236" y="37167"/>
                </a:lnTo>
                <a:lnTo>
                  <a:pt x="15154" y="40865"/>
                </a:lnTo>
                <a:lnTo>
                  <a:pt x="9407" y="44177"/>
                </a:lnTo>
                <a:lnTo>
                  <a:pt x="3881" y="47231"/>
                </a:lnTo>
                <a:lnTo>
                  <a:pt x="1044" y="50961"/>
                </a:lnTo>
                <a:lnTo>
                  <a:pt x="0" y="55141"/>
                </a:lnTo>
                <a:lnTo>
                  <a:pt x="150" y="59620"/>
                </a:lnTo>
                <a:lnTo>
                  <a:pt x="1097" y="63454"/>
                </a:lnTo>
                <a:lnTo>
                  <a:pt x="4407" y="69971"/>
                </a:lnTo>
                <a:lnTo>
                  <a:pt x="10958" y="77947"/>
                </a:lnTo>
                <a:lnTo>
                  <a:pt x="15076" y="82444"/>
                </a:lnTo>
                <a:lnTo>
                  <a:pt x="20361" y="86290"/>
                </a:lnTo>
                <a:lnTo>
                  <a:pt x="26424" y="89700"/>
                </a:lnTo>
                <a:lnTo>
                  <a:pt x="33006" y="92820"/>
                </a:lnTo>
                <a:lnTo>
                  <a:pt x="39935" y="96593"/>
                </a:lnTo>
                <a:lnTo>
                  <a:pt x="47094" y="100802"/>
                </a:lnTo>
                <a:lnTo>
                  <a:pt x="61821" y="109994"/>
                </a:lnTo>
                <a:lnTo>
                  <a:pt x="76833" y="119724"/>
                </a:lnTo>
                <a:lnTo>
                  <a:pt x="84392" y="123843"/>
                </a:lnTo>
                <a:lnTo>
                  <a:pt x="91972" y="127435"/>
                </a:lnTo>
                <a:lnTo>
                  <a:pt x="99565" y="130677"/>
                </a:lnTo>
                <a:lnTo>
                  <a:pt x="106320" y="134531"/>
                </a:lnTo>
                <a:lnTo>
                  <a:pt x="112517" y="138794"/>
                </a:lnTo>
                <a:lnTo>
                  <a:pt x="118342" y="143329"/>
                </a:lnTo>
                <a:lnTo>
                  <a:pt x="123071" y="147200"/>
                </a:lnTo>
                <a:lnTo>
                  <a:pt x="127071" y="150626"/>
                </a:lnTo>
                <a:lnTo>
                  <a:pt x="130584" y="153758"/>
                </a:lnTo>
                <a:lnTo>
                  <a:pt x="132927" y="157539"/>
                </a:lnTo>
                <a:lnTo>
                  <a:pt x="135529" y="166255"/>
                </a:lnTo>
                <a:lnTo>
                  <a:pt x="135377" y="170103"/>
                </a:lnTo>
                <a:lnTo>
                  <a:pt x="134428" y="173516"/>
                </a:lnTo>
                <a:lnTo>
                  <a:pt x="131116" y="179565"/>
                </a:lnTo>
                <a:lnTo>
                  <a:pt x="126822" y="185075"/>
                </a:lnTo>
                <a:lnTo>
                  <a:pt x="119834" y="192605"/>
                </a:lnTo>
                <a:lnTo>
                  <a:pt x="115599" y="196983"/>
                </a:lnTo>
                <a:lnTo>
                  <a:pt x="110237" y="201595"/>
                </a:lnTo>
                <a:lnTo>
                  <a:pt x="104121" y="206364"/>
                </a:lnTo>
                <a:lnTo>
                  <a:pt x="97504" y="211236"/>
                </a:lnTo>
                <a:lnTo>
                  <a:pt x="91400" y="216177"/>
                </a:lnTo>
                <a:lnTo>
                  <a:pt x="85637" y="221165"/>
                </a:lnTo>
                <a:lnTo>
                  <a:pt x="80101" y="226183"/>
                </a:lnTo>
                <a:lnTo>
                  <a:pt x="73025" y="231222"/>
                </a:lnTo>
                <a:lnTo>
                  <a:pt x="64920" y="236275"/>
                </a:lnTo>
                <a:lnTo>
                  <a:pt x="56130" y="241337"/>
                </a:lnTo>
                <a:lnTo>
                  <a:pt x="48577" y="246404"/>
                </a:lnTo>
                <a:lnTo>
                  <a:pt x="41848" y="251476"/>
                </a:lnTo>
                <a:lnTo>
                  <a:pt x="35669" y="256551"/>
                </a:lnTo>
                <a:lnTo>
                  <a:pt x="30703" y="261627"/>
                </a:lnTo>
                <a:lnTo>
                  <a:pt x="26546" y="266705"/>
                </a:lnTo>
                <a:lnTo>
                  <a:pt x="19669" y="276862"/>
                </a:lnTo>
                <a:lnTo>
                  <a:pt x="13790" y="287021"/>
                </a:lnTo>
                <a:lnTo>
                  <a:pt x="10613" y="297180"/>
                </a:lnTo>
                <a:lnTo>
                  <a:pt x="9766" y="302261"/>
                </a:lnTo>
                <a:lnTo>
                  <a:pt x="10894" y="307340"/>
                </a:lnTo>
                <a:lnTo>
                  <a:pt x="16663" y="317500"/>
                </a:lnTo>
                <a:lnTo>
                  <a:pt x="20573" y="322580"/>
                </a:lnTo>
                <a:lnTo>
                  <a:pt x="24872" y="327660"/>
                </a:lnTo>
                <a:lnTo>
                  <a:pt x="29432" y="332740"/>
                </a:lnTo>
                <a:lnTo>
                  <a:pt x="36705" y="336973"/>
                </a:lnTo>
                <a:lnTo>
                  <a:pt x="45787" y="340643"/>
                </a:lnTo>
                <a:lnTo>
                  <a:pt x="56075" y="343935"/>
                </a:lnTo>
                <a:lnTo>
                  <a:pt x="67167" y="347823"/>
                </a:lnTo>
                <a:lnTo>
                  <a:pt x="90780" y="356659"/>
                </a:lnTo>
                <a:lnTo>
                  <a:pt x="102157" y="360539"/>
                </a:lnTo>
                <a:lnTo>
                  <a:pt x="113129" y="363973"/>
                </a:lnTo>
                <a:lnTo>
                  <a:pt x="145231" y="3733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MARTInkAnnotation237"/>
          <p:cNvSpPr/>
          <p:nvPr/>
        </p:nvSpPr>
        <p:spPr>
          <a:xfrm>
            <a:off x="2133720" y="3436920"/>
            <a:ext cx="29880" cy="487440"/>
          </a:xfrm>
          <a:custGeom>
            <a:avLst/>
            <a:gdLst>
              <a:gd name="textAreaLeft" fmla="*/ 0 w 29880"/>
              <a:gd name="textAreaRight" fmla="*/ 30240 w 2988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30481" h="487681">
                <a:moveTo>
                  <a:pt x="0" y="0"/>
                </a:moveTo>
                <a:lnTo>
                  <a:pt x="0" y="17913"/>
                </a:lnTo>
                <a:lnTo>
                  <a:pt x="847" y="22101"/>
                </a:lnTo>
                <a:lnTo>
                  <a:pt x="2258" y="27434"/>
                </a:lnTo>
                <a:lnTo>
                  <a:pt x="4045" y="33529"/>
                </a:lnTo>
                <a:lnTo>
                  <a:pt x="5237" y="40133"/>
                </a:lnTo>
                <a:lnTo>
                  <a:pt x="6031" y="47075"/>
                </a:lnTo>
                <a:lnTo>
                  <a:pt x="6561" y="54244"/>
                </a:lnTo>
                <a:lnTo>
                  <a:pt x="7760" y="62409"/>
                </a:lnTo>
                <a:lnTo>
                  <a:pt x="9407" y="71240"/>
                </a:lnTo>
                <a:lnTo>
                  <a:pt x="18133" y="113791"/>
                </a:lnTo>
                <a:lnTo>
                  <a:pt x="19708" y="125814"/>
                </a:lnTo>
                <a:lnTo>
                  <a:pt x="20759" y="138063"/>
                </a:lnTo>
                <a:lnTo>
                  <a:pt x="21459" y="150462"/>
                </a:lnTo>
                <a:lnTo>
                  <a:pt x="22238" y="175528"/>
                </a:lnTo>
                <a:lnTo>
                  <a:pt x="22737" y="226113"/>
                </a:lnTo>
                <a:lnTo>
                  <a:pt x="21931" y="239642"/>
                </a:lnTo>
                <a:lnTo>
                  <a:pt x="20548" y="253742"/>
                </a:lnTo>
                <a:lnTo>
                  <a:pt x="18778" y="268221"/>
                </a:lnTo>
                <a:lnTo>
                  <a:pt x="17599" y="282107"/>
                </a:lnTo>
                <a:lnTo>
                  <a:pt x="16813" y="295598"/>
                </a:lnTo>
                <a:lnTo>
                  <a:pt x="16289" y="308825"/>
                </a:lnTo>
                <a:lnTo>
                  <a:pt x="15092" y="321877"/>
                </a:lnTo>
                <a:lnTo>
                  <a:pt x="13448" y="334811"/>
                </a:lnTo>
                <a:lnTo>
                  <a:pt x="11506" y="347667"/>
                </a:lnTo>
                <a:lnTo>
                  <a:pt x="10210" y="359625"/>
                </a:lnTo>
                <a:lnTo>
                  <a:pt x="9347" y="370984"/>
                </a:lnTo>
                <a:lnTo>
                  <a:pt x="8771" y="381942"/>
                </a:lnTo>
                <a:lnTo>
                  <a:pt x="8131" y="403150"/>
                </a:lnTo>
                <a:lnTo>
                  <a:pt x="7961" y="413547"/>
                </a:lnTo>
                <a:lnTo>
                  <a:pt x="8694" y="423018"/>
                </a:lnTo>
                <a:lnTo>
                  <a:pt x="10029" y="431872"/>
                </a:lnTo>
                <a:lnTo>
                  <a:pt x="11766" y="440315"/>
                </a:lnTo>
                <a:lnTo>
                  <a:pt x="13771" y="448483"/>
                </a:lnTo>
                <a:lnTo>
                  <a:pt x="15954" y="456469"/>
                </a:lnTo>
                <a:lnTo>
                  <a:pt x="18256" y="464332"/>
                </a:lnTo>
                <a:lnTo>
                  <a:pt x="19791" y="470422"/>
                </a:lnTo>
                <a:lnTo>
                  <a:pt x="20814" y="475328"/>
                </a:lnTo>
                <a:lnTo>
                  <a:pt x="21496" y="479445"/>
                </a:lnTo>
                <a:lnTo>
                  <a:pt x="22797" y="482190"/>
                </a:lnTo>
                <a:lnTo>
                  <a:pt x="24511" y="484020"/>
                </a:lnTo>
                <a:lnTo>
                  <a:pt x="30480" y="4876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MARTInkAnnotation238"/>
          <p:cNvSpPr/>
          <p:nvPr/>
        </p:nvSpPr>
        <p:spPr>
          <a:xfrm>
            <a:off x="2644920" y="3521160"/>
            <a:ext cx="360" cy="14040"/>
          </a:xfrm>
          <a:custGeom>
            <a:avLst/>
            <a:gdLst>
              <a:gd name="textAreaLeft" fmla="*/ 0 w 360"/>
              <a:gd name="textAreaRight" fmla="*/ 720 w 36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" h="15241">
                <a:moveTo>
                  <a:pt x="0" y="0"/>
                </a:moveTo>
                <a:lnTo>
                  <a:pt x="0" y="152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1320" bIns="-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MARTInkAnnotation239"/>
          <p:cNvSpPr/>
          <p:nvPr/>
        </p:nvSpPr>
        <p:spPr>
          <a:xfrm>
            <a:off x="2422440" y="3673440"/>
            <a:ext cx="465120" cy="30240"/>
          </a:xfrm>
          <a:custGeom>
            <a:avLst/>
            <a:gdLst>
              <a:gd name="textAreaLeft" fmla="*/ 0 w 465120"/>
              <a:gd name="textAreaRight" fmla="*/ 465480 w 4651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464821" h="30481">
                <a:moveTo>
                  <a:pt x="0" y="0"/>
                </a:moveTo>
                <a:lnTo>
                  <a:pt x="28739" y="0"/>
                </a:lnTo>
                <a:lnTo>
                  <a:pt x="35246" y="847"/>
                </a:lnTo>
                <a:lnTo>
                  <a:pt x="42971" y="2258"/>
                </a:lnTo>
                <a:lnTo>
                  <a:pt x="51507" y="4045"/>
                </a:lnTo>
                <a:lnTo>
                  <a:pt x="61432" y="5237"/>
                </a:lnTo>
                <a:lnTo>
                  <a:pt x="72281" y="6031"/>
                </a:lnTo>
                <a:lnTo>
                  <a:pt x="83747" y="6561"/>
                </a:lnTo>
                <a:lnTo>
                  <a:pt x="107777" y="7149"/>
                </a:lnTo>
                <a:lnTo>
                  <a:pt x="120111" y="7306"/>
                </a:lnTo>
                <a:lnTo>
                  <a:pt x="132568" y="8257"/>
                </a:lnTo>
                <a:lnTo>
                  <a:pt x="145105" y="9738"/>
                </a:lnTo>
                <a:lnTo>
                  <a:pt x="157697" y="11572"/>
                </a:lnTo>
                <a:lnTo>
                  <a:pt x="170325" y="12795"/>
                </a:lnTo>
                <a:lnTo>
                  <a:pt x="182976" y="13610"/>
                </a:lnTo>
                <a:lnTo>
                  <a:pt x="195644" y="14153"/>
                </a:lnTo>
                <a:lnTo>
                  <a:pt x="221009" y="14757"/>
                </a:lnTo>
                <a:lnTo>
                  <a:pt x="233699" y="14918"/>
                </a:lnTo>
                <a:lnTo>
                  <a:pt x="246393" y="15872"/>
                </a:lnTo>
                <a:lnTo>
                  <a:pt x="259088" y="17355"/>
                </a:lnTo>
                <a:lnTo>
                  <a:pt x="271786" y="19190"/>
                </a:lnTo>
                <a:lnTo>
                  <a:pt x="284483" y="20413"/>
                </a:lnTo>
                <a:lnTo>
                  <a:pt x="297183" y="21229"/>
                </a:lnTo>
                <a:lnTo>
                  <a:pt x="309882" y="21772"/>
                </a:lnTo>
                <a:lnTo>
                  <a:pt x="322581" y="22982"/>
                </a:lnTo>
                <a:lnTo>
                  <a:pt x="335281" y="24634"/>
                </a:lnTo>
                <a:lnTo>
                  <a:pt x="347981" y="26583"/>
                </a:lnTo>
                <a:lnTo>
                  <a:pt x="359834" y="27883"/>
                </a:lnTo>
                <a:lnTo>
                  <a:pt x="371122" y="28748"/>
                </a:lnTo>
                <a:lnTo>
                  <a:pt x="391850" y="29710"/>
                </a:lnTo>
                <a:lnTo>
                  <a:pt x="409529" y="30138"/>
                </a:lnTo>
                <a:lnTo>
                  <a:pt x="464820" y="304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8"/>
          <p:cNvSpPr/>
          <p:nvPr/>
        </p:nvSpPr>
        <p:spPr>
          <a:xfrm>
            <a:off x="2575080" y="3855960"/>
            <a:ext cx="2880" cy="360"/>
          </a:xfrm>
          <a:custGeom>
            <a:avLst/>
            <a:gdLst>
              <a:gd name="textAreaLeft" fmla="*/ 0 w 2880"/>
              <a:gd name="textAreaRight" fmla="*/ 3240 w 28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258" h="1">
                <a:moveTo>
                  <a:pt x="0" y="0"/>
                </a:moveTo>
                <a:lnTo>
                  <a:pt x="2257" y="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MARTInkAnnotation241"/>
          <p:cNvSpPr/>
          <p:nvPr/>
        </p:nvSpPr>
        <p:spPr>
          <a:xfrm>
            <a:off x="503280" y="3825720"/>
            <a:ext cx="7920" cy="38160"/>
          </a:xfrm>
          <a:custGeom>
            <a:avLst/>
            <a:gdLst>
              <a:gd name="textAreaLeft" fmla="*/ 0 w 7920"/>
              <a:gd name="textAreaRight" fmla="*/ 8280 w 792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7613" h="38101">
                <a:moveTo>
                  <a:pt x="0" y="0"/>
                </a:moveTo>
                <a:lnTo>
                  <a:pt x="4045" y="0"/>
                </a:lnTo>
                <a:lnTo>
                  <a:pt x="5237" y="847"/>
                </a:lnTo>
                <a:lnTo>
                  <a:pt x="6031" y="2258"/>
                </a:lnTo>
                <a:lnTo>
                  <a:pt x="7612" y="7592"/>
                </a:lnTo>
                <a:lnTo>
                  <a:pt x="3572" y="11657"/>
                </a:lnTo>
                <a:lnTo>
                  <a:pt x="3228" y="13698"/>
                </a:lnTo>
                <a:lnTo>
                  <a:pt x="3845" y="15905"/>
                </a:lnTo>
                <a:lnTo>
                  <a:pt x="5104" y="18223"/>
                </a:lnTo>
                <a:lnTo>
                  <a:pt x="5096" y="20616"/>
                </a:lnTo>
                <a:lnTo>
                  <a:pt x="4244" y="23057"/>
                </a:lnTo>
                <a:lnTo>
                  <a:pt x="2829" y="25532"/>
                </a:lnTo>
                <a:lnTo>
                  <a:pt x="1886" y="28028"/>
                </a:lnTo>
                <a:lnTo>
                  <a:pt x="1258" y="30538"/>
                </a:lnTo>
                <a:lnTo>
                  <a:pt x="0" y="-2743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MARTInkAnnotation242"/>
          <p:cNvSpPr/>
          <p:nvPr/>
        </p:nvSpPr>
        <p:spPr>
          <a:xfrm>
            <a:off x="411120" y="3551400"/>
            <a:ext cx="355680" cy="433080"/>
          </a:xfrm>
          <a:custGeom>
            <a:avLst/>
            <a:gdLst>
              <a:gd name="textAreaLeft" fmla="*/ 0 w 355680"/>
              <a:gd name="textAreaRight" fmla="*/ 356040 w 355680"/>
              <a:gd name="textAreaTop" fmla="*/ 0 h 433080"/>
              <a:gd name="textAreaBottom" fmla="*/ 433440 h 433080"/>
            </a:gdLst>
            <a:ahLst/>
            <a:rect l="textAreaLeft" t="textAreaTop" r="textAreaRight" b="textAreaBottom"/>
            <a:pathLst>
              <a:path w="355173" h="434341">
                <a:moveTo>
                  <a:pt x="0" y="0"/>
                </a:moveTo>
                <a:lnTo>
                  <a:pt x="13867" y="0"/>
                </a:lnTo>
                <a:lnTo>
                  <a:pt x="27983" y="6083"/>
                </a:lnTo>
                <a:lnTo>
                  <a:pt x="40377" y="10606"/>
                </a:lnTo>
                <a:lnTo>
                  <a:pt x="61635" y="17912"/>
                </a:lnTo>
                <a:lnTo>
                  <a:pt x="69877" y="20408"/>
                </a:lnTo>
                <a:lnTo>
                  <a:pt x="88065" y="25439"/>
                </a:lnTo>
                <a:lnTo>
                  <a:pt x="97657" y="29660"/>
                </a:lnTo>
                <a:lnTo>
                  <a:pt x="107438" y="35013"/>
                </a:lnTo>
                <a:lnTo>
                  <a:pt x="117345" y="41122"/>
                </a:lnTo>
                <a:lnTo>
                  <a:pt x="128184" y="46888"/>
                </a:lnTo>
                <a:lnTo>
                  <a:pt x="139642" y="52426"/>
                </a:lnTo>
                <a:lnTo>
                  <a:pt x="151515" y="57811"/>
                </a:lnTo>
                <a:lnTo>
                  <a:pt x="163663" y="63940"/>
                </a:lnTo>
                <a:lnTo>
                  <a:pt x="175995" y="70567"/>
                </a:lnTo>
                <a:lnTo>
                  <a:pt x="188451" y="77525"/>
                </a:lnTo>
                <a:lnTo>
                  <a:pt x="200140" y="84703"/>
                </a:lnTo>
                <a:lnTo>
                  <a:pt x="211320" y="92029"/>
                </a:lnTo>
                <a:lnTo>
                  <a:pt x="222160" y="99453"/>
                </a:lnTo>
                <a:lnTo>
                  <a:pt x="232773" y="107789"/>
                </a:lnTo>
                <a:lnTo>
                  <a:pt x="243236" y="116732"/>
                </a:lnTo>
                <a:lnTo>
                  <a:pt x="253597" y="126082"/>
                </a:lnTo>
                <a:lnTo>
                  <a:pt x="274141" y="145501"/>
                </a:lnTo>
                <a:lnTo>
                  <a:pt x="310879" y="181517"/>
                </a:lnTo>
                <a:lnTo>
                  <a:pt x="318166" y="191285"/>
                </a:lnTo>
                <a:lnTo>
                  <a:pt x="324717" y="202030"/>
                </a:lnTo>
                <a:lnTo>
                  <a:pt x="330778" y="213427"/>
                </a:lnTo>
                <a:lnTo>
                  <a:pt x="336512" y="223564"/>
                </a:lnTo>
                <a:lnTo>
                  <a:pt x="342028" y="232863"/>
                </a:lnTo>
                <a:lnTo>
                  <a:pt x="347399" y="241602"/>
                </a:lnTo>
                <a:lnTo>
                  <a:pt x="350979" y="250815"/>
                </a:lnTo>
                <a:lnTo>
                  <a:pt x="353366" y="260343"/>
                </a:lnTo>
                <a:lnTo>
                  <a:pt x="354957" y="270082"/>
                </a:lnTo>
                <a:lnTo>
                  <a:pt x="355172" y="279962"/>
                </a:lnTo>
                <a:lnTo>
                  <a:pt x="354468" y="289934"/>
                </a:lnTo>
                <a:lnTo>
                  <a:pt x="353152" y="299970"/>
                </a:lnTo>
                <a:lnTo>
                  <a:pt x="351428" y="309200"/>
                </a:lnTo>
                <a:lnTo>
                  <a:pt x="349432" y="317893"/>
                </a:lnTo>
                <a:lnTo>
                  <a:pt x="347255" y="326229"/>
                </a:lnTo>
                <a:lnTo>
                  <a:pt x="344110" y="334326"/>
                </a:lnTo>
                <a:lnTo>
                  <a:pt x="340320" y="342264"/>
                </a:lnTo>
                <a:lnTo>
                  <a:pt x="336100" y="350096"/>
                </a:lnTo>
                <a:lnTo>
                  <a:pt x="331593" y="357857"/>
                </a:lnTo>
                <a:lnTo>
                  <a:pt x="322070" y="373254"/>
                </a:lnTo>
                <a:lnTo>
                  <a:pt x="316314" y="380070"/>
                </a:lnTo>
                <a:lnTo>
                  <a:pt x="309936" y="386307"/>
                </a:lnTo>
                <a:lnTo>
                  <a:pt x="303144" y="392158"/>
                </a:lnTo>
                <a:lnTo>
                  <a:pt x="296076" y="397752"/>
                </a:lnTo>
                <a:lnTo>
                  <a:pt x="288824" y="403175"/>
                </a:lnTo>
                <a:lnTo>
                  <a:pt x="281449" y="408483"/>
                </a:lnTo>
                <a:lnTo>
                  <a:pt x="274840" y="412869"/>
                </a:lnTo>
                <a:lnTo>
                  <a:pt x="268740" y="416639"/>
                </a:lnTo>
                <a:lnTo>
                  <a:pt x="258293" y="423086"/>
                </a:lnTo>
                <a:lnTo>
                  <a:pt x="247652" y="430629"/>
                </a:lnTo>
                <a:lnTo>
                  <a:pt x="244688" y="431866"/>
                </a:lnTo>
                <a:lnTo>
                  <a:pt x="236220" y="4343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MARTInkAnnotation243"/>
          <p:cNvSpPr/>
          <p:nvPr/>
        </p:nvSpPr>
        <p:spPr>
          <a:xfrm>
            <a:off x="3429000" y="3733920"/>
            <a:ext cx="22320" cy="360"/>
          </a:xfrm>
          <a:custGeom>
            <a:avLst/>
            <a:gdLst>
              <a:gd name="textAreaLeft" fmla="*/ 0 w 22320"/>
              <a:gd name="textAreaRight" fmla="*/ 22680 w 2232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2861" h="1">
                <a:moveTo>
                  <a:pt x="22860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MARTInkAnnotation244"/>
          <p:cNvSpPr/>
          <p:nvPr/>
        </p:nvSpPr>
        <p:spPr>
          <a:xfrm>
            <a:off x="3483000" y="3551400"/>
            <a:ext cx="114120" cy="136440"/>
          </a:xfrm>
          <a:custGeom>
            <a:avLst/>
            <a:gdLst>
              <a:gd name="textAreaLeft" fmla="*/ 0 w 114120"/>
              <a:gd name="textAreaRight" fmla="*/ 114480 w 11412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114301" h="137161">
                <a:moveTo>
                  <a:pt x="114300" y="0"/>
                </a:moveTo>
                <a:lnTo>
                  <a:pt x="110255" y="0"/>
                </a:lnTo>
                <a:lnTo>
                  <a:pt x="109063" y="847"/>
                </a:lnTo>
                <a:lnTo>
                  <a:pt x="108269" y="2258"/>
                </a:lnTo>
                <a:lnTo>
                  <a:pt x="106994" y="6561"/>
                </a:lnTo>
                <a:lnTo>
                  <a:pt x="104562" y="9407"/>
                </a:lnTo>
                <a:lnTo>
                  <a:pt x="102728" y="11352"/>
                </a:lnTo>
                <a:lnTo>
                  <a:pt x="100659" y="14341"/>
                </a:lnTo>
                <a:lnTo>
                  <a:pt x="98433" y="18027"/>
                </a:lnTo>
                <a:lnTo>
                  <a:pt x="96102" y="22178"/>
                </a:lnTo>
                <a:lnTo>
                  <a:pt x="93701" y="25792"/>
                </a:lnTo>
                <a:lnTo>
                  <a:pt x="91254" y="29048"/>
                </a:lnTo>
                <a:lnTo>
                  <a:pt x="88776" y="32066"/>
                </a:lnTo>
                <a:lnTo>
                  <a:pt x="86277" y="35770"/>
                </a:lnTo>
                <a:lnTo>
                  <a:pt x="83765" y="39934"/>
                </a:lnTo>
                <a:lnTo>
                  <a:pt x="81244" y="44402"/>
                </a:lnTo>
                <a:lnTo>
                  <a:pt x="77869" y="49075"/>
                </a:lnTo>
                <a:lnTo>
                  <a:pt x="73926" y="53883"/>
                </a:lnTo>
                <a:lnTo>
                  <a:pt x="69604" y="58783"/>
                </a:lnTo>
                <a:lnTo>
                  <a:pt x="60286" y="68741"/>
                </a:lnTo>
                <a:lnTo>
                  <a:pt x="40507" y="88932"/>
                </a:lnTo>
                <a:lnTo>
                  <a:pt x="36318" y="94848"/>
                </a:lnTo>
                <a:lnTo>
                  <a:pt x="32678" y="101331"/>
                </a:lnTo>
                <a:lnTo>
                  <a:pt x="29406" y="108195"/>
                </a:lnTo>
                <a:lnTo>
                  <a:pt x="26377" y="113616"/>
                </a:lnTo>
                <a:lnTo>
                  <a:pt x="23512" y="118077"/>
                </a:lnTo>
                <a:lnTo>
                  <a:pt x="20755" y="121898"/>
                </a:lnTo>
                <a:lnTo>
                  <a:pt x="18070" y="125292"/>
                </a:lnTo>
                <a:lnTo>
                  <a:pt x="15433" y="128402"/>
                </a:lnTo>
                <a:lnTo>
                  <a:pt x="12828" y="131321"/>
                </a:lnTo>
                <a:lnTo>
                  <a:pt x="10246" y="133267"/>
                </a:lnTo>
                <a:lnTo>
                  <a:pt x="7677" y="134565"/>
                </a:lnTo>
                <a:lnTo>
                  <a:pt x="0" y="1371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MARTInkAnnotation245"/>
          <p:cNvSpPr/>
          <p:nvPr/>
        </p:nvSpPr>
        <p:spPr>
          <a:xfrm>
            <a:off x="3497400" y="3521160"/>
            <a:ext cx="137880" cy="182520"/>
          </a:xfrm>
          <a:custGeom>
            <a:avLst/>
            <a:gdLst>
              <a:gd name="textAreaLeft" fmla="*/ 0 w 137880"/>
              <a:gd name="textAreaRight" fmla="*/ 138240 w 13788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37161" h="182881">
                <a:moveTo>
                  <a:pt x="137160" y="0"/>
                </a:moveTo>
                <a:lnTo>
                  <a:pt x="137160" y="4045"/>
                </a:lnTo>
                <a:lnTo>
                  <a:pt x="136314" y="6084"/>
                </a:lnTo>
                <a:lnTo>
                  <a:pt x="133115" y="10606"/>
                </a:lnTo>
                <a:lnTo>
                  <a:pt x="128872" y="15438"/>
                </a:lnTo>
                <a:lnTo>
                  <a:pt x="126554" y="17912"/>
                </a:lnTo>
                <a:lnTo>
                  <a:pt x="124163" y="21255"/>
                </a:lnTo>
                <a:lnTo>
                  <a:pt x="121722" y="25177"/>
                </a:lnTo>
                <a:lnTo>
                  <a:pt x="119248" y="29484"/>
                </a:lnTo>
                <a:lnTo>
                  <a:pt x="115906" y="34050"/>
                </a:lnTo>
                <a:lnTo>
                  <a:pt x="111984" y="38787"/>
                </a:lnTo>
                <a:lnTo>
                  <a:pt x="107676" y="43637"/>
                </a:lnTo>
                <a:lnTo>
                  <a:pt x="103111" y="50258"/>
                </a:lnTo>
                <a:lnTo>
                  <a:pt x="98374" y="58059"/>
                </a:lnTo>
                <a:lnTo>
                  <a:pt x="93523" y="66646"/>
                </a:lnTo>
                <a:lnTo>
                  <a:pt x="88595" y="74064"/>
                </a:lnTo>
                <a:lnTo>
                  <a:pt x="83617" y="80703"/>
                </a:lnTo>
                <a:lnTo>
                  <a:pt x="78604" y="86822"/>
                </a:lnTo>
                <a:lnTo>
                  <a:pt x="72723" y="93441"/>
                </a:lnTo>
                <a:lnTo>
                  <a:pt x="59415" y="107570"/>
                </a:lnTo>
                <a:lnTo>
                  <a:pt x="53156" y="114893"/>
                </a:lnTo>
                <a:lnTo>
                  <a:pt x="47291" y="122316"/>
                </a:lnTo>
                <a:lnTo>
                  <a:pt x="41687" y="129804"/>
                </a:lnTo>
                <a:lnTo>
                  <a:pt x="36258" y="136489"/>
                </a:lnTo>
                <a:lnTo>
                  <a:pt x="30946" y="142640"/>
                </a:lnTo>
                <a:lnTo>
                  <a:pt x="25711" y="148433"/>
                </a:lnTo>
                <a:lnTo>
                  <a:pt x="21373" y="153989"/>
                </a:lnTo>
                <a:lnTo>
                  <a:pt x="17636" y="159386"/>
                </a:lnTo>
                <a:lnTo>
                  <a:pt x="14297" y="164677"/>
                </a:lnTo>
                <a:lnTo>
                  <a:pt x="11225" y="169052"/>
                </a:lnTo>
                <a:lnTo>
                  <a:pt x="8330" y="172814"/>
                </a:lnTo>
                <a:lnTo>
                  <a:pt x="0" y="1828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MARTInkAnnotation246"/>
          <p:cNvSpPr/>
          <p:nvPr/>
        </p:nvSpPr>
        <p:spPr>
          <a:xfrm>
            <a:off x="3809880" y="3521160"/>
            <a:ext cx="327240" cy="304560"/>
          </a:xfrm>
          <a:custGeom>
            <a:avLst/>
            <a:gdLst>
              <a:gd name="textAreaLeft" fmla="*/ 0 w 327240"/>
              <a:gd name="textAreaRight" fmla="*/ 327600 w 327240"/>
              <a:gd name="textAreaTop" fmla="*/ 0 h 304560"/>
              <a:gd name="textAreaBottom" fmla="*/ 304560 h 304560"/>
            </a:gdLst>
            <a:ahLst/>
            <a:rect l="textAreaLeft" t="textAreaTop" r="textAreaRight" b="textAreaBottom"/>
            <a:pathLst>
              <a:path w="327269" h="304801">
                <a:moveTo>
                  <a:pt x="190108" y="0"/>
                </a:moveTo>
                <a:lnTo>
                  <a:pt x="190108" y="6561"/>
                </a:lnTo>
                <a:lnTo>
                  <a:pt x="184871" y="13494"/>
                </a:lnTo>
                <a:lnTo>
                  <a:pt x="182348" y="20555"/>
                </a:lnTo>
                <a:lnTo>
                  <a:pt x="176613" y="28857"/>
                </a:lnTo>
                <a:lnTo>
                  <a:pt x="171975" y="37096"/>
                </a:lnTo>
                <a:lnTo>
                  <a:pt x="164603" y="51256"/>
                </a:lnTo>
                <a:lnTo>
                  <a:pt x="162098" y="57030"/>
                </a:lnTo>
                <a:lnTo>
                  <a:pt x="159582" y="63420"/>
                </a:lnTo>
                <a:lnTo>
                  <a:pt x="157057" y="70220"/>
                </a:lnTo>
                <a:lnTo>
                  <a:pt x="153680" y="76447"/>
                </a:lnTo>
                <a:lnTo>
                  <a:pt x="149736" y="82291"/>
                </a:lnTo>
                <a:lnTo>
                  <a:pt x="145413" y="87881"/>
                </a:lnTo>
                <a:lnTo>
                  <a:pt x="140839" y="94148"/>
                </a:lnTo>
                <a:lnTo>
                  <a:pt x="131239" y="107883"/>
                </a:lnTo>
                <a:lnTo>
                  <a:pt x="125462" y="115102"/>
                </a:lnTo>
                <a:lnTo>
                  <a:pt x="119070" y="122455"/>
                </a:lnTo>
                <a:lnTo>
                  <a:pt x="112270" y="129897"/>
                </a:lnTo>
                <a:lnTo>
                  <a:pt x="106042" y="137398"/>
                </a:lnTo>
                <a:lnTo>
                  <a:pt x="100198" y="144938"/>
                </a:lnTo>
                <a:lnTo>
                  <a:pt x="94608" y="152506"/>
                </a:lnTo>
                <a:lnTo>
                  <a:pt x="83881" y="167687"/>
                </a:lnTo>
                <a:lnTo>
                  <a:pt x="47894" y="220983"/>
                </a:lnTo>
                <a:lnTo>
                  <a:pt x="42806" y="227755"/>
                </a:lnTo>
                <a:lnTo>
                  <a:pt x="37719" y="233963"/>
                </a:lnTo>
                <a:lnTo>
                  <a:pt x="32636" y="239796"/>
                </a:lnTo>
                <a:lnTo>
                  <a:pt x="27553" y="245377"/>
                </a:lnTo>
                <a:lnTo>
                  <a:pt x="17390" y="256094"/>
                </a:lnTo>
                <a:lnTo>
                  <a:pt x="14003" y="261323"/>
                </a:lnTo>
                <a:lnTo>
                  <a:pt x="11744" y="266502"/>
                </a:lnTo>
                <a:lnTo>
                  <a:pt x="10239" y="271648"/>
                </a:lnTo>
                <a:lnTo>
                  <a:pt x="8389" y="275079"/>
                </a:lnTo>
                <a:lnTo>
                  <a:pt x="6309" y="277365"/>
                </a:lnTo>
                <a:lnTo>
                  <a:pt x="4075" y="278890"/>
                </a:lnTo>
                <a:lnTo>
                  <a:pt x="2586" y="280754"/>
                </a:lnTo>
                <a:lnTo>
                  <a:pt x="1593" y="282843"/>
                </a:lnTo>
                <a:lnTo>
                  <a:pt x="0" y="288233"/>
                </a:lnTo>
                <a:lnTo>
                  <a:pt x="716" y="289522"/>
                </a:lnTo>
                <a:lnTo>
                  <a:pt x="3769" y="293212"/>
                </a:lnTo>
                <a:lnTo>
                  <a:pt x="5769" y="294535"/>
                </a:lnTo>
                <a:lnTo>
                  <a:pt x="10248" y="296004"/>
                </a:lnTo>
                <a:lnTo>
                  <a:pt x="17319" y="296657"/>
                </a:lnTo>
                <a:lnTo>
                  <a:pt x="21576" y="296832"/>
                </a:lnTo>
                <a:lnTo>
                  <a:pt x="26952" y="296101"/>
                </a:lnTo>
                <a:lnTo>
                  <a:pt x="33078" y="294767"/>
                </a:lnTo>
                <a:lnTo>
                  <a:pt x="39701" y="293031"/>
                </a:lnTo>
                <a:lnTo>
                  <a:pt x="46657" y="291874"/>
                </a:lnTo>
                <a:lnTo>
                  <a:pt x="53834" y="291103"/>
                </a:lnTo>
                <a:lnTo>
                  <a:pt x="61159" y="290589"/>
                </a:lnTo>
                <a:lnTo>
                  <a:pt x="69429" y="290246"/>
                </a:lnTo>
                <a:lnTo>
                  <a:pt x="87648" y="289865"/>
                </a:lnTo>
                <a:lnTo>
                  <a:pt x="97248" y="290610"/>
                </a:lnTo>
                <a:lnTo>
                  <a:pt x="107034" y="291953"/>
                </a:lnTo>
                <a:lnTo>
                  <a:pt x="116946" y="293696"/>
                </a:lnTo>
                <a:lnTo>
                  <a:pt x="127786" y="294857"/>
                </a:lnTo>
                <a:lnTo>
                  <a:pt x="139247" y="295631"/>
                </a:lnTo>
                <a:lnTo>
                  <a:pt x="162423" y="296492"/>
                </a:lnTo>
                <a:lnTo>
                  <a:pt x="184013" y="296874"/>
                </a:lnTo>
                <a:lnTo>
                  <a:pt x="194511" y="297823"/>
                </a:lnTo>
                <a:lnTo>
                  <a:pt x="204897" y="299302"/>
                </a:lnTo>
                <a:lnTo>
                  <a:pt x="215207" y="301134"/>
                </a:lnTo>
                <a:lnTo>
                  <a:pt x="224621" y="302357"/>
                </a:lnTo>
                <a:lnTo>
                  <a:pt x="233436" y="303171"/>
                </a:lnTo>
                <a:lnTo>
                  <a:pt x="241854" y="303714"/>
                </a:lnTo>
                <a:lnTo>
                  <a:pt x="257979" y="304317"/>
                </a:lnTo>
                <a:lnTo>
                  <a:pt x="284983" y="304705"/>
                </a:lnTo>
                <a:lnTo>
                  <a:pt x="327268" y="3048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MARTInkAnnotation247"/>
          <p:cNvSpPr/>
          <p:nvPr/>
        </p:nvSpPr>
        <p:spPr>
          <a:xfrm>
            <a:off x="4116240" y="3687840"/>
            <a:ext cx="135000" cy="152280"/>
          </a:xfrm>
          <a:custGeom>
            <a:avLst/>
            <a:gdLst>
              <a:gd name="textAreaLeft" fmla="*/ 0 w 135000"/>
              <a:gd name="textAreaRight" fmla="*/ 135360 w 135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35171" h="152398">
                <a:moveTo>
                  <a:pt x="127864" y="0"/>
                </a:moveTo>
                <a:lnTo>
                  <a:pt x="135170" y="0"/>
                </a:lnTo>
                <a:lnTo>
                  <a:pt x="88086" y="0"/>
                </a:lnTo>
                <a:lnTo>
                  <a:pt x="81025" y="847"/>
                </a:lnTo>
                <a:lnTo>
                  <a:pt x="73778" y="2258"/>
                </a:lnTo>
                <a:lnTo>
                  <a:pt x="66406" y="4045"/>
                </a:lnTo>
                <a:lnTo>
                  <a:pt x="58952" y="6083"/>
                </a:lnTo>
                <a:lnTo>
                  <a:pt x="43897" y="10606"/>
                </a:lnTo>
                <a:lnTo>
                  <a:pt x="37173" y="12151"/>
                </a:lnTo>
                <a:lnTo>
                  <a:pt x="30996" y="13180"/>
                </a:lnTo>
                <a:lnTo>
                  <a:pt x="25186" y="13867"/>
                </a:lnTo>
                <a:lnTo>
                  <a:pt x="20466" y="15171"/>
                </a:lnTo>
                <a:lnTo>
                  <a:pt x="16472" y="16887"/>
                </a:lnTo>
                <a:lnTo>
                  <a:pt x="12963" y="18879"/>
                </a:lnTo>
                <a:lnTo>
                  <a:pt x="9777" y="21052"/>
                </a:lnTo>
                <a:lnTo>
                  <a:pt x="6806" y="23348"/>
                </a:lnTo>
                <a:lnTo>
                  <a:pt x="3979" y="25725"/>
                </a:lnTo>
                <a:lnTo>
                  <a:pt x="2094" y="28157"/>
                </a:lnTo>
                <a:lnTo>
                  <a:pt x="838" y="30625"/>
                </a:lnTo>
                <a:lnTo>
                  <a:pt x="0" y="33116"/>
                </a:lnTo>
                <a:lnTo>
                  <a:pt x="288" y="35624"/>
                </a:lnTo>
                <a:lnTo>
                  <a:pt x="1327" y="38143"/>
                </a:lnTo>
                <a:lnTo>
                  <a:pt x="2866" y="40669"/>
                </a:lnTo>
                <a:lnTo>
                  <a:pt x="5586" y="43199"/>
                </a:lnTo>
                <a:lnTo>
                  <a:pt x="9092" y="45733"/>
                </a:lnTo>
                <a:lnTo>
                  <a:pt x="13123" y="48268"/>
                </a:lnTo>
                <a:lnTo>
                  <a:pt x="16657" y="50806"/>
                </a:lnTo>
                <a:lnTo>
                  <a:pt x="19859" y="53344"/>
                </a:lnTo>
                <a:lnTo>
                  <a:pt x="22841" y="55883"/>
                </a:lnTo>
                <a:lnTo>
                  <a:pt x="26522" y="58422"/>
                </a:lnTo>
                <a:lnTo>
                  <a:pt x="30670" y="60961"/>
                </a:lnTo>
                <a:lnTo>
                  <a:pt x="35128" y="63501"/>
                </a:lnTo>
                <a:lnTo>
                  <a:pt x="44597" y="68581"/>
                </a:lnTo>
                <a:lnTo>
                  <a:pt x="49493" y="71120"/>
                </a:lnTo>
                <a:lnTo>
                  <a:pt x="53603" y="73660"/>
                </a:lnTo>
                <a:lnTo>
                  <a:pt x="57190" y="76200"/>
                </a:lnTo>
                <a:lnTo>
                  <a:pt x="60429" y="78740"/>
                </a:lnTo>
                <a:lnTo>
                  <a:pt x="63434" y="81280"/>
                </a:lnTo>
                <a:lnTo>
                  <a:pt x="66284" y="83820"/>
                </a:lnTo>
                <a:lnTo>
                  <a:pt x="69031" y="86360"/>
                </a:lnTo>
                <a:lnTo>
                  <a:pt x="70862" y="88900"/>
                </a:lnTo>
                <a:lnTo>
                  <a:pt x="72082" y="91440"/>
                </a:lnTo>
                <a:lnTo>
                  <a:pt x="72896" y="93980"/>
                </a:lnTo>
                <a:lnTo>
                  <a:pt x="72592" y="95673"/>
                </a:lnTo>
                <a:lnTo>
                  <a:pt x="71543" y="96803"/>
                </a:lnTo>
                <a:lnTo>
                  <a:pt x="69997" y="97555"/>
                </a:lnTo>
                <a:lnTo>
                  <a:pt x="68966" y="98904"/>
                </a:lnTo>
                <a:lnTo>
                  <a:pt x="68279" y="100649"/>
                </a:lnTo>
                <a:lnTo>
                  <a:pt x="67820" y="102659"/>
                </a:lnTo>
                <a:lnTo>
                  <a:pt x="65822" y="104846"/>
                </a:lnTo>
                <a:lnTo>
                  <a:pt x="62796" y="107151"/>
                </a:lnTo>
                <a:lnTo>
                  <a:pt x="59086" y="109534"/>
                </a:lnTo>
                <a:lnTo>
                  <a:pt x="55765" y="111969"/>
                </a:lnTo>
                <a:lnTo>
                  <a:pt x="52705" y="114439"/>
                </a:lnTo>
                <a:lnTo>
                  <a:pt x="49818" y="116933"/>
                </a:lnTo>
                <a:lnTo>
                  <a:pt x="46200" y="118595"/>
                </a:lnTo>
                <a:lnTo>
                  <a:pt x="42095" y="119704"/>
                </a:lnTo>
                <a:lnTo>
                  <a:pt x="37665" y="120443"/>
                </a:lnTo>
                <a:lnTo>
                  <a:pt x="33865" y="121782"/>
                </a:lnTo>
                <a:lnTo>
                  <a:pt x="30484" y="123521"/>
                </a:lnTo>
                <a:lnTo>
                  <a:pt x="27384" y="125528"/>
                </a:lnTo>
                <a:lnTo>
                  <a:pt x="25318" y="127712"/>
                </a:lnTo>
                <a:lnTo>
                  <a:pt x="23940" y="130015"/>
                </a:lnTo>
                <a:lnTo>
                  <a:pt x="23022" y="132396"/>
                </a:lnTo>
                <a:lnTo>
                  <a:pt x="21563" y="133984"/>
                </a:lnTo>
                <a:lnTo>
                  <a:pt x="19743" y="135043"/>
                </a:lnTo>
                <a:lnTo>
                  <a:pt x="17683" y="135749"/>
                </a:lnTo>
                <a:lnTo>
                  <a:pt x="16310" y="137066"/>
                </a:lnTo>
                <a:lnTo>
                  <a:pt x="15395" y="138791"/>
                </a:lnTo>
                <a:lnTo>
                  <a:pt x="14785" y="140787"/>
                </a:lnTo>
                <a:lnTo>
                  <a:pt x="15225" y="142965"/>
                </a:lnTo>
                <a:lnTo>
                  <a:pt x="17972" y="147642"/>
                </a:lnTo>
                <a:lnTo>
                  <a:pt x="19889" y="149228"/>
                </a:lnTo>
                <a:lnTo>
                  <a:pt x="22014" y="150286"/>
                </a:lnTo>
                <a:lnTo>
                  <a:pt x="24278" y="150990"/>
                </a:lnTo>
                <a:lnTo>
                  <a:pt x="26634" y="151460"/>
                </a:lnTo>
                <a:lnTo>
                  <a:pt x="29050" y="151774"/>
                </a:lnTo>
                <a:lnTo>
                  <a:pt x="31508" y="151983"/>
                </a:lnTo>
                <a:lnTo>
                  <a:pt x="35687" y="152122"/>
                </a:lnTo>
                <a:lnTo>
                  <a:pt x="60644" y="152346"/>
                </a:lnTo>
                <a:lnTo>
                  <a:pt x="104613" y="152397"/>
                </a:lnTo>
                <a:lnTo>
                  <a:pt x="108977" y="151552"/>
                </a:lnTo>
                <a:lnTo>
                  <a:pt x="113580" y="150141"/>
                </a:lnTo>
                <a:lnTo>
                  <a:pt x="127864" y="1447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MARTInkAnnotation248"/>
          <p:cNvSpPr/>
          <p:nvPr/>
        </p:nvSpPr>
        <p:spPr>
          <a:xfrm>
            <a:off x="4359240" y="3467160"/>
            <a:ext cx="196920" cy="426960"/>
          </a:xfrm>
          <a:custGeom>
            <a:avLst/>
            <a:gdLst>
              <a:gd name="textAreaLeft" fmla="*/ 0 w 196920"/>
              <a:gd name="textAreaRight" fmla="*/ 197280 w 19692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198093" h="426577">
                <a:moveTo>
                  <a:pt x="190499" y="114156"/>
                </a:moveTo>
                <a:lnTo>
                  <a:pt x="194544" y="110111"/>
                </a:lnTo>
                <a:lnTo>
                  <a:pt x="195736" y="108073"/>
                </a:lnTo>
                <a:lnTo>
                  <a:pt x="197060" y="103550"/>
                </a:lnTo>
                <a:lnTo>
                  <a:pt x="197910" y="92901"/>
                </a:lnTo>
                <a:lnTo>
                  <a:pt x="198078" y="75370"/>
                </a:lnTo>
                <a:lnTo>
                  <a:pt x="198092" y="70519"/>
                </a:lnTo>
                <a:lnTo>
                  <a:pt x="195848" y="60613"/>
                </a:lnTo>
                <a:lnTo>
                  <a:pt x="192030" y="50566"/>
                </a:lnTo>
                <a:lnTo>
                  <a:pt x="187511" y="40456"/>
                </a:lnTo>
                <a:lnTo>
                  <a:pt x="184273" y="35389"/>
                </a:lnTo>
                <a:lnTo>
                  <a:pt x="180421" y="30319"/>
                </a:lnTo>
                <a:lnTo>
                  <a:pt x="176161" y="25245"/>
                </a:lnTo>
                <a:lnTo>
                  <a:pt x="171627" y="21015"/>
                </a:lnTo>
                <a:lnTo>
                  <a:pt x="166911" y="17349"/>
                </a:lnTo>
                <a:lnTo>
                  <a:pt x="162074" y="14058"/>
                </a:lnTo>
                <a:lnTo>
                  <a:pt x="158002" y="11018"/>
                </a:lnTo>
                <a:lnTo>
                  <a:pt x="154441" y="8144"/>
                </a:lnTo>
                <a:lnTo>
                  <a:pt x="151221" y="5381"/>
                </a:lnTo>
                <a:lnTo>
                  <a:pt x="147380" y="3539"/>
                </a:lnTo>
                <a:lnTo>
                  <a:pt x="143126" y="2312"/>
                </a:lnTo>
                <a:lnTo>
                  <a:pt x="138597" y="1493"/>
                </a:lnTo>
                <a:lnTo>
                  <a:pt x="133038" y="948"/>
                </a:lnTo>
                <a:lnTo>
                  <a:pt x="126791" y="584"/>
                </a:lnTo>
                <a:lnTo>
                  <a:pt x="110380" y="72"/>
                </a:lnTo>
                <a:lnTo>
                  <a:pt x="106607" y="0"/>
                </a:lnTo>
                <a:lnTo>
                  <a:pt x="102398" y="799"/>
                </a:lnTo>
                <a:lnTo>
                  <a:pt x="97898" y="2178"/>
                </a:lnTo>
                <a:lnTo>
                  <a:pt x="93205" y="3944"/>
                </a:lnTo>
                <a:lnTo>
                  <a:pt x="89230" y="5968"/>
                </a:lnTo>
                <a:lnTo>
                  <a:pt x="85733" y="8164"/>
                </a:lnTo>
                <a:lnTo>
                  <a:pt x="82555" y="10475"/>
                </a:lnTo>
                <a:lnTo>
                  <a:pt x="76767" y="17558"/>
                </a:lnTo>
                <a:lnTo>
                  <a:pt x="66490" y="33323"/>
                </a:lnTo>
                <a:lnTo>
                  <a:pt x="62106" y="39947"/>
                </a:lnTo>
                <a:lnTo>
                  <a:pt x="59184" y="46904"/>
                </a:lnTo>
                <a:lnTo>
                  <a:pt x="57236" y="54081"/>
                </a:lnTo>
                <a:lnTo>
                  <a:pt x="55937" y="61406"/>
                </a:lnTo>
                <a:lnTo>
                  <a:pt x="54224" y="68830"/>
                </a:lnTo>
                <a:lnTo>
                  <a:pt x="52236" y="76318"/>
                </a:lnTo>
                <a:lnTo>
                  <a:pt x="50064" y="83851"/>
                </a:lnTo>
                <a:lnTo>
                  <a:pt x="42962" y="110633"/>
                </a:lnTo>
                <a:lnTo>
                  <a:pt x="41340" y="120274"/>
                </a:lnTo>
                <a:lnTo>
                  <a:pt x="40260" y="130088"/>
                </a:lnTo>
                <a:lnTo>
                  <a:pt x="39540" y="140018"/>
                </a:lnTo>
                <a:lnTo>
                  <a:pt x="39060" y="150024"/>
                </a:lnTo>
                <a:lnTo>
                  <a:pt x="38526" y="170173"/>
                </a:lnTo>
                <a:lnTo>
                  <a:pt x="38226" y="200557"/>
                </a:lnTo>
                <a:lnTo>
                  <a:pt x="37337" y="211550"/>
                </a:lnTo>
                <a:lnTo>
                  <a:pt x="35898" y="223112"/>
                </a:lnTo>
                <a:lnTo>
                  <a:pt x="34092" y="235053"/>
                </a:lnTo>
                <a:lnTo>
                  <a:pt x="32888" y="246401"/>
                </a:lnTo>
                <a:lnTo>
                  <a:pt x="32084" y="257353"/>
                </a:lnTo>
                <a:lnTo>
                  <a:pt x="31193" y="277706"/>
                </a:lnTo>
                <a:lnTo>
                  <a:pt x="30796" y="295219"/>
                </a:lnTo>
                <a:lnTo>
                  <a:pt x="29844" y="304291"/>
                </a:lnTo>
                <a:lnTo>
                  <a:pt x="28363" y="313726"/>
                </a:lnTo>
                <a:lnTo>
                  <a:pt x="26529" y="323403"/>
                </a:lnTo>
                <a:lnTo>
                  <a:pt x="24459" y="332394"/>
                </a:lnTo>
                <a:lnTo>
                  <a:pt x="22233" y="340928"/>
                </a:lnTo>
                <a:lnTo>
                  <a:pt x="19901" y="349158"/>
                </a:lnTo>
                <a:lnTo>
                  <a:pt x="18347" y="356337"/>
                </a:lnTo>
                <a:lnTo>
                  <a:pt x="16621" y="368830"/>
                </a:lnTo>
                <a:lnTo>
                  <a:pt x="13596" y="380027"/>
                </a:lnTo>
                <a:lnTo>
                  <a:pt x="10275" y="390648"/>
                </a:lnTo>
                <a:lnTo>
                  <a:pt x="8799" y="401013"/>
                </a:lnTo>
                <a:lnTo>
                  <a:pt x="5887" y="409005"/>
                </a:lnTo>
                <a:lnTo>
                  <a:pt x="1162" y="416991"/>
                </a:lnTo>
                <a:lnTo>
                  <a:pt x="516" y="420340"/>
                </a:lnTo>
                <a:lnTo>
                  <a:pt x="0" y="42657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MARTInkAnnotation249"/>
          <p:cNvSpPr/>
          <p:nvPr/>
        </p:nvSpPr>
        <p:spPr>
          <a:xfrm>
            <a:off x="4267080" y="3755880"/>
            <a:ext cx="190800" cy="32040"/>
          </a:xfrm>
          <a:custGeom>
            <a:avLst/>
            <a:gdLst>
              <a:gd name="textAreaLeft" fmla="*/ 0 w 190800"/>
              <a:gd name="textAreaRight" fmla="*/ 191160 w 19080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190501" h="30481">
                <a:moveTo>
                  <a:pt x="0" y="30480"/>
                </a:moveTo>
                <a:lnTo>
                  <a:pt x="4045" y="26435"/>
                </a:lnTo>
                <a:lnTo>
                  <a:pt x="6083" y="25244"/>
                </a:lnTo>
                <a:lnTo>
                  <a:pt x="8289" y="24449"/>
                </a:lnTo>
                <a:lnTo>
                  <a:pt x="13844" y="23566"/>
                </a:lnTo>
                <a:lnTo>
                  <a:pt x="17696" y="23331"/>
                </a:lnTo>
                <a:lnTo>
                  <a:pt x="21958" y="23174"/>
                </a:lnTo>
                <a:lnTo>
                  <a:pt x="26491" y="22223"/>
                </a:lnTo>
                <a:lnTo>
                  <a:pt x="31207" y="20742"/>
                </a:lnTo>
                <a:lnTo>
                  <a:pt x="36045" y="18908"/>
                </a:lnTo>
                <a:lnTo>
                  <a:pt x="42657" y="17686"/>
                </a:lnTo>
                <a:lnTo>
                  <a:pt x="50451" y="16870"/>
                </a:lnTo>
                <a:lnTo>
                  <a:pt x="59034" y="16327"/>
                </a:lnTo>
                <a:lnTo>
                  <a:pt x="68143" y="15965"/>
                </a:lnTo>
                <a:lnTo>
                  <a:pt x="87295" y="15562"/>
                </a:lnTo>
                <a:lnTo>
                  <a:pt x="97143" y="14608"/>
                </a:lnTo>
                <a:lnTo>
                  <a:pt x="107095" y="13126"/>
                </a:lnTo>
                <a:lnTo>
                  <a:pt x="117117" y="11291"/>
                </a:lnTo>
                <a:lnTo>
                  <a:pt x="127185" y="9220"/>
                </a:lnTo>
                <a:lnTo>
                  <a:pt x="147403" y="4662"/>
                </a:lnTo>
                <a:lnTo>
                  <a:pt x="155842" y="3108"/>
                </a:lnTo>
                <a:lnTo>
                  <a:pt x="163162" y="2072"/>
                </a:lnTo>
                <a:lnTo>
                  <a:pt x="169735" y="1382"/>
                </a:lnTo>
                <a:lnTo>
                  <a:pt x="174963" y="921"/>
                </a:lnTo>
                <a:lnTo>
                  <a:pt x="179296" y="614"/>
                </a:lnTo>
                <a:lnTo>
                  <a:pt x="19050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MARTInkAnnotation250"/>
          <p:cNvSpPr/>
          <p:nvPr/>
        </p:nvSpPr>
        <p:spPr>
          <a:xfrm>
            <a:off x="4626000" y="3589200"/>
            <a:ext cx="6480" cy="304920"/>
          </a:xfrm>
          <a:custGeom>
            <a:avLst/>
            <a:gdLst>
              <a:gd name="textAreaLeft" fmla="*/ 0 w 6480"/>
              <a:gd name="textAreaRight" fmla="*/ 6840 w 64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7620" h="304801">
                <a:moveTo>
                  <a:pt x="0" y="0"/>
                </a:moveTo>
                <a:lnTo>
                  <a:pt x="0" y="4045"/>
                </a:lnTo>
                <a:lnTo>
                  <a:pt x="846" y="6083"/>
                </a:lnTo>
                <a:lnTo>
                  <a:pt x="2257" y="8289"/>
                </a:lnTo>
                <a:lnTo>
                  <a:pt x="4044" y="10606"/>
                </a:lnTo>
                <a:lnTo>
                  <a:pt x="5236" y="13844"/>
                </a:lnTo>
                <a:lnTo>
                  <a:pt x="6030" y="17697"/>
                </a:lnTo>
                <a:lnTo>
                  <a:pt x="6560" y="21958"/>
                </a:lnTo>
                <a:lnTo>
                  <a:pt x="6913" y="26492"/>
                </a:lnTo>
                <a:lnTo>
                  <a:pt x="7148" y="31208"/>
                </a:lnTo>
                <a:lnTo>
                  <a:pt x="7305" y="36045"/>
                </a:lnTo>
                <a:lnTo>
                  <a:pt x="7557" y="61213"/>
                </a:lnTo>
                <a:lnTo>
                  <a:pt x="7619" y="197043"/>
                </a:lnTo>
                <a:lnTo>
                  <a:pt x="6772" y="205022"/>
                </a:lnTo>
                <a:lnTo>
                  <a:pt x="5361" y="212882"/>
                </a:lnTo>
                <a:lnTo>
                  <a:pt x="3575" y="220661"/>
                </a:lnTo>
                <a:lnTo>
                  <a:pt x="2383" y="228388"/>
                </a:lnTo>
                <a:lnTo>
                  <a:pt x="1588" y="236079"/>
                </a:lnTo>
                <a:lnTo>
                  <a:pt x="1058" y="243746"/>
                </a:lnTo>
                <a:lnTo>
                  <a:pt x="470" y="256780"/>
                </a:lnTo>
                <a:lnTo>
                  <a:pt x="139" y="273639"/>
                </a:lnTo>
                <a:lnTo>
                  <a:pt x="0" y="3048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MARTInkAnnotation251"/>
          <p:cNvSpPr/>
          <p:nvPr/>
        </p:nvSpPr>
        <p:spPr>
          <a:xfrm>
            <a:off x="4525920" y="3755880"/>
            <a:ext cx="236520" cy="32040"/>
          </a:xfrm>
          <a:custGeom>
            <a:avLst/>
            <a:gdLst>
              <a:gd name="textAreaLeft" fmla="*/ 0 w 236520"/>
              <a:gd name="textAreaRight" fmla="*/ 236880 w 23652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236221" h="30481">
                <a:moveTo>
                  <a:pt x="0" y="30480"/>
                </a:moveTo>
                <a:lnTo>
                  <a:pt x="4045" y="26435"/>
                </a:lnTo>
                <a:lnTo>
                  <a:pt x="6083" y="25244"/>
                </a:lnTo>
                <a:lnTo>
                  <a:pt x="8289" y="24449"/>
                </a:lnTo>
                <a:lnTo>
                  <a:pt x="12997" y="23566"/>
                </a:lnTo>
                <a:lnTo>
                  <a:pt x="17912" y="23174"/>
                </a:lnTo>
                <a:lnTo>
                  <a:pt x="27435" y="23000"/>
                </a:lnTo>
                <a:lnTo>
                  <a:pt x="58289" y="22888"/>
                </a:lnTo>
                <a:lnTo>
                  <a:pt x="67647" y="22032"/>
                </a:lnTo>
                <a:lnTo>
                  <a:pt x="77270" y="20614"/>
                </a:lnTo>
                <a:lnTo>
                  <a:pt x="87074" y="18823"/>
                </a:lnTo>
                <a:lnTo>
                  <a:pt x="96149" y="17629"/>
                </a:lnTo>
                <a:lnTo>
                  <a:pt x="104740" y="16833"/>
                </a:lnTo>
                <a:lnTo>
                  <a:pt x="113007" y="16302"/>
                </a:lnTo>
                <a:lnTo>
                  <a:pt x="121904" y="15948"/>
                </a:lnTo>
                <a:lnTo>
                  <a:pt x="149762" y="15450"/>
                </a:lnTo>
                <a:lnTo>
                  <a:pt x="166468" y="15333"/>
                </a:lnTo>
                <a:lnTo>
                  <a:pt x="175325" y="14456"/>
                </a:lnTo>
                <a:lnTo>
                  <a:pt x="184617" y="13023"/>
                </a:lnTo>
                <a:lnTo>
                  <a:pt x="194198" y="11223"/>
                </a:lnTo>
                <a:lnTo>
                  <a:pt x="202279" y="9175"/>
                </a:lnTo>
                <a:lnTo>
                  <a:pt x="209359" y="6963"/>
                </a:lnTo>
                <a:lnTo>
                  <a:pt x="215773" y="4643"/>
                </a:lnTo>
                <a:lnTo>
                  <a:pt x="220895" y="3095"/>
                </a:lnTo>
                <a:lnTo>
                  <a:pt x="225156" y="2064"/>
                </a:lnTo>
                <a:lnTo>
                  <a:pt x="23622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MARTInkAnnotation252"/>
          <p:cNvSpPr/>
          <p:nvPr/>
        </p:nvSpPr>
        <p:spPr>
          <a:xfrm>
            <a:off x="5024520" y="3581280"/>
            <a:ext cx="42840" cy="312840"/>
          </a:xfrm>
          <a:custGeom>
            <a:avLst/>
            <a:gdLst>
              <a:gd name="textAreaLeft" fmla="*/ 0 w 42840"/>
              <a:gd name="textAreaRight" fmla="*/ 42840 w 42840"/>
              <a:gd name="textAreaTop" fmla="*/ 0 h 312840"/>
              <a:gd name="textAreaBottom" fmla="*/ 313200 h 312840"/>
            </a:gdLst>
            <a:ahLst/>
            <a:rect l="textAreaLeft" t="textAreaTop" r="textAreaRight" b="textAreaBottom"/>
            <a:pathLst>
              <a:path w="42467" h="312421">
                <a:moveTo>
                  <a:pt x="42466" y="0"/>
                </a:moveTo>
                <a:lnTo>
                  <a:pt x="42466" y="29484"/>
                </a:lnTo>
                <a:lnTo>
                  <a:pt x="41620" y="34896"/>
                </a:lnTo>
                <a:lnTo>
                  <a:pt x="40208" y="41044"/>
                </a:lnTo>
                <a:lnTo>
                  <a:pt x="38421" y="47683"/>
                </a:lnTo>
                <a:lnTo>
                  <a:pt x="37229" y="53802"/>
                </a:lnTo>
                <a:lnTo>
                  <a:pt x="36435" y="59575"/>
                </a:lnTo>
                <a:lnTo>
                  <a:pt x="35905" y="65117"/>
                </a:lnTo>
                <a:lnTo>
                  <a:pt x="34706" y="72198"/>
                </a:lnTo>
                <a:lnTo>
                  <a:pt x="33059" y="80305"/>
                </a:lnTo>
                <a:lnTo>
                  <a:pt x="31115" y="89097"/>
                </a:lnTo>
                <a:lnTo>
                  <a:pt x="28971" y="97498"/>
                </a:lnTo>
                <a:lnTo>
                  <a:pt x="26696" y="105639"/>
                </a:lnTo>
                <a:lnTo>
                  <a:pt x="24333" y="113606"/>
                </a:lnTo>
                <a:lnTo>
                  <a:pt x="22758" y="121457"/>
                </a:lnTo>
                <a:lnTo>
                  <a:pt x="21707" y="129232"/>
                </a:lnTo>
                <a:lnTo>
                  <a:pt x="21007" y="136954"/>
                </a:lnTo>
                <a:lnTo>
                  <a:pt x="20540" y="145490"/>
                </a:lnTo>
                <a:lnTo>
                  <a:pt x="20021" y="164004"/>
                </a:lnTo>
                <a:lnTo>
                  <a:pt x="19036" y="173683"/>
                </a:lnTo>
                <a:lnTo>
                  <a:pt x="17533" y="183522"/>
                </a:lnTo>
                <a:lnTo>
                  <a:pt x="15684" y="193468"/>
                </a:lnTo>
                <a:lnTo>
                  <a:pt x="13605" y="202639"/>
                </a:lnTo>
                <a:lnTo>
                  <a:pt x="11372" y="211293"/>
                </a:lnTo>
                <a:lnTo>
                  <a:pt x="9036" y="219602"/>
                </a:lnTo>
                <a:lnTo>
                  <a:pt x="7480" y="227681"/>
                </a:lnTo>
                <a:lnTo>
                  <a:pt x="6442" y="235607"/>
                </a:lnTo>
                <a:lnTo>
                  <a:pt x="5750" y="243432"/>
                </a:lnTo>
                <a:lnTo>
                  <a:pt x="5288" y="250341"/>
                </a:lnTo>
                <a:lnTo>
                  <a:pt x="4776" y="262534"/>
                </a:lnTo>
                <a:lnTo>
                  <a:pt x="4487" y="278919"/>
                </a:lnTo>
                <a:lnTo>
                  <a:pt x="3600" y="284159"/>
                </a:lnTo>
                <a:lnTo>
                  <a:pt x="2161" y="289346"/>
                </a:lnTo>
                <a:lnTo>
                  <a:pt x="357" y="294498"/>
                </a:lnTo>
                <a:lnTo>
                  <a:pt x="0" y="297932"/>
                </a:lnTo>
                <a:lnTo>
                  <a:pt x="608" y="300221"/>
                </a:lnTo>
                <a:lnTo>
                  <a:pt x="1861" y="301748"/>
                </a:lnTo>
                <a:lnTo>
                  <a:pt x="2696" y="303612"/>
                </a:lnTo>
                <a:lnTo>
                  <a:pt x="3253" y="305702"/>
                </a:lnTo>
                <a:lnTo>
                  <a:pt x="4366" y="3124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MARTInkAnnotation253"/>
          <p:cNvSpPr/>
          <p:nvPr/>
        </p:nvSpPr>
        <p:spPr>
          <a:xfrm>
            <a:off x="4923000" y="3763800"/>
            <a:ext cx="204480" cy="8280"/>
          </a:xfrm>
          <a:custGeom>
            <a:avLst/>
            <a:gdLst>
              <a:gd name="textAreaLeft" fmla="*/ 0 w 204480"/>
              <a:gd name="textAreaRight" fmla="*/ 204840 w 204480"/>
              <a:gd name="textAreaTop" fmla="*/ 0 h 8280"/>
              <a:gd name="textAreaBottom" fmla="*/ 8640 h 8280"/>
            </a:gdLst>
            <a:ahLst/>
            <a:rect l="textAreaLeft" t="textAreaTop" r="textAreaRight" b="textAreaBottom"/>
            <a:pathLst>
              <a:path w="205741" h="7593">
                <a:moveTo>
                  <a:pt x="0" y="7592"/>
                </a:moveTo>
                <a:lnTo>
                  <a:pt x="4045" y="7592"/>
                </a:lnTo>
                <a:lnTo>
                  <a:pt x="6084" y="6746"/>
                </a:lnTo>
                <a:lnTo>
                  <a:pt x="8289" y="5335"/>
                </a:lnTo>
                <a:lnTo>
                  <a:pt x="10606" y="3547"/>
                </a:lnTo>
                <a:lnTo>
                  <a:pt x="12997" y="2355"/>
                </a:lnTo>
                <a:lnTo>
                  <a:pt x="15439" y="1561"/>
                </a:lnTo>
                <a:lnTo>
                  <a:pt x="17912" y="1032"/>
                </a:lnTo>
                <a:lnTo>
                  <a:pt x="21255" y="678"/>
                </a:lnTo>
                <a:lnTo>
                  <a:pt x="25176" y="443"/>
                </a:lnTo>
                <a:lnTo>
                  <a:pt x="29484" y="286"/>
                </a:lnTo>
                <a:lnTo>
                  <a:pt x="60732" y="34"/>
                </a:lnTo>
                <a:lnTo>
                  <a:pt x="79768" y="0"/>
                </a:lnTo>
                <a:lnTo>
                  <a:pt x="89585" y="837"/>
                </a:lnTo>
                <a:lnTo>
                  <a:pt x="99517" y="2242"/>
                </a:lnTo>
                <a:lnTo>
                  <a:pt x="109524" y="4026"/>
                </a:lnTo>
                <a:lnTo>
                  <a:pt x="119583" y="5215"/>
                </a:lnTo>
                <a:lnTo>
                  <a:pt x="129675" y="6007"/>
                </a:lnTo>
                <a:lnTo>
                  <a:pt x="139790" y="6536"/>
                </a:lnTo>
                <a:lnTo>
                  <a:pt x="160060" y="7122"/>
                </a:lnTo>
                <a:lnTo>
                  <a:pt x="205740" y="759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MARTInkAnnotation254"/>
          <p:cNvSpPr/>
          <p:nvPr/>
        </p:nvSpPr>
        <p:spPr>
          <a:xfrm>
            <a:off x="5151600" y="3741840"/>
            <a:ext cx="133200" cy="106200"/>
          </a:xfrm>
          <a:custGeom>
            <a:avLst/>
            <a:gdLst>
              <a:gd name="textAreaLeft" fmla="*/ 0 w 133200"/>
              <a:gd name="textAreaRight" fmla="*/ 133560 w 13320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132966" h="106546">
                <a:moveTo>
                  <a:pt x="120973" y="15240"/>
                </a:moveTo>
                <a:lnTo>
                  <a:pt x="132610" y="15240"/>
                </a:lnTo>
                <a:lnTo>
                  <a:pt x="132965" y="14393"/>
                </a:lnTo>
                <a:lnTo>
                  <a:pt x="132354" y="12983"/>
                </a:lnTo>
                <a:lnTo>
                  <a:pt x="129336" y="8679"/>
                </a:lnTo>
                <a:lnTo>
                  <a:pt x="126665" y="5833"/>
                </a:lnTo>
                <a:lnTo>
                  <a:pt x="124767" y="3889"/>
                </a:lnTo>
                <a:lnTo>
                  <a:pt x="122656" y="2593"/>
                </a:lnTo>
                <a:lnTo>
                  <a:pt x="120402" y="1728"/>
                </a:lnTo>
                <a:lnTo>
                  <a:pt x="118052" y="1152"/>
                </a:lnTo>
                <a:lnTo>
                  <a:pt x="113945" y="1615"/>
                </a:lnTo>
                <a:lnTo>
                  <a:pt x="108668" y="2770"/>
                </a:lnTo>
                <a:lnTo>
                  <a:pt x="102610" y="4387"/>
                </a:lnTo>
                <a:lnTo>
                  <a:pt x="96878" y="6311"/>
                </a:lnTo>
                <a:lnTo>
                  <a:pt x="91363" y="8441"/>
                </a:lnTo>
                <a:lnTo>
                  <a:pt x="85993" y="10707"/>
                </a:lnTo>
                <a:lnTo>
                  <a:pt x="80719" y="13065"/>
                </a:lnTo>
                <a:lnTo>
                  <a:pt x="70344" y="17942"/>
                </a:lnTo>
                <a:lnTo>
                  <a:pt x="63514" y="20428"/>
                </a:lnTo>
                <a:lnTo>
                  <a:pt x="55573" y="22932"/>
                </a:lnTo>
                <a:lnTo>
                  <a:pt x="46893" y="25448"/>
                </a:lnTo>
                <a:lnTo>
                  <a:pt x="39413" y="28819"/>
                </a:lnTo>
                <a:lnTo>
                  <a:pt x="32733" y="32759"/>
                </a:lnTo>
                <a:lnTo>
                  <a:pt x="26587" y="37080"/>
                </a:lnTo>
                <a:lnTo>
                  <a:pt x="20795" y="40807"/>
                </a:lnTo>
                <a:lnTo>
                  <a:pt x="15241" y="44138"/>
                </a:lnTo>
                <a:lnTo>
                  <a:pt x="9845" y="47205"/>
                </a:lnTo>
                <a:lnTo>
                  <a:pt x="6248" y="50943"/>
                </a:lnTo>
                <a:lnTo>
                  <a:pt x="3849" y="55129"/>
                </a:lnTo>
                <a:lnTo>
                  <a:pt x="2251" y="59613"/>
                </a:lnTo>
                <a:lnTo>
                  <a:pt x="1185" y="64295"/>
                </a:lnTo>
                <a:lnTo>
                  <a:pt x="474" y="69110"/>
                </a:lnTo>
                <a:lnTo>
                  <a:pt x="0" y="74014"/>
                </a:lnTo>
                <a:lnTo>
                  <a:pt x="531" y="78129"/>
                </a:lnTo>
                <a:lnTo>
                  <a:pt x="1732" y="81720"/>
                </a:lnTo>
                <a:lnTo>
                  <a:pt x="3379" y="84960"/>
                </a:lnTo>
                <a:lnTo>
                  <a:pt x="7017" y="87967"/>
                </a:lnTo>
                <a:lnTo>
                  <a:pt x="11982" y="90818"/>
                </a:lnTo>
                <a:lnTo>
                  <a:pt x="28848" y="98876"/>
                </a:lnTo>
                <a:lnTo>
                  <a:pt x="34156" y="101478"/>
                </a:lnTo>
                <a:lnTo>
                  <a:pt x="39388" y="103212"/>
                </a:lnTo>
                <a:lnTo>
                  <a:pt x="44570" y="104368"/>
                </a:lnTo>
                <a:lnTo>
                  <a:pt x="49717" y="105139"/>
                </a:lnTo>
                <a:lnTo>
                  <a:pt x="54843" y="105653"/>
                </a:lnTo>
                <a:lnTo>
                  <a:pt x="59952" y="105995"/>
                </a:lnTo>
                <a:lnTo>
                  <a:pt x="65053" y="106224"/>
                </a:lnTo>
                <a:lnTo>
                  <a:pt x="75235" y="106477"/>
                </a:lnTo>
                <a:lnTo>
                  <a:pt x="80321" y="106545"/>
                </a:lnTo>
                <a:lnTo>
                  <a:pt x="84558" y="104896"/>
                </a:lnTo>
                <a:lnTo>
                  <a:pt x="88230" y="102105"/>
                </a:lnTo>
                <a:lnTo>
                  <a:pt x="91524" y="98550"/>
                </a:lnTo>
                <a:lnTo>
                  <a:pt x="95414" y="95333"/>
                </a:lnTo>
                <a:lnTo>
                  <a:pt x="99700" y="92342"/>
                </a:lnTo>
                <a:lnTo>
                  <a:pt x="104251" y="89502"/>
                </a:lnTo>
                <a:lnTo>
                  <a:pt x="108132" y="85068"/>
                </a:lnTo>
                <a:lnTo>
                  <a:pt x="111565" y="79572"/>
                </a:lnTo>
                <a:lnTo>
                  <a:pt x="114701" y="73368"/>
                </a:lnTo>
                <a:lnTo>
                  <a:pt x="116792" y="67539"/>
                </a:lnTo>
                <a:lnTo>
                  <a:pt x="118185" y="61959"/>
                </a:lnTo>
                <a:lnTo>
                  <a:pt x="119114" y="56546"/>
                </a:lnTo>
                <a:lnTo>
                  <a:pt x="119734" y="51244"/>
                </a:lnTo>
                <a:lnTo>
                  <a:pt x="120147" y="46016"/>
                </a:lnTo>
                <a:lnTo>
                  <a:pt x="120422" y="40838"/>
                </a:lnTo>
                <a:lnTo>
                  <a:pt x="119759" y="35692"/>
                </a:lnTo>
                <a:lnTo>
                  <a:pt x="118471" y="30568"/>
                </a:lnTo>
                <a:lnTo>
                  <a:pt x="116765" y="25459"/>
                </a:lnTo>
                <a:lnTo>
                  <a:pt x="114781" y="21206"/>
                </a:lnTo>
                <a:lnTo>
                  <a:pt x="112612" y="17524"/>
                </a:lnTo>
                <a:lnTo>
                  <a:pt x="110319" y="14222"/>
                </a:lnTo>
                <a:lnTo>
                  <a:pt x="108790" y="11175"/>
                </a:lnTo>
                <a:lnTo>
                  <a:pt x="107771" y="8297"/>
                </a:lnTo>
                <a:lnTo>
                  <a:pt x="10573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MARTInkAnnotation255"/>
          <p:cNvSpPr/>
          <p:nvPr/>
        </p:nvSpPr>
        <p:spPr>
          <a:xfrm>
            <a:off x="5532480" y="3697200"/>
            <a:ext cx="190440" cy="158760"/>
          </a:xfrm>
          <a:custGeom>
            <a:avLst/>
            <a:gdLst>
              <a:gd name="textAreaLeft" fmla="*/ 0 w 190440"/>
              <a:gd name="textAreaRight" fmla="*/ 190800 w 1904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90501" h="158776">
                <a:moveTo>
                  <a:pt x="0" y="59757"/>
                </a:moveTo>
                <a:lnTo>
                  <a:pt x="0" y="66318"/>
                </a:lnTo>
                <a:lnTo>
                  <a:pt x="847" y="68364"/>
                </a:lnTo>
                <a:lnTo>
                  <a:pt x="2258" y="71422"/>
                </a:lnTo>
                <a:lnTo>
                  <a:pt x="4045" y="75154"/>
                </a:lnTo>
                <a:lnTo>
                  <a:pt x="5237" y="78488"/>
                </a:lnTo>
                <a:lnTo>
                  <a:pt x="6032" y="81558"/>
                </a:lnTo>
                <a:lnTo>
                  <a:pt x="6561" y="84451"/>
                </a:lnTo>
                <a:lnTo>
                  <a:pt x="7760" y="87226"/>
                </a:lnTo>
                <a:lnTo>
                  <a:pt x="9408" y="89924"/>
                </a:lnTo>
                <a:lnTo>
                  <a:pt x="11352" y="92568"/>
                </a:lnTo>
                <a:lnTo>
                  <a:pt x="12648" y="95178"/>
                </a:lnTo>
                <a:lnTo>
                  <a:pt x="13512" y="97764"/>
                </a:lnTo>
                <a:lnTo>
                  <a:pt x="14088" y="100335"/>
                </a:lnTo>
                <a:lnTo>
                  <a:pt x="15319" y="103743"/>
                </a:lnTo>
                <a:lnTo>
                  <a:pt x="16986" y="107707"/>
                </a:lnTo>
                <a:lnTo>
                  <a:pt x="18944" y="112044"/>
                </a:lnTo>
                <a:lnTo>
                  <a:pt x="21096" y="115782"/>
                </a:lnTo>
                <a:lnTo>
                  <a:pt x="23378" y="119120"/>
                </a:lnTo>
                <a:lnTo>
                  <a:pt x="25745" y="122193"/>
                </a:lnTo>
                <a:lnTo>
                  <a:pt x="27324" y="125934"/>
                </a:lnTo>
                <a:lnTo>
                  <a:pt x="28376" y="130122"/>
                </a:lnTo>
                <a:lnTo>
                  <a:pt x="29077" y="134607"/>
                </a:lnTo>
                <a:lnTo>
                  <a:pt x="29545" y="138444"/>
                </a:lnTo>
                <a:lnTo>
                  <a:pt x="29857" y="141848"/>
                </a:lnTo>
                <a:lnTo>
                  <a:pt x="30064" y="144964"/>
                </a:lnTo>
                <a:lnTo>
                  <a:pt x="30203" y="147889"/>
                </a:lnTo>
                <a:lnTo>
                  <a:pt x="30357" y="153396"/>
                </a:lnTo>
                <a:lnTo>
                  <a:pt x="31245" y="155203"/>
                </a:lnTo>
                <a:lnTo>
                  <a:pt x="32683" y="156408"/>
                </a:lnTo>
                <a:lnTo>
                  <a:pt x="38007" y="158775"/>
                </a:lnTo>
                <a:lnTo>
                  <a:pt x="38073" y="154760"/>
                </a:lnTo>
                <a:lnTo>
                  <a:pt x="38100" y="77836"/>
                </a:lnTo>
                <a:lnTo>
                  <a:pt x="38947" y="72656"/>
                </a:lnTo>
                <a:lnTo>
                  <a:pt x="40358" y="67510"/>
                </a:lnTo>
                <a:lnTo>
                  <a:pt x="42145" y="62386"/>
                </a:lnTo>
                <a:lnTo>
                  <a:pt x="43337" y="57276"/>
                </a:lnTo>
                <a:lnTo>
                  <a:pt x="44132" y="52177"/>
                </a:lnTo>
                <a:lnTo>
                  <a:pt x="44661" y="47083"/>
                </a:lnTo>
                <a:lnTo>
                  <a:pt x="45860" y="41994"/>
                </a:lnTo>
                <a:lnTo>
                  <a:pt x="47508" y="36909"/>
                </a:lnTo>
                <a:lnTo>
                  <a:pt x="49452" y="31825"/>
                </a:lnTo>
                <a:lnTo>
                  <a:pt x="52441" y="27589"/>
                </a:lnTo>
                <a:lnTo>
                  <a:pt x="56128" y="23918"/>
                </a:lnTo>
                <a:lnTo>
                  <a:pt x="60278" y="20625"/>
                </a:lnTo>
                <a:lnTo>
                  <a:pt x="63892" y="17582"/>
                </a:lnTo>
                <a:lnTo>
                  <a:pt x="67148" y="14707"/>
                </a:lnTo>
                <a:lnTo>
                  <a:pt x="70166" y="11944"/>
                </a:lnTo>
                <a:lnTo>
                  <a:pt x="73024" y="10101"/>
                </a:lnTo>
                <a:lnTo>
                  <a:pt x="78457" y="8055"/>
                </a:lnTo>
                <a:lnTo>
                  <a:pt x="94367" y="2857"/>
                </a:lnTo>
                <a:lnTo>
                  <a:pt x="100165" y="1503"/>
                </a:lnTo>
                <a:lnTo>
                  <a:pt x="105723" y="602"/>
                </a:lnTo>
                <a:lnTo>
                  <a:pt x="111122" y="0"/>
                </a:lnTo>
                <a:lnTo>
                  <a:pt x="117262" y="446"/>
                </a:lnTo>
                <a:lnTo>
                  <a:pt x="123894" y="1589"/>
                </a:lnTo>
                <a:lnTo>
                  <a:pt x="130857" y="3199"/>
                </a:lnTo>
                <a:lnTo>
                  <a:pt x="137191" y="5118"/>
                </a:lnTo>
                <a:lnTo>
                  <a:pt x="143107" y="7244"/>
                </a:lnTo>
                <a:lnTo>
                  <a:pt x="148745" y="9508"/>
                </a:lnTo>
                <a:lnTo>
                  <a:pt x="161782" y="14282"/>
                </a:lnTo>
                <a:lnTo>
                  <a:pt x="168815" y="16740"/>
                </a:lnTo>
                <a:lnTo>
                  <a:pt x="174351" y="18379"/>
                </a:lnTo>
                <a:lnTo>
                  <a:pt x="178886" y="19472"/>
                </a:lnTo>
                <a:lnTo>
                  <a:pt x="190500" y="2165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MARTInkAnnotation256"/>
          <p:cNvSpPr/>
          <p:nvPr/>
        </p:nvSpPr>
        <p:spPr>
          <a:xfrm>
            <a:off x="6568920" y="3573360"/>
            <a:ext cx="76320" cy="304920"/>
          </a:xfrm>
          <a:custGeom>
            <a:avLst/>
            <a:gdLst>
              <a:gd name="textAreaLeft" fmla="*/ 0 w 76320"/>
              <a:gd name="textAreaRight" fmla="*/ 76320 w 763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76201" h="304801">
                <a:moveTo>
                  <a:pt x="76200" y="0"/>
                </a:moveTo>
                <a:lnTo>
                  <a:pt x="76200" y="14651"/>
                </a:lnTo>
                <a:lnTo>
                  <a:pt x="75354" y="19927"/>
                </a:lnTo>
                <a:lnTo>
                  <a:pt x="73942" y="25985"/>
                </a:lnTo>
                <a:lnTo>
                  <a:pt x="72155" y="32563"/>
                </a:lnTo>
                <a:lnTo>
                  <a:pt x="67912" y="46646"/>
                </a:lnTo>
                <a:lnTo>
                  <a:pt x="65595" y="53957"/>
                </a:lnTo>
                <a:lnTo>
                  <a:pt x="64050" y="61372"/>
                </a:lnTo>
                <a:lnTo>
                  <a:pt x="63020" y="68854"/>
                </a:lnTo>
                <a:lnTo>
                  <a:pt x="62333" y="76383"/>
                </a:lnTo>
                <a:lnTo>
                  <a:pt x="60183" y="84789"/>
                </a:lnTo>
                <a:lnTo>
                  <a:pt x="57056" y="93779"/>
                </a:lnTo>
                <a:lnTo>
                  <a:pt x="53277" y="103159"/>
                </a:lnTo>
                <a:lnTo>
                  <a:pt x="49911" y="112800"/>
                </a:lnTo>
                <a:lnTo>
                  <a:pt x="46821" y="122613"/>
                </a:lnTo>
                <a:lnTo>
                  <a:pt x="43914" y="132542"/>
                </a:lnTo>
                <a:lnTo>
                  <a:pt x="41976" y="141701"/>
                </a:lnTo>
                <a:lnTo>
                  <a:pt x="40684" y="150347"/>
                </a:lnTo>
                <a:lnTo>
                  <a:pt x="39823" y="158652"/>
                </a:lnTo>
                <a:lnTo>
                  <a:pt x="38402" y="167575"/>
                </a:lnTo>
                <a:lnTo>
                  <a:pt x="36607" y="176909"/>
                </a:lnTo>
                <a:lnTo>
                  <a:pt x="34565" y="186520"/>
                </a:lnTo>
                <a:lnTo>
                  <a:pt x="32356" y="195466"/>
                </a:lnTo>
                <a:lnTo>
                  <a:pt x="30038" y="203971"/>
                </a:lnTo>
                <a:lnTo>
                  <a:pt x="25203" y="220194"/>
                </a:lnTo>
                <a:lnTo>
                  <a:pt x="20232" y="235871"/>
                </a:lnTo>
                <a:lnTo>
                  <a:pt x="17722" y="242760"/>
                </a:lnTo>
                <a:lnTo>
                  <a:pt x="15202" y="249047"/>
                </a:lnTo>
                <a:lnTo>
                  <a:pt x="12675" y="254931"/>
                </a:lnTo>
                <a:lnTo>
                  <a:pt x="10990" y="260548"/>
                </a:lnTo>
                <a:lnTo>
                  <a:pt x="9867" y="265985"/>
                </a:lnTo>
                <a:lnTo>
                  <a:pt x="9118" y="271304"/>
                </a:lnTo>
                <a:lnTo>
                  <a:pt x="7772" y="276543"/>
                </a:lnTo>
                <a:lnTo>
                  <a:pt x="6028" y="281728"/>
                </a:lnTo>
                <a:lnTo>
                  <a:pt x="1191" y="294128"/>
                </a:lnTo>
                <a:lnTo>
                  <a:pt x="530" y="298081"/>
                </a:lnTo>
                <a:lnTo>
                  <a:pt x="0" y="3048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MARTInkAnnotation257"/>
          <p:cNvSpPr/>
          <p:nvPr/>
        </p:nvSpPr>
        <p:spPr>
          <a:xfrm>
            <a:off x="6515280" y="3726000"/>
            <a:ext cx="190440" cy="15840"/>
          </a:xfrm>
          <a:custGeom>
            <a:avLst/>
            <a:gdLst>
              <a:gd name="textAreaLeft" fmla="*/ 0 w 190440"/>
              <a:gd name="textAreaRight" fmla="*/ 190800 w 1904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90501" h="15238">
                <a:moveTo>
                  <a:pt x="0" y="7617"/>
                </a:moveTo>
                <a:lnTo>
                  <a:pt x="4045" y="7617"/>
                </a:lnTo>
                <a:lnTo>
                  <a:pt x="6931" y="6770"/>
                </a:lnTo>
                <a:lnTo>
                  <a:pt x="10547" y="5359"/>
                </a:lnTo>
                <a:lnTo>
                  <a:pt x="20428" y="1057"/>
                </a:lnTo>
                <a:lnTo>
                  <a:pt x="22933" y="703"/>
                </a:lnTo>
                <a:lnTo>
                  <a:pt x="26295" y="468"/>
                </a:lnTo>
                <a:lnTo>
                  <a:pt x="30230" y="311"/>
                </a:lnTo>
                <a:lnTo>
                  <a:pt x="47903" y="90"/>
                </a:lnTo>
                <a:lnTo>
                  <a:pt x="114357" y="0"/>
                </a:lnTo>
                <a:lnTo>
                  <a:pt x="121112" y="845"/>
                </a:lnTo>
                <a:lnTo>
                  <a:pt x="127308" y="2256"/>
                </a:lnTo>
                <a:lnTo>
                  <a:pt x="133132" y="4043"/>
                </a:lnTo>
                <a:lnTo>
                  <a:pt x="139554" y="5235"/>
                </a:lnTo>
                <a:lnTo>
                  <a:pt x="146376" y="6029"/>
                </a:lnTo>
                <a:lnTo>
                  <a:pt x="153464" y="6559"/>
                </a:lnTo>
                <a:lnTo>
                  <a:pt x="159882" y="6911"/>
                </a:lnTo>
                <a:lnTo>
                  <a:pt x="171530" y="7303"/>
                </a:lnTo>
                <a:lnTo>
                  <a:pt x="176161" y="8255"/>
                </a:lnTo>
                <a:lnTo>
                  <a:pt x="180094" y="9735"/>
                </a:lnTo>
                <a:lnTo>
                  <a:pt x="190500" y="1523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MARTInkAnnotation258"/>
          <p:cNvSpPr/>
          <p:nvPr/>
        </p:nvSpPr>
        <p:spPr>
          <a:xfrm>
            <a:off x="3611520" y="3451320"/>
            <a:ext cx="106560" cy="168120"/>
          </a:xfrm>
          <a:custGeom>
            <a:avLst/>
            <a:gdLst>
              <a:gd name="textAreaLeft" fmla="*/ 0 w 106560"/>
              <a:gd name="textAreaRight" fmla="*/ 106920 w 10656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06681" h="167613">
                <a:moveTo>
                  <a:pt x="106680" y="7592"/>
                </a:moveTo>
                <a:lnTo>
                  <a:pt x="106680" y="0"/>
                </a:lnTo>
                <a:lnTo>
                  <a:pt x="106680" y="18105"/>
                </a:lnTo>
                <a:lnTo>
                  <a:pt x="105833" y="20528"/>
                </a:lnTo>
                <a:lnTo>
                  <a:pt x="102635" y="25477"/>
                </a:lnTo>
                <a:lnTo>
                  <a:pt x="101443" y="28829"/>
                </a:lnTo>
                <a:lnTo>
                  <a:pt x="100649" y="32756"/>
                </a:lnTo>
                <a:lnTo>
                  <a:pt x="100119" y="37068"/>
                </a:lnTo>
                <a:lnTo>
                  <a:pt x="98919" y="40790"/>
                </a:lnTo>
                <a:lnTo>
                  <a:pt x="97272" y="44117"/>
                </a:lnTo>
                <a:lnTo>
                  <a:pt x="95328" y="47182"/>
                </a:lnTo>
                <a:lnTo>
                  <a:pt x="93186" y="50919"/>
                </a:lnTo>
                <a:lnTo>
                  <a:pt x="88547" y="59586"/>
                </a:lnTo>
                <a:lnTo>
                  <a:pt x="85278" y="64268"/>
                </a:lnTo>
                <a:lnTo>
                  <a:pt x="81405" y="69083"/>
                </a:lnTo>
                <a:lnTo>
                  <a:pt x="77130" y="73986"/>
                </a:lnTo>
                <a:lnTo>
                  <a:pt x="72587" y="78948"/>
                </a:lnTo>
                <a:lnTo>
                  <a:pt x="58949" y="93175"/>
                </a:lnTo>
                <a:lnTo>
                  <a:pt x="39539" y="112800"/>
                </a:lnTo>
                <a:lnTo>
                  <a:pt x="35673" y="117524"/>
                </a:lnTo>
                <a:lnTo>
                  <a:pt x="32249" y="122367"/>
                </a:lnTo>
                <a:lnTo>
                  <a:pt x="29119" y="127288"/>
                </a:lnTo>
                <a:lnTo>
                  <a:pt x="25339" y="132263"/>
                </a:lnTo>
                <a:lnTo>
                  <a:pt x="21126" y="137272"/>
                </a:lnTo>
                <a:lnTo>
                  <a:pt x="12776" y="146508"/>
                </a:lnTo>
                <a:lnTo>
                  <a:pt x="6243" y="153435"/>
                </a:lnTo>
                <a:lnTo>
                  <a:pt x="4162" y="156467"/>
                </a:lnTo>
                <a:lnTo>
                  <a:pt x="2774" y="159335"/>
                </a:lnTo>
                <a:lnTo>
                  <a:pt x="0" y="16761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MARTInkAnnotation259"/>
          <p:cNvSpPr/>
          <p:nvPr/>
        </p:nvSpPr>
        <p:spPr>
          <a:xfrm>
            <a:off x="6789600" y="3314880"/>
            <a:ext cx="122400" cy="228600"/>
          </a:xfrm>
          <a:custGeom>
            <a:avLst/>
            <a:gdLst>
              <a:gd name="textAreaLeft" fmla="*/ 0 w 122400"/>
              <a:gd name="textAreaRight" fmla="*/ 122760 w 1224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1921" h="228601">
                <a:moveTo>
                  <a:pt x="0" y="0"/>
                </a:moveTo>
                <a:lnTo>
                  <a:pt x="0" y="4045"/>
                </a:lnTo>
                <a:lnTo>
                  <a:pt x="847" y="6084"/>
                </a:lnTo>
                <a:lnTo>
                  <a:pt x="6084" y="13844"/>
                </a:lnTo>
                <a:lnTo>
                  <a:pt x="8289" y="17696"/>
                </a:lnTo>
                <a:lnTo>
                  <a:pt x="10606" y="21957"/>
                </a:lnTo>
                <a:lnTo>
                  <a:pt x="12997" y="27338"/>
                </a:lnTo>
                <a:lnTo>
                  <a:pt x="15439" y="33465"/>
                </a:lnTo>
                <a:lnTo>
                  <a:pt x="17913" y="40090"/>
                </a:lnTo>
                <a:lnTo>
                  <a:pt x="22102" y="47047"/>
                </a:lnTo>
                <a:lnTo>
                  <a:pt x="27434" y="54225"/>
                </a:lnTo>
                <a:lnTo>
                  <a:pt x="33529" y="61550"/>
                </a:lnTo>
                <a:lnTo>
                  <a:pt x="38440" y="68973"/>
                </a:lnTo>
                <a:lnTo>
                  <a:pt x="42560" y="76462"/>
                </a:lnTo>
                <a:lnTo>
                  <a:pt x="46153" y="83994"/>
                </a:lnTo>
                <a:lnTo>
                  <a:pt x="51090" y="91557"/>
                </a:lnTo>
                <a:lnTo>
                  <a:pt x="56919" y="99138"/>
                </a:lnTo>
                <a:lnTo>
                  <a:pt x="63347" y="106732"/>
                </a:lnTo>
                <a:lnTo>
                  <a:pt x="69324" y="115181"/>
                </a:lnTo>
                <a:lnTo>
                  <a:pt x="75003" y="124201"/>
                </a:lnTo>
                <a:lnTo>
                  <a:pt x="80482" y="133601"/>
                </a:lnTo>
                <a:lnTo>
                  <a:pt x="84982" y="143254"/>
                </a:lnTo>
                <a:lnTo>
                  <a:pt x="88828" y="153076"/>
                </a:lnTo>
                <a:lnTo>
                  <a:pt x="92238" y="163011"/>
                </a:lnTo>
                <a:lnTo>
                  <a:pt x="96205" y="171327"/>
                </a:lnTo>
                <a:lnTo>
                  <a:pt x="100545" y="178565"/>
                </a:lnTo>
                <a:lnTo>
                  <a:pt x="105129" y="185083"/>
                </a:lnTo>
                <a:lnTo>
                  <a:pt x="109033" y="191969"/>
                </a:lnTo>
                <a:lnTo>
                  <a:pt x="112482" y="199099"/>
                </a:lnTo>
                <a:lnTo>
                  <a:pt x="115628" y="206393"/>
                </a:lnTo>
                <a:lnTo>
                  <a:pt x="117725" y="212102"/>
                </a:lnTo>
                <a:lnTo>
                  <a:pt x="119125" y="216755"/>
                </a:lnTo>
                <a:lnTo>
                  <a:pt x="121920" y="2286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MARTInkAnnotation260"/>
          <p:cNvSpPr/>
          <p:nvPr/>
        </p:nvSpPr>
        <p:spPr>
          <a:xfrm>
            <a:off x="6942240" y="3314880"/>
            <a:ext cx="106200" cy="228600"/>
          </a:xfrm>
          <a:custGeom>
            <a:avLst/>
            <a:gdLst>
              <a:gd name="textAreaLeft" fmla="*/ 0 w 106200"/>
              <a:gd name="textAreaRight" fmla="*/ 106560 w 106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06681" h="228601">
                <a:moveTo>
                  <a:pt x="0" y="0"/>
                </a:moveTo>
                <a:lnTo>
                  <a:pt x="10606" y="21212"/>
                </a:lnTo>
                <a:lnTo>
                  <a:pt x="12997" y="25148"/>
                </a:lnTo>
                <a:lnTo>
                  <a:pt x="15438" y="28619"/>
                </a:lnTo>
                <a:lnTo>
                  <a:pt x="17913" y="31779"/>
                </a:lnTo>
                <a:lnTo>
                  <a:pt x="21255" y="37273"/>
                </a:lnTo>
                <a:lnTo>
                  <a:pt x="25177" y="44322"/>
                </a:lnTo>
                <a:lnTo>
                  <a:pt x="34050" y="61185"/>
                </a:lnTo>
                <a:lnTo>
                  <a:pt x="43637" y="79969"/>
                </a:lnTo>
                <a:lnTo>
                  <a:pt x="48566" y="90566"/>
                </a:lnTo>
                <a:lnTo>
                  <a:pt x="58556" y="113629"/>
                </a:lnTo>
                <a:lnTo>
                  <a:pt x="73701" y="150414"/>
                </a:lnTo>
                <a:lnTo>
                  <a:pt x="78768" y="162083"/>
                </a:lnTo>
                <a:lnTo>
                  <a:pt x="88912" y="184079"/>
                </a:lnTo>
                <a:lnTo>
                  <a:pt x="93141" y="193839"/>
                </a:lnTo>
                <a:lnTo>
                  <a:pt x="96809" y="202886"/>
                </a:lnTo>
                <a:lnTo>
                  <a:pt x="106680" y="2286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MARTInkAnnotation261"/>
          <p:cNvSpPr/>
          <p:nvPr/>
        </p:nvSpPr>
        <p:spPr>
          <a:xfrm>
            <a:off x="214200" y="4556160"/>
            <a:ext cx="265320" cy="220680"/>
          </a:xfrm>
          <a:custGeom>
            <a:avLst/>
            <a:gdLst>
              <a:gd name="textAreaLeft" fmla="*/ 0 w 265320"/>
              <a:gd name="textAreaRight" fmla="*/ 265680 w 26532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66253" h="220524">
                <a:moveTo>
                  <a:pt x="68132" y="0"/>
                </a:moveTo>
                <a:lnTo>
                  <a:pt x="68132" y="6561"/>
                </a:lnTo>
                <a:lnTo>
                  <a:pt x="64087" y="11352"/>
                </a:lnTo>
                <a:lnTo>
                  <a:pt x="62895" y="14341"/>
                </a:lnTo>
                <a:lnTo>
                  <a:pt x="62101" y="18027"/>
                </a:lnTo>
                <a:lnTo>
                  <a:pt x="61571" y="22178"/>
                </a:lnTo>
                <a:lnTo>
                  <a:pt x="60983" y="29048"/>
                </a:lnTo>
                <a:lnTo>
                  <a:pt x="60826" y="32066"/>
                </a:lnTo>
                <a:lnTo>
                  <a:pt x="59874" y="35771"/>
                </a:lnTo>
                <a:lnTo>
                  <a:pt x="58394" y="39934"/>
                </a:lnTo>
                <a:lnTo>
                  <a:pt x="56560" y="44403"/>
                </a:lnTo>
                <a:lnTo>
                  <a:pt x="54490" y="49075"/>
                </a:lnTo>
                <a:lnTo>
                  <a:pt x="49934" y="58782"/>
                </a:lnTo>
                <a:lnTo>
                  <a:pt x="48380" y="63742"/>
                </a:lnTo>
                <a:lnTo>
                  <a:pt x="47344" y="68741"/>
                </a:lnTo>
                <a:lnTo>
                  <a:pt x="46653" y="73767"/>
                </a:lnTo>
                <a:lnTo>
                  <a:pt x="44499" y="78812"/>
                </a:lnTo>
                <a:lnTo>
                  <a:pt x="41370" y="83868"/>
                </a:lnTo>
                <a:lnTo>
                  <a:pt x="37591" y="88932"/>
                </a:lnTo>
                <a:lnTo>
                  <a:pt x="34225" y="94001"/>
                </a:lnTo>
                <a:lnTo>
                  <a:pt x="31134" y="99074"/>
                </a:lnTo>
                <a:lnTo>
                  <a:pt x="28226" y="104150"/>
                </a:lnTo>
                <a:lnTo>
                  <a:pt x="25442" y="110073"/>
                </a:lnTo>
                <a:lnTo>
                  <a:pt x="22738" y="116562"/>
                </a:lnTo>
                <a:lnTo>
                  <a:pt x="20090" y="123428"/>
                </a:lnTo>
                <a:lnTo>
                  <a:pt x="17477" y="129699"/>
                </a:lnTo>
                <a:lnTo>
                  <a:pt x="14889" y="135573"/>
                </a:lnTo>
                <a:lnTo>
                  <a:pt x="9755" y="146615"/>
                </a:lnTo>
                <a:lnTo>
                  <a:pt x="4651" y="157166"/>
                </a:lnTo>
                <a:lnTo>
                  <a:pt x="2951" y="162352"/>
                </a:lnTo>
                <a:lnTo>
                  <a:pt x="1818" y="167500"/>
                </a:lnTo>
                <a:lnTo>
                  <a:pt x="1063" y="172628"/>
                </a:lnTo>
                <a:lnTo>
                  <a:pt x="559" y="177738"/>
                </a:lnTo>
                <a:lnTo>
                  <a:pt x="223" y="182839"/>
                </a:lnTo>
                <a:lnTo>
                  <a:pt x="0" y="187933"/>
                </a:lnTo>
                <a:lnTo>
                  <a:pt x="697" y="192175"/>
                </a:lnTo>
                <a:lnTo>
                  <a:pt x="2009" y="195850"/>
                </a:lnTo>
                <a:lnTo>
                  <a:pt x="5724" y="202191"/>
                </a:lnTo>
                <a:lnTo>
                  <a:pt x="10197" y="207832"/>
                </a:lnTo>
                <a:lnTo>
                  <a:pt x="17265" y="213161"/>
                </a:lnTo>
                <a:lnTo>
                  <a:pt x="21521" y="215767"/>
                </a:lnTo>
                <a:lnTo>
                  <a:pt x="26898" y="217505"/>
                </a:lnTo>
                <a:lnTo>
                  <a:pt x="33023" y="218664"/>
                </a:lnTo>
                <a:lnTo>
                  <a:pt x="39646" y="219436"/>
                </a:lnTo>
                <a:lnTo>
                  <a:pt x="46601" y="219951"/>
                </a:lnTo>
                <a:lnTo>
                  <a:pt x="53778" y="220294"/>
                </a:lnTo>
                <a:lnTo>
                  <a:pt x="61103" y="220523"/>
                </a:lnTo>
                <a:lnTo>
                  <a:pt x="69372" y="219829"/>
                </a:lnTo>
                <a:lnTo>
                  <a:pt x="78272" y="218519"/>
                </a:lnTo>
                <a:lnTo>
                  <a:pt x="87592" y="216800"/>
                </a:lnTo>
                <a:lnTo>
                  <a:pt x="97192" y="215653"/>
                </a:lnTo>
                <a:lnTo>
                  <a:pt x="106979" y="214888"/>
                </a:lnTo>
                <a:lnTo>
                  <a:pt x="116890" y="214379"/>
                </a:lnTo>
                <a:lnTo>
                  <a:pt x="126884" y="213193"/>
                </a:lnTo>
                <a:lnTo>
                  <a:pt x="136933" y="211556"/>
                </a:lnTo>
                <a:lnTo>
                  <a:pt x="147019" y="209617"/>
                </a:lnTo>
                <a:lnTo>
                  <a:pt x="157130" y="208325"/>
                </a:lnTo>
                <a:lnTo>
                  <a:pt x="167258" y="207463"/>
                </a:lnTo>
                <a:lnTo>
                  <a:pt x="177396" y="206889"/>
                </a:lnTo>
                <a:lnTo>
                  <a:pt x="185848" y="205659"/>
                </a:lnTo>
                <a:lnTo>
                  <a:pt x="193176" y="203994"/>
                </a:lnTo>
                <a:lnTo>
                  <a:pt x="199755" y="202036"/>
                </a:lnTo>
                <a:lnTo>
                  <a:pt x="206680" y="200731"/>
                </a:lnTo>
                <a:lnTo>
                  <a:pt x="213838" y="199860"/>
                </a:lnTo>
                <a:lnTo>
                  <a:pt x="226870" y="198894"/>
                </a:lnTo>
                <a:lnTo>
                  <a:pt x="235485" y="198464"/>
                </a:lnTo>
                <a:lnTo>
                  <a:pt x="242135" y="198273"/>
                </a:lnTo>
                <a:lnTo>
                  <a:pt x="245094" y="198222"/>
                </a:lnTo>
                <a:lnTo>
                  <a:pt x="247067" y="197341"/>
                </a:lnTo>
                <a:lnTo>
                  <a:pt x="248382" y="195908"/>
                </a:lnTo>
                <a:lnTo>
                  <a:pt x="249259" y="194105"/>
                </a:lnTo>
                <a:lnTo>
                  <a:pt x="250690" y="192904"/>
                </a:lnTo>
                <a:lnTo>
                  <a:pt x="252491" y="192102"/>
                </a:lnTo>
                <a:lnTo>
                  <a:pt x="256749" y="191213"/>
                </a:lnTo>
                <a:lnTo>
                  <a:pt x="259070" y="190975"/>
                </a:lnTo>
                <a:lnTo>
                  <a:pt x="266252" y="1905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MARTInkAnnotation262"/>
          <p:cNvSpPr/>
          <p:nvPr/>
        </p:nvSpPr>
        <p:spPr>
          <a:xfrm>
            <a:off x="473040" y="4564080"/>
            <a:ext cx="30240" cy="449280"/>
          </a:xfrm>
          <a:custGeom>
            <a:avLst/>
            <a:gdLst>
              <a:gd name="textAreaLeft" fmla="*/ 0 w 30240"/>
              <a:gd name="textAreaRight" fmla="*/ 30600 w 3024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30481" h="449581">
                <a:moveTo>
                  <a:pt x="0" y="0"/>
                </a:moveTo>
                <a:lnTo>
                  <a:pt x="0" y="80447"/>
                </a:lnTo>
                <a:lnTo>
                  <a:pt x="847" y="90885"/>
                </a:lnTo>
                <a:lnTo>
                  <a:pt x="2258" y="102077"/>
                </a:lnTo>
                <a:lnTo>
                  <a:pt x="4045" y="113771"/>
                </a:lnTo>
                <a:lnTo>
                  <a:pt x="5237" y="125801"/>
                </a:lnTo>
                <a:lnTo>
                  <a:pt x="6031" y="138054"/>
                </a:lnTo>
                <a:lnTo>
                  <a:pt x="6561" y="150456"/>
                </a:lnTo>
                <a:lnTo>
                  <a:pt x="7149" y="177782"/>
                </a:lnTo>
                <a:lnTo>
                  <a:pt x="7306" y="192182"/>
                </a:lnTo>
                <a:lnTo>
                  <a:pt x="8257" y="206861"/>
                </a:lnTo>
                <a:lnTo>
                  <a:pt x="9738" y="221727"/>
                </a:lnTo>
                <a:lnTo>
                  <a:pt x="15868" y="269179"/>
                </a:lnTo>
                <a:lnTo>
                  <a:pt x="18199" y="286133"/>
                </a:lnTo>
                <a:lnTo>
                  <a:pt x="19752" y="302515"/>
                </a:lnTo>
                <a:lnTo>
                  <a:pt x="20788" y="318517"/>
                </a:lnTo>
                <a:lnTo>
                  <a:pt x="21479" y="334265"/>
                </a:lnTo>
                <a:lnTo>
                  <a:pt x="22786" y="351536"/>
                </a:lnTo>
                <a:lnTo>
                  <a:pt x="27824" y="403973"/>
                </a:lnTo>
                <a:lnTo>
                  <a:pt x="28709" y="416635"/>
                </a:lnTo>
                <a:lnTo>
                  <a:pt x="30480" y="4495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MARTInkAnnotation263"/>
          <p:cNvSpPr/>
          <p:nvPr/>
        </p:nvSpPr>
        <p:spPr>
          <a:xfrm>
            <a:off x="617400" y="4944960"/>
            <a:ext cx="22320" cy="84240"/>
          </a:xfrm>
          <a:custGeom>
            <a:avLst/>
            <a:gdLst>
              <a:gd name="textAreaLeft" fmla="*/ 0 w 22320"/>
              <a:gd name="textAreaRight" fmla="*/ 22680 w 2232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22861" h="83821">
                <a:moveTo>
                  <a:pt x="0" y="0"/>
                </a:moveTo>
                <a:lnTo>
                  <a:pt x="0" y="4045"/>
                </a:lnTo>
                <a:lnTo>
                  <a:pt x="847" y="5237"/>
                </a:lnTo>
                <a:lnTo>
                  <a:pt x="2258" y="6031"/>
                </a:lnTo>
                <a:lnTo>
                  <a:pt x="4045" y="6561"/>
                </a:lnTo>
                <a:lnTo>
                  <a:pt x="5237" y="7760"/>
                </a:lnTo>
                <a:lnTo>
                  <a:pt x="6031" y="9407"/>
                </a:lnTo>
                <a:lnTo>
                  <a:pt x="6561" y="11352"/>
                </a:lnTo>
                <a:lnTo>
                  <a:pt x="6914" y="13494"/>
                </a:lnTo>
                <a:lnTo>
                  <a:pt x="7149" y="15770"/>
                </a:lnTo>
                <a:lnTo>
                  <a:pt x="7306" y="18133"/>
                </a:lnTo>
                <a:lnTo>
                  <a:pt x="8258" y="21402"/>
                </a:lnTo>
                <a:lnTo>
                  <a:pt x="9739" y="25275"/>
                </a:lnTo>
                <a:lnTo>
                  <a:pt x="11572" y="29550"/>
                </a:lnTo>
                <a:lnTo>
                  <a:pt x="15868" y="38816"/>
                </a:lnTo>
                <a:lnTo>
                  <a:pt x="18199" y="43657"/>
                </a:lnTo>
                <a:lnTo>
                  <a:pt x="19752" y="48578"/>
                </a:lnTo>
                <a:lnTo>
                  <a:pt x="20788" y="53552"/>
                </a:lnTo>
                <a:lnTo>
                  <a:pt x="21479" y="58561"/>
                </a:lnTo>
                <a:lnTo>
                  <a:pt x="21940" y="62748"/>
                </a:lnTo>
                <a:lnTo>
                  <a:pt x="22246" y="66385"/>
                </a:lnTo>
                <a:lnTo>
                  <a:pt x="22451" y="69657"/>
                </a:lnTo>
                <a:lnTo>
                  <a:pt x="22678" y="75550"/>
                </a:lnTo>
                <a:lnTo>
                  <a:pt x="22860" y="838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MARTInkAnnotation264"/>
          <p:cNvSpPr/>
          <p:nvPr/>
        </p:nvSpPr>
        <p:spPr>
          <a:xfrm>
            <a:off x="625320" y="4503600"/>
            <a:ext cx="181080" cy="601920"/>
          </a:xfrm>
          <a:custGeom>
            <a:avLst/>
            <a:gdLst>
              <a:gd name="textAreaLeft" fmla="*/ 0 w 181080"/>
              <a:gd name="textAreaRight" fmla="*/ 181440 w 181080"/>
              <a:gd name="textAreaTop" fmla="*/ 0 h 601920"/>
              <a:gd name="textAreaBottom" fmla="*/ 602280 h 601920"/>
            </a:gdLst>
            <a:ahLst/>
            <a:rect l="textAreaLeft" t="textAreaTop" r="textAreaRight" b="textAreaBottom"/>
            <a:pathLst>
              <a:path w="182300" h="601981">
                <a:moveTo>
                  <a:pt x="0" y="0"/>
                </a:moveTo>
                <a:lnTo>
                  <a:pt x="14651" y="14652"/>
                </a:lnTo>
                <a:lnTo>
                  <a:pt x="19081" y="18234"/>
                </a:lnTo>
                <a:lnTo>
                  <a:pt x="23727" y="21470"/>
                </a:lnTo>
                <a:lnTo>
                  <a:pt x="28518" y="24473"/>
                </a:lnTo>
                <a:lnTo>
                  <a:pt x="34252" y="29016"/>
                </a:lnTo>
                <a:lnTo>
                  <a:pt x="40615" y="34584"/>
                </a:lnTo>
                <a:lnTo>
                  <a:pt x="47397" y="40836"/>
                </a:lnTo>
                <a:lnTo>
                  <a:pt x="54458" y="48391"/>
                </a:lnTo>
                <a:lnTo>
                  <a:pt x="61705" y="56813"/>
                </a:lnTo>
                <a:lnTo>
                  <a:pt x="69077" y="65816"/>
                </a:lnTo>
                <a:lnTo>
                  <a:pt x="84041" y="84849"/>
                </a:lnTo>
                <a:lnTo>
                  <a:pt x="91587" y="94666"/>
                </a:lnTo>
                <a:lnTo>
                  <a:pt x="99158" y="105444"/>
                </a:lnTo>
                <a:lnTo>
                  <a:pt x="106746" y="116863"/>
                </a:lnTo>
                <a:lnTo>
                  <a:pt x="114344" y="128709"/>
                </a:lnTo>
                <a:lnTo>
                  <a:pt x="121103" y="141686"/>
                </a:lnTo>
                <a:lnTo>
                  <a:pt x="127302" y="155417"/>
                </a:lnTo>
                <a:lnTo>
                  <a:pt x="133128" y="169652"/>
                </a:lnTo>
                <a:lnTo>
                  <a:pt x="138705" y="184221"/>
                </a:lnTo>
                <a:lnTo>
                  <a:pt x="149418" y="213956"/>
                </a:lnTo>
                <a:lnTo>
                  <a:pt x="164969" y="259257"/>
                </a:lnTo>
                <a:lnTo>
                  <a:pt x="169246" y="275285"/>
                </a:lnTo>
                <a:lnTo>
                  <a:pt x="172944" y="291897"/>
                </a:lnTo>
                <a:lnTo>
                  <a:pt x="176256" y="308898"/>
                </a:lnTo>
                <a:lnTo>
                  <a:pt x="178464" y="325312"/>
                </a:lnTo>
                <a:lnTo>
                  <a:pt x="179936" y="341335"/>
                </a:lnTo>
                <a:lnTo>
                  <a:pt x="180918" y="357096"/>
                </a:lnTo>
                <a:lnTo>
                  <a:pt x="182008" y="390414"/>
                </a:lnTo>
                <a:lnTo>
                  <a:pt x="182299" y="407597"/>
                </a:lnTo>
                <a:lnTo>
                  <a:pt x="181646" y="424130"/>
                </a:lnTo>
                <a:lnTo>
                  <a:pt x="180364" y="440234"/>
                </a:lnTo>
                <a:lnTo>
                  <a:pt x="178663" y="456049"/>
                </a:lnTo>
                <a:lnTo>
                  <a:pt x="175835" y="470826"/>
                </a:lnTo>
                <a:lnTo>
                  <a:pt x="172257" y="484910"/>
                </a:lnTo>
                <a:lnTo>
                  <a:pt x="168178" y="498534"/>
                </a:lnTo>
                <a:lnTo>
                  <a:pt x="162919" y="511849"/>
                </a:lnTo>
                <a:lnTo>
                  <a:pt x="156873" y="524960"/>
                </a:lnTo>
                <a:lnTo>
                  <a:pt x="150302" y="537933"/>
                </a:lnTo>
                <a:lnTo>
                  <a:pt x="145075" y="549122"/>
                </a:lnTo>
                <a:lnTo>
                  <a:pt x="140743" y="559121"/>
                </a:lnTo>
                <a:lnTo>
                  <a:pt x="137009" y="568328"/>
                </a:lnTo>
                <a:lnTo>
                  <a:pt x="132826" y="576158"/>
                </a:lnTo>
                <a:lnTo>
                  <a:pt x="128344" y="583072"/>
                </a:lnTo>
                <a:lnTo>
                  <a:pt x="114300" y="6019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MARTInkAnnotation265"/>
          <p:cNvSpPr/>
          <p:nvPr/>
        </p:nvSpPr>
        <p:spPr>
          <a:xfrm>
            <a:off x="1494000" y="4495680"/>
            <a:ext cx="21960" cy="435240"/>
          </a:xfrm>
          <a:custGeom>
            <a:avLst/>
            <a:gdLst>
              <a:gd name="textAreaLeft" fmla="*/ 0 w 21960"/>
              <a:gd name="textAreaRight" fmla="*/ 22320 w 21960"/>
              <a:gd name="textAreaTop" fmla="*/ 0 h 435240"/>
              <a:gd name="textAreaBottom" fmla="*/ 435600 h 435240"/>
            </a:gdLst>
            <a:ahLst/>
            <a:rect l="textAreaLeft" t="textAreaTop" r="textAreaRight" b="textAreaBottom"/>
            <a:pathLst>
              <a:path w="22765" h="434341">
                <a:moveTo>
                  <a:pt x="0" y="0"/>
                </a:moveTo>
                <a:lnTo>
                  <a:pt x="0" y="11352"/>
                </a:lnTo>
                <a:lnTo>
                  <a:pt x="847" y="13495"/>
                </a:lnTo>
                <a:lnTo>
                  <a:pt x="2258" y="15770"/>
                </a:lnTo>
                <a:lnTo>
                  <a:pt x="4045" y="18133"/>
                </a:lnTo>
                <a:lnTo>
                  <a:pt x="6084" y="21402"/>
                </a:lnTo>
                <a:lnTo>
                  <a:pt x="8289" y="25275"/>
                </a:lnTo>
                <a:lnTo>
                  <a:pt x="10606" y="29550"/>
                </a:lnTo>
                <a:lnTo>
                  <a:pt x="12151" y="34940"/>
                </a:lnTo>
                <a:lnTo>
                  <a:pt x="13180" y="41073"/>
                </a:lnTo>
                <a:lnTo>
                  <a:pt x="13867" y="47702"/>
                </a:lnTo>
                <a:lnTo>
                  <a:pt x="14325" y="54662"/>
                </a:lnTo>
                <a:lnTo>
                  <a:pt x="14630" y="61841"/>
                </a:lnTo>
                <a:lnTo>
                  <a:pt x="14833" y="69168"/>
                </a:lnTo>
                <a:lnTo>
                  <a:pt x="15815" y="76592"/>
                </a:lnTo>
                <a:lnTo>
                  <a:pt x="17317" y="84081"/>
                </a:lnTo>
                <a:lnTo>
                  <a:pt x="19165" y="91614"/>
                </a:lnTo>
                <a:lnTo>
                  <a:pt x="20396" y="100023"/>
                </a:lnTo>
                <a:lnTo>
                  <a:pt x="21218" y="109015"/>
                </a:lnTo>
                <a:lnTo>
                  <a:pt x="21765" y="118397"/>
                </a:lnTo>
                <a:lnTo>
                  <a:pt x="22374" y="137852"/>
                </a:lnTo>
                <a:lnTo>
                  <a:pt x="22764" y="173892"/>
                </a:lnTo>
                <a:lnTo>
                  <a:pt x="21949" y="183661"/>
                </a:lnTo>
                <a:lnTo>
                  <a:pt x="20560" y="194407"/>
                </a:lnTo>
                <a:lnTo>
                  <a:pt x="18786" y="205805"/>
                </a:lnTo>
                <a:lnTo>
                  <a:pt x="17604" y="216790"/>
                </a:lnTo>
                <a:lnTo>
                  <a:pt x="16816" y="227500"/>
                </a:lnTo>
                <a:lnTo>
                  <a:pt x="16291" y="238027"/>
                </a:lnTo>
                <a:lnTo>
                  <a:pt x="15707" y="261012"/>
                </a:lnTo>
                <a:lnTo>
                  <a:pt x="15240" y="4343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MARTInkAnnotation266"/>
          <p:cNvSpPr/>
          <p:nvPr/>
        </p:nvSpPr>
        <p:spPr>
          <a:xfrm>
            <a:off x="1333440" y="4778280"/>
            <a:ext cx="312840" cy="22320"/>
          </a:xfrm>
          <a:custGeom>
            <a:avLst/>
            <a:gdLst>
              <a:gd name="textAreaLeft" fmla="*/ 0 w 312840"/>
              <a:gd name="textAreaRight" fmla="*/ 313200 w 3128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312421" h="22861">
                <a:moveTo>
                  <a:pt x="0" y="0"/>
                </a:moveTo>
                <a:lnTo>
                  <a:pt x="162926" y="0"/>
                </a:lnTo>
                <a:lnTo>
                  <a:pt x="172964" y="847"/>
                </a:lnTo>
                <a:lnTo>
                  <a:pt x="183043" y="2258"/>
                </a:lnTo>
                <a:lnTo>
                  <a:pt x="193148" y="4045"/>
                </a:lnTo>
                <a:lnTo>
                  <a:pt x="201579" y="5237"/>
                </a:lnTo>
                <a:lnTo>
                  <a:pt x="208893" y="6031"/>
                </a:lnTo>
                <a:lnTo>
                  <a:pt x="215462" y="6561"/>
                </a:lnTo>
                <a:lnTo>
                  <a:pt x="223228" y="7761"/>
                </a:lnTo>
                <a:lnTo>
                  <a:pt x="231792" y="9407"/>
                </a:lnTo>
                <a:lnTo>
                  <a:pt x="240888" y="11351"/>
                </a:lnTo>
                <a:lnTo>
                  <a:pt x="248645" y="12648"/>
                </a:lnTo>
                <a:lnTo>
                  <a:pt x="255510" y="13512"/>
                </a:lnTo>
                <a:lnTo>
                  <a:pt x="261780" y="14088"/>
                </a:lnTo>
                <a:lnTo>
                  <a:pt x="267654" y="15319"/>
                </a:lnTo>
                <a:lnTo>
                  <a:pt x="273262" y="16986"/>
                </a:lnTo>
                <a:lnTo>
                  <a:pt x="278695" y="18944"/>
                </a:lnTo>
                <a:lnTo>
                  <a:pt x="284010" y="20250"/>
                </a:lnTo>
                <a:lnTo>
                  <a:pt x="289247" y="21120"/>
                </a:lnTo>
                <a:lnTo>
                  <a:pt x="294431" y="21700"/>
                </a:lnTo>
                <a:lnTo>
                  <a:pt x="302450" y="22345"/>
                </a:lnTo>
                <a:lnTo>
                  <a:pt x="312420" y="228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MARTInkAnnotation267"/>
          <p:cNvSpPr/>
          <p:nvPr/>
        </p:nvSpPr>
        <p:spPr>
          <a:xfrm>
            <a:off x="1849320" y="4487760"/>
            <a:ext cx="262080" cy="373320"/>
          </a:xfrm>
          <a:custGeom>
            <a:avLst/>
            <a:gdLst>
              <a:gd name="textAreaLeft" fmla="*/ 0 w 262080"/>
              <a:gd name="textAreaRight" fmla="*/ 262440 w 262080"/>
              <a:gd name="textAreaTop" fmla="*/ 0 h 373320"/>
              <a:gd name="textAreaBottom" fmla="*/ 373680 h 373320"/>
            </a:gdLst>
            <a:ahLst/>
            <a:rect l="textAreaLeft" t="textAreaTop" r="textAreaRight" b="textAreaBottom"/>
            <a:pathLst>
              <a:path w="261848" h="372260">
                <a:moveTo>
                  <a:pt x="238987" y="7306"/>
                </a:moveTo>
                <a:lnTo>
                  <a:pt x="238987" y="3261"/>
                </a:lnTo>
                <a:lnTo>
                  <a:pt x="238140" y="2069"/>
                </a:lnTo>
                <a:lnTo>
                  <a:pt x="236730" y="1275"/>
                </a:lnTo>
                <a:lnTo>
                  <a:pt x="232904" y="392"/>
                </a:lnTo>
                <a:lnTo>
                  <a:pt x="228382" y="0"/>
                </a:lnTo>
                <a:lnTo>
                  <a:pt x="221291" y="2083"/>
                </a:lnTo>
                <a:lnTo>
                  <a:pt x="217030" y="3824"/>
                </a:lnTo>
                <a:lnTo>
                  <a:pt x="212496" y="4985"/>
                </a:lnTo>
                <a:lnTo>
                  <a:pt x="207780" y="5759"/>
                </a:lnTo>
                <a:lnTo>
                  <a:pt x="202942" y="6274"/>
                </a:lnTo>
                <a:lnTo>
                  <a:pt x="197177" y="6618"/>
                </a:lnTo>
                <a:lnTo>
                  <a:pt x="183998" y="7001"/>
                </a:lnTo>
                <a:lnTo>
                  <a:pt x="162299" y="7215"/>
                </a:lnTo>
                <a:lnTo>
                  <a:pt x="154841" y="8092"/>
                </a:lnTo>
                <a:lnTo>
                  <a:pt x="147330" y="9524"/>
                </a:lnTo>
                <a:lnTo>
                  <a:pt x="139783" y="11324"/>
                </a:lnTo>
                <a:lnTo>
                  <a:pt x="132211" y="13372"/>
                </a:lnTo>
                <a:lnTo>
                  <a:pt x="117024" y="17904"/>
                </a:lnTo>
                <a:lnTo>
                  <a:pt x="94194" y="25216"/>
                </a:lnTo>
                <a:lnTo>
                  <a:pt x="87425" y="27713"/>
                </a:lnTo>
                <a:lnTo>
                  <a:pt x="81219" y="30224"/>
                </a:lnTo>
                <a:lnTo>
                  <a:pt x="75389" y="32744"/>
                </a:lnTo>
                <a:lnTo>
                  <a:pt x="70655" y="35272"/>
                </a:lnTo>
                <a:lnTo>
                  <a:pt x="63137" y="40337"/>
                </a:lnTo>
                <a:lnTo>
                  <a:pt x="60794" y="42874"/>
                </a:lnTo>
                <a:lnTo>
                  <a:pt x="59232" y="45411"/>
                </a:lnTo>
                <a:lnTo>
                  <a:pt x="58190" y="47949"/>
                </a:lnTo>
                <a:lnTo>
                  <a:pt x="58343" y="51335"/>
                </a:lnTo>
                <a:lnTo>
                  <a:pt x="60770" y="59612"/>
                </a:lnTo>
                <a:lnTo>
                  <a:pt x="64670" y="68935"/>
                </a:lnTo>
                <a:lnTo>
                  <a:pt x="66896" y="73792"/>
                </a:lnTo>
                <a:lnTo>
                  <a:pt x="70920" y="78723"/>
                </a:lnTo>
                <a:lnTo>
                  <a:pt x="76142" y="83704"/>
                </a:lnTo>
                <a:lnTo>
                  <a:pt x="82164" y="88718"/>
                </a:lnTo>
                <a:lnTo>
                  <a:pt x="88718" y="93754"/>
                </a:lnTo>
                <a:lnTo>
                  <a:pt x="95628" y="98805"/>
                </a:lnTo>
                <a:lnTo>
                  <a:pt x="102774" y="103865"/>
                </a:lnTo>
                <a:lnTo>
                  <a:pt x="110925" y="108086"/>
                </a:lnTo>
                <a:lnTo>
                  <a:pt x="119746" y="111746"/>
                </a:lnTo>
                <a:lnTo>
                  <a:pt x="129013" y="115032"/>
                </a:lnTo>
                <a:lnTo>
                  <a:pt x="136884" y="118917"/>
                </a:lnTo>
                <a:lnTo>
                  <a:pt x="143825" y="123200"/>
                </a:lnTo>
                <a:lnTo>
                  <a:pt x="150146" y="127749"/>
                </a:lnTo>
                <a:lnTo>
                  <a:pt x="156053" y="132475"/>
                </a:lnTo>
                <a:lnTo>
                  <a:pt x="161685" y="137319"/>
                </a:lnTo>
                <a:lnTo>
                  <a:pt x="171610" y="146369"/>
                </a:lnTo>
                <a:lnTo>
                  <a:pt x="178844" y="153214"/>
                </a:lnTo>
                <a:lnTo>
                  <a:pt x="181112" y="157071"/>
                </a:lnTo>
                <a:lnTo>
                  <a:pt x="183632" y="165873"/>
                </a:lnTo>
                <a:lnTo>
                  <a:pt x="183457" y="169744"/>
                </a:lnTo>
                <a:lnTo>
                  <a:pt x="182493" y="173171"/>
                </a:lnTo>
                <a:lnTo>
                  <a:pt x="181005" y="176303"/>
                </a:lnTo>
                <a:lnTo>
                  <a:pt x="178319" y="179237"/>
                </a:lnTo>
                <a:lnTo>
                  <a:pt x="170819" y="184756"/>
                </a:lnTo>
                <a:lnTo>
                  <a:pt x="166449" y="187412"/>
                </a:lnTo>
                <a:lnTo>
                  <a:pt x="161841" y="190030"/>
                </a:lnTo>
                <a:lnTo>
                  <a:pt x="157077" y="192622"/>
                </a:lnTo>
                <a:lnTo>
                  <a:pt x="150514" y="195197"/>
                </a:lnTo>
                <a:lnTo>
                  <a:pt x="142752" y="197759"/>
                </a:lnTo>
                <a:lnTo>
                  <a:pt x="134190" y="200315"/>
                </a:lnTo>
                <a:lnTo>
                  <a:pt x="115646" y="205413"/>
                </a:lnTo>
                <a:lnTo>
                  <a:pt x="76146" y="215583"/>
                </a:lnTo>
                <a:lnTo>
                  <a:pt x="66927" y="218971"/>
                </a:lnTo>
                <a:lnTo>
                  <a:pt x="58240" y="222923"/>
                </a:lnTo>
                <a:lnTo>
                  <a:pt x="49909" y="227250"/>
                </a:lnTo>
                <a:lnTo>
                  <a:pt x="41815" y="230982"/>
                </a:lnTo>
                <a:lnTo>
                  <a:pt x="33879" y="234317"/>
                </a:lnTo>
                <a:lnTo>
                  <a:pt x="26048" y="237387"/>
                </a:lnTo>
                <a:lnTo>
                  <a:pt x="19981" y="241126"/>
                </a:lnTo>
                <a:lnTo>
                  <a:pt x="15090" y="245313"/>
                </a:lnTo>
                <a:lnTo>
                  <a:pt x="10982" y="249797"/>
                </a:lnTo>
                <a:lnTo>
                  <a:pt x="7397" y="255327"/>
                </a:lnTo>
                <a:lnTo>
                  <a:pt x="4160" y="261553"/>
                </a:lnTo>
                <a:lnTo>
                  <a:pt x="1156" y="268244"/>
                </a:lnTo>
                <a:lnTo>
                  <a:pt x="0" y="274398"/>
                </a:lnTo>
                <a:lnTo>
                  <a:pt x="973" y="285751"/>
                </a:lnTo>
                <a:lnTo>
                  <a:pt x="6485" y="296442"/>
                </a:lnTo>
                <a:lnTo>
                  <a:pt x="10326" y="301663"/>
                </a:lnTo>
                <a:lnTo>
                  <a:pt x="16273" y="307684"/>
                </a:lnTo>
                <a:lnTo>
                  <a:pt x="23624" y="314238"/>
                </a:lnTo>
                <a:lnTo>
                  <a:pt x="31912" y="321147"/>
                </a:lnTo>
                <a:lnTo>
                  <a:pt x="40824" y="327447"/>
                </a:lnTo>
                <a:lnTo>
                  <a:pt x="50152" y="333340"/>
                </a:lnTo>
                <a:lnTo>
                  <a:pt x="59757" y="338962"/>
                </a:lnTo>
                <a:lnTo>
                  <a:pt x="70394" y="343557"/>
                </a:lnTo>
                <a:lnTo>
                  <a:pt x="81718" y="347466"/>
                </a:lnTo>
                <a:lnTo>
                  <a:pt x="93501" y="350920"/>
                </a:lnTo>
                <a:lnTo>
                  <a:pt x="105590" y="354915"/>
                </a:lnTo>
                <a:lnTo>
                  <a:pt x="130310" y="363870"/>
                </a:lnTo>
                <a:lnTo>
                  <a:pt x="142829" y="366935"/>
                </a:lnTo>
                <a:lnTo>
                  <a:pt x="155409" y="368979"/>
                </a:lnTo>
                <a:lnTo>
                  <a:pt x="168028" y="370342"/>
                </a:lnTo>
                <a:lnTo>
                  <a:pt x="179828" y="371249"/>
                </a:lnTo>
                <a:lnTo>
                  <a:pt x="191081" y="371855"/>
                </a:lnTo>
                <a:lnTo>
                  <a:pt x="201970" y="372259"/>
                </a:lnTo>
                <a:lnTo>
                  <a:pt x="211769" y="371681"/>
                </a:lnTo>
                <a:lnTo>
                  <a:pt x="220842" y="370449"/>
                </a:lnTo>
                <a:lnTo>
                  <a:pt x="229430" y="368782"/>
                </a:lnTo>
                <a:lnTo>
                  <a:pt x="236849" y="366823"/>
                </a:lnTo>
                <a:lnTo>
                  <a:pt x="243488" y="364671"/>
                </a:lnTo>
                <a:lnTo>
                  <a:pt x="261847" y="35782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MARTInkAnnotation268"/>
          <p:cNvSpPr/>
          <p:nvPr/>
        </p:nvSpPr>
        <p:spPr>
          <a:xfrm>
            <a:off x="1967040" y="4435560"/>
            <a:ext cx="36360" cy="479520"/>
          </a:xfrm>
          <a:custGeom>
            <a:avLst/>
            <a:gdLst>
              <a:gd name="textAreaLeft" fmla="*/ 0 w 36360"/>
              <a:gd name="textAreaRight" fmla="*/ 36720 w 3636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37759" h="480061">
                <a:moveTo>
                  <a:pt x="22518" y="0"/>
                </a:moveTo>
                <a:lnTo>
                  <a:pt x="22518" y="21957"/>
                </a:lnTo>
                <a:lnTo>
                  <a:pt x="21671" y="27338"/>
                </a:lnTo>
                <a:lnTo>
                  <a:pt x="20260" y="33466"/>
                </a:lnTo>
                <a:lnTo>
                  <a:pt x="18473" y="40091"/>
                </a:lnTo>
                <a:lnTo>
                  <a:pt x="17281" y="47047"/>
                </a:lnTo>
                <a:lnTo>
                  <a:pt x="16487" y="54225"/>
                </a:lnTo>
                <a:lnTo>
                  <a:pt x="15957" y="61550"/>
                </a:lnTo>
                <a:lnTo>
                  <a:pt x="15604" y="69820"/>
                </a:lnTo>
                <a:lnTo>
                  <a:pt x="15212" y="88040"/>
                </a:lnTo>
                <a:lnTo>
                  <a:pt x="14261" y="97640"/>
                </a:lnTo>
                <a:lnTo>
                  <a:pt x="12780" y="107427"/>
                </a:lnTo>
                <a:lnTo>
                  <a:pt x="10946" y="117338"/>
                </a:lnTo>
                <a:lnTo>
                  <a:pt x="9723" y="128179"/>
                </a:lnTo>
                <a:lnTo>
                  <a:pt x="8908" y="139639"/>
                </a:lnTo>
                <a:lnTo>
                  <a:pt x="8364" y="151513"/>
                </a:lnTo>
                <a:lnTo>
                  <a:pt x="7156" y="163662"/>
                </a:lnTo>
                <a:lnTo>
                  <a:pt x="5503" y="175995"/>
                </a:lnTo>
                <a:lnTo>
                  <a:pt x="3555" y="188450"/>
                </a:lnTo>
                <a:lnTo>
                  <a:pt x="2256" y="201833"/>
                </a:lnTo>
                <a:lnTo>
                  <a:pt x="1390" y="215836"/>
                </a:lnTo>
                <a:lnTo>
                  <a:pt x="428" y="244093"/>
                </a:lnTo>
                <a:lnTo>
                  <a:pt x="0" y="270764"/>
                </a:lnTo>
                <a:lnTo>
                  <a:pt x="733" y="284649"/>
                </a:lnTo>
                <a:lnTo>
                  <a:pt x="2068" y="298987"/>
                </a:lnTo>
                <a:lnTo>
                  <a:pt x="3804" y="313624"/>
                </a:lnTo>
                <a:lnTo>
                  <a:pt x="4962" y="327616"/>
                </a:lnTo>
                <a:lnTo>
                  <a:pt x="5734" y="341178"/>
                </a:lnTo>
                <a:lnTo>
                  <a:pt x="6249" y="354451"/>
                </a:lnTo>
                <a:lnTo>
                  <a:pt x="7439" y="367534"/>
                </a:lnTo>
                <a:lnTo>
                  <a:pt x="9078" y="380489"/>
                </a:lnTo>
                <a:lnTo>
                  <a:pt x="11018" y="393360"/>
                </a:lnTo>
                <a:lnTo>
                  <a:pt x="13158" y="405327"/>
                </a:lnTo>
                <a:lnTo>
                  <a:pt x="15431" y="416691"/>
                </a:lnTo>
                <a:lnTo>
                  <a:pt x="17794" y="427654"/>
                </a:lnTo>
                <a:lnTo>
                  <a:pt x="20215" y="436656"/>
                </a:lnTo>
                <a:lnTo>
                  <a:pt x="22676" y="444351"/>
                </a:lnTo>
                <a:lnTo>
                  <a:pt x="25163" y="451174"/>
                </a:lnTo>
                <a:lnTo>
                  <a:pt x="27668" y="457416"/>
                </a:lnTo>
                <a:lnTo>
                  <a:pt x="30185" y="463270"/>
                </a:lnTo>
                <a:lnTo>
                  <a:pt x="37758" y="4800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MARTInkAnnotation269"/>
          <p:cNvSpPr/>
          <p:nvPr/>
        </p:nvSpPr>
        <p:spPr>
          <a:xfrm>
            <a:off x="2225520" y="4732200"/>
            <a:ext cx="220680" cy="7920"/>
          </a:xfrm>
          <a:custGeom>
            <a:avLst/>
            <a:gdLst>
              <a:gd name="textAreaLeft" fmla="*/ 0 w 220680"/>
              <a:gd name="textAreaRight" fmla="*/ 221040 w 2206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20981" h="7621">
                <a:moveTo>
                  <a:pt x="0" y="0"/>
                </a:moveTo>
                <a:lnTo>
                  <a:pt x="134622" y="0"/>
                </a:lnTo>
                <a:lnTo>
                  <a:pt x="138855" y="847"/>
                </a:lnTo>
                <a:lnTo>
                  <a:pt x="142524" y="2258"/>
                </a:lnTo>
                <a:lnTo>
                  <a:pt x="145816" y="4045"/>
                </a:lnTo>
                <a:lnTo>
                  <a:pt x="148857" y="5237"/>
                </a:lnTo>
                <a:lnTo>
                  <a:pt x="151732" y="6031"/>
                </a:lnTo>
                <a:lnTo>
                  <a:pt x="154495" y="6561"/>
                </a:lnTo>
                <a:lnTo>
                  <a:pt x="157183" y="6914"/>
                </a:lnTo>
                <a:lnTo>
                  <a:pt x="159822" y="7149"/>
                </a:lnTo>
                <a:lnTo>
                  <a:pt x="162428" y="7306"/>
                </a:lnTo>
                <a:lnTo>
                  <a:pt x="169839" y="7481"/>
                </a:lnTo>
                <a:lnTo>
                  <a:pt x="220980" y="76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MARTInkAnnotation270"/>
          <p:cNvSpPr/>
          <p:nvPr/>
        </p:nvSpPr>
        <p:spPr>
          <a:xfrm>
            <a:off x="3216240" y="4397400"/>
            <a:ext cx="90360" cy="106200"/>
          </a:xfrm>
          <a:custGeom>
            <a:avLst/>
            <a:gdLst>
              <a:gd name="textAreaLeft" fmla="*/ 0 w 90360"/>
              <a:gd name="textAreaRight" fmla="*/ 90720 w 9036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91441" h="106681">
                <a:moveTo>
                  <a:pt x="91440" y="0"/>
                </a:moveTo>
                <a:lnTo>
                  <a:pt x="91440" y="4045"/>
                </a:lnTo>
                <a:lnTo>
                  <a:pt x="90593" y="6084"/>
                </a:lnTo>
                <a:lnTo>
                  <a:pt x="89183" y="8289"/>
                </a:lnTo>
                <a:lnTo>
                  <a:pt x="87395" y="10606"/>
                </a:lnTo>
                <a:lnTo>
                  <a:pt x="84510" y="13844"/>
                </a:lnTo>
                <a:lnTo>
                  <a:pt x="76789" y="21958"/>
                </a:lnTo>
                <a:lnTo>
                  <a:pt x="54649" y="44383"/>
                </a:lnTo>
                <a:lnTo>
                  <a:pt x="49980" y="49909"/>
                </a:lnTo>
                <a:lnTo>
                  <a:pt x="45173" y="56132"/>
                </a:lnTo>
                <a:lnTo>
                  <a:pt x="40275" y="62822"/>
                </a:lnTo>
                <a:lnTo>
                  <a:pt x="34470" y="68975"/>
                </a:lnTo>
                <a:lnTo>
                  <a:pt x="28060" y="74770"/>
                </a:lnTo>
                <a:lnTo>
                  <a:pt x="21247" y="80326"/>
                </a:lnTo>
                <a:lnTo>
                  <a:pt x="16705" y="84878"/>
                </a:lnTo>
                <a:lnTo>
                  <a:pt x="13676" y="88758"/>
                </a:lnTo>
                <a:lnTo>
                  <a:pt x="11657" y="92193"/>
                </a:lnTo>
                <a:lnTo>
                  <a:pt x="9465" y="95328"/>
                </a:lnTo>
                <a:lnTo>
                  <a:pt x="7157" y="98266"/>
                </a:lnTo>
                <a:lnTo>
                  <a:pt x="0" y="1066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MARTInkAnnotation271"/>
          <p:cNvSpPr/>
          <p:nvPr/>
        </p:nvSpPr>
        <p:spPr>
          <a:xfrm>
            <a:off x="3276720" y="4397400"/>
            <a:ext cx="174600" cy="174600"/>
          </a:xfrm>
          <a:custGeom>
            <a:avLst/>
            <a:gdLst>
              <a:gd name="textAreaLeft" fmla="*/ 0 w 174600"/>
              <a:gd name="textAreaRight" fmla="*/ 174960 w 17460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75261" h="175261">
                <a:moveTo>
                  <a:pt x="175260" y="0"/>
                </a:moveTo>
                <a:lnTo>
                  <a:pt x="167169" y="4045"/>
                </a:lnTo>
                <a:lnTo>
                  <a:pt x="164786" y="6084"/>
                </a:lnTo>
                <a:lnTo>
                  <a:pt x="163197" y="8289"/>
                </a:lnTo>
                <a:lnTo>
                  <a:pt x="162139" y="10606"/>
                </a:lnTo>
                <a:lnTo>
                  <a:pt x="159739" y="12997"/>
                </a:lnTo>
                <a:lnTo>
                  <a:pt x="156446" y="15438"/>
                </a:lnTo>
                <a:lnTo>
                  <a:pt x="152557" y="17912"/>
                </a:lnTo>
                <a:lnTo>
                  <a:pt x="147425" y="22102"/>
                </a:lnTo>
                <a:lnTo>
                  <a:pt x="141463" y="27435"/>
                </a:lnTo>
                <a:lnTo>
                  <a:pt x="134949" y="33530"/>
                </a:lnTo>
                <a:lnTo>
                  <a:pt x="128913" y="40133"/>
                </a:lnTo>
                <a:lnTo>
                  <a:pt x="123195" y="47076"/>
                </a:lnTo>
                <a:lnTo>
                  <a:pt x="117690" y="54244"/>
                </a:lnTo>
                <a:lnTo>
                  <a:pt x="111480" y="61562"/>
                </a:lnTo>
                <a:lnTo>
                  <a:pt x="104800" y="68982"/>
                </a:lnTo>
                <a:lnTo>
                  <a:pt x="97807" y="76468"/>
                </a:lnTo>
                <a:lnTo>
                  <a:pt x="89758" y="83999"/>
                </a:lnTo>
                <a:lnTo>
                  <a:pt x="81006" y="91559"/>
                </a:lnTo>
                <a:lnTo>
                  <a:pt x="71784" y="99139"/>
                </a:lnTo>
                <a:lnTo>
                  <a:pt x="63096" y="107580"/>
                </a:lnTo>
                <a:lnTo>
                  <a:pt x="54764" y="116594"/>
                </a:lnTo>
                <a:lnTo>
                  <a:pt x="46669" y="125989"/>
                </a:lnTo>
                <a:lnTo>
                  <a:pt x="39579" y="133946"/>
                </a:lnTo>
                <a:lnTo>
                  <a:pt x="27187" y="147303"/>
                </a:lnTo>
                <a:lnTo>
                  <a:pt x="0" y="1752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MARTInkAnnotation272"/>
          <p:cNvSpPr/>
          <p:nvPr/>
        </p:nvSpPr>
        <p:spPr>
          <a:xfrm>
            <a:off x="3665520" y="4503600"/>
            <a:ext cx="304920" cy="3081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304758" h="308866">
                <a:moveTo>
                  <a:pt x="175217" y="0"/>
                </a:moveTo>
                <a:lnTo>
                  <a:pt x="175217" y="4045"/>
                </a:lnTo>
                <a:lnTo>
                  <a:pt x="172959" y="10546"/>
                </a:lnTo>
                <a:lnTo>
                  <a:pt x="169134" y="19081"/>
                </a:lnTo>
                <a:lnTo>
                  <a:pt x="164611" y="28518"/>
                </a:lnTo>
                <a:lnTo>
                  <a:pt x="161373" y="34252"/>
                </a:lnTo>
                <a:lnTo>
                  <a:pt x="157521" y="40615"/>
                </a:lnTo>
                <a:lnTo>
                  <a:pt x="153260" y="47397"/>
                </a:lnTo>
                <a:lnTo>
                  <a:pt x="149572" y="54458"/>
                </a:lnTo>
                <a:lnTo>
                  <a:pt x="146267" y="61705"/>
                </a:lnTo>
                <a:lnTo>
                  <a:pt x="143217" y="69077"/>
                </a:lnTo>
                <a:lnTo>
                  <a:pt x="138644" y="76531"/>
                </a:lnTo>
                <a:lnTo>
                  <a:pt x="133055" y="84041"/>
                </a:lnTo>
                <a:lnTo>
                  <a:pt x="126789" y="91587"/>
                </a:lnTo>
                <a:lnTo>
                  <a:pt x="120919" y="100005"/>
                </a:lnTo>
                <a:lnTo>
                  <a:pt x="115312" y="109004"/>
                </a:lnTo>
                <a:lnTo>
                  <a:pt x="109879" y="118389"/>
                </a:lnTo>
                <a:lnTo>
                  <a:pt x="99330" y="135591"/>
                </a:lnTo>
                <a:lnTo>
                  <a:pt x="94146" y="143734"/>
                </a:lnTo>
                <a:lnTo>
                  <a:pt x="88149" y="152549"/>
                </a:lnTo>
                <a:lnTo>
                  <a:pt x="56914" y="196969"/>
                </a:lnTo>
                <a:lnTo>
                  <a:pt x="25452" y="243739"/>
                </a:lnTo>
                <a:lnTo>
                  <a:pt x="21187" y="250546"/>
                </a:lnTo>
                <a:lnTo>
                  <a:pt x="17497" y="256777"/>
                </a:lnTo>
                <a:lnTo>
                  <a:pt x="14190" y="262625"/>
                </a:lnTo>
                <a:lnTo>
                  <a:pt x="8259" y="273638"/>
                </a:lnTo>
                <a:lnTo>
                  <a:pt x="5491" y="278945"/>
                </a:lnTo>
                <a:lnTo>
                  <a:pt x="2417" y="287100"/>
                </a:lnTo>
                <a:lnTo>
                  <a:pt x="686" y="296451"/>
                </a:lnTo>
                <a:lnTo>
                  <a:pt x="53" y="304547"/>
                </a:lnTo>
                <a:lnTo>
                  <a:pt x="0" y="308356"/>
                </a:lnTo>
                <a:lnTo>
                  <a:pt x="832" y="308865"/>
                </a:lnTo>
                <a:lnTo>
                  <a:pt x="2234" y="308356"/>
                </a:lnTo>
                <a:lnTo>
                  <a:pt x="4015" y="307170"/>
                </a:lnTo>
                <a:lnTo>
                  <a:pt x="8252" y="305854"/>
                </a:lnTo>
                <a:lnTo>
                  <a:pt x="14650" y="304422"/>
                </a:lnTo>
                <a:lnTo>
                  <a:pt x="25960" y="300963"/>
                </a:lnTo>
                <a:lnTo>
                  <a:pt x="46609" y="294256"/>
                </a:lnTo>
                <a:lnTo>
                  <a:pt x="54765" y="292691"/>
                </a:lnTo>
                <a:lnTo>
                  <a:pt x="63589" y="291647"/>
                </a:lnTo>
                <a:lnTo>
                  <a:pt x="72858" y="290951"/>
                </a:lnTo>
                <a:lnTo>
                  <a:pt x="81578" y="290487"/>
                </a:lnTo>
                <a:lnTo>
                  <a:pt x="98039" y="289973"/>
                </a:lnTo>
                <a:lnTo>
                  <a:pt x="106832" y="288989"/>
                </a:lnTo>
                <a:lnTo>
                  <a:pt x="116080" y="287486"/>
                </a:lnTo>
                <a:lnTo>
                  <a:pt x="125633" y="285637"/>
                </a:lnTo>
                <a:lnTo>
                  <a:pt x="135388" y="284404"/>
                </a:lnTo>
                <a:lnTo>
                  <a:pt x="145277" y="283583"/>
                </a:lnTo>
                <a:lnTo>
                  <a:pt x="155257" y="283036"/>
                </a:lnTo>
                <a:lnTo>
                  <a:pt x="175377" y="282427"/>
                </a:lnTo>
                <a:lnTo>
                  <a:pt x="211843" y="282036"/>
                </a:lnTo>
                <a:lnTo>
                  <a:pt x="219955" y="282851"/>
                </a:lnTo>
                <a:lnTo>
                  <a:pt x="227902" y="284241"/>
                </a:lnTo>
                <a:lnTo>
                  <a:pt x="235740" y="286014"/>
                </a:lnTo>
                <a:lnTo>
                  <a:pt x="243506" y="287196"/>
                </a:lnTo>
                <a:lnTo>
                  <a:pt x="251223" y="287984"/>
                </a:lnTo>
                <a:lnTo>
                  <a:pt x="264878" y="288860"/>
                </a:lnTo>
                <a:lnTo>
                  <a:pt x="273768" y="289249"/>
                </a:lnTo>
                <a:lnTo>
                  <a:pt x="283534" y="289468"/>
                </a:lnTo>
                <a:lnTo>
                  <a:pt x="286375" y="288652"/>
                </a:lnTo>
                <a:lnTo>
                  <a:pt x="295553" y="282991"/>
                </a:lnTo>
                <a:lnTo>
                  <a:pt x="298690" y="282407"/>
                </a:lnTo>
                <a:lnTo>
                  <a:pt x="304757" y="2819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MARTInkAnnotation273"/>
          <p:cNvSpPr/>
          <p:nvPr/>
        </p:nvSpPr>
        <p:spPr>
          <a:xfrm>
            <a:off x="3954600" y="4656240"/>
            <a:ext cx="144360" cy="144360"/>
          </a:xfrm>
          <a:custGeom>
            <a:avLst/>
            <a:gdLst>
              <a:gd name="textAreaLeft" fmla="*/ 0 w 144360"/>
              <a:gd name="textAreaRight" fmla="*/ 144720 w 14436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44325" h="144781">
                <a:moveTo>
                  <a:pt x="144324" y="7621"/>
                </a:moveTo>
                <a:lnTo>
                  <a:pt x="144324" y="28"/>
                </a:lnTo>
                <a:lnTo>
                  <a:pt x="60514" y="0"/>
                </a:lnTo>
                <a:lnTo>
                  <a:pt x="56277" y="847"/>
                </a:lnTo>
                <a:lnTo>
                  <a:pt x="51759" y="2258"/>
                </a:lnTo>
                <a:lnTo>
                  <a:pt x="47054" y="4045"/>
                </a:lnTo>
                <a:lnTo>
                  <a:pt x="43071" y="5237"/>
                </a:lnTo>
                <a:lnTo>
                  <a:pt x="39568" y="6031"/>
                </a:lnTo>
                <a:lnTo>
                  <a:pt x="36387" y="6561"/>
                </a:lnTo>
                <a:lnTo>
                  <a:pt x="33419" y="6914"/>
                </a:lnTo>
                <a:lnTo>
                  <a:pt x="30594" y="7150"/>
                </a:lnTo>
                <a:lnTo>
                  <a:pt x="27864" y="7307"/>
                </a:lnTo>
                <a:lnTo>
                  <a:pt x="26044" y="8258"/>
                </a:lnTo>
                <a:lnTo>
                  <a:pt x="24831" y="9739"/>
                </a:lnTo>
                <a:lnTo>
                  <a:pt x="24021" y="11573"/>
                </a:lnTo>
                <a:lnTo>
                  <a:pt x="24328" y="12795"/>
                </a:lnTo>
                <a:lnTo>
                  <a:pt x="25381" y="13610"/>
                </a:lnTo>
                <a:lnTo>
                  <a:pt x="26928" y="14153"/>
                </a:lnTo>
                <a:lnTo>
                  <a:pt x="28807" y="16209"/>
                </a:lnTo>
                <a:lnTo>
                  <a:pt x="30906" y="19273"/>
                </a:lnTo>
                <a:lnTo>
                  <a:pt x="33152" y="23008"/>
                </a:lnTo>
                <a:lnTo>
                  <a:pt x="35496" y="25499"/>
                </a:lnTo>
                <a:lnTo>
                  <a:pt x="37905" y="27159"/>
                </a:lnTo>
                <a:lnTo>
                  <a:pt x="40358" y="28266"/>
                </a:lnTo>
                <a:lnTo>
                  <a:pt x="51901" y="33869"/>
                </a:lnTo>
                <a:lnTo>
                  <a:pt x="55615" y="36126"/>
                </a:lnTo>
                <a:lnTo>
                  <a:pt x="58938" y="38478"/>
                </a:lnTo>
                <a:lnTo>
                  <a:pt x="62000" y="40892"/>
                </a:lnTo>
                <a:lnTo>
                  <a:pt x="64888" y="43348"/>
                </a:lnTo>
                <a:lnTo>
                  <a:pt x="67660" y="45833"/>
                </a:lnTo>
                <a:lnTo>
                  <a:pt x="74148" y="51857"/>
                </a:lnTo>
                <a:lnTo>
                  <a:pt x="74679" y="53198"/>
                </a:lnTo>
                <a:lnTo>
                  <a:pt x="75271" y="56946"/>
                </a:lnTo>
                <a:lnTo>
                  <a:pt x="74582" y="59131"/>
                </a:lnTo>
                <a:lnTo>
                  <a:pt x="73276" y="61434"/>
                </a:lnTo>
                <a:lnTo>
                  <a:pt x="71558" y="63816"/>
                </a:lnTo>
                <a:lnTo>
                  <a:pt x="69567" y="65404"/>
                </a:lnTo>
                <a:lnTo>
                  <a:pt x="67393" y="66463"/>
                </a:lnTo>
                <a:lnTo>
                  <a:pt x="65096" y="67168"/>
                </a:lnTo>
                <a:lnTo>
                  <a:pt x="62719" y="68486"/>
                </a:lnTo>
                <a:lnTo>
                  <a:pt x="60287" y="70211"/>
                </a:lnTo>
                <a:lnTo>
                  <a:pt x="57819" y="72208"/>
                </a:lnTo>
                <a:lnTo>
                  <a:pt x="54481" y="74385"/>
                </a:lnTo>
                <a:lnTo>
                  <a:pt x="50561" y="76683"/>
                </a:lnTo>
                <a:lnTo>
                  <a:pt x="46256" y="79062"/>
                </a:lnTo>
                <a:lnTo>
                  <a:pt x="41692" y="80648"/>
                </a:lnTo>
                <a:lnTo>
                  <a:pt x="36956" y="81706"/>
                </a:lnTo>
                <a:lnTo>
                  <a:pt x="32105" y="82411"/>
                </a:lnTo>
                <a:lnTo>
                  <a:pt x="28025" y="84574"/>
                </a:lnTo>
                <a:lnTo>
                  <a:pt x="24458" y="87709"/>
                </a:lnTo>
                <a:lnTo>
                  <a:pt x="21233" y="91493"/>
                </a:lnTo>
                <a:lnTo>
                  <a:pt x="18237" y="94016"/>
                </a:lnTo>
                <a:lnTo>
                  <a:pt x="15392" y="95697"/>
                </a:lnTo>
                <a:lnTo>
                  <a:pt x="12649" y="96818"/>
                </a:lnTo>
                <a:lnTo>
                  <a:pt x="9975" y="98412"/>
                </a:lnTo>
                <a:lnTo>
                  <a:pt x="7344" y="100321"/>
                </a:lnTo>
                <a:lnTo>
                  <a:pt x="4744" y="102441"/>
                </a:lnTo>
                <a:lnTo>
                  <a:pt x="3010" y="104701"/>
                </a:lnTo>
                <a:lnTo>
                  <a:pt x="1855" y="107054"/>
                </a:lnTo>
                <a:lnTo>
                  <a:pt x="1085" y="109469"/>
                </a:lnTo>
                <a:lnTo>
                  <a:pt x="571" y="111926"/>
                </a:lnTo>
                <a:lnTo>
                  <a:pt x="229" y="114411"/>
                </a:lnTo>
                <a:lnTo>
                  <a:pt x="0" y="116914"/>
                </a:lnTo>
                <a:lnTo>
                  <a:pt x="695" y="119430"/>
                </a:lnTo>
                <a:lnTo>
                  <a:pt x="2004" y="121953"/>
                </a:lnTo>
                <a:lnTo>
                  <a:pt x="3724" y="124482"/>
                </a:lnTo>
                <a:lnTo>
                  <a:pt x="5717" y="127015"/>
                </a:lnTo>
                <a:lnTo>
                  <a:pt x="7893" y="129550"/>
                </a:lnTo>
                <a:lnTo>
                  <a:pt x="10190" y="132087"/>
                </a:lnTo>
                <a:lnTo>
                  <a:pt x="13414" y="133778"/>
                </a:lnTo>
                <a:lnTo>
                  <a:pt x="17258" y="134905"/>
                </a:lnTo>
                <a:lnTo>
                  <a:pt x="21514" y="135657"/>
                </a:lnTo>
                <a:lnTo>
                  <a:pt x="26043" y="137004"/>
                </a:lnTo>
                <a:lnTo>
                  <a:pt x="30757" y="138750"/>
                </a:lnTo>
                <a:lnTo>
                  <a:pt x="35592" y="140760"/>
                </a:lnTo>
                <a:lnTo>
                  <a:pt x="41356" y="142100"/>
                </a:lnTo>
                <a:lnTo>
                  <a:pt x="47739" y="142993"/>
                </a:lnTo>
                <a:lnTo>
                  <a:pt x="54534" y="143589"/>
                </a:lnTo>
                <a:lnTo>
                  <a:pt x="61604" y="143986"/>
                </a:lnTo>
                <a:lnTo>
                  <a:pt x="76232" y="144427"/>
                </a:lnTo>
                <a:lnTo>
                  <a:pt x="95000" y="144710"/>
                </a:lnTo>
                <a:lnTo>
                  <a:pt x="113844" y="1447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MARTInkAnnotation274"/>
          <p:cNvSpPr/>
          <p:nvPr/>
        </p:nvSpPr>
        <p:spPr>
          <a:xfrm>
            <a:off x="4186080" y="4335480"/>
            <a:ext cx="157320" cy="511200"/>
          </a:xfrm>
          <a:custGeom>
            <a:avLst/>
            <a:gdLst>
              <a:gd name="textAreaLeft" fmla="*/ 0 w 157320"/>
              <a:gd name="textAreaRight" fmla="*/ 157680 w 15732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155971" h="510295">
                <a:moveTo>
                  <a:pt x="110715" y="228354"/>
                </a:moveTo>
                <a:lnTo>
                  <a:pt x="121321" y="217748"/>
                </a:lnTo>
                <a:lnTo>
                  <a:pt x="122866" y="215357"/>
                </a:lnTo>
                <a:lnTo>
                  <a:pt x="124582" y="210442"/>
                </a:lnTo>
                <a:lnTo>
                  <a:pt x="126733" y="207100"/>
                </a:lnTo>
                <a:lnTo>
                  <a:pt x="129861" y="203178"/>
                </a:lnTo>
                <a:lnTo>
                  <a:pt x="133639" y="198870"/>
                </a:lnTo>
                <a:lnTo>
                  <a:pt x="137004" y="193458"/>
                </a:lnTo>
                <a:lnTo>
                  <a:pt x="140095" y="187310"/>
                </a:lnTo>
                <a:lnTo>
                  <a:pt x="143001" y="180672"/>
                </a:lnTo>
                <a:lnTo>
                  <a:pt x="148489" y="168780"/>
                </a:lnTo>
                <a:lnTo>
                  <a:pt x="151138" y="163238"/>
                </a:lnTo>
                <a:lnTo>
                  <a:pt x="154081" y="150307"/>
                </a:lnTo>
                <a:lnTo>
                  <a:pt x="155389" y="135246"/>
                </a:lnTo>
                <a:lnTo>
                  <a:pt x="155737" y="126489"/>
                </a:lnTo>
                <a:lnTo>
                  <a:pt x="155970" y="117264"/>
                </a:lnTo>
                <a:lnTo>
                  <a:pt x="153971" y="102498"/>
                </a:lnTo>
                <a:lnTo>
                  <a:pt x="151107" y="89445"/>
                </a:lnTo>
                <a:lnTo>
                  <a:pt x="149833" y="75177"/>
                </a:lnTo>
                <a:lnTo>
                  <a:pt x="147010" y="62626"/>
                </a:lnTo>
                <a:lnTo>
                  <a:pt x="145072" y="56909"/>
                </a:lnTo>
                <a:lnTo>
                  <a:pt x="142087" y="50557"/>
                </a:lnTo>
                <a:lnTo>
                  <a:pt x="138403" y="43783"/>
                </a:lnTo>
                <a:lnTo>
                  <a:pt x="134253" y="36727"/>
                </a:lnTo>
                <a:lnTo>
                  <a:pt x="130641" y="31176"/>
                </a:lnTo>
                <a:lnTo>
                  <a:pt x="127386" y="26629"/>
                </a:lnTo>
                <a:lnTo>
                  <a:pt x="124369" y="22750"/>
                </a:lnTo>
                <a:lnTo>
                  <a:pt x="121511" y="18471"/>
                </a:lnTo>
                <a:lnTo>
                  <a:pt x="118759" y="13926"/>
                </a:lnTo>
                <a:lnTo>
                  <a:pt x="116077" y="9202"/>
                </a:lnTo>
                <a:lnTo>
                  <a:pt x="112597" y="6053"/>
                </a:lnTo>
                <a:lnTo>
                  <a:pt x="108583" y="3953"/>
                </a:lnTo>
                <a:lnTo>
                  <a:pt x="104214" y="2553"/>
                </a:lnTo>
                <a:lnTo>
                  <a:pt x="100454" y="1621"/>
                </a:lnTo>
                <a:lnTo>
                  <a:pt x="97101" y="998"/>
                </a:lnTo>
                <a:lnTo>
                  <a:pt x="94019" y="584"/>
                </a:lnTo>
                <a:lnTo>
                  <a:pt x="90271" y="307"/>
                </a:lnTo>
                <a:lnTo>
                  <a:pt x="86079" y="123"/>
                </a:lnTo>
                <a:lnTo>
                  <a:pt x="81591" y="0"/>
                </a:lnTo>
                <a:lnTo>
                  <a:pt x="77753" y="1612"/>
                </a:lnTo>
                <a:lnTo>
                  <a:pt x="74347" y="4379"/>
                </a:lnTo>
                <a:lnTo>
                  <a:pt x="71229" y="7917"/>
                </a:lnTo>
                <a:lnTo>
                  <a:pt x="68305" y="11969"/>
                </a:lnTo>
                <a:lnTo>
                  <a:pt x="65508" y="16365"/>
                </a:lnTo>
                <a:lnTo>
                  <a:pt x="62797" y="20988"/>
                </a:lnTo>
                <a:lnTo>
                  <a:pt x="60143" y="25764"/>
                </a:lnTo>
                <a:lnTo>
                  <a:pt x="54937" y="35585"/>
                </a:lnTo>
                <a:lnTo>
                  <a:pt x="52058" y="50110"/>
                </a:lnTo>
                <a:lnTo>
                  <a:pt x="51291" y="58725"/>
                </a:lnTo>
                <a:lnTo>
                  <a:pt x="49932" y="67008"/>
                </a:lnTo>
                <a:lnTo>
                  <a:pt x="48179" y="75070"/>
                </a:lnTo>
                <a:lnTo>
                  <a:pt x="46165" y="82985"/>
                </a:lnTo>
                <a:lnTo>
                  <a:pt x="41668" y="103068"/>
                </a:lnTo>
                <a:lnTo>
                  <a:pt x="36848" y="125258"/>
                </a:lnTo>
                <a:lnTo>
                  <a:pt x="29374" y="157638"/>
                </a:lnTo>
                <a:lnTo>
                  <a:pt x="16727" y="218582"/>
                </a:lnTo>
                <a:lnTo>
                  <a:pt x="15037" y="231153"/>
                </a:lnTo>
                <a:lnTo>
                  <a:pt x="13910" y="243767"/>
                </a:lnTo>
                <a:lnTo>
                  <a:pt x="13158" y="256409"/>
                </a:lnTo>
                <a:lnTo>
                  <a:pt x="11811" y="269071"/>
                </a:lnTo>
                <a:lnTo>
                  <a:pt x="10065" y="281746"/>
                </a:lnTo>
                <a:lnTo>
                  <a:pt x="8056" y="294429"/>
                </a:lnTo>
                <a:lnTo>
                  <a:pt x="6715" y="306270"/>
                </a:lnTo>
                <a:lnTo>
                  <a:pt x="5822" y="317552"/>
                </a:lnTo>
                <a:lnTo>
                  <a:pt x="5226" y="328459"/>
                </a:lnTo>
                <a:lnTo>
                  <a:pt x="4565" y="351868"/>
                </a:lnTo>
                <a:lnTo>
                  <a:pt x="4066" y="424616"/>
                </a:lnTo>
                <a:lnTo>
                  <a:pt x="3209" y="432856"/>
                </a:lnTo>
                <a:lnTo>
                  <a:pt x="0" y="448784"/>
                </a:lnTo>
                <a:lnTo>
                  <a:pt x="266" y="462072"/>
                </a:lnTo>
                <a:lnTo>
                  <a:pt x="2360" y="473622"/>
                </a:lnTo>
                <a:lnTo>
                  <a:pt x="3539" y="488798"/>
                </a:lnTo>
                <a:lnTo>
                  <a:pt x="3970" y="504725"/>
                </a:lnTo>
                <a:lnTo>
                  <a:pt x="4035" y="51029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MARTInkAnnotation275"/>
          <p:cNvSpPr/>
          <p:nvPr/>
        </p:nvSpPr>
        <p:spPr>
          <a:xfrm>
            <a:off x="4098960" y="4708440"/>
            <a:ext cx="84240" cy="23760"/>
          </a:xfrm>
          <a:custGeom>
            <a:avLst/>
            <a:gdLst>
              <a:gd name="textAreaLeft" fmla="*/ 0 w 84240"/>
              <a:gd name="textAreaRight" fmla="*/ 84600 w 842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83821" h="22861">
                <a:moveTo>
                  <a:pt x="0" y="0"/>
                </a:moveTo>
                <a:lnTo>
                  <a:pt x="0" y="4045"/>
                </a:lnTo>
                <a:lnTo>
                  <a:pt x="846" y="5237"/>
                </a:lnTo>
                <a:lnTo>
                  <a:pt x="2257" y="6031"/>
                </a:lnTo>
                <a:lnTo>
                  <a:pt x="4045" y="6561"/>
                </a:lnTo>
                <a:lnTo>
                  <a:pt x="7777" y="6914"/>
                </a:lnTo>
                <a:lnTo>
                  <a:pt x="12804" y="7150"/>
                </a:lnTo>
                <a:lnTo>
                  <a:pt x="18696" y="7306"/>
                </a:lnTo>
                <a:lnTo>
                  <a:pt x="25164" y="8257"/>
                </a:lnTo>
                <a:lnTo>
                  <a:pt x="32016" y="9739"/>
                </a:lnTo>
                <a:lnTo>
                  <a:pt x="39124" y="11573"/>
                </a:lnTo>
                <a:lnTo>
                  <a:pt x="45557" y="12796"/>
                </a:lnTo>
                <a:lnTo>
                  <a:pt x="51538" y="13610"/>
                </a:lnTo>
                <a:lnTo>
                  <a:pt x="57218" y="14154"/>
                </a:lnTo>
                <a:lnTo>
                  <a:pt x="62699" y="15363"/>
                </a:lnTo>
                <a:lnTo>
                  <a:pt x="68046" y="17015"/>
                </a:lnTo>
                <a:lnTo>
                  <a:pt x="83820" y="228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MARTInkAnnotation276"/>
          <p:cNvSpPr/>
          <p:nvPr/>
        </p:nvSpPr>
        <p:spPr>
          <a:xfrm>
            <a:off x="4329000" y="4579920"/>
            <a:ext cx="14400" cy="198360"/>
          </a:xfrm>
          <a:custGeom>
            <a:avLst/>
            <a:gdLst>
              <a:gd name="textAreaLeft" fmla="*/ 0 w 14400"/>
              <a:gd name="textAreaRight" fmla="*/ 14760 w 1440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4919" h="198121">
                <a:moveTo>
                  <a:pt x="14918" y="0"/>
                </a:moveTo>
                <a:lnTo>
                  <a:pt x="14918" y="17912"/>
                </a:lnTo>
                <a:lnTo>
                  <a:pt x="14072" y="21255"/>
                </a:lnTo>
                <a:lnTo>
                  <a:pt x="12660" y="25176"/>
                </a:lnTo>
                <a:lnTo>
                  <a:pt x="10873" y="29485"/>
                </a:lnTo>
                <a:lnTo>
                  <a:pt x="9681" y="34896"/>
                </a:lnTo>
                <a:lnTo>
                  <a:pt x="8887" y="41044"/>
                </a:lnTo>
                <a:lnTo>
                  <a:pt x="8357" y="47683"/>
                </a:lnTo>
                <a:lnTo>
                  <a:pt x="8004" y="53802"/>
                </a:lnTo>
                <a:lnTo>
                  <a:pt x="7612" y="65117"/>
                </a:lnTo>
                <a:lnTo>
                  <a:pt x="6661" y="71351"/>
                </a:lnTo>
                <a:lnTo>
                  <a:pt x="5180" y="78048"/>
                </a:lnTo>
                <a:lnTo>
                  <a:pt x="3346" y="85052"/>
                </a:lnTo>
                <a:lnTo>
                  <a:pt x="2123" y="91415"/>
                </a:lnTo>
                <a:lnTo>
                  <a:pt x="1308" y="97350"/>
                </a:lnTo>
                <a:lnTo>
                  <a:pt x="765" y="103000"/>
                </a:lnTo>
                <a:lnTo>
                  <a:pt x="403" y="109307"/>
                </a:lnTo>
                <a:lnTo>
                  <a:pt x="0" y="123088"/>
                </a:lnTo>
                <a:lnTo>
                  <a:pt x="740" y="129472"/>
                </a:lnTo>
                <a:lnTo>
                  <a:pt x="2079" y="135421"/>
                </a:lnTo>
                <a:lnTo>
                  <a:pt x="3819" y="141081"/>
                </a:lnTo>
                <a:lnTo>
                  <a:pt x="4979" y="147394"/>
                </a:lnTo>
                <a:lnTo>
                  <a:pt x="5752" y="154143"/>
                </a:lnTo>
                <a:lnTo>
                  <a:pt x="6267" y="161182"/>
                </a:lnTo>
                <a:lnTo>
                  <a:pt x="6611" y="167568"/>
                </a:lnTo>
                <a:lnTo>
                  <a:pt x="6993" y="179179"/>
                </a:lnTo>
                <a:lnTo>
                  <a:pt x="7942" y="183800"/>
                </a:lnTo>
                <a:lnTo>
                  <a:pt x="9421" y="187726"/>
                </a:lnTo>
                <a:lnTo>
                  <a:pt x="14918" y="1981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MARTInkAnnotation277"/>
          <p:cNvSpPr/>
          <p:nvPr/>
        </p:nvSpPr>
        <p:spPr>
          <a:xfrm>
            <a:off x="4237200" y="4732200"/>
            <a:ext cx="152280" cy="14400"/>
          </a:xfrm>
          <a:custGeom>
            <a:avLst/>
            <a:gdLst>
              <a:gd name="textAreaLeft" fmla="*/ 0 w 152280"/>
              <a:gd name="textAreaRight" fmla="*/ 152640 w 15228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52401" h="15241">
                <a:moveTo>
                  <a:pt x="0" y="0"/>
                </a:moveTo>
                <a:lnTo>
                  <a:pt x="21958" y="0"/>
                </a:lnTo>
                <a:lnTo>
                  <a:pt x="27339" y="847"/>
                </a:lnTo>
                <a:lnTo>
                  <a:pt x="33466" y="2258"/>
                </a:lnTo>
                <a:lnTo>
                  <a:pt x="40091" y="4045"/>
                </a:lnTo>
                <a:lnTo>
                  <a:pt x="47047" y="5237"/>
                </a:lnTo>
                <a:lnTo>
                  <a:pt x="54225" y="6031"/>
                </a:lnTo>
                <a:lnTo>
                  <a:pt x="61550" y="6561"/>
                </a:lnTo>
                <a:lnTo>
                  <a:pt x="68973" y="7760"/>
                </a:lnTo>
                <a:lnTo>
                  <a:pt x="76463" y="9408"/>
                </a:lnTo>
                <a:lnTo>
                  <a:pt x="83995" y="11352"/>
                </a:lnTo>
                <a:lnTo>
                  <a:pt x="90710" y="12648"/>
                </a:lnTo>
                <a:lnTo>
                  <a:pt x="96880" y="13512"/>
                </a:lnTo>
                <a:lnTo>
                  <a:pt x="102687" y="14088"/>
                </a:lnTo>
                <a:lnTo>
                  <a:pt x="108252" y="14472"/>
                </a:lnTo>
                <a:lnTo>
                  <a:pt x="113654" y="14728"/>
                </a:lnTo>
                <a:lnTo>
                  <a:pt x="124174" y="15013"/>
                </a:lnTo>
                <a:lnTo>
                  <a:pt x="152400" y="152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MARTInkAnnotation278"/>
          <p:cNvSpPr/>
          <p:nvPr/>
        </p:nvSpPr>
        <p:spPr>
          <a:xfrm>
            <a:off x="4670280" y="4479840"/>
            <a:ext cx="46080" cy="298440"/>
          </a:xfrm>
          <a:custGeom>
            <a:avLst/>
            <a:gdLst>
              <a:gd name="textAreaLeft" fmla="*/ 0 w 46080"/>
              <a:gd name="textAreaRight" fmla="*/ 46440 w 4608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45400" h="297181">
                <a:moveTo>
                  <a:pt x="30481" y="0"/>
                </a:moveTo>
                <a:lnTo>
                  <a:pt x="42052" y="0"/>
                </a:lnTo>
                <a:lnTo>
                  <a:pt x="43275" y="847"/>
                </a:lnTo>
                <a:lnTo>
                  <a:pt x="44090" y="2258"/>
                </a:lnTo>
                <a:lnTo>
                  <a:pt x="44996" y="6084"/>
                </a:lnTo>
                <a:lnTo>
                  <a:pt x="45399" y="10606"/>
                </a:lnTo>
                <a:lnTo>
                  <a:pt x="44659" y="13844"/>
                </a:lnTo>
                <a:lnTo>
                  <a:pt x="43320" y="17696"/>
                </a:lnTo>
                <a:lnTo>
                  <a:pt x="41579" y="21957"/>
                </a:lnTo>
                <a:lnTo>
                  <a:pt x="40420" y="27338"/>
                </a:lnTo>
                <a:lnTo>
                  <a:pt x="39647" y="33466"/>
                </a:lnTo>
                <a:lnTo>
                  <a:pt x="39131" y="40091"/>
                </a:lnTo>
                <a:lnTo>
                  <a:pt x="37941" y="46201"/>
                </a:lnTo>
                <a:lnTo>
                  <a:pt x="36301" y="51967"/>
                </a:lnTo>
                <a:lnTo>
                  <a:pt x="34361" y="57505"/>
                </a:lnTo>
                <a:lnTo>
                  <a:pt x="32220" y="64583"/>
                </a:lnTo>
                <a:lnTo>
                  <a:pt x="27584" y="81479"/>
                </a:lnTo>
                <a:lnTo>
                  <a:pt x="26009" y="89880"/>
                </a:lnTo>
                <a:lnTo>
                  <a:pt x="24960" y="98020"/>
                </a:lnTo>
                <a:lnTo>
                  <a:pt x="24260" y="105987"/>
                </a:lnTo>
                <a:lnTo>
                  <a:pt x="22947" y="114684"/>
                </a:lnTo>
                <a:lnTo>
                  <a:pt x="21225" y="123870"/>
                </a:lnTo>
                <a:lnTo>
                  <a:pt x="17053" y="143107"/>
                </a:lnTo>
                <a:lnTo>
                  <a:pt x="12377" y="162945"/>
                </a:lnTo>
                <a:lnTo>
                  <a:pt x="10791" y="172130"/>
                </a:lnTo>
                <a:lnTo>
                  <a:pt x="9734" y="180794"/>
                </a:lnTo>
                <a:lnTo>
                  <a:pt x="9030" y="189109"/>
                </a:lnTo>
                <a:lnTo>
                  <a:pt x="8559" y="198040"/>
                </a:lnTo>
                <a:lnTo>
                  <a:pt x="8038" y="216993"/>
                </a:lnTo>
                <a:lnTo>
                  <a:pt x="7744" y="242659"/>
                </a:lnTo>
                <a:lnTo>
                  <a:pt x="6856" y="251519"/>
                </a:lnTo>
                <a:lnTo>
                  <a:pt x="5417" y="260813"/>
                </a:lnTo>
                <a:lnTo>
                  <a:pt x="3612" y="270395"/>
                </a:lnTo>
                <a:lnTo>
                  <a:pt x="2408" y="277630"/>
                </a:lnTo>
                <a:lnTo>
                  <a:pt x="1605" y="283300"/>
                </a:lnTo>
                <a:lnTo>
                  <a:pt x="0" y="2971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MARTInkAnnotation279"/>
          <p:cNvSpPr/>
          <p:nvPr/>
        </p:nvSpPr>
        <p:spPr>
          <a:xfrm>
            <a:off x="4541760" y="4626000"/>
            <a:ext cx="144720" cy="30240"/>
          </a:xfrm>
          <a:custGeom>
            <a:avLst/>
            <a:gdLst>
              <a:gd name="textAreaLeft" fmla="*/ 0 w 144720"/>
              <a:gd name="textAreaRight" fmla="*/ 145080 w 1447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44781" h="30481">
                <a:moveTo>
                  <a:pt x="0" y="0"/>
                </a:moveTo>
                <a:lnTo>
                  <a:pt x="10606" y="0"/>
                </a:lnTo>
                <a:lnTo>
                  <a:pt x="14691" y="847"/>
                </a:lnTo>
                <a:lnTo>
                  <a:pt x="19954" y="2258"/>
                </a:lnTo>
                <a:lnTo>
                  <a:pt x="26003" y="4045"/>
                </a:lnTo>
                <a:lnTo>
                  <a:pt x="32575" y="5237"/>
                </a:lnTo>
                <a:lnTo>
                  <a:pt x="39497" y="6031"/>
                </a:lnTo>
                <a:lnTo>
                  <a:pt x="46651" y="6561"/>
                </a:lnTo>
                <a:lnTo>
                  <a:pt x="55654" y="7761"/>
                </a:lnTo>
                <a:lnTo>
                  <a:pt x="65890" y="9407"/>
                </a:lnTo>
                <a:lnTo>
                  <a:pt x="76947" y="11351"/>
                </a:lnTo>
                <a:lnTo>
                  <a:pt x="87704" y="14341"/>
                </a:lnTo>
                <a:lnTo>
                  <a:pt x="98263" y="18028"/>
                </a:lnTo>
                <a:lnTo>
                  <a:pt x="108689" y="22179"/>
                </a:lnTo>
                <a:lnTo>
                  <a:pt x="117333" y="24946"/>
                </a:lnTo>
                <a:lnTo>
                  <a:pt x="124789" y="26791"/>
                </a:lnTo>
                <a:lnTo>
                  <a:pt x="144780" y="304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MARTInkAnnotation280"/>
          <p:cNvSpPr/>
          <p:nvPr/>
        </p:nvSpPr>
        <p:spPr>
          <a:xfrm>
            <a:off x="4759200" y="4656240"/>
            <a:ext cx="71640" cy="112680"/>
          </a:xfrm>
          <a:custGeom>
            <a:avLst/>
            <a:gdLst>
              <a:gd name="textAreaLeft" fmla="*/ 0 w 71640"/>
              <a:gd name="textAreaRight" fmla="*/ 72000 w 716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71758" h="113816">
                <a:moveTo>
                  <a:pt x="71757" y="15240"/>
                </a:moveTo>
                <a:lnTo>
                  <a:pt x="71757" y="8679"/>
                </a:lnTo>
                <a:lnTo>
                  <a:pt x="70910" y="7480"/>
                </a:lnTo>
                <a:lnTo>
                  <a:pt x="69499" y="5833"/>
                </a:lnTo>
                <a:lnTo>
                  <a:pt x="67712" y="3889"/>
                </a:lnTo>
                <a:lnTo>
                  <a:pt x="65674" y="2593"/>
                </a:lnTo>
                <a:lnTo>
                  <a:pt x="63469" y="1728"/>
                </a:lnTo>
                <a:lnTo>
                  <a:pt x="61151" y="1152"/>
                </a:lnTo>
                <a:lnTo>
                  <a:pt x="58760" y="768"/>
                </a:lnTo>
                <a:lnTo>
                  <a:pt x="56319" y="512"/>
                </a:lnTo>
                <a:lnTo>
                  <a:pt x="53845" y="342"/>
                </a:lnTo>
                <a:lnTo>
                  <a:pt x="51349" y="228"/>
                </a:lnTo>
                <a:lnTo>
                  <a:pt x="46318" y="101"/>
                </a:lnTo>
                <a:lnTo>
                  <a:pt x="38726" y="31"/>
                </a:lnTo>
                <a:lnTo>
                  <a:pt x="36190" y="867"/>
                </a:lnTo>
                <a:lnTo>
                  <a:pt x="33652" y="2272"/>
                </a:lnTo>
                <a:lnTo>
                  <a:pt x="31114" y="4054"/>
                </a:lnTo>
                <a:lnTo>
                  <a:pt x="27729" y="6937"/>
                </a:lnTo>
                <a:lnTo>
                  <a:pt x="23778" y="10551"/>
                </a:lnTo>
                <a:lnTo>
                  <a:pt x="19451" y="14654"/>
                </a:lnTo>
                <a:lnTo>
                  <a:pt x="15720" y="19083"/>
                </a:lnTo>
                <a:lnTo>
                  <a:pt x="12386" y="23728"/>
                </a:lnTo>
                <a:lnTo>
                  <a:pt x="9316" y="28519"/>
                </a:lnTo>
                <a:lnTo>
                  <a:pt x="6423" y="33406"/>
                </a:lnTo>
                <a:lnTo>
                  <a:pt x="3648" y="38357"/>
                </a:lnTo>
                <a:lnTo>
                  <a:pt x="951" y="43351"/>
                </a:lnTo>
                <a:lnTo>
                  <a:pt x="0" y="48374"/>
                </a:lnTo>
                <a:lnTo>
                  <a:pt x="212" y="53416"/>
                </a:lnTo>
                <a:lnTo>
                  <a:pt x="1200" y="58471"/>
                </a:lnTo>
                <a:lnTo>
                  <a:pt x="1860" y="63534"/>
                </a:lnTo>
                <a:lnTo>
                  <a:pt x="2299" y="68603"/>
                </a:lnTo>
                <a:lnTo>
                  <a:pt x="2592" y="73675"/>
                </a:lnTo>
                <a:lnTo>
                  <a:pt x="3634" y="78750"/>
                </a:lnTo>
                <a:lnTo>
                  <a:pt x="5175" y="83827"/>
                </a:lnTo>
                <a:lnTo>
                  <a:pt x="7049" y="88904"/>
                </a:lnTo>
                <a:lnTo>
                  <a:pt x="9146" y="93136"/>
                </a:lnTo>
                <a:lnTo>
                  <a:pt x="11389" y="96804"/>
                </a:lnTo>
                <a:lnTo>
                  <a:pt x="13732" y="100096"/>
                </a:lnTo>
                <a:lnTo>
                  <a:pt x="16141" y="103138"/>
                </a:lnTo>
                <a:lnTo>
                  <a:pt x="18593" y="106012"/>
                </a:lnTo>
                <a:lnTo>
                  <a:pt x="21074" y="108774"/>
                </a:lnTo>
                <a:lnTo>
                  <a:pt x="23575" y="110616"/>
                </a:lnTo>
                <a:lnTo>
                  <a:pt x="26090" y="111844"/>
                </a:lnTo>
                <a:lnTo>
                  <a:pt x="28612" y="112663"/>
                </a:lnTo>
                <a:lnTo>
                  <a:pt x="31987" y="113208"/>
                </a:lnTo>
                <a:lnTo>
                  <a:pt x="35931" y="113573"/>
                </a:lnTo>
                <a:lnTo>
                  <a:pt x="40253" y="113815"/>
                </a:lnTo>
                <a:lnTo>
                  <a:pt x="43981" y="113130"/>
                </a:lnTo>
                <a:lnTo>
                  <a:pt x="47313" y="111827"/>
                </a:lnTo>
                <a:lnTo>
                  <a:pt x="50381" y="110111"/>
                </a:lnTo>
                <a:lnTo>
                  <a:pt x="53273" y="108121"/>
                </a:lnTo>
                <a:lnTo>
                  <a:pt x="56048" y="105947"/>
                </a:lnTo>
                <a:lnTo>
                  <a:pt x="58745" y="103652"/>
                </a:lnTo>
                <a:lnTo>
                  <a:pt x="60542" y="100427"/>
                </a:lnTo>
                <a:lnTo>
                  <a:pt x="61740" y="96585"/>
                </a:lnTo>
                <a:lnTo>
                  <a:pt x="62539" y="92330"/>
                </a:lnTo>
                <a:lnTo>
                  <a:pt x="63072" y="87800"/>
                </a:lnTo>
                <a:lnTo>
                  <a:pt x="63427" y="83086"/>
                </a:lnTo>
                <a:lnTo>
                  <a:pt x="63664" y="78251"/>
                </a:lnTo>
                <a:lnTo>
                  <a:pt x="63927" y="68363"/>
                </a:lnTo>
                <a:lnTo>
                  <a:pt x="63997" y="63355"/>
                </a:lnTo>
                <a:lnTo>
                  <a:pt x="63197" y="57476"/>
                </a:lnTo>
                <a:lnTo>
                  <a:pt x="61818" y="51018"/>
                </a:lnTo>
                <a:lnTo>
                  <a:pt x="60051" y="44172"/>
                </a:lnTo>
                <a:lnTo>
                  <a:pt x="58026" y="38762"/>
                </a:lnTo>
                <a:lnTo>
                  <a:pt x="55830" y="34308"/>
                </a:lnTo>
                <a:lnTo>
                  <a:pt x="53519" y="30492"/>
                </a:lnTo>
                <a:lnTo>
                  <a:pt x="51132" y="26255"/>
                </a:lnTo>
                <a:lnTo>
                  <a:pt x="42742" y="10409"/>
                </a:lnTo>
                <a:lnTo>
                  <a:pt x="41407" y="8632"/>
                </a:lnTo>
                <a:lnTo>
                  <a:pt x="39671" y="6602"/>
                </a:lnTo>
                <a:lnTo>
                  <a:pt x="37666" y="4401"/>
                </a:lnTo>
                <a:lnTo>
                  <a:pt x="35484" y="2934"/>
                </a:lnTo>
                <a:lnTo>
                  <a:pt x="33181" y="1956"/>
                </a:lnTo>
                <a:lnTo>
                  <a:pt x="2603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MARTInkAnnotation281"/>
          <p:cNvSpPr/>
          <p:nvPr/>
        </p:nvSpPr>
        <p:spPr>
          <a:xfrm>
            <a:off x="5135400" y="4637160"/>
            <a:ext cx="236880" cy="155520"/>
          </a:xfrm>
          <a:custGeom>
            <a:avLst/>
            <a:gdLst>
              <a:gd name="textAreaLeft" fmla="*/ 0 w 236880"/>
              <a:gd name="textAreaRight" fmla="*/ 237240 w 2368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236221" h="155810">
                <a:moveTo>
                  <a:pt x="0" y="49576"/>
                </a:moveTo>
                <a:lnTo>
                  <a:pt x="0" y="53621"/>
                </a:lnTo>
                <a:lnTo>
                  <a:pt x="846" y="55659"/>
                </a:lnTo>
                <a:lnTo>
                  <a:pt x="4045" y="60182"/>
                </a:lnTo>
                <a:lnTo>
                  <a:pt x="5237" y="62573"/>
                </a:lnTo>
                <a:lnTo>
                  <a:pt x="6032" y="65015"/>
                </a:lnTo>
                <a:lnTo>
                  <a:pt x="6561" y="67488"/>
                </a:lnTo>
                <a:lnTo>
                  <a:pt x="6914" y="70831"/>
                </a:lnTo>
                <a:lnTo>
                  <a:pt x="7149" y="74752"/>
                </a:lnTo>
                <a:lnTo>
                  <a:pt x="7306" y="79060"/>
                </a:lnTo>
                <a:lnTo>
                  <a:pt x="8257" y="82779"/>
                </a:lnTo>
                <a:lnTo>
                  <a:pt x="9738" y="86104"/>
                </a:lnTo>
                <a:lnTo>
                  <a:pt x="11572" y="89169"/>
                </a:lnTo>
                <a:lnTo>
                  <a:pt x="12795" y="93751"/>
                </a:lnTo>
                <a:lnTo>
                  <a:pt x="13610" y="99346"/>
                </a:lnTo>
                <a:lnTo>
                  <a:pt x="14153" y="105616"/>
                </a:lnTo>
                <a:lnTo>
                  <a:pt x="15363" y="110643"/>
                </a:lnTo>
                <a:lnTo>
                  <a:pt x="17015" y="114841"/>
                </a:lnTo>
                <a:lnTo>
                  <a:pt x="18963" y="118486"/>
                </a:lnTo>
                <a:lnTo>
                  <a:pt x="21109" y="121762"/>
                </a:lnTo>
                <a:lnTo>
                  <a:pt x="23386" y="124794"/>
                </a:lnTo>
                <a:lnTo>
                  <a:pt x="25751" y="127661"/>
                </a:lnTo>
                <a:lnTo>
                  <a:pt x="28174" y="130420"/>
                </a:lnTo>
                <a:lnTo>
                  <a:pt x="30636" y="133105"/>
                </a:lnTo>
                <a:lnTo>
                  <a:pt x="33124" y="135742"/>
                </a:lnTo>
                <a:lnTo>
                  <a:pt x="34783" y="138347"/>
                </a:lnTo>
                <a:lnTo>
                  <a:pt x="35888" y="140930"/>
                </a:lnTo>
                <a:lnTo>
                  <a:pt x="36626" y="143498"/>
                </a:lnTo>
                <a:lnTo>
                  <a:pt x="37964" y="146058"/>
                </a:lnTo>
                <a:lnTo>
                  <a:pt x="39703" y="148611"/>
                </a:lnTo>
                <a:lnTo>
                  <a:pt x="45368" y="155809"/>
                </a:lnTo>
                <a:lnTo>
                  <a:pt x="45563" y="151542"/>
                </a:lnTo>
                <a:lnTo>
                  <a:pt x="45615" y="148033"/>
                </a:lnTo>
                <a:lnTo>
                  <a:pt x="44804" y="144848"/>
                </a:lnTo>
                <a:lnTo>
                  <a:pt x="43415" y="141877"/>
                </a:lnTo>
                <a:lnTo>
                  <a:pt x="41644" y="139050"/>
                </a:lnTo>
                <a:lnTo>
                  <a:pt x="39616" y="135472"/>
                </a:lnTo>
                <a:lnTo>
                  <a:pt x="35105" y="126981"/>
                </a:lnTo>
                <a:lnTo>
                  <a:pt x="32717" y="121500"/>
                </a:lnTo>
                <a:lnTo>
                  <a:pt x="30278" y="115305"/>
                </a:lnTo>
                <a:lnTo>
                  <a:pt x="27806" y="108635"/>
                </a:lnTo>
                <a:lnTo>
                  <a:pt x="25310" y="102496"/>
                </a:lnTo>
                <a:lnTo>
                  <a:pt x="22800" y="96709"/>
                </a:lnTo>
                <a:lnTo>
                  <a:pt x="20280" y="91158"/>
                </a:lnTo>
                <a:lnTo>
                  <a:pt x="18600" y="84918"/>
                </a:lnTo>
                <a:lnTo>
                  <a:pt x="17480" y="78216"/>
                </a:lnTo>
                <a:lnTo>
                  <a:pt x="16733" y="71210"/>
                </a:lnTo>
                <a:lnTo>
                  <a:pt x="16236" y="64845"/>
                </a:lnTo>
                <a:lnTo>
                  <a:pt x="15904" y="58909"/>
                </a:lnTo>
                <a:lnTo>
                  <a:pt x="15682" y="53258"/>
                </a:lnTo>
                <a:lnTo>
                  <a:pt x="16382" y="47797"/>
                </a:lnTo>
                <a:lnTo>
                  <a:pt x="17695" y="42464"/>
                </a:lnTo>
                <a:lnTo>
                  <a:pt x="19417" y="37214"/>
                </a:lnTo>
                <a:lnTo>
                  <a:pt x="22258" y="32868"/>
                </a:lnTo>
                <a:lnTo>
                  <a:pt x="25845" y="29124"/>
                </a:lnTo>
                <a:lnTo>
                  <a:pt x="29930" y="25782"/>
                </a:lnTo>
                <a:lnTo>
                  <a:pt x="34347" y="21859"/>
                </a:lnTo>
                <a:lnTo>
                  <a:pt x="43769" y="12987"/>
                </a:lnTo>
                <a:lnTo>
                  <a:pt x="49500" y="9943"/>
                </a:lnTo>
                <a:lnTo>
                  <a:pt x="55860" y="7914"/>
                </a:lnTo>
                <a:lnTo>
                  <a:pt x="62640" y="6562"/>
                </a:lnTo>
                <a:lnTo>
                  <a:pt x="69700" y="4813"/>
                </a:lnTo>
                <a:lnTo>
                  <a:pt x="76947" y="2801"/>
                </a:lnTo>
                <a:lnTo>
                  <a:pt x="84318" y="612"/>
                </a:lnTo>
                <a:lnTo>
                  <a:pt x="92618" y="0"/>
                </a:lnTo>
                <a:lnTo>
                  <a:pt x="101539" y="439"/>
                </a:lnTo>
                <a:lnTo>
                  <a:pt x="110873" y="1578"/>
                </a:lnTo>
                <a:lnTo>
                  <a:pt x="119635" y="2337"/>
                </a:lnTo>
                <a:lnTo>
                  <a:pt x="128017" y="2844"/>
                </a:lnTo>
                <a:lnTo>
                  <a:pt x="136145" y="3181"/>
                </a:lnTo>
                <a:lnTo>
                  <a:pt x="144950" y="4253"/>
                </a:lnTo>
                <a:lnTo>
                  <a:pt x="154206" y="5814"/>
                </a:lnTo>
                <a:lnTo>
                  <a:pt x="163764" y="7701"/>
                </a:lnTo>
                <a:lnTo>
                  <a:pt x="171829" y="9806"/>
                </a:lnTo>
                <a:lnTo>
                  <a:pt x="178900" y="12056"/>
                </a:lnTo>
                <a:lnTo>
                  <a:pt x="185306" y="14403"/>
                </a:lnTo>
                <a:lnTo>
                  <a:pt x="192118" y="15967"/>
                </a:lnTo>
                <a:lnTo>
                  <a:pt x="199199" y="17010"/>
                </a:lnTo>
                <a:lnTo>
                  <a:pt x="212147" y="18169"/>
                </a:lnTo>
                <a:lnTo>
                  <a:pt x="216784" y="18478"/>
                </a:lnTo>
                <a:lnTo>
                  <a:pt x="220723" y="18684"/>
                </a:lnTo>
                <a:lnTo>
                  <a:pt x="224196" y="19668"/>
                </a:lnTo>
                <a:lnTo>
                  <a:pt x="227357" y="21170"/>
                </a:lnTo>
                <a:lnTo>
                  <a:pt x="236220" y="2671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MARTInkAnnotation282"/>
          <p:cNvSpPr/>
          <p:nvPr/>
        </p:nvSpPr>
        <p:spPr>
          <a:xfrm>
            <a:off x="5418000" y="4664160"/>
            <a:ext cx="22320" cy="152280"/>
          </a:xfrm>
          <a:custGeom>
            <a:avLst/>
            <a:gdLst>
              <a:gd name="textAreaLeft" fmla="*/ 0 w 22320"/>
              <a:gd name="textAreaRight" fmla="*/ 22680 w 22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2861" h="152401">
                <a:moveTo>
                  <a:pt x="22860" y="0"/>
                </a:moveTo>
                <a:lnTo>
                  <a:pt x="22860" y="11572"/>
                </a:lnTo>
                <a:lnTo>
                  <a:pt x="22013" y="14488"/>
                </a:lnTo>
                <a:lnTo>
                  <a:pt x="20602" y="18125"/>
                </a:lnTo>
                <a:lnTo>
                  <a:pt x="18815" y="22244"/>
                </a:lnTo>
                <a:lnTo>
                  <a:pt x="17623" y="26683"/>
                </a:lnTo>
                <a:lnTo>
                  <a:pt x="16829" y="31335"/>
                </a:lnTo>
                <a:lnTo>
                  <a:pt x="16299" y="36130"/>
                </a:lnTo>
                <a:lnTo>
                  <a:pt x="15946" y="40173"/>
                </a:lnTo>
                <a:lnTo>
                  <a:pt x="15711" y="43716"/>
                </a:lnTo>
                <a:lnTo>
                  <a:pt x="15554" y="46924"/>
                </a:lnTo>
                <a:lnTo>
                  <a:pt x="15379" y="57262"/>
                </a:lnTo>
                <a:lnTo>
                  <a:pt x="15333" y="63574"/>
                </a:lnTo>
                <a:lnTo>
                  <a:pt x="14456" y="69476"/>
                </a:lnTo>
                <a:lnTo>
                  <a:pt x="13024" y="75104"/>
                </a:lnTo>
                <a:lnTo>
                  <a:pt x="11223" y="80550"/>
                </a:lnTo>
                <a:lnTo>
                  <a:pt x="10022" y="85873"/>
                </a:lnTo>
                <a:lnTo>
                  <a:pt x="9222" y="91116"/>
                </a:lnTo>
                <a:lnTo>
                  <a:pt x="8688" y="96304"/>
                </a:lnTo>
                <a:lnTo>
                  <a:pt x="7486" y="100609"/>
                </a:lnTo>
                <a:lnTo>
                  <a:pt x="5837" y="104326"/>
                </a:lnTo>
                <a:lnTo>
                  <a:pt x="3891" y="107651"/>
                </a:lnTo>
                <a:lnTo>
                  <a:pt x="2594" y="111561"/>
                </a:lnTo>
                <a:lnTo>
                  <a:pt x="1730" y="115861"/>
                </a:lnTo>
                <a:lnTo>
                  <a:pt x="1153" y="120420"/>
                </a:lnTo>
                <a:lnTo>
                  <a:pt x="769" y="124307"/>
                </a:lnTo>
                <a:lnTo>
                  <a:pt x="512" y="127745"/>
                </a:lnTo>
                <a:lnTo>
                  <a:pt x="342" y="130883"/>
                </a:lnTo>
                <a:lnTo>
                  <a:pt x="152" y="136628"/>
                </a:lnTo>
                <a:lnTo>
                  <a:pt x="0" y="1524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MARTInkAnnotation283"/>
          <p:cNvSpPr/>
          <p:nvPr/>
        </p:nvSpPr>
        <p:spPr>
          <a:xfrm>
            <a:off x="5502240" y="4541760"/>
            <a:ext cx="360" cy="14400"/>
          </a:xfrm>
          <a:custGeom>
            <a:avLst/>
            <a:gdLst>
              <a:gd name="textAreaLeft" fmla="*/ 0 w 360"/>
              <a:gd name="textAreaRight" fmla="*/ 720 w 3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" h="15241">
                <a:moveTo>
                  <a:pt x="0" y="1524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MARTInkAnnotation284"/>
          <p:cNvSpPr/>
          <p:nvPr/>
        </p:nvSpPr>
        <p:spPr>
          <a:xfrm>
            <a:off x="5516640" y="4678200"/>
            <a:ext cx="209520" cy="419400"/>
          </a:xfrm>
          <a:custGeom>
            <a:avLst/>
            <a:gdLst>
              <a:gd name="textAreaLeft" fmla="*/ 0 w 209520"/>
              <a:gd name="textAreaRight" fmla="*/ 209880 w 209520"/>
              <a:gd name="textAreaTop" fmla="*/ 0 h 419400"/>
              <a:gd name="textAreaBottom" fmla="*/ 419760 h 419400"/>
            </a:gdLst>
            <a:ahLst/>
            <a:rect l="textAreaLeft" t="textAreaTop" r="textAreaRight" b="textAreaBottom"/>
            <a:pathLst>
              <a:path w="209838" h="418131">
                <a:moveTo>
                  <a:pt x="91440" y="7593"/>
                </a:moveTo>
                <a:lnTo>
                  <a:pt x="91440" y="0"/>
                </a:lnTo>
                <a:lnTo>
                  <a:pt x="91440" y="4026"/>
                </a:lnTo>
                <a:lnTo>
                  <a:pt x="89747" y="5216"/>
                </a:lnTo>
                <a:lnTo>
                  <a:pt x="83349" y="6536"/>
                </a:lnTo>
                <a:lnTo>
                  <a:pt x="77120" y="9381"/>
                </a:lnTo>
                <a:lnTo>
                  <a:pt x="70682" y="13467"/>
                </a:lnTo>
                <a:lnTo>
                  <a:pt x="66595" y="15743"/>
                </a:lnTo>
                <a:lnTo>
                  <a:pt x="62177" y="18106"/>
                </a:lnTo>
                <a:lnTo>
                  <a:pt x="56691" y="20529"/>
                </a:lnTo>
                <a:lnTo>
                  <a:pt x="50494" y="22990"/>
                </a:lnTo>
                <a:lnTo>
                  <a:pt x="43823" y="25478"/>
                </a:lnTo>
                <a:lnTo>
                  <a:pt x="37682" y="27983"/>
                </a:lnTo>
                <a:lnTo>
                  <a:pt x="31895" y="30500"/>
                </a:lnTo>
                <a:lnTo>
                  <a:pt x="26343" y="33024"/>
                </a:lnTo>
                <a:lnTo>
                  <a:pt x="21795" y="36401"/>
                </a:lnTo>
                <a:lnTo>
                  <a:pt x="17917" y="40344"/>
                </a:lnTo>
                <a:lnTo>
                  <a:pt x="14485" y="44667"/>
                </a:lnTo>
                <a:lnTo>
                  <a:pt x="8413" y="53986"/>
                </a:lnTo>
                <a:lnTo>
                  <a:pt x="5609" y="58841"/>
                </a:lnTo>
                <a:lnTo>
                  <a:pt x="2493" y="68752"/>
                </a:lnTo>
                <a:lnTo>
                  <a:pt x="1108" y="78802"/>
                </a:lnTo>
                <a:lnTo>
                  <a:pt x="493" y="88912"/>
                </a:lnTo>
                <a:lnTo>
                  <a:pt x="2477" y="99050"/>
                </a:lnTo>
                <a:lnTo>
                  <a:pt x="4191" y="104125"/>
                </a:lnTo>
                <a:lnTo>
                  <a:pt x="7027" y="108354"/>
                </a:lnTo>
                <a:lnTo>
                  <a:pt x="10611" y="112020"/>
                </a:lnTo>
                <a:lnTo>
                  <a:pt x="14695" y="115311"/>
                </a:lnTo>
                <a:lnTo>
                  <a:pt x="19956" y="118352"/>
                </a:lnTo>
                <a:lnTo>
                  <a:pt x="26004" y="121226"/>
                </a:lnTo>
                <a:lnTo>
                  <a:pt x="32576" y="123988"/>
                </a:lnTo>
                <a:lnTo>
                  <a:pt x="39497" y="125830"/>
                </a:lnTo>
                <a:lnTo>
                  <a:pt x="46652" y="127058"/>
                </a:lnTo>
                <a:lnTo>
                  <a:pt x="53961" y="127876"/>
                </a:lnTo>
                <a:lnTo>
                  <a:pt x="60527" y="128422"/>
                </a:lnTo>
                <a:lnTo>
                  <a:pt x="66599" y="128786"/>
                </a:lnTo>
                <a:lnTo>
                  <a:pt x="72339" y="129028"/>
                </a:lnTo>
                <a:lnTo>
                  <a:pt x="78706" y="128343"/>
                </a:lnTo>
                <a:lnTo>
                  <a:pt x="85490" y="127040"/>
                </a:lnTo>
                <a:lnTo>
                  <a:pt x="92554" y="125324"/>
                </a:lnTo>
                <a:lnTo>
                  <a:pt x="98110" y="123334"/>
                </a:lnTo>
                <a:lnTo>
                  <a:pt x="102660" y="121160"/>
                </a:lnTo>
                <a:lnTo>
                  <a:pt x="106540" y="118865"/>
                </a:lnTo>
                <a:lnTo>
                  <a:pt x="110820" y="115640"/>
                </a:lnTo>
                <a:lnTo>
                  <a:pt x="115367" y="111798"/>
                </a:lnTo>
                <a:lnTo>
                  <a:pt x="120091" y="107543"/>
                </a:lnTo>
                <a:lnTo>
                  <a:pt x="129856" y="98299"/>
                </a:lnTo>
                <a:lnTo>
                  <a:pt x="134830" y="93465"/>
                </a:lnTo>
                <a:lnTo>
                  <a:pt x="140358" y="85834"/>
                </a:lnTo>
                <a:lnTo>
                  <a:pt x="145727" y="74520"/>
                </a:lnTo>
                <a:lnTo>
                  <a:pt x="155127" y="55527"/>
                </a:lnTo>
                <a:lnTo>
                  <a:pt x="157846" y="47806"/>
                </a:lnTo>
                <a:lnTo>
                  <a:pt x="159734" y="38508"/>
                </a:lnTo>
                <a:lnTo>
                  <a:pt x="159982" y="31681"/>
                </a:lnTo>
                <a:lnTo>
                  <a:pt x="160018" y="44369"/>
                </a:lnTo>
                <a:lnTo>
                  <a:pt x="160019" y="52443"/>
                </a:lnTo>
                <a:lnTo>
                  <a:pt x="162277" y="61676"/>
                </a:lnTo>
                <a:lnTo>
                  <a:pt x="166950" y="72270"/>
                </a:lnTo>
                <a:lnTo>
                  <a:pt x="170566" y="78651"/>
                </a:lnTo>
                <a:lnTo>
                  <a:pt x="174671" y="85444"/>
                </a:lnTo>
                <a:lnTo>
                  <a:pt x="177407" y="93361"/>
                </a:lnTo>
                <a:lnTo>
                  <a:pt x="179232" y="102025"/>
                </a:lnTo>
                <a:lnTo>
                  <a:pt x="180447" y="111188"/>
                </a:lnTo>
                <a:lnTo>
                  <a:pt x="182105" y="120683"/>
                </a:lnTo>
                <a:lnTo>
                  <a:pt x="184057" y="130399"/>
                </a:lnTo>
                <a:lnTo>
                  <a:pt x="188483" y="150227"/>
                </a:lnTo>
                <a:lnTo>
                  <a:pt x="195735" y="181277"/>
                </a:lnTo>
                <a:lnTo>
                  <a:pt x="200729" y="204730"/>
                </a:lnTo>
                <a:lnTo>
                  <a:pt x="202400" y="216911"/>
                </a:lnTo>
                <a:lnTo>
                  <a:pt x="203513" y="229266"/>
                </a:lnTo>
                <a:lnTo>
                  <a:pt x="204255" y="241735"/>
                </a:lnTo>
                <a:lnTo>
                  <a:pt x="205597" y="254281"/>
                </a:lnTo>
                <a:lnTo>
                  <a:pt x="207338" y="266878"/>
                </a:lnTo>
                <a:lnTo>
                  <a:pt x="209345" y="279510"/>
                </a:lnTo>
                <a:lnTo>
                  <a:pt x="209837" y="291318"/>
                </a:lnTo>
                <a:lnTo>
                  <a:pt x="209318" y="302576"/>
                </a:lnTo>
                <a:lnTo>
                  <a:pt x="208126" y="313469"/>
                </a:lnTo>
                <a:lnTo>
                  <a:pt x="206484" y="324117"/>
                </a:lnTo>
                <a:lnTo>
                  <a:pt x="204542" y="334602"/>
                </a:lnTo>
                <a:lnTo>
                  <a:pt x="202402" y="344979"/>
                </a:lnTo>
                <a:lnTo>
                  <a:pt x="199281" y="354437"/>
                </a:lnTo>
                <a:lnTo>
                  <a:pt x="195507" y="363283"/>
                </a:lnTo>
                <a:lnTo>
                  <a:pt x="191298" y="371720"/>
                </a:lnTo>
                <a:lnTo>
                  <a:pt x="186799" y="379038"/>
                </a:lnTo>
                <a:lnTo>
                  <a:pt x="182106" y="385609"/>
                </a:lnTo>
                <a:lnTo>
                  <a:pt x="177284" y="391684"/>
                </a:lnTo>
                <a:lnTo>
                  <a:pt x="171529" y="397427"/>
                </a:lnTo>
                <a:lnTo>
                  <a:pt x="165153" y="402949"/>
                </a:lnTo>
                <a:lnTo>
                  <a:pt x="158362" y="408324"/>
                </a:lnTo>
                <a:lnTo>
                  <a:pt x="151295" y="411907"/>
                </a:lnTo>
                <a:lnTo>
                  <a:pt x="144043" y="414296"/>
                </a:lnTo>
                <a:lnTo>
                  <a:pt x="136669" y="415888"/>
                </a:lnTo>
                <a:lnTo>
                  <a:pt x="130059" y="416950"/>
                </a:lnTo>
                <a:lnTo>
                  <a:pt x="123959" y="417658"/>
                </a:lnTo>
                <a:lnTo>
                  <a:pt x="118200" y="418130"/>
                </a:lnTo>
                <a:lnTo>
                  <a:pt x="111820" y="417597"/>
                </a:lnTo>
                <a:lnTo>
                  <a:pt x="105026" y="416396"/>
                </a:lnTo>
                <a:lnTo>
                  <a:pt x="97958" y="414748"/>
                </a:lnTo>
                <a:lnTo>
                  <a:pt x="90706" y="412803"/>
                </a:lnTo>
                <a:lnTo>
                  <a:pt x="75874" y="408384"/>
                </a:lnTo>
                <a:lnTo>
                  <a:pt x="68363" y="404327"/>
                </a:lnTo>
                <a:lnTo>
                  <a:pt x="60815" y="399083"/>
                </a:lnTo>
                <a:lnTo>
                  <a:pt x="53243" y="393046"/>
                </a:lnTo>
                <a:lnTo>
                  <a:pt x="46502" y="387329"/>
                </a:lnTo>
                <a:lnTo>
                  <a:pt x="40315" y="381824"/>
                </a:lnTo>
                <a:lnTo>
                  <a:pt x="34496" y="376460"/>
                </a:lnTo>
                <a:lnTo>
                  <a:pt x="29771" y="369498"/>
                </a:lnTo>
                <a:lnTo>
                  <a:pt x="25775" y="361470"/>
                </a:lnTo>
                <a:lnTo>
                  <a:pt x="22263" y="352731"/>
                </a:lnTo>
                <a:lnTo>
                  <a:pt x="19075" y="343518"/>
                </a:lnTo>
                <a:lnTo>
                  <a:pt x="16104" y="333990"/>
                </a:lnTo>
                <a:lnTo>
                  <a:pt x="13276" y="324251"/>
                </a:lnTo>
                <a:lnTo>
                  <a:pt x="10544" y="316065"/>
                </a:lnTo>
                <a:lnTo>
                  <a:pt x="7876" y="308914"/>
                </a:lnTo>
                <a:lnTo>
                  <a:pt x="0" y="28953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MARTInkAnnotation285"/>
          <p:cNvSpPr/>
          <p:nvPr/>
        </p:nvSpPr>
        <p:spPr>
          <a:xfrm>
            <a:off x="5807160" y="4451400"/>
            <a:ext cx="204840" cy="371520"/>
          </a:xfrm>
          <a:custGeom>
            <a:avLst/>
            <a:gdLst>
              <a:gd name="textAreaLeft" fmla="*/ 0 w 204840"/>
              <a:gd name="textAreaRight" fmla="*/ 205200 w 20484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205740" h="372229">
                <a:moveTo>
                  <a:pt x="0" y="14088"/>
                </a:moveTo>
                <a:lnTo>
                  <a:pt x="4044" y="14088"/>
                </a:lnTo>
                <a:lnTo>
                  <a:pt x="5236" y="13242"/>
                </a:lnTo>
                <a:lnTo>
                  <a:pt x="6031" y="11830"/>
                </a:lnTo>
                <a:lnTo>
                  <a:pt x="7305" y="7527"/>
                </a:lnTo>
                <a:lnTo>
                  <a:pt x="7527" y="2737"/>
                </a:lnTo>
                <a:lnTo>
                  <a:pt x="8404" y="1440"/>
                </a:lnTo>
                <a:lnTo>
                  <a:pt x="9835" y="576"/>
                </a:lnTo>
                <a:lnTo>
                  <a:pt x="11637" y="0"/>
                </a:lnTo>
                <a:lnTo>
                  <a:pt x="12838" y="463"/>
                </a:lnTo>
                <a:lnTo>
                  <a:pt x="13638" y="1618"/>
                </a:lnTo>
                <a:lnTo>
                  <a:pt x="14528" y="5159"/>
                </a:lnTo>
                <a:lnTo>
                  <a:pt x="15099" y="16589"/>
                </a:lnTo>
                <a:lnTo>
                  <a:pt x="15212" y="38947"/>
                </a:lnTo>
                <a:lnTo>
                  <a:pt x="16068" y="46747"/>
                </a:lnTo>
                <a:lnTo>
                  <a:pt x="17485" y="55334"/>
                </a:lnTo>
                <a:lnTo>
                  <a:pt x="19277" y="64446"/>
                </a:lnTo>
                <a:lnTo>
                  <a:pt x="19624" y="73906"/>
                </a:lnTo>
                <a:lnTo>
                  <a:pt x="19010" y="83600"/>
                </a:lnTo>
                <a:lnTo>
                  <a:pt x="17753" y="93450"/>
                </a:lnTo>
                <a:lnTo>
                  <a:pt x="16916" y="103402"/>
                </a:lnTo>
                <a:lnTo>
                  <a:pt x="16357" y="113424"/>
                </a:lnTo>
                <a:lnTo>
                  <a:pt x="15984" y="123492"/>
                </a:lnTo>
                <a:lnTo>
                  <a:pt x="15460" y="157887"/>
                </a:lnTo>
                <a:lnTo>
                  <a:pt x="14540" y="169221"/>
                </a:lnTo>
                <a:lnTo>
                  <a:pt x="13080" y="180164"/>
                </a:lnTo>
                <a:lnTo>
                  <a:pt x="11260" y="190845"/>
                </a:lnTo>
                <a:lnTo>
                  <a:pt x="10046" y="201352"/>
                </a:lnTo>
                <a:lnTo>
                  <a:pt x="9237" y="211745"/>
                </a:lnTo>
                <a:lnTo>
                  <a:pt x="8698" y="222059"/>
                </a:lnTo>
                <a:lnTo>
                  <a:pt x="9185" y="232322"/>
                </a:lnTo>
                <a:lnTo>
                  <a:pt x="10356" y="242551"/>
                </a:lnTo>
                <a:lnTo>
                  <a:pt x="11984" y="252757"/>
                </a:lnTo>
                <a:lnTo>
                  <a:pt x="13069" y="262947"/>
                </a:lnTo>
                <a:lnTo>
                  <a:pt x="13792" y="273128"/>
                </a:lnTo>
                <a:lnTo>
                  <a:pt x="14596" y="292623"/>
                </a:lnTo>
                <a:lnTo>
                  <a:pt x="15049" y="317033"/>
                </a:lnTo>
                <a:lnTo>
                  <a:pt x="15237" y="360091"/>
                </a:lnTo>
                <a:lnTo>
                  <a:pt x="16084" y="360749"/>
                </a:lnTo>
                <a:lnTo>
                  <a:pt x="17496" y="360342"/>
                </a:lnTo>
                <a:lnTo>
                  <a:pt x="21322" y="357632"/>
                </a:lnTo>
                <a:lnTo>
                  <a:pt x="25845" y="353605"/>
                </a:lnTo>
                <a:lnTo>
                  <a:pt x="27390" y="351347"/>
                </a:lnTo>
                <a:lnTo>
                  <a:pt x="30411" y="342429"/>
                </a:lnTo>
                <a:lnTo>
                  <a:pt x="34118" y="331044"/>
                </a:lnTo>
                <a:lnTo>
                  <a:pt x="38588" y="319775"/>
                </a:lnTo>
                <a:lnTo>
                  <a:pt x="43396" y="308276"/>
                </a:lnTo>
                <a:lnTo>
                  <a:pt x="48356" y="294698"/>
                </a:lnTo>
                <a:lnTo>
                  <a:pt x="50863" y="288368"/>
                </a:lnTo>
                <a:lnTo>
                  <a:pt x="55909" y="276819"/>
                </a:lnTo>
                <a:lnTo>
                  <a:pt x="60973" y="266041"/>
                </a:lnTo>
                <a:lnTo>
                  <a:pt x="66045" y="256454"/>
                </a:lnTo>
                <a:lnTo>
                  <a:pt x="71122" y="249371"/>
                </a:lnTo>
                <a:lnTo>
                  <a:pt x="74508" y="246297"/>
                </a:lnTo>
                <a:lnTo>
                  <a:pt x="78458" y="243400"/>
                </a:lnTo>
                <a:lnTo>
                  <a:pt x="88875" y="236714"/>
                </a:lnTo>
                <a:lnTo>
                  <a:pt x="92557" y="235799"/>
                </a:lnTo>
                <a:lnTo>
                  <a:pt x="97016" y="235393"/>
                </a:lnTo>
                <a:lnTo>
                  <a:pt x="101820" y="235213"/>
                </a:lnTo>
                <a:lnTo>
                  <a:pt x="104286" y="236011"/>
                </a:lnTo>
                <a:lnTo>
                  <a:pt x="109284" y="239156"/>
                </a:lnTo>
                <a:lnTo>
                  <a:pt x="112650" y="242026"/>
                </a:lnTo>
                <a:lnTo>
                  <a:pt x="116586" y="245634"/>
                </a:lnTo>
                <a:lnTo>
                  <a:pt x="125476" y="254158"/>
                </a:lnTo>
                <a:lnTo>
                  <a:pt x="135071" y="263590"/>
                </a:lnTo>
                <a:lnTo>
                  <a:pt x="139154" y="268476"/>
                </a:lnTo>
                <a:lnTo>
                  <a:pt x="142722" y="273427"/>
                </a:lnTo>
                <a:lnTo>
                  <a:pt x="158578" y="297584"/>
                </a:lnTo>
                <a:lnTo>
                  <a:pt x="162445" y="303839"/>
                </a:lnTo>
                <a:lnTo>
                  <a:pt x="165870" y="309702"/>
                </a:lnTo>
                <a:lnTo>
                  <a:pt x="171933" y="320732"/>
                </a:lnTo>
                <a:lnTo>
                  <a:pt x="180106" y="336462"/>
                </a:lnTo>
                <a:lnTo>
                  <a:pt x="185316" y="346736"/>
                </a:lnTo>
                <a:lnTo>
                  <a:pt x="190453" y="354689"/>
                </a:lnTo>
                <a:lnTo>
                  <a:pt x="196605" y="362649"/>
                </a:lnTo>
                <a:lnTo>
                  <a:pt x="199704" y="365995"/>
                </a:lnTo>
                <a:lnTo>
                  <a:pt x="205739" y="37222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MARTInkAnnotation286"/>
          <p:cNvSpPr/>
          <p:nvPr/>
        </p:nvSpPr>
        <p:spPr>
          <a:xfrm>
            <a:off x="6073920" y="4533840"/>
            <a:ext cx="37800" cy="250920"/>
          </a:xfrm>
          <a:custGeom>
            <a:avLst/>
            <a:gdLst>
              <a:gd name="textAreaLeft" fmla="*/ 0 w 37800"/>
              <a:gd name="textAreaRight" fmla="*/ 38160 w 378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38101" h="251461">
                <a:moveTo>
                  <a:pt x="0" y="0"/>
                </a:moveTo>
                <a:lnTo>
                  <a:pt x="10605" y="10606"/>
                </a:lnTo>
                <a:lnTo>
                  <a:pt x="12997" y="13844"/>
                </a:lnTo>
                <a:lnTo>
                  <a:pt x="15438" y="17697"/>
                </a:lnTo>
                <a:lnTo>
                  <a:pt x="17912" y="21957"/>
                </a:lnTo>
                <a:lnTo>
                  <a:pt x="19561" y="27338"/>
                </a:lnTo>
                <a:lnTo>
                  <a:pt x="20660" y="33466"/>
                </a:lnTo>
                <a:lnTo>
                  <a:pt x="21393" y="40091"/>
                </a:lnTo>
                <a:lnTo>
                  <a:pt x="22729" y="47047"/>
                </a:lnTo>
                <a:lnTo>
                  <a:pt x="24466" y="54225"/>
                </a:lnTo>
                <a:lnTo>
                  <a:pt x="30956" y="78720"/>
                </a:lnTo>
                <a:lnTo>
                  <a:pt x="33337" y="88040"/>
                </a:lnTo>
                <a:lnTo>
                  <a:pt x="34924" y="96793"/>
                </a:lnTo>
                <a:lnTo>
                  <a:pt x="35983" y="105169"/>
                </a:lnTo>
                <a:lnTo>
                  <a:pt x="36688" y="113293"/>
                </a:lnTo>
                <a:lnTo>
                  <a:pt x="37159" y="122095"/>
                </a:lnTo>
                <a:lnTo>
                  <a:pt x="37681" y="140907"/>
                </a:lnTo>
                <a:lnTo>
                  <a:pt x="38045" y="176339"/>
                </a:lnTo>
                <a:lnTo>
                  <a:pt x="38100" y="2514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MARTInkAnnotation287"/>
          <p:cNvSpPr/>
          <p:nvPr/>
        </p:nvSpPr>
        <p:spPr>
          <a:xfrm>
            <a:off x="5989680" y="4702320"/>
            <a:ext cx="198360" cy="14040"/>
          </a:xfrm>
          <a:custGeom>
            <a:avLst/>
            <a:gdLst>
              <a:gd name="textAreaLeft" fmla="*/ 0 w 198360"/>
              <a:gd name="textAreaRight" fmla="*/ 198720 w 19836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98122" h="15241">
                <a:moveTo>
                  <a:pt x="0" y="0"/>
                </a:moveTo>
                <a:lnTo>
                  <a:pt x="40156" y="0"/>
                </a:lnTo>
                <a:lnTo>
                  <a:pt x="47937" y="847"/>
                </a:lnTo>
                <a:lnTo>
                  <a:pt x="56513" y="2258"/>
                </a:lnTo>
                <a:lnTo>
                  <a:pt x="65615" y="4045"/>
                </a:lnTo>
                <a:lnTo>
                  <a:pt x="75070" y="5237"/>
                </a:lnTo>
                <a:lnTo>
                  <a:pt x="84761" y="6031"/>
                </a:lnTo>
                <a:lnTo>
                  <a:pt x="94607" y="6561"/>
                </a:lnTo>
                <a:lnTo>
                  <a:pt x="104558" y="7761"/>
                </a:lnTo>
                <a:lnTo>
                  <a:pt x="114579" y="9407"/>
                </a:lnTo>
                <a:lnTo>
                  <a:pt x="124647" y="11351"/>
                </a:lnTo>
                <a:lnTo>
                  <a:pt x="133897" y="12647"/>
                </a:lnTo>
                <a:lnTo>
                  <a:pt x="142605" y="13512"/>
                </a:lnTo>
                <a:lnTo>
                  <a:pt x="150951" y="14088"/>
                </a:lnTo>
                <a:lnTo>
                  <a:pt x="164738" y="14728"/>
                </a:lnTo>
                <a:lnTo>
                  <a:pt x="183342" y="15139"/>
                </a:lnTo>
                <a:lnTo>
                  <a:pt x="198121" y="152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1320" bIns="-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MARTInkAnnotation288"/>
          <p:cNvSpPr/>
          <p:nvPr/>
        </p:nvSpPr>
        <p:spPr>
          <a:xfrm>
            <a:off x="6256440" y="4365720"/>
            <a:ext cx="68040" cy="168120"/>
          </a:xfrm>
          <a:custGeom>
            <a:avLst/>
            <a:gdLst>
              <a:gd name="textAreaLeft" fmla="*/ 0 w 68040"/>
              <a:gd name="textAreaRight" fmla="*/ 68400 w 680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68581" h="167641">
                <a:moveTo>
                  <a:pt x="0" y="0"/>
                </a:moveTo>
                <a:lnTo>
                  <a:pt x="0" y="4045"/>
                </a:lnTo>
                <a:lnTo>
                  <a:pt x="847" y="6084"/>
                </a:lnTo>
                <a:lnTo>
                  <a:pt x="2258" y="8289"/>
                </a:lnTo>
                <a:lnTo>
                  <a:pt x="4046" y="10606"/>
                </a:lnTo>
                <a:lnTo>
                  <a:pt x="10547" y="19954"/>
                </a:lnTo>
                <a:lnTo>
                  <a:pt x="14651" y="26003"/>
                </a:lnTo>
                <a:lnTo>
                  <a:pt x="19081" y="31729"/>
                </a:lnTo>
                <a:lnTo>
                  <a:pt x="23728" y="37239"/>
                </a:lnTo>
                <a:lnTo>
                  <a:pt x="28519" y="42606"/>
                </a:lnTo>
                <a:lnTo>
                  <a:pt x="32559" y="49570"/>
                </a:lnTo>
                <a:lnTo>
                  <a:pt x="36099" y="57600"/>
                </a:lnTo>
                <a:lnTo>
                  <a:pt x="42291" y="74707"/>
                </a:lnTo>
                <a:lnTo>
                  <a:pt x="63466" y="137102"/>
                </a:lnTo>
                <a:lnTo>
                  <a:pt x="65171" y="143895"/>
                </a:lnTo>
                <a:lnTo>
                  <a:pt x="66307" y="150117"/>
                </a:lnTo>
                <a:lnTo>
                  <a:pt x="68580" y="1676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MARTInkAnnotation289"/>
          <p:cNvSpPr/>
          <p:nvPr/>
        </p:nvSpPr>
        <p:spPr>
          <a:xfrm>
            <a:off x="6384960" y="4435560"/>
            <a:ext cx="15840" cy="75960"/>
          </a:xfrm>
          <a:custGeom>
            <a:avLst/>
            <a:gdLst>
              <a:gd name="textAreaLeft" fmla="*/ 0 w 15840"/>
              <a:gd name="textAreaRight" fmla="*/ 16200 w 1584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15241" h="76201">
                <a:moveTo>
                  <a:pt x="0" y="0"/>
                </a:moveTo>
                <a:lnTo>
                  <a:pt x="0" y="4045"/>
                </a:lnTo>
                <a:lnTo>
                  <a:pt x="846" y="6084"/>
                </a:lnTo>
                <a:lnTo>
                  <a:pt x="2258" y="8289"/>
                </a:lnTo>
                <a:lnTo>
                  <a:pt x="4046" y="10606"/>
                </a:lnTo>
                <a:lnTo>
                  <a:pt x="5237" y="13844"/>
                </a:lnTo>
                <a:lnTo>
                  <a:pt x="6032" y="17696"/>
                </a:lnTo>
                <a:lnTo>
                  <a:pt x="6561" y="21957"/>
                </a:lnTo>
                <a:lnTo>
                  <a:pt x="7761" y="27338"/>
                </a:lnTo>
                <a:lnTo>
                  <a:pt x="9407" y="33466"/>
                </a:lnTo>
                <a:lnTo>
                  <a:pt x="11351" y="40091"/>
                </a:lnTo>
                <a:lnTo>
                  <a:pt x="12648" y="45354"/>
                </a:lnTo>
                <a:lnTo>
                  <a:pt x="13512" y="49709"/>
                </a:lnTo>
                <a:lnTo>
                  <a:pt x="14088" y="53460"/>
                </a:lnTo>
                <a:lnTo>
                  <a:pt x="14472" y="57653"/>
                </a:lnTo>
                <a:lnTo>
                  <a:pt x="14729" y="62142"/>
                </a:lnTo>
                <a:lnTo>
                  <a:pt x="15240" y="762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600" bIns="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MARTInkAnnotation290"/>
          <p:cNvSpPr/>
          <p:nvPr/>
        </p:nvSpPr>
        <p:spPr>
          <a:xfrm>
            <a:off x="2803680" y="2887560"/>
            <a:ext cx="396720" cy="30240"/>
          </a:xfrm>
          <a:custGeom>
            <a:avLst/>
            <a:gdLst>
              <a:gd name="textAreaLeft" fmla="*/ 0 w 396720"/>
              <a:gd name="textAreaRight" fmla="*/ 397080 w 3967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396241" h="30481">
                <a:moveTo>
                  <a:pt x="0" y="30480"/>
                </a:moveTo>
                <a:lnTo>
                  <a:pt x="10606" y="30480"/>
                </a:lnTo>
                <a:lnTo>
                  <a:pt x="13844" y="29633"/>
                </a:lnTo>
                <a:lnTo>
                  <a:pt x="17696" y="28222"/>
                </a:lnTo>
                <a:lnTo>
                  <a:pt x="21958" y="26435"/>
                </a:lnTo>
                <a:lnTo>
                  <a:pt x="26492" y="25243"/>
                </a:lnTo>
                <a:lnTo>
                  <a:pt x="31208" y="24449"/>
                </a:lnTo>
                <a:lnTo>
                  <a:pt x="42657" y="23566"/>
                </a:lnTo>
                <a:lnTo>
                  <a:pt x="59034" y="23174"/>
                </a:lnTo>
                <a:lnTo>
                  <a:pt x="68143" y="22223"/>
                </a:lnTo>
                <a:lnTo>
                  <a:pt x="77602" y="20741"/>
                </a:lnTo>
                <a:lnTo>
                  <a:pt x="87295" y="18908"/>
                </a:lnTo>
                <a:lnTo>
                  <a:pt x="97143" y="17685"/>
                </a:lnTo>
                <a:lnTo>
                  <a:pt x="107096" y="16870"/>
                </a:lnTo>
                <a:lnTo>
                  <a:pt x="117117" y="16327"/>
                </a:lnTo>
                <a:lnTo>
                  <a:pt x="139541" y="15723"/>
                </a:lnTo>
                <a:lnTo>
                  <a:pt x="151447" y="15562"/>
                </a:lnTo>
                <a:lnTo>
                  <a:pt x="163618" y="14608"/>
                </a:lnTo>
                <a:lnTo>
                  <a:pt x="175965" y="13125"/>
                </a:lnTo>
                <a:lnTo>
                  <a:pt x="188431" y="11290"/>
                </a:lnTo>
                <a:lnTo>
                  <a:pt x="201820" y="10067"/>
                </a:lnTo>
                <a:lnTo>
                  <a:pt x="215827" y="9251"/>
                </a:lnTo>
                <a:lnTo>
                  <a:pt x="243243" y="8345"/>
                </a:lnTo>
                <a:lnTo>
                  <a:pt x="266717" y="7942"/>
                </a:lnTo>
                <a:lnTo>
                  <a:pt x="278565" y="6988"/>
                </a:lnTo>
                <a:lnTo>
                  <a:pt x="290697" y="5505"/>
                </a:lnTo>
                <a:lnTo>
                  <a:pt x="303018" y="3670"/>
                </a:lnTo>
                <a:lnTo>
                  <a:pt x="314618" y="2447"/>
                </a:lnTo>
                <a:lnTo>
                  <a:pt x="325739" y="1631"/>
                </a:lnTo>
                <a:lnTo>
                  <a:pt x="336539" y="1088"/>
                </a:lnTo>
                <a:lnTo>
                  <a:pt x="357571" y="483"/>
                </a:lnTo>
                <a:lnTo>
                  <a:pt x="39624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MARTInkAnnotation291"/>
          <p:cNvSpPr/>
          <p:nvPr/>
        </p:nvSpPr>
        <p:spPr>
          <a:xfrm>
            <a:off x="3124080" y="2800440"/>
            <a:ext cx="155520" cy="141120"/>
          </a:xfrm>
          <a:custGeom>
            <a:avLst/>
            <a:gdLst>
              <a:gd name="textAreaLeft" fmla="*/ 0 w 155520"/>
              <a:gd name="textAreaRight" fmla="*/ 155880 w 15552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154892" h="141418">
                <a:moveTo>
                  <a:pt x="7593" y="4390"/>
                </a:moveTo>
                <a:lnTo>
                  <a:pt x="0" y="4390"/>
                </a:lnTo>
                <a:lnTo>
                  <a:pt x="4026" y="345"/>
                </a:lnTo>
                <a:lnTo>
                  <a:pt x="5215" y="0"/>
                </a:lnTo>
                <a:lnTo>
                  <a:pt x="6008" y="617"/>
                </a:lnTo>
                <a:lnTo>
                  <a:pt x="6536" y="1875"/>
                </a:lnTo>
                <a:lnTo>
                  <a:pt x="9429" y="2713"/>
                </a:lnTo>
                <a:lnTo>
                  <a:pt x="13897" y="3272"/>
                </a:lnTo>
                <a:lnTo>
                  <a:pt x="19415" y="3645"/>
                </a:lnTo>
                <a:lnTo>
                  <a:pt x="24788" y="3893"/>
                </a:lnTo>
                <a:lnTo>
                  <a:pt x="35273" y="4169"/>
                </a:lnTo>
                <a:lnTo>
                  <a:pt x="40440" y="5090"/>
                </a:lnTo>
                <a:lnTo>
                  <a:pt x="45578" y="6550"/>
                </a:lnTo>
                <a:lnTo>
                  <a:pt x="63157" y="12650"/>
                </a:lnTo>
                <a:lnTo>
                  <a:pt x="114403" y="29828"/>
                </a:lnTo>
                <a:lnTo>
                  <a:pt x="120287" y="32355"/>
                </a:lnTo>
                <a:lnTo>
                  <a:pt x="125055" y="34887"/>
                </a:lnTo>
                <a:lnTo>
                  <a:pt x="129081" y="37421"/>
                </a:lnTo>
                <a:lnTo>
                  <a:pt x="133458" y="40804"/>
                </a:lnTo>
                <a:lnTo>
                  <a:pt x="138070" y="44753"/>
                </a:lnTo>
                <a:lnTo>
                  <a:pt x="146863" y="52810"/>
                </a:lnTo>
                <a:lnTo>
                  <a:pt x="153593" y="59212"/>
                </a:lnTo>
                <a:lnTo>
                  <a:pt x="154879" y="62951"/>
                </a:lnTo>
                <a:lnTo>
                  <a:pt x="154891" y="67138"/>
                </a:lnTo>
                <a:lnTo>
                  <a:pt x="154052" y="71622"/>
                </a:lnTo>
                <a:lnTo>
                  <a:pt x="152645" y="76305"/>
                </a:lnTo>
                <a:lnTo>
                  <a:pt x="150861" y="81120"/>
                </a:lnTo>
                <a:lnTo>
                  <a:pt x="148826" y="86023"/>
                </a:lnTo>
                <a:lnTo>
                  <a:pt x="145775" y="90986"/>
                </a:lnTo>
                <a:lnTo>
                  <a:pt x="142047" y="95987"/>
                </a:lnTo>
                <a:lnTo>
                  <a:pt x="137869" y="101015"/>
                </a:lnTo>
                <a:lnTo>
                  <a:pt x="133390" y="105213"/>
                </a:lnTo>
                <a:lnTo>
                  <a:pt x="128711" y="108859"/>
                </a:lnTo>
                <a:lnTo>
                  <a:pt x="123898" y="112136"/>
                </a:lnTo>
                <a:lnTo>
                  <a:pt x="118997" y="115167"/>
                </a:lnTo>
                <a:lnTo>
                  <a:pt x="114035" y="118035"/>
                </a:lnTo>
                <a:lnTo>
                  <a:pt x="109035" y="120793"/>
                </a:lnTo>
                <a:lnTo>
                  <a:pt x="103161" y="123479"/>
                </a:lnTo>
                <a:lnTo>
                  <a:pt x="96705" y="126116"/>
                </a:lnTo>
                <a:lnTo>
                  <a:pt x="89861" y="128720"/>
                </a:lnTo>
                <a:lnTo>
                  <a:pt x="83605" y="131304"/>
                </a:lnTo>
                <a:lnTo>
                  <a:pt x="77741" y="133873"/>
                </a:lnTo>
                <a:lnTo>
                  <a:pt x="72139" y="136432"/>
                </a:lnTo>
                <a:lnTo>
                  <a:pt x="67557" y="138138"/>
                </a:lnTo>
                <a:lnTo>
                  <a:pt x="63655" y="139275"/>
                </a:lnTo>
                <a:lnTo>
                  <a:pt x="60208" y="140034"/>
                </a:lnTo>
                <a:lnTo>
                  <a:pt x="57063" y="140539"/>
                </a:lnTo>
                <a:lnTo>
                  <a:pt x="54119" y="140876"/>
                </a:lnTo>
                <a:lnTo>
                  <a:pt x="51311" y="141101"/>
                </a:lnTo>
                <a:lnTo>
                  <a:pt x="48591" y="141251"/>
                </a:lnTo>
                <a:lnTo>
                  <a:pt x="43312" y="141417"/>
                </a:lnTo>
                <a:lnTo>
                  <a:pt x="41566" y="140614"/>
                </a:lnTo>
                <a:lnTo>
                  <a:pt x="40402" y="139233"/>
                </a:lnTo>
                <a:lnTo>
                  <a:pt x="39625" y="137465"/>
                </a:lnTo>
                <a:lnTo>
                  <a:pt x="38763" y="133243"/>
                </a:lnTo>
                <a:lnTo>
                  <a:pt x="38533" y="130932"/>
                </a:lnTo>
                <a:lnTo>
                  <a:pt x="39227" y="127698"/>
                </a:lnTo>
                <a:lnTo>
                  <a:pt x="40535" y="123849"/>
                </a:lnTo>
                <a:lnTo>
                  <a:pt x="42255" y="119589"/>
                </a:lnTo>
                <a:lnTo>
                  <a:pt x="43401" y="115903"/>
                </a:lnTo>
                <a:lnTo>
                  <a:pt x="44165" y="112599"/>
                </a:lnTo>
                <a:lnTo>
                  <a:pt x="44674" y="109549"/>
                </a:lnTo>
                <a:lnTo>
                  <a:pt x="45860" y="104976"/>
                </a:lnTo>
                <a:lnTo>
                  <a:pt x="47498" y="99388"/>
                </a:lnTo>
                <a:lnTo>
                  <a:pt x="49436" y="93122"/>
                </a:lnTo>
                <a:lnTo>
                  <a:pt x="50728" y="87251"/>
                </a:lnTo>
                <a:lnTo>
                  <a:pt x="51590" y="81644"/>
                </a:lnTo>
                <a:lnTo>
                  <a:pt x="52164" y="76213"/>
                </a:lnTo>
                <a:lnTo>
                  <a:pt x="52547" y="70899"/>
                </a:lnTo>
                <a:lnTo>
                  <a:pt x="52803" y="65662"/>
                </a:lnTo>
                <a:lnTo>
                  <a:pt x="52972" y="60478"/>
                </a:lnTo>
                <a:lnTo>
                  <a:pt x="52240" y="55329"/>
                </a:lnTo>
                <a:lnTo>
                  <a:pt x="50904" y="50203"/>
                </a:lnTo>
                <a:lnTo>
                  <a:pt x="49167" y="45092"/>
                </a:lnTo>
                <a:lnTo>
                  <a:pt x="47162" y="40838"/>
                </a:lnTo>
                <a:lnTo>
                  <a:pt x="44979" y="37155"/>
                </a:lnTo>
                <a:lnTo>
                  <a:pt x="42677" y="33854"/>
                </a:lnTo>
                <a:lnTo>
                  <a:pt x="41143" y="30806"/>
                </a:lnTo>
                <a:lnTo>
                  <a:pt x="40120" y="27927"/>
                </a:lnTo>
                <a:lnTo>
                  <a:pt x="38477" y="21269"/>
                </a:lnTo>
                <a:lnTo>
                  <a:pt x="38253" y="18101"/>
                </a:lnTo>
                <a:lnTo>
                  <a:pt x="38073" y="1201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MARTInkAnnotation292"/>
          <p:cNvSpPr/>
          <p:nvPr/>
        </p:nvSpPr>
        <p:spPr>
          <a:xfrm>
            <a:off x="3611520" y="2712960"/>
            <a:ext cx="84240" cy="297000"/>
          </a:xfrm>
          <a:custGeom>
            <a:avLst/>
            <a:gdLst>
              <a:gd name="textAreaLeft" fmla="*/ 0 w 84240"/>
              <a:gd name="textAreaRight" fmla="*/ 84600 w 8424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83821" h="297181">
                <a:moveTo>
                  <a:pt x="0" y="0"/>
                </a:moveTo>
                <a:lnTo>
                  <a:pt x="0" y="4046"/>
                </a:lnTo>
                <a:lnTo>
                  <a:pt x="2258" y="10547"/>
                </a:lnTo>
                <a:lnTo>
                  <a:pt x="4045" y="14652"/>
                </a:lnTo>
                <a:lnTo>
                  <a:pt x="6031" y="21470"/>
                </a:lnTo>
                <a:lnTo>
                  <a:pt x="6914" y="28169"/>
                </a:lnTo>
                <a:lnTo>
                  <a:pt x="7306" y="36791"/>
                </a:lnTo>
                <a:lnTo>
                  <a:pt x="7527" y="59255"/>
                </a:lnTo>
                <a:lnTo>
                  <a:pt x="8404" y="68290"/>
                </a:lnTo>
                <a:lnTo>
                  <a:pt x="9836" y="77700"/>
                </a:lnTo>
                <a:lnTo>
                  <a:pt x="11638" y="87360"/>
                </a:lnTo>
                <a:lnTo>
                  <a:pt x="12838" y="97187"/>
                </a:lnTo>
                <a:lnTo>
                  <a:pt x="13639" y="107125"/>
                </a:lnTo>
                <a:lnTo>
                  <a:pt x="14173" y="117137"/>
                </a:lnTo>
                <a:lnTo>
                  <a:pt x="15375" y="127198"/>
                </a:lnTo>
                <a:lnTo>
                  <a:pt x="17024" y="137292"/>
                </a:lnTo>
                <a:lnTo>
                  <a:pt x="18969" y="147408"/>
                </a:lnTo>
                <a:lnTo>
                  <a:pt x="23388" y="167679"/>
                </a:lnTo>
                <a:lnTo>
                  <a:pt x="33125" y="208288"/>
                </a:lnTo>
                <a:lnTo>
                  <a:pt x="35630" y="217599"/>
                </a:lnTo>
                <a:lnTo>
                  <a:pt x="40671" y="234717"/>
                </a:lnTo>
                <a:lnTo>
                  <a:pt x="43201" y="241992"/>
                </a:lnTo>
                <a:lnTo>
                  <a:pt x="45734" y="248535"/>
                </a:lnTo>
                <a:lnTo>
                  <a:pt x="48269" y="254590"/>
                </a:lnTo>
                <a:lnTo>
                  <a:pt x="49959" y="260320"/>
                </a:lnTo>
                <a:lnTo>
                  <a:pt x="51087" y="265833"/>
                </a:lnTo>
                <a:lnTo>
                  <a:pt x="51837" y="271202"/>
                </a:lnTo>
                <a:lnTo>
                  <a:pt x="54032" y="275628"/>
                </a:lnTo>
                <a:lnTo>
                  <a:pt x="57188" y="279426"/>
                </a:lnTo>
                <a:lnTo>
                  <a:pt x="60985" y="282804"/>
                </a:lnTo>
                <a:lnTo>
                  <a:pt x="67462" y="288815"/>
                </a:lnTo>
                <a:lnTo>
                  <a:pt x="70375" y="291603"/>
                </a:lnTo>
                <a:lnTo>
                  <a:pt x="73163" y="293462"/>
                </a:lnTo>
                <a:lnTo>
                  <a:pt x="75869" y="294701"/>
                </a:lnTo>
                <a:lnTo>
                  <a:pt x="83820" y="2971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MARTInkAnnotation293"/>
          <p:cNvSpPr/>
          <p:nvPr/>
        </p:nvSpPr>
        <p:spPr>
          <a:xfrm>
            <a:off x="3581280" y="2614680"/>
            <a:ext cx="243000" cy="181080"/>
          </a:xfrm>
          <a:custGeom>
            <a:avLst/>
            <a:gdLst>
              <a:gd name="textAreaLeft" fmla="*/ 0 w 243000"/>
              <a:gd name="textAreaRight" fmla="*/ 243360 w 24300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42722" h="181935">
                <a:moveTo>
                  <a:pt x="7527" y="144294"/>
                </a:moveTo>
                <a:lnTo>
                  <a:pt x="3482" y="136204"/>
                </a:lnTo>
                <a:lnTo>
                  <a:pt x="2290" y="132127"/>
                </a:lnTo>
                <a:lnTo>
                  <a:pt x="1496" y="127716"/>
                </a:lnTo>
                <a:lnTo>
                  <a:pt x="966" y="123082"/>
                </a:lnTo>
                <a:lnTo>
                  <a:pt x="613" y="119146"/>
                </a:lnTo>
                <a:lnTo>
                  <a:pt x="378" y="115676"/>
                </a:lnTo>
                <a:lnTo>
                  <a:pt x="221" y="112515"/>
                </a:lnTo>
                <a:lnTo>
                  <a:pt x="47" y="102230"/>
                </a:lnTo>
                <a:lnTo>
                  <a:pt x="0" y="95932"/>
                </a:lnTo>
                <a:lnTo>
                  <a:pt x="816" y="89192"/>
                </a:lnTo>
                <a:lnTo>
                  <a:pt x="2206" y="82160"/>
                </a:lnTo>
                <a:lnTo>
                  <a:pt x="3980" y="74931"/>
                </a:lnTo>
                <a:lnTo>
                  <a:pt x="6009" y="68419"/>
                </a:lnTo>
                <a:lnTo>
                  <a:pt x="8208" y="62384"/>
                </a:lnTo>
                <a:lnTo>
                  <a:pt x="10521" y="56668"/>
                </a:lnTo>
                <a:lnTo>
                  <a:pt x="13757" y="51163"/>
                </a:lnTo>
                <a:lnTo>
                  <a:pt x="17607" y="45800"/>
                </a:lnTo>
                <a:lnTo>
                  <a:pt x="21867" y="40531"/>
                </a:lnTo>
                <a:lnTo>
                  <a:pt x="25554" y="35326"/>
                </a:lnTo>
                <a:lnTo>
                  <a:pt x="28858" y="30162"/>
                </a:lnTo>
                <a:lnTo>
                  <a:pt x="31908" y="25026"/>
                </a:lnTo>
                <a:lnTo>
                  <a:pt x="36481" y="20755"/>
                </a:lnTo>
                <a:lnTo>
                  <a:pt x="42070" y="17062"/>
                </a:lnTo>
                <a:lnTo>
                  <a:pt x="48335" y="13752"/>
                </a:lnTo>
                <a:lnTo>
                  <a:pt x="55052" y="10700"/>
                </a:lnTo>
                <a:lnTo>
                  <a:pt x="62071" y="7818"/>
                </a:lnTo>
                <a:lnTo>
                  <a:pt x="69290" y="5050"/>
                </a:lnTo>
                <a:lnTo>
                  <a:pt x="76642" y="3205"/>
                </a:lnTo>
                <a:lnTo>
                  <a:pt x="84084" y="1975"/>
                </a:lnTo>
                <a:lnTo>
                  <a:pt x="91585" y="1155"/>
                </a:lnTo>
                <a:lnTo>
                  <a:pt x="99126" y="608"/>
                </a:lnTo>
                <a:lnTo>
                  <a:pt x="106693" y="243"/>
                </a:lnTo>
                <a:lnTo>
                  <a:pt x="114278" y="0"/>
                </a:lnTo>
                <a:lnTo>
                  <a:pt x="122721" y="685"/>
                </a:lnTo>
                <a:lnTo>
                  <a:pt x="131736" y="1988"/>
                </a:lnTo>
                <a:lnTo>
                  <a:pt x="141134" y="3704"/>
                </a:lnTo>
                <a:lnTo>
                  <a:pt x="149938" y="6540"/>
                </a:lnTo>
                <a:lnTo>
                  <a:pt x="158348" y="10125"/>
                </a:lnTo>
                <a:lnTo>
                  <a:pt x="166494" y="14208"/>
                </a:lnTo>
                <a:lnTo>
                  <a:pt x="174465" y="18624"/>
                </a:lnTo>
                <a:lnTo>
                  <a:pt x="182319" y="23260"/>
                </a:lnTo>
                <a:lnTo>
                  <a:pt x="190095" y="28045"/>
                </a:lnTo>
                <a:lnTo>
                  <a:pt x="197819" y="33775"/>
                </a:lnTo>
                <a:lnTo>
                  <a:pt x="205508" y="40135"/>
                </a:lnTo>
                <a:lnTo>
                  <a:pt x="213175" y="46914"/>
                </a:lnTo>
                <a:lnTo>
                  <a:pt x="219979" y="53974"/>
                </a:lnTo>
                <a:lnTo>
                  <a:pt x="226208" y="61221"/>
                </a:lnTo>
                <a:lnTo>
                  <a:pt x="232054" y="68592"/>
                </a:lnTo>
                <a:lnTo>
                  <a:pt x="235953" y="76046"/>
                </a:lnTo>
                <a:lnTo>
                  <a:pt x="238551" y="83556"/>
                </a:lnTo>
                <a:lnTo>
                  <a:pt x="240283" y="91102"/>
                </a:lnTo>
                <a:lnTo>
                  <a:pt x="241438" y="97826"/>
                </a:lnTo>
                <a:lnTo>
                  <a:pt x="242208" y="104002"/>
                </a:lnTo>
                <a:lnTo>
                  <a:pt x="242721" y="109813"/>
                </a:lnTo>
                <a:lnTo>
                  <a:pt x="242217" y="116227"/>
                </a:lnTo>
                <a:lnTo>
                  <a:pt x="241033" y="123043"/>
                </a:lnTo>
                <a:lnTo>
                  <a:pt x="239398" y="130126"/>
                </a:lnTo>
                <a:lnTo>
                  <a:pt x="236614" y="136542"/>
                </a:lnTo>
                <a:lnTo>
                  <a:pt x="233065" y="142513"/>
                </a:lnTo>
                <a:lnTo>
                  <a:pt x="229006" y="148187"/>
                </a:lnTo>
                <a:lnTo>
                  <a:pt x="223760" y="152816"/>
                </a:lnTo>
                <a:lnTo>
                  <a:pt x="217722" y="156748"/>
                </a:lnTo>
                <a:lnTo>
                  <a:pt x="199348" y="166329"/>
                </a:lnTo>
                <a:lnTo>
                  <a:pt x="193827" y="169144"/>
                </a:lnTo>
                <a:lnTo>
                  <a:pt x="187607" y="171867"/>
                </a:lnTo>
                <a:lnTo>
                  <a:pt x="180921" y="174529"/>
                </a:lnTo>
                <a:lnTo>
                  <a:pt x="173922" y="177151"/>
                </a:lnTo>
                <a:lnTo>
                  <a:pt x="165871" y="178899"/>
                </a:lnTo>
                <a:lnTo>
                  <a:pt x="157116" y="180064"/>
                </a:lnTo>
                <a:lnTo>
                  <a:pt x="147893" y="180841"/>
                </a:lnTo>
                <a:lnTo>
                  <a:pt x="139205" y="181359"/>
                </a:lnTo>
                <a:lnTo>
                  <a:pt x="122777" y="181934"/>
                </a:lnTo>
                <a:lnTo>
                  <a:pt x="114841" y="181241"/>
                </a:lnTo>
                <a:lnTo>
                  <a:pt x="107009" y="179932"/>
                </a:lnTo>
                <a:lnTo>
                  <a:pt x="99249" y="178213"/>
                </a:lnTo>
                <a:lnTo>
                  <a:pt x="92382" y="177066"/>
                </a:lnTo>
                <a:lnTo>
                  <a:pt x="86111" y="176302"/>
                </a:lnTo>
                <a:lnTo>
                  <a:pt x="80236" y="175793"/>
                </a:lnTo>
                <a:lnTo>
                  <a:pt x="75473" y="175453"/>
                </a:lnTo>
                <a:lnTo>
                  <a:pt x="67923" y="175076"/>
                </a:lnTo>
                <a:lnTo>
                  <a:pt x="64725" y="174129"/>
                </a:lnTo>
                <a:lnTo>
                  <a:pt x="61745" y="172650"/>
                </a:lnTo>
                <a:lnTo>
                  <a:pt x="53247" y="16715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MARTInkAnnotation294"/>
          <p:cNvSpPr/>
          <p:nvPr/>
        </p:nvSpPr>
        <p:spPr>
          <a:xfrm>
            <a:off x="3757680" y="2873520"/>
            <a:ext cx="142920" cy="98280"/>
          </a:xfrm>
          <a:custGeom>
            <a:avLst/>
            <a:gdLst>
              <a:gd name="textAreaLeft" fmla="*/ 0 w 142920"/>
              <a:gd name="textAreaRight" fmla="*/ 143280 w 14292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142735" h="98918">
                <a:moveTo>
                  <a:pt x="121312" y="38100"/>
                </a:moveTo>
                <a:lnTo>
                  <a:pt x="121312" y="19967"/>
                </a:lnTo>
                <a:lnTo>
                  <a:pt x="120465" y="18392"/>
                </a:lnTo>
                <a:lnTo>
                  <a:pt x="119054" y="17341"/>
                </a:lnTo>
                <a:lnTo>
                  <a:pt x="117267" y="16641"/>
                </a:lnTo>
                <a:lnTo>
                  <a:pt x="116075" y="15327"/>
                </a:lnTo>
                <a:lnTo>
                  <a:pt x="115281" y="13605"/>
                </a:lnTo>
                <a:lnTo>
                  <a:pt x="114751" y="11610"/>
                </a:lnTo>
                <a:lnTo>
                  <a:pt x="112705" y="9433"/>
                </a:lnTo>
                <a:lnTo>
                  <a:pt x="109648" y="7136"/>
                </a:lnTo>
                <a:lnTo>
                  <a:pt x="105916" y="4757"/>
                </a:lnTo>
                <a:lnTo>
                  <a:pt x="101734" y="3172"/>
                </a:lnTo>
                <a:lnTo>
                  <a:pt x="97254" y="2114"/>
                </a:lnTo>
                <a:lnTo>
                  <a:pt x="92573" y="1410"/>
                </a:lnTo>
                <a:lnTo>
                  <a:pt x="86913" y="1786"/>
                </a:lnTo>
                <a:lnTo>
                  <a:pt x="80600" y="2884"/>
                </a:lnTo>
                <a:lnTo>
                  <a:pt x="73850" y="4463"/>
                </a:lnTo>
                <a:lnTo>
                  <a:pt x="67658" y="6362"/>
                </a:lnTo>
                <a:lnTo>
                  <a:pt x="61836" y="8475"/>
                </a:lnTo>
                <a:lnTo>
                  <a:pt x="56262" y="10730"/>
                </a:lnTo>
                <a:lnTo>
                  <a:pt x="50005" y="13926"/>
                </a:lnTo>
                <a:lnTo>
                  <a:pt x="43294" y="17751"/>
                </a:lnTo>
                <a:lnTo>
                  <a:pt x="36281" y="21994"/>
                </a:lnTo>
                <a:lnTo>
                  <a:pt x="29911" y="25670"/>
                </a:lnTo>
                <a:lnTo>
                  <a:pt x="18318" y="32011"/>
                </a:lnTo>
                <a:lnTo>
                  <a:pt x="13703" y="35734"/>
                </a:lnTo>
                <a:lnTo>
                  <a:pt x="9779" y="39909"/>
                </a:lnTo>
                <a:lnTo>
                  <a:pt x="6317" y="44386"/>
                </a:lnTo>
                <a:lnTo>
                  <a:pt x="4009" y="49064"/>
                </a:lnTo>
                <a:lnTo>
                  <a:pt x="2470" y="53876"/>
                </a:lnTo>
                <a:lnTo>
                  <a:pt x="1444" y="58778"/>
                </a:lnTo>
                <a:lnTo>
                  <a:pt x="760" y="63738"/>
                </a:lnTo>
                <a:lnTo>
                  <a:pt x="305" y="68739"/>
                </a:lnTo>
                <a:lnTo>
                  <a:pt x="0" y="73766"/>
                </a:lnTo>
                <a:lnTo>
                  <a:pt x="1491" y="77964"/>
                </a:lnTo>
                <a:lnTo>
                  <a:pt x="4178" y="81609"/>
                </a:lnTo>
                <a:lnTo>
                  <a:pt x="7663" y="84886"/>
                </a:lnTo>
                <a:lnTo>
                  <a:pt x="12526" y="87918"/>
                </a:lnTo>
                <a:lnTo>
                  <a:pt x="18308" y="90785"/>
                </a:lnTo>
                <a:lnTo>
                  <a:pt x="24703" y="93543"/>
                </a:lnTo>
                <a:lnTo>
                  <a:pt x="32353" y="95382"/>
                </a:lnTo>
                <a:lnTo>
                  <a:pt x="40839" y="96608"/>
                </a:lnTo>
                <a:lnTo>
                  <a:pt x="49884" y="97426"/>
                </a:lnTo>
                <a:lnTo>
                  <a:pt x="59300" y="97971"/>
                </a:lnTo>
                <a:lnTo>
                  <a:pt x="78794" y="98576"/>
                </a:lnTo>
                <a:lnTo>
                  <a:pt x="100718" y="98917"/>
                </a:lnTo>
                <a:lnTo>
                  <a:pt x="107583" y="98118"/>
                </a:lnTo>
                <a:lnTo>
                  <a:pt x="114699" y="96739"/>
                </a:lnTo>
                <a:lnTo>
                  <a:pt x="121984" y="94972"/>
                </a:lnTo>
                <a:lnTo>
                  <a:pt x="126840" y="92948"/>
                </a:lnTo>
                <a:lnTo>
                  <a:pt x="130077" y="90752"/>
                </a:lnTo>
                <a:lnTo>
                  <a:pt x="132236" y="88441"/>
                </a:lnTo>
                <a:lnTo>
                  <a:pt x="134521" y="85208"/>
                </a:lnTo>
                <a:lnTo>
                  <a:pt x="136892" y="81358"/>
                </a:lnTo>
                <a:lnTo>
                  <a:pt x="139318" y="77099"/>
                </a:lnTo>
                <a:lnTo>
                  <a:pt x="140937" y="72566"/>
                </a:lnTo>
                <a:lnTo>
                  <a:pt x="142015" y="67851"/>
                </a:lnTo>
                <a:lnTo>
                  <a:pt x="142734" y="63014"/>
                </a:lnTo>
                <a:lnTo>
                  <a:pt x="142366" y="58096"/>
                </a:lnTo>
                <a:lnTo>
                  <a:pt x="141275" y="53124"/>
                </a:lnTo>
                <a:lnTo>
                  <a:pt x="139701" y="48116"/>
                </a:lnTo>
                <a:lnTo>
                  <a:pt x="137805" y="43084"/>
                </a:lnTo>
                <a:lnTo>
                  <a:pt x="135694" y="38036"/>
                </a:lnTo>
                <a:lnTo>
                  <a:pt x="133439" y="32977"/>
                </a:lnTo>
                <a:lnTo>
                  <a:pt x="131091" y="28758"/>
                </a:lnTo>
                <a:lnTo>
                  <a:pt x="128678" y="25099"/>
                </a:lnTo>
                <a:lnTo>
                  <a:pt x="126222" y="21813"/>
                </a:lnTo>
                <a:lnTo>
                  <a:pt x="124585" y="18775"/>
                </a:lnTo>
                <a:lnTo>
                  <a:pt x="123495" y="15903"/>
                </a:lnTo>
                <a:lnTo>
                  <a:pt x="122767" y="13142"/>
                </a:lnTo>
                <a:lnTo>
                  <a:pt x="121436" y="10455"/>
                </a:lnTo>
                <a:lnTo>
                  <a:pt x="119701" y="7817"/>
                </a:lnTo>
                <a:lnTo>
                  <a:pt x="11369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MARTInkAnnotation295"/>
          <p:cNvSpPr/>
          <p:nvPr/>
        </p:nvSpPr>
        <p:spPr>
          <a:xfrm>
            <a:off x="3978360" y="2879640"/>
            <a:ext cx="234720" cy="92160"/>
          </a:xfrm>
          <a:custGeom>
            <a:avLst/>
            <a:gdLst>
              <a:gd name="textAreaLeft" fmla="*/ 0 w 234720"/>
              <a:gd name="textAreaRight" fmla="*/ 235080 w 2347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235492" h="91420">
                <a:moveTo>
                  <a:pt x="7593" y="0"/>
                </a:moveTo>
                <a:lnTo>
                  <a:pt x="7593" y="7527"/>
                </a:lnTo>
                <a:lnTo>
                  <a:pt x="5335" y="9837"/>
                </a:lnTo>
                <a:lnTo>
                  <a:pt x="3548" y="11638"/>
                </a:lnTo>
                <a:lnTo>
                  <a:pt x="2356" y="13685"/>
                </a:lnTo>
                <a:lnTo>
                  <a:pt x="1561" y="15897"/>
                </a:lnTo>
                <a:lnTo>
                  <a:pt x="1031" y="18218"/>
                </a:lnTo>
                <a:lnTo>
                  <a:pt x="678" y="20612"/>
                </a:lnTo>
                <a:lnTo>
                  <a:pt x="443" y="23055"/>
                </a:lnTo>
                <a:lnTo>
                  <a:pt x="286" y="25530"/>
                </a:lnTo>
                <a:lnTo>
                  <a:pt x="112" y="32795"/>
                </a:lnTo>
                <a:lnTo>
                  <a:pt x="0" y="47212"/>
                </a:lnTo>
                <a:lnTo>
                  <a:pt x="838" y="50948"/>
                </a:lnTo>
                <a:lnTo>
                  <a:pt x="2242" y="55132"/>
                </a:lnTo>
                <a:lnTo>
                  <a:pt x="4025" y="59615"/>
                </a:lnTo>
                <a:lnTo>
                  <a:pt x="6061" y="63450"/>
                </a:lnTo>
                <a:lnTo>
                  <a:pt x="8265" y="66853"/>
                </a:lnTo>
                <a:lnTo>
                  <a:pt x="10580" y="69969"/>
                </a:lnTo>
                <a:lnTo>
                  <a:pt x="13818" y="73739"/>
                </a:lnTo>
                <a:lnTo>
                  <a:pt x="17669" y="77946"/>
                </a:lnTo>
                <a:lnTo>
                  <a:pt x="21930" y="82444"/>
                </a:lnTo>
                <a:lnTo>
                  <a:pt x="26464" y="85443"/>
                </a:lnTo>
                <a:lnTo>
                  <a:pt x="31180" y="87442"/>
                </a:lnTo>
                <a:lnTo>
                  <a:pt x="36017" y="88774"/>
                </a:lnTo>
                <a:lnTo>
                  <a:pt x="40936" y="89663"/>
                </a:lnTo>
                <a:lnTo>
                  <a:pt x="45908" y="90255"/>
                </a:lnTo>
                <a:lnTo>
                  <a:pt x="50916" y="90650"/>
                </a:lnTo>
                <a:lnTo>
                  <a:pt x="55948" y="90913"/>
                </a:lnTo>
                <a:lnTo>
                  <a:pt x="66055" y="91206"/>
                </a:lnTo>
                <a:lnTo>
                  <a:pt x="83129" y="91409"/>
                </a:lnTo>
                <a:lnTo>
                  <a:pt x="85890" y="91419"/>
                </a:lnTo>
                <a:lnTo>
                  <a:pt x="88578" y="90580"/>
                </a:lnTo>
                <a:lnTo>
                  <a:pt x="91216" y="89173"/>
                </a:lnTo>
                <a:lnTo>
                  <a:pt x="93821" y="87389"/>
                </a:lnTo>
                <a:lnTo>
                  <a:pt x="95559" y="85352"/>
                </a:lnTo>
                <a:lnTo>
                  <a:pt x="96716" y="83148"/>
                </a:lnTo>
                <a:lnTo>
                  <a:pt x="98574" y="77572"/>
                </a:lnTo>
                <a:lnTo>
                  <a:pt x="98727" y="76268"/>
                </a:lnTo>
                <a:lnTo>
                  <a:pt x="98829" y="74552"/>
                </a:lnTo>
                <a:lnTo>
                  <a:pt x="98992" y="69760"/>
                </a:lnTo>
                <a:lnTo>
                  <a:pt x="99021" y="64885"/>
                </a:lnTo>
                <a:lnTo>
                  <a:pt x="99871" y="64423"/>
                </a:lnTo>
                <a:lnTo>
                  <a:pt x="101285" y="64962"/>
                </a:lnTo>
                <a:lnTo>
                  <a:pt x="103074" y="66168"/>
                </a:lnTo>
                <a:lnTo>
                  <a:pt x="107320" y="67508"/>
                </a:lnTo>
                <a:lnTo>
                  <a:pt x="109638" y="67865"/>
                </a:lnTo>
                <a:lnTo>
                  <a:pt x="114471" y="70520"/>
                </a:lnTo>
                <a:lnTo>
                  <a:pt x="116944" y="72413"/>
                </a:lnTo>
                <a:lnTo>
                  <a:pt x="121134" y="74522"/>
                </a:lnTo>
                <a:lnTo>
                  <a:pt x="126467" y="76775"/>
                </a:lnTo>
                <a:lnTo>
                  <a:pt x="132562" y="79123"/>
                </a:lnTo>
                <a:lnTo>
                  <a:pt x="139165" y="80689"/>
                </a:lnTo>
                <a:lnTo>
                  <a:pt x="146108" y="81732"/>
                </a:lnTo>
                <a:lnTo>
                  <a:pt x="153276" y="82428"/>
                </a:lnTo>
                <a:lnTo>
                  <a:pt x="159748" y="83739"/>
                </a:lnTo>
                <a:lnTo>
                  <a:pt x="165756" y="85459"/>
                </a:lnTo>
                <a:lnTo>
                  <a:pt x="171455" y="87453"/>
                </a:lnTo>
                <a:lnTo>
                  <a:pt x="177794" y="88782"/>
                </a:lnTo>
                <a:lnTo>
                  <a:pt x="184560" y="89668"/>
                </a:lnTo>
                <a:lnTo>
                  <a:pt x="191610" y="90259"/>
                </a:lnTo>
                <a:lnTo>
                  <a:pt x="198851" y="90652"/>
                </a:lnTo>
                <a:lnTo>
                  <a:pt x="213670" y="91090"/>
                </a:lnTo>
                <a:lnTo>
                  <a:pt x="219484" y="90360"/>
                </a:lnTo>
                <a:lnTo>
                  <a:pt x="224207" y="89027"/>
                </a:lnTo>
                <a:lnTo>
                  <a:pt x="233825" y="84849"/>
                </a:lnTo>
                <a:lnTo>
                  <a:pt x="234614" y="82812"/>
                </a:lnTo>
                <a:lnTo>
                  <a:pt x="235140" y="79762"/>
                </a:lnTo>
                <a:lnTo>
                  <a:pt x="235491" y="76034"/>
                </a:lnTo>
                <a:lnTo>
                  <a:pt x="234878" y="72703"/>
                </a:lnTo>
                <a:lnTo>
                  <a:pt x="233623" y="69636"/>
                </a:lnTo>
                <a:lnTo>
                  <a:pt x="231940" y="66744"/>
                </a:lnTo>
                <a:lnTo>
                  <a:pt x="230817" y="63123"/>
                </a:lnTo>
                <a:lnTo>
                  <a:pt x="230069" y="59015"/>
                </a:lnTo>
                <a:lnTo>
                  <a:pt x="229570" y="54583"/>
                </a:lnTo>
                <a:lnTo>
                  <a:pt x="228391" y="49936"/>
                </a:lnTo>
                <a:lnTo>
                  <a:pt x="226758" y="45144"/>
                </a:lnTo>
                <a:lnTo>
                  <a:pt x="224822" y="40256"/>
                </a:lnTo>
                <a:lnTo>
                  <a:pt x="222686" y="35304"/>
                </a:lnTo>
                <a:lnTo>
                  <a:pt x="218054" y="25286"/>
                </a:lnTo>
                <a:lnTo>
                  <a:pt x="215634" y="21091"/>
                </a:lnTo>
                <a:lnTo>
                  <a:pt x="213173" y="17447"/>
                </a:lnTo>
                <a:lnTo>
                  <a:pt x="210686" y="14172"/>
                </a:lnTo>
                <a:lnTo>
                  <a:pt x="209028" y="11141"/>
                </a:lnTo>
                <a:lnTo>
                  <a:pt x="207923" y="8274"/>
                </a:lnTo>
                <a:lnTo>
                  <a:pt x="20571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MARTInkAnnotation296"/>
          <p:cNvSpPr/>
          <p:nvPr/>
        </p:nvSpPr>
        <p:spPr>
          <a:xfrm>
            <a:off x="5829480" y="3854520"/>
            <a:ext cx="360" cy="15840"/>
          </a:xfrm>
          <a:custGeom>
            <a:avLst/>
            <a:gdLst>
              <a:gd name="textAreaLeft" fmla="*/ 0 w 360"/>
              <a:gd name="textAreaRight" fmla="*/ 360 w 3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87" h="16785">
                <a:moveTo>
                  <a:pt x="186" y="0"/>
                </a:moveTo>
                <a:lnTo>
                  <a:pt x="68" y="6271"/>
                </a:lnTo>
                <a:lnTo>
                  <a:pt x="0" y="1678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MARTInkAnnotation297"/>
          <p:cNvSpPr/>
          <p:nvPr/>
        </p:nvSpPr>
        <p:spPr>
          <a:xfrm>
            <a:off x="5837400" y="3984480"/>
            <a:ext cx="274320" cy="163800"/>
          </a:xfrm>
          <a:custGeom>
            <a:avLst/>
            <a:gdLst>
              <a:gd name="textAreaLeft" fmla="*/ 0 w 274320"/>
              <a:gd name="textAreaRight" fmla="*/ 274680 w 274320"/>
              <a:gd name="textAreaTop" fmla="*/ 0 h 163800"/>
              <a:gd name="textAreaBottom" fmla="*/ 164160 h 163800"/>
            </a:gdLst>
            <a:ahLst/>
            <a:rect l="textAreaLeft" t="textAreaTop" r="textAreaRight" b="textAreaBottom"/>
            <a:pathLst>
              <a:path w="275598" h="162994">
                <a:moveTo>
                  <a:pt x="275597" y="85495"/>
                </a:moveTo>
                <a:lnTo>
                  <a:pt x="275239" y="93566"/>
                </a:lnTo>
                <a:lnTo>
                  <a:pt x="273240" y="103018"/>
                </a:lnTo>
                <a:lnTo>
                  <a:pt x="270214" y="111859"/>
                </a:lnTo>
                <a:lnTo>
                  <a:pt x="266502" y="120292"/>
                </a:lnTo>
                <a:lnTo>
                  <a:pt x="261489" y="127608"/>
                </a:lnTo>
                <a:lnTo>
                  <a:pt x="255606" y="134179"/>
                </a:lnTo>
                <a:lnTo>
                  <a:pt x="249144" y="140253"/>
                </a:lnTo>
                <a:lnTo>
                  <a:pt x="243142" y="145148"/>
                </a:lnTo>
                <a:lnTo>
                  <a:pt x="237449" y="149259"/>
                </a:lnTo>
                <a:lnTo>
                  <a:pt x="231960" y="152846"/>
                </a:lnTo>
                <a:lnTo>
                  <a:pt x="224913" y="156084"/>
                </a:lnTo>
                <a:lnTo>
                  <a:pt x="216829" y="159089"/>
                </a:lnTo>
                <a:lnTo>
                  <a:pt x="208053" y="161940"/>
                </a:lnTo>
                <a:lnTo>
                  <a:pt x="199662" y="162993"/>
                </a:lnTo>
                <a:lnTo>
                  <a:pt x="191528" y="162849"/>
                </a:lnTo>
                <a:lnTo>
                  <a:pt x="183565" y="161906"/>
                </a:lnTo>
                <a:lnTo>
                  <a:pt x="174871" y="160431"/>
                </a:lnTo>
                <a:lnTo>
                  <a:pt x="165687" y="158601"/>
                </a:lnTo>
                <a:lnTo>
                  <a:pt x="156178" y="156534"/>
                </a:lnTo>
                <a:lnTo>
                  <a:pt x="146452" y="152616"/>
                </a:lnTo>
                <a:lnTo>
                  <a:pt x="136582" y="147464"/>
                </a:lnTo>
                <a:lnTo>
                  <a:pt x="126614" y="141489"/>
                </a:lnTo>
                <a:lnTo>
                  <a:pt x="116583" y="134966"/>
                </a:lnTo>
                <a:lnTo>
                  <a:pt x="106509" y="128077"/>
                </a:lnTo>
                <a:lnTo>
                  <a:pt x="96406" y="120945"/>
                </a:lnTo>
                <a:lnTo>
                  <a:pt x="86284" y="112803"/>
                </a:lnTo>
                <a:lnTo>
                  <a:pt x="76150" y="103988"/>
                </a:lnTo>
                <a:lnTo>
                  <a:pt x="66006" y="94726"/>
                </a:lnTo>
                <a:lnTo>
                  <a:pt x="56704" y="85164"/>
                </a:lnTo>
                <a:lnTo>
                  <a:pt x="47963" y="75403"/>
                </a:lnTo>
                <a:lnTo>
                  <a:pt x="39595" y="65509"/>
                </a:lnTo>
                <a:lnTo>
                  <a:pt x="23525" y="45484"/>
                </a:lnTo>
                <a:lnTo>
                  <a:pt x="15683" y="35403"/>
                </a:lnTo>
                <a:lnTo>
                  <a:pt x="10456" y="26988"/>
                </a:lnTo>
                <a:lnTo>
                  <a:pt x="6971" y="19685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MARTInkAnnotation298"/>
          <p:cNvSpPr/>
          <p:nvPr/>
        </p:nvSpPr>
        <p:spPr>
          <a:xfrm>
            <a:off x="6316560" y="3497400"/>
            <a:ext cx="30240" cy="142560"/>
          </a:xfrm>
          <a:custGeom>
            <a:avLst/>
            <a:gdLst>
              <a:gd name="textAreaLeft" fmla="*/ 0 w 30240"/>
              <a:gd name="textAreaRight" fmla="*/ 30600 w 302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30898" h="141987">
                <a:moveTo>
                  <a:pt x="23305" y="7527"/>
                </a:moveTo>
                <a:lnTo>
                  <a:pt x="23305" y="3482"/>
                </a:lnTo>
                <a:lnTo>
                  <a:pt x="24151" y="2290"/>
                </a:lnTo>
                <a:lnTo>
                  <a:pt x="25562" y="1496"/>
                </a:lnTo>
                <a:lnTo>
                  <a:pt x="30611" y="0"/>
                </a:lnTo>
                <a:lnTo>
                  <a:pt x="30897" y="10521"/>
                </a:lnTo>
                <a:lnTo>
                  <a:pt x="30060" y="12910"/>
                </a:lnTo>
                <a:lnTo>
                  <a:pt x="26871" y="17822"/>
                </a:lnTo>
                <a:lnTo>
                  <a:pt x="24889" y="27342"/>
                </a:lnTo>
                <a:lnTo>
                  <a:pt x="24361" y="33437"/>
                </a:lnTo>
                <a:lnTo>
                  <a:pt x="23162" y="40041"/>
                </a:lnTo>
                <a:lnTo>
                  <a:pt x="21516" y="46983"/>
                </a:lnTo>
                <a:lnTo>
                  <a:pt x="19572" y="54151"/>
                </a:lnTo>
                <a:lnTo>
                  <a:pt x="15154" y="68889"/>
                </a:lnTo>
                <a:lnTo>
                  <a:pt x="12791" y="76375"/>
                </a:lnTo>
                <a:lnTo>
                  <a:pt x="7907" y="93724"/>
                </a:lnTo>
                <a:lnTo>
                  <a:pt x="5419" y="103092"/>
                </a:lnTo>
                <a:lnTo>
                  <a:pt x="3762" y="112724"/>
                </a:lnTo>
                <a:lnTo>
                  <a:pt x="2655" y="122531"/>
                </a:lnTo>
                <a:lnTo>
                  <a:pt x="1918" y="132457"/>
                </a:lnTo>
                <a:lnTo>
                  <a:pt x="0" y="14198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MARTInkAnnotation299"/>
          <p:cNvSpPr/>
          <p:nvPr/>
        </p:nvSpPr>
        <p:spPr>
          <a:xfrm>
            <a:off x="6362640" y="3747960"/>
            <a:ext cx="114480" cy="122400"/>
          </a:xfrm>
          <a:custGeom>
            <a:avLst/>
            <a:gdLst>
              <a:gd name="textAreaLeft" fmla="*/ 0 w 114480"/>
              <a:gd name="textAreaRight" fmla="*/ 114840 w 11448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13771" h="123324">
                <a:moveTo>
                  <a:pt x="0" y="0"/>
                </a:moveTo>
                <a:lnTo>
                  <a:pt x="4144" y="395"/>
                </a:lnTo>
                <a:lnTo>
                  <a:pt x="9359" y="2424"/>
                </a:lnTo>
                <a:lnTo>
                  <a:pt x="14530" y="5471"/>
                </a:lnTo>
                <a:lnTo>
                  <a:pt x="19670" y="9195"/>
                </a:lnTo>
                <a:lnTo>
                  <a:pt x="23944" y="12524"/>
                </a:lnTo>
                <a:lnTo>
                  <a:pt x="30950" y="18482"/>
                </a:lnTo>
                <a:lnTo>
                  <a:pt x="36886" y="26209"/>
                </a:lnTo>
                <a:lnTo>
                  <a:pt x="42346" y="35288"/>
                </a:lnTo>
                <a:lnTo>
                  <a:pt x="47595" y="44968"/>
                </a:lnTo>
                <a:lnTo>
                  <a:pt x="50493" y="52656"/>
                </a:lnTo>
                <a:lnTo>
                  <a:pt x="52627" y="60589"/>
                </a:lnTo>
                <a:lnTo>
                  <a:pt x="56398" y="72581"/>
                </a:lnTo>
                <a:lnTo>
                  <a:pt x="58638" y="84120"/>
                </a:lnTo>
                <a:lnTo>
                  <a:pt x="59235" y="89568"/>
                </a:lnTo>
                <a:lnTo>
                  <a:pt x="62157" y="97879"/>
                </a:lnTo>
                <a:lnTo>
                  <a:pt x="66278" y="105241"/>
                </a:lnTo>
                <a:lnTo>
                  <a:pt x="70932" y="114158"/>
                </a:lnTo>
                <a:lnTo>
                  <a:pt x="73358" y="117213"/>
                </a:lnTo>
                <a:lnTo>
                  <a:pt x="75822" y="119250"/>
                </a:lnTo>
                <a:lnTo>
                  <a:pt x="78311" y="120608"/>
                </a:lnTo>
                <a:lnTo>
                  <a:pt x="83335" y="122117"/>
                </a:lnTo>
                <a:lnTo>
                  <a:pt x="89237" y="122787"/>
                </a:lnTo>
                <a:lnTo>
                  <a:pt x="93181" y="122966"/>
                </a:lnTo>
                <a:lnTo>
                  <a:pt x="104566" y="123217"/>
                </a:lnTo>
                <a:lnTo>
                  <a:pt x="113770" y="1233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MARTInkAnnotation300"/>
          <p:cNvSpPr/>
          <p:nvPr/>
        </p:nvSpPr>
        <p:spPr>
          <a:xfrm>
            <a:off x="4253040" y="2849400"/>
            <a:ext cx="244440" cy="138240"/>
          </a:xfrm>
          <a:custGeom>
            <a:avLst/>
            <a:gdLst>
              <a:gd name="textAreaLeft" fmla="*/ 0 w 244440"/>
              <a:gd name="textAreaRight" fmla="*/ 244800 w 24444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245182" h="136933">
                <a:moveTo>
                  <a:pt x="75724" y="15147"/>
                </a:moveTo>
                <a:lnTo>
                  <a:pt x="75724" y="7841"/>
                </a:lnTo>
                <a:lnTo>
                  <a:pt x="82285" y="7555"/>
                </a:lnTo>
                <a:lnTo>
                  <a:pt x="82638" y="6699"/>
                </a:lnTo>
                <a:lnTo>
                  <a:pt x="83030" y="3490"/>
                </a:lnTo>
                <a:lnTo>
                  <a:pt x="82288" y="2296"/>
                </a:lnTo>
                <a:lnTo>
                  <a:pt x="80946" y="1500"/>
                </a:lnTo>
                <a:lnTo>
                  <a:pt x="76756" y="222"/>
                </a:lnTo>
                <a:lnTo>
                  <a:pt x="67939" y="0"/>
                </a:lnTo>
                <a:lnTo>
                  <a:pt x="64607" y="816"/>
                </a:lnTo>
                <a:lnTo>
                  <a:pt x="55026" y="5162"/>
                </a:lnTo>
                <a:lnTo>
                  <a:pt x="46487" y="6476"/>
                </a:lnTo>
                <a:lnTo>
                  <a:pt x="42686" y="7673"/>
                </a:lnTo>
                <a:lnTo>
                  <a:pt x="36205" y="11261"/>
                </a:lnTo>
                <a:lnTo>
                  <a:pt x="28245" y="15678"/>
                </a:lnTo>
                <a:lnTo>
                  <a:pt x="19909" y="19616"/>
                </a:lnTo>
                <a:lnTo>
                  <a:pt x="10455" y="22680"/>
                </a:lnTo>
                <a:lnTo>
                  <a:pt x="4947" y="26397"/>
                </a:lnTo>
                <a:lnTo>
                  <a:pt x="3139" y="28574"/>
                </a:lnTo>
                <a:lnTo>
                  <a:pt x="1934" y="30872"/>
                </a:lnTo>
                <a:lnTo>
                  <a:pt x="0" y="36598"/>
                </a:lnTo>
                <a:lnTo>
                  <a:pt x="688" y="37914"/>
                </a:lnTo>
                <a:lnTo>
                  <a:pt x="3710" y="41635"/>
                </a:lnTo>
                <a:lnTo>
                  <a:pt x="5701" y="42966"/>
                </a:lnTo>
                <a:lnTo>
                  <a:pt x="13395" y="45685"/>
                </a:lnTo>
                <a:lnTo>
                  <a:pt x="21494" y="49322"/>
                </a:lnTo>
                <a:lnTo>
                  <a:pt x="28479" y="51502"/>
                </a:lnTo>
                <a:lnTo>
                  <a:pt x="37172" y="52730"/>
                </a:lnTo>
                <a:lnTo>
                  <a:pt x="45110" y="53094"/>
                </a:lnTo>
                <a:lnTo>
                  <a:pt x="47695" y="53145"/>
                </a:lnTo>
                <a:lnTo>
                  <a:pt x="49418" y="54026"/>
                </a:lnTo>
                <a:lnTo>
                  <a:pt x="50566" y="55459"/>
                </a:lnTo>
                <a:lnTo>
                  <a:pt x="52729" y="60551"/>
                </a:lnTo>
                <a:lnTo>
                  <a:pt x="44734" y="64819"/>
                </a:lnTo>
                <a:lnTo>
                  <a:pt x="38526" y="66856"/>
                </a:lnTo>
                <a:lnTo>
                  <a:pt x="35685" y="67400"/>
                </a:lnTo>
                <a:lnTo>
                  <a:pt x="30272" y="70262"/>
                </a:lnTo>
                <a:lnTo>
                  <a:pt x="27642" y="72210"/>
                </a:lnTo>
                <a:lnTo>
                  <a:pt x="25042" y="75202"/>
                </a:lnTo>
                <a:lnTo>
                  <a:pt x="22464" y="78890"/>
                </a:lnTo>
                <a:lnTo>
                  <a:pt x="19897" y="83043"/>
                </a:lnTo>
                <a:lnTo>
                  <a:pt x="18186" y="86657"/>
                </a:lnTo>
                <a:lnTo>
                  <a:pt x="17045" y="89914"/>
                </a:lnTo>
                <a:lnTo>
                  <a:pt x="16285" y="92931"/>
                </a:lnTo>
                <a:lnTo>
                  <a:pt x="15778" y="96637"/>
                </a:lnTo>
                <a:lnTo>
                  <a:pt x="15440" y="100800"/>
                </a:lnTo>
                <a:lnTo>
                  <a:pt x="15215" y="105269"/>
                </a:lnTo>
                <a:lnTo>
                  <a:pt x="16757" y="109095"/>
                </a:lnTo>
                <a:lnTo>
                  <a:pt x="19480" y="112492"/>
                </a:lnTo>
                <a:lnTo>
                  <a:pt x="22988" y="115604"/>
                </a:lnTo>
                <a:lnTo>
                  <a:pt x="27020" y="118525"/>
                </a:lnTo>
                <a:lnTo>
                  <a:pt x="31401" y="121319"/>
                </a:lnTo>
                <a:lnTo>
                  <a:pt x="36015" y="124028"/>
                </a:lnTo>
                <a:lnTo>
                  <a:pt x="40785" y="126681"/>
                </a:lnTo>
                <a:lnTo>
                  <a:pt x="50600" y="131887"/>
                </a:lnTo>
                <a:lnTo>
                  <a:pt x="56434" y="133614"/>
                </a:lnTo>
                <a:lnTo>
                  <a:pt x="62864" y="134765"/>
                </a:lnTo>
                <a:lnTo>
                  <a:pt x="69691" y="135532"/>
                </a:lnTo>
                <a:lnTo>
                  <a:pt x="75935" y="136044"/>
                </a:lnTo>
                <a:lnTo>
                  <a:pt x="81791" y="136385"/>
                </a:lnTo>
                <a:lnTo>
                  <a:pt x="92814" y="136764"/>
                </a:lnTo>
                <a:lnTo>
                  <a:pt x="103357" y="136932"/>
                </a:lnTo>
                <a:lnTo>
                  <a:pt x="108540" y="136131"/>
                </a:lnTo>
                <a:lnTo>
                  <a:pt x="113688" y="134750"/>
                </a:lnTo>
                <a:lnTo>
                  <a:pt x="123077" y="130957"/>
                </a:lnTo>
                <a:lnTo>
                  <a:pt x="130072" y="126449"/>
                </a:lnTo>
                <a:lnTo>
                  <a:pt x="132276" y="124062"/>
                </a:lnTo>
                <a:lnTo>
                  <a:pt x="133745" y="121624"/>
                </a:lnTo>
                <a:lnTo>
                  <a:pt x="134725" y="119152"/>
                </a:lnTo>
                <a:lnTo>
                  <a:pt x="136224" y="115810"/>
                </a:lnTo>
                <a:lnTo>
                  <a:pt x="140149" y="107582"/>
                </a:lnTo>
                <a:lnTo>
                  <a:pt x="141534" y="103863"/>
                </a:lnTo>
                <a:lnTo>
                  <a:pt x="142457" y="100538"/>
                </a:lnTo>
                <a:lnTo>
                  <a:pt x="143072" y="97474"/>
                </a:lnTo>
                <a:lnTo>
                  <a:pt x="143483" y="93738"/>
                </a:lnTo>
                <a:lnTo>
                  <a:pt x="143756" y="89555"/>
                </a:lnTo>
                <a:lnTo>
                  <a:pt x="143939" y="85072"/>
                </a:lnTo>
                <a:lnTo>
                  <a:pt x="144907" y="81237"/>
                </a:lnTo>
                <a:lnTo>
                  <a:pt x="146399" y="77834"/>
                </a:lnTo>
                <a:lnTo>
                  <a:pt x="148241" y="74718"/>
                </a:lnTo>
                <a:lnTo>
                  <a:pt x="150315" y="72641"/>
                </a:lnTo>
                <a:lnTo>
                  <a:pt x="152545" y="71256"/>
                </a:lnTo>
                <a:lnTo>
                  <a:pt x="158161" y="69034"/>
                </a:lnTo>
                <a:lnTo>
                  <a:pt x="167224" y="68649"/>
                </a:lnTo>
                <a:lnTo>
                  <a:pt x="170591" y="69442"/>
                </a:lnTo>
                <a:lnTo>
                  <a:pt x="176589" y="72580"/>
                </a:lnTo>
                <a:lnTo>
                  <a:pt x="182077" y="76798"/>
                </a:lnTo>
                <a:lnTo>
                  <a:pt x="188186" y="81494"/>
                </a:lnTo>
                <a:lnTo>
                  <a:pt x="201991" y="89745"/>
                </a:lnTo>
                <a:lnTo>
                  <a:pt x="214816" y="97973"/>
                </a:lnTo>
                <a:lnTo>
                  <a:pt x="220946" y="102538"/>
                </a:lnTo>
                <a:lnTo>
                  <a:pt x="226725" y="107274"/>
                </a:lnTo>
                <a:lnTo>
                  <a:pt x="236816" y="116206"/>
                </a:lnTo>
                <a:lnTo>
                  <a:pt x="244122" y="122997"/>
                </a:lnTo>
                <a:lnTo>
                  <a:pt x="245181" y="12379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MARTInkAnnotation301"/>
          <p:cNvSpPr/>
          <p:nvPr/>
        </p:nvSpPr>
        <p:spPr>
          <a:xfrm>
            <a:off x="4454640" y="2881440"/>
            <a:ext cx="25200" cy="52200"/>
          </a:xfrm>
          <a:custGeom>
            <a:avLst/>
            <a:gdLst>
              <a:gd name="textAreaLeft" fmla="*/ 0 w 25200"/>
              <a:gd name="textAreaRight" fmla="*/ 25560 w 2520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24972" h="53254">
                <a:moveTo>
                  <a:pt x="24971" y="-12283"/>
                </a:moveTo>
                <a:lnTo>
                  <a:pt x="24814" y="-12467"/>
                </a:lnTo>
                <a:lnTo>
                  <a:pt x="20128" y="-17651"/>
                </a:lnTo>
                <a:lnTo>
                  <a:pt x="16157" y="-22800"/>
                </a:lnTo>
                <a:lnTo>
                  <a:pt x="12663" y="-27927"/>
                </a:lnTo>
                <a:lnTo>
                  <a:pt x="9488" y="32499"/>
                </a:lnTo>
                <a:lnTo>
                  <a:pt x="6523" y="28245"/>
                </a:lnTo>
                <a:lnTo>
                  <a:pt x="3701" y="24562"/>
                </a:lnTo>
                <a:lnTo>
                  <a:pt x="973" y="21260"/>
                </a:lnTo>
                <a:lnTo>
                  <a:pt x="0" y="18213"/>
                </a:lnTo>
                <a:lnTo>
                  <a:pt x="199" y="15334"/>
                </a:lnTo>
                <a:lnTo>
                  <a:pt x="1178" y="12569"/>
                </a:lnTo>
                <a:lnTo>
                  <a:pt x="3524" y="9032"/>
                </a:lnTo>
                <a:lnTo>
                  <a:pt x="6781" y="4980"/>
                </a:lnTo>
                <a:lnTo>
                  <a:pt x="10646" y="586"/>
                </a:lnTo>
                <a:lnTo>
                  <a:pt x="1150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MARTInkAnnotation302"/>
          <p:cNvSpPr/>
          <p:nvPr/>
        </p:nvSpPr>
        <p:spPr>
          <a:xfrm>
            <a:off x="4587840" y="2857680"/>
            <a:ext cx="203400" cy="198360"/>
          </a:xfrm>
          <a:custGeom>
            <a:avLst/>
            <a:gdLst>
              <a:gd name="textAreaLeft" fmla="*/ 0 w 203400"/>
              <a:gd name="textAreaRight" fmla="*/ 203760 w 20340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203620" h="197988">
                <a:moveTo>
                  <a:pt x="144779" y="0"/>
                </a:moveTo>
                <a:lnTo>
                  <a:pt x="74586" y="0"/>
                </a:lnTo>
                <a:lnTo>
                  <a:pt x="67504" y="847"/>
                </a:lnTo>
                <a:lnTo>
                  <a:pt x="60243" y="2258"/>
                </a:lnTo>
                <a:lnTo>
                  <a:pt x="52861" y="4045"/>
                </a:lnTo>
                <a:lnTo>
                  <a:pt x="46247" y="5237"/>
                </a:lnTo>
                <a:lnTo>
                  <a:pt x="40145" y="6031"/>
                </a:lnTo>
                <a:lnTo>
                  <a:pt x="34383" y="6561"/>
                </a:lnTo>
                <a:lnTo>
                  <a:pt x="29695" y="7760"/>
                </a:lnTo>
                <a:lnTo>
                  <a:pt x="25723" y="9407"/>
                </a:lnTo>
                <a:lnTo>
                  <a:pt x="22229" y="11352"/>
                </a:lnTo>
                <a:lnTo>
                  <a:pt x="16087" y="15769"/>
                </a:lnTo>
                <a:lnTo>
                  <a:pt x="13265" y="18133"/>
                </a:lnTo>
                <a:lnTo>
                  <a:pt x="11383" y="20555"/>
                </a:lnTo>
                <a:lnTo>
                  <a:pt x="9292" y="25504"/>
                </a:lnTo>
                <a:lnTo>
                  <a:pt x="9581" y="28857"/>
                </a:lnTo>
                <a:lnTo>
                  <a:pt x="10621" y="32784"/>
                </a:lnTo>
                <a:lnTo>
                  <a:pt x="12161" y="37097"/>
                </a:lnTo>
                <a:lnTo>
                  <a:pt x="14880" y="40817"/>
                </a:lnTo>
                <a:lnTo>
                  <a:pt x="18386" y="44145"/>
                </a:lnTo>
                <a:lnTo>
                  <a:pt x="22417" y="47210"/>
                </a:lnTo>
                <a:lnTo>
                  <a:pt x="27645" y="50100"/>
                </a:lnTo>
                <a:lnTo>
                  <a:pt x="33670" y="52873"/>
                </a:lnTo>
                <a:lnTo>
                  <a:pt x="40226" y="55569"/>
                </a:lnTo>
                <a:lnTo>
                  <a:pt x="46290" y="58213"/>
                </a:lnTo>
                <a:lnTo>
                  <a:pt x="57544" y="63408"/>
                </a:lnTo>
                <a:lnTo>
                  <a:pt x="64610" y="65979"/>
                </a:lnTo>
                <a:lnTo>
                  <a:pt x="72706" y="68539"/>
                </a:lnTo>
                <a:lnTo>
                  <a:pt x="81491" y="71093"/>
                </a:lnTo>
                <a:lnTo>
                  <a:pt x="90734" y="74489"/>
                </a:lnTo>
                <a:lnTo>
                  <a:pt x="100282" y="78446"/>
                </a:lnTo>
                <a:lnTo>
                  <a:pt x="110035" y="82777"/>
                </a:lnTo>
                <a:lnTo>
                  <a:pt x="119923" y="86511"/>
                </a:lnTo>
                <a:lnTo>
                  <a:pt x="129902" y="89848"/>
                </a:lnTo>
                <a:lnTo>
                  <a:pt x="139940" y="92918"/>
                </a:lnTo>
                <a:lnTo>
                  <a:pt x="149174" y="96659"/>
                </a:lnTo>
                <a:lnTo>
                  <a:pt x="157869" y="100846"/>
                </a:lnTo>
                <a:lnTo>
                  <a:pt x="166205" y="105331"/>
                </a:lnTo>
                <a:lnTo>
                  <a:pt x="173457" y="110014"/>
                </a:lnTo>
                <a:lnTo>
                  <a:pt x="179984" y="114829"/>
                </a:lnTo>
                <a:lnTo>
                  <a:pt x="186029" y="119733"/>
                </a:lnTo>
                <a:lnTo>
                  <a:pt x="190906" y="123849"/>
                </a:lnTo>
                <a:lnTo>
                  <a:pt x="195004" y="127439"/>
                </a:lnTo>
                <a:lnTo>
                  <a:pt x="198583" y="130679"/>
                </a:lnTo>
                <a:lnTo>
                  <a:pt x="200968" y="134533"/>
                </a:lnTo>
                <a:lnTo>
                  <a:pt x="202558" y="138795"/>
                </a:lnTo>
                <a:lnTo>
                  <a:pt x="203619" y="143330"/>
                </a:lnTo>
                <a:lnTo>
                  <a:pt x="203479" y="148047"/>
                </a:lnTo>
                <a:lnTo>
                  <a:pt x="202539" y="152885"/>
                </a:lnTo>
                <a:lnTo>
                  <a:pt x="201066" y="157803"/>
                </a:lnTo>
                <a:lnTo>
                  <a:pt x="199237" y="161929"/>
                </a:lnTo>
                <a:lnTo>
                  <a:pt x="197171" y="165526"/>
                </a:lnTo>
                <a:lnTo>
                  <a:pt x="194947" y="168771"/>
                </a:lnTo>
                <a:lnTo>
                  <a:pt x="191771" y="171781"/>
                </a:lnTo>
                <a:lnTo>
                  <a:pt x="187960" y="174634"/>
                </a:lnTo>
                <a:lnTo>
                  <a:pt x="183726" y="177383"/>
                </a:lnTo>
                <a:lnTo>
                  <a:pt x="179211" y="180061"/>
                </a:lnTo>
                <a:lnTo>
                  <a:pt x="174507" y="182695"/>
                </a:lnTo>
                <a:lnTo>
                  <a:pt x="164765" y="187878"/>
                </a:lnTo>
                <a:lnTo>
                  <a:pt x="154790" y="193003"/>
                </a:lnTo>
                <a:lnTo>
                  <a:pt x="148913" y="194709"/>
                </a:lnTo>
                <a:lnTo>
                  <a:pt x="142456" y="195846"/>
                </a:lnTo>
                <a:lnTo>
                  <a:pt x="135610" y="196604"/>
                </a:lnTo>
                <a:lnTo>
                  <a:pt x="129353" y="197109"/>
                </a:lnTo>
                <a:lnTo>
                  <a:pt x="123488" y="197446"/>
                </a:lnTo>
                <a:lnTo>
                  <a:pt x="112456" y="197821"/>
                </a:lnTo>
                <a:lnTo>
                  <a:pt x="101910" y="197987"/>
                </a:lnTo>
                <a:lnTo>
                  <a:pt x="96726" y="197184"/>
                </a:lnTo>
                <a:lnTo>
                  <a:pt x="91577" y="195803"/>
                </a:lnTo>
                <a:lnTo>
                  <a:pt x="67101" y="187502"/>
                </a:lnTo>
                <a:lnTo>
                  <a:pt x="60821" y="185115"/>
                </a:lnTo>
                <a:lnTo>
                  <a:pt x="54940" y="182677"/>
                </a:lnTo>
                <a:lnTo>
                  <a:pt x="49327" y="180204"/>
                </a:lnTo>
                <a:lnTo>
                  <a:pt x="38574" y="175200"/>
                </a:lnTo>
                <a:lnTo>
                  <a:pt x="33335" y="172680"/>
                </a:lnTo>
                <a:lnTo>
                  <a:pt x="28151" y="171000"/>
                </a:lnTo>
                <a:lnTo>
                  <a:pt x="23000" y="169880"/>
                </a:lnTo>
                <a:lnTo>
                  <a:pt x="17873" y="169133"/>
                </a:lnTo>
                <a:lnTo>
                  <a:pt x="13608" y="167789"/>
                </a:lnTo>
                <a:lnTo>
                  <a:pt x="9919" y="166046"/>
                </a:lnTo>
                <a:lnTo>
                  <a:pt x="0" y="1600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80008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4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rder of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0" y="990720"/>
            <a:ext cx="784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Simplify each ex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5"/>
              <p:cNvSpPr txBox="1"/>
              <p:nvPr/>
            </p:nvSpPr>
            <p:spPr>
              <a:xfrm>
                <a:off x="1190520" y="1938240"/>
                <a:ext cx="216216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8" name="Text Box 7"/>
          <p:cNvSpPr/>
          <p:nvPr/>
        </p:nvSpPr>
        <p:spPr>
          <a:xfrm>
            <a:off x="304920" y="19810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304920" y="3843360"/>
            <a:ext cx="3103560" cy="541440"/>
            <a:chOff x="304920" y="3843360"/>
            <a:chExt cx="3103560" cy="541440"/>
          </a:xfrm>
        </p:grpSpPr>
        <mc:AlternateContent>
          <mc:Choice xmlns:a14="http://schemas.microsoft.com/office/drawing/2010/main" Requires="a14">
            <p:sp>
              <p:nvSpPr>
                <p:cNvPr id="290" name="Object 6"/>
                <p:cNvSpPr txBox="1"/>
                <p:nvPr/>
              </p:nvSpPr>
              <p:spPr>
                <a:xfrm>
                  <a:off x="1447920" y="3843360"/>
                  <a:ext cx="196056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⋅</m:t>
                      </m:r>
                      <m:r>
                        <m:t xml:space="preserve">5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6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÷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1" name="Text Box 8"/>
            <p:cNvSpPr/>
            <p:nvPr/>
          </p:nvSpPr>
          <p:spPr>
            <a:xfrm>
              <a:off x="304920" y="38862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alibri"/>
                </a:rPr>
                <a:t>Ex10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SMARTInkAnnotation177"/>
          <p:cNvSpPr/>
          <p:nvPr/>
        </p:nvSpPr>
        <p:spPr>
          <a:xfrm>
            <a:off x="1265400" y="2516040"/>
            <a:ext cx="355320" cy="324000"/>
          </a:xfrm>
          <a:custGeom>
            <a:avLst/>
            <a:gdLst>
              <a:gd name="textAreaLeft" fmla="*/ 0 w 355320"/>
              <a:gd name="textAreaRight" fmla="*/ 355680 w 35532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355490" h="324611">
                <a:moveTo>
                  <a:pt x="7527" y="59455"/>
                </a:moveTo>
                <a:lnTo>
                  <a:pt x="221" y="59455"/>
                </a:lnTo>
                <a:lnTo>
                  <a:pt x="0" y="55410"/>
                </a:lnTo>
                <a:lnTo>
                  <a:pt x="816" y="54218"/>
                </a:lnTo>
                <a:lnTo>
                  <a:pt x="2206" y="53424"/>
                </a:lnTo>
                <a:lnTo>
                  <a:pt x="3980" y="52894"/>
                </a:lnTo>
                <a:lnTo>
                  <a:pt x="8209" y="50048"/>
                </a:lnTo>
                <a:lnTo>
                  <a:pt x="10521" y="48104"/>
                </a:lnTo>
                <a:lnTo>
                  <a:pt x="19864" y="43686"/>
                </a:lnTo>
                <a:lnTo>
                  <a:pt x="25912" y="41322"/>
                </a:lnTo>
                <a:lnTo>
                  <a:pt x="39405" y="36438"/>
                </a:lnTo>
                <a:lnTo>
                  <a:pt x="46559" y="33951"/>
                </a:lnTo>
                <a:lnTo>
                  <a:pt x="54715" y="31445"/>
                </a:lnTo>
                <a:lnTo>
                  <a:pt x="72809" y="26404"/>
                </a:lnTo>
                <a:lnTo>
                  <a:pt x="84068" y="23874"/>
                </a:lnTo>
                <a:lnTo>
                  <a:pt x="122492" y="16269"/>
                </a:lnTo>
                <a:lnTo>
                  <a:pt x="181171" y="3574"/>
                </a:lnTo>
                <a:lnTo>
                  <a:pt x="192716" y="1881"/>
                </a:lnTo>
                <a:lnTo>
                  <a:pt x="203800" y="753"/>
                </a:lnTo>
                <a:lnTo>
                  <a:pt x="214576" y="0"/>
                </a:lnTo>
                <a:lnTo>
                  <a:pt x="224299" y="345"/>
                </a:lnTo>
                <a:lnTo>
                  <a:pt x="233322" y="1422"/>
                </a:lnTo>
                <a:lnTo>
                  <a:pt x="241877" y="2986"/>
                </a:lnTo>
                <a:lnTo>
                  <a:pt x="249274" y="4029"/>
                </a:lnTo>
                <a:lnTo>
                  <a:pt x="255898" y="4724"/>
                </a:lnTo>
                <a:lnTo>
                  <a:pt x="262008" y="5188"/>
                </a:lnTo>
                <a:lnTo>
                  <a:pt x="267774" y="6344"/>
                </a:lnTo>
                <a:lnTo>
                  <a:pt x="278697" y="9886"/>
                </a:lnTo>
                <a:lnTo>
                  <a:pt x="281440" y="12862"/>
                </a:lnTo>
                <a:lnTo>
                  <a:pt x="282423" y="16540"/>
                </a:lnTo>
                <a:lnTo>
                  <a:pt x="282231" y="20685"/>
                </a:lnTo>
                <a:lnTo>
                  <a:pt x="280410" y="25142"/>
                </a:lnTo>
                <a:lnTo>
                  <a:pt x="273870" y="34609"/>
                </a:lnTo>
                <a:lnTo>
                  <a:pt x="263062" y="44461"/>
                </a:lnTo>
                <a:lnTo>
                  <a:pt x="231382" y="68629"/>
                </a:lnTo>
                <a:lnTo>
                  <a:pt x="221110" y="75731"/>
                </a:lnTo>
                <a:lnTo>
                  <a:pt x="210029" y="83006"/>
                </a:lnTo>
                <a:lnTo>
                  <a:pt x="198409" y="90395"/>
                </a:lnTo>
                <a:lnTo>
                  <a:pt x="187275" y="97015"/>
                </a:lnTo>
                <a:lnTo>
                  <a:pt x="176465" y="103122"/>
                </a:lnTo>
                <a:lnTo>
                  <a:pt x="165873" y="108886"/>
                </a:lnTo>
                <a:lnTo>
                  <a:pt x="156271" y="114423"/>
                </a:lnTo>
                <a:lnTo>
                  <a:pt x="138829" y="125089"/>
                </a:lnTo>
                <a:lnTo>
                  <a:pt x="131468" y="130305"/>
                </a:lnTo>
                <a:lnTo>
                  <a:pt x="124868" y="135475"/>
                </a:lnTo>
                <a:lnTo>
                  <a:pt x="114712" y="144888"/>
                </a:lnTo>
                <a:lnTo>
                  <a:pt x="110198" y="151894"/>
                </a:lnTo>
                <a:lnTo>
                  <a:pt x="108192" y="157830"/>
                </a:lnTo>
                <a:lnTo>
                  <a:pt x="107657" y="160598"/>
                </a:lnTo>
                <a:lnTo>
                  <a:pt x="108994" y="162444"/>
                </a:lnTo>
                <a:lnTo>
                  <a:pt x="111578" y="163674"/>
                </a:lnTo>
                <a:lnTo>
                  <a:pt x="119812" y="165888"/>
                </a:lnTo>
                <a:lnTo>
                  <a:pt x="131938" y="169694"/>
                </a:lnTo>
                <a:lnTo>
                  <a:pt x="140421" y="171048"/>
                </a:lnTo>
                <a:lnTo>
                  <a:pt x="150310" y="171950"/>
                </a:lnTo>
                <a:lnTo>
                  <a:pt x="161136" y="172552"/>
                </a:lnTo>
                <a:lnTo>
                  <a:pt x="184453" y="173220"/>
                </a:lnTo>
                <a:lnTo>
                  <a:pt x="196598" y="173399"/>
                </a:lnTo>
                <a:lnTo>
                  <a:pt x="208928" y="174364"/>
                </a:lnTo>
                <a:lnTo>
                  <a:pt x="221381" y="175854"/>
                </a:lnTo>
                <a:lnTo>
                  <a:pt x="233916" y="177695"/>
                </a:lnTo>
                <a:lnTo>
                  <a:pt x="246507" y="180615"/>
                </a:lnTo>
                <a:lnTo>
                  <a:pt x="259134" y="184255"/>
                </a:lnTo>
                <a:lnTo>
                  <a:pt x="271785" y="188375"/>
                </a:lnTo>
                <a:lnTo>
                  <a:pt x="283605" y="192815"/>
                </a:lnTo>
                <a:lnTo>
                  <a:pt x="294873" y="197468"/>
                </a:lnTo>
                <a:lnTo>
                  <a:pt x="305771" y="202264"/>
                </a:lnTo>
                <a:lnTo>
                  <a:pt x="315576" y="206308"/>
                </a:lnTo>
                <a:lnTo>
                  <a:pt x="324653" y="209850"/>
                </a:lnTo>
                <a:lnTo>
                  <a:pt x="333245" y="213058"/>
                </a:lnTo>
                <a:lnTo>
                  <a:pt x="339819" y="217737"/>
                </a:lnTo>
                <a:lnTo>
                  <a:pt x="345048" y="223396"/>
                </a:lnTo>
                <a:lnTo>
                  <a:pt x="349381" y="229709"/>
                </a:lnTo>
                <a:lnTo>
                  <a:pt x="352270" y="235611"/>
                </a:lnTo>
                <a:lnTo>
                  <a:pt x="354196" y="241239"/>
                </a:lnTo>
                <a:lnTo>
                  <a:pt x="355479" y="246684"/>
                </a:lnTo>
                <a:lnTo>
                  <a:pt x="355489" y="252008"/>
                </a:lnTo>
                <a:lnTo>
                  <a:pt x="354648" y="257250"/>
                </a:lnTo>
                <a:lnTo>
                  <a:pt x="353241" y="262438"/>
                </a:lnTo>
                <a:lnTo>
                  <a:pt x="349763" y="267591"/>
                </a:lnTo>
                <a:lnTo>
                  <a:pt x="344905" y="272719"/>
                </a:lnTo>
                <a:lnTo>
                  <a:pt x="339125" y="277831"/>
                </a:lnTo>
                <a:lnTo>
                  <a:pt x="332733" y="282932"/>
                </a:lnTo>
                <a:lnTo>
                  <a:pt x="325931" y="288026"/>
                </a:lnTo>
                <a:lnTo>
                  <a:pt x="318857" y="293116"/>
                </a:lnTo>
                <a:lnTo>
                  <a:pt x="310753" y="297356"/>
                </a:lnTo>
                <a:lnTo>
                  <a:pt x="301965" y="301028"/>
                </a:lnTo>
                <a:lnTo>
                  <a:pt x="292719" y="304324"/>
                </a:lnTo>
                <a:lnTo>
                  <a:pt x="283168" y="307368"/>
                </a:lnTo>
                <a:lnTo>
                  <a:pt x="273415" y="310243"/>
                </a:lnTo>
                <a:lnTo>
                  <a:pt x="263526" y="313007"/>
                </a:lnTo>
                <a:lnTo>
                  <a:pt x="251853" y="315697"/>
                </a:lnTo>
                <a:lnTo>
                  <a:pt x="225336" y="320942"/>
                </a:lnTo>
                <a:lnTo>
                  <a:pt x="212847" y="322680"/>
                </a:lnTo>
                <a:lnTo>
                  <a:pt x="201133" y="323838"/>
                </a:lnTo>
                <a:lnTo>
                  <a:pt x="189938" y="324610"/>
                </a:lnTo>
                <a:lnTo>
                  <a:pt x="179088" y="324279"/>
                </a:lnTo>
                <a:lnTo>
                  <a:pt x="168468" y="323211"/>
                </a:lnTo>
                <a:lnTo>
                  <a:pt x="158001" y="321652"/>
                </a:lnTo>
                <a:lnTo>
                  <a:pt x="147636" y="320613"/>
                </a:lnTo>
                <a:lnTo>
                  <a:pt x="137340" y="319920"/>
                </a:lnTo>
                <a:lnTo>
                  <a:pt x="127089" y="319459"/>
                </a:lnTo>
                <a:lnTo>
                  <a:pt x="118562" y="317457"/>
                </a:lnTo>
                <a:lnTo>
                  <a:pt x="111183" y="314430"/>
                </a:lnTo>
                <a:lnTo>
                  <a:pt x="98470" y="307397"/>
                </a:lnTo>
                <a:lnTo>
                  <a:pt x="87175" y="301449"/>
                </a:lnTo>
                <a:lnTo>
                  <a:pt x="78768" y="295984"/>
                </a:lnTo>
                <a:lnTo>
                  <a:pt x="75341" y="293341"/>
                </a:lnTo>
                <a:lnTo>
                  <a:pt x="73056" y="290732"/>
                </a:lnTo>
                <a:lnTo>
                  <a:pt x="71533" y="288147"/>
                </a:lnTo>
                <a:lnTo>
                  <a:pt x="68487" y="2804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MARTInkAnnotation178"/>
          <p:cNvSpPr/>
          <p:nvPr/>
        </p:nvSpPr>
        <p:spPr>
          <a:xfrm>
            <a:off x="1668600" y="2544840"/>
            <a:ext cx="282600" cy="296640"/>
          </a:xfrm>
          <a:custGeom>
            <a:avLst/>
            <a:gdLst>
              <a:gd name="textAreaLeft" fmla="*/ 0 w 282600"/>
              <a:gd name="textAreaRight" fmla="*/ 282960 w 2826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281743" h="297153">
                <a:moveTo>
                  <a:pt x="37902" y="7592"/>
                </a:moveTo>
                <a:lnTo>
                  <a:pt x="37902" y="0"/>
                </a:lnTo>
                <a:lnTo>
                  <a:pt x="37902" y="4026"/>
                </a:lnTo>
                <a:lnTo>
                  <a:pt x="37055" y="6061"/>
                </a:lnTo>
                <a:lnTo>
                  <a:pt x="31819" y="13818"/>
                </a:lnTo>
                <a:lnTo>
                  <a:pt x="27296" y="21930"/>
                </a:lnTo>
                <a:lnTo>
                  <a:pt x="24905" y="27311"/>
                </a:lnTo>
                <a:lnTo>
                  <a:pt x="22464" y="33438"/>
                </a:lnTo>
                <a:lnTo>
                  <a:pt x="19990" y="40063"/>
                </a:lnTo>
                <a:lnTo>
                  <a:pt x="18341" y="47019"/>
                </a:lnTo>
                <a:lnTo>
                  <a:pt x="17241" y="54197"/>
                </a:lnTo>
                <a:lnTo>
                  <a:pt x="16508" y="61522"/>
                </a:lnTo>
                <a:lnTo>
                  <a:pt x="14326" y="68945"/>
                </a:lnTo>
                <a:lnTo>
                  <a:pt x="11178" y="76434"/>
                </a:lnTo>
                <a:lnTo>
                  <a:pt x="7386" y="83967"/>
                </a:lnTo>
                <a:lnTo>
                  <a:pt x="4858" y="92375"/>
                </a:lnTo>
                <a:lnTo>
                  <a:pt x="3173" y="101368"/>
                </a:lnTo>
                <a:lnTo>
                  <a:pt x="2049" y="110749"/>
                </a:lnTo>
                <a:lnTo>
                  <a:pt x="1300" y="120390"/>
                </a:lnTo>
                <a:lnTo>
                  <a:pt x="801" y="130204"/>
                </a:lnTo>
                <a:lnTo>
                  <a:pt x="246" y="150140"/>
                </a:lnTo>
                <a:lnTo>
                  <a:pt x="0" y="170289"/>
                </a:lnTo>
                <a:lnTo>
                  <a:pt x="781" y="179557"/>
                </a:lnTo>
                <a:lnTo>
                  <a:pt x="2148" y="188275"/>
                </a:lnTo>
                <a:lnTo>
                  <a:pt x="3906" y="196627"/>
                </a:lnTo>
                <a:lnTo>
                  <a:pt x="6771" y="204736"/>
                </a:lnTo>
                <a:lnTo>
                  <a:pt x="10375" y="212681"/>
                </a:lnTo>
                <a:lnTo>
                  <a:pt x="14471" y="220518"/>
                </a:lnTo>
                <a:lnTo>
                  <a:pt x="19741" y="227436"/>
                </a:lnTo>
                <a:lnTo>
                  <a:pt x="25795" y="233741"/>
                </a:lnTo>
                <a:lnTo>
                  <a:pt x="32371" y="239638"/>
                </a:lnTo>
                <a:lnTo>
                  <a:pt x="39294" y="244416"/>
                </a:lnTo>
                <a:lnTo>
                  <a:pt x="46450" y="248448"/>
                </a:lnTo>
                <a:lnTo>
                  <a:pt x="53761" y="251983"/>
                </a:lnTo>
                <a:lnTo>
                  <a:pt x="62021" y="254339"/>
                </a:lnTo>
                <a:lnTo>
                  <a:pt x="70915" y="255910"/>
                </a:lnTo>
                <a:lnTo>
                  <a:pt x="80231" y="256958"/>
                </a:lnTo>
                <a:lnTo>
                  <a:pt x="88981" y="257656"/>
                </a:lnTo>
                <a:lnTo>
                  <a:pt x="97355" y="258121"/>
                </a:lnTo>
                <a:lnTo>
                  <a:pt x="105477" y="258432"/>
                </a:lnTo>
                <a:lnTo>
                  <a:pt x="114279" y="256945"/>
                </a:lnTo>
                <a:lnTo>
                  <a:pt x="123533" y="254261"/>
                </a:lnTo>
                <a:lnTo>
                  <a:pt x="150481" y="244650"/>
                </a:lnTo>
                <a:lnTo>
                  <a:pt x="158675" y="241831"/>
                </a:lnTo>
                <a:lnTo>
                  <a:pt x="165830" y="237411"/>
                </a:lnTo>
                <a:lnTo>
                  <a:pt x="172294" y="231925"/>
                </a:lnTo>
                <a:lnTo>
                  <a:pt x="190790" y="212960"/>
                </a:lnTo>
                <a:lnTo>
                  <a:pt x="197010" y="204418"/>
                </a:lnTo>
                <a:lnTo>
                  <a:pt x="199854" y="199769"/>
                </a:lnTo>
                <a:lnTo>
                  <a:pt x="200904" y="194977"/>
                </a:lnTo>
                <a:lnTo>
                  <a:pt x="200757" y="190089"/>
                </a:lnTo>
                <a:lnTo>
                  <a:pt x="199812" y="185136"/>
                </a:lnTo>
                <a:lnTo>
                  <a:pt x="196504" y="177376"/>
                </a:lnTo>
                <a:lnTo>
                  <a:pt x="189882" y="168247"/>
                </a:lnTo>
                <a:lnTo>
                  <a:pt x="187482" y="165495"/>
                </a:lnTo>
                <a:lnTo>
                  <a:pt x="184189" y="164508"/>
                </a:lnTo>
                <a:lnTo>
                  <a:pt x="180300" y="164696"/>
                </a:lnTo>
                <a:lnTo>
                  <a:pt x="176014" y="165668"/>
                </a:lnTo>
                <a:lnTo>
                  <a:pt x="171463" y="167163"/>
                </a:lnTo>
                <a:lnTo>
                  <a:pt x="166736" y="169006"/>
                </a:lnTo>
                <a:lnTo>
                  <a:pt x="161892" y="171081"/>
                </a:lnTo>
                <a:lnTo>
                  <a:pt x="151993" y="175645"/>
                </a:lnTo>
                <a:lnTo>
                  <a:pt x="146983" y="178047"/>
                </a:lnTo>
                <a:lnTo>
                  <a:pt x="142796" y="181343"/>
                </a:lnTo>
                <a:lnTo>
                  <a:pt x="135886" y="189519"/>
                </a:lnTo>
                <a:lnTo>
                  <a:pt x="133705" y="194070"/>
                </a:lnTo>
                <a:lnTo>
                  <a:pt x="132251" y="198797"/>
                </a:lnTo>
                <a:lnTo>
                  <a:pt x="131281" y="203642"/>
                </a:lnTo>
                <a:lnTo>
                  <a:pt x="130635" y="208566"/>
                </a:lnTo>
                <a:lnTo>
                  <a:pt x="130204" y="213541"/>
                </a:lnTo>
                <a:lnTo>
                  <a:pt x="129917" y="218551"/>
                </a:lnTo>
                <a:lnTo>
                  <a:pt x="131419" y="224432"/>
                </a:lnTo>
                <a:lnTo>
                  <a:pt x="134113" y="230892"/>
                </a:lnTo>
                <a:lnTo>
                  <a:pt x="137603" y="237738"/>
                </a:lnTo>
                <a:lnTo>
                  <a:pt x="142469" y="243150"/>
                </a:lnTo>
                <a:lnTo>
                  <a:pt x="148254" y="247604"/>
                </a:lnTo>
                <a:lnTo>
                  <a:pt x="154650" y="251420"/>
                </a:lnTo>
                <a:lnTo>
                  <a:pt x="162301" y="255657"/>
                </a:lnTo>
                <a:lnTo>
                  <a:pt x="179832" y="264881"/>
                </a:lnTo>
                <a:lnTo>
                  <a:pt x="189249" y="268865"/>
                </a:lnTo>
                <a:lnTo>
                  <a:pt x="198913" y="272367"/>
                </a:lnTo>
                <a:lnTo>
                  <a:pt x="208743" y="275549"/>
                </a:lnTo>
                <a:lnTo>
                  <a:pt x="219529" y="278517"/>
                </a:lnTo>
                <a:lnTo>
                  <a:pt x="230954" y="281342"/>
                </a:lnTo>
                <a:lnTo>
                  <a:pt x="242803" y="284072"/>
                </a:lnTo>
                <a:lnTo>
                  <a:pt x="252396" y="286739"/>
                </a:lnTo>
                <a:lnTo>
                  <a:pt x="260485" y="289363"/>
                </a:lnTo>
                <a:lnTo>
                  <a:pt x="281742" y="29715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MARTInkAnnotation179"/>
          <p:cNvSpPr/>
          <p:nvPr/>
        </p:nvSpPr>
        <p:spPr>
          <a:xfrm>
            <a:off x="1927080" y="2720880"/>
            <a:ext cx="214560" cy="6480"/>
          </a:xfrm>
          <a:custGeom>
            <a:avLst/>
            <a:gdLst>
              <a:gd name="textAreaLeft" fmla="*/ 0 w 214560"/>
              <a:gd name="textAreaRight" fmla="*/ 214920 w 2145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213361" h="7613">
                <a:moveTo>
                  <a:pt x="0" y="0"/>
                </a:moveTo>
                <a:lnTo>
                  <a:pt x="4045" y="4045"/>
                </a:lnTo>
                <a:lnTo>
                  <a:pt x="6084" y="5237"/>
                </a:lnTo>
                <a:lnTo>
                  <a:pt x="8289" y="6032"/>
                </a:lnTo>
                <a:lnTo>
                  <a:pt x="10606" y="6561"/>
                </a:lnTo>
                <a:lnTo>
                  <a:pt x="13844" y="6914"/>
                </a:lnTo>
                <a:lnTo>
                  <a:pt x="17696" y="7149"/>
                </a:lnTo>
                <a:lnTo>
                  <a:pt x="21957" y="7306"/>
                </a:lnTo>
                <a:lnTo>
                  <a:pt x="53131" y="7558"/>
                </a:lnTo>
                <a:lnTo>
                  <a:pt x="105952" y="7612"/>
                </a:lnTo>
                <a:lnTo>
                  <a:pt x="117202" y="6768"/>
                </a:lnTo>
                <a:lnTo>
                  <a:pt x="128088" y="5359"/>
                </a:lnTo>
                <a:lnTo>
                  <a:pt x="138732" y="3573"/>
                </a:lnTo>
                <a:lnTo>
                  <a:pt x="150061" y="2382"/>
                </a:lnTo>
                <a:lnTo>
                  <a:pt x="161848" y="1588"/>
                </a:lnTo>
                <a:lnTo>
                  <a:pt x="183693" y="706"/>
                </a:lnTo>
                <a:lnTo>
                  <a:pt x="21336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MARTInkAnnotation180"/>
          <p:cNvSpPr/>
          <p:nvPr/>
        </p:nvSpPr>
        <p:spPr>
          <a:xfrm>
            <a:off x="2193840" y="2575080"/>
            <a:ext cx="312840" cy="266400"/>
          </a:xfrm>
          <a:custGeom>
            <a:avLst/>
            <a:gdLst>
              <a:gd name="textAreaLeft" fmla="*/ 0 w 312840"/>
              <a:gd name="textAreaRight" fmla="*/ 313200 w 312840"/>
              <a:gd name="textAreaTop" fmla="*/ 0 h 266400"/>
              <a:gd name="textAreaBottom" fmla="*/ 266760 h 266400"/>
            </a:gdLst>
            <a:ahLst/>
            <a:rect l="textAreaLeft" t="textAreaTop" r="textAreaRight" b="textAreaBottom"/>
            <a:pathLst>
              <a:path w="311893" h="266693">
                <a:moveTo>
                  <a:pt x="0" y="22852"/>
                </a:moveTo>
                <a:lnTo>
                  <a:pt x="13122" y="22852"/>
                </a:lnTo>
                <a:lnTo>
                  <a:pt x="21072" y="20594"/>
                </a:lnTo>
                <a:lnTo>
                  <a:pt x="26748" y="18807"/>
                </a:lnTo>
                <a:lnTo>
                  <a:pt x="33072" y="17615"/>
                </a:lnTo>
                <a:lnTo>
                  <a:pt x="39828" y="16821"/>
                </a:lnTo>
                <a:lnTo>
                  <a:pt x="46872" y="16291"/>
                </a:lnTo>
                <a:lnTo>
                  <a:pt x="54955" y="15938"/>
                </a:lnTo>
                <a:lnTo>
                  <a:pt x="72967" y="15546"/>
                </a:lnTo>
                <a:lnTo>
                  <a:pt x="82511" y="14595"/>
                </a:lnTo>
                <a:lnTo>
                  <a:pt x="92261" y="13114"/>
                </a:lnTo>
                <a:lnTo>
                  <a:pt x="102147" y="11280"/>
                </a:lnTo>
                <a:lnTo>
                  <a:pt x="112125" y="10057"/>
                </a:lnTo>
                <a:lnTo>
                  <a:pt x="122163" y="9242"/>
                </a:lnTo>
                <a:lnTo>
                  <a:pt x="132242" y="8699"/>
                </a:lnTo>
                <a:lnTo>
                  <a:pt x="154730" y="8095"/>
                </a:lnTo>
                <a:lnTo>
                  <a:pt x="166653" y="7934"/>
                </a:lnTo>
                <a:lnTo>
                  <a:pt x="177989" y="6980"/>
                </a:lnTo>
                <a:lnTo>
                  <a:pt x="188933" y="5498"/>
                </a:lnTo>
                <a:lnTo>
                  <a:pt x="199615" y="3662"/>
                </a:lnTo>
                <a:lnTo>
                  <a:pt x="210124" y="2439"/>
                </a:lnTo>
                <a:lnTo>
                  <a:pt x="220516" y="1624"/>
                </a:lnTo>
                <a:lnTo>
                  <a:pt x="230831" y="1080"/>
                </a:lnTo>
                <a:lnTo>
                  <a:pt x="249065" y="475"/>
                </a:lnTo>
                <a:lnTo>
                  <a:pt x="287552" y="56"/>
                </a:lnTo>
                <a:lnTo>
                  <a:pt x="306407" y="0"/>
                </a:lnTo>
                <a:lnTo>
                  <a:pt x="308411" y="845"/>
                </a:lnTo>
                <a:lnTo>
                  <a:pt x="309748" y="2254"/>
                </a:lnTo>
                <a:lnTo>
                  <a:pt x="311892" y="6553"/>
                </a:lnTo>
                <a:lnTo>
                  <a:pt x="311222" y="7753"/>
                </a:lnTo>
                <a:lnTo>
                  <a:pt x="306233" y="14333"/>
                </a:lnTo>
                <a:lnTo>
                  <a:pt x="301768" y="22170"/>
                </a:lnTo>
                <a:lnTo>
                  <a:pt x="294704" y="29040"/>
                </a:lnTo>
                <a:lnTo>
                  <a:pt x="285920" y="35762"/>
                </a:lnTo>
                <a:lnTo>
                  <a:pt x="281206" y="39925"/>
                </a:lnTo>
                <a:lnTo>
                  <a:pt x="276371" y="44394"/>
                </a:lnTo>
                <a:lnTo>
                  <a:pt x="271454" y="49914"/>
                </a:lnTo>
                <a:lnTo>
                  <a:pt x="266483" y="56133"/>
                </a:lnTo>
                <a:lnTo>
                  <a:pt x="261475" y="62820"/>
                </a:lnTo>
                <a:lnTo>
                  <a:pt x="255597" y="68970"/>
                </a:lnTo>
                <a:lnTo>
                  <a:pt x="249138" y="74764"/>
                </a:lnTo>
                <a:lnTo>
                  <a:pt x="242292" y="80320"/>
                </a:lnTo>
                <a:lnTo>
                  <a:pt x="235188" y="85717"/>
                </a:lnTo>
                <a:lnTo>
                  <a:pt x="220522" y="96230"/>
                </a:lnTo>
                <a:lnTo>
                  <a:pt x="213901" y="102251"/>
                </a:lnTo>
                <a:lnTo>
                  <a:pt x="207794" y="108804"/>
                </a:lnTo>
                <a:lnTo>
                  <a:pt x="202030" y="115714"/>
                </a:lnTo>
                <a:lnTo>
                  <a:pt x="196493" y="122860"/>
                </a:lnTo>
                <a:lnTo>
                  <a:pt x="191109" y="130164"/>
                </a:lnTo>
                <a:lnTo>
                  <a:pt x="185826" y="137573"/>
                </a:lnTo>
                <a:lnTo>
                  <a:pt x="181457" y="144206"/>
                </a:lnTo>
                <a:lnTo>
                  <a:pt x="177698" y="150321"/>
                </a:lnTo>
                <a:lnTo>
                  <a:pt x="174346" y="156092"/>
                </a:lnTo>
                <a:lnTo>
                  <a:pt x="166105" y="169276"/>
                </a:lnTo>
                <a:lnTo>
                  <a:pt x="161537" y="176349"/>
                </a:lnTo>
                <a:lnTo>
                  <a:pt x="157645" y="182756"/>
                </a:lnTo>
                <a:lnTo>
                  <a:pt x="154203" y="188721"/>
                </a:lnTo>
                <a:lnTo>
                  <a:pt x="151062" y="194392"/>
                </a:lnTo>
                <a:lnTo>
                  <a:pt x="148121" y="200712"/>
                </a:lnTo>
                <a:lnTo>
                  <a:pt x="145315" y="207465"/>
                </a:lnTo>
                <a:lnTo>
                  <a:pt x="142596" y="214508"/>
                </a:lnTo>
                <a:lnTo>
                  <a:pt x="139938" y="220049"/>
                </a:lnTo>
                <a:lnTo>
                  <a:pt x="137319" y="224590"/>
                </a:lnTo>
                <a:lnTo>
                  <a:pt x="134726" y="228464"/>
                </a:lnTo>
                <a:lnTo>
                  <a:pt x="132997" y="232740"/>
                </a:lnTo>
                <a:lnTo>
                  <a:pt x="131845" y="237284"/>
                </a:lnTo>
                <a:lnTo>
                  <a:pt x="131077" y="242007"/>
                </a:lnTo>
                <a:lnTo>
                  <a:pt x="127965" y="249512"/>
                </a:lnTo>
                <a:lnTo>
                  <a:pt x="123760" y="255670"/>
                </a:lnTo>
                <a:lnTo>
                  <a:pt x="117480" y="263050"/>
                </a:lnTo>
                <a:lnTo>
                  <a:pt x="114300" y="26669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MARTInkAnnotation181"/>
          <p:cNvSpPr/>
          <p:nvPr/>
        </p:nvSpPr>
        <p:spPr>
          <a:xfrm>
            <a:off x="2232000" y="2720880"/>
            <a:ext cx="236520" cy="6480"/>
          </a:xfrm>
          <a:custGeom>
            <a:avLst/>
            <a:gdLst>
              <a:gd name="textAreaLeft" fmla="*/ 0 w 236520"/>
              <a:gd name="textAreaRight" fmla="*/ 236880 w 2365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236221" h="7621">
                <a:moveTo>
                  <a:pt x="0" y="7620"/>
                </a:moveTo>
                <a:lnTo>
                  <a:pt x="10606" y="7620"/>
                </a:lnTo>
                <a:lnTo>
                  <a:pt x="13844" y="6773"/>
                </a:lnTo>
                <a:lnTo>
                  <a:pt x="17696" y="5362"/>
                </a:lnTo>
                <a:lnTo>
                  <a:pt x="21957" y="3575"/>
                </a:lnTo>
                <a:lnTo>
                  <a:pt x="27338" y="2383"/>
                </a:lnTo>
                <a:lnTo>
                  <a:pt x="33466" y="1589"/>
                </a:lnTo>
                <a:lnTo>
                  <a:pt x="40090" y="1059"/>
                </a:lnTo>
                <a:lnTo>
                  <a:pt x="47894" y="706"/>
                </a:lnTo>
                <a:lnTo>
                  <a:pt x="65595" y="314"/>
                </a:lnTo>
                <a:lnTo>
                  <a:pt x="23622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MARTInkAnnotation182"/>
          <p:cNvSpPr/>
          <p:nvPr/>
        </p:nvSpPr>
        <p:spPr>
          <a:xfrm>
            <a:off x="2606760" y="2743200"/>
            <a:ext cx="22320" cy="360"/>
          </a:xfrm>
          <a:custGeom>
            <a:avLst/>
            <a:gdLst>
              <a:gd name="textAreaLeft" fmla="*/ 0 w 22320"/>
              <a:gd name="textAreaRight" fmla="*/ 22680 w 2232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2861" h="1">
                <a:moveTo>
                  <a:pt x="22860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MARTInkAnnotation183"/>
          <p:cNvSpPr/>
          <p:nvPr/>
        </p:nvSpPr>
        <p:spPr>
          <a:xfrm>
            <a:off x="2751120" y="2592360"/>
            <a:ext cx="285840" cy="243000"/>
          </a:xfrm>
          <a:custGeom>
            <a:avLst/>
            <a:gdLst>
              <a:gd name="textAreaLeft" fmla="*/ 0 w 285840"/>
              <a:gd name="textAreaRight" fmla="*/ 286200 w 28584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286465" h="242715">
                <a:moveTo>
                  <a:pt x="0" y="14153"/>
                </a:moveTo>
                <a:lnTo>
                  <a:pt x="13122" y="14153"/>
                </a:lnTo>
                <a:lnTo>
                  <a:pt x="18814" y="11896"/>
                </a:lnTo>
                <a:lnTo>
                  <a:pt x="22703" y="10108"/>
                </a:lnTo>
                <a:lnTo>
                  <a:pt x="31539" y="8122"/>
                </a:lnTo>
                <a:lnTo>
                  <a:pt x="36266" y="7593"/>
                </a:lnTo>
                <a:lnTo>
                  <a:pt x="42804" y="7239"/>
                </a:lnTo>
                <a:lnTo>
                  <a:pt x="59100" y="6847"/>
                </a:lnTo>
                <a:lnTo>
                  <a:pt x="67340" y="5896"/>
                </a:lnTo>
                <a:lnTo>
                  <a:pt x="75373" y="4415"/>
                </a:lnTo>
                <a:lnTo>
                  <a:pt x="83269" y="2581"/>
                </a:lnTo>
                <a:lnTo>
                  <a:pt x="91919" y="1358"/>
                </a:lnTo>
                <a:lnTo>
                  <a:pt x="101073" y="543"/>
                </a:lnTo>
                <a:lnTo>
                  <a:pt x="110562" y="0"/>
                </a:lnTo>
                <a:lnTo>
                  <a:pt x="120275" y="484"/>
                </a:lnTo>
                <a:lnTo>
                  <a:pt x="130137" y="1654"/>
                </a:lnTo>
                <a:lnTo>
                  <a:pt x="140098" y="3280"/>
                </a:lnTo>
                <a:lnTo>
                  <a:pt x="149279" y="4365"/>
                </a:lnTo>
                <a:lnTo>
                  <a:pt x="157939" y="5087"/>
                </a:lnTo>
                <a:lnTo>
                  <a:pt x="166253" y="5569"/>
                </a:lnTo>
                <a:lnTo>
                  <a:pt x="173489" y="6737"/>
                </a:lnTo>
                <a:lnTo>
                  <a:pt x="180006" y="8363"/>
                </a:lnTo>
                <a:lnTo>
                  <a:pt x="186044" y="10293"/>
                </a:lnTo>
                <a:lnTo>
                  <a:pt x="191763" y="11580"/>
                </a:lnTo>
                <a:lnTo>
                  <a:pt x="197269" y="12438"/>
                </a:lnTo>
                <a:lnTo>
                  <a:pt x="202632" y="13009"/>
                </a:lnTo>
                <a:lnTo>
                  <a:pt x="206208" y="14237"/>
                </a:lnTo>
                <a:lnTo>
                  <a:pt x="208592" y="15903"/>
                </a:lnTo>
                <a:lnTo>
                  <a:pt x="210181" y="17860"/>
                </a:lnTo>
                <a:lnTo>
                  <a:pt x="211241" y="20011"/>
                </a:lnTo>
                <a:lnTo>
                  <a:pt x="212418" y="24659"/>
                </a:lnTo>
                <a:lnTo>
                  <a:pt x="211885" y="27084"/>
                </a:lnTo>
                <a:lnTo>
                  <a:pt x="209036" y="32036"/>
                </a:lnTo>
                <a:lnTo>
                  <a:pt x="200431" y="37059"/>
                </a:lnTo>
                <a:lnTo>
                  <a:pt x="194581" y="39584"/>
                </a:lnTo>
                <a:lnTo>
                  <a:pt x="188141" y="42113"/>
                </a:lnTo>
                <a:lnTo>
                  <a:pt x="174211" y="47182"/>
                </a:lnTo>
                <a:lnTo>
                  <a:pt x="166094" y="49719"/>
                </a:lnTo>
                <a:lnTo>
                  <a:pt x="139336" y="57335"/>
                </a:lnTo>
                <a:lnTo>
                  <a:pt x="122887" y="62414"/>
                </a:lnTo>
                <a:lnTo>
                  <a:pt x="115791" y="64954"/>
                </a:lnTo>
                <a:lnTo>
                  <a:pt x="109368" y="67494"/>
                </a:lnTo>
                <a:lnTo>
                  <a:pt x="103392" y="70034"/>
                </a:lnTo>
                <a:lnTo>
                  <a:pt x="92237" y="75113"/>
                </a:lnTo>
                <a:lnTo>
                  <a:pt x="86891" y="77653"/>
                </a:lnTo>
                <a:lnTo>
                  <a:pt x="83327" y="80193"/>
                </a:lnTo>
                <a:lnTo>
                  <a:pt x="80951" y="82733"/>
                </a:lnTo>
                <a:lnTo>
                  <a:pt x="79368" y="85273"/>
                </a:lnTo>
                <a:lnTo>
                  <a:pt x="79158" y="86967"/>
                </a:lnTo>
                <a:lnTo>
                  <a:pt x="79866" y="88095"/>
                </a:lnTo>
                <a:lnTo>
                  <a:pt x="87164" y="91942"/>
                </a:lnTo>
                <a:lnTo>
                  <a:pt x="91130" y="93952"/>
                </a:lnTo>
                <a:lnTo>
                  <a:pt x="96313" y="96139"/>
                </a:lnTo>
                <a:lnTo>
                  <a:pt x="102309" y="98444"/>
                </a:lnTo>
                <a:lnTo>
                  <a:pt x="108846" y="100827"/>
                </a:lnTo>
                <a:lnTo>
                  <a:pt x="116591" y="103262"/>
                </a:lnTo>
                <a:lnTo>
                  <a:pt x="134227" y="108226"/>
                </a:lnTo>
                <a:lnTo>
                  <a:pt x="144518" y="110735"/>
                </a:lnTo>
                <a:lnTo>
                  <a:pt x="167241" y="115781"/>
                </a:lnTo>
                <a:lnTo>
                  <a:pt x="178381" y="119158"/>
                </a:lnTo>
                <a:lnTo>
                  <a:pt x="189194" y="123103"/>
                </a:lnTo>
                <a:lnTo>
                  <a:pt x="199789" y="127426"/>
                </a:lnTo>
                <a:lnTo>
                  <a:pt x="211086" y="131155"/>
                </a:lnTo>
                <a:lnTo>
                  <a:pt x="222850" y="134488"/>
                </a:lnTo>
                <a:lnTo>
                  <a:pt x="234927" y="137556"/>
                </a:lnTo>
                <a:lnTo>
                  <a:pt x="244672" y="141295"/>
                </a:lnTo>
                <a:lnTo>
                  <a:pt x="252861" y="145481"/>
                </a:lnTo>
                <a:lnTo>
                  <a:pt x="260014" y="149965"/>
                </a:lnTo>
                <a:lnTo>
                  <a:pt x="266476" y="154648"/>
                </a:lnTo>
                <a:lnTo>
                  <a:pt x="272477" y="159463"/>
                </a:lnTo>
                <a:lnTo>
                  <a:pt x="278171" y="164366"/>
                </a:lnTo>
                <a:lnTo>
                  <a:pt x="281968" y="168482"/>
                </a:lnTo>
                <a:lnTo>
                  <a:pt x="286186" y="175313"/>
                </a:lnTo>
                <a:lnTo>
                  <a:pt x="286464" y="179166"/>
                </a:lnTo>
                <a:lnTo>
                  <a:pt x="285802" y="183428"/>
                </a:lnTo>
                <a:lnTo>
                  <a:pt x="284515" y="187963"/>
                </a:lnTo>
                <a:lnTo>
                  <a:pt x="282810" y="192680"/>
                </a:lnTo>
                <a:lnTo>
                  <a:pt x="280827" y="197518"/>
                </a:lnTo>
                <a:lnTo>
                  <a:pt x="278658" y="202436"/>
                </a:lnTo>
                <a:lnTo>
                  <a:pt x="274672" y="206562"/>
                </a:lnTo>
                <a:lnTo>
                  <a:pt x="269474" y="210159"/>
                </a:lnTo>
                <a:lnTo>
                  <a:pt x="263469" y="213404"/>
                </a:lnTo>
                <a:lnTo>
                  <a:pt x="256926" y="216413"/>
                </a:lnTo>
                <a:lnTo>
                  <a:pt x="250024" y="219267"/>
                </a:lnTo>
                <a:lnTo>
                  <a:pt x="242883" y="222015"/>
                </a:lnTo>
                <a:lnTo>
                  <a:pt x="228175" y="227328"/>
                </a:lnTo>
                <a:lnTo>
                  <a:pt x="198036" y="237636"/>
                </a:lnTo>
                <a:lnTo>
                  <a:pt x="189597" y="239342"/>
                </a:lnTo>
                <a:lnTo>
                  <a:pt x="180585" y="240479"/>
                </a:lnTo>
                <a:lnTo>
                  <a:pt x="171190" y="241237"/>
                </a:lnTo>
                <a:lnTo>
                  <a:pt x="162387" y="241742"/>
                </a:lnTo>
                <a:lnTo>
                  <a:pt x="145832" y="242304"/>
                </a:lnTo>
                <a:lnTo>
                  <a:pt x="100788" y="242694"/>
                </a:lnTo>
                <a:lnTo>
                  <a:pt x="92592" y="242714"/>
                </a:lnTo>
                <a:lnTo>
                  <a:pt x="84588" y="241880"/>
                </a:lnTo>
                <a:lnTo>
                  <a:pt x="76712" y="240478"/>
                </a:lnTo>
                <a:lnTo>
                  <a:pt x="68921" y="238696"/>
                </a:lnTo>
                <a:lnTo>
                  <a:pt x="61187" y="236662"/>
                </a:lnTo>
                <a:lnTo>
                  <a:pt x="53492" y="234459"/>
                </a:lnTo>
                <a:lnTo>
                  <a:pt x="45821" y="232144"/>
                </a:lnTo>
                <a:lnTo>
                  <a:pt x="39861" y="229754"/>
                </a:lnTo>
                <a:lnTo>
                  <a:pt x="30980" y="224840"/>
                </a:lnTo>
                <a:lnTo>
                  <a:pt x="24211" y="219834"/>
                </a:lnTo>
                <a:lnTo>
                  <a:pt x="15240" y="21227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MARTInkAnnotation184"/>
          <p:cNvSpPr/>
          <p:nvPr/>
        </p:nvSpPr>
        <p:spPr>
          <a:xfrm>
            <a:off x="3284640" y="2612880"/>
            <a:ext cx="21960" cy="236520"/>
          </a:xfrm>
          <a:custGeom>
            <a:avLst/>
            <a:gdLst>
              <a:gd name="textAreaLeft" fmla="*/ 0 w 21960"/>
              <a:gd name="textAreaRight" fmla="*/ 22320 w 2196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2861" h="236221">
                <a:moveTo>
                  <a:pt x="22860" y="0"/>
                </a:moveTo>
                <a:lnTo>
                  <a:pt x="22860" y="10606"/>
                </a:lnTo>
                <a:lnTo>
                  <a:pt x="22013" y="12151"/>
                </a:lnTo>
                <a:lnTo>
                  <a:pt x="20602" y="13181"/>
                </a:lnTo>
                <a:lnTo>
                  <a:pt x="18815" y="13867"/>
                </a:lnTo>
                <a:lnTo>
                  <a:pt x="17623" y="16018"/>
                </a:lnTo>
                <a:lnTo>
                  <a:pt x="16829" y="19146"/>
                </a:lnTo>
                <a:lnTo>
                  <a:pt x="16299" y="22924"/>
                </a:lnTo>
                <a:lnTo>
                  <a:pt x="15099" y="27982"/>
                </a:lnTo>
                <a:lnTo>
                  <a:pt x="13453" y="33895"/>
                </a:lnTo>
                <a:lnTo>
                  <a:pt x="11509" y="40377"/>
                </a:lnTo>
                <a:lnTo>
                  <a:pt x="10212" y="46391"/>
                </a:lnTo>
                <a:lnTo>
                  <a:pt x="9348" y="52094"/>
                </a:lnTo>
                <a:lnTo>
                  <a:pt x="8772" y="57589"/>
                </a:lnTo>
                <a:lnTo>
                  <a:pt x="7541" y="63793"/>
                </a:lnTo>
                <a:lnTo>
                  <a:pt x="5874" y="70469"/>
                </a:lnTo>
                <a:lnTo>
                  <a:pt x="3916" y="77459"/>
                </a:lnTo>
                <a:lnTo>
                  <a:pt x="2610" y="85506"/>
                </a:lnTo>
                <a:lnTo>
                  <a:pt x="1740" y="94257"/>
                </a:lnTo>
                <a:lnTo>
                  <a:pt x="1160" y="103479"/>
                </a:lnTo>
                <a:lnTo>
                  <a:pt x="515" y="120497"/>
                </a:lnTo>
                <a:lnTo>
                  <a:pt x="102" y="148074"/>
                </a:lnTo>
                <a:lnTo>
                  <a:pt x="0" y="2362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MARTInkAnnotation185"/>
          <p:cNvSpPr/>
          <p:nvPr/>
        </p:nvSpPr>
        <p:spPr>
          <a:xfrm>
            <a:off x="3139920" y="2751120"/>
            <a:ext cx="297000" cy="7920"/>
          </a:xfrm>
          <a:custGeom>
            <a:avLst/>
            <a:gdLst>
              <a:gd name="textAreaLeft" fmla="*/ 0 w 297000"/>
              <a:gd name="textAreaRight" fmla="*/ 297360 w 2970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97181" h="7621">
                <a:moveTo>
                  <a:pt x="0" y="7620"/>
                </a:moveTo>
                <a:lnTo>
                  <a:pt x="204311" y="7620"/>
                </a:lnTo>
                <a:lnTo>
                  <a:pt x="216641" y="6774"/>
                </a:lnTo>
                <a:lnTo>
                  <a:pt x="229094" y="5362"/>
                </a:lnTo>
                <a:lnTo>
                  <a:pt x="241629" y="3575"/>
                </a:lnTo>
                <a:lnTo>
                  <a:pt x="251680" y="2383"/>
                </a:lnTo>
                <a:lnTo>
                  <a:pt x="260073" y="1589"/>
                </a:lnTo>
                <a:lnTo>
                  <a:pt x="267362" y="1059"/>
                </a:lnTo>
                <a:lnTo>
                  <a:pt x="273914" y="706"/>
                </a:lnTo>
                <a:lnTo>
                  <a:pt x="29718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MARTInkAnnotation186"/>
          <p:cNvSpPr/>
          <p:nvPr/>
        </p:nvSpPr>
        <p:spPr>
          <a:xfrm>
            <a:off x="3589200" y="2560680"/>
            <a:ext cx="38160" cy="297000"/>
          </a:xfrm>
          <a:custGeom>
            <a:avLst/>
            <a:gdLst>
              <a:gd name="textAreaLeft" fmla="*/ 0 w 38160"/>
              <a:gd name="textAreaRight" fmla="*/ 38520 w 3816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38101" h="297181">
                <a:moveTo>
                  <a:pt x="0" y="0"/>
                </a:moveTo>
                <a:lnTo>
                  <a:pt x="0" y="13122"/>
                </a:lnTo>
                <a:lnTo>
                  <a:pt x="847" y="16368"/>
                </a:lnTo>
                <a:lnTo>
                  <a:pt x="4045" y="26748"/>
                </a:lnTo>
                <a:lnTo>
                  <a:pt x="4390" y="33072"/>
                </a:lnTo>
                <a:lnTo>
                  <a:pt x="3773" y="39828"/>
                </a:lnTo>
                <a:lnTo>
                  <a:pt x="2516" y="46872"/>
                </a:lnTo>
                <a:lnTo>
                  <a:pt x="1677" y="54108"/>
                </a:lnTo>
                <a:lnTo>
                  <a:pt x="1118" y="61472"/>
                </a:lnTo>
                <a:lnTo>
                  <a:pt x="745" y="68922"/>
                </a:lnTo>
                <a:lnTo>
                  <a:pt x="331" y="86230"/>
                </a:lnTo>
                <a:lnTo>
                  <a:pt x="2" y="197779"/>
                </a:lnTo>
                <a:lnTo>
                  <a:pt x="848" y="205513"/>
                </a:lnTo>
                <a:lnTo>
                  <a:pt x="2258" y="213209"/>
                </a:lnTo>
                <a:lnTo>
                  <a:pt x="4046" y="220879"/>
                </a:lnTo>
                <a:lnTo>
                  <a:pt x="5237" y="228533"/>
                </a:lnTo>
                <a:lnTo>
                  <a:pt x="6031" y="236175"/>
                </a:lnTo>
                <a:lnTo>
                  <a:pt x="6561" y="243810"/>
                </a:lnTo>
                <a:lnTo>
                  <a:pt x="7760" y="250594"/>
                </a:lnTo>
                <a:lnTo>
                  <a:pt x="9407" y="256809"/>
                </a:lnTo>
                <a:lnTo>
                  <a:pt x="11351" y="262646"/>
                </a:lnTo>
                <a:lnTo>
                  <a:pt x="13495" y="267384"/>
                </a:lnTo>
                <a:lnTo>
                  <a:pt x="15770" y="271389"/>
                </a:lnTo>
                <a:lnTo>
                  <a:pt x="18133" y="274906"/>
                </a:lnTo>
                <a:lnTo>
                  <a:pt x="20555" y="278944"/>
                </a:lnTo>
                <a:lnTo>
                  <a:pt x="23017" y="283329"/>
                </a:lnTo>
                <a:lnTo>
                  <a:pt x="25505" y="287946"/>
                </a:lnTo>
                <a:lnTo>
                  <a:pt x="28010" y="291024"/>
                </a:lnTo>
                <a:lnTo>
                  <a:pt x="30526" y="293076"/>
                </a:lnTo>
                <a:lnTo>
                  <a:pt x="38100" y="2971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MARTInkAnnotation187"/>
          <p:cNvSpPr/>
          <p:nvPr/>
        </p:nvSpPr>
        <p:spPr>
          <a:xfrm>
            <a:off x="3801960" y="2576520"/>
            <a:ext cx="179640" cy="289080"/>
          </a:xfrm>
          <a:custGeom>
            <a:avLst/>
            <a:gdLst>
              <a:gd name="textAreaLeft" fmla="*/ 0 w 179640"/>
              <a:gd name="textAreaRight" fmla="*/ 180000 w 17964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78323" h="288502">
                <a:moveTo>
                  <a:pt x="0" y="6561"/>
                </a:moveTo>
                <a:lnTo>
                  <a:pt x="7306" y="6561"/>
                </a:lnTo>
                <a:lnTo>
                  <a:pt x="7592" y="0"/>
                </a:lnTo>
                <a:lnTo>
                  <a:pt x="7614" y="6080"/>
                </a:lnTo>
                <a:lnTo>
                  <a:pt x="7620" y="68020"/>
                </a:lnTo>
                <a:lnTo>
                  <a:pt x="6774" y="76320"/>
                </a:lnTo>
                <a:lnTo>
                  <a:pt x="5362" y="85241"/>
                </a:lnTo>
                <a:lnTo>
                  <a:pt x="3575" y="94574"/>
                </a:lnTo>
                <a:lnTo>
                  <a:pt x="2383" y="104183"/>
                </a:lnTo>
                <a:lnTo>
                  <a:pt x="1589" y="113976"/>
                </a:lnTo>
                <a:lnTo>
                  <a:pt x="1059" y="123891"/>
                </a:lnTo>
                <a:lnTo>
                  <a:pt x="470" y="143939"/>
                </a:lnTo>
                <a:lnTo>
                  <a:pt x="93" y="180359"/>
                </a:lnTo>
                <a:lnTo>
                  <a:pt x="909" y="189313"/>
                </a:lnTo>
                <a:lnTo>
                  <a:pt x="2299" y="198669"/>
                </a:lnTo>
                <a:lnTo>
                  <a:pt x="4073" y="208293"/>
                </a:lnTo>
                <a:lnTo>
                  <a:pt x="6102" y="217249"/>
                </a:lnTo>
                <a:lnTo>
                  <a:pt x="8301" y="225760"/>
                </a:lnTo>
                <a:lnTo>
                  <a:pt x="10614" y="233974"/>
                </a:lnTo>
                <a:lnTo>
                  <a:pt x="13003" y="241143"/>
                </a:lnTo>
                <a:lnTo>
                  <a:pt x="15442" y="247616"/>
                </a:lnTo>
                <a:lnTo>
                  <a:pt x="17914" y="253624"/>
                </a:lnTo>
                <a:lnTo>
                  <a:pt x="22103" y="259323"/>
                </a:lnTo>
                <a:lnTo>
                  <a:pt x="27435" y="264816"/>
                </a:lnTo>
                <a:lnTo>
                  <a:pt x="33530" y="270171"/>
                </a:lnTo>
                <a:lnTo>
                  <a:pt x="39287" y="274588"/>
                </a:lnTo>
                <a:lnTo>
                  <a:pt x="44818" y="278379"/>
                </a:lnTo>
                <a:lnTo>
                  <a:pt x="50199" y="281753"/>
                </a:lnTo>
                <a:lnTo>
                  <a:pt x="57172" y="284003"/>
                </a:lnTo>
                <a:lnTo>
                  <a:pt x="65208" y="285502"/>
                </a:lnTo>
                <a:lnTo>
                  <a:pt x="73952" y="286502"/>
                </a:lnTo>
                <a:lnTo>
                  <a:pt x="82321" y="287168"/>
                </a:lnTo>
                <a:lnTo>
                  <a:pt x="90441" y="287613"/>
                </a:lnTo>
                <a:lnTo>
                  <a:pt x="98394" y="287909"/>
                </a:lnTo>
                <a:lnTo>
                  <a:pt x="106236" y="287260"/>
                </a:lnTo>
                <a:lnTo>
                  <a:pt x="114004" y="285980"/>
                </a:lnTo>
                <a:lnTo>
                  <a:pt x="121723" y="284281"/>
                </a:lnTo>
                <a:lnTo>
                  <a:pt x="128561" y="280607"/>
                </a:lnTo>
                <a:lnTo>
                  <a:pt x="134814" y="275619"/>
                </a:lnTo>
                <a:lnTo>
                  <a:pt x="157017" y="253407"/>
                </a:lnTo>
                <a:lnTo>
                  <a:pt x="161405" y="248171"/>
                </a:lnTo>
                <a:lnTo>
                  <a:pt x="165177" y="242988"/>
                </a:lnTo>
                <a:lnTo>
                  <a:pt x="168537" y="237839"/>
                </a:lnTo>
                <a:lnTo>
                  <a:pt x="171625" y="232713"/>
                </a:lnTo>
                <a:lnTo>
                  <a:pt x="174530" y="227603"/>
                </a:lnTo>
                <a:lnTo>
                  <a:pt x="177314" y="222502"/>
                </a:lnTo>
                <a:lnTo>
                  <a:pt x="178322" y="216562"/>
                </a:lnTo>
                <a:lnTo>
                  <a:pt x="178148" y="210061"/>
                </a:lnTo>
                <a:lnTo>
                  <a:pt x="177185" y="203188"/>
                </a:lnTo>
                <a:lnTo>
                  <a:pt x="175696" y="197759"/>
                </a:lnTo>
                <a:lnTo>
                  <a:pt x="171786" y="189469"/>
                </a:lnTo>
                <a:lnTo>
                  <a:pt x="168710" y="185226"/>
                </a:lnTo>
                <a:lnTo>
                  <a:pt x="164967" y="180705"/>
                </a:lnTo>
                <a:lnTo>
                  <a:pt x="160778" y="175997"/>
                </a:lnTo>
                <a:lnTo>
                  <a:pt x="157138" y="172858"/>
                </a:lnTo>
                <a:lnTo>
                  <a:pt x="153866" y="170766"/>
                </a:lnTo>
                <a:lnTo>
                  <a:pt x="150836" y="169371"/>
                </a:lnTo>
                <a:lnTo>
                  <a:pt x="147125" y="168441"/>
                </a:lnTo>
                <a:lnTo>
                  <a:pt x="142956" y="167821"/>
                </a:lnTo>
                <a:lnTo>
                  <a:pt x="138484" y="167408"/>
                </a:lnTo>
                <a:lnTo>
                  <a:pt x="133809" y="167132"/>
                </a:lnTo>
                <a:lnTo>
                  <a:pt x="124100" y="166826"/>
                </a:lnTo>
                <a:lnTo>
                  <a:pt x="119140" y="167591"/>
                </a:lnTo>
                <a:lnTo>
                  <a:pt x="114140" y="168948"/>
                </a:lnTo>
                <a:lnTo>
                  <a:pt x="109113" y="170699"/>
                </a:lnTo>
                <a:lnTo>
                  <a:pt x="104915" y="173559"/>
                </a:lnTo>
                <a:lnTo>
                  <a:pt x="101270" y="177160"/>
                </a:lnTo>
                <a:lnTo>
                  <a:pt x="95809" y="184829"/>
                </a:lnTo>
                <a:lnTo>
                  <a:pt x="93382" y="191061"/>
                </a:lnTo>
                <a:lnTo>
                  <a:pt x="92303" y="198910"/>
                </a:lnTo>
                <a:lnTo>
                  <a:pt x="92015" y="203374"/>
                </a:lnTo>
                <a:lnTo>
                  <a:pt x="91824" y="208043"/>
                </a:lnTo>
                <a:lnTo>
                  <a:pt x="91610" y="217746"/>
                </a:lnTo>
                <a:lnTo>
                  <a:pt x="92400" y="222705"/>
                </a:lnTo>
                <a:lnTo>
                  <a:pt x="93774" y="227704"/>
                </a:lnTo>
                <a:lnTo>
                  <a:pt x="95536" y="232729"/>
                </a:lnTo>
                <a:lnTo>
                  <a:pt x="98404" y="237773"/>
                </a:lnTo>
                <a:lnTo>
                  <a:pt x="102009" y="242829"/>
                </a:lnTo>
                <a:lnTo>
                  <a:pt x="106106" y="247893"/>
                </a:lnTo>
                <a:lnTo>
                  <a:pt x="110531" y="252963"/>
                </a:lnTo>
                <a:lnTo>
                  <a:pt x="115174" y="258035"/>
                </a:lnTo>
                <a:lnTo>
                  <a:pt x="119962" y="263111"/>
                </a:lnTo>
                <a:lnTo>
                  <a:pt x="125695" y="267341"/>
                </a:lnTo>
                <a:lnTo>
                  <a:pt x="132057" y="271008"/>
                </a:lnTo>
                <a:lnTo>
                  <a:pt x="138838" y="274299"/>
                </a:lnTo>
                <a:lnTo>
                  <a:pt x="144205" y="277340"/>
                </a:lnTo>
                <a:lnTo>
                  <a:pt x="148630" y="280214"/>
                </a:lnTo>
                <a:lnTo>
                  <a:pt x="160020" y="28850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MARTInkAnnotation188"/>
          <p:cNvSpPr/>
          <p:nvPr/>
        </p:nvSpPr>
        <p:spPr>
          <a:xfrm>
            <a:off x="2873520" y="1936800"/>
            <a:ext cx="555480" cy="561960"/>
          </a:xfrm>
          <a:custGeom>
            <a:avLst/>
            <a:gdLst>
              <a:gd name="textAreaLeft" fmla="*/ 0 w 555480"/>
              <a:gd name="textAreaRight" fmla="*/ 555840 w 55548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555708" h="563290">
                <a:moveTo>
                  <a:pt x="0" y="563289"/>
                </a:moveTo>
                <a:lnTo>
                  <a:pt x="6561" y="563289"/>
                </a:lnTo>
                <a:lnTo>
                  <a:pt x="11352" y="559244"/>
                </a:lnTo>
                <a:lnTo>
                  <a:pt x="20286" y="557258"/>
                </a:lnTo>
                <a:lnTo>
                  <a:pt x="31876" y="555529"/>
                </a:lnTo>
                <a:lnTo>
                  <a:pt x="42672" y="551938"/>
                </a:lnTo>
                <a:lnTo>
                  <a:pt x="57630" y="549777"/>
                </a:lnTo>
                <a:lnTo>
                  <a:pt x="74720" y="547971"/>
                </a:lnTo>
                <a:lnTo>
                  <a:pt x="90783" y="544345"/>
                </a:lnTo>
                <a:lnTo>
                  <a:pt x="118151" y="537544"/>
                </a:lnTo>
                <a:lnTo>
                  <a:pt x="127874" y="535966"/>
                </a:lnTo>
                <a:lnTo>
                  <a:pt x="137743" y="534914"/>
                </a:lnTo>
                <a:lnTo>
                  <a:pt x="147709" y="534212"/>
                </a:lnTo>
                <a:lnTo>
                  <a:pt x="157739" y="532051"/>
                </a:lnTo>
                <a:lnTo>
                  <a:pt x="167813" y="528917"/>
                </a:lnTo>
                <a:lnTo>
                  <a:pt x="177915" y="525135"/>
                </a:lnTo>
                <a:lnTo>
                  <a:pt x="188037" y="521766"/>
                </a:lnTo>
                <a:lnTo>
                  <a:pt x="198172" y="518674"/>
                </a:lnTo>
                <a:lnTo>
                  <a:pt x="208315" y="515766"/>
                </a:lnTo>
                <a:lnTo>
                  <a:pt x="219310" y="512133"/>
                </a:lnTo>
                <a:lnTo>
                  <a:pt x="242816" y="503582"/>
                </a:lnTo>
                <a:lnTo>
                  <a:pt x="279849" y="489248"/>
                </a:lnTo>
                <a:lnTo>
                  <a:pt x="291553" y="484295"/>
                </a:lnTo>
                <a:lnTo>
                  <a:pt x="313588" y="474276"/>
                </a:lnTo>
                <a:lnTo>
                  <a:pt x="324206" y="468387"/>
                </a:lnTo>
                <a:lnTo>
                  <a:pt x="334671" y="461921"/>
                </a:lnTo>
                <a:lnTo>
                  <a:pt x="345034" y="455070"/>
                </a:lnTo>
                <a:lnTo>
                  <a:pt x="367837" y="440686"/>
                </a:lnTo>
                <a:lnTo>
                  <a:pt x="379845" y="433293"/>
                </a:lnTo>
                <a:lnTo>
                  <a:pt x="391237" y="425825"/>
                </a:lnTo>
                <a:lnTo>
                  <a:pt x="412925" y="410754"/>
                </a:lnTo>
                <a:lnTo>
                  <a:pt x="444176" y="387989"/>
                </a:lnTo>
                <a:lnTo>
                  <a:pt x="453597" y="379536"/>
                </a:lnTo>
                <a:lnTo>
                  <a:pt x="462419" y="370514"/>
                </a:lnTo>
                <a:lnTo>
                  <a:pt x="470839" y="361112"/>
                </a:lnTo>
                <a:lnTo>
                  <a:pt x="478993" y="351458"/>
                </a:lnTo>
                <a:lnTo>
                  <a:pt x="522065" y="297491"/>
                </a:lnTo>
                <a:lnTo>
                  <a:pt x="529230" y="286184"/>
                </a:lnTo>
                <a:lnTo>
                  <a:pt x="534853" y="275259"/>
                </a:lnTo>
                <a:lnTo>
                  <a:pt x="539449" y="264589"/>
                </a:lnTo>
                <a:lnTo>
                  <a:pt x="543360" y="253242"/>
                </a:lnTo>
                <a:lnTo>
                  <a:pt x="546813" y="241445"/>
                </a:lnTo>
                <a:lnTo>
                  <a:pt x="549962" y="229346"/>
                </a:lnTo>
                <a:lnTo>
                  <a:pt x="552061" y="217894"/>
                </a:lnTo>
                <a:lnTo>
                  <a:pt x="553461" y="206872"/>
                </a:lnTo>
                <a:lnTo>
                  <a:pt x="554395" y="196138"/>
                </a:lnTo>
                <a:lnTo>
                  <a:pt x="555016" y="185595"/>
                </a:lnTo>
                <a:lnTo>
                  <a:pt x="555707" y="164850"/>
                </a:lnTo>
                <a:lnTo>
                  <a:pt x="554198" y="154576"/>
                </a:lnTo>
                <a:lnTo>
                  <a:pt x="551499" y="144341"/>
                </a:lnTo>
                <a:lnTo>
                  <a:pt x="548006" y="134130"/>
                </a:lnTo>
                <a:lnTo>
                  <a:pt x="544831" y="123936"/>
                </a:lnTo>
                <a:lnTo>
                  <a:pt x="539045" y="103579"/>
                </a:lnTo>
                <a:lnTo>
                  <a:pt x="534624" y="94256"/>
                </a:lnTo>
                <a:lnTo>
                  <a:pt x="522937" y="77123"/>
                </a:lnTo>
                <a:lnTo>
                  <a:pt x="509276" y="61042"/>
                </a:lnTo>
                <a:lnTo>
                  <a:pt x="493892" y="46275"/>
                </a:lnTo>
                <a:lnTo>
                  <a:pt x="485048" y="39966"/>
                </a:lnTo>
                <a:lnTo>
                  <a:pt x="475766" y="34067"/>
                </a:lnTo>
                <a:lnTo>
                  <a:pt x="465344" y="28441"/>
                </a:lnTo>
                <a:lnTo>
                  <a:pt x="454162" y="22997"/>
                </a:lnTo>
                <a:lnTo>
                  <a:pt x="442475" y="17675"/>
                </a:lnTo>
                <a:lnTo>
                  <a:pt x="431297" y="13279"/>
                </a:lnTo>
                <a:lnTo>
                  <a:pt x="420458" y="9503"/>
                </a:lnTo>
                <a:lnTo>
                  <a:pt x="409845" y="6138"/>
                </a:lnTo>
                <a:lnTo>
                  <a:pt x="398537" y="3895"/>
                </a:lnTo>
                <a:lnTo>
                  <a:pt x="386765" y="2400"/>
                </a:lnTo>
                <a:lnTo>
                  <a:pt x="374683" y="1403"/>
                </a:lnTo>
                <a:lnTo>
                  <a:pt x="361549" y="738"/>
                </a:lnTo>
                <a:lnTo>
                  <a:pt x="333409" y="0"/>
                </a:lnTo>
                <a:lnTo>
                  <a:pt x="320486" y="650"/>
                </a:lnTo>
                <a:lnTo>
                  <a:pt x="308484" y="1930"/>
                </a:lnTo>
                <a:lnTo>
                  <a:pt x="297096" y="3629"/>
                </a:lnTo>
                <a:lnTo>
                  <a:pt x="284424" y="6456"/>
                </a:lnTo>
                <a:lnTo>
                  <a:pt x="270896" y="10034"/>
                </a:lnTo>
                <a:lnTo>
                  <a:pt x="256798" y="14112"/>
                </a:lnTo>
                <a:lnTo>
                  <a:pt x="243166" y="18525"/>
                </a:lnTo>
                <a:lnTo>
                  <a:pt x="229843" y="23159"/>
                </a:lnTo>
                <a:lnTo>
                  <a:pt x="216729" y="27943"/>
                </a:lnTo>
                <a:lnTo>
                  <a:pt x="203753" y="34518"/>
                </a:lnTo>
                <a:lnTo>
                  <a:pt x="190869" y="42288"/>
                </a:lnTo>
                <a:lnTo>
                  <a:pt x="178046" y="50855"/>
                </a:lnTo>
                <a:lnTo>
                  <a:pt x="152510" y="67147"/>
                </a:lnTo>
                <a:lnTo>
                  <a:pt x="139773" y="75048"/>
                </a:lnTo>
                <a:lnTo>
                  <a:pt x="128742" y="83702"/>
                </a:lnTo>
                <a:lnTo>
                  <a:pt x="118849" y="92857"/>
                </a:lnTo>
                <a:lnTo>
                  <a:pt x="109712" y="102348"/>
                </a:lnTo>
                <a:lnTo>
                  <a:pt x="100235" y="111215"/>
                </a:lnTo>
                <a:lnTo>
                  <a:pt x="90530" y="119667"/>
                </a:lnTo>
                <a:lnTo>
                  <a:pt x="80674" y="127841"/>
                </a:lnTo>
                <a:lnTo>
                  <a:pt x="71562" y="136677"/>
                </a:lnTo>
                <a:lnTo>
                  <a:pt x="62948" y="145954"/>
                </a:lnTo>
                <a:lnTo>
                  <a:pt x="54666" y="155526"/>
                </a:lnTo>
                <a:lnTo>
                  <a:pt x="47451" y="165294"/>
                </a:lnTo>
                <a:lnTo>
                  <a:pt x="40947" y="175192"/>
                </a:lnTo>
                <a:lnTo>
                  <a:pt x="34918" y="185178"/>
                </a:lnTo>
                <a:lnTo>
                  <a:pt x="30052" y="196068"/>
                </a:lnTo>
                <a:lnTo>
                  <a:pt x="25962" y="207562"/>
                </a:lnTo>
                <a:lnTo>
                  <a:pt x="19159" y="230775"/>
                </a:lnTo>
                <a:lnTo>
                  <a:pt x="13313" y="252381"/>
                </a:lnTo>
                <a:lnTo>
                  <a:pt x="11416" y="263730"/>
                </a:lnTo>
                <a:lnTo>
                  <a:pt x="10151" y="275530"/>
                </a:lnTo>
                <a:lnTo>
                  <a:pt x="9307" y="287630"/>
                </a:lnTo>
                <a:lnTo>
                  <a:pt x="8370" y="307847"/>
                </a:lnTo>
                <a:lnTo>
                  <a:pt x="8120" y="316795"/>
                </a:lnTo>
                <a:lnTo>
                  <a:pt x="8800" y="326146"/>
                </a:lnTo>
                <a:lnTo>
                  <a:pt x="10101" y="335767"/>
                </a:lnTo>
                <a:lnTo>
                  <a:pt x="11814" y="345568"/>
                </a:lnTo>
                <a:lnTo>
                  <a:pt x="14649" y="354642"/>
                </a:lnTo>
                <a:lnTo>
                  <a:pt x="22316" y="371497"/>
                </a:lnTo>
                <a:lnTo>
                  <a:pt x="31367" y="387455"/>
                </a:lnTo>
                <a:lnTo>
                  <a:pt x="41881" y="402167"/>
                </a:lnTo>
                <a:lnTo>
                  <a:pt x="55021" y="414351"/>
                </a:lnTo>
                <a:lnTo>
                  <a:pt x="69327" y="425410"/>
                </a:lnTo>
                <a:lnTo>
                  <a:pt x="84999" y="435970"/>
                </a:lnTo>
                <a:lnTo>
                  <a:pt x="93920" y="441156"/>
                </a:lnTo>
                <a:lnTo>
                  <a:pt x="103253" y="446307"/>
                </a:lnTo>
                <a:lnTo>
                  <a:pt x="113709" y="450588"/>
                </a:lnTo>
                <a:lnTo>
                  <a:pt x="124913" y="454289"/>
                </a:lnTo>
                <a:lnTo>
                  <a:pt x="147803" y="460658"/>
                </a:lnTo>
                <a:lnTo>
                  <a:pt x="169266" y="466311"/>
                </a:lnTo>
                <a:lnTo>
                  <a:pt x="181424" y="469004"/>
                </a:lnTo>
                <a:lnTo>
                  <a:pt x="208480" y="474253"/>
                </a:lnTo>
                <a:lnTo>
                  <a:pt x="220267" y="475992"/>
                </a:lnTo>
                <a:lnTo>
                  <a:pt x="230664" y="477151"/>
                </a:lnTo>
                <a:lnTo>
                  <a:pt x="240136" y="477924"/>
                </a:lnTo>
                <a:lnTo>
                  <a:pt x="257434" y="478782"/>
                </a:lnTo>
                <a:lnTo>
                  <a:pt x="281940" y="47946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MARTInkAnnotation189"/>
          <p:cNvSpPr/>
          <p:nvPr/>
        </p:nvSpPr>
        <p:spPr>
          <a:xfrm>
            <a:off x="2081160" y="2487600"/>
            <a:ext cx="1027080" cy="544680"/>
          </a:xfrm>
          <a:custGeom>
            <a:avLst/>
            <a:gdLst>
              <a:gd name="textAreaLeft" fmla="*/ 0 w 1027080"/>
              <a:gd name="textAreaRight" fmla="*/ 1027440 w 1027080"/>
              <a:gd name="textAreaTop" fmla="*/ 0 h 544680"/>
              <a:gd name="textAreaBottom" fmla="*/ 545040 h 544680"/>
            </a:gdLst>
            <a:ahLst/>
            <a:rect l="textAreaLeft" t="textAreaTop" r="textAreaRight" b="textAreaBottom"/>
            <a:pathLst>
              <a:path w="1026990" h="545385">
                <a:moveTo>
                  <a:pt x="82176" y="492044"/>
                </a:moveTo>
                <a:lnTo>
                  <a:pt x="86222" y="492044"/>
                </a:lnTo>
                <a:lnTo>
                  <a:pt x="88260" y="492891"/>
                </a:lnTo>
                <a:lnTo>
                  <a:pt x="96043" y="498605"/>
                </a:lnTo>
                <a:lnTo>
                  <a:pt x="122553" y="503616"/>
                </a:lnTo>
                <a:lnTo>
                  <a:pt x="152645" y="509059"/>
                </a:lnTo>
                <a:lnTo>
                  <a:pt x="176434" y="515430"/>
                </a:lnTo>
                <a:lnTo>
                  <a:pt x="202673" y="520422"/>
                </a:lnTo>
                <a:lnTo>
                  <a:pt x="226535" y="524159"/>
                </a:lnTo>
                <a:lnTo>
                  <a:pt x="242855" y="527484"/>
                </a:lnTo>
                <a:lnTo>
                  <a:pt x="271084" y="530203"/>
                </a:lnTo>
                <a:lnTo>
                  <a:pt x="300897" y="535147"/>
                </a:lnTo>
                <a:lnTo>
                  <a:pt x="331179" y="536989"/>
                </a:lnTo>
                <a:lnTo>
                  <a:pt x="361601" y="538381"/>
                </a:lnTo>
                <a:lnTo>
                  <a:pt x="392910" y="542933"/>
                </a:lnTo>
                <a:lnTo>
                  <a:pt x="416425" y="544295"/>
                </a:lnTo>
                <a:lnTo>
                  <a:pt x="440987" y="544900"/>
                </a:lnTo>
                <a:lnTo>
                  <a:pt x="666698" y="545384"/>
                </a:lnTo>
                <a:lnTo>
                  <a:pt x="691920" y="543126"/>
                </a:lnTo>
                <a:lnTo>
                  <a:pt x="716393" y="540147"/>
                </a:lnTo>
                <a:lnTo>
                  <a:pt x="738559" y="538823"/>
                </a:lnTo>
                <a:lnTo>
                  <a:pt x="770079" y="534033"/>
                </a:lnTo>
                <a:lnTo>
                  <a:pt x="800866" y="527251"/>
                </a:lnTo>
                <a:lnTo>
                  <a:pt x="831438" y="519880"/>
                </a:lnTo>
                <a:lnTo>
                  <a:pt x="857900" y="512333"/>
                </a:lnTo>
                <a:lnTo>
                  <a:pt x="889596" y="502198"/>
                </a:lnTo>
                <a:lnTo>
                  <a:pt x="927957" y="489503"/>
                </a:lnTo>
                <a:lnTo>
                  <a:pt x="940961" y="482166"/>
                </a:lnTo>
                <a:lnTo>
                  <a:pt x="963107" y="467703"/>
                </a:lnTo>
                <a:lnTo>
                  <a:pt x="978663" y="455293"/>
                </a:lnTo>
                <a:lnTo>
                  <a:pt x="989952" y="440891"/>
                </a:lnTo>
                <a:lnTo>
                  <a:pt x="1001351" y="426091"/>
                </a:lnTo>
                <a:lnTo>
                  <a:pt x="1010033" y="412577"/>
                </a:lnTo>
                <a:lnTo>
                  <a:pt x="1018361" y="402821"/>
                </a:lnTo>
                <a:lnTo>
                  <a:pt x="1021260" y="397849"/>
                </a:lnTo>
                <a:lnTo>
                  <a:pt x="1024480" y="387808"/>
                </a:lnTo>
                <a:lnTo>
                  <a:pt x="1026293" y="372636"/>
                </a:lnTo>
                <a:lnTo>
                  <a:pt x="1026830" y="357416"/>
                </a:lnTo>
                <a:lnTo>
                  <a:pt x="1026989" y="342182"/>
                </a:lnTo>
                <a:lnTo>
                  <a:pt x="1024769" y="332023"/>
                </a:lnTo>
                <a:lnTo>
                  <a:pt x="1018759" y="316784"/>
                </a:lnTo>
                <a:lnTo>
                  <a:pt x="1011616" y="301544"/>
                </a:lnTo>
                <a:lnTo>
                  <a:pt x="994025" y="265984"/>
                </a:lnTo>
                <a:lnTo>
                  <a:pt x="988951" y="253566"/>
                </a:lnTo>
                <a:lnTo>
                  <a:pt x="983027" y="240427"/>
                </a:lnTo>
                <a:lnTo>
                  <a:pt x="970172" y="223510"/>
                </a:lnTo>
                <a:lnTo>
                  <a:pt x="955639" y="208620"/>
                </a:lnTo>
                <a:lnTo>
                  <a:pt x="940608" y="196776"/>
                </a:lnTo>
                <a:lnTo>
                  <a:pt x="930497" y="184707"/>
                </a:lnTo>
                <a:lnTo>
                  <a:pt x="918101" y="175392"/>
                </a:lnTo>
                <a:lnTo>
                  <a:pt x="904972" y="167583"/>
                </a:lnTo>
                <a:lnTo>
                  <a:pt x="887214" y="153667"/>
                </a:lnTo>
                <a:lnTo>
                  <a:pt x="866241" y="138819"/>
                </a:lnTo>
                <a:lnTo>
                  <a:pt x="828832" y="113562"/>
                </a:lnTo>
                <a:lnTo>
                  <a:pt x="797589" y="98497"/>
                </a:lnTo>
                <a:lnTo>
                  <a:pt x="770353" y="84937"/>
                </a:lnTo>
                <a:lnTo>
                  <a:pt x="744974" y="71041"/>
                </a:lnTo>
                <a:lnTo>
                  <a:pt x="716382" y="61186"/>
                </a:lnTo>
                <a:lnTo>
                  <a:pt x="686461" y="52903"/>
                </a:lnTo>
                <a:lnTo>
                  <a:pt x="656146" y="44240"/>
                </a:lnTo>
                <a:lnTo>
                  <a:pt x="625716" y="33019"/>
                </a:lnTo>
                <a:lnTo>
                  <a:pt x="594404" y="28094"/>
                </a:lnTo>
                <a:lnTo>
                  <a:pt x="570889" y="23942"/>
                </a:lnTo>
                <a:lnTo>
                  <a:pt x="548584" y="19274"/>
                </a:lnTo>
                <a:lnTo>
                  <a:pt x="516987" y="11887"/>
                </a:lnTo>
                <a:lnTo>
                  <a:pt x="495559" y="7708"/>
                </a:lnTo>
                <a:lnTo>
                  <a:pt x="471924" y="5850"/>
                </a:lnTo>
                <a:lnTo>
                  <a:pt x="447309" y="5025"/>
                </a:lnTo>
                <a:lnTo>
                  <a:pt x="405103" y="4495"/>
                </a:lnTo>
                <a:lnTo>
                  <a:pt x="383744" y="2164"/>
                </a:lnTo>
                <a:lnTo>
                  <a:pt x="360140" y="0"/>
                </a:lnTo>
                <a:lnTo>
                  <a:pt x="335538" y="1860"/>
                </a:lnTo>
                <a:lnTo>
                  <a:pt x="305978" y="3622"/>
                </a:lnTo>
                <a:lnTo>
                  <a:pt x="277087" y="8190"/>
                </a:lnTo>
                <a:lnTo>
                  <a:pt x="243033" y="14905"/>
                </a:lnTo>
                <a:lnTo>
                  <a:pt x="214222" y="22257"/>
                </a:lnTo>
                <a:lnTo>
                  <a:pt x="176494" y="32326"/>
                </a:lnTo>
                <a:lnTo>
                  <a:pt x="150762" y="40778"/>
                </a:lnTo>
                <a:lnTo>
                  <a:pt x="123759" y="52783"/>
                </a:lnTo>
                <a:lnTo>
                  <a:pt x="96348" y="67111"/>
                </a:lnTo>
                <a:lnTo>
                  <a:pt x="70770" y="81952"/>
                </a:lnTo>
                <a:lnTo>
                  <a:pt x="54620" y="94428"/>
                </a:lnTo>
                <a:lnTo>
                  <a:pt x="39110" y="108849"/>
                </a:lnTo>
                <a:lnTo>
                  <a:pt x="27835" y="123846"/>
                </a:lnTo>
                <a:lnTo>
                  <a:pt x="21900" y="136207"/>
                </a:lnTo>
                <a:lnTo>
                  <a:pt x="16440" y="149321"/>
                </a:lnTo>
                <a:lnTo>
                  <a:pt x="11191" y="160794"/>
                </a:lnTo>
                <a:lnTo>
                  <a:pt x="8294" y="173795"/>
                </a:lnTo>
                <a:lnTo>
                  <a:pt x="6160" y="187193"/>
                </a:lnTo>
                <a:lnTo>
                  <a:pt x="2389" y="198793"/>
                </a:lnTo>
                <a:lnTo>
                  <a:pt x="149" y="211850"/>
                </a:lnTo>
                <a:lnTo>
                  <a:pt x="0" y="226120"/>
                </a:lnTo>
                <a:lnTo>
                  <a:pt x="3829" y="248434"/>
                </a:lnTo>
                <a:lnTo>
                  <a:pt x="5022" y="263547"/>
                </a:lnTo>
                <a:lnTo>
                  <a:pt x="7810" y="278730"/>
                </a:lnTo>
                <a:lnTo>
                  <a:pt x="11871" y="293098"/>
                </a:lnTo>
                <a:lnTo>
                  <a:pt x="23864" y="325466"/>
                </a:lnTo>
                <a:lnTo>
                  <a:pt x="31142" y="340116"/>
                </a:lnTo>
                <a:lnTo>
                  <a:pt x="40021" y="354247"/>
                </a:lnTo>
                <a:lnTo>
                  <a:pt x="49612" y="366172"/>
                </a:lnTo>
                <a:lnTo>
                  <a:pt x="61777" y="379374"/>
                </a:lnTo>
                <a:lnTo>
                  <a:pt x="75650" y="392862"/>
                </a:lnTo>
                <a:lnTo>
                  <a:pt x="90282" y="404501"/>
                </a:lnTo>
                <a:lnTo>
                  <a:pt x="112800" y="420573"/>
                </a:lnTo>
                <a:lnTo>
                  <a:pt x="135559" y="436060"/>
                </a:lnTo>
                <a:lnTo>
                  <a:pt x="162434" y="451373"/>
                </a:lnTo>
                <a:lnTo>
                  <a:pt x="191846" y="466635"/>
                </a:lnTo>
                <a:lnTo>
                  <a:pt x="222010" y="477836"/>
                </a:lnTo>
                <a:lnTo>
                  <a:pt x="252396" y="486517"/>
                </a:lnTo>
                <a:lnTo>
                  <a:pt x="292157" y="497036"/>
                </a:lnTo>
                <a:lnTo>
                  <a:pt x="317395" y="503871"/>
                </a:lnTo>
                <a:lnTo>
                  <a:pt x="348876" y="5072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MARTInkAnnotation190"/>
          <p:cNvSpPr/>
          <p:nvPr/>
        </p:nvSpPr>
        <p:spPr>
          <a:xfrm>
            <a:off x="1273320" y="3227400"/>
            <a:ext cx="328320" cy="299880"/>
          </a:xfrm>
          <a:custGeom>
            <a:avLst/>
            <a:gdLst>
              <a:gd name="textAreaLeft" fmla="*/ 0 w 328320"/>
              <a:gd name="textAreaRight" fmla="*/ 328680 w 32832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29697" h="301292">
                <a:moveTo>
                  <a:pt x="0" y="65213"/>
                </a:moveTo>
                <a:lnTo>
                  <a:pt x="0" y="61168"/>
                </a:lnTo>
                <a:lnTo>
                  <a:pt x="847" y="59976"/>
                </a:lnTo>
                <a:lnTo>
                  <a:pt x="2258" y="59182"/>
                </a:lnTo>
                <a:lnTo>
                  <a:pt x="9454" y="56956"/>
                </a:lnTo>
                <a:lnTo>
                  <a:pt x="19442" y="53641"/>
                </a:lnTo>
                <a:lnTo>
                  <a:pt x="24814" y="51572"/>
                </a:lnTo>
                <a:lnTo>
                  <a:pt x="30090" y="49346"/>
                </a:lnTo>
                <a:lnTo>
                  <a:pt x="35300" y="47015"/>
                </a:lnTo>
                <a:lnTo>
                  <a:pt x="42160" y="44614"/>
                </a:lnTo>
                <a:lnTo>
                  <a:pt x="50120" y="42167"/>
                </a:lnTo>
                <a:lnTo>
                  <a:pt x="58813" y="39689"/>
                </a:lnTo>
                <a:lnTo>
                  <a:pt x="67996" y="36344"/>
                </a:lnTo>
                <a:lnTo>
                  <a:pt x="77504" y="32420"/>
                </a:lnTo>
                <a:lnTo>
                  <a:pt x="87229" y="28111"/>
                </a:lnTo>
                <a:lnTo>
                  <a:pt x="97099" y="25238"/>
                </a:lnTo>
                <a:lnTo>
                  <a:pt x="107066" y="23323"/>
                </a:lnTo>
                <a:lnTo>
                  <a:pt x="117097" y="22047"/>
                </a:lnTo>
                <a:lnTo>
                  <a:pt x="127172" y="19502"/>
                </a:lnTo>
                <a:lnTo>
                  <a:pt x="137274" y="16112"/>
                </a:lnTo>
                <a:lnTo>
                  <a:pt x="147396" y="12159"/>
                </a:lnTo>
                <a:lnTo>
                  <a:pt x="157531" y="9524"/>
                </a:lnTo>
                <a:lnTo>
                  <a:pt x="167674" y="7767"/>
                </a:lnTo>
                <a:lnTo>
                  <a:pt x="177823" y="6595"/>
                </a:lnTo>
                <a:lnTo>
                  <a:pt x="187975" y="5815"/>
                </a:lnTo>
                <a:lnTo>
                  <a:pt x="198130" y="5294"/>
                </a:lnTo>
                <a:lnTo>
                  <a:pt x="208287" y="4947"/>
                </a:lnTo>
                <a:lnTo>
                  <a:pt x="217598" y="3869"/>
                </a:lnTo>
                <a:lnTo>
                  <a:pt x="226345" y="2304"/>
                </a:lnTo>
                <a:lnTo>
                  <a:pt x="234717" y="414"/>
                </a:lnTo>
                <a:lnTo>
                  <a:pt x="242838" y="0"/>
                </a:lnTo>
                <a:lnTo>
                  <a:pt x="250792" y="571"/>
                </a:lnTo>
                <a:lnTo>
                  <a:pt x="258635" y="1798"/>
                </a:lnTo>
                <a:lnTo>
                  <a:pt x="264710" y="2617"/>
                </a:lnTo>
                <a:lnTo>
                  <a:pt x="273718" y="3526"/>
                </a:lnTo>
                <a:lnTo>
                  <a:pt x="276459" y="4615"/>
                </a:lnTo>
                <a:lnTo>
                  <a:pt x="278286" y="6188"/>
                </a:lnTo>
                <a:lnTo>
                  <a:pt x="279504" y="8083"/>
                </a:lnTo>
                <a:lnTo>
                  <a:pt x="280857" y="12446"/>
                </a:lnTo>
                <a:lnTo>
                  <a:pt x="281218" y="14795"/>
                </a:lnTo>
                <a:lnTo>
                  <a:pt x="279765" y="17208"/>
                </a:lnTo>
                <a:lnTo>
                  <a:pt x="273636" y="22146"/>
                </a:lnTo>
                <a:lnTo>
                  <a:pt x="256620" y="33732"/>
                </a:lnTo>
                <a:lnTo>
                  <a:pt x="248973" y="37452"/>
                </a:lnTo>
                <a:lnTo>
                  <a:pt x="240489" y="40779"/>
                </a:lnTo>
                <a:lnTo>
                  <a:pt x="231446" y="43844"/>
                </a:lnTo>
                <a:lnTo>
                  <a:pt x="222031" y="47580"/>
                </a:lnTo>
                <a:lnTo>
                  <a:pt x="212367" y="51765"/>
                </a:lnTo>
                <a:lnTo>
                  <a:pt x="192599" y="60929"/>
                </a:lnTo>
                <a:lnTo>
                  <a:pt x="172524" y="70647"/>
                </a:lnTo>
                <a:lnTo>
                  <a:pt x="164123" y="75609"/>
                </a:lnTo>
                <a:lnTo>
                  <a:pt x="156829" y="80610"/>
                </a:lnTo>
                <a:lnTo>
                  <a:pt x="150272" y="85638"/>
                </a:lnTo>
                <a:lnTo>
                  <a:pt x="144208" y="89836"/>
                </a:lnTo>
                <a:lnTo>
                  <a:pt x="138472" y="93482"/>
                </a:lnTo>
                <a:lnTo>
                  <a:pt x="128430" y="99791"/>
                </a:lnTo>
                <a:lnTo>
                  <a:pt x="121144" y="105416"/>
                </a:lnTo>
                <a:lnTo>
                  <a:pt x="119710" y="108102"/>
                </a:lnTo>
                <a:lnTo>
                  <a:pt x="119600" y="110739"/>
                </a:lnTo>
                <a:lnTo>
                  <a:pt x="120373" y="113344"/>
                </a:lnTo>
                <a:lnTo>
                  <a:pt x="123490" y="118496"/>
                </a:lnTo>
                <a:lnTo>
                  <a:pt x="125507" y="121055"/>
                </a:lnTo>
                <a:lnTo>
                  <a:pt x="134521" y="126156"/>
                </a:lnTo>
                <a:lnTo>
                  <a:pt x="140480" y="128702"/>
                </a:lnTo>
                <a:lnTo>
                  <a:pt x="147840" y="131246"/>
                </a:lnTo>
                <a:lnTo>
                  <a:pt x="156134" y="133788"/>
                </a:lnTo>
                <a:lnTo>
                  <a:pt x="165049" y="136330"/>
                </a:lnTo>
                <a:lnTo>
                  <a:pt x="175226" y="139718"/>
                </a:lnTo>
                <a:lnTo>
                  <a:pt x="197822" y="147997"/>
                </a:lnTo>
                <a:lnTo>
                  <a:pt x="208928" y="151729"/>
                </a:lnTo>
                <a:lnTo>
                  <a:pt x="219719" y="155064"/>
                </a:lnTo>
                <a:lnTo>
                  <a:pt x="230299" y="158133"/>
                </a:lnTo>
                <a:lnTo>
                  <a:pt x="240739" y="161873"/>
                </a:lnTo>
                <a:lnTo>
                  <a:pt x="251086" y="166060"/>
                </a:lnTo>
                <a:lnTo>
                  <a:pt x="261371" y="170544"/>
                </a:lnTo>
                <a:lnTo>
                  <a:pt x="281829" y="180042"/>
                </a:lnTo>
                <a:lnTo>
                  <a:pt x="292026" y="184946"/>
                </a:lnTo>
                <a:lnTo>
                  <a:pt x="300518" y="189908"/>
                </a:lnTo>
                <a:lnTo>
                  <a:pt x="307872" y="194910"/>
                </a:lnTo>
                <a:lnTo>
                  <a:pt x="314468" y="199938"/>
                </a:lnTo>
                <a:lnTo>
                  <a:pt x="319712" y="204983"/>
                </a:lnTo>
                <a:lnTo>
                  <a:pt x="324055" y="210040"/>
                </a:lnTo>
                <a:lnTo>
                  <a:pt x="327797" y="215104"/>
                </a:lnTo>
                <a:lnTo>
                  <a:pt x="329444" y="220174"/>
                </a:lnTo>
                <a:lnTo>
                  <a:pt x="329696" y="225247"/>
                </a:lnTo>
                <a:lnTo>
                  <a:pt x="329017" y="230322"/>
                </a:lnTo>
                <a:lnTo>
                  <a:pt x="327719" y="236246"/>
                </a:lnTo>
                <a:lnTo>
                  <a:pt x="326005" y="242735"/>
                </a:lnTo>
                <a:lnTo>
                  <a:pt x="324017" y="249601"/>
                </a:lnTo>
                <a:lnTo>
                  <a:pt x="320152" y="255025"/>
                </a:lnTo>
                <a:lnTo>
                  <a:pt x="315034" y="259488"/>
                </a:lnTo>
                <a:lnTo>
                  <a:pt x="288571" y="276779"/>
                </a:lnTo>
                <a:lnTo>
                  <a:pt x="280434" y="280763"/>
                </a:lnTo>
                <a:lnTo>
                  <a:pt x="271623" y="284266"/>
                </a:lnTo>
                <a:lnTo>
                  <a:pt x="262362" y="287449"/>
                </a:lnTo>
                <a:lnTo>
                  <a:pt x="252801" y="290416"/>
                </a:lnTo>
                <a:lnTo>
                  <a:pt x="233147" y="295972"/>
                </a:lnTo>
                <a:lnTo>
                  <a:pt x="223165" y="297792"/>
                </a:lnTo>
                <a:lnTo>
                  <a:pt x="213123" y="299006"/>
                </a:lnTo>
                <a:lnTo>
                  <a:pt x="203042" y="299815"/>
                </a:lnTo>
                <a:lnTo>
                  <a:pt x="192088" y="300354"/>
                </a:lnTo>
                <a:lnTo>
                  <a:pt x="168628" y="300953"/>
                </a:lnTo>
                <a:lnTo>
                  <a:pt x="135665" y="301291"/>
                </a:lnTo>
                <a:lnTo>
                  <a:pt x="125157" y="300491"/>
                </a:lnTo>
                <a:lnTo>
                  <a:pt x="114765" y="299112"/>
                </a:lnTo>
                <a:lnTo>
                  <a:pt x="104450" y="297346"/>
                </a:lnTo>
                <a:lnTo>
                  <a:pt x="95880" y="294475"/>
                </a:lnTo>
                <a:lnTo>
                  <a:pt x="88473" y="290867"/>
                </a:lnTo>
                <a:lnTo>
                  <a:pt x="81842" y="286769"/>
                </a:lnTo>
                <a:lnTo>
                  <a:pt x="75728" y="283191"/>
                </a:lnTo>
                <a:lnTo>
                  <a:pt x="69959" y="279958"/>
                </a:lnTo>
                <a:lnTo>
                  <a:pt x="59879" y="274109"/>
                </a:lnTo>
                <a:lnTo>
                  <a:pt x="52577" y="268687"/>
                </a:lnTo>
                <a:lnTo>
                  <a:pt x="50292" y="266055"/>
                </a:lnTo>
                <a:lnTo>
                  <a:pt x="48768" y="263455"/>
                </a:lnTo>
                <a:lnTo>
                  <a:pt x="45720" y="2557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MARTInkAnnotation191"/>
          <p:cNvSpPr/>
          <p:nvPr/>
        </p:nvSpPr>
        <p:spPr>
          <a:xfrm>
            <a:off x="1685880" y="3246480"/>
            <a:ext cx="287280" cy="297000"/>
          </a:xfrm>
          <a:custGeom>
            <a:avLst/>
            <a:gdLst>
              <a:gd name="textAreaLeft" fmla="*/ 0 w 287280"/>
              <a:gd name="textAreaRight" fmla="*/ 287640 w 28728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287955" h="297181">
                <a:moveTo>
                  <a:pt x="66974" y="0"/>
                </a:moveTo>
                <a:lnTo>
                  <a:pt x="45017" y="21957"/>
                </a:lnTo>
                <a:lnTo>
                  <a:pt x="38024" y="31208"/>
                </a:lnTo>
                <a:lnTo>
                  <a:pt x="31248" y="41810"/>
                </a:lnTo>
                <a:lnTo>
                  <a:pt x="22591" y="54989"/>
                </a:lnTo>
                <a:lnTo>
                  <a:pt x="18759" y="62906"/>
                </a:lnTo>
                <a:lnTo>
                  <a:pt x="15357" y="71571"/>
                </a:lnTo>
                <a:lnTo>
                  <a:pt x="12243" y="80734"/>
                </a:lnTo>
                <a:lnTo>
                  <a:pt x="9320" y="90229"/>
                </a:lnTo>
                <a:lnTo>
                  <a:pt x="3814" y="109811"/>
                </a:lnTo>
                <a:lnTo>
                  <a:pt x="2008" y="118927"/>
                </a:lnTo>
                <a:lnTo>
                  <a:pt x="803" y="127545"/>
                </a:lnTo>
                <a:lnTo>
                  <a:pt x="0" y="135830"/>
                </a:lnTo>
                <a:lnTo>
                  <a:pt x="312" y="144740"/>
                </a:lnTo>
                <a:lnTo>
                  <a:pt x="1366" y="154067"/>
                </a:lnTo>
                <a:lnTo>
                  <a:pt x="2915" y="163671"/>
                </a:lnTo>
                <a:lnTo>
                  <a:pt x="4795" y="173461"/>
                </a:lnTo>
                <a:lnTo>
                  <a:pt x="9141" y="193369"/>
                </a:lnTo>
                <a:lnTo>
                  <a:pt x="12332" y="202573"/>
                </a:lnTo>
                <a:lnTo>
                  <a:pt x="16153" y="211248"/>
                </a:lnTo>
                <a:lnTo>
                  <a:pt x="20393" y="219573"/>
                </a:lnTo>
                <a:lnTo>
                  <a:pt x="26607" y="226815"/>
                </a:lnTo>
                <a:lnTo>
                  <a:pt x="34136" y="233337"/>
                </a:lnTo>
                <a:lnTo>
                  <a:pt x="42542" y="239378"/>
                </a:lnTo>
                <a:lnTo>
                  <a:pt x="51533" y="244252"/>
                </a:lnTo>
                <a:lnTo>
                  <a:pt x="60913" y="248348"/>
                </a:lnTo>
                <a:lnTo>
                  <a:pt x="70554" y="251925"/>
                </a:lnTo>
                <a:lnTo>
                  <a:pt x="80367" y="255157"/>
                </a:lnTo>
                <a:lnTo>
                  <a:pt x="90296" y="258158"/>
                </a:lnTo>
                <a:lnTo>
                  <a:pt x="100302" y="261005"/>
                </a:lnTo>
                <a:lnTo>
                  <a:pt x="110360" y="262903"/>
                </a:lnTo>
                <a:lnTo>
                  <a:pt x="120451" y="264169"/>
                </a:lnTo>
                <a:lnTo>
                  <a:pt x="130565" y="265013"/>
                </a:lnTo>
                <a:lnTo>
                  <a:pt x="140695" y="265575"/>
                </a:lnTo>
                <a:lnTo>
                  <a:pt x="160981" y="266200"/>
                </a:lnTo>
                <a:lnTo>
                  <a:pt x="171132" y="265520"/>
                </a:lnTo>
                <a:lnTo>
                  <a:pt x="181286" y="264220"/>
                </a:lnTo>
                <a:lnTo>
                  <a:pt x="191442" y="262507"/>
                </a:lnTo>
                <a:lnTo>
                  <a:pt x="199906" y="259671"/>
                </a:lnTo>
                <a:lnTo>
                  <a:pt x="207242" y="256088"/>
                </a:lnTo>
                <a:lnTo>
                  <a:pt x="213826" y="252005"/>
                </a:lnTo>
                <a:lnTo>
                  <a:pt x="219062" y="248437"/>
                </a:lnTo>
                <a:lnTo>
                  <a:pt x="227137" y="242214"/>
                </a:lnTo>
                <a:lnTo>
                  <a:pt x="233549" y="234368"/>
                </a:lnTo>
                <a:lnTo>
                  <a:pt x="236444" y="229906"/>
                </a:lnTo>
                <a:lnTo>
                  <a:pt x="237527" y="225237"/>
                </a:lnTo>
                <a:lnTo>
                  <a:pt x="237403" y="220432"/>
                </a:lnTo>
                <a:lnTo>
                  <a:pt x="236473" y="215535"/>
                </a:lnTo>
                <a:lnTo>
                  <a:pt x="233182" y="207835"/>
                </a:lnTo>
                <a:lnTo>
                  <a:pt x="231120" y="204597"/>
                </a:lnTo>
                <a:lnTo>
                  <a:pt x="224312" y="198741"/>
                </a:lnTo>
                <a:lnTo>
                  <a:pt x="220126" y="195994"/>
                </a:lnTo>
                <a:lnTo>
                  <a:pt x="215642" y="194163"/>
                </a:lnTo>
                <a:lnTo>
                  <a:pt x="210959" y="192942"/>
                </a:lnTo>
                <a:lnTo>
                  <a:pt x="206144" y="192128"/>
                </a:lnTo>
                <a:lnTo>
                  <a:pt x="201241" y="191585"/>
                </a:lnTo>
                <a:lnTo>
                  <a:pt x="196279" y="191223"/>
                </a:lnTo>
                <a:lnTo>
                  <a:pt x="191277" y="190983"/>
                </a:lnTo>
                <a:lnTo>
                  <a:pt x="181204" y="190714"/>
                </a:lnTo>
                <a:lnTo>
                  <a:pt x="176147" y="190643"/>
                </a:lnTo>
                <a:lnTo>
                  <a:pt x="171083" y="191442"/>
                </a:lnTo>
                <a:lnTo>
                  <a:pt x="166013" y="192821"/>
                </a:lnTo>
                <a:lnTo>
                  <a:pt x="160940" y="194588"/>
                </a:lnTo>
                <a:lnTo>
                  <a:pt x="157558" y="197459"/>
                </a:lnTo>
                <a:lnTo>
                  <a:pt x="155303" y="201066"/>
                </a:lnTo>
                <a:lnTo>
                  <a:pt x="152798" y="209589"/>
                </a:lnTo>
                <a:lnTo>
                  <a:pt x="152130" y="214233"/>
                </a:lnTo>
                <a:lnTo>
                  <a:pt x="151685" y="219022"/>
                </a:lnTo>
                <a:lnTo>
                  <a:pt x="152235" y="223908"/>
                </a:lnTo>
                <a:lnTo>
                  <a:pt x="153448" y="228858"/>
                </a:lnTo>
                <a:lnTo>
                  <a:pt x="155103" y="233852"/>
                </a:lnTo>
                <a:lnTo>
                  <a:pt x="157900" y="238028"/>
                </a:lnTo>
                <a:lnTo>
                  <a:pt x="165524" y="244926"/>
                </a:lnTo>
                <a:lnTo>
                  <a:pt x="171621" y="248797"/>
                </a:lnTo>
                <a:lnTo>
                  <a:pt x="179072" y="253071"/>
                </a:lnTo>
                <a:lnTo>
                  <a:pt x="196382" y="262336"/>
                </a:lnTo>
                <a:lnTo>
                  <a:pt x="215364" y="272098"/>
                </a:lnTo>
                <a:lnTo>
                  <a:pt x="226014" y="276225"/>
                </a:lnTo>
                <a:lnTo>
                  <a:pt x="237347" y="279824"/>
                </a:lnTo>
                <a:lnTo>
                  <a:pt x="249136" y="283069"/>
                </a:lnTo>
                <a:lnTo>
                  <a:pt x="258689" y="286080"/>
                </a:lnTo>
                <a:lnTo>
                  <a:pt x="266751" y="288933"/>
                </a:lnTo>
                <a:lnTo>
                  <a:pt x="287954" y="297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MARTInkAnnotation192"/>
          <p:cNvSpPr/>
          <p:nvPr/>
        </p:nvSpPr>
        <p:spPr>
          <a:xfrm>
            <a:off x="1996920" y="3406680"/>
            <a:ext cx="250920" cy="360"/>
          </a:xfrm>
          <a:custGeom>
            <a:avLst/>
            <a:gdLst>
              <a:gd name="textAreaLeft" fmla="*/ 0 w 250920"/>
              <a:gd name="textAreaRight" fmla="*/ 251280 w 25092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51461" h="1">
                <a:moveTo>
                  <a:pt x="0" y="0"/>
                </a:moveTo>
                <a:lnTo>
                  <a:pt x="25146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MARTInkAnnotation193"/>
          <p:cNvSpPr/>
          <p:nvPr/>
        </p:nvSpPr>
        <p:spPr>
          <a:xfrm>
            <a:off x="2324160" y="3276720"/>
            <a:ext cx="266760" cy="198360"/>
          </a:xfrm>
          <a:custGeom>
            <a:avLst/>
            <a:gdLst>
              <a:gd name="textAreaLeft" fmla="*/ 0 w 266760"/>
              <a:gd name="textAreaRight" fmla="*/ 267120 w 26676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266701" h="197958">
                <a:moveTo>
                  <a:pt x="0" y="30449"/>
                </a:moveTo>
                <a:lnTo>
                  <a:pt x="0" y="18877"/>
                </a:lnTo>
                <a:lnTo>
                  <a:pt x="847" y="16808"/>
                </a:lnTo>
                <a:lnTo>
                  <a:pt x="4045" y="12250"/>
                </a:lnTo>
                <a:lnTo>
                  <a:pt x="6084" y="10697"/>
                </a:lnTo>
                <a:lnTo>
                  <a:pt x="8289" y="9661"/>
                </a:lnTo>
                <a:lnTo>
                  <a:pt x="13844" y="7663"/>
                </a:lnTo>
                <a:lnTo>
                  <a:pt x="21957" y="3953"/>
                </a:lnTo>
                <a:lnTo>
                  <a:pt x="26491" y="2625"/>
                </a:lnTo>
                <a:lnTo>
                  <a:pt x="31208" y="1739"/>
                </a:lnTo>
                <a:lnTo>
                  <a:pt x="36045" y="1150"/>
                </a:lnTo>
                <a:lnTo>
                  <a:pt x="41810" y="756"/>
                </a:lnTo>
                <a:lnTo>
                  <a:pt x="48194" y="494"/>
                </a:lnTo>
                <a:lnTo>
                  <a:pt x="67055" y="124"/>
                </a:lnTo>
                <a:lnTo>
                  <a:pt x="96689" y="0"/>
                </a:lnTo>
                <a:lnTo>
                  <a:pt x="104253" y="836"/>
                </a:lnTo>
                <a:lnTo>
                  <a:pt x="110989" y="2241"/>
                </a:lnTo>
                <a:lnTo>
                  <a:pt x="117172" y="4023"/>
                </a:lnTo>
                <a:lnTo>
                  <a:pt x="122988" y="5212"/>
                </a:lnTo>
                <a:lnTo>
                  <a:pt x="128559" y="6004"/>
                </a:lnTo>
                <a:lnTo>
                  <a:pt x="133966" y="6533"/>
                </a:lnTo>
                <a:lnTo>
                  <a:pt x="139264" y="7731"/>
                </a:lnTo>
                <a:lnTo>
                  <a:pt x="144489" y="9377"/>
                </a:lnTo>
                <a:lnTo>
                  <a:pt x="149666" y="11321"/>
                </a:lnTo>
                <a:lnTo>
                  <a:pt x="157676" y="15739"/>
                </a:lnTo>
                <a:lnTo>
                  <a:pt x="160998" y="18102"/>
                </a:lnTo>
                <a:lnTo>
                  <a:pt x="163211" y="20524"/>
                </a:lnTo>
                <a:lnTo>
                  <a:pt x="164688" y="22986"/>
                </a:lnTo>
                <a:lnTo>
                  <a:pt x="165672" y="25474"/>
                </a:lnTo>
                <a:lnTo>
                  <a:pt x="165481" y="28825"/>
                </a:lnTo>
                <a:lnTo>
                  <a:pt x="164508" y="32753"/>
                </a:lnTo>
                <a:lnTo>
                  <a:pt x="163012" y="37066"/>
                </a:lnTo>
                <a:lnTo>
                  <a:pt x="161168" y="41634"/>
                </a:lnTo>
                <a:lnTo>
                  <a:pt x="159092" y="46372"/>
                </a:lnTo>
                <a:lnTo>
                  <a:pt x="156862" y="51224"/>
                </a:lnTo>
                <a:lnTo>
                  <a:pt x="152834" y="55306"/>
                </a:lnTo>
                <a:lnTo>
                  <a:pt x="147609" y="58874"/>
                </a:lnTo>
                <a:lnTo>
                  <a:pt x="141587" y="62099"/>
                </a:lnTo>
                <a:lnTo>
                  <a:pt x="135031" y="66789"/>
                </a:lnTo>
                <a:lnTo>
                  <a:pt x="128120" y="72456"/>
                </a:lnTo>
                <a:lnTo>
                  <a:pt x="120974" y="78773"/>
                </a:lnTo>
                <a:lnTo>
                  <a:pt x="113669" y="84679"/>
                </a:lnTo>
                <a:lnTo>
                  <a:pt x="106259" y="90309"/>
                </a:lnTo>
                <a:lnTo>
                  <a:pt x="98780" y="95756"/>
                </a:lnTo>
                <a:lnTo>
                  <a:pt x="91253" y="100233"/>
                </a:lnTo>
                <a:lnTo>
                  <a:pt x="83695" y="104065"/>
                </a:lnTo>
                <a:lnTo>
                  <a:pt x="76117" y="107467"/>
                </a:lnTo>
                <a:lnTo>
                  <a:pt x="68525" y="111427"/>
                </a:lnTo>
                <a:lnTo>
                  <a:pt x="60923" y="115762"/>
                </a:lnTo>
                <a:lnTo>
                  <a:pt x="53315" y="120344"/>
                </a:lnTo>
                <a:lnTo>
                  <a:pt x="46550" y="125092"/>
                </a:lnTo>
                <a:lnTo>
                  <a:pt x="40347" y="129951"/>
                </a:lnTo>
                <a:lnTo>
                  <a:pt x="34518" y="134884"/>
                </a:lnTo>
                <a:lnTo>
                  <a:pt x="29786" y="139866"/>
                </a:lnTo>
                <a:lnTo>
                  <a:pt x="25784" y="144880"/>
                </a:lnTo>
                <a:lnTo>
                  <a:pt x="22269" y="149916"/>
                </a:lnTo>
                <a:lnTo>
                  <a:pt x="19926" y="154121"/>
                </a:lnTo>
                <a:lnTo>
                  <a:pt x="18364" y="157770"/>
                </a:lnTo>
                <a:lnTo>
                  <a:pt x="17323" y="161050"/>
                </a:lnTo>
                <a:lnTo>
                  <a:pt x="16165" y="166951"/>
                </a:lnTo>
                <a:lnTo>
                  <a:pt x="15857" y="169711"/>
                </a:lnTo>
                <a:lnTo>
                  <a:pt x="17345" y="172397"/>
                </a:lnTo>
                <a:lnTo>
                  <a:pt x="23513" y="177639"/>
                </a:lnTo>
                <a:lnTo>
                  <a:pt x="28375" y="180223"/>
                </a:lnTo>
                <a:lnTo>
                  <a:pt x="34157" y="182792"/>
                </a:lnTo>
                <a:lnTo>
                  <a:pt x="40551" y="185351"/>
                </a:lnTo>
                <a:lnTo>
                  <a:pt x="54430" y="190452"/>
                </a:lnTo>
                <a:lnTo>
                  <a:pt x="61687" y="192998"/>
                </a:lnTo>
                <a:lnTo>
                  <a:pt x="70758" y="194695"/>
                </a:lnTo>
                <a:lnTo>
                  <a:pt x="81038" y="195826"/>
                </a:lnTo>
                <a:lnTo>
                  <a:pt x="92126" y="196580"/>
                </a:lnTo>
                <a:lnTo>
                  <a:pt x="103751" y="197083"/>
                </a:lnTo>
                <a:lnTo>
                  <a:pt x="127956" y="197643"/>
                </a:lnTo>
                <a:lnTo>
                  <a:pt x="165383" y="197957"/>
                </a:lnTo>
                <a:lnTo>
                  <a:pt x="177142" y="197154"/>
                </a:lnTo>
                <a:lnTo>
                  <a:pt x="188368" y="195773"/>
                </a:lnTo>
                <a:lnTo>
                  <a:pt x="199239" y="194005"/>
                </a:lnTo>
                <a:lnTo>
                  <a:pt x="209026" y="192827"/>
                </a:lnTo>
                <a:lnTo>
                  <a:pt x="218090" y="192041"/>
                </a:lnTo>
                <a:lnTo>
                  <a:pt x="226674" y="191517"/>
                </a:lnTo>
                <a:lnTo>
                  <a:pt x="242984" y="190935"/>
                </a:lnTo>
                <a:lnTo>
                  <a:pt x="266700" y="19046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MARTInkAnnotation194"/>
          <p:cNvSpPr/>
          <p:nvPr/>
        </p:nvSpPr>
        <p:spPr>
          <a:xfrm>
            <a:off x="2841480" y="3375000"/>
            <a:ext cx="252720" cy="38160"/>
          </a:xfrm>
          <a:custGeom>
            <a:avLst/>
            <a:gdLst>
              <a:gd name="textAreaLeft" fmla="*/ 0 w 252720"/>
              <a:gd name="textAreaRight" fmla="*/ 253080 w 25272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51461" h="38101">
                <a:moveTo>
                  <a:pt x="0" y="38100"/>
                </a:moveTo>
                <a:lnTo>
                  <a:pt x="4046" y="38100"/>
                </a:lnTo>
                <a:lnTo>
                  <a:pt x="6084" y="37253"/>
                </a:lnTo>
                <a:lnTo>
                  <a:pt x="8289" y="35842"/>
                </a:lnTo>
                <a:lnTo>
                  <a:pt x="10606" y="34055"/>
                </a:lnTo>
                <a:lnTo>
                  <a:pt x="13844" y="32863"/>
                </a:lnTo>
                <a:lnTo>
                  <a:pt x="17696" y="32069"/>
                </a:lnTo>
                <a:lnTo>
                  <a:pt x="21958" y="31539"/>
                </a:lnTo>
                <a:lnTo>
                  <a:pt x="27338" y="31186"/>
                </a:lnTo>
                <a:lnTo>
                  <a:pt x="33466" y="30951"/>
                </a:lnTo>
                <a:lnTo>
                  <a:pt x="54225" y="30620"/>
                </a:lnTo>
                <a:lnTo>
                  <a:pt x="61550" y="30573"/>
                </a:lnTo>
                <a:lnTo>
                  <a:pt x="68973" y="29695"/>
                </a:lnTo>
                <a:lnTo>
                  <a:pt x="76462" y="28264"/>
                </a:lnTo>
                <a:lnTo>
                  <a:pt x="83995" y="26462"/>
                </a:lnTo>
                <a:lnTo>
                  <a:pt x="93250" y="25261"/>
                </a:lnTo>
                <a:lnTo>
                  <a:pt x="103654" y="24461"/>
                </a:lnTo>
                <a:lnTo>
                  <a:pt x="124809" y="23572"/>
                </a:lnTo>
                <a:lnTo>
                  <a:pt x="142677" y="23176"/>
                </a:lnTo>
                <a:lnTo>
                  <a:pt x="171062" y="22954"/>
                </a:lnTo>
                <a:lnTo>
                  <a:pt x="179235" y="22076"/>
                </a:lnTo>
                <a:lnTo>
                  <a:pt x="186376" y="20644"/>
                </a:lnTo>
                <a:lnTo>
                  <a:pt x="192831" y="18842"/>
                </a:lnTo>
                <a:lnTo>
                  <a:pt x="206777" y="14583"/>
                </a:lnTo>
                <a:lnTo>
                  <a:pt x="214051" y="12263"/>
                </a:lnTo>
                <a:lnTo>
                  <a:pt x="220594" y="10715"/>
                </a:lnTo>
                <a:lnTo>
                  <a:pt x="226649" y="9683"/>
                </a:lnTo>
                <a:lnTo>
                  <a:pt x="232380" y="8996"/>
                </a:lnTo>
                <a:lnTo>
                  <a:pt x="237047" y="7690"/>
                </a:lnTo>
                <a:lnTo>
                  <a:pt x="241004" y="5974"/>
                </a:lnTo>
                <a:lnTo>
                  <a:pt x="25146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MARTInkAnnotation195"/>
          <p:cNvSpPr/>
          <p:nvPr/>
        </p:nvSpPr>
        <p:spPr>
          <a:xfrm>
            <a:off x="3330720" y="3246480"/>
            <a:ext cx="193680" cy="288720"/>
          </a:xfrm>
          <a:custGeom>
            <a:avLst/>
            <a:gdLst>
              <a:gd name="textAreaLeft" fmla="*/ 0 w 193680"/>
              <a:gd name="textAreaRight" fmla="*/ 194040 w 1936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92375" h="289064">
                <a:moveTo>
                  <a:pt x="36911" y="0"/>
                </a:moveTo>
                <a:lnTo>
                  <a:pt x="36911" y="11352"/>
                </a:lnTo>
                <a:lnTo>
                  <a:pt x="36065" y="13495"/>
                </a:lnTo>
                <a:lnTo>
                  <a:pt x="32866" y="18133"/>
                </a:lnTo>
                <a:lnTo>
                  <a:pt x="31674" y="21402"/>
                </a:lnTo>
                <a:lnTo>
                  <a:pt x="30350" y="29550"/>
                </a:lnTo>
                <a:lnTo>
                  <a:pt x="29150" y="34940"/>
                </a:lnTo>
                <a:lnTo>
                  <a:pt x="27504" y="41074"/>
                </a:lnTo>
                <a:lnTo>
                  <a:pt x="23417" y="54662"/>
                </a:lnTo>
                <a:lnTo>
                  <a:pt x="11406" y="91614"/>
                </a:lnTo>
                <a:lnTo>
                  <a:pt x="9748" y="100023"/>
                </a:lnTo>
                <a:lnTo>
                  <a:pt x="8642" y="109015"/>
                </a:lnTo>
                <a:lnTo>
                  <a:pt x="7905" y="118397"/>
                </a:lnTo>
                <a:lnTo>
                  <a:pt x="6567" y="127191"/>
                </a:lnTo>
                <a:lnTo>
                  <a:pt x="4829" y="135594"/>
                </a:lnTo>
                <a:lnTo>
                  <a:pt x="2823" y="143736"/>
                </a:lnTo>
                <a:lnTo>
                  <a:pt x="1486" y="152551"/>
                </a:lnTo>
                <a:lnTo>
                  <a:pt x="594" y="161814"/>
                </a:lnTo>
                <a:lnTo>
                  <a:pt x="0" y="171376"/>
                </a:lnTo>
                <a:lnTo>
                  <a:pt x="450" y="180291"/>
                </a:lnTo>
                <a:lnTo>
                  <a:pt x="1597" y="188774"/>
                </a:lnTo>
                <a:lnTo>
                  <a:pt x="3209" y="196969"/>
                </a:lnTo>
                <a:lnTo>
                  <a:pt x="4283" y="204973"/>
                </a:lnTo>
                <a:lnTo>
                  <a:pt x="4998" y="212849"/>
                </a:lnTo>
                <a:lnTo>
                  <a:pt x="5476" y="220639"/>
                </a:lnTo>
                <a:lnTo>
                  <a:pt x="7488" y="228373"/>
                </a:lnTo>
                <a:lnTo>
                  <a:pt x="10522" y="236068"/>
                </a:lnTo>
                <a:lnTo>
                  <a:pt x="14239" y="243739"/>
                </a:lnTo>
                <a:lnTo>
                  <a:pt x="18409" y="250546"/>
                </a:lnTo>
                <a:lnTo>
                  <a:pt x="22883" y="256777"/>
                </a:lnTo>
                <a:lnTo>
                  <a:pt x="27559" y="262625"/>
                </a:lnTo>
                <a:lnTo>
                  <a:pt x="32370" y="267370"/>
                </a:lnTo>
                <a:lnTo>
                  <a:pt x="37270" y="271380"/>
                </a:lnTo>
                <a:lnTo>
                  <a:pt x="42231" y="274900"/>
                </a:lnTo>
                <a:lnTo>
                  <a:pt x="48924" y="278093"/>
                </a:lnTo>
                <a:lnTo>
                  <a:pt x="56773" y="281069"/>
                </a:lnTo>
                <a:lnTo>
                  <a:pt x="65392" y="283899"/>
                </a:lnTo>
                <a:lnTo>
                  <a:pt x="73679" y="285786"/>
                </a:lnTo>
                <a:lnTo>
                  <a:pt x="81743" y="287044"/>
                </a:lnTo>
                <a:lnTo>
                  <a:pt x="89659" y="287883"/>
                </a:lnTo>
                <a:lnTo>
                  <a:pt x="97476" y="288442"/>
                </a:lnTo>
                <a:lnTo>
                  <a:pt x="105228" y="288815"/>
                </a:lnTo>
                <a:lnTo>
                  <a:pt x="112936" y="289063"/>
                </a:lnTo>
                <a:lnTo>
                  <a:pt x="120613" y="288382"/>
                </a:lnTo>
                <a:lnTo>
                  <a:pt x="128273" y="287081"/>
                </a:lnTo>
                <a:lnTo>
                  <a:pt x="135919" y="285368"/>
                </a:lnTo>
                <a:lnTo>
                  <a:pt x="142710" y="282532"/>
                </a:lnTo>
                <a:lnTo>
                  <a:pt x="148930" y="278948"/>
                </a:lnTo>
                <a:lnTo>
                  <a:pt x="154770" y="274865"/>
                </a:lnTo>
                <a:lnTo>
                  <a:pt x="160357" y="271297"/>
                </a:lnTo>
                <a:lnTo>
                  <a:pt x="165775" y="268071"/>
                </a:lnTo>
                <a:lnTo>
                  <a:pt x="171080" y="265075"/>
                </a:lnTo>
                <a:lnTo>
                  <a:pt x="175464" y="261383"/>
                </a:lnTo>
                <a:lnTo>
                  <a:pt x="179233" y="257229"/>
                </a:lnTo>
                <a:lnTo>
                  <a:pt x="182592" y="252766"/>
                </a:lnTo>
                <a:lnTo>
                  <a:pt x="185679" y="248097"/>
                </a:lnTo>
                <a:lnTo>
                  <a:pt x="188583" y="243291"/>
                </a:lnTo>
                <a:lnTo>
                  <a:pt x="191365" y="238394"/>
                </a:lnTo>
                <a:lnTo>
                  <a:pt x="192374" y="234283"/>
                </a:lnTo>
                <a:lnTo>
                  <a:pt x="192200" y="230695"/>
                </a:lnTo>
                <a:lnTo>
                  <a:pt x="190595" y="223605"/>
                </a:lnTo>
                <a:lnTo>
                  <a:pt x="189881" y="214809"/>
                </a:lnTo>
                <a:lnTo>
                  <a:pt x="187998" y="210939"/>
                </a:lnTo>
                <a:lnTo>
                  <a:pt x="185049" y="207513"/>
                </a:lnTo>
                <a:lnTo>
                  <a:pt x="181390" y="204382"/>
                </a:lnTo>
                <a:lnTo>
                  <a:pt x="177256" y="201448"/>
                </a:lnTo>
                <a:lnTo>
                  <a:pt x="172808" y="198645"/>
                </a:lnTo>
                <a:lnTo>
                  <a:pt x="168149" y="195930"/>
                </a:lnTo>
                <a:lnTo>
                  <a:pt x="163350" y="194120"/>
                </a:lnTo>
                <a:lnTo>
                  <a:pt x="158457" y="192914"/>
                </a:lnTo>
                <a:lnTo>
                  <a:pt x="153502" y="192109"/>
                </a:lnTo>
                <a:lnTo>
                  <a:pt x="148505" y="191572"/>
                </a:lnTo>
                <a:lnTo>
                  <a:pt x="143480" y="191216"/>
                </a:lnTo>
                <a:lnTo>
                  <a:pt x="138438" y="190977"/>
                </a:lnTo>
                <a:lnTo>
                  <a:pt x="128318" y="190712"/>
                </a:lnTo>
                <a:lnTo>
                  <a:pt x="123249" y="190641"/>
                </a:lnTo>
                <a:lnTo>
                  <a:pt x="119023" y="191441"/>
                </a:lnTo>
                <a:lnTo>
                  <a:pt x="115359" y="192821"/>
                </a:lnTo>
                <a:lnTo>
                  <a:pt x="112070" y="194587"/>
                </a:lnTo>
                <a:lnTo>
                  <a:pt x="106157" y="198807"/>
                </a:lnTo>
                <a:lnTo>
                  <a:pt x="103395" y="201118"/>
                </a:lnTo>
                <a:lnTo>
                  <a:pt x="101554" y="204352"/>
                </a:lnTo>
                <a:lnTo>
                  <a:pt x="99508" y="212461"/>
                </a:lnTo>
                <a:lnTo>
                  <a:pt x="98962" y="216994"/>
                </a:lnTo>
                <a:lnTo>
                  <a:pt x="98598" y="221709"/>
                </a:lnTo>
                <a:lnTo>
                  <a:pt x="98356" y="226546"/>
                </a:lnTo>
                <a:lnTo>
                  <a:pt x="99888" y="231464"/>
                </a:lnTo>
                <a:lnTo>
                  <a:pt x="102602" y="236436"/>
                </a:lnTo>
                <a:lnTo>
                  <a:pt x="106105" y="241444"/>
                </a:lnTo>
                <a:lnTo>
                  <a:pt x="110980" y="246476"/>
                </a:lnTo>
                <a:lnTo>
                  <a:pt x="116770" y="251524"/>
                </a:lnTo>
                <a:lnTo>
                  <a:pt x="123171" y="256582"/>
                </a:lnTo>
                <a:lnTo>
                  <a:pt x="128284" y="260802"/>
                </a:lnTo>
                <a:lnTo>
                  <a:pt x="132539" y="264461"/>
                </a:lnTo>
                <a:lnTo>
                  <a:pt x="136224" y="267748"/>
                </a:lnTo>
                <a:lnTo>
                  <a:pt x="140373" y="270785"/>
                </a:lnTo>
                <a:lnTo>
                  <a:pt x="144832" y="273657"/>
                </a:lnTo>
                <a:lnTo>
                  <a:pt x="158831" y="2819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MARTInkAnnotation196"/>
          <p:cNvSpPr/>
          <p:nvPr/>
        </p:nvSpPr>
        <p:spPr>
          <a:xfrm>
            <a:off x="3573360" y="3619440"/>
            <a:ext cx="276480" cy="282600"/>
          </a:xfrm>
          <a:custGeom>
            <a:avLst/>
            <a:gdLst>
              <a:gd name="textAreaLeft" fmla="*/ 0 w 276480"/>
              <a:gd name="textAreaRight" fmla="*/ 276840 w 27648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76249" h="281766">
                <a:moveTo>
                  <a:pt x="0" y="45681"/>
                </a:moveTo>
                <a:lnTo>
                  <a:pt x="0" y="38375"/>
                </a:lnTo>
                <a:lnTo>
                  <a:pt x="4045" y="34109"/>
                </a:lnTo>
                <a:lnTo>
                  <a:pt x="7777" y="32040"/>
                </a:lnTo>
                <a:lnTo>
                  <a:pt x="12805" y="29813"/>
                </a:lnTo>
                <a:lnTo>
                  <a:pt x="18696" y="27482"/>
                </a:lnTo>
                <a:lnTo>
                  <a:pt x="24318" y="25082"/>
                </a:lnTo>
                <a:lnTo>
                  <a:pt x="35079" y="20157"/>
                </a:lnTo>
                <a:lnTo>
                  <a:pt x="42013" y="17658"/>
                </a:lnTo>
                <a:lnTo>
                  <a:pt x="50022" y="15146"/>
                </a:lnTo>
                <a:lnTo>
                  <a:pt x="67952" y="10097"/>
                </a:lnTo>
                <a:lnTo>
                  <a:pt x="87210" y="5030"/>
                </a:lnTo>
                <a:lnTo>
                  <a:pt x="97933" y="3340"/>
                </a:lnTo>
                <a:lnTo>
                  <a:pt x="109316" y="2214"/>
                </a:lnTo>
                <a:lnTo>
                  <a:pt x="121137" y="1463"/>
                </a:lnTo>
                <a:lnTo>
                  <a:pt x="143304" y="628"/>
                </a:lnTo>
                <a:lnTo>
                  <a:pt x="181083" y="93"/>
                </a:lnTo>
                <a:lnTo>
                  <a:pt x="209253" y="0"/>
                </a:lnTo>
                <a:lnTo>
                  <a:pt x="217395" y="833"/>
                </a:lnTo>
                <a:lnTo>
                  <a:pt x="224517" y="2236"/>
                </a:lnTo>
                <a:lnTo>
                  <a:pt x="230959" y="4018"/>
                </a:lnTo>
                <a:lnTo>
                  <a:pt x="236099" y="5205"/>
                </a:lnTo>
                <a:lnTo>
                  <a:pt x="244069" y="6525"/>
                </a:lnTo>
                <a:lnTo>
                  <a:pt x="246533" y="7724"/>
                </a:lnTo>
                <a:lnTo>
                  <a:pt x="248175" y="9369"/>
                </a:lnTo>
                <a:lnTo>
                  <a:pt x="250811" y="14049"/>
                </a:lnTo>
                <a:lnTo>
                  <a:pt x="246657" y="19204"/>
                </a:lnTo>
                <a:lnTo>
                  <a:pt x="243178" y="22950"/>
                </a:lnTo>
                <a:lnTo>
                  <a:pt x="238319" y="26294"/>
                </a:lnTo>
                <a:lnTo>
                  <a:pt x="232539" y="29369"/>
                </a:lnTo>
                <a:lnTo>
                  <a:pt x="226146" y="32266"/>
                </a:lnTo>
                <a:lnTo>
                  <a:pt x="219344" y="35045"/>
                </a:lnTo>
                <a:lnTo>
                  <a:pt x="212270" y="37744"/>
                </a:lnTo>
                <a:lnTo>
                  <a:pt x="205013" y="40389"/>
                </a:lnTo>
                <a:lnTo>
                  <a:pt x="197636" y="43846"/>
                </a:lnTo>
                <a:lnTo>
                  <a:pt x="190177" y="47845"/>
                </a:lnTo>
                <a:lnTo>
                  <a:pt x="182665" y="52204"/>
                </a:lnTo>
                <a:lnTo>
                  <a:pt x="175117" y="55956"/>
                </a:lnTo>
                <a:lnTo>
                  <a:pt x="167545" y="59304"/>
                </a:lnTo>
                <a:lnTo>
                  <a:pt x="159956" y="62383"/>
                </a:lnTo>
                <a:lnTo>
                  <a:pt x="153205" y="65282"/>
                </a:lnTo>
                <a:lnTo>
                  <a:pt x="141187" y="70761"/>
                </a:lnTo>
                <a:lnTo>
                  <a:pt x="134765" y="73408"/>
                </a:lnTo>
                <a:lnTo>
                  <a:pt x="127943" y="76019"/>
                </a:lnTo>
                <a:lnTo>
                  <a:pt x="120856" y="78606"/>
                </a:lnTo>
                <a:lnTo>
                  <a:pt x="115284" y="82025"/>
                </a:lnTo>
                <a:lnTo>
                  <a:pt x="106835" y="90338"/>
                </a:lnTo>
                <a:lnTo>
                  <a:pt x="102516" y="97420"/>
                </a:lnTo>
                <a:lnTo>
                  <a:pt x="100596" y="103389"/>
                </a:lnTo>
                <a:lnTo>
                  <a:pt x="99743" y="108864"/>
                </a:lnTo>
                <a:lnTo>
                  <a:pt x="100362" y="111510"/>
                </a:lnTo>
                <a:lnTo>
                  <a:pt x="103307" y="116707"/>
                </a:lnTo>
                <a:lnTo>
                  <a:pt x="106972" y="120125"/>
                </a:lnTo>
                <a:lnTo>
                  <a:pt x="111954" y="124097"/>
                </a:lnTo>
                <a:lnTo>
                  <a:pt x="117816" y="128438"/>
                </a:lnTo>
                <a:lnTo>
                  <a:pt x="123418" y="133026"/>
                </a:lnTo>
                <a:lnTo>
                  <a:pt x="128845" y="137777"/>
                </a:lnTo>
                <a:lnTo>
                  <a:pt x="134157" y="142638"/>
                </a:lnTo>
                <a:lnTo>
                  <a:pt x="140238" y="146726"/>
                </a:lnTo>
                <a:lnTo>
                  <a:pt x="146832" y="150298"/>
                </a:lnTo>
                <a:lnTo>
                  <a:pt x="153768" y="153525"/>
                </a:lnTo>
                <a:lnTo>
                  <a:pt x="160932" y="157370"/>
                </a:lnTo>
                <a:lnTo>
                  <a:pt x="168249" y="161627"/>
                </a:lnTo>
                <a:lnTo>
                  <a:pt x="175666" y="166159"/>
                </a:lnTo>
                <a:lnTo>
                  <a:pt x="183997" y="170873"/>
                </a:lnTo>
                <a:lnTo>
                  <a:pt x="202286" y="180626"/>
                </a:lnTo>
                <a:lnTo>
                  <a:pt x="211058" y="186445"/>
                </a:lnTo>
                <a:lnTo>
                  <a:pt x="219445" y="192863"/>
                </a:lnTo>
                <a:lnTo>
                  <a:pt x="227577" y="199683"/>
                </a:lnTo>
                <a:lnTo>
                  <a:pt x="235538" y="205922"/>
                </a:lnTo>
                <a:lnTo>
                  <a:pt x="243386" y="211775"/>
                </a:lnTo>
                <a:lnTo>
                  <a:pt x="251157" y="217370"/>
                </a:lnTo>
                <a:lnTo>
                  <a:pt x="257185" y="222794"/>
                </a:lnTo>
                <a:lnTo>
                  <a:pt x="262050" y="228103"/>
                </a:lnTo>
                <a:lnTo>
                  <a:pt x="266140" y="233335"/>
                </a:lnTo>
                <a:lnTo>
                  <a:pt x="269714" y="238517"/>
                </a:lnTo>
                <a:lnTo>
                  <a:pt x="272942" y="243665"/>
                </a:lnTo>
                <a:lnTo>
                  <a:pt x="275942" y="248790"/>
                </a:lnTo>
                <a:lnTo>
                  <a:pt x="276248" y="253054"/>
                </a:lnTo>
                <a:lnTo>
                  <a:pt x="274759" y="256743"/>
                </a:lnTo>
                <a:lnTo>
                  <a:pt x="269435" y="263099"/>
                </a:lnTo>
                <a:lnTo>
                  <a:pt x="264247" y="268747"/>
                </a:lnTo>
                <a:lnTo>
                  <a:pt x="259985" y="271438"/>
                </a:lnTo>
                <a:lnTo>
                  <a:pt x="254603" y="274079"/>
                </a:lnTo>
                <a:lnTo>
                  <a:pt x="248475" y="276686"/>
                </a:lnTo>
                <a:lnTo>
                  <a:pt x="241850" y="278425"/>
                </a:lnTo>
                <a:lnTo>
                  <a:pt x="234894" y="279583"/>
                </a:lnTo>
                <a:lnTo>
                  <a:pt x="227715" y="280356"/>
                </a:lnTo>
                <a:lnTo>
                  <a:pt x="219544" y="280871"/>
                </a:lnTo>
                <a:lnTo>
                  <a:pt x="210710" y="281214"/>
                </a:lnTo>
                <a:lnTo>
                  <a:pt x="184352" y="281697"/>
                </a:lnTo>
                <a:lnTo>
                  <a:pt x="176242" y="281765"/>
                </a:lnTo>
                <a:lnTo>
                  <a:pt x="167447" y="280964"/>
                </a:lnTo>
                <a:lnTo>
                  <a:pt x="158199" y="279583"/>
                </a:lnTo>
                <a:lnTo>
                  <a:pt x="148646" y="277815"/>
                </a:lnTo>
                <a:lnTo>
                  <a:pt x="129001" y="273594"/>
                </a:lnTo>
                <a:lnTo>
                  <a:pt x="119021" y="271283"/>
                </a:lnTo>
                <a:lnTo>
                  <a:pt x="109827" y="268049"/>
                </a:lnTo>
                <a:lnTo>
                  <a:pt x="101158" y="264200"/>
                </a:lnTo>
                <a:lnTo>
                  <a:pt x="73040" y="249900"/>
                </a:lnTo>
                <a:lnTo>
                  <a:pt x="67320" y="246173"/>
                </a:lnTo>
                <a:lnTo>
                  <a:pt x="61814" y="241996"/>
                </a:lnTo>
                <a:lnTo>
                  <a:pt x="56449" y="237517"/>
                </a:lnTo>
                <a:lnTo>
                  <a:pt x="52873" y="232839"/>
                </a:lnTo>
                <a:lnTo>
                  <a:pt x="50488" y="228026"/>
                </a:lnTo>
                <a:lnTo>
                  <a:pt x="48899" y="223124"/>
                </a:lnTo>
                <a:lnTo>
                  <a:pt x="47133" y="215420"/>
                </a:lnTo>
                <a:lnTo>
                  <a:pt x="46348" y="209174"/>
                </a:lnTo>
                <a:lnTo>
                  <a:pt x="46139" y="206323"/>
                </a:lnTo>
                <a:lnTo>
                  <a:pt x="45720" y="1980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MARTInkAnnotation197"/>
          <p:cNvSpPr/>
          <p:nvPr/>
        </p:nvSpPr>
        <p:spPr>
          <a:xfrm>
            <a:off x="3946680" y="3635280"/>
            <a:ext cx="23760" cy="297000"/>
          </a:xfrm>
          <a:custGeom>
            <a:avLst/>
            <a:gdLst>
              <a:gd name="textAreaLeft" fmla="*/ 0 w 23760"/>
              <a:gd name="textAreaRight" fmla="*/ 24120 w 2376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22861" h="297181">
                <a:moveTo>
                  <a:pt x="15240" y="0"/>
                </a:moveTo>
                <a:lnTo>
                  <a:pt x="15240" y="10606"/>
                </a:lnTo>
                <a:lnTo>
                  <a:pt x="16086" y="12997"/>
                </a:lnTo>
                <a:lnTo>
                  <a:pt x="17498" y="15438"/>
                </a:lnTo>
                <a:lnTo>
                  <a:pt x="19285" y="17912"/>
                </a:lnTo>
                <a:lnTo>
                  <a:pt x="20477" y="21255"/>
                </a:lnTo>
                <a:lnTo>
                  <a:pt x="21272" y="25176"/>
                </a:lnTo>
                <a:lnTo>
                  <a:pt x="21801" y="29484"/>
                </a:lnTo>
                <a:lnTo>
                  <a:pt x="22154" y="34896"/>
                </a:lnTo>
                <a:lnTo>
                  <a:pt x="22390" y="41044"/>
                </a:lnTo>
                <a:lnTo>
                  <a:pt x="22721" y="61832"/>
                </a:lnTo>
                <a:lnTo>
                  <a:pt x="22860" y="196969"/>
                </a:lnTo>
                <a:lnTo>
                  <a:pt x="22013" y="204973"/>
                </a:lnTo>
                <a:lnTo>
                  <a:pt x="20602" y="212848"/>
                </a:lnTo>
                <a:lnTo>
                  <a:pt x="18815" y="220639"/>
                </a:lnTo>
                <a:lnTo>
                  <a:pt x="16777" y="228373"/>
                </a:lnTo>
                <a:lnTo>
                  <a:pt x="14571" y="236068"/>
                </a:lnTo>
                <a:lnTo>
                  <a:pt x="12254" y="243739"/>
                </a:lnTo>
                <a:lnTo>
                  <a:pt x="10710" y="251392"/>
                </a:lnTo>
                <a:lnTo>
                  <a:pt x="9679" y="259035"/>
                </a:lnTo>
                <a:lnTo>
                  <a:pt x="8993" y="266670"/>
                </a:lnTo>
                <a:lnTo>
                  <a:pt x="7689" y="272607"/>
                </a:lnTo>
                <a:lnTo>
                  <a:pt x="5973" y="277411"/>
                </a:lnTo>
                <a:lnTo>
                  <a:pt x="3982" y="281460"/>
                </a:lnTo>
                <a:lnTo>
                  <a:pt x="2654" y="285007"/>
                </a:lnTo>
                <a:lnTo>
                  <a:pt x="1770" y="288218"/>
                </a:lnTo>
                <a:lnTo>
                  <a:pt x="0" y="297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MARTInkAnnotation198"/>
          <p:cNvSpPr/>
          <p:nvPr/>
        </p:nvSpPr>
        <p:spPr>
          <a:xfrm>
            <a:off x="2689200" y="3238560"/>
            <a:ext cx="31680" cy="271440"/>
          </a:xfrm>
          <a:custGeom>
            <a:avLst/>
            <a:gdLst>
              <a:gd name="textAreaLeft" fmla="*/ 0 w 31680"/>
              <a:gd name="textAreaRight" fmla="*/ 32040 w 3168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31637" h="272186">
                <a:moveTo>
                  <a:pt x="0" y="0"/>
                </a:moveTo>
                <a:lnTo>
                  <a:pt x="0" y="95167"/>
                </a:lnTo>
                <a:lnTo>
                  <a:pt x="847" y="101545"/>
                </a:lnTo>
                <a:lnTo>
                  <a:pt x="2258" y="108337"/>
                </a:lnTo>
                <a:lnTo>
                  <a:pt x="4045" y="115404"/>
                </a:lnTo>
                <a:lnTo>
                  <a:pt x="6084" y="122656"/>
                </a:lnTo>
                <a:lnTo>
                  <a:pt x="10606" y="137487"/>
                </a:lnTo>
                <a:lnTo>
                  <a:pt x="12151" y="144998"/>
                </a:lnTo>
                <a:lnTo>
                  <a:pt x="13180" y="152546"/>
                </a:lnTo>
                <a:lnTo>
                  <a:pt x="13867" y="160117"/>
                </a:lnTo>
                <a:lnTo>
                  <a:pt x="15171" y="167705"/>
                </a:lnTo>
                <a:lnTo>
                  <a:pt x="16888" y="175303"/>
                </a:lnTo>
                <a:lnTo>
                  <a:pt x="18878" y="182909"/>
                </a:lnTo>
                <a:lnTo>
                  <a:pt x="20206" y="190519"/>
                </a:lnTo>
                <a:lnTo>
                  <a:pt x="21090" y="198133"/>
                </a:lnTo>
                <a:lnTo>
                  <a:pt x="21680" y="205749"/>
                </a:lnTo>
                <a:lnTo>
                  <a:pt x="22073" y="213366"/>
                </a:lnTo>
                <a:lnTo>
                  <a:pt x="22511" y="228602"/>
                </a:lnTo>
                <a:lnTo>
                  <a:pt x="23474" y="235375"/>
                </a:lnTo>
                <a:lnTo>
                  <a:pt x="24963" y="241583"/>
                </a:lnTo>
                <a:lnTo>
                  <a:pt x="26802" y="247415"/>
                </a:lnTo>
                <a:lnTo>
                  <a:pt x="28028" y="252997"/>
                </a:lnTo>
                <a:lnTo>
                  <a:pt x="28846" y="258412"/>
                </a:lnTo>
                <a:lnTo>
                  <a:pt x="29390" y="263714"/>
                </a:lnTo>
                <a:lnTo>
                  <a:pt x="30600" y="268943"/>
                </a:lnTo>
                <a:lnTo>
                  <a:pt x="31636" y="2721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MARTInkAnnotation199"/>
          <p:cNvSpPr/>
          <p:nvPr/>
        </p:nvSpPr>
        <p:spPr>
          <a:xfrm>
            <a:off x="2933640" y="3238560"/>
            <a:ext cx="12600" cy="244440"/>
          </a:xfrm>
          <a:custGeom>
            <a:avLst/>
            <a:gdLst>
              <a:gd name="textAreaLeft" fmla="*/ 0 w 12600"/>
              <a:gd name="textAreaRight" fmla="*/ 12960 w 126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11" h="245238">
                <a:moveTo>
                  <a:pt x="7620" y="0"/>
                </a:moveTo>
                <a:lnTo>
                  <a:pt x="7620" y="4045"/>
                </a:lnTo>
                <a:lnTo>
                  <a:pt x="8467" y="6084"/>
                </a:lnTo>
                <a:lnTo>
                  <a:pt x="9878" y="8289"/>
                </a:lnTo>
                <a:lnTo>
                  <a:pt x="11666" y="10606"/>
                </a:lnTo>
                <a:lnTo>
                  <a:pt x="12010" y="12151"/>
                </a:lnTo>
                <a:lnTo>
                  <a:pt x="11393" y="13180"/>
                </a:lnTo>
                <a:lnTo>
                  <a:pt x="10136" y="13867"/>
                </a:lnTo>
                <a:lnTo>
                  <a:pt x="9297" y="15171"/>
                </a:lnTo>
                <a:lnTo>
                  <a:pt x="8738" y="16887"/>
                </a:lnTo>
                <a:lnTo>
                  <a:pt x="8366" y="18878"/>
                </a:lnTo>
                <a:lnTo>
                  <a:pt x="7951" y="25606"/>
                </a:lnTo>
                <a:lnTo>
                  <a:pt x="7841" y="29771"/>
                </a:lnTo>
                <a:lnTo>
                  <a:pt x="6921" y="34241"/>
                </a:lnTo>
                <a:lnTo>
                  <a:pt x="5461" y="38914"/>
                </a:lnTo>
                <a:lnTo>
                  <a:pt x="3640" y="43723"/>
                </a:lnTo>
                <a:lnTo>
                  <a:pt x="2427" y="48622"/>
                </a:lnTo>
                <a:lnTo>
                  <a:pt x="1618" y="53581"/>
                </a:lnTo>
                <a:lnTo>
                  <a:pt x="1079" y="58581"/>
                </a:lnTo>
                <a:lnTo>
                  <a:pt x="719" y="63607"/>
                </a:lnTo>
                <a:lnTo>
                  <a:pt x="479" y="68651"/>
                </a:lnTo>
                <a:lnTo>
                  <a:pt x="213" y="79618"/>
                </a:lnTo>
                <a:lnTo>
                  <a:pt x="0" y="199183"/>
                </a:lnTo>
                <a:lnTo>
                  <a:pt x="847" y="205601"/>
                </a:lnTo>
                <a:lnTo>
                  <a:pt x="2258" y="211575"/>
                </a:lnTo>
                <a:lnTo>
                  <a:pt x="4046" y="217250"/>
                </a:lnTo>
                <a:lnTo>
                  <a:pt x="5237" y="222726"/>
                </a:lnTo>
                <a:lnTo>
                  <a:pt x="6032" y="228071"/>
                </a:lnTo>
                <a:lnTo>
                  <a:pt x="6561" y="233327"/>
                </a:lnTo>
                <a:lnTo>
                  <a:pt x="6914" y="237678"/>
                </a:lnTo>
                <a:lnTo>
                  <a:pt x="7306" y="244771"/>
                </a:lnTo>
                <a:lnTo>
                  <a:pt x="7451" y="24523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MARTInkAnnotation200"/>
          <p:cNvSpPr/>
          <p:nvPr/>
        </p:nvSpPr>
        <p:spPr>
          <a:xfrm>
            <a:off x="3186000" y="3230640"/>
            <a:ext cx="15840" cy="257040"/>
          </a:xfrm>
          <a:custGeom>
            <a:avLst/>
            <a:gdLst>
              <a:gd name="textAreaLeft" fmla="*/ 0 w 15840"/>
              <a:gd name="textAreaRight" fmla="*/ 16200 w 1584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6969" h="256681">
                <a:moveTo>
                  <a:pt x="14899" y="0"/>
                </a:moveTo>
                <a:lnTo>
                  <a:pt x="14899" y="28518"/>
                </a:lnTo>
                <a:lnTo>
                  <a:pt x="14052" y="33405"/>
                </a:lnTo>
                <a:lnTo>
                  <a:pt x="12641" y="38357"/>
                </a:lnTo>
                <a:lnTo>
                  <a:pt x="10854" y="43352"/>
                </a:lnTo>
                <a:lnTo>
                  <a:pt x="9662" y="49221"/>
                </a:lnTo>
                <a:lnTo>
                  <a:pt x="8868" y="55674"/>
                </a:lnTo>
                <a:lnTo>
                  <a:pt x="8338" y="62516"/>
                </a:lnTo>
                <a:lnTo>
                  <a:pt x="7138" y="69617"/>
                </a:lnTo>
                <a:lnTo>
                  <a:pt x="5492" y="76891"/>
                </a:lnTo>
                <a:lnTo>
                  <a:pt x="3548" y="84281"/>
                </a:lnTo>
                <a:lnTo>
                  <a:pt x="2251" y="91747"/>
                </a:lnTo>
                <a:lnTo>
                  <a:pt x="1387" y="99265"/>
                </a:lnTo>
                <a:lnTo>
                  <a:pt x="811" y="106817"/>
                </a:lnTo>
                <a:lnTo>
                  <a:pt x="427" y="115238"/>
                </a:lnTo>
                <a:lnTo>
                  <a:pt x="0" y="133626"/>
                </a:lnTo>
                <a:lnTo>
                  <a:pt x="733" y="142424"/>
                </a:lnTo>
                <a:lnTo>
                  <a:pt x="2068" y="150829"/>
                </a:lnTo>
                <a:lnTo>
                  <a:pt x="3805" y="158973"/>
                </a:lnTo>
                <a:lnTo>
                  <a:pt x="4963" y="166942"/>
                </a:lnTo>
                <a:lnTo>
                  <a:pt x="5735" y="174795"/>
                </a:lnTo>
                <a:lnTo>
                  <a:pt x="6250" y="182569"/>
                </a:lnTo>
                <a:lnTo>
                  <a:pt x="6593" y="190293"/>
                </a:lnTo>
                <a:lnTo>
                  <a:pt x="6974" y="205648"/>
                </a:lnTo>
                <a:lnTo>
                  <a:pt x="7922" y="213299"/>
                </a:lnTo>
                <a:lnTo>
                  <a:pt x="9401" y="220939"/>
                </a:lnTo>
                <a:lnTo>
                  <a:pt x="11234" y="228573"/>
                </a:lnTo>
                <a:lnTo>
                  <a:pt x="12455" y="235355"/>
                </a:lnTo>
                <a:lnTo>
                  <a:pt x="13270" y="241570"/>
                </a:lnTo>
                <a:lnTo>
                  <a:pt x="13813" y="247407"/>
                </a:lnTo>
                <a:lnTo>
                  <a:pt x="15022" y="252145"/>
                </a:lnTo>
                <a:lnTo>
                  <a:pt x="16674" y="256150"/>
                </a:lnTo>
                <a:lnTo>
                  <a:pt x="16968" y="2566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MARTInkAnnotation201"/>
          <p:cNvSpPr/>
          <p:nvPr/>
        </p:nvSpPr>
        <p:spPr>
          <a:xfrm>
            <a:off x="1427040" y="4351320"/>
            <a:ext cx="209520" cy="165240"/>
          </a:xfrm>
          <a:custGeom>
            <a:avLst/>
            <a:gdLst>
              <a:gd name="textAreaLeft" fmla="*/ 0 w 209520"/>
              <a:gd name="textAreaRight" fmla="*/ 209880 w 20952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10219" h="165966">
                <a:moveTo>
                  <a:pt x="195928" y="15205"/>
                </a:moveTo>
                <a:lnTo>
                  <a:pt x="195928" y="11160"/>
                </a:lnTo>
                <a:lnTo>
                  <a:pt x="194235" y="9122"/>
                </a:lnTo>
                <a:lnTo>
                  <a:pt x="187838" y="4599"/>
                </a:lnTo>
                <a:lnTo>
                  <a:pt x="181608" y="2025"/>
                </a:lnTo>
                <a:lnTo>
                  <a:pt x="175170" y="881"/>
                </a:lnTo>
                <a:lnTo>
                  <a:pt x="171083" y="575"/>
                </a:lnTo>
                <a:lnTo>
                  <a:pt x="166665" y="372"/>
                </a:lnTo>
                <a:lnTo>
                  <a:pt x="154982" y="146"/>
                </a:lnTo>
                <a:lnTo>
                  <a:pt x="126786" y="0"/>
                </a:lnTo>
                <a:lnTo>
                  <a:pt x="117660" y="1682"/>
                </a:lnTo>
                <a:lnTo>
                  <a:pt x="107343" y="4497"/>
                </a:lnTo>
                <a:lnTo>
                  <a:pt x="96231" y="8066"/>
                </a:lnTo>
                <a:lnTo>
                  <a:pt x="86283" y="12139"/>
                </a:lnTo>
                <a:lnTo>
                  <a:pt x="77112" y="16548"/>
                </a:lnTo>
                <a:lnTo>
                  <a:pt x="59301" y="25962"/>
                </a:lnTo>
                <a:lnTo>
                  <a:pt x="40096" y="35790"/>
                </a:lnTo>
                <a:lnTo>
                  <a:pt x="31927" y="40782"/>
                </a:lnTo>
                <a:lnTo>
                  <a:pt x="24787" y="45803"/>
                </a:lnTo>
                <a:lnTo>
                  <a:pt x="18334" y="50844"/>
                </a:lnTo>
                <a:lnTo>
                  <a:pt x="13185" y="56744"/>
                </a:lnTo>
                <a:lnTo>
                  <a:pt x="8906" y="63218"/>
                </a:lnTo>
                <a:lnTo>
                  <a:pt x="5207" y="70074"/>
                </a:lnTo>
                <a:lnTo>
                  <a:pt x="2741" y="77184"/>
                </a:lnTo>
                <a:lnTo>
                  <a:pt x="1096" y="84464"/>
                </a:lnTo>
                <a:lnTo>
                  <a:pt x="0" y="91858"/>
                </a:lnTo>
                <a:lnTo>
                  <a:pt x="116" y="98480"/>
                </a:lnTo>
                <a:lnTo>
                  <a:pt x="1040" y="104589"/>
                </a:lnTo>
                <a:lnTo>
                  <a:pt x="2503" y="110354"/>
                </a:lnTo>
                <a:lnTo>
                  <a:pt x="6018" y="115891"/>
                </a:lnTo>
                <a:lnTo>
                  <a:pt x="10901" y="121276"/>
                </a:lnTo>
                <a:lnTo>
                  <a:pt x="16697" y="126559"/>
                </a:lnTo>
                <a:lnTo>
                  <a:pt x="23947" y="131774"/>
                </a:lnTo>
                <a:lnTo>
                  <a:pt x="32168" y="136945"/>
                </a:lnTo>
                <a:lnTo>
                  <a:pt x="41034" y="142085"/>
                </a:lnTo>
                <a:lnTo>
                  <a:pt x="50332" y="146358"/>
                </a:lnTo>
                <a:lnTo>
                  <a:pt x="59917" y="150054"/>
                </a:lnTo>
                <a:lnTo>
                  <a:pt x="69694" y="153364"/>
                </a:lnTo>
                <a:lnTo>
                  <a:pt x="79599" y="156418"/>
                </a:lnTo>
                <a:lnTo>
                  <a:pt x="99635" y="162068"/>
                </a:lnTo>
                <a:lnTo>
                  <a:pt x="110566" y="163914"/>
                </a:lnTo>
                <a:lnTo>
                  <a:pt x="122087" y="165144"/>
                </a:lnTo>
                <a:lnTo>
                  <a:pt x="134001" y="165965"/>
                </a:lnTo>
                <a:lnTo>
                  <a:pt x="144483" y="165665"/>
                </a:lnTo>
                <a:lnTo>
                  <a:pt x="154012" y="164618"/>
                </a:lnTo>
                <a:lnTo>
                  <a:pt x="162904" y="163074"/>
                </a:lnTo>
                <a:lnTo>
                  <a:pt x="170525" y="161197"/>
                </a:lnTo>
                <a:lnTo>
                  <a:pt x="177300" y="159100"/>
                </a:lnTo>
                <a:lnTo>
                  <a:pt x="183509" y="156855"/>
                </a:lnTo>
                <a:lnTo>
                  <a:pt x="189342" y="153665"/>
                </a:lnTo>
                <a:lnTo>
                  <a:pt x="194924" y="149845"/>
                </a:lnTo>
                <a:lnTo>
                  <a:pt x="200339" y="145605"/>
                </a:lnTo>
                <a:lnTo>
                  <a:pt x="203948" y="141085"/>
                </a:lnTo>
                <a:lnTo>
                  <a:pt x="206355" y="136378"/>
                </a:lnTo>
                <a:lnTo>
                  <a:pt x="207960" y="131547"/>
                </a:lnTo>
                <a:lnTo>
                  <a:pt x="209029" y="125787"/>
                </a:lnTo>
                <a:lnTo>
                  <a:pt x="209742" y="119406"/>
                </a:lnTo>
                <a:lnTo>
                  <a:pt x="210218" y="112612"/>
                </a:lnTo>
                <a:lnTo>
                  <a:pt x="209688" y="106390"/>
                </a:lnTo>
                <a:lnTo>
                  <a:pt x="208488" y="100549"/>
                </a:lnTo>
                <a:lnTo>
                  <a:pt x="206841" y="94961"/>
                </a:lnTo>
                <a:lnTo>
                  <a:pt x="204050" y="88695"/>
                </a:lnTo>
                <a:lnTo>
                  <a:pt x="200496" y="81979"/>
                </a:lnTo>
                <a:lnTo>
                  <a:pt x="196433" y="74961"/>
                </a:lnTo>
                <a:lnTo>
                  <a:pt x="189662" y="62648"/>
                </a:lnTo>
                <a:lnTo>
                  <a:pt x="186671" y="56994"/>
                </a:lnTo>
                <a:lnTo>
                  <a:pt x="182137" y="52377"/>
                </a:lnTo>
                <a:lnTo>
                  <a:pt x="176574" y="48453"/>
                </a:lnTo>
                <a:lnTo>
                  <a:pt x="170325" y="44991"/>
                </a:lnTo>
                <a:lnTo>
                  <a:pt x="163619" y="41835"/>
                </a:lnTo>
                <a:lnTo>
                  <a:pt x="156609" y="38886"/>
                </a:lnTo>
                <a:lnTo>
                  <a:pt x="149395" y="36072"/>
                </a:lnTo>
                <a:lnTo>
                  <a:pt x="142893" y="33349"/>
                </a:lnTo>
                <a:lnTo>
                  <a:pt x="136865" y="30688"/>
                </a:lnTo>
                <a:lnTo>
                  <a:pt x="119728" y="228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MARTInkAnnotation202"/>
          <p:cNvSpPr/>
          <p:nvPr/>
        </p:nvSpPr>
        <p:spPr>
          <a:xfrm>
            <a:off x="1419120" y="4479840"/>
            <a:ext cx="233640" cy="149400"/>
          </a:xfrm>
          <a:custGeom>
            <a:avLst/>
            <a:gdLst>
              <a:gd name="textAreaLeft" fmla="*/ 0 w 233640"/>
              <a:gd name="textAreaRight" fmla="*/ 234000 w 23364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233509" h="148786">
                <a:moveTo>
                  <a:pt x="150328" y="22860"/>
                </a:moveTo>
                <a:lnTo>
                  <a:pt x="124823" y="22860"/>
                </a:lnTo>
                <a:lnTo>
                  <a:pt x="120625" y="23707"/>
                </a:lnTo>
                <a:lnTo>
                  <a:pt x="115286" y="25118"/>
                </a:lnTo>
                <a:lnTo>
                  <a:pt x="109186" y="26905"/>
                </a:lnTo>
                <a:lnTo>
                  <a:pt x="103427" y="28097"/>
                </a:lnTo>
                <a:lnTo>
                  <a:pt x="97894" y="28891"/>
                </a:lnTo>
                <a:lnTo>
                  <a:pt x="92512" y="29421"/>
                </a:lnTo>
                <a:lnTo>
                  <a:pt x="87231" y="30620"/>
                </a:lnTo>
                <a:lnTo>
                  <a:pt x="82016" y="32267"/>
                </a:lnTo>
                <a:lnTo>
                  <a:pt x="76847" y="34211"/>
                </a:lnTo>
                <a:lnTo>
                  <a:pt x="70861" y="37201"/>
                </a:lnTo>
                <a:lnTo>
                  <a:pt x="64330" y="40887"/>
                </a:lnTo>
                <a:lnTo>
                  <a:pt x="57436" y="45038"/>
                </a:lnTo>
                <a:lnTo>
                  <a:pt x="50300" y="48652"/>
                </a:lnTo>
                <a:lnTo>
                  <a:pt x="43003" y="51908"/>
                </a:lnTo>
                <a:lnTo>
                  <a:pt x="35598" y="54926"/>
                </a:lnTo>
                <a:lnTo>
                  <a:pt x="28968" y="58630"/>
                </a:lnTo>
                <a:lnTo>
                  <a:pt x="22855" y="62793"/>
                </a:lnTo>
                <a:lnTo>
                  <a:pt x="17086" y="67262"/>
                </a:lnTo>
                <a:lnTo>
                  <a:pt x="12393" y="71935"/>
                </a:lnTo>
                <a:lnTo>
                  <a:pt x="8418" y="76743"/>
                </a:lnTo>
                <a:lnTo>
                  <a:pt x="4921" y="81642"/>
                </a:lnTo>
                <a:lnTo>
                  <a:pt x="2590" y="86601"/>
                </a:lnTo>
                <a:lnTo>
                  <a:pt x="1036" y="91601"/>
                </a:lnTo>
                <a:lnTo>
                  <a:pt x="0" y="96627"/>
                </a:lnTo>
                <a:lnTo>
                  <a:pt x="156" y="101672"/>
                </a:lnTo>
                <a:lnTo>
                  <a:pt x="1107" y="106727"/>
                </a:lnTo>
                <a:lnTo>
                  <a:pt x="2587" y="111792"/>
                </a:lnTo>
                <a:lnTo>
                  <a:pt x="6114" y="116861"/>
                </a:lnTo>
                <a:lnTo>
                  <a:pt x="11005" y="121934"/>
                </a:lnTo>
                <a:lnTo>
                  <a:pt x="16806" y="127010"/>
                </a:lnTo>
                <a:lnTo>
                  <a:pt x="23213" y="131240"/>
                </a:lnTo>
                <a:lnTo>
                  <a:pt x="30025" y="134907"/>
                </a:lnTo>
                <a:lnTo>
                  <a:pt x="37106" y="138198"/>
                </a:lnTo>
                <a:lnTo>
                  <a:pt x="45213" y="140392"/>
                </a:lnTo>
                <a:lnTo>
                  <a:pt x="54005" y="141855"/>
                </a:lnTo>
                <a:lnTo>
                  <a:pt x="63252" y="142830"/>
                </a:lnTo>
                <a:lnTo>
                  <a:pt x="72804" y="144327"/>
                </a:lnTo>
                <a:lnTo>
                  <a:pt x="82559" y="146171"/>
                </a:lnTo>
                <a:lnTo>
                  <a:pt x="92448" y="148247"/>
                </a:lnTo>
                <a:lnTo>
                  <a:pt x="103275" y="148785"/>
                </a:lnTo>
                <a:lnTo>
                  <a:pt x="114726" y="148297"/>
                </a:lnTo>
                <a:lnTo>
                  <a:pt x="126593" y="147125"/>
                </a:lnTo>
                <a:lnTo>
                  <a:pt x="138738" y="146343"/>
                </a:lnTo>
                <a:lnTo>
                  <a:pt x="151068" y="145822"/>
                </a:lnTo>
                <a:lnTo>
                  <a:pt x="163521" y="145474"/>
                </a:lnTo>
                <a:lnTo>
                  <a:pt x="174364" y="144396"/>
                </a:lnTo>
                <a:lnTo>
                  <a:pt x="184132" y="142831"/>
                </a:lnTo>
                <a:lnTo>
                  <a:pt x="193184" y="140941"/>
                </a:lnTo>
                <a:lnTo>
                  <a:pt x="200912" y="137987"/>
                </a:lnTo>
                <a:lnTo>
                  <a:pt x="207757" y="134325"/>
                </a:lnTo>
                <a:lnTo>
                  <a:pt x="214014" y="130190"/>
                </a:lnTo>
                <a:lnTo>
                  <a:pt x="219032" y="125740"/>
                </a:lnTo>
                <a:lnTo>
                  <a:pt x="223224" y="121080"/>
                </a:lnTo>
                <a:lnTo>
                  <a:pt x="226865" y="116280"/>
                </a:lnTo>
                <a:lnTo>
                  <a:pt x="229293" y="110540"/>
                </a:lnTo>
                <a:lnTo>
                  <a:pt x="230911" y="104174"/>
                </a:lnTo>
                <a:lnTo>
                  <a:pt x="231990" y="97389"/>
                </a:lnTo>
                <a:lnTo>
                  <a:pt x="232709" y="91173"/>
                </a:lnTo>
                <a:lnTo>
                  <a:pt x="233189" y="85335"/>
                </a:lnTo>
                <a:lnTo>
                  <a:pt x="233508" y="79750"/>
                </a:lnTo>
                <a:lnTo>
                  <a:pt x="232028" y="74334"/>
                </a:lnTo>
                <a:lnTo>
                  <a:pt x="229348" y="69029"/>
                </a:lnTo>
                <a:lnTo>
                  <a:pt x="225868" y="63799"/>
                </a:lnTo>
                <a:lnTo>
                  <a:pt x="221855" y="58620"/>
                </a:lnTo>
                <a:lnTo>
                  <a:pt x="217486" y="53473"/>
                </a:lnTo>
                <a:lnTo>
                  <a:pt x="212880" y="48349"/>
                </a:lnTo>
                <a:lnTo>
                  <a:pt x="203247" y="38139"/>
                </a:lnTo>
                <a:lnTo>
                  <a:pt x="183265" y="17788"/>
                </a:lnTo>
                <a:lnTo>
                  <a:pt x="177366" y="13552"/>
                </a:lnTo>
                <a:lnTo>
                  <a:pt x="170893" y="9881"/>
                </a:lnTo>
                <a:lnTo>
                  <a:pt x="15032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MARTInkAnnotation203"/>
          <p:cNvSpPr/>
          <p:nvPr/>
        </p:nvSpPr>
        <p:spPr>
          <a:xfrm>
            <a:off x="1646280" y="4511520"/>
            <a:ext cx="68400" cy="6480"/>
          </a:xfrm>
          <a:custGeom>
            <a:avLst/>
            <a:gdLst>
              <a:gd name="textAreaLeft" fmla="*/ 0 w 68400"/>
              <a:gd name="textAreaRight" fmla="*/ 68760 w 684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68433" h="7621">
                <a:moveTo>
                  <a:pt x="45572" y="7620"/>
                </a:moveTo>
                <a:lnTo>
                  <a:pt x="41527" y="7620"/>
                </a:lnTo>
                <a:lnTo>
                  <a:pt x="37795" y="6774"/>
                </a:lnTo>
                <a:lnTo>
                  <a:pt x="32768" y="5363"/>
                </a:lnTo>
                <a:lnTo>
                  <a:pt x="26876" y="3575"/>
                </a:lnTo>
                <a:lnTo>
                  <a:pt x="22101" y="2383"/>
                </a:lnTo>
                <a:lnTo>
                  <a:pt x="18072" y="1589"/>
                </a:lnTo>
                <a:lnTo>
                  <a:pt x="14539" y="1059"/>
                </a:lnTo>
                <a:lnTo>
                  <a:pt x="11336" y="706"/>
                </a:lnTo>
                <a:lnTo>
                  <a:pt x="8355" y="471"/>
                </a:lnTo>
                <a:lnTo>
                  <a:pt x="0" y="8"/>
                </a:lnTo>
                <a:lnTo>
                  <a:pt x="38414" y="0"/>
                </a:lnTo>
                <a:lnTo>
                  <a:pt x="42493" y="847"/>
                </a:lnTo>
                <a:lnTo>
                  <a:pt x="46906" y="2258"/>
                </a:lnTo>
                <a:lnTo>
                  <a:pt x="51542" y="4045"/>
                </a:lnTo>
                <a:lnTo>
                  <a:pt x="55478" y="5237"/>
                </a:lnTo>
                <a:lnTo>
                  <a:pt x="58950" y="6031"/>
                </a:lnTo>
                <a:lnTo>
                  <a:pt x="68268" y="7593"/>
                </a:lnTo>
                <a:lnTo>
                  <a:pt x="68323" y="6755"/>
                </a:lnTo>
                <a:lnTo>
                  <a:pt x="6843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MARTInkAnnotation204"/>
          <p:cNvSpPr/>
          <p:nvPr/>
        </p:nvSpPr>
        <p:spPr>
          <a:xfrm>
            <a:off x="1752480" y="4411800"/>
            <a:ext cx="228600" cy="217440"/>
          </a:xfrm>
          <a:custGeom>
            <a:avLst/>
            <a:gdLst>
              <a:gd name="textAreaLeft" fmla="*/ 0 w 228600"/>
              <a:gd name="textAreaRight" fmla="*/ 228960 w 2286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28414" h="216704">
                <a:moveTo>
                  <a:pt x="53328" y="0"/>
                </a:moveTo>
                <a:lnTo>
                  <a:pt x="53328" y="4045"/>
                </a:lnTo>
                <a:lnTo>
                  <a:pt x="52481" y="6083"/>
                </a:lnTo>
                <a:lnTo>
                  <a:pt x="49283" y="10606"/>
                </a:lnTo>
                <a:lnTo>
                  <a:pt x="45039" y="15438"/>
                </a:lnTo>
                <a:lnTo>
                  <a:pt x="39461" y="21394"/>
                </a:lnTo>
                <a:lnTo>
                  <a:pt x="12660" y="48288"/>
                </a:lnTo>
                <a:lnTo>
                  <a:pt x="10129" y="49972"/>
                </a:lnTo>
                <a:lnTo>
                  <a:pt x="5060" y="51843"/>
                </a:lnTo>
                <a:lnTo>
                  <a:pt x="3369" y="53189"/>
                </a:lnTo>
                <a:lnTo>
                  <a:pt x="2242" y="54933"/>
                </a:lnTo>
                <a:lnTo>
                  <a:pt x="120" y="60607"/>
                </a:lnTo>
                <a:lnTo>
                  <a:pt x="14" y="65280"/>
                </a:lnTo>
                <a:lnTo>
                  <a:pt x="0" y="63444"/>
                </a:lnTo>
                <a:lnTo>
                  <a:pt x="842" y="62616"/>
                </a:lnTo>
                <a:lnTo>
                  <a:pt x="2251" y="62064"/>
                </a:lnTo>
                <a:lnTo>
                  <a:pt x="8279" y="61287"/>
                </a:lnTo>
                <a:lnTo>
                  <a:pt x="10595" y="61178"/>
                </a:lnTo>
                <a:lnTo>
                  <a:pt x="14680" y="60259"/>
                </a:lnTo>
                <a:lnTo>
                  <a:pt x="19942" y="58799"/>
                </a:lnTo>
                <a:lnTo>
                  <a:pt x="25991" y="56979"/>
                </a:lnTo>
                <a:lnTo>
                  <a:pt x="31717" y="55766"/>
                </a:lnTo>
                <a:lnTo>
                  <a:pt x="37227" y="54958"/>
                </a:lnTo>
                <a:lnTo>
                  <a:pt x="42594" y="54419"/>
                </a:lnTo>
                <a:lnTo>
                  <a:pt x="48712" y="54059"/>
                </a:lnTo>
                <a:lnTo>
                  <a:pt x="62283" y="53659"/>
                </a:lnTo>
                <a:lnTo>
                  <a:pt x="69458" y="54400"/>
                </a:lnTo>
                <a:lnTo>
                  <a:pt x="76781" y="55740"/>
                </a:lnTo>
                <a:lnTo>
                  <a:pt x="84204" y="57480"/>
                </a:lnTo>
                <a:lnTo>
                  <a:pt x="91692" y="59487"/>
                </a:lnTo>
                <a:lnTo>
                  <a:pt x="106785" y="63974"/>
                </a:lnTo>
                <a:lnTo>
                  <a:pt x="129562" y="71261"/>
                </a:lnTo>
                <a:lnTo>
                  <a:pt x="137171" y="74601"/>
                </a:lnTo>
                <a:lnTo>
                  <a:pt x="144784" y="78520"/>
                </a:lnTo>
                <a:lnTo>
                  <a:pt x="152398" y="82827"/>
                </a:lnTo>
                <a:lnTo>
                  <a:pt x="160015" y="86545"/>
                </a:lnTo>
                <a:lnTo>
                  <a:pt x="167633" y="89870"/>
                </a:lnTo>
                <a:lnTo>
                  <a:pt x="175251" y="92933"/>
                </a:lnTo>
                <a:lnTo>
                  <a:pt x="182023" y="97516"/>
                </a:lnTo>
                <a:lnTo>
                  <a:pt x="188232" y="103110"/>
                </a:lnTo>
                <a:lnTo>
                  <a:pt x="199645" y="115253"/>
                </a:lnTo>
                <a:lnTo>
                  <a:pt x="210362" y="126295"/>
                </a:lnTo>
                <a:lnTo>
                  <a:pt x="214744" y="131610"/>
                </a:lnTo>
                <a:lnTo>
                  <a:pt x="218512" y="136847"/>
                </a:lnTo>
                <a:lnTo>
                  <a:pt x="221871" y="142031"/>
                </a:lnTo>
                <a:lnTo>
                  <a:pt x="224110" y="147181"/>
                </a:lnTo>
                <a:lnTo>
                  <a:pt x="225603" y="152307"/>
                </a:lnTo>
                <a:lnTo>
                  <a:pt x="226597" y="157418"/>
                </a:lnTo>
                <a:lnTo>
                  <a:pt x="227261" y="163366"/>
                </a:lnTo>
                <a:lnTo>
                  <a:pt x="227703" y="169871"/>
                </a:lnTo>
                <a:lnTo>
                  <a:pt x="228326" y="186646"/>
                </a:lnTo>
                <a:lnTo>
                  <a:pt x="228413" y="190470"/>
                </a:lnTo>
                <a:lnTo>
                  <a:pt x="226778" y="193867"/>
                </a:lnTo>
                <a:lnTo>
                  <a:pt x="223995" y="196978"/>
                </a:lnTo>
                <a:lnTo>
                  <a:pt x="217233" y="202693"/>
                </a:lnTo>
                <a:lnTo>
                  <a:pt x="211406" y="208054"/>
                </a:lnTo>
                <a:lnTo>
                  <a:pt x="207820" y="210670"/>
                </a:lnTo>
                <a:lnTo>
                  <a:pt x="203736" y="213260"/>
                </a:lnTo>
                <a:lnTo>
                  <a:pt x="199320" y="215833"/>
                </a:lnTo>
                <a:lnTo>
                  <a:pt x="194683" y="216703"/>
                </a:lnTo>
                <a:lnTo>
                  <a:pt x="189898" y="216435"/>
                </a:lnTo>
                <a:lnTo>
                  <a:pt x="185015" y="215410"/>
                </a:lnTo>
                <a:lnTo>
                  <a:pt x="179219" y="214727"/>
                </a:lnTo>
                <a:lnTo>
                  <a:pt x="172815" y="214271"/>
                </a:lnTo>
                <a:lnTo>
                  <a:pt x="159773" y="213766"/>
                </a:lnTo>
                <a:lnTo>
                  <a:pt x="137148" y="2133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MARTInkAnnotation205"/>
          <p:cNvSpPr/>
          <p:nvPr/>
        </p:nvSpPr>
        <p:spPr>
          <a:xfrm>
            <a:off x="1782720" y="4411800"/>
            <a:ext cx="220680" cy="360"/>
          </a:xfrm>
          <a:custGeom>
            <a:avLst/>
            <a:gdLst>
              <a:gd name="textAreaLeft" fmla="*/ 0 w 220680"/>
              <a:gd name="textAreaRight" fmla="*/ 221040 w 2206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20981" h="1">
                <a:moveTo>
                  <a:pt x="0" y="0"/>
                </a:moveTo>
                <a:lnTo>
                  <a:pt x="22098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MARTInkAnnotation206"/>
          <p:cNvSpPr/>
          <p:nvPr/>
        </p:nvSpPr>
        <p:spPr>
          <a:xfrm>
            <a:off x="2057400" y="4549680"/>
            <a:ext cx="198360" cy="6480"/>
          </a:xfrm>
          <a:custGeom>
            <a:avLst/>
            <a:gdLst>
              <a:gd name="textAreaLeft" fmla="*/ 0 w 198360"/>
              <a:gd name="textAreaRight" fmla="*/ 198720 w 1983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198121" h="7621">
                <a:moveTo>
                  <a:pt x="0" y="7620"/>
                </a:moveTo>
                <a:lnTo>
                  <a:pt x="4045" y="3575"/>
                </a:lnTo>
                <a:lnTo>
                  <a:pt x="7777" y="2383"/>
                </a:lnTo>
                <a:lnTo>
                  <a:pt x="12805" y="1589"/>
                </a:lnTo>
                <a:lnTo>
                  <a:pt x="18696" y="1059"/>
                </a:lnTo>
                <a:lnTo>
                  <a:pt x="23471" y="706"/>
                </a:lnTo>
                <a:lnTo>
                  <a:pt x="31034" y="314"/>
                </a:lnTo>
                <a:lnTo>
                  <a:pt x="52187" y="93"/>
                </a:lnTo>
                <a:lnTo>
                  <a:pt x="19812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MARTInkAnnotation207"/>
          <p:cNvSpPr/>
          <p:nvPr/>
        </p:nvSpPr>
        <p:spPr>
          <a:xfrm>
            <a:off x="2324160" y="4397400"/>
            <a:ext cx="189000" cy="220680"/>
          </a:xfrm>
          <a:custGeom>
            <a:avLst/>
            <a:gdLst>
              <a:gd name="textAreaLeft" fmla="*/ 0 w 189000"/>
              <a:gd name="textAreaRight" fmla="*/ 189360 w 1890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89663" h="220526">
                <a:moveTo>
                  <a:pt x="0" y="7620"/>
                </a:moveTo>
                <a:lnTo>
                  <a:pt x="0" y="3575"/>
                </a:lnTo>
                <a:lnTo>
                  <a:pt x="847" y="2383"/>
                </a:lnTo>
                <a:lnTo>
                  <a:pt x="2258" y="1589"/>
                </a:lnTo>
                <a:lnTo>
                  <a:pt x="6561" y="314"/>
                </a:lnTo>
                <a:lnTo>
                  <a:pt x="11665" y="140"/>
                </a:lnTo>
                <a:lnTo>
                  <a:pt x="129581" y="0"/>
                </a:lnTo>
                <a:lnTo>
                  <a:pt x="137187" y="847"/>
                </a:lnTo>
                <a:lnTo>
                  <a:pt x="144799" y="2258"/>
                </a:lnTo>
                <a:lnTo>
                  <a:pt x="152412" y="4045"/>
                </a:lnTo>
                <a:lnTo>
                  <a:pt x="158335" y="5237"/>
                </a:lnTo>
                <a:lnTo>
                  <a:pt x="163130" y="6031"/>
                </a:lnTo>
                <a:lnTo>
                  <a:pt x="167174" y="6561"/>
                </a:lnTo>
                <a:lnTo>
                  <a:pt x="171562" y="7761"/>
                </a:lnTo>
                <a:lnTo>
                  <a:pt x="176182" y="9407"/>
                </a:lnTo>
                <a:lnTo>
                  <a:pt x="187672" y="14088"/>
                </a:lnTo>
                <a:lnTo>
                  <a:pt x="188615" y="15319"/>
                </a:lnTo>
                <a:lnTo>
                  <a:pt x="189243" y="16986"/>
                </a:lnTo>
                <a:lnTo>
                  <a:pt x="189662" y="18944"/>
                </a:lnTo>
                <a:lnTo>
                  <a:pt x="189095" y="20250"/>
                </a:lnTo>
                <a:lnTo>
                  <a:pt x="187870" y="21120"/>
                </a:lnTo>
                <a:lnTo>
                  <a:pt x="183405" y="22933"/>
                </a:lnTo>
                <a:lnTo>
                  <a:pt x="175776" y="26562"/>
                </a:lnTo>
                <a:lnTo>
                  <a:pt x="170524" y="28714"/>
                </a:lnTo>
                <a:lnTo>
                  <a:pt x="164483" y="30996"/>
                </a:lnTo>
                <a:lnTo>
                  <a:pt x="157915" y="33364"/>
                </a:lnTo>
                <a:lnTo>
                  <a:pt x="150997" y="34943"/>
                </a:lnTo>
                <a:lnTo>
                  <a:pt x="143845" y="35996"/>
                </a:lnTo>
                <a:lnTo>
                  <a:pt x="136537" y="36697"/>
                </a:lnTo>
                <a:lnTo>
                  <a:pt x="129124" y="38011"/>
                </a:lnTo>
                <a:lnTo>
                  <a:pt x="121643" y="39735"/>
                </a:lnTo>
                <a:lnTo>
                  <a:pt x="114115" y="41730"/>
                </a:lnTo>
                <a:lnTo>
                  <a:pt x="106557" y="43060"/>
                </a:lnTo>
                <a:lnTo>
                  <a:pt x="98978" y="43947"/>
                </a:lnTo>
                <a:lnTo>
                  <a:pt x="91386" y="44538"/>
                </a:lnTo>
                <a:lnTo>
                  <a:pt x="84630" y="45779"/>
                </a:lnTo>
                <a:lnTo>
                  <a:pt x="78434" y="47452"/>
                </a:lnTo>
                <a:lnTo>
                  <a:pt x="72609" y="49415"/>
                </a:lnTo>
                <a:lnTo>
                  <a:pt x="67880" y="50723"/>
                </a:lnTo>
                <a:lnTo>
                  <a:pt x="63880" y="51595"/>
                </a:lnTo>
                <a:lnTo>
                  <a:pt x="60366" y="52177"/>
                </a:lnTo>
                <a:lnTo>
                  <a:pt x="57178" y="52565"/>
                </a:lnTo>
                <a:lnTo>
                  <a:pt x="51377" y="52995"/>
                </a:lnTo>
                <a:lnTo>
                  <a:pt x="50338" y="53957"/>
                </a:lnTo>
                <a:lnTo>
                  <a:pt x="50492" y="55444"/>
                </a:lnTo>
                <a:lnTo>
                  <a:pt x="52921" y="59355"/>
                </a:lnTo>
                <a:lnTo>
                  <a:pt x="56823" y="63916"/>
                </a:lnTo>
                <a:lnTo>
                  <a:pt x="61379" y="68765"/>
                </a:lnTo>
                <a:lnTo>
                  <a:pt x="63780" y="71243"/>
                </a:lnTo>
                <a:lnTo>
                  <a:pt x="67920" y="74589"/>
                </a:lnTo>
                <a:lnTo>
                  <a:pt x="73220" y="78512"/>
                </a:lnTo>
                <a:lnTo>
                  <a:pt x="79293" y="82822"/>
                </a:lnTo>
                <a:lnTo>
                  <a:pt x="85883" y="86541"/>
                </a:lnTo>
                <a:lnTo>
                  <a:pt x="92815" y="89868"/>
                </a:lnTo>
                <a:lnTo>
                  <a:pt x="99977" y="92932"/>
                </a:lnTo>
                <a:lnTo>
                  <a:pt x="106445" y="96668"/>
                </a:lnTo>
                <a:lnTo>
                  <a:pt x="112450" y="100852"/>
                </a:lnTo>
                <a:lnTo>
                  <a:pt x="118146" y="105334"/>
                </a:lnTo>
                <a:lnTo>
                  <a:pt x="125331" y="110017"/>
                </a:lnTo>
                <a:lnTo>
                  <a:pt x="133508" y="114831"/>
                </a:lnTo>
                <a:lnTo>
                  <a:pt x="142345" y="119734"/>
                </a:lnTo>
                <a:lnTo>
                  <a:pt x="149084" y="124696"/>
                </a:lnTo>
                <a:lnTo>
                  <a:pt x="154423" y="129698"/>
                </a:lnTo>
                <a:lnTo>
                  <a:pt x="158829" y="134725"/>
                </a:lnTo>
                <a:lnTo>
                  <a:pt x="162612" y="139770"/>
                </a:lnTo>
                <a:lnTo>
                  <a:pt x="165982" y="144827"/>
                </a:lnTo>
                <a:lnTo>
                  <a:pt x="169075" y="149892"/>
                </a:lnTo>
                <a:lnTo>
                  <a:pt x="171983" y="154961"/>
                </a:lnTo>
                <a:lnTo>
                  <a:pt x="177473" y="165109"/>
                </a:lnTo>
                <a:lnTo>
                  <a:pt x="178428" y="169339"/>
                </a:lnTo>
                <a:lnTo>
                  <a:pt x="178219" y="173007"/>
                </a:lnTo>
                <a:lnTo>
                  <a:pt x="177233" y="176298"/>
                </a:lnTo>
                <a:lnTo>
                  <a:pt x="175729" y="180185"/>
                </a:lnTo>
                <a:lnTo>
                  <a:pt x="173879" y="184470"/>
                </a:lnTo>
                <a:lnTo>
                  <a:pt x="171800" y="189020"/>
                </a:lnTo>
                <a:lnTo>
                  <a:pt x="167873" y="192900"/>
                </a:lnTo>
                <a:lnTo>
                  <a:pt x="162715" y="196333"/>
                </a:lnTo>
                <a:lnTo>
                  <a:pt x="156737" y="199469"/>
                </a:lnTo>
                <a:lnTo>
                  <a:pt x="150212" y="202406"/>
                </a:lnTo>
                <a:lnTo>
                  <a:pt x="143321" y="205210"/>
                </a:lnTo>
                <a:lnTo>
                  <a:pt x="136187" y="207927"/>
                </a:lnTo>
                <a:lnTo>
                  <a:pt x="128045" y="210585"/>
                </a:lnTo>
                <a:lnTo>
                  <a:pt x="119230" y="213203"/>
                </a:lnTo>
                <a:lnTo>
                  <a:pt x="109967" y="215795"/>
                </a:lnTo>
                <a:lnTo>
                  <a:pt x="101251" y="217524"/>
                </a:lnTo>
                <a:lnTo>
                  <a:pt x="92901" y="218676"/>
                </a:lnTo>
                <a:lnTo>
                  <a:pt x="84794" y="219444"/>
                </a:lnTo>
                <a:lnTo>
                  <a:pt x="76850" y="219956"/>
                </a:lnTo>
                <a:lnTo>
                  <a:pt x="69013" y="220297"/>
                </a:lnTo>
                <a:lnTo>
                  <a:pt x="61249" y="220525"/>
                </a:lnTo>
                <a:lnTo>
                  <a:pt x="54379" y="219830"/>
                </a:lnTo>
                <a:lnTo>
                  <a:pt x="48106" y="218520"/>
                </a:lnTo>
                <a:lnTo>
                  <a:pt x="42231" y="216800"/>
                </a:lnTo>
                <a:lnTo>
                  <a:pt x="36621" y="214806"/>
                </a:lnTo>
                <a:lnTo>
                  <a:pt x="31187" y="212631"/>
                </a:lnTo>
                <a:lnTo>
                  <a:pt x="25871" y="210335"/>
                </a:lnTo>
                <a:lnTo>
                  <a:pt x="21481" y="207109"/>
                </a:lnTo>
                <a:lnTo>
                  <a:pt x="17707" y="203266"/>
                </a:lnTo>
                <a:lnTo>
                  <a:pt x="14345" y="199011"/>
                </a:lnTo>
                <a:lnTo>
                  <a:pt x="11256" y="195327"/>
                </a:lnTo>
                <a:lnTo>
                  <a:pt x="5567" y="188977"/>
                </a:lnTo>
                <a:lnTo>
                  <a:pt x="3712" y="186098"/>
                </a:lnTo>
                <a:lnTo>
                  <a:pt x="2475" y="183332"/>
                </a:lnTo>
                <a:lnTo>
                  <a:pt x="0" y="1752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MARTInkAnnotation208"/>
          <p:cNvSpPr/>
          <p:nvPr/>
        </p:nvSpPr>
        <p:spPr>
          <a:xfrm>
            <a:off x="2556000" y="4365720"/>
            <a:ext cx="187200" cy="244440"/>
          </a:xfrm>
          <a:custGeom>
            <a:avLst/>
            <a:gdLst>
              <a:gd name="textAreaLeft" fmla="*/ 0 w 187200"/>
              <a:gd name="textAreaRight" fmla="*/ 187560 w 1872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87610" h="243841">
                <a:moveTo>
                  <a:pt x="126649" y="0"/>
                </a:moveTo>
                <a:lnTo>
                  <a:pt x="116043" y="10606"/>
                </a:lnTo>
                <a:lnTo>
                  <a:pt x="111958" y="13844"/>
                </a:lnTo>
                <a:lnTo>
                  <a:pt x="106695" y="17696"/>
                </a:lnTo>
                <a:lnTo>
                  <a:pt x="100647" y="21957"/>
                </a:lnTo>
                <a:lnTo>
                  <a:pt x="94921" y="26492"/>
                </a:lnTo>
                <a:lnTo>
                  <a:pt x="89410" y="31208"/>
                </a:lnTo>
                <a:lnTo>
                  <a:pt x="84043" y="36046"/>
                </a:lnTo>
                <a:lnTo>
                  <a:pt x="77078" y="40964"/>
                </a:lnTo>
                <a:lnTo>
                  <a:pt x="69049" y="45936"/>
                </a:lnTo>
                <a:lnTo>
                  <a:pt x="60309" y="50944"/>
                </a:lnTo>
                <a:lnTo>
                  <a:pt x="52789" y="56823"/>
                </a:lnTo>
                <a:lnTo>
                  <a:pt x="46082" y="63282"/>
                </a:lnTo>
                <a:lnTo>
                  <a:pt x="39918" y="70128"/>
                </a:lnTo>
                <a:lnTo>
                  <a:pt x="34115" y="77232"/>
                </a:lnTo>
                <a:lnTo>
                  <a:pt x="28553" y="84508"/>
                </a:lnTo>
                <a:lnTo>
                  <a:pt x="23152" y="91899"/>
                </a:lnTo>
                <a:lnTo>
                  <a:pt x="12635" y="106884"/>
                </a:lnTo>
                <a:lnTo>
                  <a:pt x="7460" y="114436"/>
                </a:lnTo>
                <a:lnTo>
                  <a:pt x="4009" y="122011"/>
                </a:lnTo>
                <a:lnTo>
                  <a:pt x="1709" y="129600"/>
                </a:lnTo>
                <a:lnTo>
                  <a:pt x="176" y="137201"/>
                </a:lnTo>
                <a:lnTo>
                  <a:pt x="0" y="143960"/>
                </a:lnTo>
                <a:lnTo>
                  <a:pt x="730" y="150160"/>
                </a:lnTo>
                <a:lnTo>
                  <a:pt x="2063" y="155987"/>
                </a:lnTo>
                <a:lnTo>
                  <a:pt x="3798" y="161565"/>
                </a:lnTo>
                <a:lnTo>
                  <a:pt x="5802" y="166976"/>
                </a:lnTo>
                <a:lnTo>
                  <a:pt x="7984" y="172278"/>
                </a:lnTo>
                <a:lnTo>
                  <a:pt x="11979" y="177505"/>
                </a:lnTo>
                <a:lnTo>
                  <a:pt x="17183" y="182683"/>
                </a:lnTo>
                <a:lnTo>
                  <a:pt x="23192" y="187829"/>
                </a:lnTo>
                <a:lnTo>
                  <a:pt x="30584" y="192106"/>
                </a:lnTo>
                <a:lnTo>
                  <a:pt x="38899" y="195804"/>
                </a:lnTo>
                <a:lnTo>
                  <a:pt x="47829" y="199116"/>
                </a:lnTo>
                <a:lnTo>
                  <a:pt x="57169" y="201324"/>
                </a:lnTo>
                <a:lnTo>
                  <a:pt x="66783" y="202796"/>
                </a:lnTo>
                <a:lnTo>
                  <a:pt x="76578" y="203777"/>
                </a:lnTo>
                <a:lnTo>
                  <a:pt x="86495" y="204432"/>
                </a:lnTo>
                <a:lnTo>
                  <a:pt x="96493" y="204868"/>
                </a:lnTo>
                <a:lnTo>
                  <a:pt x="124487" y="205482"/>
                </a:lnTo>
                <a:lnTo>
                  <a:pt x="132828" y="205568"/>
                </a:lnTo>
                <a:lnTo>
                  <a:pt x="140928" y="203932"/>
                </a:lnTo>
                <a:lnTo>
                  <a:pt x="148869" y="201148"/>
                </a:lnTo>
                <a:lnTo>
                  <a:pt x="156702" y="197599"/>
                </a:lnTo>
                <a:lnTo>
                  <a:pt x="162771" y="193539"/>
                </a:lnTo>
                <a:lnTo>
                  <a:pt x="167664" y="189140"/>
                </a:lnTo>
                <a:lnTo>
                  <a:pt x="171772" y="184513"/>
                </a:lnTo>
                <a:lnTo>
                  <a:pt x="174511" y="179736"/>
                </a:lnTo>
                <a:lnTo>
                  <a:pt x="176337" y="174857"/>
                </a:lnTo>
                <a:lnTo>
                  <a:pt x="177554" y="169912"/>
                </a:lnTo>
                <a:lnTo>
                  <a:pt x="177519" y="164921"/>
                </a:lnTo>
                <a:lnTo>
                  <a:pt x="176649" y="159901"/>
                </a:lnTo>
                <a:lnTo>
                  <a:pt x="175223" y="154861"/>
                </a:lnTo>
                <a:lnTo>
                  <a:pt x="173425" y="150654"/>
                </a:lnTo>
                <a:lnTo>
                  <a:pt x="169169" y="143722"/>
                </a:lnTo>
                <a:lnTo>
                  <a:pt x="165156" y="140688"/>
                </a:lnTo>
                <a:lnTo>
                  <a:pt x="159940" y="137819"/>
                </a:lnTo>
                <a:lnTo>
                  <a:pt x="153923" y="135059"/>
                </a:lnTo>
                <a:lnTo>
                  <a:pt x="148218" y="133220"/>
                </a:lnTo>
                <a:lnTo>
                  <a:pt x="142722" y="131993"/>
                </a:lnTo>
                <a:lnTo>
                  <a:pt x="137364" y="131175"/>
                </a:lnTo>
                <a:lnTo>
                  <a:pt x="131253" y="130631"/>
                </a:lnTo>
                <a:lnTo>
                  <a:pt x="124638" y="130267"/>
                </a:lnTo>
                <a:lnTo>
                  <a:pt x="111362" y="129863"/>
                </a:lnTo>
                <a:lnTo>
                  <a:pt x="99817" y="129684"/>
                </a:lnTo>
                <a:lnTo>
                  <a:pt x="94368" y="130482"/>
                </a:lnTo>
                <a:lnTo>
                  <a:pt x="89041" y="131862"/>
                </a:lnTo>
                <a:lnTo>
                  <a:pt x="83797" y="133628"/>
                </a:lnTo>
                <a:lnTo>
                  <a:pt x="79455" y="136499"/>
                </a:lnTo>
                <a:lnTo>
                  <a:pt x="75713" y="140106"/>
                </a:lnTo>
                <a:lnTo>
                  <a:pt x="72372" y="144204"/>
                </a:lnTo>
                <a:lnTo>
                  <a:pt x="70144" y="148630"/>
                </a:lnTo>
                <a:lnTo>
                  <a:pt x="68659" y="153273"/>
                </a:lnTo>
                <a:lnTo>
                  <a:pt x="67669" y="158062"/>
                </a:lnTo>
                <a:lnTo>
                  <a:pt x="67856" y="162948"/>
                </a:lnTo>
                <a:lnTo>
                  <a:pt x="68827" y="167899"/>
                </a:lnTo>
                <a:lnTo>
                  <a:pt x="70321" y="172892"/>
                </a:lnTo>
                <a:lnTo>
                  <a:pt x="73010" y="177915"/>
                </a:lnTo>
                <a:lnTo>
                  <a:pt x="76497" y="182957"/>
                </a:lnTo>
                <a:lnTo>
                  <a:pt x="80514" y="188011"/>
                </a:lnTo>
                <a:lnTo>
                  <a:pt x="85732" y="193074"/>
                </a:lnTo>
                <a:lnTo>
                  <a:pt x="91751" y="198143"/>
                </a:lnTo>
                <a:lnTo>
                  <a:pt x="98304" y="203215"/>
                </a:lnTo>
                <a:lnTo>
                  <a:pt x="106059" y="208290"/>
                </a:lnTo>
                <a:lnTo>
                  <a:pt x="114616" y="213367"/>
                </a:lnTo>
                <a:lnTo>
                  <a:pt x="123707" y="218444"/>
                </a:lnTo>
                <a:lnTo>
                  <a:pt x="133154" y="222676"/>
                </a:lnTo>
                <a:lnTo>
                  <a:pt x="142839" y="226344"/>
                </a:lnTo>
                <a:lnTo>
                  <a:pt x="152682" y="229636"/>
                </a:lnTo>
                <a:lnTo>
                  <a:pt x="160938" y="232678"/>
                </a:lnTo>
                <a:lnTo>
                  <a:pt x="168135" y="235552"/>
                </a:lnTo>
                <a:lnTo>
                  <a:pt x="187609" y="2438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MARTInkAnnotation209"/>
          <p:cNvSpPr/>
          <p:nvPr/>
        </p:nvSpPr>
        <p:spPr>
          <a:xfrm>
            <a:off x="2895480" y="4351320"/>
            <a:ext cx="15840" cy="30240"/>
          </a:xfrm>
          <a:custGeom>
            <a:avLst/>
            <a:gdLst>
              <a:gd name="textAreaLeft" fmla="*/ 0 w 15840"/>
              <a:gd name="textAreaRight" fmla="*/ 16200 w 1584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241" h="30481">
                <a:moveTo>
                  <a:pt x="15240" y="0"/>
                </a:moveTo>
                <a:lnTo>
                  <a:pt x="15240" y="11657"/>
                </a:lnTo>
                <a:lnTo>
                  <a:pt x="14394" y="12852"/>
                </a:lnTo>
                <a:lnTo>
                  <a:pt x="12983" y="13648"/>
                </a:lnTo>
                <a:lnTo>
                  <a:pt x="11195" y="14179"/>
                </a:lnTo>
                <a:lnTo>
                  <a:pt x="10003" y="15379"/>
                </a:lnTo>
                <a:lnTo>
                  <a:pt x="9209" y="17026"/>
                </a:lnTo>
                <a:lnTo>
                  <a:pt x="8679" y="18971"/>
                </a:lnTo>
                <a:lnTo>
                  <a:pt x="7480" y="21114"/>
                </a:lnTo>
                <a:lnTo>
                  <a:pt x="5833" y="23390"/>
                </a:lnTo>
                <a:lnTo>
                  <a:pt x="0" y="304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MARTInkAnnotation210"/>
          <p:cNvSpPr/>
          <p:nvPr/>
        </p:nvSpPr>
        <p:spPr>
          <a:xfrm>
            <a:off x="2765520" y="4465800"/>
            <a:ext cx="290520" cy="21960"/>
          </a:xfrm>
          <a:custGeom>
            <a:avLst/>
            <a:gdLst>
              <a:gd name="textAreaLeft" fmla="*/ 0 w 290520"/>
              <a:gd name="textAreaRight" fmla="*/ 290880 w 2905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289561" h="22861">
                <a:moveTo>
                  <a:pt x="0" y="0"/>
                </a:moveTo>
                <a:lnTo>
                  <a:pt x="110026" y="0"/>
                </a:lnTo>
                <a:lnTo>
                  <a:pt x="119918" y="847"/>
                </a:lnTo>
                <a:lnTo>
                  <a:pt x="129898" y="2258"/>
                </a:lnTo>
                <a:lnTo>
                  <a:pt x="139939" y="4045"/>
                </a:lnTo>
                <a:lnTo>
                  <a:pt x="150019" y="5237"/>
                </a:lnTo>
                <a:lnTo>
                  <a:pt x="160127" y="6031"/>
                </a:lnTo>
                <a:lnTo>
                  <a:pt x="170251" y="6561"/>
                </a:lnTo>
                <a:lnTo>
                  <a:pt x="179541" y="7760"/>
                </a:lnTo>
                <a:lnTo>
                  <a:pt x="188274" y="9407"/>
                </a:lnTo>
                <a:lnTo>
                  <a:pt x="196636" y="11351"/>
                </a:lnTo>
                <a:lnTo>
                  <a:pt x="204751" y="12648"/>
                </a:lnTo>
                <a:lnTo>
                  <a:pt x="212700" y="13512"/>
                </a:lnTo>
                <a:lnTo>
                  <a:pt x="220540" y="14088"/>
                </a:lnTo>
                <a:lnTo>
                  <a:pt x="228307" y="15319"/>
                </a:lnTo>
                <a:lnTo>
                  <a:pt x="236025" y="16986"/>
                </a:lnTo>
                <a:lnTo>
                  <a:pt x="243710" y="18944"/>
                </a:lnTo>
                <a:lnTo>
                  <a:pt x="250527" y="20250"/>
                </a:lnTo>
                <a:lnTo>
                  <a:pt x="256765" y="21120"/>
                </a:lnTo>
                <a:lnTo>
                  <a:pt x="262617" y="21700"/>
                </a:lnTo>
                <a:lnTo>
                  <a:pt x="268211" y="22087"/>
                </a:lnTo>
                <a:lnTo>
                  <a:pt x="273634" y="22345"/>
                </a:lnTo>
                <a:lnTo>
                  <a:pt x="289560" y="228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400" bIns="-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7179"/>
          <p:cNvSpPr/>
          <p:nvPr/>
        </p:nvSpPr>
        <p:spPr>
          <a:xfrm>
            <a:off x="2827440" y="4549680"/>
            <a:ext cx="52200" cy="6480"/>
          </a:xfrm>
          <a:custGeom>
            <a:avLst/>
            <a:gdLst>
              <a:gd name="textAreaLeft" fmla="*/ 0 w 52200"/>
              <a:gd name="textAreaRight" fmla="*/ 52560 w 522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52368" h="7619">
                <a:moveTo>
                  <a:pt x="29628" y="7618"/>
                </a:moveTo>
                <a:lnTo>
                  <a:pt x="-13169" y="7618"/>
                </a:lnTo>
                <a:lnTo>
                  <a:pt x="-17129" y="7618"/>
                </a:lnTo>
                <a:lnTo>
                  <a:pt x="-19155" y="6772"/>
                </a:lnTo>
                <a:lnTo>
                  <a:pt x="-21353" y="5361"/>
                </a:lnTo>
                <a:lnTo>
                  <a:pt x="-23665" y="3573"/>
                </a:lnTo>
                <a:lnTo>
                  <a:pt x="-26052" y="2381"/>
                </a:lnTo>
                <a:lnTo>
                  <a:pt x="-28491" y="1587"/>
                </a:lnTo>
                <a:lnTo>
                  <a:pt x="-30963" y="1057"/>
                </a:lnTo>
                <a:lnTo>
                  <a:pt x="31231" y="704"/>
                </a:lnTo>
                <a:lnTo>
                  <a:pt x="27310" y="469"/>
                </a:lnTo>
                <a:lnTo>
                  <a:pt x="18438" y="207"/>
                </a:lnTo>
                <a:lnTo>
                  <a:pt x="0" y="6"/>
                </a:lnTo>
                <a:lnTo>
                  <a:pt x="3446" y="0"/>
                </a:lnTo>
                <a:lnTo>
                  <a:pt x="5400" y="847"/>
                </a:lnTo>
                <a:lnTo>
                  <a:pt x="7549" y="2257"/>
                </a:lnTo>
                <a:lnTo>
                  <a:pt x="13037" y="6559"/>
                </a:lnTo>
                <a:lnTo>
                  <a:pt x="15181" y="6912"/>
                </a:lnTo>
                <a:lnTo>
                  <a:pt x="18303" y="7147"/>
                </a:lnTo>
                <a:lnTo>
                  <a:pt x="25441" y="7409"/>
                </a:lnTo>
                <a:lnTo>
                  <a:pt x="28531" y="7479"/>
                </a:lnTo>
                <a:lnTo>
                  <a:pt x="29628" y="7618"/>
                </a:lnTo>
                <a:close/>
              </a:path>
            </a:pathLst>
          </a:custGeom>
          <a:solidFill>
            <a:srgbClr val="4f81bd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MARTInkAnnotation212"/>
          <p:cNvSpPr/>
          <p:nvPr/>
        </p:nvSpPr>
        <p:spPr>
          <a:xfrm>
            <a:off x="3029040" y="4327560"/>
            <a:ext cx="149040" cy="122040"/>
          </a:xfrm>
          <a:custGeom>
            <a:avLst/>
            <a:gdLst>
              <a:gd name="textAreaLeft" fmla="*/ 0 w 149040"/>
              <a:gd name="textAreaRight" fmla="*/ 149400 w 14904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148309" h="121819">
                <a:moveTo>
                  <a:pt x="94968" y="0"/>
                </a:moveTo>
                <a:lnTo>
                  <a:pt x="94968" y="4045"/>
                </a:lnTo>
                <a:lnTo>
                  <a:pt x="94122" y="6084"/>
                </a:lnTo>
                <a:lnTo>
                  <a:pt x="92711" y="8289"/>
                </a:lnTo>
                <a:lnTo>
                  <a:pt x="90923" y="10606"/>
                </a:lnTo>
                <a:lnTo>
                  <a:pt x="89731" y="12998"/>
                </a:lnTo>
                <a:lnTo>
                  <a:pt x="88937" y="15438"/>
                </a:lnTo>
                <a:lnTo>
                  <a:pt x="88407" y="17912"/>
                </a:lnTo>
                <a:lnTo>
                  <a:pt x="87208" y="20408"/>
                </a:lnTo>
                <a:lnTo>
                  <a:pt x="85561" y="22919"/>
                </a:lnTo>
                <a:lnTo>
                  <a:pt x="83617" y="25439"/>
                </a:lnTo>
                <a:lnTo>
                  <a:pt x="81474" y="27966"/>
                </a:lnTo>
                <a:lnTo>
                  <a:pt x="79198" y="30497"/>
                </a:lnTo>
                <a:lnTo>
                  <a:pt x="76835" y="33032"/>
                </a:lnTo>
                <a:lnTo>
                  <a:pt x="73566" y="35568"/>
                </a:lnTo>
                <a:lnTo>
                  <a:pt x="69694" y="38105"/>
                </a:lnTo>
                <a:lnTo>
                  <a:pt x="65418" y="40643"/>
                </a:lnTo>
                <a:lnTo>
                  <a:pt x="61722" y="43182"/>
                </a:lnTo>
                <a:lnTo>
                  <a:pt x="58410" y="45722"/>
                </a:lnTo>
                <a:lnTo>
                  <a:pt x="55357" y="48261"/>
                </a:lnTo>
                <a:lnTo>
                  <a:pt x="51627" y="50801"/>
                </a:lnTo>
                <a:lnTo>
                  <a:pt x="47447" y="53341"/>
                </a:lnTo>
                <a:lnTo>
                  <a:pt x="42968" y="55881"/>
                </a:lnTo>
                <a:lnTo>
                  <a:pt x="39134" y="59268"/>
                </a:lnTo>
                <a:lnTo>
                  <a:pt x="35732" y="63218"/>
                </a:lnTo>
                <a:lnTo>
                  <a:pt x="32617" y="67545"/>
                </a:lnTo>
                <a:lnTo>
                  <a:pt x="28848" y="71277"/>
                </a:lnTo>
                <a:lnTo>
                  <a:pt x="24641" y="74612"/>
                </a:lnTo>
                <a:lnTo>
                  <a:pt x="20144" y="77681"/>
                </a:lnTo>
                <a:lnTo>
                  <a:pt x="17145" y="80574"/>
                </a:lnTo>
                <a:lnTo>
                  <a:pt x="15146" y="83350"/>
                </a:lnTo>
                <a:lnTo>
                  <a:pt x="13814" y="86046"/>
                </a:lnTo>
                <a:lnTo>
                  <a:pt x="12078" y="87844"/>
                </a:lnTo>
                <a:lnTo>
                  <a:pt x="10075" y="89042"/>
                </a:lnTo>
                <a:lnTo>
                  <a:pt x="7892" y="89842"/>
                </a:lnTo>
                <a:lnTo>
                  <a:pt x="5591" y="91221"/>
                </a:lnTo>
                <a:lnTo>
                  <a:pt x="3210" y="92988"/>
                </a:lnTo>
                <a:lnTo>
                  <a:pt x="776" y="95012"/>
                </a:lnTo>
                <a:lnTo>
                  <a:pt x="0" y="97208"/>
                </a:lnTo>
                <a:lnTo>
                  <a:pt x="330" y="99519"/>
                </a:lnTo>
                <a:lnTo>
                  <a:pt x="2896" y="105266"/>
                </a:lnTo>
                <a:lnTo>
                  <a:pt x="4800" y="106584"/>
                </a:lnTo>
                <a:lnTo>
                  <a:pt x="7763" y="108309"/>
                </a:lnTo>
                <a:lnTo>
                  <a:pt x="11431" y="110306"/>
                </a:lnTo>
                <a:lnTo>
                  <a:pt x="15570" y="111638"/>
                </a:lnTo>
                <a:lnTo>
                  <a:pt x="20023" y="112525"/>
                </a:lnTo>
                <a:lnTo>
                  <a:pt x="24684" y="113117"/>
                </a:lnTo>
                <a:lnTo>
                  <a:pt x="29485" y="114358"/>
                </a:lnTo>
                <a:lnTo>
                  <a:pt x="34380" y="116032"/>
                </a:lnTo>
                <a:lnTo>
                  <a:pt x="39336" y="117995"/>
                </a:lnTo>
                <a:lnTo>
                  <a:pt x="45180" y="119303"/>
                </a:lnTo>
                <a:lnTo>
                  <a:pt x="51616" y="120175"/>
                </a:lnTo>
                <a:lnTo>
                  <a:pt x="58447" y="120757"/>
                </a:lnTo>
                <a:lnTo>
                  <a:pt x="65541" y="121145"/>
                </a:lnTo>
                <a:lnTo>
                  <a:pt x="80196" y="121575"/>
                </a:lnTo>
                <a:lnTo>
                  <a:pt x="98682" y="121818"/>
                </a:lnTo>
                <a:lnTo>
                  <a:pt x="105064" y="121006"/>
                </a:lnTo>
                <a:lnTo>
                  <a:pt x="111858" y="119617"/>
                </a:lnTo>
                <a:lnTo>
                  <a:pt x="118929" y="117845"/>
                </a:lnTo>
                <a:lnTo>
                  <a:pt x="124488" y="116663"/>
                </a:lnTo>
                <a:lnTo>
                  <a:pt x="129042" y="115876"/>
                </a:lnTo>
                <a:lnTo>
                  <a:pt x="132924" y="115350"/>
                </a:lnTo>
                <a:lnTo>
                  <a:pt x="136359" y="114154"/>
                </a:lnTo>
                <a:lnTo>
                  <a:pt x="139495" y="112509"/>
                </a:lnTo>
                <a:lnTo>
                  <a:pt x="148308" y="1066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MARTInkAnnotation213"/>
          <p:cNvSpPr/>
          <p:nvPr/>
        </p:nvSpPr>
        <p:spPr>
          <a:xfrm>
            <a:off x="3178080" y="4343400"/>
            <a:ext cx="38160" cy="228600"/>
          </a:xfrm>
          <a:custGeom>
            <a:avLst/>
            <a:gdLst>
              <a:gd name="textAreaLeft" fmla="*/ 0 w 38160"/>
              <a:gd name="textAreaRight" fmla="*/ 38520 w 381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38070" h="228601">
                <a:moveTo>
                  <a:pt x="38069" y="0"/>
                </a:moveTo>
                <a:lnTo>
                  <a:pt x="34024" y="4045"/>
                </a:lnTo>
                <a:lnTo>
                  <a:pt x="32832" y="6083"/>
                </a:lnTo>
                <a:lnTo>
                  <a:pt x="32038" y="8289"/>
                </a:lnTo>
                <a:lnTo>
                  <a:pt x="30763" y="13867"/>
                </a:lnTo>
                <a:lnTo>
                  <a:pt x="29812" y="16018"/>
                </a:lnTo>
                <a:lnTo>
                  <a:pt x="26497" y="22924"/>
                </a:lnTo>
                <a:lnTo>
                  <a:pt x="12545" y="51029"/>
                </a:lnTo>
                <a:lnTo>
                  <a:pt x="10893" y="56879"/>
                </a:lnTo>
                <a:lnTo>
                  <a:pt x="9792" y="63319"/>
                </a:lnTo>
                <a:lnTo>
                  <a:pt x="9058" y="70153"/>
                </a:lnTo>
                <a:lnTo>
                  <a:pt x="7721" y="76402"/>
                </a:lnTo>
                <a:lnTo>
                  <a:pt x="5984" y="82262"/>
                </a:lnTo>
                <a:lnTo>
                  <a:pt x="3979" y="87861"/>
                </a:lnTo>
                <a:lnTo>
                  <a:pt x="2643" y="94134"/>
                </a:lnTo>
                <a:lnTo>
                  <a:pt x="1751" y="100856"/>
                </a:lnTo>
                <a:lnTo>
                  <a:pt x="1158" y="107877"/>
                </a:lnTo>
                <a:lnTo>
                  <a:pt x="761" y="115098"/>
                </a:lnTo>
                <a:lnTo>
                  <a:pt x="321" y="129895"/>
                </a:lnTo>
                <a:lnTo>
                  <a:pt x="0" y="175292"/>
                </a:lnTo>
                <a:lnTo>
                  <a:pt x="837" y="182054"/>
                </a:lnTo>
                <a:lnTo>
                  <a:pt x="2241" y="188256"/>
                </a:lnTo>
                <a:lnTo>
                  <a:pt x="4024" y="194084"/>
                </a:lnTo>
                <a:lnTo>
                  <a:pt x="5212" y="198816"/>
                </a:lnTo>
                <a:lnTo>
                  <a:pt x="6005" y="202818"/>
                </a:lnTo>
                <a:lnTo>
                  <a:pt x="6533" y="206332"/>
                </a:lnTo>
                <a:lnTo>
                  <a:pt x="7732" y="210368"/>
                </a:lnTo>
                <a:lnTo>
                  <a:pt x="9377" y="214752"/>
                </a:lnTo>
                <a:lnTo>
                  <a:pt x="15209" y="2286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MARTInkAnnotation214"/>
          <p:cNvSpPr/>
          <p:nvPr/>
        </p:nvSpPr>
        <p:spPr>
          <a:xfrm>
            <a:off x="1440000" y="4754520"/>
            <a:ext cx="206280" cy="61920"/>
          </a:xfrm>
          <a:custGeom>
            <a:avLst/>
            <a:gdLst>
              <a:gd name="textAreaLeft" fmla="*/ 0 w 206280"/>
              <a:gd name="textAreaRight" fmla="*/ 206640 w 2062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05389" h="60961">
                <a:moveTo>
                  <a:pt x="52988" y="0"/>
                </a:moveTo>
                <a:lnTo>
                  <a:pt x="46427" y="0"/>
                </a:lnTo>
                <a:lnTo>
                  <a:pt x="45228" y="846"/>
                </a:lnTo>
                <a:lnTo>
                  <a:pt x="43581" y="2258"/>
                </a:lnTo>
                <a:lnTo>
                  <a:pt x="41637" y="4045"/>
                </a:lnTo>
                <a:lnTo>
                  <a:pt x="37219" y="8289"/>
                </a:lnTo>
                <a:lnTo>
                  <a:pt x="34855" y="10606"/>
                </a:lnTo>
                <a:lnTo>
                  <a:pt x="33279" y="12997"/>
                </a:lnTo>
                <a:lnTo>
                  <a:pt x="32229" y="15438"/>
                </a:lnTo>
                <a:lnTo>
                  <a:pt x="31529" y="17912"/>
                </a:lnTo>
                <a:lnTo>
                  <a:pt x="30215" y="20408"/>
                </a:lnTo>
                <a:lnTo>
                  <a:pt x="28493" y="22919"/>
                </a:lnTo>
                <a:lnTo>
                  <a:pt x="26498" y="25439"/>
                </a:lnTo>
                <a:lnTo>
                  <a:pt x="24321" y="27966"/>
                </a:lnTo>
                <a:lnTo>
                  <a:pt x="22024" y="30497"/>
                </a:lnTo>
                <a:lnTo>
                  <a:pt x="17213" y="35568"/>
                </a:lnTo>
                <a:lnTo>
                  <a:pt x="12252" y="40643"/>
                </a:lnTo>
                <a:lnTo>
                  <a:pt x="10591" y="43182"/>
                </a:lnTo>
                <a:lnTo>
                  <a:pt x="9483" y="45722"/>
                </a:lnTo>
                <a:lnTo>
                  <a:pt x="8745" y="48261"/>
                </a:lnTo>
                <a:lnTo>
                  <a:pt x="7406" y="49954"/>
                </a:lnTo>
                <a:lnTo>
                  <a:pt x="5667" y="51083"/>
                </a:lnTo>
                <a:lnTo>
                  <a:pt x="837" y="52894"/>
                </a:lnTo>
                <a:lnTo>
                  <a:pt x="441" y="53889"/>
                </a:lnTo>
                <a:lnTo>
                  <a:pt x="176" y="55400"/>
                </a:lnTo>
                <a:lnTo>
                  <a:pt x="0" y="57253"/>
                </a:lnTo>
                <a:lnTo>
                  <a:pt x="730" y="58489"/>
                </a:lnTo>
                <a:lnTo>
                  <a:pt x="2062" y="59313"/>
                </a:lnTo>
                <a:lnTo>
                  <a:pt x="5801" y="60228"/>
                </a:lnTo>
                <a:lnTo>
                  <a:pt x="10285" y="60635"/>
                </a:lnTo>
                <a:lnTo>
                  <a:pt x="15100" y="60816"/>
                </a:lnTo>
                <a:lnTo>
                  <a:pt x="24829" y="60917"/>
                </a:lnTo>
                <a:lnTo>
                  <a:pt x="58204" y="60958"/>
                </a:lnTo>
                <a:lnTo>
                  <a:pt x="64085" y="60112"/>
                </a:lnTo>
                <a:lnTo>
                  <a:pt x="70546" y="58701"/>
                </a:lnTo>
                <a:lnTo>
                  <a:pt x="77394" y="56914"/>
                </a:lnTo>
                <a:lnTo>
                  <a:pt x="83652" y="55723"/>
                </a:lnTo>
                <a:lnTo>
                  <a:pt x="89517" y="54928"/>
                </a:lnTo>
                <a:lnTo>
                  <a:pt x="95121" y="54399"/>
                </a:lnTo>
                <a:lnTo>
                  <a:pt x="101397" y="54046"/>
                </a:lnTo>
                <a:lnTo>
                  <a:pt x="115143" y="53654"/>
                </a:lnTo>
                <a:lnTo>
                  <a:pt x="149124" y="53359"/>
                </a:lnTo>
                <a:lnTo>
                  <a:pt x="184961" y="53340"/>
                </a:lnTo>
                <a:lnTo>
                  <a:pt x="187537" y="54187"/>
                </a:lnTo>
                <a:lnTo>
                  <a:pt x="190100" y="55598"/>
                </a:lnTo>
                <a:lnTo>
                  <a:pt x="192656" y="57386"/>
                </a:lnTo>
                <a:lnTo>
                  <a:pt x="195207" y="58577"/>
                </a:lnTo>
                <a:lnTo>
                  <a:pt x="200299" y="59901"/>
                </a:lnTo>
                <a:lnTo>
                  <a:pt x="205388" y="609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MARTInkAnnotation215"/>
          <p:cNvSpPr/>
          <p:nvPr/>
        </p:nvSpPr>
        <p:spPr>
          <a:xfrm>
            <a:off x="1554120" y="4702320"/>
            <a:ext cx="100080" cy="234720"/>
          </a:xfrm>
          <a:custGeom>
            <a:avLst/>
            <a:gdLst>
              <a:gd name="textAreaLeft" fmla="*/ 0 w 100080"/>
              <a:gd name="textAreaRight" fmla="*/ 100440 w 10008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99061" h="236221">
                <a:moveTo>
                  <a:pt x="99060" y="0"/>
                </a:moveTo>
                <a:lnTo>
                  <a:pt x="99060" y="11351"/>
                </a:lnTo>
                <a:lnTo>
                  <a:pt x="96802" y="18027"/>
                </a:lnTo>
                <a:lnTo>
                  <a:pt x="95015" y="22178"/>
                </a:lnTo>
                <a:lnTo>
                  <a:pt x="93029" y="29048"/>
                </a:lnTo>
                <a:lnTo>
                  <a:pt x="91300" y="35770"/>
                </a:lnTo>
                <a:lnTo>
                  <a:pt x="89653" y="39933"/>
                </a:lnTo>
                <a:lnTo>
                  <a:pt x="87709" y="44402"/>
                </a:lnTo>
                <a:lnTo>
                  <a:pt x="83291" y="53883"/>
                </a:lnTo>
                <a:lnTo>
                  <a:pt x="80927" y="58782"/>
                </a:lnTo>
                <a:lnTo>
                  <a:pt x="77658" y="64588"/>
                </a:lnTo>
                <a:lnTo>
                  <a:pt x="73786" y="70999"/>
                </a:lnTo>
                <a:lnTo>
                  <a:pt x="69511" y="77812"/>
                </a:lnTo>
                <a:lnTo>
                  <a:pt x="65814" y="84049"/>
                </a:lnTo>
                <a:lnTo>
                  <a:pt x="62503" y="89899"/>
                </a:lnTo>
                <a:lnTo>
                  <a:pt x="59448" y="95492"/>
                </a:lnTo>
                <a:lnTo>
                  <a:pt x="56566" y="101762"/>
                </a:lnTo>
                <a:lnTo>
                  <a:pt x="53797" y="108481"/>
                </a:lnTo>
                <a:lnTo>
                  <a:pt x="51105" y="115501"/>
                </a:lnTo>
                <a:lnTo>
                  <a:pt x="48463" y="121874"/>
                </a:lnTo>
                <a:lnTo>
                  <a:pt x="45856" y="127816"/>
                </a:lnTo>
                <a:lnTo>
                  <a:pt x="43270" y="133471"/>
                </a:lnTo>
                <a:lnTo>
                  <a:pt x="39854" y="139780"/>
                </a:lnTo>
                <a:lnTo>
                  <a:pt x="35882" y="146527"/>
                </a:lnTo>
                <a:lnTo>
                  <a:pt x="31542" y="153564"/>
                </a:lnTo>
                <a:lnTo>
                  <a:pt x="27801" y="159950"/>
                </a:lnTo>
                <a:lnTo>
                  <a:pt x="21387" y="171560"/>
                </a:lnTo>
                <a:lnTo>
                  <a:pt x="13016" y="187616"/>
                </a:lnTo>
                <a:lnTo>
                  <a:pt x="11218" y="192811"/>
                </a:lnTo>
                <a:lnTo>
                  <a:pt x="10019" y="197968"/>
                </a:lnTo>
                <a:lnTo>
                  <a:pt x="9219" y="203098"/>
                </a:lnTo>
                <a:lnTo>
                  <a:pt x="7840" y="207365"/>
                </a:lnTo>
                <a:lnTo>
                  <a:pt x="6073" y="211057"/>
                </a:lnTo>
                <a:lnTo>
                  <a:pt x="4049" y="214365"/>
                </a:lnTo>
                <a:lnTo>
                  <a:pt x="1800" y="220297"/>
                </a:lnTo>
                <a:lnTo>
                  <a:pt x="356" y="226960"/>
                </a:lnTo>
                <a:lnTo>
                  <a:pt x="158" y="230129"/>
                </a:lnTo>
                <a:lnTo>
                  <a:pt x="0" y="2362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MARTInkAnnotation216"/>
          <p:cNvSpPr/>
          <p:nvPr/>
        </p:nvSpPr>
        <p:spPr>
          <a:xfrm>
            <a:off x="1700280" y="4740120"/>
            <a:ext cx="112680" cy="189000"/>
          </a:xfrm>
          <a:custGeom>
            <a:avLst/>
            <a:gdLst>
              <a:gd name="textAreaLeft" fmla="*/ 0 w 112680"/>
              <a:gd name="textAreaRight" fmla="*/ 113040 w 11268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113627" h="188956">
                <a:moveTo>
                  <a:pt x="52894" y="0"/>
                </a:moveTo>
                <a:lnTo>
                  <a:pt x="52894" y="4045"/>
                </a:lnTo>
                <a:lnTo>
                  <a:pt x="52048" y="6084"/>
                </a:lnTo>
                <a:lnTo>
                  <a:pt x="48849" y="10606"/>
                </a:lnTo>
                <a:lnTo>
                  <a:pt x="47657" y="12997"/>
                </a:lnTo>
                <a:lnTo>
                  <a:pt x="46333" y="17912"/>
                </a:lnTo>
                <a:lnTo>
                  <a:pt x="43487" y="22919"/>
                </a:lnTo>
                <a:lnTo>
                  <a:pt x="41543" y="25439"/>
                </a:lnTo>
                <a:lnTo>
                  <a:pt x="39400" y="29660"/>
                </a:lnTo>
                <a:lnTo>
                  <a:pt x="37125" y="35013"/>
                </a:lnTo>
                <a:lnTo>
                  <a:pt x="34761" y="41122"/>
                </a:lnTo>
                <a:lnTo>
                  <a:pt x="32339" y="46888"/>
                </a:lnTo>
                <a:lnTo>
                  <a:pt x="29877" y="52426"/>
                </a:lnTo>
                <a:lnTo>
                  <a:pt x="24884" y="63094"/>
                </a:lnTo>
                <a:lnTo>
                  <a:pt x="12245" y="88847"/>
                </a:lnTo>
                <a:lnTo>
                  <a:pt x="9708" y="94791"/>
                </a:lnTo>
                <a:lnTo>
                  <a:pt x="7170" y="101294"/>
                </a:lnTo>
                <a:lnTo>
                  <a:pt x="4631" y="108169"/>
                </a:lnTo>
                <a:lnTo>
                  <a:pt x="2939" y="114446"/>
                </a:lnTo>
                <a:lnTo>
                  <a:pt x="1811" y="120324"/>
                </a:lnTo>
                <a:lnTo>
                  <a:pt x="1058" y="125936"/>
                </a:lnTo>
                <a:lnTo>
                  <a:pt x="557" y="131370"/>
                </a:lnTo>
                <a:lnTo>
                  <a:pt x="223" y="136687"/>
                </a:lnTo>
                <a:lnTo>
                  <a:pt x="0" y="141925"/>
                </a:lnTo>
                <a:lnTo>
                  <a:pt x="698" y="147110"/>
                </a:lnTo>
                <a:lnTo>
                  <a:pt x="2010" y="152260"/>
                </a:lnTo>
                <a:lnTo>
                  <a:pt x="3731" y="157387"/>
                </a:lnTo>
                <a:lnTo>
                  <a:pt x="5726" y="161651"/>
                </a:lnTo>
                <a:lnTo>
                  <a:pt x="7902" y="165340"/>
                </a:lnTo>
                <a:lnTo>
                  <a:pt x="10199" y="168647"/>
                </a:lnTo>
                <a:lnTo>
                  <a:pt x="13424" y="171698"/>
                </a:lnTo>
                <a:lnTo>
                  <a:pt x="17268" y="174579"/>
                </a:lnTo>
                <a:lnTo>
                  <a:pt x="21523" y="177346"/>
                </a:lnTo>
                <a:lnTo>
                  <a:pt x="26054" y="180037"/>
                </a:lnTo>
                <a:lnTo>
                  <a:pt x="30767" y="182678"/>
                </a:lnTo>
                <a:lnTo>
                  <a:pt x="35603" y="185285"/>
                </a:lnTo>
                <a:lnTo>
                  <a:pt x="39673" y="187024"/>
                </a:lnTo>
                <a:lnTo>
                  <a:pt x="43234" y="188182"/>
                </a:lnTo>
                <a:lnTo>
                  <a:pt x="46454" y="188955"/>
                </a:lnTo>
                <a:lnTo>
                  <a:pt x="50294" y="188624"/>
                </a:lnTo>
                <a:lnTo>
                  <a:pt x="54547" y="187555"/>
                </a:lnTo>
                <a:lnTo>
                  <a:pt x="59076" y="185997"/>
                </a:lnTo>
                <a:lnTo>
                  <a:pt x="63789" y="183265"/>
                </a:lnTo>
                <a:lnTo>
                  <a:pt x="68624" y="179750"/>
                </a:lnTo>
                <a:lnTo>
                  <a:pt x="73541" y="175713"/>
                </a:lnTo>
                <a:lnTo>
                  <a:pt x="77665" y="172176"/>
                </a:lnTo>
                <a:lnTo>
                  <a:pt x="81262" y="168970"/>
                </a:lnTo>
                <a:lnTo>
                  <a:pt x="84506" y="165987"/>
                </a:lnTo>
                <a:lnTo>
                  <a:pt x="87516" y="161458"/>
                </a:lnTo>
                <a:lnTo>
                  <a:pt x="90368" y="155899"/>
                </a:lnTo>
                <a:lnTo>
                  <a:pt x="93117" y="149652"/>
                </a:lnTo>
                <a:lnTo>
                  <a:pt x="96643" y="143795"/>
                </a:lnTo>
                <a:lnTo>
                  <a:pt x="100686" y="138197"/>
                </a:lnTo>
                <a:lnTo>
                  <a:pt x="105076" y="132772"/>
                </a:lnTo>
                <a:lnTo>
                  <a:pt x="108002" y="126614"/>
                </a:lnTo>
                <a:lnTo>
                  <a:pt x="109953" y="119970"/>
                </a:lnTo>
                <a:lnTo>
                  <a:pt x="111253" y="112999"/>
                </a:lnTo>
                <a:lnTo>
                  <a:pt x="112120" y="106660"/>
                </a:lnTo>
                <a:lnTo>
                  <a:pt x="112698" y="100740"/>
                </a:lnTo>
                <a:lnTo>
                  <a:pt x="113084" y="95100"/>
                </a:lnTo>
                <a:lnTo>
                  <a:pt x="113340" y="88800"/>
                </a:lnTo>
                <a:lnTo>
                  <a:pt x="113626" y="75027"/>
                </a:lnTo>
                <a:lnTo>
                  <a:pt x="112855" y="68645"/>
                </a:lnTo>
                <a:lnTo>
                  <a:pt x="111495" y="62696"/>
                </a:lnTo>
                <a:lnTo>
                  <a:pt x="109741" y="57037"/>
                </a:lnTo>
                <a:lnTo>
                  <a:pt x="107726" y="52418"/>
                </a:lnTo>
                <a:lnTo>
                  <a:pt x="105535" y="48493"/>
                </a:lnTo>
                <a:lnTo>
                  <a:pt x="103228" y="45028"/>
                </a:lnTo>
                <a:lnTo>
                  <a:pt x="101690" y="41026"/>
                </a:lnTo>
                <a:lnTo>
                  <a:pt x="100665" y="36664"/>
                </a:lnTo>
                <a:lnTo>
                  <a:pt x="99981" y="32063"/>
                </a:lnTo>
                <a:lnTo>
                  <a:pt x="98679" y="28995"/>
                </a:lnTo>
                <a:lnTo>
                  <a:pt x="96964" y="26950"/>
                </a:lnTo>
                <a:lnTo>
                  <a:pt x="94974" y="25587"/>
                </a:lnTo>
                <a:lnTo>
                  <a:pt x="93648" y="23831"/>
                </a:lnTo>
                <a:lnTo>
                  <a:pt x="92763" y="21814"/>
                </a:lnTo>
                <a:lnTo>
                  <a:pt x="92173" y="19623"/>
                </a:lnTo>
                <a:lnTo>
                  <a:pt x="90934" y="18162"/>
                </a:lnTo>
                <a:lnTo>
                  <a:pt x="89261" y="17188"/>
                </a:lnTo>
                <a:lnTo>
                  <a:pt x="84537" y="15625"/>
                </a:lnTo>
                <a:lnTo>
                  <a:pt x="81633" y="17669"/>
                </a:lnTo>
                <a:lnTo>
                  <a:pt x="79674" y="19399"/>
                </a:lnTo>
                <a:lnTo>
                  <a:pt x="75238" y="23580"/>
                </a:lnTo>
                <a:lnTo>
                  <a:pt x="68134" y="304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MARTInkAnnotation217"/>
          <p:cNvSpPr/>
          <p:nvPr/>
        </p:nvSpPr>
        <p:spPr>
          <a:xfrm>
            <a:off x="1812960" y="4822920"/>
            <a:ext cx="198360" cy="38160"/>
          </a:xfrm>
          <a:custGeom>
            <a:avLst/>
            <a:gdLst>
              <a:gd name="textAreaLeft" fmla="*/ 0 w 198360"/>
              <a:gd name="textAreaRight" fmla="*/ 198720 w 1983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98121" h="38101">
                <a:moveTo>
                  <a:pt x="0" y="38100"/>
                </a:moveTo>
                <a:lnTo>
                  <a:pt x="17167" y="38100"/>
                </a:lnTo>
                <a:lnTo>
                  <a:pt x="20758" y="37253"/>
                </a:lnTo>
                <a:lnTo>
                  <a:pt x="24845" y="35843"/>
                </a:lnTo>
                <a:lnTo>
                  <a:pt x="29264" y="34055"/>
                </a:lnTo>
                <a:lnTo>
                  <a:pt x="33056" y="32863"/>
                </a:lnTo>
                <a:lnTo>
                  <a:pt x="36430" y="32069"/>
                </a:lnTo>
                <a:lnTo>
                  <a:pt x="39527" y="31539"/>
                </a:lnTo>
                <a:lnTo>
                  <a:pt x="43285" y="31186"/>
                </a:lnTo>
                <a:lnTo>
                  <a:pt x="47483" y="30951"/>
                </a:lnTo>
                <a:lnTo>
                  <a:pt x="51975" y="30794"/>
                </a:lnTo>
                <a:lnTo>
                  <a:pt x="56663" y="29843"/>
                </a:lnTo>
                <a:lnTo>
                  <a:pt x="61482" y="28362"/>
                </a:lnTo>
                <a:lnTo>
                  <a:pt x="66388" y="26528"/>
                </a:lnTo>
                <a:lnTo>
                  <a:pt x="71352" y="25305"/>
                </a:lnTo>
                <a:lnTo>
                  <a:pt x="76355" y="24490"/>
                </a:lnTo>
                <a:lnTo>
                  <a:pt x="81383" y="23947"/>
                </a:lnTo>
                <a:lnTo>
                  <a:pt x="86429" y="23584"/>
                </a:lnTo>
                <a:lnTo>
                  <a:pt x="91486" y="23343"/>
                </a:lnTo>
                <a:lnTo>
                  <a:pt x="96551" y="23182"/>
                </a:lnTo>
                <a:lnTo>
                  <a:pt x="101620" y="22228"/>
                </a:lnTo>
                <a:lnTo>
                  <a:pt x="106694" y="20745"/>
                </a:lnTo>
                <a:lnTo>
                  <a:pt x="111769" y="18910"/>
                </a:lnTo>
                <a:lnTo>
                  <a:pt x="116846" y="17687"/>
                </a:lnTo>
                <a:lnTo>
                  <a:pt x="121924" y="16872"/>
                </a:lnTo>
                <a:lnTo>
                  <a:pt x="127003" y="16328"/>
                </a:lnTo>
                <a:lnTo>
                  <a:pt x="132082" y="15965"/>
                </a:lnTo>
                <a:lnTo>
                  <a:pt x="137161" y="15723"/>
                </a:lnTo>
                <a:lnTo>
                  <a:pt x="142241" y="15562"/>
                </a:lnTo>
                <a:lnTo>
                  <a:pt x="146474" y="14608"/>
                </a:lnTo>
                <a:lnTo>
                  <a:pt x="150142" y="13125"/>
                </a:lnTo>
                <a:lnTo>
                  <a:pt x="153435" y="11290"/>
                </a:lnTo>
                <a:lnTo>
                  <a:pt x="157323" y="10067"/>
                </a:lnTo>
                <a:lnTo>
                  <a:pt x="161609" y="9252"/>
                </a:lnTo>
                <a:lnTo>
                  <a:pt x="166159" y="8707"/>
                </a:lnTo>
                <a:lnTo>
                  <a:pt x="170040" y="8345"/>
                </a:lnTo>
                <a:lnTo>
                  <a:pt x="173473" y="8103"/>
                </a:lnTo>
                <a:lnTo>
                  <a:pt x="176609" y="7942"/>
                </a:lnTo>
                <a:lnTo>
                  <a:pt x="179546" y="6988"/>
                </a:lnTo>
                <a:lnTo>
                  <a:pt x="182351" y="5505"/>
                </a:lnTo>
                <a:lnTo>
                  <a:pt x="190023" y="322"/>
                </a:lnTo>
                <a:lnTo>
                  <a:pt x="195642" y="64"/>
                </a:lnTo>
                <a:lnTo>
                  <a:pt x="19812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MARTInkAnnotation218"/>
          <p:cNvSpPr/>
          <p:nvPr/>
        </p:nvSpPr>
        <p:spPr>
          <a:xfrm>
            <a:off x="2054160" y="4695840"/>
            <a:ext cx="216000" cy="245880"/>
          </a:xfrm>
          <a:custGeom>
            <a:avLst/>
            <a:gdLst>
              <a:gd name="textAreaLeft" fmla="*/ 0 w 216000"/>
              <a:gd name="textAreaRight" fmla="*/ 216360 w 21600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217136" h="246893">
                <a:moveTo>
                  <a:pt x="163795" y="29232"/>
                </a:moveTo>
                <a:lnTo>
                  <a:pt x="157234" y="22671"/>
                </a:lnTo>
                <a:lnTo>
                  <a:pt x="154388" y="22083"/>
                </a:lnTo>
                <a:lnTo>
                  <a:pt x="152444" y="21926"/>
                </a:lnTo>
                <a:lnTo>
                  <a:pt x="150301" y="20128"/>
                </a:lnTo>
                <a:lnTo>
                  <a:pt x="145662" y="13615"/>
                </a:lnTo>
                <a:lnTo>
                  <a:pt x="142393" y="11201"/>
                </a:lnTo>
                <a:lnTo>
                  <a:pt x="138521" y="9591"/>
                </a:lnTo>
                <a:lnTo>
                  <a:pt x="134246" y="8518"/>
                </a:lnTo>
                <a:lnTo>
                  <a:pt x="129702" y="6957"/>
                </a:lnTo>
                <a:lnTo>
                  <a:pt x="124980" y="5068"/>
                </a:lnTo>
                <a:lnTo>
                  <a:pt x="120138" y="2963"/>
                </a:lnTo>
                <a:lnTo>
                  <a:pt x="115217" y="1559"/>
                </a:lnTo>
                <a:lnTo>
                  <a:pt x="110243" y="624"/>
                </a:lnTo>
                <a:lnTo>
                  <a:pt x="105234" y="0"/>
                </a:lnTo>
                <a:lnTo>
                  <a:pt x="99354" y="431"/>
                </a:lnTo>
                <a:lnTo>
                  <a:pt x="92895" y="1565"/>
                </a:lnTo>
                <a:lnTo>
                  <a:pt x="86048" y="3167"/>
                </a:lnTo>
                <a:lnTo>
                  <a:pt x="79790" y="4236"/>
                </a:lnTo>
                <a:lnTo>
                  <a:pt x="73925" y="4947"/>
                </a:lnTo>
                <a:lnTo>
                  <a:pt x="68322" y="5423"/>
                </a:lnTo>
                <a:lnTo>
                  <a:pt x="62046" y="6586"/>
                </a:lnTo>
                <a:lnTo>
                  <a:pt x="55323" y="8208"/>
                </a:lnTo>
                <a:lnTo>
                  <a:pt x="48300" y="10135"/>
                </a:lnTo>
                <a:lnTo>
                  <a:pt x="41925" y="12268"/>
                </a:lnTo>
                <a:lnTo>
                  <a:pt x="35982" y="14536"/>
                </a:lnTo>
                <a:lnTo>
                  <a:pt x="30326" y="16895"/>
                </a:lnTo>
                <a:lnTo>
                  <a:pt x="24862" y="19314"/>
                </a:lnTo>
                <a:lnTo>
                  <a:pt x="6886" y="27759"/>
                </a:lnTo>
                <a:lnTo>
                  <a:pt x="2900" y="33093"/>
                </a:lnTo>
                <a:lnTo>
                  <a:pt x="652" y="36886"/>
                </a:lnTo>
                <a:lnTo>
                  <a:pt x="0" y="40262"/>
                </a:lnTo>
                <a:lnTo>
                  <a:pt x="411" y="43358"/>
                </a:lnTo>
                <a:lnTo>
                  <a:pt x="2280" y="49057"/>
                </a:lnTo>
                <a:lnTo>
                  <a:pt x="3111" y="54412"/>
                </a:lnTo>
                <a:lnTo>
                  <a:pt x="4179" y="56179"/>
                </a:lnTo>
                <a:lnTo>
                  <a:pt x="5738" y="57357"/>
                </a:lnTo>
                <a:lnTo>
                  <a:pt x="11421" y="59512"/>
                </a:lnTo>
                <a:lnTo>
                  <a:pt x="22413" y="63292"/>
                </a:lnTo>
                <a:lnTo>
                  <a:pt x="28054" y="65486"/>
                </a:lnTo>
                <a:lnTo>
                  <a:pt x="33507" y="67795"/>
                </a:lnTo>
                <a:lnTo>
                  <a:pt x="38837" y="70181"/>
                </a:lnTo>
                <a:lnTo>
                  <a:pt x="44930" y="71771"/>
                </a:lnTo>
                <a:lnTo>
                  <a:pt x="51531" y="72832"/>
                </a:lnTo>
                <a:lnTo>
                  <a:pt x="58473" y="73539"/>
                </a:lnTo>
                <a:lnTo>
                  <a:pt x="64794" y="74009"/>
                </a:lnTo>
                <a:lnTo>
                  <a:pt x="70701" y="74324"/>
                </a:lnTo>
                <a:lnTo>
                  <a:pt x="76332" y="74533"/>
                </a:lnTo>
                <a:lnTo>
                  <a:pt x="96393" y="74828"/>
                </a:lnTo>
                <a:lnTo>
                  <a:pt x="102774" y="74023"/>
                </a:lnTo>
                <a:lnTo>
                  <a:pt x="108721" y="72639"/>
                </a:lnTo>
                <a:lnTo>
                  <a:pt x="114379" y="70870"/>
                </a:lnTo>
                <a:lnTo>
                  <a:pt x="118998" y="69690"/>
                </a:lnTo>
                <a:lnTo>
                  <a:pt x="122924" y="68904"/>
                </a:lnTo>
                <a:lnTo>
                  <a:pt x="126387" y="68381"/>
                </a:lnTo>
                <a:lnTo>
                  <a:pt x="132494" y="65541"/>
                </a:lnTo>
                <a:lnTo>
                  <a:pt x="138877" y="61456"/>
                </a:lnTo>
                <a:lnTo>
                  <a:pt x="142949" y="59181"/>
                </a:lnTo>
                <a:lnTo>
                  <a:pt x="147358" y="56819"/>
                </a:lnTo>
                <a:lnTo>
                  <a:pt x="150297" y="54396"/>
                </a:lnTo>
                <a:lnTo>
                  <a:pt x="152256" y="51935"/>
                </a:lnTo>
                <a:lnTo>
                  <a:pt x="155280" y="46943"/>
                </a:lnTo>
                <a:lnTo>
                  <a:pt x="159446" y="41901"/>
                </a:lnTo>
                <a:lnTo>
                  <a:pt x="160896" y="39372"/>
                </a:lnTo>
                <a:lnTo>
                  <a:pt x="162936" y="32613"/>
                </a:lnTo>
                <a:lnTo>
                  <a:pt x="163413" y="30735"/>
                </a:lnTo>
                <a:lnTo>
                  <a:pt x="163745" y="23399"/>
                </a:lnTo>
                <a:lnTo>
                  <a:pt x="163794" y="21643"/>
                </a:lnTo>
                <a:lnTo>
                  <a:pt x="163795" y="50352"/>
                </a:lnTo>
                <a:lnTo>
                  <a:pt x="164642" y="55165"/>
                </a:lnTo>
                <a:lnTo>
                  <a:pt x="166053" y="60067"/>
                </a:lnTo>
                <a:lnTo>
                  <a:pt x="167841" y="65029"/>
                </a:lnTo>
                <a:lnTo>
                  <a:pt x="169032" y="70030"/>
                </a:lnTo>
                <a:lnTo>
                  <a:pt x="169826" y="75057"/>
                </a:lnTo>
                <a:lnTo>
                  <a:pt x="170356" y="80103"/>
                </a:lnTo>
                <a:lnTo>
                  <a:pt x="171555" y="86006"/>
                </a:lnTo>
                <a:lnTo>
                  <a:pt x="173202" y="92482"/>
                </a:lnTo>
                <a:lnTo>
                  <a:pt x="175147" y="99338"/>
                </a:lnTo>
                <a:lnTo>
                  <a:pt x="176443" y="105603"/>
                </a:lnTo>
                <a:lnTo>
                  <a:pt x="177307" y="111473"/>
                </a:lnTo>
                <a:lnTo>
                  <a:pt x="177883" y="117079"/>
                </a:lnTo>
                <a:lnTo>
                  <a:pt x="179114" y="122510"/>
                </a:lnTo>
                <a:lnTo>
                  <a:pt x="180781" y="127824"/>
                </a:lnTo>
                <a:lnTo>
                  <a:pt x="182739" y="133061"/>
                </a:lnTo>
                <a:lnTo>
                  <a:pt x="184044" y="138244"/>
                </a:lnTo>
                <a:lnTo>
                  <a:pt x="184915" y="143394"/>
                </a:lnTo>
                <a:lnTo>
                  <a:pt x="185495" y="148520"/>
                </a:lnTo>
                <a:lnTo>
                  <a:pt x="186728" y="154477"/>
                </a:lnTo>
                <a:lnTo>
                  <a:pt x="188397" y="160989"/>
                </a:lnTo>
                <a:lnTo>
                  <a:pt x="190356" y="167870"/>
                </a:lnTo>
                <a:lnTo>
                  <a:pt x="191663" y="174151"/>
                </a:lnTo>
                <a:lnTo>
                  <a:pt x="192534" y="180031"/>
                </a:lnTo>
                <a:lnTo>
                  <a:pt x="193114" y="185645"/>
                </a:lnTo>
                <a:lnTo>
                  <a:pt x="194348" y="190234"/>
                </a:lnTo>
                <a:lnTo>
                  <a:pt x="197976" y="197591"/>
                </a:lnTo>
                <a:lnTo>
                  <a:pt x="199282" y="201584"/>
                </a:lnTo>
                <a:lnTo>
                  <a:pt x="200154" y="205940"/>
                </a:lnTo>
                <a:lnTo>
                  <a:pt x="200734" y="210538"/>
                </a:lnTo>
                <a:lnTo>
                  <a:pt x="203637" y="217903"/>
                </a:lnTo>
                <a:lnTo>
                  <a:pt x="206903" y="223999"/>
                </a:lnTo>
                <a:lnTo>
                  <a:pt x="208354" y="229531"/>
                </a:lnTo>
                <a:lnTo>
                  <a:pt x="211257" y="234812"/>
                </a:lnTo>
                <a:lnTo>
                  <a:pt x="216791" y="242137"/>
                </a:lnTo>
                <a:lnTo>
                  <a:pt x="217067" y="246892"/>
                </a:lnTo>
                <a:lnTo>
                  <a:pt x="217135" y="24259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MARTInkAnnotation219"/>
          <p:cNvSpPr/>
          <p:nvPr/>
        </p:nvSpPr>
        <p:spPr>
          <a:xfrm>
            <a:off x="2460600" y="4808520"/>
            <a:ext cx="266760" cy="22320"/>
          </a:xfrm>
          <a:custGeom>
            <a:avLst/>
            <a:gdLst>
              <a:gd name="textAreaLeft" fmla="*/ 0 w 266760"/>
              <a:gd name="textAreaRight" fmla="*/ 267120 w 2667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66701" h="22858">
                <a:moveTo>
                  <a:pt x="0" y="22857"/>
                </a:moveTo>
                <a:lnTo>
                  <a:pt x="4045" y="22857"/>
                </a:lnTo>
                <a:lnTo>
                  <a:pt x="6084" y="22010"/>
                </a:lnTo>
                <a:lnTo>
                  <a:pt x="8289" y="20600"/>
                </a:lnTo>
                <a:lnTo>
                  <a:pt x="10606" y="18812"/>
                </a:lnTo>
                <a:lnTo>
                  <a:pt x="12997" y="17620"/>
                </a:lnTo>
                <a:lnTo>
                  <a:pt x="15438" y="16826"/>
                </a:lnTo>
                <a:lnTo>
                  <a:pt x="17912" y="16296"/>
                </a:lnTo>
                <a:lnTo>
                  <a:pt x="21255" y="15097"/>
                </a:lnTo>
                <a:lnTo>
                  <a:pt x="25177" y="13450"/>
                </a:lnTo>
                <a:lnTo>
                  <a:pt x="29485" y="11506"/>
                </a:lnTo>
                <a:lnTo>
                  <a:pt x="35743" y="9362"/>
                </a:lnTo>
                <a:lnTo>
                  <a:pt x="43302" y="7087"/>
                </a:lnTo>
                <a:lnTo>
                  <a:pt x="51728" y="4724"/>
                </a:lnTo>
                <a:lnTo>
                  <a:pt x="60732" y="3148"/>
                </a:lnTo>
                <a:lnTo>
                  <a:pt x="70122" y="2098"/>
                </a:lnTo>
                <a:lnTo>
                  <a:pt x="79768" y="1398"/>
                </a:lnTo>
                <a:lnTo>
                  <a:pt x="89585" y="931"/>
                </a:lnTo>
                <a:lnTo>
                  <a:pt x="109525" y="412"/>
                </a:lnTo>
                <a:lnTo>
                  <a:pt x="215746" y="0"/>
                </a:lnTo>
                <a:lnTo>
                  <a:pt x="222571" y="846"/>
                </a:lnTo>
                <a:lnTo>
                  <a:pt x="229661" y="2256"/>
                </a:lnTo>
                <a:lnTo>
                  <a:pt x="236927" y="4043"/>
                </a:lnTo>
                <a:lnTo>
                  <a:pt x="243465" y="5234"/>
                </a:lnTo>
                <a:lnTo>
                  <a:pt x="249517" y="6029"/>
                </a:lnTo>
                <a:lnTo>
                  <a:pt x="255245" y="6558"/>
                </a:lnTo>
                <a:lnTo>
                  <a:pt x="259063" y="7758"/>
                </a:lnTo>
                <a:lnTo>
                  <a:pt x="261608" y="9404"/>
                </a:lnTo>
                <a:lnTo>
                  <a:pt x="266700" y="1523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MARTInkAnnotation220"/>
          <p:cNvSpPr/>
          <p:nvPr/>
        </p:nvSpPr>
        <p:spPr>
          <a:xfrm>
            <a:off x="2454120" y="4876920"/>
            <a:ext cx="327240" cy="29880"/>
          </a:xfrm>
          <a:custGeom>
            <a:avLst/>
            <a:gdLst>
              <a:gd name="textAreaLeft" fmla="*/ 0 w 327240"/>
              <a:gd name="textAreaRight" fmla="*/ 327600 w 32724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327661" h="30481">
                <a:moveTo>
                  <a:pt x="0" y="30480"/>
                </a:moveTo>
                <a:lnTo>
                  <a:pt x="12136" y="26436"/>
                </a:lnTo>
                <a:lnTo>
                  <a:pt x="16557" y="25243"/>
                </a:lnTo>
                <a:lnTo>
                  <a:pt x="20352" y="24449"/>
                </a:lnTo>
                <a:lnTo>
                  <a:pt x="23728" y="23919"/>
                </a:lnTo>
                <a:lnTo>
                  <a:pt x="28519" y="22720"/>
                </a:lnTo>
                <a:lnTo>
                  <a:pt x="34252" y="21073"/>
                </a:lnTo>
                <a:lnTo>
                  <a:pt x="40615" y="19129"/>
                </a:lnTo>
                <a:lnTo>
                  <a:pt x="56716" y="14711"/>
                </a:lnTo>
                <a:lnTo>
                  <a:pt x="65751" y="12347"/>
                </a:lnTo>
                <a:lnTo>
                  <a:pt x="75160" y="10771"/>
                </a:lnTo>
                <a:lnTo>
                  <a:pt x="84820" y="9721"/>
                </a:lnTo>
                <a:lnTo>
                  <a:pt x="94647" y="9021"/>
                </a:lnTo>
                <a:lnTo>
                  <a:pt x="105432" y="8554"/>
                </a:lnTo>
                <a:lnTo>
                  <a:pt x="128703" y="8035"/>
                </a:lnTo>
                <a:lnTo>
                  <a:pt x="257235" y="7623"/>
                </a:lnTo>
                <a:lnTo>
                  <a:pt x="265470" y="6776"/>
                </a:lnTo>
                <a:lnTo>
                  <a:pt x="273500" y="5364"/>
                </a:lnTo>
                <a:lnTo>
                  <a:pt x="281393" y="3576"/>
                </a:lnTo>
                <a:lnTo>
                  <a:pt x="289195" y="2384"/>
                </a:lnTo>
                <a:lnTo>
                  <a:pt x="296937" y="1589"/>
                </a:lnTo>
                <a:lnTo>
                  <a:pt x="310619" y="707"/>
                </a:lnTo>
                <a:lnTo>
                  <a:pt x="32766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480" bIns="-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MARTInkAnnotation221"/>
          <p:cNvSpPr/>
          <p:nvPr/>
        </p:nvSpPr>
        <p:spPr>
          <a:xfrm>
            <a:off x="2835360" y="4724280"/>
            <a:ext cx="189000" cy="174600"/>
          </a:xfrm>
          <a:custGeom>
            <a:avLst/>
            <a:gdLst>
              <a:gd name="textAreaLeft" fmla="*/ 0 w 189000"/>
              <a:gd name="textAreaRight" fmla="*/ 189360 w 18900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88834" h="175165">
                <a:moveTo>
                  <a:pt x="0" y="7620"/>
                </a:moveTo>
                <a:lnTo>
                  <a:pt x="0" y="1059"/>
                </a:lnTo>
                <a:lnTo>
                  <a:pt x="847" y="706"/>
                </a:lnTo>
                <a:lnTo>
                  <a:pt x="4045" y="314"/>
                </a:lnTo>
                <a:lnTo>
                  <a:pt x="6931" y="209"/>
                </a:lnTo>
                <a:lnTo>
                  <a:pt x="19081" y="62"/>
                </a:lnTo>
                <a:lnTo>
                  <a:pt x="182227" y="0"/>
                </a:lnTo>
                <a:lnTo>
                  <a:pt x="182445" y="846"/>
                </a:lnTo>
                <a:lnTo>
                  <a:pt x="182687" y="4045"/>
                </a:lnTo>
                <a:lnTo>
                  <a:pt x="181905" y="5237"/>
                </a:lnTo>
                <a:lnTo>
                  <a:pt x="180537" y="6031"/>
                </a:lnTo>
                <a:lnTo>
                  <a:pt x="175912" y="7760"/>
                </a:lnTo>
                <a:lnTo>
                  <a:pt x="172308" y="9408"/>
                </a:lnTo>
                <a:lnTo>
                  <a:pt x="168212" y="11352"/>
                </a:lnTo>
                <a:lnTo>
                  <a:pt x="163788" y="12648"/>
                </a:lnTo>
                <a:lnTo>
                  <a:pt x="159145" y="13512"/>
                </a:lnTo>
                <a:lnTo>
                  <a:pt x="154357" y="14088"/>
                </a:lnTo>
                <a:lnTo>
                  <a:pt x="149471" y="15319"/>
                </a:lnTo>
                <a:lnTo>
                  <a:pt x="144521" y="16986"/>
                </a:lnTo>
                <a:lnTo>
                  <a:pt x="139527" y="18944"/>
                </a:lnTo>
                <a:lnTo>
                  <a:pt x="127206" y="23378"/>
                </a:lnTo>
                <a:lnTo>
                  <a:pt x="120364" y="25745"/>
                </a:lnTo>
                <a:lnTo>
                  <a:pt x="114109" y="28170"/>
                </a:lnTo>
                <a:lnTo>
                  <a:pt x="108246" y="30633"/>
                </a:lnTo>
                <a:lnTo>
                  <a:pt x="102644" y="33122"/>
                </a:lnTo>
                <a:lnTo>
                  <a:pt x="91904" y="38146"/>
                </a:lnTo>
                <a:lnTo>
                  <a:pt x="86669" y="40671"/>
                </a:lnTo>
                <a:lnTo>
                  <a:pt x="82333" y="42354"/>
                </a:lnTo>
                <a:lnTo>
                  <a:pt x="78596" y="43476"/>
                </a:lnTo>
                <a:lnTo>
                  <a:pt x="75257" y="44224"/>
                </a:lnTo>
                <a:lnTo>
                  <a:pt x="72185" y="45569"/>
                </a:lnTo>
                <a:lnTo>
                  <a:pt x="66513" y="49323"/>
                </a:lnTo>
                <a:lnTo>
                  <a:pt x="65509" y="51508"/>
                </a:lnTo>
                <a:lnTo>
                  <a:pt x="65686" y="53812"/>
                </a:lnTo>
                <a:lnTo>
                  <a:pt x="66651" y="56195"/>
                </a:lnTo>
                <a:lnTo>
                  <a:pt x="68987" y="58630"/>
                </a:lnTo>
                <a:lnTo>
                  <a:pt x="72238" y="61100"/>
                </a:lnTo>
                <a:lnTo>
                  <a:pt x="76099" y="63594"/>
                </a:lnTo>
                <a:lnTo>
                  <a:pt x="80366" y="66949"/>
                </a:lnTo>
                <a:lnTo>
                  <a:pt x="84904" y="70879"/>
                </a:lnTo>
                <a:lnTo>
                  <a:pt x="89623" y="75193"/>
                </a:lnTo>
                <a:lnTo>
                  <a:pt x="95308" y="78915"/>
                </a:lnTo>
                <a:lnTo>
                  <a:pt x="101639" y="82244"/>
                </a:lnTo>
                <a:lnTo>
                  <a:pt x="114600" y="88199"/>
                </a:lnTo>
                <a:lnTo>
                  <a:pt x="126004" y="93669"/>
                </a:lnTo>
                <a:lnTo>
                  <a:pt x="132263" y="97159"/>
                </a:lnTo>
                <a:lnTo>
                  <a:pt x="138975" y="101180"/>
                </a:lnTo>
                <a:lnTo>
                  <a:pt x="145990" y="105553"/>
                </a:lnTo>
                <a:lnTo>
                  <a:pt x="152360" y="109315"/>
                </a:lnTo>
                <a:lnTo>
                  <a:pt x="158300" y="112670"/>
                </a:lnTo>
                <a:lnTo>
                  <a:pt x="163954" y="115753"/>
                </a:lnTo>
                <a:lnTo>
                  <a:pt x="168569" y="119502"/>
                </a:lnTo>
                <a:lnTo>
                  <a:pt x="172493" y="123695"/>
                </a:lnTo>
                <a:lnTo>
                  <a:pt x="175956" y="128183"/>
                </a:lnTo>
                <a:lnTo>
                  <a:pt x="179110" y="132022"/>
                </a:lnTo>
                <a:lnTo>
                  <a:pt x="182060" y="135428"/>
                </a:lnTo>
                <a:lnTo>
                  <a:pt x="184874" y="138545"/>
                </a:lnTo>
                <a:lnTo>
                  <a:pt x="186749" y="141470"/>
                </a:lnTo>
                <a:lnTo>
                  <a:pt x="187999" y="144267"/>
                </a:lnTo>
                <a:lnTo>
                  <a:pt x="188833" y="146978"/>
                </a:lnTo>
                <a:lnTo>
                  <a:pt x="188542" y="149632"/>
                </a:lnTo>
                <a:lnTo>
                  <a:pt x="187501" y="152248"/>
                </a:lnTo>
                <a:lnTo>
                  <a:pt x="185961" y="154839"/>
                </a:lnTo>
                <a:lnTo>
                  <a:pt x="184249" y="159975"/>
                </a:lnTo>
                <a:lnTo>
                  <a:pt x="183793" y="162530"/>
                </a:lnTo>
                <a:lnTo>
                  <a:pt x="182642" y="164233"/>
                </a:lnTo>
                <a:lnTo>
                  <a:pt x="181028" y="165369"/>
                </a:lnTo>
                <a:lnTo>
                  <a:pt x="179105" y="166126"/>
                </a:lnTo>
                <a:lnTo>
                  <a:pt x="176130" y="166631"/>
                </a:lnTo>
                <a:lnTo>
                  <a:pt x="172453" y="166967"/>
                </a:lnTo>
                <a:lnTo>
                  <a:pt x="168309" y="167191"/>
                </a:lnTo>
                <a:lnTo>
                  <a:pt x="163853" y="168187"/>
                </a:lnTo>
                <a:lnTo>
                  <a:pt x="159189" y="169699"/>
                </a:lnTo>
                <a:lnTo>
                  <a:pt x="154386" y="171552"/>
                </a:lnTo>
                <a:lnTo>
                  <a:pt x="150337" y="172788"/>
                </a:lnTo>
                <a:lnTo>
                  <a:pt x="146791" y="173613"/>
                </a:lnTo>
                <a:lnTo>
                  <a:pt x="143581" y="174161"/>
                </a:lnTo>
                <a:lnTo>
                  <a:pt x="139747" y="174528"/>
                </a:lnTo>
                <a:lnTo>
                  <a:pt x="135498" y="174772"/>
                </a:lnTo>
                <a:lnTo>
                  <a:pt x="126261" y="175043"/>
                </a:lnTo>
                <a:lnTo>
                  <a:pt x="116512" y="175164"/>
                </a:lnTo>
                <a:lnTo>
                  <a:pt x="111541" y="174349"/>
                </a:lnTo>
                <a:lnTo>
                  <a:pt x="106534" y="172959"/>
                </a:lnTo>
                <a:lnTo>
                  <a:pt x="101503" y="171186"/>
                </a:lnTo>
                <a:lnTo>
                  <a:pt x="95609" y="170004"/>
                </a:lnTo>
                <a:lnTo>
                  <a:pt x="89139" y="169216"/>
                </a:lnTo>
                <a:lnTo>
                  <a:pt x="82286" y="168691"/>
                </a:lnTo>
                <a:lnTo>
                  <a:pt x="76871" y="167494"/>
                </a:lnTo>
                <a:lnTo>
                  <a:pt x="72414" y="165849"/>
                </a:lnTo>
                <a:lnTo>
                  <a:pt x="68596" y="163906"/>
                </a:lnTo>
                <a:lnTo>
                  <a:pt x="64358" y="160917"/>
                </a:lnTo>
                <a:lnTo>
                  <a:pt x="59838" y="157231"/>
                </a:lnTo>
                <a:lnTo>
                  <a:pt x="45720" y="1447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MARTInkAnnotation222"/>
          <p:cNvSpPr/>
          <p:nvPr/>
        </p:nvSpPr>
        <p:spPr>
          <a:xfrm>
            <a:off x="3086280" y="4686480"/>
            <a:ext cx="15840" cy="228600"/>
          </a:xfrm>
          <a:custGeom>
            <a:avLst/>
            <a:gdLst>
              <a:gd name="textAreaLeft" fmla="*/ 0 w 15840"/>
              <a:gd name="textAreaRight" fmla="*/ 16200 w 158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5148" h="228601">
                <a:moveTo>
                  <a:pt x="7620" y="0"/>
                </a:moveTo>
                <a:lnTo>
                  <a:pt x="7620" y="21957"/>
                </a:lnTo>
                <a:lnTo>
                  <a:pt x="8467" y="27338"/>
                </a:lnTo>
                <a:lnTo>
                  <a:pt x="9878" y="33466"/>
                </a:lnTo>
                <a:lnTo>
                  <a:pt x="11665" y="40091"/>
                </a:lnTo>
                <a:lnTo>
                  <a:pt x="12857" y="46201"/>
                </a:lnTo>
                <a:lnTo>
                  <a:pt x="13652" y="51967"/>
                </a:lnTo>
                <a:lnTo>
                  <a:pt x="14181" y="57505"/>
                </a:lnTo>
                <a:lnTo>
                  <a:pt x="14534" y="63737"/>
                </a:lnTo>
                <a:lnTo>
                  <a:pt x="14926" y="77434"/>
                </a:lnTo>
                <a:lnTo>
                  <a:pt x="15147" y="99426"/>
                </a:lnTo>
                <a:lnTo>
                  <a:pt x="14331" y="107771"/>
                </a:lnTo>
                <a:lnTo>
                  <a:pt x="12941" y="116721"/>
                </a:lnTo>
                <a:lnTo>
                  <a:pt x="11168" y="126074"/>
                </a:lnTo>
                <a:lnTo>
                  <a:pt x="9985" y="134849"/>
                </a:lnTo>
                <a:lnTo>
                  <a:pt x="9197" y="143239"/>
                </a:lnTo>
                <a:lnTo>
                  <a:pt x="8671" y="151373"/>
                </a:lnTo>
                <a:lnTo>
                  <a:pt x="7474" y="159336"/>
                </a:lnTo>
                <a:lnTo>
                  <a:pt x="5830" y="167184"/>
                </a:lnTo>
                <a:lnTo>
                  <a:pt x="3887" y="174956"/>
                </a:lnTo>
                <a:lnTo>
                  <a:pt x="2591" y="182677"/>
                </a:lnTo>
                <a:lnTo>
                  <a:pt x="1728" y="190365"/>
                </a:lnTo>
                <a:lnTo>
                  <a:pt x="1151" y="198030"/>
                </a:lnTo>
                <a:lnTo>
                  <a:pt x="768" y="204833"/>
                </a:lnTo>
                <a:lnTo>
                  <a:pt x="0" y="2286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4"/>
          <p:cNvSpPr/>
          <p:nvPr/>
        </p:nvSpPr>
        <p:spPr>
          <a:xfrm>
            <a:off x="0" y="990720"/>
            <a:ext cx="784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Simplify the following express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80008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4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rder of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Object 8"/>
          <p:cNvGraphicFramePr/>
          <p:nvPr/>
        </p:nvGraphicFramePr>
        <p:xfrm>
          <a:off x="685800" y="1905120"/>
          <a:ext cx="459756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5120"/>
                    <a:ext cx="45975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3" name="Group 8214"/>
          <p:cNvGrpSpPr/>
          <p:nvPr/>
        </p:nvGrpSpPr>
        <p:grpSpPr>
          <a:xfrm>
            <a:off x="1287360" y="2476440"/>
            <a:ext cx="3619440" cy="2340000"/>
            <a:chOff x="1287360" y="2476440"/>
            <a:chExt cx="3619440" cy="2340000"/>
          </a:xfrm>
        </p:grpSpPr>
        <p:sp>
          <p:nvSpPr>
            <p:cNvPr id="344" name="SMARTInkAnnotation128"/>
            <p:cNvSpPr/>
            <p:nvPr/>
          </p:nvSpPr>
          <p:spPr>
            <a:xfrm>
              <a:off x="3672360" y="2476440"/>
              <a:ext cx="1234440" cy="60840"/>
            </a:xfrm>
            <a:custGeom>
              <a:avLst/>
              <a:gdLst>
                <a:gd name="textAreaLeft" fmla="*/ 0 w 1234440"/>
                <a:gd name="textAreaRight" fmla="*/ 1234800 w 12344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234440" h="60961">
                  <a:moveTo>
                    <a:pt x="0" y="60960"/>
                  </a:moveTo>
                  <a:lnTo>
                    <a:pt x="10605" y="60960"/>
                  </a:lnTo>
                  <a:lnTo>
                    <a:pt x="12150" y="60113"/>
                  </a:lnTo>
                  <a:lnTo>
                    <a:pt x="13180" y="58702"/>
                  </a:lnTo>
                  <a:lnTo>
                    <a:pt x="13866" y="56915"/>
                  </a:lnTo>
                  <a:lnTo>
                    <a:pt x="16018" y="55723"/>
                  </a:lnTo>
                  <a:lnTo>
                    <a:pt x="22923" y="54399"/>
                  </a:lnTo>
                  <a:lnTo>
                    <a:pt x="56032" y="52556"/>
                  </a:lnTo>
                  <a:lnTo>
                    <a:pt x="61061" y="51124"/>
                  </a:lnTo>
                  <a:lnTo>
                    <a:pt x="66107" y="49323"/>
                  </a:lnTo>
                  <a:lnTo>
                    <a:pt x="71165" y="48121"/>
                  </a:lnTo>
                  <a:lnTo>
                    <a:pt x="86373" y="46432"/>
                  </a:lnTo>
                  <a:lnTo>
                    <a:pt x="122924" y="45783"/>
                  </a:lnTo>
                  <a:lnTo>
                    <a:pt x="236562" y="45720"/>
                  </a:lnTo>
                  <a:lnTo>
                    <a:pt x="244068" y="44873"/>
                  </a:lnTo>
                  <a:lnTo>
                    <a:pt x="251611" y="43462"/>
                  </a:lnTo>
                  <a:lnTo>
                    <a:pt x="259181" y="41675"/>
                  </a:lnTo>
                  <a:lnTo>
                    <a:pt x="266767" y="40483"/>
                  </a:lnTo>
                  <a:lnTo>
                    <a:pt x="289579" y="38806"/>
                  </a:lnTo>
                  <a:lnTo>
                    <a:pt x="323617" y="38193"/>
                  </a:lnTo>
                  <a:lnTo>
                    <a:pt x="418067" y="38101"/>
                  </a:lnTo>
                  <a:lnTo>
                    <a:pt x="426031" y="37254"/>
                  </a:lnTo>
                  <a:lnTo>
                    <a:pt x="433880" y="35843"/>
                  </a:lnTo>
                  <a:lnTo>
                    <a:pt x="441654" y="34055"/>
                  </a:lnTo>
                  <a:lnTo>
                    <a:pt x="449375" y="32863"/>
                  </a:lnTo>
                  <a:lnTo>
                    <a:pt x="473225" y="31186"/>
                  </a:lnTo>
                  <a:lnTo>
                    <a:pt x="508939" y="30620"/>
                  </a:lnTo>
                  <a:lnTo>
                    <a:pt x="544748" y="30508"/>
                  </a:lnTo>
                  <a:lnTo>
                    <a:pt x="553665" y="29652"/>
                  </a:lnTo>
                  <a:lnTo>
                    <a:pt x="562150" y="28235"/>
                  </a:lnTo>
                  <a:lnTo>
                    <a:pt x="570346" y="26443"/>
                  </a:lnTo>
                  <a:lnTo>
                    <a:pt x="579197" y="25249"/>
                  </a:lnTo>
                  <a:lnTo>
                    <a:pt x="606988" y="23568"/>
                  </a:lnTo>
                  <a:lnTo>
                    <a:pt x="641821" y="23000"/>
                  </a:lnTo>
                  <a:lnTo>
                    <a:pt x="726313" y="22863"/>
                  </a:lnTo>
                  <a:lnTo>
                    <a:pt x="733975" y="22015"/>
                  </a:lnTo>
                  <a:lnTo>
                    <a:pt x="742470" y="20603"/>
                  </a:lnTo>
                  <a:lnTo>
                    <a:pt x="751519" y="18815"/>
                  </a:lnTo>
                  <a:lnTo>
                    <a:pt x="760939" y="17624"/>
                  </a:lnTo>
                  <a:lnTo>
                    <a:pt x="780437" y="16300"/>
                  </a:lnTo>
                  <a:lnTo>
                    <a:pt x="789531" y="15100"/>
                  </a:lnTo>
                  <a:lnTo>
                    <a:pt x="798133" y="13453"/>
                  </a:lnTo>
                  <a:lnTo>
                    <a:pt x="806409" y="11509"/>
                  </a:lnTo>
                  <a:lnTo>
                    <a:pt x="815313" y="10212"/>
                  </a:lnTo>
                  <a:lnTo>
                    <a:pt x="843177" y="8388"/>
                  </a:lnTo>
                  <a:lnTo>
                    <a:pt x="875777" y="7772"/>
                  </a:lnTo>
                  <a:lnTo>
                    <a:pt x="1051777" y="7620"/>
                  </a:lnTo>
                  <a:lnTo>
                    <a:pt x="1058478" y="6773"/>
                  </a:lnTo>
                  <a:lnTo>
                    <a:pt x="1064638" y="5362"/>
                  </a:lnTo>
                  <a:lnTo>
                    <a:pt x="1070438" y="3575"/>
                  </a:lnTo>
                  <a:lnTo>
                    <a:pt x="1076845" y="2383"/>
                  </a:lnTo>
                  <a:lnTo>
                    <a:pt x="1097151" y="706"/>
                  </a:lnTo>
                  <a:lnTo>
                    <a:pt x="1130911" y="62"/>
                  </a:lnTo>
                  <a:lnTo>
                    <a:pt x="1234439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SMARTInkAnnotation129"/>
            <p:cNvSpPr/>
            <p:nvPr/>
          </p:nvSpPr>
          <p:spPr>
            <a:xfrm>
              <a:off x="3687840" y="2697480"/>
              <a:ext cx="106560" cy="2055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106681" h="205741">
                  <a:moveTo>
                    <a:pt x="106680" y="0"/>
                  </a:moveTo>
                  <a:lnTo>
                    <a:pt x="100119" y="0"/>
                  </a:lnTo>
                  <a:lnTo>
                    <a:pt x="99766" y="847"/>
                  </a:lnTo>
                  <a:lnTo>
                    <a:pt x="99374" y="4045"/>
                  </a:lnTo>
                  <a:lnTo>
                    <a:pt x="98423" y="6084"/>
                  </a:lnTo>
                  <a:lnTo>
                    <a:pt x="95108" y="10606"/>
                  </a:lnTo>
                  <a:lnTo>
                    <a:pt x="93038" y="12997"/>
                  </a:lnTo>
                  <a:lnTo>
                    <a:pt x="90812" y="15438"/>
                  </a:lnTo>
                  <a:lnTo>
                    <a:pt x="88482" y="17912"/>
                  </a:lnTo>
                  <a:lnTo>
                    <a:pt x="86081" y="21255"/>
                  </a:lnTo>
                  <a:lnTo>
                    <a:pt x="83634" y="25176"/>
                  </a:lnTo>
                  <a:lnTo>
                    <a:pt x="81156" y="29485"/>
                  </a:lnTo>
                  <a:lnTo>
                    <a:pt x="76145" y="38787"/>
                  </a:lnTo>
                  <a:lnTo>
                    <a:pt x="66029" y="58555"/>
                  </a:lnTo>
                  <a:lnTo>
                    <a:pt x="63493" y="64437"/>
                  </a:lnTo>
                  <a:lnTo>
                    <a:pt x="60955" y="70898"/>
                  </a:lnTo>
                  <a:lnTo>
                    <a:pt x="58417" y="77745"/>
                  </a:lnTo>
                  <a:lnTo>
                    <a:pt x="55031" y="84850"/>
                  </a:lnTo>
                  <a:lnTo>
                    <a:pt x="51081" y="92127"/>
                  </a:lnTo>
                  <a:lnTo>
                    <a:pt x="46754" y="99518"/>
                  </a:lnTo>
                  <a:lnTo>
                    <a:pt x="42176" y="106139"/>
                  </a:lnTo>
                  <a:lnTo>
                    <a:pt x="37431" y="112246"/>
                  </a:lnTo>
                  <a:lnTo>
                    <a:pt x="32574" y="118011"/>
                  </a:lnTo>
                  <a:lnTo>
                    <a:pt x="28489" y="124394"/>
                  </a:lnTo>
                  <a:lnTo>
                    <a:pt x="24919" y="131189"/>
                  </a:lnTo>
                  <a:lnTo>
                    <a:pt x="21693" y="138260"/>
                  </a:lnTo>
                  <a:lnTo>
                    <a:pt x="18696" y="145513"/>
                  </a:lnTo>
                  <a:lnTo>
                    <a:pt x="15850" y="152889"/>
                  </a:lnTo>
                  <a:lnTo>
                    <a:pt x="13107" y="160346"/>
                  </a:lnTo>
                  <a:lnTo>
                    <a:pt x="10431" y="166164"/>
                  </a:lnTo>
                  <a:lnTo>
                    <a:pt x="7800" y="170889"/>
                  </a:lnTo>
                  <a:lnTo>
                    <a:pt x="5200" y="174886"/>
                  </a:lnTo>
                  <a:lnTo>
                    <a:pt x="3467" y="179245"/>
                  </a:lnTo>
                  <a:lnTo>
                    <a:pt x="2311" y="183843"/>
                  </a:lnTo>
                  <a:lnTo>
                    <a:pt x="1541" y="188602"/>
                  </a:lnTo>
                  <a:lnTo>
                    <a:pt x="1027" y="192621"/>
                  </a:lnTo>
                  <a:lnTo>
                    <a:pt x="685" y="196147"/>
                  </a:lnTo>
                  <a:lnTo>
                    <a:pt x="0" y="2057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SMARTInkAnnotation130"/>
            <p:cNvSpPr/>
            <p:nvPr/>
          </p:nvSpPr>
          <p:spPr>
            <a:xfrm>
              <a:off x="3874680" y="2689560"/>
              <a:ext cx="147960" cy="23616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148166" h="236221">
                  <a:moveTo>
                    <a:pt x="71965" y="0"/>
                  </a:moveTo>
                  <a:lnTo>
                    <a:pt x="67920" y="0"/>
                  </a:lnTo>
                  <a:lnTo>
                    <a:pt x="66728" y="847"/>
                  </a:lnTo>
                  <a:lnTo>
                    <a:pt x="65934" y="2258"/>
                  </a:lnTo>
                  <a:lnTo>
                    <a:pt x="65404" y="4045"/>
                  </a:lnTo>
                  <a:lnTo>
                    <a:pt x="62557" y="8289"/>
                  </a:lnTo>
                  <a:lnTo>
                    <a:pt x="60613" y="10606"/>
                  </a:lnTo>
                  <a:lnTo>
                    <a:pt x="57624" y="13844"/>
                  </a:lnTo>
                  <a:lnTo>
                    <a:pt x="49787" y="21957"/>
                  </a:lnTo>
                  <a:lnTo>
                    <a:pt x="46173" y="27338"/>
                  </a:lnTo>
                  <a:lnTo>
                    <a:pt x="42917" y="33466"/>
                  </a:lnTo>
                  <a:lnTo>
                    <a:pt x="39900" y="40090"/>
                  </a:lnTo>
                  <a:lnTo>
                    <a:pt x="37041" y="47047"/>
                  </a:lnTo>
                  <a:lnTo>
                    <a:pt x="34289" y="54225"/>
                  </a:lnTo>
                  <a:lnTo>
                    <a:pt x="28974" y="68973"/>
                  </a:lnTo>
                  <a:lnTo>
                    <a:pt x="23789" y="83995"/>
                  </a:lnTo>
                  <a:lnTo>
                    <a:pt x="21221" y="92403"/>
                  </a:lnTo>
                  <a:lnTo>
                    <a:pt x="13562" y="119571"/>
                  </a:lnTo>
                  <a:lnTo>
                    <a:pt x="8473" y="136116"/>
                  </a:lnTo>
                  <a:lnTo>
                    <a:pt x="847" y="159711"/>
                  </a:lnTo>
                  <a:lnTo>
                    <a:pt x="0" y="166587"/>
                  </a:lnTo>
                  <a:lnTo>
                    <a:pt x="282" y="172865"/>
                  </a:lnTo>
                  <a:lnTo>
                    <a:pt x="1316" y="178743"/>
                  </a:lnTo>
                  <a:lnTo>
                    <a:pt x="2853" y="184355"/>
                  </a:lnTo>
                  <a:lnTo>
                    <a:pt x="4723" y="189790"/>
                  </a:lnTo>
                  <a:lnTo>
                    <a:pt x="6817" y="195107"/>
                  </a:lnTo>
                  <a:lnTo>
                    <a:pt x="9060" y="199498"/>
                  </a:lnTo>
                  <a:lnTo>
                    <a:pt x="11401" y="203272"/>
                  </a:lnTo>
                  <a:lnTo>
                    <a:pt x="13809" y="206635"/>
                  </a:lnTo>
                  <a:lnTo>
                    <a:pt x="17954" y="209723"/>
                  </a:lnTo>
                  <a:lnTo>
                    <a:pt x="23258" y="212629"/>
                  </a:lnTo>
                  <a:lnTo>
                    <a:pt x="29334" y="215412"/>
                  </a:lnTo>
                  <a:lnTo>
                    <a:pt x="35924" y="217268"/>
                  </a:lnTo>
                  <a:lnTo>
                    <a:pt x="42858" y="218505"/>
                  </a:lnTo>
                  <a:lnTo>
                    <a:pt x="50021" y="219330"/>
                  </a:lnTo>
                  <a:lnTo>
                    <a:pt x="57335" y="219034"/>
                  </a:lnTo>
                  <a:lnTo>
                    <a:pt x="64752" y="217989"/>
                  </a:lnTo>
                  <a:lnTo>
                    <a:pt x="72236" y="216446"/>
                  </a:lnTo>
                  <a:lnTo>
                    <a:pt x="79766" y="214570"/>
                  </a:lnTo>
                  <a:lnTo>
                    <a:pt x="87326" y="212474"/>
                  </a:lnTo>
                  <a:lnTo>
                    <a:pt x="94906" y="210229"/>
                  </a:lnTo>
                  <a:lnTo>
                    <a:pt x="102499" y="207039"/>
                  </a:lnTo>
                  <a:lnTo>
                    <a:pt x="110101" y="203220"/>
                  </a:lnTo>
                  <a:lnTo>
                    <a:pt x="117709" y="198980"/>
                  </a:lnTo>
                  <a:lnTo>
                    <a:pt x="123628" y="194460"/>
                  </a:lnTo>
                  <a:lnTo>
                    <a:pt x="128420" y="189753"/>
                  </a:lnTo>
                  <a:lnTo>
                    <a:pt x="132462" y="184922"/>
                  </a:lnTo>
                  <a:lnTo>
                    <a:pt x="136003" y="180008"/>
                  </a:lnTo>
                  <a:lnTo>
                    <a:pt x="139210" y="175039"/>
                  </a:lnTo>
                  <a:lnTo>
                    <a:pt x="142195" y="170032"/>
                  </a:lnTo>
                  <a:lnTo>
                    <a:pt x="144185" y="165002"/>
                  </a:lnTo>
                  <a:lnTo>
                    <a:pt x="145512" y="159955"/>
                  </a:lnTo>
                  <a:lnTo>
                    <a:pt x="146396" y="154896"/>
                  </a:lnTo>
                  <a:lnTo>
                    <a:pt x="146139" y="150678"/>
                  </a:lnTo>
                  <a:lnTo>
                    <a:pt x="145121" y="147018"/>
                  </a:lnTo>
                  <a:lnTo>
                    <a:pt x="143596" y="143733"/>
                  </a:lnTo>
                  <a:lnTo>
                    <a:pt x="141732" y="141542"/>
                  </a:lnTo>
                  <a:lnTo>
                    <a:pt x="139642" y="140081"/>
                  </a:lnTo>
                  <a:lnTo>
                    <a:pt x="137403" y="139107"/>
                  </a:lnTo>
                  <a:lnTo>
                    <a:pt x="134218" y="138458"/>
                  </a:lnTo>
                  <a:lnTo>
                    <a:pt x="130400" y="138026"/>
                  </a:lnTo>
                  <a:lnTo>
                    <a:pt x="126162" y="137737"/>
                  </a:lnTo>
                  <a:lnTo>
                    <a:pt x="119195" y="137417"/>
                  </a:lnTo>
                  <a:lnTo>
                    <a:pt x="116152" y="137331"/>
                  </a:lnTo>
                  <a:lnTo>
                    <a:pt x="112429" y="138121"/>
                  </a:lnTo>
                  <a:lnTo>
                    <a:pt x="108255" y="139494"/>
                  </a:lnTo>
                  <a:lnTo>
                    <a:pt x="103778" y="141256"/>
                  </a:lnTo>
                  <a:lnTo>
                    <a:pt x="99947" y="144124"/>
                  </a:lnTo>
                  <a:lnTo>
                    <a:pt x="96546" y="147729"/>
                  </a:lnTo>
                  <a:lnTo>
                    <a:pt x="93433" y="151826"/>
                  </a:lnTo>
                  <a:lnTo>
                    <a:pt x="90510" y="155404"/>
                  </a:lnTo>
                  <a:lnTo>
                    <a:pt x="87715" y="158636"/>
                  </a:lnTo>
                  <a:lnTo>
                    <a:pt x="85005" y="161637"/>
                  </a:lnTo>
                  <a:lnTo>
                    <a:pt x="82351" y="165332"/>
                  </a:lnTo>
                  <a:lnTo>
                    <a:pt x="79736" y="169488"/>
                  </a:lnTo>
                  <a:lnTo>
                    <a:pt x="77146" y="173952"/>
                  </a:lnTo>
                  <a:lnTo>
                    <a:pt x="76266" y="178621"/>
                  </a:lnTo>
                  <a:lnTo>
                    <a:pt x="76525" y="183428"/>
                  </a:lnTo>
                  <a:lnTo>
                    <a:pt x="77545" y="188325"/>
                  </a:lnTo>
                  <a:lnTo>
                    <a:pt x="79072" y="192437"/>
                  </a:lnTo>
                  <a:lnTo>
                    <a:pt x="83026" y="199263"/>
                  </a:lnTo>
                  <a:lnTo>
                    <a:pt x="86959" y="203115"/>
                  </a:lnTo>
                  <a:lnTo>
                    <a:pt x="92121" y="207377"/>
                  </a:lnTo>
                  <a:lnTo>
                    <a:pt x="98102" y="211911"/>
                  </a:lnTo>
                  <a:lnTo>
                    <a:pt x="103783" y="215781"/>
                  </a:lnTo>
                  <a:lnTo>
                    <a:pt x="109264" y="219207"/>
                  </a:lnTo>
                  <a:lnTo>
                    <a:pt x="114611" y="222338"/>
                  </a:lnTo>
                  <a:lnTo>
                    <a:pt x="120715" y="225272"/>
                  </a:lnTo>
                  <a:lnTo>
                    <a:pt x="127325" y="228075"/>
                  </a:lnTo>
                  <a:lnTo>
                    <a:pt x="148165" y="2362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SMARTInkAnnotation131"/>
            <p:cNvSpPr/>
            <p:nvPr/>
          </p:nvSpPr>
          <p:spPr>
            <a:xfrm>
              <a:off x="4106880" y="2804040"/>
              <a:ext cx="159840" cy="151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60021" h="15241">
                  <a:moveTo>
                    <a:pt x="0" y="15240"/>
                  </a:moveTo>
                  <a:lnTo>
                    <a:pt x="0" y="7713"/>
                  </a:lnTo>
                  <a:lnTo>
                    <a:pt x="4045" y="7648"/>
                  </a:lnTo>
                  <a:lnTo>
                    <a:pt x="36045" y="7621"/>
                  </a:lnTo>
                  <a:lnTo>
                    <a:pt x="41810" y="6774"/>
                  </a:lnTo>
                  <a:lnTo>
                    <a:pt x="48193" y="5363"/>
                  </a:lnTo>
                  <a:lnTo>
                    <a:pt x="54989" y="3575"/>
                  </a:lnTo>
                  <a:lnTo>
                    <a:pt x="62059" y="2383"/>
                  </a:lnTo>
                  <a:lnTo>
                    <a:pt x="69313" y="1589"/>
                  </a:lnTo>
                  <a:lnTo>
                    <a:pt x="76689" y="1059"/>
                  </a:lnTo>
                  <a:lnTo>
                    <a:pt x="84146" y="706"/>
                  </a:lnTo>
                  <a:lnTo>
                    <a:pt x="99205" y="314"/>
                  </a:lnTo>
                  <a:lnTo>
                    <a:pt x="1600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SMARTInkAnnotation132"/>
            <p:cNvSpPr/>
            <p:nvPr/>
          </p:nvSpPr>
          <p:spPr>
            <a:xfrm>
              <a:off x="4289760" y="2697480"/>
              <a:ext cx="198000" cy="10332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97989" h="103363">
                  <a:moveTo>
                    <a:pt x="53208" y="0"/>
                  </a:moveTo>
                  <a:lnTo>
                    <a:pt x="53208" y="18133"/>
                  </a:lnTo>
                  <a:lnTo>
                    <a:pt x="52362" y="21402"/>
                  </a:lnTo>
                  <a:lnTo>
                    <a:pt x="50950" y="25275"/>
                  </a:lnTo>
                  <a:lnTo>
                    <a:pt x="49163" y="29550"/>
                  </a:lnTo>
                  <a:lnTo>
                    <a:pt x="47125" y="33246"/>
                  </a:lnTo>
                  <a:lnTo>
                    <a:pt x="44919" y="36558"/>
                  </a:lnTo>
                  <a:lnTo>
                    <a:pt x="42602" y="39612"/>
                  </a:lnTo>
                  <a:lnTo>
                    <a:pt x="40211" y="42494"/>
                  </a:lnTo>
                  <a:lnTo>
                    <a:pt x="37770" y="45263"/>
                  </a:lnTo>
                  <a:lnTo>
                    <a:pt x="35296" y="47955"/>
                  </a:lnTo>
                  <a:lnTo>
                    <a:pt x="32800" y="51444"/>
                  </a:lnTo>
                  <a:lnTo>
                    <a:pt x="30289" y="55462"/>
                  </a:lnTo>
                  <a:lnTo>
                    <a:pt x="27769" y="59835"/>
                  </a:lnTo>
                  <a:lnTo>
                    <a:pt x="25242" y="63597"/>
                  </a:lnTo>
                  <a:lnTo>
                    <a:pt x="22711" y="66951"/>
                  </a:lnTo>
                  <a:lnTo>
                    <a:pt x="20176" y="70034"/>
                  </a:lnTo>
                  <a:lnTo>
                    <a:pt x="17640" y="72936"/>
                  </a:lnTo>
                  <a:lnTo>
                    <a:pt x="15103" y="75717"/>
                  </a:lnTo>
                  <a:lnTo>
                    <a:pt x="10026" y="81066"/>
                  </a:lnTo>
                  <a:lnTo>
                    <a:pt x="4947" y="86265"/>
                  </a:lnTo>
                  <a:lnTo>
                    <a:pt x="3254" y="88837"/>
                  </a:lnTo>
                  <a:lnTo>
                    <a:pt x="2125" y="91398"/>
                  </a:lnTo>
                  <a:lnTo>
                    <a:pt x="0" y="98612"/>
                  </a:lnTo>
                  <a:lnTo>
                    <a:pt x="2184" y="101119"/>
                  </a:lnTo>
                  <a:lnTo>
                    <a:pt x="3953" y="102972"/>
                  </a:lnTo>
                  <a:lnTo>
                    <a:pt x="5977" y="103362"/>
                  </a:lnTo>
                  <a:lnTo>
                    <a:pt x="8174" y="102774"/>
                  </a:lnTo>
                  <a:lnTo>
                    <a:pt x="10485" y="101536"/>
                  </a:lnTo>
                  <a:lnTo>
                    <a:pt x="13720" y="100711"/>
                  </a:lnTo>
                  <a:lnTo>
                    <a:pt x="17569" y="100161"/>
                  </a:lnTo>
                  <a:lnTo>
                    <a:pt x="21829" y="99794"/>
                  </a:lnTo>
                  <a:lnTo>
                    <a:pt x="28055" y="99549"/>
                  </a:lnTo>
                  <a:lnTo>
                    <a:pt x="44005" y="99278"/>
                  </a:lnTo>
                  <a:lnTo>
                    <a:pt x="52152" y="98358"/>
                  </a:lnTo>
                  <a:lnTo>
                    <a:pt x="60125" y="96899"/>
                  </a:lnTo>
                  <a:lnTo>
                    <a:pt x="67979" y="95080"/>
                  </a:lnTo>
                  <a:lnTo>
                    <a:pt x="75755" y="93866"/>
                  </a:lnTo>
                  <a:lnTo>
                    <a:pt x="83479" y="93058"/>
                  </a:lnTo>
                  <a:lnTo>
                    <a:pt x="91168" y="92519"/>
                  </a:lnTo>
                  <a:lnTo>
                    <a:pt x="99682" y="91312"/>
                  </a:lnTo>
                  <a:lnTo>
                    <a:pt x="108744" y="89662"/>
                  </a:lnTo>
                  <a:lnTo>
                    <a:pt x="118171" y="87715"/>
                  </a:lnTo>
                  <a:lnTo>
                    <a:pt x="126150" y="85570"/>
                  </a:lnTo>
                  <a:lnTo>
                    <a:pt x="133164" y="83293"/>
                  </a:lnTo>
                  <a:lnTo>
                    <a:pt x="139532" y="80929"/>
                  </a:lnTo>
                  <a:lnTo>
                    <a:pt x="145470" y="79353"/>
                  </a:lnTo>
                  <a:lnTo>
                    <a:pt x="151123" y="78302"/>
                  </a:lnTo>
                  <a:lnTo>
                    <a:pt x="156585" y="77601"/>
                  </a:lnTo>
                  <a:lnTo>
                    <a:pt x="161919" y="77134"/>
                  </a:lnTo>
                  <a:lnTo>
                    <a:pt x="167168" y="76823"/>
                  </a:lnTo>
                  <a:lnTo>
                    <a:pt x="172362" y="76615"/>
                  </a:lnTo>
                  <a:lnTo>
                    <a:pt x="176670" y="75630"/>
                  </a:lnTo>
                  <a:lnTo>
                    <a:pt x="180390" y="74127"/>
                  </a:lnTo>
                  <a:lnTo>
                    <a:pt x="183716" y="72278"/>
                  </a:lnTo>
                  <a:lnTo>
                    <a:pt x="189669" y="70224"/>
                  </a:lnTo>
                  <a:lnTo>
                    <a:pt x="192442" y="69676"/>
                  </a:lnTo>
                  <a:lnTo>
                    <a:pt x="194291" y="68464"/>
                  </a:lnTo>
                  <a:lnTo>
                    <a:pt x="195523" y="66809"/>
                  </a:lnTo>
                  <a:lnTo>
                    <a:pt x="197988" y="609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SMARTInkAnnotation133"/>
            <p:cNvSpPr/>
            <p:nvPr/>
          </p:nvSpPr>
          <p:spPr>
            <a:xfrm>
              <a:off x="4442040" y="2689560"/>
              <a:ext cx="37800" cy="2667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8092" h="266701">
                  <a:moveTo>
                    <a:pt x="38091" y="0"/>
                  </a:moveTo>
                  <a:lnTo>
                    <a:pt x="38091" y="25439"/>
                  </a:lnTo>
                  <a:lnTo>
                    <a:pt x="37244" y="28813"/>
                  </a:lnTo>
                  <a:lnTo>
                    <a:pt x="35833" y="32755"/>
                  </a:lnTo>
                  <a:lnTo>
                    <a:pt x="34046" y="37077"/>
                  </a:lnTo>
                  <a:lnTo>
                    <a:pt x="32854" y="42498"/>
                  </a:lnTo>
                  <a:lnTo>
                    <a:pt x="32060" y="48652"/>
                  </a:lnTo>
                  <a:lnTo>
                    <a:pt x="31530" y="55295"/>
                  </a:lnTo>
                  <a:lnTo>
                    <a:pt x="30330" y="61417"/>
                  </a:lnTo>
                  <a:lnTo>
                    <a:pt x="28684" y="67191"/>
                  </a:lnTo>
                  <a:lnTo>
                    <a:pt x="15074" y="107227"/>
                  </a:lnTo>
                  <a:lnTo>
                    <a:pt x="12586" y="114665"/>
                  </a:lnTo>
                  <a:lnTo>
                    <a:pt x="10928" y="122164"/>
                  </a:lnTo>
                  <a:lnTo>
                    <a:pt x="9822" y="129702"/>
                  </a:lnTo>
                  <a:lnTo>
                    <a:pt x="9085" y="137268"/>
                  </a:lnTo>
                  <a:lnTo>
                    <a:pt x="7747" y="144006"/>
                  </a:lnTo>
                  <a:lnTo>
                    <a:pt x="6008" y="150191"/>
                  </a:lnTo>
                  <a:lnTo>
                    <a:pt x="4003" y="156007"/>
                  </a:lnTo>
                  <a:lnTo>
                    <a:pt x="2666" y="162425"/>
                  </a:lnTo>
                  <a:lnTo>
                    <a:pt x="1774" y="169243"/>
                  </a:lnTo>
                  <a:lnTo>
                    <a:pt x="1180" y="176329"/>
                  </a:lnTo>
                  <a:lnTo>
                    <a:pt x="783" y="183593"/>
                  </a:lnTo>
                  <a:lnTo>
                    <a:pt x="343" y="198437"/>
                  </a:lnTo>
                  <a:lnTo>
                    <a:pt x="61" y="223426"/>
                  </a:lnTo>
                  <a:lnTo>
                    <a:pt x="0" y="251312"/>
                  </a:lnTo>
                  <a:lnTo>
                    <a:pt x="844" y="254748"/>
                  </a:lnTo>
                  <a:lnTo>
                    <a:pt x="2253" y="257885"/>
                  </a:lnTo>
                  <a:lnTo>
                    <a:pt x="7611" y="2667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SMARTInkAnnotation134"/>
            <p:cNvSpPr/>
            <p:nvPr/>
          </p:nvSpPr>
          <p:spPr>
            <a:xfrm>
              <a:off x="3962160" y="3124080"/>
              <a:ext cx="7560" cy="129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7621" h="129541">
                  <a:moveTo>
                    <a:pt x="7620" y="0"/>
                  </a:moveTo>
                  <a:lnTo>
                    <a:pt x="7620" y="104171"/>
                  </a:lnTo>
                  <a:lnTo>
                    <a:pt x="6774" y="108394"/>
                  </a:lnTo>
                  <a:lnTo>
                    <a:pt x="5362" y="112056"/>
                  </a:lnTo>
                  <a:lnTo>
                    <a:pt x="3575" y="115344"/>
                  </a:lnTo>
                  <a:lnTo>
                    <a:pt x="2383" y="118383"/>
                  </a:lnTo>
                  <a:lnTo>
                    <a:pt x="1589" y="121255"/>
                  </a:lnTo>
                  <a:lnTo>
                    <a:pt x="0" y="1295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SMARTInkAnnotation135"/>
            <p:cNvSpPr/>
            <p:nvPr/>
          </p:nvSpPr>
          <p:spPr>
            <a:xfrm>
              <a:off x="4061520" y="3093840"/>
              <a:ext cx="182160" cy="17460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82302" h="174804">
                  <a:moveTo>
                    <a:pt x="14660" y="30376"/>
                  </a:moveTo>
                  <a:lnTo>
                    <a:pt x="14660" y="26331"/>
                  </a:lnTo>
                  <a:lnTo>
                    <a:pt x="15506" y="25139"/>
                  </a:lnTo>
                  <a:lnTo>
                    <a:pt x="16918" y="24345"/>
                  </a:lnTo>
                  <a:lnTo>
                    <a:pt x="18705" y="23815"/>
                  </a:lnTo>
                  <a:lnTo>
                    <a:pt x="19897" y="22616"/>
                  </a:lnTo>
                  <a:lnTo>
                    <a:pt x="20692" y="20969"/>
                  </a:lnTo>
                  <a:lnTo>
                    <a:pt x="21221" y="19025"/>
                  </a:lnTo>
                  <a:lnTo>
                    <a:pt x="24068" y="14607"/>
                  </a:lnTo>
                  <a:lnTo>
                    <a:pt x="26012" y="12243"/>
                  </a:lnTo>
                  <a:lnTo>
                    <a:pt x="28155" y="10668"/>
                  </a:lnTo>
                  <a:lnTo>
                    <a:pt x="32793" y="8917"/>
                  </a:lnTo>
                  <a:lnTo>
                    <a:pt x="37677" y="5881"/>
                  </a:lnTo>
                  <a:lnTo>
                    <a:pt x="40165" y="3886"/>
                  </a:lnTo>
                  <a:lnTo>
                    <a:pt x="43517" y="2556"/>
                  </a:lnTo>
                  <a:lnTo>
                    <a:pt x="47445" y="1670"/>
                  </a:lnTo>
                  <a:lnTo>
                    <a:pt x="51757" y="1079"/>
                  </a:lnTo>
                  <a:lnTo>
                    <a:pt x="55478" y="684"/>
                  </a:lnTo>
                  <a:lnTo>
                    <a:pt x="58805" y="422"/>
                  </a:lnTo>
                  <a:lnTo>
                    <a:pt x="61871" y="246"/>
                  </a:lnTo>
                  <a:lnTo>
                    <a:pt x="69791" y="52"/>
                  </a:lnTo>
                  <a:lnTo>
                    <a:pt x="74275" y="0"/>
                  </a:lnTo>
                  <a:lnTo>
                    <a:pt x="78956" y="812"/>
                  </a:lnTo>
                  <a:lnTo>
                    <a:pt x="83771" y="2200"/>
                  </a:lnTo>
                  <a:lnTo>
                    <a:pt x="88674" y="3972"/>
                  </a:lnTo>
                  <a:lnTo>
                    <a:pt x="92790" y="6000"/>
                  </a:lnTo>
                  <a:lnTo>
                    <a:pt x="96380" y="8199"/>
                  </a:lnTo>
                  <a:lnTo>
                    <a:pt x="99620" y="10511"/>
                  </a:lnTo>
                  <a:lnTo>
                    <a:pt x="102627" y="12053"/>
                  </a:lnTo>
                  <a:lnTo>
                    <a:pt x="108225" y="13766"/>
                  </a:lnTo>
                  <a:lnTo>
                    <a:pt x="110057" y="15069"/>
                  </a:lnTo>
                  <a:lnTo>
                    <a:pt x="111278" y="16785"/>
                  </a:lnTo>
                  <a:lnTo>
                    <a:pt x="112093" y="18775"/>
                  </a:lnTo>
                  <a:lnTo>
                    <a:pt x="112635" y="21796"/>
                  </a:lnTo>
                  <a:lnTo>
                    <a:pt x="112996" y="25503"/>
                  </a:lnTo>
                  <a:lnTo>
                    <a:pt x="113238" y="29667"/>
                  </a:lnTo>
                  <a:lnTo>
                    <a:pt x="112552" y="33290"/>
                  </a:lnTo>
                  <a:lnTo>
                    <a:pt x="111248" y="36552"/>
                  </a:lnTo>
                  <a:lnTo>
                    <a:pt x="109532" y="39574"/>
                  </a:lnTo>
                  <a:lnTo>
                    <a:pt x="106694" y="43281"/>
                  </a:lnTo>
                  <a:lnTo>
                    <a:pt x="103110" y="47446"/>
                  </a:lnTo>
                  <a:lnTo>
                    <a:pt x="99027" y="51916"/>
                  </a:lnTo>
                  <a:lnTo>
                    <a:pt x="94611" y="55743"/>
                  </a:lnTo>
                  <a:lnTo>
                    <a:pt x="89974" y="59141"/>
                  </a:lnTo>
                  <a:lnTo>
                    <a:pt x="66320" y="74722"/>
                  </a:lnTo>
                  <a:lnTo>
                    <a:pt x="60106" y="79414"/>
                  </a:lnTo>
                  <a:lnTo>
                    <a:pt x="54271" y="84235"/>
                  </a:lnTo>
                  <a:lnTo>
                    <a:pt x="48687" y="89142"/>
                  </a:lnTo>
                  <a:lnTo>
                    <a:pt x="43272" y="94106"/>
                  </a:lnTo>
                  <a:lnTo>
                    <a:pt x="32739" y="104139"/>
                  </a:lnTo>
                  <a:lnTo>
                    <a:pt x="27560" y="108338"/>
                  </a:lnTo>
                  <a:lnTo>
                    <a:pt x="22413" y="111984"/>
                  </a:lnTo>
                  <a:lnTo>
                    <a:pt x="17289" y="115261"/>
                  </a:lnTo>
                  <a:lnTo>
                    <a:pt x="13026" y="119139"/>
                  </a:lnTo>
                  <a:lnTo>
                    <a:pt x="9337" y="123418"/>
                  </a:lnTo>
                  <a:lnTo>
                    <a:pt x="6031" y="127964"/>
                  </a:lnTo>
                  <a:lnTo>
                    <a:pt x="3828" y="131842"/>
                  </a:lnTo>
                  <a:lnTo>
                    <a:pt x="2358" y="135273"/>
                  </a:lnTo>
                  <a:lnTo>
                    <a:pt x="1379" y="138407"/>
                  </a:lnTo>
                  <a:lnTo>
                    <a:pt x="726" y="141344"/>
                  </a:lnTo>
                  <a:lnTo>
                    <a:pt x="291" y="144148"/>
                  </a:lnTo>
                  <a:lnTo>
                    <a:pt x="0" y="146864"/>
                  </a:lnTo>
                  <a:lnTo>
                    <a:pt x="653" y="149521"/>
                  </a:lnTo>
                  <a:lnTo>
                    <a:pt x="3637" y="154732"/>
                  </a:lnTo>
                  <a:lnTo>
                    <a:pt x="6465" y="157307"/>
                  </a:lnTo>
                  <a:lnTo>
                    <a:pt x="10043" y="159870"/>
                  </a:lnTo>
                  <a:lnTo>
                    <a:pt x="14122" y="162425"/>
                  </a:lnTo>
                  <a:lnTo>
                    <a:pt x="18535" y="164129"/>
                  </a:lnTo>
                  <a:lnTo>
                    <a:pt x="23170" y="165265"/>
                  </a:lnTo>
                  <a:lnTo>
                    <a:pt x="27953" y="166022"/>
                  </a:lnTo>
                  <a:lnTo>
                    <a:pt x="33682" y="167373"/>
                  </a:lnTo>
                  <a:lnTo>
                    <a:pt x="40041" y="169121"/>
                  </a:lnTo>
                  <a:lnTo>
                    <a:pt x="46821" y="171133"/>
                  </a:lnTo>
                  <a:lnTo>
                    <a:pt x="53880" y="172474"/>
                  </a:lnTo>
                  <a:lnTo>
                    <a:pt x="61127" y="173368"/>
                  </a:lnTo>
                  <a:lnTo>
                    <a:pt x="68498" y="173964"/>
                  </a:lnTo>
                  <a:lnTo>
                    <a:pt x="75952" y="174361"/>
                  </a:lnTo>
                  <a:lnTo>
                    <a:pt x="91008" y="174803"/>
                  </a:lnTo>
                  <a:lnTo>
                    <a:pt x="98579" y="174074"/>
                  </a:lnTo>
                  <a:lnTo>
                    <a:pt x="106166" y="172741"/>
                  </a:lnTo>
                  <a:lnTo>
                    <a:pt x="113764" y="171007"/>
                  </a:lnTo>
                  <a:lnTo>
                    <a:pt x="121370" y="169849"/>
                  </a:lnTo>
                  <a:lnTo>
                    <a:pt x="128980" y="169078"/>
                  </a:lnTo>
                  <a:lnTo>
                    <a:pt x="136594" y="168564"/>
                  </a:lnTo>
                  <a:lnTo>
                    <a:pt x="149568" y="167993"/>
                  </a:lnTo>
                  <a:lnTo>
                    <a:pt x="155399" y="167841"/>
                  </a:lnTo>
                  <a:lnTo>
                    <a:pt x="160979" y="166893"/>
                  </a:lnTo>
                  <a:lnTo>
                    <a:pt x="166393" y="165414"/>
                  </a:lnTo>
                  <a:lnTo>
                    <a:pt x="182301" y="1599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SMARTInkAnnotation136"/>
            <p:cNvSpPr/>
            <p:nvPr/>
          </p:nvSpPr>
          <p:spPr>
            <a:xfrm>
              <a:off x="3627000" y="3110040"/>
              <a:ext cx="37440" cy="1404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7719" h="14097">
                  <a:moveTo>
                    <a:pt x="7306" y="6476"/>
                  </a:moveTo>
                  <a:lnTo>
                    <a:pt x="3261" y="6476"/>
                  </a:lnTo>
                  <a:lnTo>
                    <a:pt x="2070" y="7323"/>
                  </a:lnTo>
                  <a:lnTo>
                    <a:pt x="1275" y="8734"/>
                  </a:lnTo>
                  <a:lnTo>
                    <a:pt x="0" y="13037"/>
                  </a:lnTo>
                  <a:lnTo>
                    <a:pt x="1589" y="12543"/>
                  </a:lnTo>
                  <a:lnTo>
                    <a:pt x="4341" y="11368"/>
                  </a:lnTo>
                  <a:lnTo>
                    <a:pt x="7869" y="9737"/>
                  </a:lnTo>
                  <a:lnTo>
                    <a:pt x="11068" y="8650"/>
                  </a:lnTo>
                  <a:lnTo>
                    <a:pt x="14048" y="7926"/>
                  </a:lnTo>
                  <a:lnTo>
                    <a:pt x="16880" y="7442"/>
                  </a:lnTo>
                  <a:lnTo>
                    <a:pt x="20462" y="6274"/>
                  </a:lnTo>
                  <a:lnTo>
                    <a:pt x="24543" y="4648"/>
                  </a:lnTo>
                  <a:lnTo>
                    <a:pt x="-30366" y="0"/>
                  </a:lnTo>
                  <a:lnTo>
                    <a:pt x="-29494" y="466"/>
                  </a:lnTo>
                  <a:lnTo>
                    <a:pt x="-28913" y="1623"/>
                  </a:lnTo>
                  <a:lnTo>
                    <a:pt x="-27818" y="6192"/>
                  </a:lnTo>
                  <a:lnTo>
                    <a:pt x="-28642" y="7133"/>
                  </a:lnTo>
                  <a:lnTo>
                    <a:pt x="-31815" y="10437"/>
                  </a:lnTo>
                  <a:lnTo>
                    <a:pt x="31689" y="11657"/>
                  </a:lnTo>
                  <a:lnTo>
                    <a:pt x="29488" y="12470"/>
                  </a:lnTo>
                  <a:lnTo>
                    <a:pt x="27174" y="13012"/>
                  </a:lnTo>
                  <a:lnTo>
                    <a:pt x="24785" y="13373"/>
                  </a:lnTo>
                  <a:lnTo>
                    <a:pt x="22345" y="13614"/>
                  </a:lnTo>
                  <a:lnTo>
                    <a:pt x="19872" y="13775"/>
                  </a:lnTo>
                  <a:lnTo>
                    <a:pt x="17376" y="13882"/>
                  </a:lnTo>
                  <a:lnTo>
                    <a:pt x="8799" y="14068"/>
                  </a:lnTo>
                  <a:lnTo>
                    <a:pt x="877" y="14093"/>
                  </a:lnTo>
                  <a:lnTo>
                    <a:pt x="7306" y="140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SMARTInkAnnotation137"/>
            <p:cNvSpPr/>
            <p:nvPr/>
          </p:nvSpPr>
          <p:spPr>
            <a:xfrm>
              <a:off x="3542760" y="3215880"/>
              <a:ext cx="198000" cy="1512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98121" h="15241">
                  <a:moveTo>
                    <a:pt x="0" y="15240"/>
                  </a:moveTo>
                  <a:lnTo>
                    <a:pt x="11352" y="15240"/>
                  </a:lnTo>
                  <a:lnTo>
                    <a:pt x="14341" y="14393"/>
                  </a:lnTo>
                  <a:lnTo>
                    <a:pt x="18027" y="12982"/>
                  </a:lnTo>
                  <a:lnTo>
                    <a:pt x="22178" y="11195"/>
                  </a:lnTo>
                  <a:lnTo>
                    <a:pt x="27486" y="10003"/>
                  </a:lnTo>
                  <a:lnTo>
                    <a:pt x="33563" y="9209"/>
                  </a:lnTo>
                  <a:lnTo>
                    <a:pt x="40156" y="8679"/>
                  </a:lnTo>
                  <a:lnTo>
                    <a:pt x="47091" y="7480"/>
                  </a:lnTo>
                  <a:lnTo>
                    <a:pt x="54254" y="5833"/>
                  </a:lnTo>
                  <a:lnTo>
                    <a:pt x="61569" y="3888"/>
                  </a:lnTo>
                  <a:lnTo>
                    <a:pt x="69833" y="2593"/>
                  </a:lnTo>
                  <a:lnTo>
                    <a:pt x="78729" y="1728"/>
                  </a:lnTo>
                  <a:lnTo>
                    <a:pt x="88046" y="1152"/>
                  </a:lnTo>
                  <a:lnTo>
                    <a:pt x="105171" y="512"/>
                  </a:lnTo>
                  <a:lnTo>
                    <a:pt x="129093" y="152"/>
                  </a:lnTo>
                  <a:lnTo>
                    <a:pt x="1981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SMARTInkAnnotation138"/>
            <p:cNvSpPr/>
            <p:nvPr/>
          </p:nvSpPr>
          <p:spPr>
            <a:xfrm>
              <a:off x="3589920" y="3322440"/>
              <a:ext cx="50400" cy="75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50648" h="7621">
                  <a:moveTo>
                    <a:pt x="29292" y="0"/>
                  </a:moveTo>
                  <a:lnTo>
                    <a:pt x="0" y="0"/>
                  </a:lnTo>
                  <a:lnTo>
                    <a:pt x="31846" y="0"/>
                  </a:lnTo>
                  <a:lnTo>
                    <a:pt x="-31154" y="847"/>
                  </a:lnTo>
                  <a:lnTo>
                    <a:pt x="-28618" y="2258"/>
                  </a:lnTo>
                  <a:lnTo>
                    <a:pt x="-26080" y="4046"/>
                  </a:lnTo>
                  <a:lnTo>
                    <a:pt x="-23541" y="5237"/>
                  </a:lnTo>
                  <a:lnTo>
                    <a:pt x="-21002" y="6031"/>
                  </a:lnTo>
                  <a:lnTo>
                    <a:pt x="-14889" y="7307"/>
                  </a:lnTo>
                  <a:lnTo>
                    <a:pt x="-15234" y="7411"/>
                  </a:lnTo>
                  <a:lnTo>
                    <a:pt x="-16310" y="7481"/>
                  </a:lnTo>
                  <a:lnTo>
                    <a:pt x="-20988" y="7620"/>
                  </a:lnTo>
                  <a:lnTo>
                    <a:pt x="-21004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SMARTInkAnnotation139"/>
            <p:cNvSpPr/>
            <p:nvPr/>
          </p:nvSpPr>
          <p:spPr>
            <a:xfrm>
              <a:off x="3011040" y="3093840"/>
              <a:ext cx="142200" cy="18972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142225" h="189941">
                  <a:moveTo>
                    <a:pt x="21184" y="30378"/>
                  </a:moveTo>
                  <a:lnTo>
                    <a:pt x="21184" y="19027"/>
                  </a:lnTo>
                  <a:lnTo>
                    <a:pt x="22031" y="17730"/>
                  </a:lnTo>
                  <a:lnTo>
                    <a:pt x="23442" y="16866"/>
                  </a:lnTo>
                  <a:lnTo>
                    <a:pt x="25229" y="16290"/>
                  </a:lnTo>
                  <a:lnTo>
                    <a:pt x="28114" y="15059"/>
                  </a:lnTo>
                  <a:lnTo>
                    <a:pt x="35835" y="11434"/>
                  </a:lnTo>
                  <a:lnTo>
                    <a:pt x="40265" y="10129"/>
                  </a:lnTo>
                  <a:lnTo>
                    <a:pt x="44911" y="9259"/>
                  </a:lnTo>
                  <a:lnTo>
                    <a:pt x="49702" y="8678"/>
                  </a:lnTo>
                  <a:lnTo>
                    <a:pt x="54589" y="7445"/>
                  </a:lnTo>
                  <a:lnTo>
                    <a:pt x="59541" y="5776"/>
                  </a:lnTo>
                  <a:lnTo>
                    <a:pt x="64535" y="3817"/>
                  </a:lnTo>
                  <a:lnTo>
                    <a:pt x="71252" y="2510"/>
                  </a:lnTo>
                  <a:lnTo>
                    <a:pt x="79116" y="1640"/>
                  </a:lnTo>
                  <a:lnTo>
                    <a:pt x="94345" y="672"/>
                  </a:lnTo>
                  <a:lnTo>
                    <a:pt x="103936" y="242"/>
                  </a:lnTo>
                  <a:lnTo>
                    <a:pt x="113278" y="51"/>
                  </a:lnTo>
                  <a:lnTo>
                    <a:pt x="118140" y="0"/>
                  </a:lnTo>
                  <a:lnTo>
                    <a:pt x="123075" y="813"/>
                  </a:lnTo>
                  <a:lnTo>
                    <a:pt x="128058" y="2201"/>
                  </a:lnTo>
                  <a:lnTo>
                    <a:pt x="133073" y="3973"/>
                  </a:lnTo>
                  <a:lnTo>
                    <a:pt x="136417" y="6002"/>
                  </a:lnTo>
                  <a:lnTo>
                    <a:pt x="138646" y="8200"/>
                  </a:lnTo>
                  <a:lnTo>
                    <a:pt x="140132" y="10513"/>
                  </a:lnTo>
                  <a:lnTo>
                    <a:pt x="141783" y="15340"/>
                  </a:lnTo>
                  <a:lnTo>
                    <a:pt x="142224" y="17813"/>
                  </a:lnTo>
                  <a:lnTo>
                    <a:pt x="140824" y="20308"/>
                  </a:lnTo>
                  <a:lnTo>
                    <a:pt x="138197" y="22818"/>
                  </a:lnTo>
                  <a:lnTo>
                    <a:pt x="134753" y="25338"/>
                  </a:lnTo>
                  <a:lnTo>
                    <a:pt x="131610" y="28711"/>
                  </a:lnTo>
                  <a:lnTo>
                    <a:pt x="128668" y="32654"/>
                  </a:lnTo>
                  <a:lnTo>
                    <a:pt x="125860" y="36975"/>
                  </a:lnTo>
                  <a:lnTo>
                    <a:pt x="121448" y="42396"/>
                  </a:lnTo>
                  <a:lnTo>
                    <a:pt x="115967" y="48550"/>
                  </a:lnTo>
                  <a:lnTo>
                    <a:pt x="109773" y="55193"/>
                  </a:lnTo>
                  <a:lnTo>
                    <a:pt x="103103" y="61314"/>
                  </a:lnTo>
                  <a:lnTo>
                    <a:pt x="96117" y="67089"/>
                  </a:lnTo>
                  <a:lnTo>
                    <a:pt x="88920" y="72632"/>
                  </a:lnTo>
                  <a:lnTo>
                    <a:pt x="81581" y="78021"/>
                  </a:lnTo>
                  <a:lnTo>
                    <a:pt x="66654" y="88524"/>
                  </a:lnTo>
                  <a:lnTo>
                    <a:pt x="59117" y="94542"/>
                  </a:lnTo>
                  <a:lnTo>
                    <a:pt x="51553" y="101094"/>
                  </a:lnTo>
                  <a:lnTo>
                    <a:pt x="37221" y="114301"/>
                  </a:lnTo>
                  <a:lnTo>
                    <a:pt x="25207" y="125815"/>
                  </a:lnTo>
                  <a:lnTo>
                    <a:pt x="20480" y="131256"/>
                  </a:lnTo>
                  <a:lnTo>
                    <a:pt x="16481" y="136577"/>
                  </a:lnTo>
                  <a:lnTo>
                    <a:pt x="12969" y="141817"/>
                  </a:lnTo>
                  <a:lnTo>
                    <a:pt x="9781" y="147004"/>
                  </a:lnTo>
                  <a:lnTo>
                    <a:pt x="6809" y="152155"/>
                  </a:lnTo>
                  <a:lnTo>
                    <a:pt x="3981" y="157283"/>
                  </a:lnTo>
                  <a:lnTo>
                    <a:pt x="2095" y="161548"/>
                  </a:lnTo>
                  <a:lnTo>
                    <a:pt x="838" y="165238"/>
                  </a:lnTo>
                  <a:lnTo>
                    <a:pt x="0" y="168545"/>
                  </a:lnTo>
                  <a:lnTo>
                    <a:pt x="1135" y="171596"/>
                  </a:lnTo>
                  <a:lnTo>
                    <a:pt x="3584" y="174476"/>
                  </a:lnTo>
                  <a:lnTo>
                    <a:pt x="6911" y="177243"/>
                  </a:lnTo>
                  <a:lnTo>
                    <a:pt x="10822" y="179935"/>
                  </a:lnTo>
                  <a:lnTo>
                    <a:pt x="15123" y="182576"/>
                  </a:lnTo>
                  <a:lnTo>
                    <a:pt x="19683" y="185183"/>
                  </a:lnTo>
                  <a:lnTo>
                    <a:pt x="25263" y="186922"/>
                  </a:lnTo>
                  <a:lnTo>
                    <a:pt x="31523" y="188080"/>
                  </a:lnTo>
                  <a:lnTo>
                    <a:pt x="38237" y="188853"/>
                  </a:lnTo>
                  <a:lnTo>
                    <a:pt x="45253" y="189368"/>
                  </a:lnTo>
                  <a:lnTo>
                    <a:pt x="52470" y="189711"/>
                  </a:lnTo>
                  <a:lnTo>
                    <a:pt x="59821" y="189940"/>
                  </a:lnTo>
                  <a:lnTo>
                    <a:pt x="68109" y="189246"/>
                  </a:lnTo>
                  <a:lnTo>
                    <a:pt x="77021" y="187937"/>
                  </a:lnTo>
                  <a:lnTo>
                    <a:pt x="86349" y="186217"/>
                  </a:lnTo>
                  <a:lnTo>
                    <a:pt x="95107" y="185071"/>
                  </a:lnTo>
                  <a:lnTo>
                    <a:pt x="103486" y="184307"/>
                  </a:lnTo>
                  <a:lnTo>
                    <a:pt x="127864" y="1827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SMARTInkAnnotation140"/>
            <p:cNvSpPr/>
            <p:nvPr/>
          </p:nvSpPr>
          <p:spPr>
            <a:xfrm>
              <a:off x="3192840" y="3078360"/>
              <a:ext cx="136440" cy="986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36707" h="98956">
                  <a:moveTo>
                    <a:pt x="60506" y="0"/>
                  </a:moveTo>
                  <a:lnTo>
                    <a:pt x="60506" y="4045"/>
                  </a:lnTo>
                  <a:lnTo>
                    <a:pt x="59660" y="6084"/>
                  </a:lnTo>
                  <a:lnTo>
                    <a:pt x="58249" y="8289"/>
                  </a:lnTo>
                  <a:lnTo>
                    <a:pt x="56461" y="10606"/>
                  </a:lnTo>
                  <a:lnTo>
                    <a:pt x="54423" y="12151"/>
                  </a:lnTo>
                  <a:lnTo>
                    <a:pt x="52217" y="13180"/>
                  </a:lnTo>
                  <a:lnTo>
                    <a:pt x="49900" y="13867"/>
                  </a:lnTo>
                  <a:lnTo>
                    <a:pt x="47509" y="16018"/>
                  </a:lnTo>
                  <a:lnTo>
                    <a:pt x="45068" y="19145"/>
                  </a:lnTo>
                  <a:lnTo>
                    <a:pt x="42594" y="22924"/>
                  </a:lnTo>
                  <a:lnTo>
                    <a:pt x="39251" y="26289"/>
                  </a:lnTo>
                  <a:lnTo>
                    <a:pt x="35330" y="29379"/>
                  </a:lnTo>
                  <a:lnTo>
                    <a:pt x="31022" y="32286"/>
                  </a:lnTo>
                  <a:lnTo>
                    <a:pt x="27303" y="35918"/>
                  </a:lnTo>
                  <a:lnTo>
                    <a:pt x="23978" y="40032"/>
                  </a:lnTo>
                  <a:lnTo>
                    <a:pt x="20914" y="44468"/>
                  </a:lnTo>
                  <a:lnTo>
                    <a:pt x="18025" y="48272"/>
                  </a:lnTo>
                  <a:lnTo>
                    <a:pt x="15252" y="51655"/>
                  </a:lnTo>
                  <a:lnTo>
                    <a:pt x="12557" y="54756"/>
                  </a:lnTo>
                  <a:lnTo>
                    <a:pt x="9913" y="58518"/>
                  </a:lnTo>
                  <a:lnTo>
                    <a:pt x="7304" y="62718"/>
                  </a:lnTo>
                  <a:lnTo>
                    <a:pt x="4718" y="67212"/>
                  </a:lnTo>
                  <a:lnTo>
                    <a:pt x="2994" y="71055"/>
                  </a:lnTo>
                  <a:lnTo>
                    <a:pt x="1844" y="74464"/>
                  </a:lnTo>
                  <a:lnTo>
                    <a:pt x="1079" y="77582"/>
                  </a:lnTo>
                  <a:lnTo>
                    <a:pt x="568" y="80508"/>
                  </a:lnTo>
                  <a:lnTo>
                    <a:pt x="227" y="83305"/>
                  </a:lnTo>
                  <a:lnTo>
                    <a:pt x="0" y="86017"/>
                  </a:lnTo>
                  <a:lnTo>
                    <a:pt x="695" y="87825"/>
                  </a:lnTo>
                  <a:lnTo>
                    <a:pt x="2006" y="89030"/>
                  </a:lnTo>
                  <a:lnTo>
                    <a:pt x="3726" y="89833"/>
                  </a:lnTo>
                  <a:lnTo>
                    <a:pt x="5719" y="91215"/>
                  </a:lnTo>
                  <a:lnTo>
                    <a:pt x="7895" y="92984"/>
                  </a:lnTo>
                  <a:lnTo>
                    <a:pt x="10192" y="95009"/>
                  </a:lnTo>
                  <a:lnTo>
                    <a:pt x="13417" y="96360"/>
                  </a:lnTo>
                  <a:lnTo>
                    <a:pt x="17260" y="97260"/>
                  </a:lnTo>
                  <a:lnTo>
                    <a:pt x="21515" y="97860"/>
                  </a:lnTo>
                  <a:lnTo>
                    <a:pt x="26045" y="98260"/>
                  </a:lnTo>
                  <a:lnTo>
                    <a:pt x="30759" y="98526"/>
                  </a:lnTo>
                  <a:lnTo>
                    <a:pt x="35595" y="98705"/>
                  </a:lnTo>
                  <a:lnTo>
                    <a:pt x="54536" y="98955"/>
                  </a:lnTo>
                  <a:lnTo>
                    <a:pt x="61606" y="98143"/>
                  </a:lnTo>
                  <a:lnTo>
                    <a:pt x="68860" y="96755"/>
                  </a:lnTo>
                  <a:lnTo>
                    <a:pt x="76235" y="94984"/>
                  </a:lnTo>
                  <a:lnTo>
                    <a:pt x="82845" y="93803"/>
                  </a:lnTo>
                  <a:lnTo>
                    <a:pt x="88945" y="93015"/>
                  </a:lnTo>
                  <a:lnTo>
                    <a:pt x="94706" y="92490"/>
                  </a:lnTo>
                  <a:lnTo>
                    <a:pt x="100239" y="91293"/>
                  </a:lnTo>
                  <a:lnTo>
                    <a:pt x="105622" y="89649"/>
                  </a:lnTo>
                  <a:lnTo>
                    <a:pt x="110903" y="87706"/>
                  </a:lnTo>
                  <a:lnTo>
                    <a:pt x="115271" y="86411"/>
                  </a:lnTo>
                  <a:lnTo>
                    <a:pt x="119029" y="85547"/>
                  </a:lnTo>
                  <a:lnTo>
                    <a:pt x="122381" y="84971"/>
                  </a:lnTo>
                  <a:lnTo>
                    <a:pt x="125463" y="83741"/>
                  </a:lnTo>
                  <a:lnTo>
                    <a:pt x="128364" y="82074"/>
                  </a:lnTo>
                  <a:lnTo>
                    <a:pt x="136706" y="762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SMARTInkAnnotation141"/>
            <p:cNvSpPr/>
            <p:nvPr/>
          </p:nvSpPr>
          <p:spPr>
            <a:xfrm>
              <a:off x="3337200" y="3086280"/>
              <a:ext cx="14040" cy="1980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14154" h="198121">
                  <a:moveTo>
                    <a:pt x="0" y="0"/>
                  </a:moveTo>
                  <a:lnTo>
                    <a:pt x="0" y="4045"/>
                  </a:lnTo>
                  <a:lnTo>
                    <a:pt x="847" y="6084"/>
                  </a:lnTo>
                  <a:lnTo>
                    <a:pt x="2258" y="8289"/>
                  </a:lnTo>
                  <a:lnTo>
                    <a:pt x="4045" y="10606"/>
                  </a:lnTo>
                  <a:lnTo>
                    <a:pt x="5237" y="13844"/>
                  </a:lnTo>
                  <a:lnTo>
                    <a:pt x="6031" y="17696"/>
                  </a:lnTo>
                  <a:lnTo>
                    <a:pt x="6561" y="21957"/>
                  </a:lnTo>
                  <a:lnTo>
                    <a:pt x="6914" y="26492"/>
                  </a:lnTo>
                  <a:lnTo>
                    <a:pt x="7149" y="31208"/>
                  </a:lnTo>
                  <a:lnTo>
                    <a:pt x="7306" y="36045"/>
                  </a:lnTo>
                  <a:lnTo>
                    <a:pt x="8257" y="40963"/>
                  </a:lnTo>
                  <a:lnTo>
                    <a:pt x="9738" y="45936"/>
                  </a:lnTo>
                  <a:lnTo>
                    <a:pt x="11572" y="50944"/>
                  </a:lnTo>
                  <a:lnTo>
                    <a:pt x="12795" y="55976"/>
                  </a:lnTo>
                  <a:lnTo>
                    <a:pt x="13610" y="61024"/>
                  </a:lnTo>
                  <a:lnTo>
                    <a:pt x="14153" y="66083"/>
                  </a:lnTo>
                  <a:lnTo>
                    <a:pt x="13669" y="71149"/>
                  </a:lnTo>
                  <a:lnTo>
                    <a:pt x="12499" y="76219"/>
                  </a:lnTo>
                  <a:lnTo>
                    <a:pt x="10873" y="81293"/>
                  </a:lnTo>
                  <a:lnTo>
                    <a:pt x="9789" y="87215"/>
                  </a:lnTo>
                  <a:lnTo>
                    <a:pt x="9066" y="93703"/>
                  </a:lnTo>
                  <a:lnTo>
                    <a:pt x="8584" y="100569"/>
                  </a:lnTo>
                  <a:lnTo>
                    <a:pt x="8263" y="107686"/>
                  </a:lnTo>
                  <a:lnTo>
                    <a:pt x="7906" y="122367"/>
                  </a:lnTo>
                  <a:lnTo>
                    <a:pt x="6964" y="128992"/>
                  </a:lnTo>
                  <a:lnTo>
                    <a:pt x="5489" y="135101"/>
                  </a:lnTo>
                  <a:lnTo>
                    <a:pt x="3659" y="140868"/>
                  </a:lnTo>
                  <a:lnTo>
                    <a:pt x="2440" y="147252"/>
                  </a:lnTo>
                  <a:lnTo>
                    <a:pt x="1626" y="154048"/>
                  </a:lnTo>
                  <a:lnTo>
                    <a:pt x="1084" y="161119"/>
                  </a:lnTo>
                  <a:lnTo>
                    <a:pt x="723" y="167526"/>
                  </a:lnTo>
                  <a:lnTo>
                    <a:pt x="322" y="179161"/>
                  </a:lnTo>
                  <a:lnTo>
                    <a:pt x="0" y="198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SMARTInkAnnotation142"/>
            <p:cNvSpPr/>
            <p:nvPr/>
          </p:nvSpPr>
          <p:spPr>
            <a:xfrm>
              <a:off x="2781000" y="3116520"/>
              <a:ext cx="15120" cy="1828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15241" h="182881">
                  <a:moveTo>
                    <a:pt x="0" y="0"/>
                  </a:moveTo>
                  <a:lnTo>
                    <a:pt x="0" y="6561"/>
                  </a:lnTo>
                  <a:lnTo>
                    <a:pt x="847" y="7760"/>
                  </a:lnTo>
                  <a:lnTo>
                    <a:pt x="2258" y="9407"/>
                  </a:lnTo>
                  <a:lnTo>
                    <a:pt x="4045" y="11351"/>
                  </a:lnTo>
                  <a:lnTo>
                    <a:pt x="5237" y="13494"/>
                  </a:lnTo>
                  <a:lnTo>
                    <a:pt x="6032" y="15769"/>
                  </a:lnTo>
                  <a:lnTo>
                    <a:pt x="6561" y="18133"/>
                  </a:lnTo>
                  <a:lnTo>
                    <a:pt x="7761" y="21402"/>
                  </a:lnTo>
                  <a:lnTo>
                    <a:pt x="9408" y="25275"/>
                  </a:lnTo>
                  <a:lnTo>
                    <a:pt x="11352" y="29550"/>
                  </a:lnTo>
                  <a:lnTo>
                    <a:pt x="12648" y="33247"/>
                  </a:lnTo>
                  <a:lnTo>
                    <a:pt x="13512" y="36558"/>
                  </a:lnTo>
                  <a:lnTo>
                    <a:pt x="14088" y="39612"/>
                  </a:lnTo>
                  <a:lnTo>
                    <a:pt x="14472" y="44188"/>
                  </a:lnTo>
                  <a:lnTo>
                    <a:pt x="14728" y="49778"/>
                  </a:lnTo>
                  <a:lnTo>
                    <a:pt x="15089" y="67525"/>
                  </a:lnTo>
                  <a:lnTo>
                    <a:pt x="15240" y="1828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SMARTInkAnnotation143"/>
            <p:cNvSpPr/>
            <p:nvPr/>
          </p:nvSpPr>
          <p:spPr>
            <a:xfrm>
              <a:off x="2727360" y="3215880"/>
              <a:ext cx="106560" cy="75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06681" h="7621">
                  <a:moveTo>
                    <a:pt x="0" y="0"/>
                  </a:moveTo>
                  <a:lnTo>
                    <a:pt x="87788" y="0"/>
                  </a:lnTo>
                  <a:lnTo>
                    <a:pt x="92392" y="847"/>
                  </a:lnTo>
                  <a:lnTo>
                    <a:pt x="96308" y="2258"/>
                  </a:lnTo>
                  <a:lnTo>
                    <a:pt x="10668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SMARTInkAnnotation144"/>
            <p:cNvSpPr/>
            <p:nvPr/>
          </p:nvSpPr>
          <p:spPr>
            <a:xfrm>
              <a:off x="2232000" y="3108960"/>
              <a:ext cx="249120" cy="2653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249378" h="265408">
                  <a:moveTo>
                    <a:pt x="0" y="0"/>
                  </a:moveTo>
                  <a:lnTo>
                    <a:pt x="151348" y="0"/>
                  </a:lnTo>
                  <a:lnTo>
                    <a:pt x="158472" y="847"/>
                  </a:lnTo>
                  <a:lnTo>
                    <a:pt x="164915" y="2258"/>
                  </a:lnTo>
                  <a:lnTo>
                    <a:pt x="170903" y="4046"/>
                  </a:lnTo>
                  <a:lnTo>
                    <a:pt x="177436" y="5237"/>
                  </a:lnTo>
                  <a:lnTo>
                    <a:pt x="184330" y="6031"/>
                  </a:lnTo>
                  <a:lnTo>
                    <a:pt x="191467" y="6561"/>
                  </a:lnTo>
                  <a:lnTo>
                    <a:pt x="197071" y="7760"/>
                  </a:lnTo>
                  <a:lnTo>
                    <a:pt x="201654" y="9407"/>
                  </a:lnTo>
                  <a:lnTo>
                    <a:pt x="205556" y="11352"/>
                  </a:lnTo>
                  <a:lnTo>
                    <a:pt x="208157" y="13494"/>
                  </a:lnTo>
                  <a:lnTo>
                    <a:pt x="209891" y="15769"/>
                  </a:lnTo>
                  <a:lnTo>
                    <a:pt x="212675" y="21460"/>
                  </a:lnTo>
                  <a:lnTo>
                    <a:pt x="210798" y="26753"/>
                  </a:lnTo>
                  <a:lnTo>
                    <a:pt x="209112" y="30536"/>
                  </a:lnTo>
                  <a:lnTo>
                    <a:pt x="205448" y="33904"/>
                  </a:lnTo>
                  <a:lnTo>
                    <a:pt x="200465" y="36996"/>
                  </a:lnTo>
                  <a:lnTo>
                    <a:pt x="194603" y="39904"/>
                  </a:lnTo>
                  <a:lnTo>
                    <a:pt x="188156" y="42689"/>
                  </a:lnTo>
                  <a:lnTo>
                    <a:pt x="181317" y="45393"/>
                  </a:lnTo>
                  <a:lnTo>
                    <a:pt x="174218" y="48042"/>
                  </a:lnTo>
                  <a:lnTo>
                    <a:pt x="167792" y="50655"/>
                  </a:lnTo>
                  <a:lnTo>
                    <a:pt x="161815" y="53243"/>
                  </a:lnTo>
                  <a:lnTo>
                    <a:pt x="156136" y="55816"/>
                  </a:lnTo>
                  <a:lnTo>
                    <a:pt x="149811" y="58377"/>
                  </a:lnTo>
                  <a:lnTo>
                    <a:pt x="143054" y="60931"/>
                  </a:lnTo>
                  <a:lnTo>
                    <a:pt x="136009" y="63481"/>
                  </a:lnTo>
                  <a:lnTo>
                    <a:pt x="129619" y="66874"/>
                  </a:lnTo>
                  <a:lnTo>
                    <a:pt x="123666" y="70829"/>
                  </a:lnTo>
                  <a:lnTo>
                    <a:pt x="118004" y="75159"/>
                  </a:lnTo>
                  <a:lnTo>
                    <a:pt x="113383" y="78893"/>
                  </a:lnTo>
                  <a:lnTo>
                    <a:pt x="105990" y="85299"/>
                  </a:lnTo>
                  <a:lnTo>
                    <a:pt x="99883" y="90968"/>
                  </a:lnTo>
                  <a:lnTo>
                    <a:pt x="97068" y="93666"/>
                  </a:lnTo>
                  <a:lnTo>
                    <a:pt x="95192" y="96311"/>
                  </a:lnTo>
                  <a:lnTo>
                    <a:pt x="93108" y="101507"/>
                  </a:lnTo>
                  <a:lnTo>
                    <a:pt x="94245" y="104078"/>
                  </a:lnTo>
                  <a:lnTo>
                    <a:pt x="96697" y="106639"/>
                  </a:lnTo>
                  <a:lnTo>
                    <a:pt x="103090" y="111741"/>
                  </a:lnTo>
                  <a:lnTo>
                    <a:pt x="108753" y="116832"/>
                  </a:lnTo>
                  <a:lnTo>
                    <a:pt x="113142" y="120221"/>
                  </a:lnTo>
                  <a:lnTo>
                    <a:pt x="118608" y="124174"/>
                  </a:lnTo>
                  <a:lnTo>
                    <a:pt x="138437" y="137828"/>
                  </a:lnTo>
                  <a:lnTo>
                    <a:pt x="145631" y="142685"/>
                  </a:lnTo>
                  <a:lnTo>
                    <a:pt x="152968" y="146770"/>
                  </a:lnTo>
                  <a:lnTo>
                    <a:pt x="160398" y="150340"/>
                  </a:lnTo>
                  <a:lnTo>
                    <a:pt x="167892" y="153567"/>
                  </a:lnTo>
                  <a:lnTo>
                    <a:pt x="175428" y="157411"/>
                  </a:lnTo>
                  <a:lnTo>
                    <a:pt x="182992" y="161667"/>
                  </a:lnTo>
                  <a:lnTo>
                    <a:pt x="190575" y="166198"/>
                  </a:lnTo>
                  <a:lnTo>
                    <a:pt x="198170" y="170065"/>
                  </a:lnTo>
                  <a:lnTo>
                    <a:pt x="205773" y="173490"/>
                  </a:lnTo>
                  <a:lnTo>
                    <a:pt x="213382" y="176620"/>
                  </a:lnTo>
                  <a:lnTo>
                    <a:pt x="220148" y="180400"/>
                  </a:lnTo>
                  <a:lnTo>
                    <a:pt x="226352" y="184613"/>
                  </a:lnTo>
                  <a:lnTo>
                    <a:pt x="232181" y="189116"/>
                  </a:lnTo>
                  <a:lnTo>
                    <a:pt x="236914" y="193810"/>
                  </a:lnTo>
                  <a:lnTo>
                    <a:pt x="240916" y="198633"/>
                  </a:lnTo>
                  <a:lnTo>
                    <a:pt x="244431" y="203542"/>
                  </a:lnTo>
                  <a:lnTo>
                    <a:pt x="248336" y="211255"/>
                  </a:lnTo>
                  <a:lnTo>
                    <a:pt x="249377" y="214496"/>
                  </a:lnTo>
                  <a:lnTo>
                    <a:pt x="249225" y="218351"/>
                  </a:lnTo>
                  <a:lnTo>
                    <a:pt x="248276" y="222614"/>
                  </a:lnTo>
                  <a:lnTo>
                    <a:pt x="246798" y="227150"/>
                  </a:lnTo>
                  <a:lnTo>
                    <a:pt x="242897" y="234446"/>
                  </a:lnTo>
                  <a:lnTo>
                    <a:pt x="238341" y="241358"/>
                  </a:lnTo>
                  <a:lnTo>
                    <a:pt x="235940" y="245572"/>
                  </a:lnTo>
                  <a:lnTo>
                    <a:pt x="233494" y="250075"/>
                  </a:lnTo>
                  <a:lnTo>
                    <a:pt x="229322" y="253077"/>
                  </a:lnTo>
                  <a:lnTo>
                    <a:pt x="224002" y="255078"/>
                  </a:lnTo>
                  <a:lnTo>
                    <a:pt x="217914" y="256412"/>
                  </a:lnTo>
                  <a:lnTo>
                    <a:pt x="211316" y="258148"/>
                  </a:lnTo>
                  <a:lnTo>
                    <a:pt x="204377" y="260152"/>
                  </a:lnTo>
                  <a:lnTo>
                    <a:pt x="197212" y="262335"/>
                  </a:lnTo>
                  <a:lnTo>
                    <a:pt x="189894" y="263790"/>
                  </a:lnTo>
                  <a:lnTo>
                    <a:pt x="182476" y="264760"/>
                  </a:lnTo>
                  <a:lnTo>
                    <a:pt x="174991" y="265407"/>
                  </a:lnTo>
                  <a:lnTo>
                    <a:pt x="167460" y="264991"/>
                  </a:lnTo>
                  <a:lnTo>
                    <a:pt x="159900" y="263867"/>
                  </a:lnTo>
                  <a:lnTo>
                    <a:pt x="152320" y="262271"/>
                  </a:lnTo>
                  <a:lnTo>
                    <a:pt x="144727" y="261208"/>
                  </a:lnTo>
                  <a:lnTo>
                    <a:pt x="137124" y="260499"/>
                  </a:lnTo>
                  <a:lnTo>
                    <a:pt x="129516" y="260025"/>
                  </a:lnTo>
                  <a:lnTo>
                    <a:pt x="121904" y="258864"/>
                  </a:lnTo>
                  <a:lnTo>
                    <a:pt x="114290" y="257243"/>
                  </a:lnTo>
                  <a:lnTo>
                    <a:pt x="106673" y="255315"/>
                  </a:lnTo>
                  <a:lnTo>
                    <a:pt x="99056" y="252337"/>
                  </a:lnTo>
                  <a:lnTo>
                    <a:pt x="91437" y="248658"/>
                  </a:lnTo>
                  <a:lnTo>
                    <a:pt x="83818" y="244512"/>
                  </a:lnTo>
                  <a:lnTo>
                    <a:pt x="77045" y="241748"/>
                  </a:lnTo>
                  <a:lnTo>
                    <a:pt x="70837" y="239905"/>
                  </a:lnTo>
                  <a:lnTo>
                    <a:pt x="65005" y="238677"/>
                  </a:lnTo>
                  <a:lnTo>
                    <a:pt x="60270" y="237011"/>
                  </a:lnTo>
                  <a:lnTo>
                    <a:pt x="56267" y="235054"/>
                  </a:lnTo>
                  <a:lnTo>
                    <a:pt x="45720" y="2286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SMARTInkAnnotation145"/>
            <p:cNvSpPr/>
            <p:nvPr/>
          </p:nvSpPr>
          <p:spPr>
            <a:xfrm>
              <a:off x="2377080" y="2957040"/>
              <a:ext cx="220680" cy="13680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220981" h="136817">
                  <a:moveTo>
                    <a:pt x="0" y="22516"/>
                  </a:moveTo>
                  <a:lnTo>
                    <a:pt x="6561" y="15955"/>
                  </a:lnTo>
                  <a:lnTo>
                    <a:pt x="11665" y="13109"/>
                  </a:lnTo>
                  <a:lnTo>
                    <a:pt x="15397" y="11165"/>
                  </a:lnTo>
                  <a:lnTo>
                    <a:pt x="20425" y="9869"/>
                  </a:lnTo>
                  <a:lnTo>
                    <a:pt x="26317" y="9004"/>
                  </a:lnTo>
                  <a:lnTo>
                    <a:pt x="32785" y="8428"/>
                  </a:lnTo>
                  <a:lnTo>
                    <a:pt x="38790" y="7198"/>
                  </a:lnTo>
                  <a:lnTo>
                    <a:pt x="44487" y="5530"/>
                  </a:lnTo>
                  <a:lnTo>
                    <a:pt x="49978" y="3572"/>
                  </a:lnTo>
                  <a:lnTo>
                    <a:pt x="57025" y="2267"/>
                  </a:lnTo>
                  <a:lnTo>
                    <a:pt x="65110" y="1397"/>
                  </a:lnTo>
                  <a:lnTo>
                    <a:pt x="73887" y="817"/>
                  </a:lnTo>
                  <a:lnTo>
                    <a:pt x="82278" y="430"/>
                  </a:lnTo>
                  <a:lnTo>
                    <a:pt x="98375" y="0"/>
                  </a:lnTo>
                  <a:lnTo>
                    <a:pt x="106224" y="732"/>
                  </a:lnTo>
                  <a:lnTo>
                    <a:pt x="113996" y="2067"/>
                  </a:lnTo>
                  <a:lnTo>
                    <a:pt x="121717" y="3803"/>
                  </a:lnTo>
                  <a:lnTo>
                    <a:pt x="129405" y="4961"/>
                  </a:lnTo>
                  <a:lnTo>
                    <a:pt x="137070" y="5733"/>
                  </a:lnTo>
                  <a:lnTo>
                    <a:pt x="144720" y="6247"/>
                  </a:lnTo>
                  <a:lnTo>
                    <a:pt x="150667" y="7437"/>
                  </a:lnTo>
                  <a:lnTo>
                    <a:pt x="155478" y="9077"/>
                  </a:lnTo>
                  <a:lnTo>
                    <a:pt x="173328" y="17792"/>
                  </a:lnTo>
                  <a:lnTo>
                    <a:pt x="175666" y="20213"/>
                  </a:lnTo>
                  <a:lnTo>
                    <a:pt x="176377" y="22674"/>
                  </a:lnTo>
                  <a:lnTo>
                    <a:pt x="176005" y="25162"/>
                  </a:lnTo>
                  <a:lnTo>
                    <a:pt x="174910" y="28513"/>
                  </a:lnTo>
                  <a:lnTo>
                    <a:pt x="173334" y="32440"/>
                  </a:lnTo>
                  <a:lnTo>
                    <a:pt x="171436" y="36753"/>
                  </a:lnTo>
                  <a:lnTo>
                    <a:pt x="169324" y="40474"/>
                  </a:lnTo>
                  <a:lnTo>
                    <a:pt x="167069" y="43801"/>
                  </a:lnTo>
                  <a:lnTo>
                    <a:pt x="164720" y="46866"/>
                  </a:lnTo>
                  <a:lnTo>
                    <a:pt x="161460" y="50603"/>
                  </a:lnTo>
                  <a:lnTo>
                    <a:pt x="157593" y="54787"/>
                  </a:lnTo>
                  <a:lnTo>
                    <a:pt x="153322" y="59270"/>
                  </a:lnTo>
                  <a:lnTo>
                    <a:pt x="147935" y="63952"/>
                  </a:lnTo>
                  <a:lnTo>
                    <a:pt x="141803" y="68767"/>
                  </a:lnTo>
                  <a:lnTo>
                    <a:pt x="135176" y="73670"/>
                  </a:lnTo>
                  <a:lnTo>
                    <a:pt x="129064" y="77785"/>
                  </a:lnTo>
                  <a:lnTo>
                    <a:pt x="123296" y="81376"/>
                  </a:lnTo>
                  <a:lnTo>
                    <a:pt x="117758" y="84616"/>
                  </a:lnTo>
                  <a:lnTo>
                    <a:pt x="112372" y="88469"/>
                  </a:lnTo>
                  <a:lnTo>
                    <a:pt x="107088" y="92732"/>
                  </a:lnTo>
                  <a:lnTo>
                    <a:pt x="101872" y="97267"/>
                  </a:lnTo>
                  <a:lnTo>
                    <a:pt x="93819" y="104563"/>
                  </a:lnTo>
                  <a:lnTo>
                    <a:pt x="87418" y="110628"/>
                  </a:lnTo>
                  <a:lnTo>
                    <a:pt x="81750" y="116146"/>
                  </a:lnTo>
                  <a:lnTo>
                    <a:pt x="79900" y="118803"/>
                  </a:lnTo>
                  <a:lnTo>
                    <a:pt x="78667" y="121421"/>
                  </a:lnTo>
                  <a:lnTo>
                    <a:pt x="77845" y="124012"/>
                  </a:lnTo>
                  <a:lnTo>
                    <a:pt x="78990" y="126587"/>
                  </a:lnTo>
                  <a:lnTo>
                    <a:pt x="81447" y="129150"/>
                  </a:lnTo>
                  <a:lnTo>
                    <a:pt x="84778" y="131706"/>
                  </a:lnTo>
                  <a:lnTo>
                    <a:pt x="88692" y="133409"/>
                  </a:lnTo>
                  <a:lnTo>
                    <a:pt x="92995" y="134545"/>
                  </a:lnTo>
                  <a:lnTo>
                    <a:pt x="97557" y="135302"/>
                  </a:lnTo>
                  <a:lnTo>
                    <a:pt x="103984" y="135807"/>
                  </a:lnTo>
                  <a:lnTo>
                    <a:pt x="111656" y="136143"/>
                  </a:lnTo>
                  <a:lnTo>
                    <a:pt x="136377" y="136617"/>
                  </a:lnTo>
                  <a:lnTo>
                    <a:pt x="220980" y="1368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SMARTInkAnnotation146"/>
            <p:cNvSpPr/>
            <p:nvPr/>
          </p:nvSpPr>
          <p:spPr>
            <a:xfrm>
              <a:off x="1821240" y="2865240"/>
              <a:ext cx="745920" cy="72360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723600"/>
                <a:gd name="textAreaBottom" fmla="*/ 723960 h 723600"/>
              </a:gdLst>
              <a:ahLst/>
              <a:rect l="textAreaLeft" t="textAreaTop" r="textAreaRight" b="textAreaBottom"/>
              <a:pathLst>
                <a:path w="746132" h="723510">
                  <a:moveTo>
                    <a:pt x="243211" y="30443"/>
                  </a:moveTo>
                  <a:lnTo>
                    <a:pt x="257078" y="16576"/>
                  </a:lnTo>
                  <a:lnTo>
                    <a:pt x="257536" y="15272"/>
                  </a:lnTo>
                  <a:lnTo>
                    <a:pt x="258270" y="7095"/>
                  </a:lnTo>
                  <a:lnTo>
                    <a:pt x="258331" y="4718"/>
                  </a:lnTo>
                  <a:lnTo>
                    <a:pt x="256678" y="3133"/>
                  </a:lnTo>
                  <a:lnTo>
                    <a:pt x="253882" y="2076"/>
                  </a:lnTo>
                  <a:lnTo>
                    <a:pt x="241274" y="380"/>
                  </a:lnTo>
                  <a:lnTo>
                    <a:pt x="225139" y="87"/>
                  </a:lnTo>
                  <a:lnTo>
                    <a:pt x="196182" y="0"/>
                  </a:lnTo>
                  <a:lnTo>
                    <a:pt x="172920" y="2237"/>
                  </a:lnTo>
                  <a:lnTo>
                    <a:pt x="160791" y="4019"/>
                  </a:lnTo>
                  <a:lnTo>
                    <a:pt x="138282" y="8257"/>
                  </a:lnTo>
                  <a:lnTo>
                    <a:pt x="116989" y="13809"/>
                  </a:lnTo>
                  <a:lnTo>
                    <a:pt x="85962" y="25609"/>
                  </a:lnTo>
                  <a:lnTo>
                    <a:pt x="65514" y="31963"/>
                  </a:lnTo>
                  <a:lnTo>
                    <a:pt x="47395" y="39867"/>
                  </a:lnTo>
                  <a:lnTo>
                    <a:pt x="25171" y="51580"/>
                  </a:lnTo>
                  <a:lnTo>
                    <a:pt x="19111" y="54694"/>
                  </a:lnTo>
                  <a:lnTo>
                    <a:pt x="10120" y="62670"/>
                  </a:lnTo>
                  <a:lnTo>
                    <a:pt x="6537" y="67168"/>
                  </a:lnTo>
                  <a:lnTo>
                    <a:pt x="4148" y="71859"/>
                  </a:lnTo>
                  <a:lnTo>
                    <a:pt x="1494" y="81588"/>
                  </a:lnTo>
                  <a:lnTo>
                    <a:pt x="0" y="92540"/>
                  </a:lnTo>
                  <a:lnTo>
                    <a:pt x="1908" y="100658"/>
                  </a:lnTo>
                  <a:lnTo>
                    <a:pt x="4732" y="109909"/>
                  </a:lnTo>
                  <a:lnTo>
                    <a:pt x="7169" y="124638"/>
                  </a:lnTo>
                  <a:lnTo>
                    <a:pt x="10739" y="134679"/>
                  </a:lnTo>
                  <a:lnTo>
                    <a:pt x="21554" y="153896"/>
                  </a:lnTo>
                  <a:lnTo>
                    <a:pt x="28421" y="170543"/>
                  </a:lnTo>
                  <a:lnTo>
                    <a:pt x="39729" y="204779"/>
                  </a:lnTo>
                  <a:lnTo>
                    <a:pt x="44965" y="222790"/>
                  </a:lnTo>
                  <a:lnTo>
                    <a:pt x="50115" y="242930"/>
                  </a:lnTo>
                  <a:lnTo>
                    <a:pt x="55226" y="265993"/>
                  </a:lnTo>
                  <a:lnTo>
                    <a:pt x="62864" y="302777"/>
                  </a:lnTo>
                  <a:lnTo>
                    <a:pt x="64560" y="315292"/>
                  </a:lnTo>
                  <a:lnTo>
                    <a:pt x="65690" y="327869"/>
                  </a:lnTo>
                  <a:lnTo>
                    <a:pt x="66444" y="340487"/>
                  </a:lnTo>
                  <a:lnTo>
                    <a:pt x="67793" y="353132"/>
                  </a:lnTo>
                  <a:lnTo>
                    <a:pt x="69539" y="365796"/>
                  </a:lnTo>
                  <a:lnTo>
                    <a:pt x="71550" y="378472"/>
                  </a:lnTo>
                  <a:lnTo>
                    <a:pt x="72044" y="391155"/>
                  </a:lnTo>
                  <a:lnTo>
                    <a:pt x="71526" y="403845"/>
                  </a:lnTo>
                  <a:lnTo>
                    <a:pt x="70334" y="416538"/>
                  </a:lnTo>
                  <a:lnTo>
                    <a:pt x="69540" y="429233"/>
                  </a:lnTo>
                  <a:lnTo>
                    <a:pt x="68657" y="454628"/>
                  </a:lnTo>
                  <a:lnTo>
                    <a:pt x="68091" y="500187"/>
                  </a:lnTo>
                  <a:lnTo>
                    <a:pt x="67969" y="557572"/>
                  </a:lnTo>
                  <a:lnTo>
                    <a:pt x="65701" y="578554"/>
                  </a:lnTo>
                  <a:lnTo>
                    <a:pt x="61871" y="599168"/>
                  </a:lnTo>
                  <a:lnTo>
                    <a:pt x="57347" y="619619"/>
                  </a:lnTo>
                  <a:lnTo>
                    <a:pt x="50039" y="642082"/>
                  </a:lnTo>
                  <a:lnTo>
                    <a:pt x="46557" y="663507"/>
                  </a:lnTo>
                  <a:lnTo>
                    <a:pt x="41480" y="681897"/>
                  </a:lnTo>
                  <a:lnTo>
                    <a:pt x="36995" y="690536"/>
                  </a:lnTo>
                  <a:lnTo>
                    <a:pt x="24708" y="705708"/>
                  </a:lnTo>
                  <a:lnTo>
                    <a:pt x="19663" y="710996"/>
                  </a:lnTo>
                  <a:lnTo>
                    <a:pt x="17133" y="712745"/>
                  </a:lnTo>
                  <a:lnTo>
                    <a:pt x="12063" y="714688"/>
                  </a:lnTo>
                  <a:lnTo>
                    <a:pt x="10372" y="716053"/>
                  </a:lnTo>
                  <a:lnTo>
                    <a:pt x="9245" y="717810"/>
                  </a:lnTo>
                  <a:lnTo>
                    <a:pt x="7123" y="723509"/>
                  </a:lnTo>
                  <a:lnTo>
                    <a:pt x="11075" y="719713"/>
                  </a:lnTo>
                  <a:lnTo>
                    <a:pt x="13947" y="718556"/>
                  </a:lnTo>
                  <a:lnTo>
                    <a:pt x="26926" y="716929"/>
                  </a:lnTo>
                  <a:lnTo>
                    <a:pt x="47329" y="716446"/>
                  </a:lnTo>
                  <a:lnTo>
                    <a:pt x="64994" y="716333"/>
                  </a:lnTo>
                  <a:lnTo>
                    <a:pt x="86393" y="714026"/>
                  </a:lnTo>
                  <a:lnTo>
                    <a:pt x="98025" y="712225"/>
                  </a:lnTo>
                  <a:lnTo>
                    <a:pt x="110014" y="711024"/>
                  </a:lnTo>
                  <a:lnTo>
                    <a:pt x="122240" y="710224"/>
                  </a:lnTo>
                  <a:lnTo>
                    <a:pt x="134624" y="709690"/>
                  </a:lnTo>
                  <a:lnTo>
                    <a:pt x="166445" y="709097"/>
                  </a:lnTo>
                  <a:lnTo>
                    <a:pt x="184414" y="708939"/>
                  </a:lnTo>
                  <a:lnTo>
                    <a:pt x="202320" y="707987"/>
                  </a:lnTo>
                  <a:lnTo>
                    <a:pt x="220183" y="706506"/>
                  </a:lnTo>
                  <a:lnTo>
                    <a:pt x="238020" y="704672"/>
                  </a:lnTo>
                  <a:lnTo>
                    <a:pt x="257530" y="703449"/>
                  </a:lnTo>
                  <a:lnTo>
                    <a:pt x="299528" y="702090"/>
                  </a:lnTo>
                  <a:lnTo>
                    <a:pt x="413501" y="701146"/>
                  </a:lnTo>
                  <a:lnTo>
                    <a:pt x="504884" y="701032"/>
                  </a:lnTo>
                  <a:lnTo>
                    <a:pt x="526033" y="700175"/>
                  </a:lnTo>
                  <a:lnTo>
                    <a:pt x="546906" y="698758"/>
                  </a:lnTo>
                  <a:lnTo>
                    <a:pt x="567594" y="696967"/>
                  </a:lnTo>
                  <a:lnTo>
                    <a:pt x="587313" y="695772"/>
                  </a:lnTo>
                  <a:lnTo>
                    <a:pt x="625028" y="694445"/>
                  </a:lnTo>
                  <a:lnTo>
                    <a:pt x="700362" y="693523"/>
                  </a:lnTo>
                  <a:lnTo>
                    <a:pt x="746131" y="6933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SMARTInkAnnotation147"/>
            <p:cNvSpPr/>
            <p:nvPr/>
          </p:nvSpPr>
          <p:spPr>
            <a:xfrm>
              <a:off x="4007880" y="3017520"/>
              <a:ext cx="479880" cy="518040"/>
            </a:xfrm>
            <a:custGeom>
              <a:avLst/>
              <a:gdLst>
                <a:gd name="textAreaLeft" fmla="*/ 0 w 479880"/>
                <a:gd name="textAreaRight" fmla="*/ 480240 w 479880"/>
                <a:gd name="textAreaTop" fmla="*/ 0 h 518040"/>
                <a:gd name="textAreaBottom" fmla="*/ 518400 h 518040"/>
              </a:gdLst>
              <a:ahLst/>
              <a:rect l="textAreaLeft" t="textAreaTop" r="textAreaRight" b="textAreaBottom"/>
              <a:pathLst>
                <a:path w="480022" h="518161">
                  <a:moveTo>
                    <a:pt x="0" y="0"/>
                  </a:moveTo>
                  <a:lnTo>
                    <a:pt x="10606" y="0"/>
                  </a:lnTo>
                  <a:lnTo>
                    <a:pt x="26491" y="5237"/>
                  </a:lnTo>
                  <a:lnTo>
                    <a:pt x="40964" y="6914"/>
                  </a:lnTo>
                  <a:lnTo>
                    <a:pt x="50944" y="7306"/>
                  </a:lnTo>
                  <a:lnTo>
                    <a:pt x="98460" y="7592"/>
                  </a:lnTo>
                  <a:lnTo>
                    <a:pt x="161895" y="7618"/>
                  </a:lnTo>
                  <a:lnTo>
                    <a:pt x="173123" y="6772"/>
                  </a:lnTo>
                  <a:lnTo>
                    <a:pt x="184842" y="5361"/>
                  </a:lnTo>
                  <a:lnTo>
                    <a:pt x="196888" y="3574"/>
                  </a:lnTo>
                  <a:lnTo>
                    <a:pt x="208305" y="2383"/>
                  </a:lnTo>
                  <a:lnTo>
                    <a:pt x="219304" y="1589"/>
                  </a:lnTo>
                  <a:lnTo>
                    <a:pt x="230023" y="1059"/>
                  </a:lnTo>
                  <a:lnTo>
                    <a:pt x="250964" y="471"/>
                  </a:lnTo>
                  <a:lnTo>
                    <a:pt x="320488" y="8"/>
                  </a:lnTo>
                  <a:lnTo>
                    <a:pt x="335132" y="0"/>
                  </a:lnTo>
                  <a:lnTo>
                    <a:pt x="335275" y="15438"/>
                  </a:lnTo>
                  <a:lnTo>
                    <a:pt x="335280" y="47683"/>
                  </a:lnTo>
                  <a:lnTo>
                    <a:pt x="337538" y="61832"/>
                  </a:lnTo>
                  <a:lnTo>
                    <a:pt x="340517" y="76588"/>
                  </a:lnTo>
                  <a:lnTo>
                    <a:pt x="341841" y="91613"/>
                  </a:lnTo>
                  <a:lnTo>
                    <a:pt x="342194" y="100022"/>
                  </a:lnTo>
                  <a:lnTo>
                    <a:pt x="342587" y="118396"/>
                  </a:lnTo>
                  <a:lnTo>
                    <a:pt x="343538" y="127191"/>
                  </a:lnTo>
                  <a:lnTo>
                    <a:pt x="345019" y="135594"/>
                  </a:lnTo>
                  <a:lnTo>
                    <a:pt x="348922" y="152551"/>
                  </a:lnTo>
                  <a:lnTo>
                    <a:pt x="355879" y="181984"/>
                  </a:lnTo>
                  <a:lnTo>
                    <a:pt x="360804" y="205060"/>
                  </a:lnTo>
                  <a:lnTo>
                    <a:pt x="364150" y="216293"/>
                  </a:lnTo>
                  <a:lnTo>
                    <a:pt x="368073" y="227169"/>
                  </a:lnTo>
                  <a:lnTo>
                    <a:pt x="372382" y="237806"/>
                  </a:lnTo>
                  <a:lnTo>
                    <a:pt x="376102" y="249131"/>
                  </a:lnTo>
                  <a:lnTo>
                    <a:pt x="379428" y="260914"/>
                  </a:lnTo>
                  <a:lnTo>
                    <a:pt x="382492" y="273002"/>
                  </a:lnTo>
                  <a:lnTo>
                    <a:pt x="386228" y="284448"/>
                  </a:lnTo>
                  <a:lnTo>
                    <a:pt x="390412" y="295466"/>
                  </a:lnTo>
                  <a:lnTo>
                    <a:pt x="394895" y="306197"/>
                  </a:lnTo>
                  <a:lnTo>
                    <a:pt x="400423" y="316738"/>
                  </a:lnTo>
                  <a:lnTo>
                    <a:pt x="406649" y="327152"/>
                  </a:lnTo>
                  <a:lnTo>
                    <a:pt x="413339" y="337482"/>
                  </a:lnTo>
                  <a:lnTo>
                    <a:pt x="418647" y="346908"/>
                  </a:lnTo>
                  <a:lnTo>
                    <a:pt x="423032" y="355732"/>
                  </a:lnTo>
                  <a:lnTo>
                    <a:pt x="426801" y="364155"/>
                  </a:lnTo>
                  <a:lnTo>
                    <a:pt x="435505" y="382544"/>
                  </a:lnTo>
                  <a:lnTo>
                    <a:pt x="440197" y="392190"/>
                  </a:lnTo>
                  <a:lnTo>
                    <a:pt x="444171" y="401160"/>
                  </a:lnTo>
                  <a:lnTo>
                    <a:pt x="447667" y="409680"/>
                  </a:lnTo>
                  <a:lnTo>
                    <a:pt x="453810" y="425073"/>
                  </a:lnTo>
                  <a:lnTo>
                    <a:pt x="459362" y="437559"/>
                  </a:lnTo>
                  <a:lnTo>
                    <a:pt x="464652" y="451011"/>
                  </a:lnTo>
                  <a:lnTo>
                    <a:pt x="469825" y="463762"/>
                  </a:lnTo>
                  <a:lnTo>
                    <a:pt x="476652" y="475701"/>
                  </a:lnTo>
                  <a:lnTo>
                    <a:pt x="478546" y="481792"/>
                  </a:lnTo>
                  <a:lnTo>
                    <a:pt x="479861" y="495193"/>
                  </a:lnTo>
                  <a:lnTo>
                    <a:pt x="480021" y="501394"/>
                  </a:lnTo>
                  <a:lnTo>
                    <a:pt x="479187" y="501902"/>
                  </a:lnTo>
                  <a:lnTo>
                    <a:pt x="476003" y="502467"/>
                  </a:lnTo>
                  <a:lnTo>
                    <a:pt x="461361" y="502786"/>
                  </a:lnTo>
                  <a:lnTo>
                    <a:pt x="237816" y="502920"/>
                  </a:lnTo>
                  <a:lnTo>
                    <a:pt x="223947" y="505177"/>
                  </a:lnTo>
                  <a:lnTo>
                    <a:pt x="212985" y="508157"/>
                  </a:lnTo>
                  <a:lnTo>
                    <a:pt x="199049" y="510069"/>
                  </a:lnTo>
                  <a:lnTo>
                    <a:pt x="192189" y="510447"/>
                  </a:lnTo>
                  <a:lnTo>
                    <a:pt x="191626" y="511325"/>
                  </a:lnTo>
                  <a:lnTo>
                    <a:pt x="190649" y="517093"/>
                  </a:lnTo>
                  <a:lnTo>
                    <a:pt x="191446" y="517448"/>
                  </a:lnTo>
                  <a:lnTo>
                    <a:pt x="198121" y="5181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SMARTInkAnnotation148"/>
            <p:cNvSpPr/>
            <p:nvPr/>
          </p:nvSpPr>
          <p:spPr>
            <a:xfrm>
              <a:off x="1287360" y="3116880"/>
              <a:ext cx="317160" cy="38088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317300" h="380899">
                  <a:moveTo>
                    <a:pt x="0" y="30378"/>
                  </a:moveTo>
                  <a:lnTo>
                    <a:pt x="10606" y="30378"/>
                  </a:lnTo>
                  <a:lnTo>
                    <a:pt x="17696" y="28120"/>
                  </a:lnTo>
                  <a:lnTo>
                    <a:pt x="21957" y="26333"/>
                  </a:lnTo>
                  <a:lnTo>
                    <a:pt x="27338" y="25141"/>
                  </a:lnTo>
                  <a:lnTo>
                    <a:pt x="33466" y="24347"/>
                  </a:lnTo>
                  <a:lnTo>
                    <a:pt x="40090" y="23817"/>
                  </a:lnTo>
                  <a:lnTo>
                    <a:pt x="47894" y="22618"/>
                  </a:lnTo>
                  <a:lnTo>
                    <a:pt x="56483" y="20971"/>
                  </a:lnTo>
                  <a:lnTo>
                    <a:pt x="65595" y="19027"/>
                  </a:lnTo>
                  <a:lnTo>
                    <a:pt x="75057" y="17730"/>
                  </a:lnTo>
                  <a:lnTo>
                    <a:pt x="84751" y="16866"/>
                  </a:lnTo>
                  <a:lnTo>
                    <a:pt x="94601" y="16290"/>
                  </a:lnTo>
                  <a:lnTo>
                    <a:pt x="105401" y="15060"/>
                  </a:lnTo>
                  <a:lnTo>
                    <a:pt x="116834" y="13392"/>
                  </a:lnTo>
                  <a:lnTo>
                    <a:pt x="128689" y="11434"/>
                  </a:lnTo>
                  <a:lnTo>
                    <a:pt x="140826" y="10129"/>
                  </a:lnTo>
                  <a:lnTo>
                    <a:pt x="153151" y="9259"/>
                  </a:lnTo>
                  <a:lnTo>
                    <a:pt x="165601" y="8679"/>
                  </a:lnTo>
                  <a:lnTo>
                    <a:pt x="177287" y="7445"/>
                  </a:lnTo>
                  <a:lnTo>
                    <a:pt x="188465" y="5776"/>
                  </a:lnTo>
                  <a:lnTo>
                    <a:pt x="199303" y="3817"/>
                  </a:lnTo>
                  <a:lnTo>
                    <a:pt x="209916" y="2510"/>
                  </a:lnTo>
                  <a:lnTo>
                    <a:pt x="220377" y="1640"/>
                  </a:lnTo>
                  <a:lnTo>
                    <a:pt x="230738" y="1059"/>
                  </a:lnTo>
                  <a:lnTo>
                    <a:pt x="249024" y="414"/>
                  </a:lnTo>
                  <a:lnTo>
                    <a:pt x="281459" y="0"/>
                  </a:lnTo>
                  <a:lnTo>
                    <a:pt x="287546" y="813"/>
                  </a:lnTo>
                  <a:lnTo>
                    <a:pt x="296567" y="3973"/>
                  </a:lnTo>
                  <a:lnTo>
                    <a:pt x="305657" y="5943"/>
                  </a:lnTo>
                  <a:lnTo>
                    <a:pt x="310451" y="6468"/>
                  </a:lnTo>
                  <a:lnTo>
                    <a:pt x="313648" y="7665"/>
                  </a:lnTo>
                  <a:lnTo>
                    <a:pt x="315778" y="9309"/>
                  </a:lnTo>
                  <a:lnTo>
                    <a:pt x="317199" y="11252"/>
                  </a:lnTo>
                  <a:lnTo>
                    <a:pt x="317299" y="14241"/>
                  </a:lnTo>
                  <a:lnTo>
                    <a:pt x="315153" y="22077"/>
                  </a:lnTo>
                  <a:lnTo>
                    <a:pt x="311377" y="31204"/>
                  </a:lnTo>
                  <a:lnTo>
                    <a:pt x="306030" y="40905"/>
                  </a:lnTo>
                  <a:lnTo>
                    <a:pt x="298009" y="50861"/>
                  </a:lnTo>
                  <a:lnTo>
                    <a:pt x="294346" y="56734"/>
                  </a:lnTo>
                  <a:lnTo>
                    <a:pt x="291057" y="63188"/>
                  </a:lnTo>
                  <a:lnTo>
                    <a:pt x="288018" y="70032"/>
                  </a:lnTo>
                  <a:lnTo>
                    <a:pt x="284299" y="77134"/>
                  </a:lnTo>
                  <a:lnTo>
                    <a:pt x="280126" y="84408"/>
                  </a:lnTo>
                  <a:lnTo>
                    <a:pt x="275651" y="91798"/>
                  </a:lnTo>
                  <a:lnTo>
                    <a:pt x="270974" y="100111"/>
                  </a:lnTo>
                  <a:lnTo>
                    <a:pt x="261262" y="118380"/>
                  </a:lnTo>
                  <a:lnTo>
                    <a:pt x="257148" y="127146"/>
                  </a:lnTo>
                  <a:lnTo>
                    <a:pt x="253559" y="135530"/>
                  </a:lnTo>
                  <a:lnTo>
                    <a:pt x="250319" y="143659"/>
                  </a:lnTo>
                  <a:lnTo>
                    <a:pt x="247313" y="152465"/>
                  </a:lnTo>
                  <a:lnTo>
                    <a:pt x="244462" y="161723"/>
                  </a:lnTo>
                  <a:lnTo>
                    <a:pt x="239036" y="181040"/>
                  </a:lnTo>
                  <a:lnTo>
                    <a:pt x="231222" y="210109"/>
                  </a:lnTo>
                  <a:lnTo>
                    <a:pt x="226097" y="227099"/>
                  </a:lnTo>
                  <a:lnTo>
                    <a:pt x="224391" y="236032"/>
                  </a:lnTo>
                  <a:lnTo>
                    <a:pt x="223254" y="245374"/>
                  </a:lnTo>
                  <a:lnTo>
                    <a:pt x="222496" y="254989"/>
                  </a:lnTo>
                  <a:lnTo>
                    <a:pt x="221991" y="263938"/>
                  </a:lnTo>
                  <a:lnTo>
                    <a:pt x="221430" y="280656"/>
                  </a:lnTo>
                  <a:lnTo>
                    <a:pt x="220433" y="288670"/>
                  </a:lnTo>
                  <a:lnTo>
                    <a:pt x="218922" y="296553"/>
                  </a:lnTo>
                  <a:lnTo>
                    <a:pt x="217068" y="304348"/>
                  </a:lnTo>
                  <a:lnTo>
                    <a:pt x="215832" y="312085"/>
                  </a:lnTo>
                  <a:lnTo>
                    <a:pt x="215008" y="319782"/>
                  </a:lnTo>
                  <a:lnTo>
                    <a:pt x="214459" y="327454"/>
                  </a:lnTo>
                  <a:lnTo>
                    <a:pt x="214092" y="334262"/>
                  </a:lnTo>
                  <a:lnTo>
                    <a:pt x="213686" y="346342"/>
                  </a:lnTo>
                  <a:lnTo>
                    <a:pt x="212730" y="351087"/>
                  </a:lnTo>
                  <a:lnTo>
                    <a:pt x="208188" y="361811"/>
                  </a:lnTo>
                  <a:lnTo>
                    <a:pt x="206466" y="370351"/>
                  </a:lnTo>
                  <a:lnTo>
                    <a:pt x="205740" y="38089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SMARTInkAnnotation149"/>
            <p:cNvSpPr/>
            <p:nvPr/>
          </p:nvSpPr>
          <p:spPr>
            <a:xfrm>
              <a:off x="1310040" y="3291840"/>
              <a:ext cx="258840" cy="3780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59081" h="38101">
                  <a:moveTo>
                    <a:pt x="0" y="38100"/>
                  </a:moveTo>
                  <a:lnTo>
                    <a:pt x="26002" y="38100"/>
                  </a:lnTo>
                  <a:lnTo>
                    <a:pt x="32575" y="37254"/>
                  </a:lnTo>
                  <a:lnTo>
                    <a:pt x="39497" y="35843"/>
                  </a:lnTo>
                  <a:lnTo>
                    <a:pt x="72901" y="27494"/>
                  </a:lnTo>
                  <a:lnTo>
                    <a:pt x="82468" y="25950"/>
                  </a:lnTo>
                  <a:lnTo>
                    <a:pt x="92232" y="24920"/>
                  </a:lnTo>
                  <a:lnTo>
                    <a:pt x="102128" y="24234"/>
                  </a:lnTo>
                  <a:lnTo>
                    <a:pt x="112112" y="22929"/>
                  </a:lnTo>
                  <a:lnTo>
                    <a:pt x="122155" y="21213"/>
                  </a:lnTo>
                  <a:lnTo>
                    <a:pt x="166652" y="12375"/>
                  </a:lnTo>
                  <a:lnTo>
                    <a:pt x="177141" y="10790"/>
                  </a:lnTo>
                  <a:lnTo>
                    <a:pt x="186674" y="9733"/>
                  </a:lnTo>
                  <a:lnTo>
                    <a:pt x="195569" y="9029"/>
                  </a:lnTo>
                  <a:lnTo>
                    <a:pt x="204040" y="7712"/>
                  </a:lnTo>
                  <a:lnTo>
                    <a:pt x="212227" y="5989"/>
                  </a:lnTo>
                  <a:lnTo>
                    <a:pt x="220224" y="3992"/>
                  </a:lnTo>
                  <a:lnTo>
                    <a:pt x="227250" y="2662"/>
                  </a:lnTo>
                  <a:lnTo>
                    <a:pt x="233626" y="1774"/>
                  </a:lnTo>
                  <a:lnTo>
                    <a:pt x="239571" y="1183"/>
                  </a:lnTo>
                  <a:lnTo>
                    <a:pt x="244381" y="789"/>
                  </a:lnTo>
                  <a:lnTo>
                    <a:pt x="248434" y="526"/>
                  </a:lnTo>
                  <a:lnTo>
                    <a:pt x="2590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SMARTInkAnnotation150"/>
            <p:cNvSpPr/>
            <p:nvPr/>
          </p:nvSpPr>
          <p:spPr>
            <a:xfrm>
              <a:off x="1340640" y="3756960"/>
              <a:ext cx="273600" cy="37332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273738" h="373381">
                  <a:moveTo>
                    <a:pt x="0" y="0"/>
                  </a:moveTo>
                  <a:lnTo>
                    <a:pt x="0" y="4045"/>
                  </a:lnTo>
                  <a:lnTo>
                    <a:pt x="847" y="5237"/>
                  </a:lnTo>
                  <a:lnTo>
                    <a:pt x="2258" y="6031"/>
                  </a:lnTo>
                  <a:lnTo>
                    <a:pt x="4045" y="6561"/>
                  </a:lnTo>
                  <a:lnTo>
                    <a:pt x="8289" y="9407"/>
                  </a:lnTo>
                  <a:lnTo>
                    <a:pt x="10606" y="11351"/>
                  </a:lnTo>
                  <a:lnTo>
                    <a:pt x="13844" y="12648"/>
                  </a:lnTo>
                  <a:lnTo>
                    <a:pt x="21957" y="14088"/>
                  </a:lnTo>
                  <a:lnTo>
                    <a:pt x="27338" y="14472"/>
                  </a:lnTo>
                  <a:lnTo>
                    <a:pt x="33466" y="14728"/>
                  </a:lnTo>
                  <a:lnTo>
                    <a:pt x="40090" y="14899"/>
                  </a:lnTo>
                  <a:lnTo>
                    <a:pt x="47047" y="15859"/>
                  </a:lnTo>
                  <a:lnTo>
                    <a:pt x="54225" y="17346"/>
                  </a:lnTo>
                  <a:lnTo>
                    <a:pt x="61550" y="19184"/>
                  </a:lnTo>
                  <a:lnTo>
                    <a:pt x="69820" y="19563"/>
                  </a:lnTo>
                  <a:lnTo>
                    <a:pt x="78720" y="18969"/>
                  </a:lnTo>
                  <a:lnTo>
                    <a:pt x="88040" y="17726"/>
                  </a:lnTo>
                  <a:lnTo>
                    <a:pt x="96794" y="16897"/>
                  </a:lnTo>
                  <a:lnTo>
                    <a:pt x="105169" y="16345"/>
                  </a:lnTo>
                  <a:lnTo>
                    <a:pt x="113293" y="15977"/>
                  </a:lnTo>
                  <a:lnTo>
                    <a:pt x="131350" y="15567"/>
                  </a:lnTo>
                  <a:lnTo>
                    <a:pt x="256344" y="15241"/>
                  </a:lnTo>
                  <a:lnTo>
                    <a:pt x="260643" y="16087"/>
                  </a:lnTo>
                  <a:lnTo>
                    <a:pt x="267677" y="19285"/>
                  </a:lnTo>
                  <a:lnTo>
                    <a:pt x="269891" y="21324"/>
                  </a:lnTo>
                  <a:lnTo>
                    <a:pt x="271368" y="23529"/>
                  </a:lnTo>
                  <a:lnTo>
                    <a:pt x="273008" y="28238"/>
                  </a:lnTo>
                  <a:lnTo>
                    <a:pt x="273737" y="33152"/>
                  </a:lnTo>
                  <a:lnTo>
                    <a:pt x="271803" y="40417"/>
                  </a:lnTo>
                  <a:lnTo>
                    <a:pt x="268121" y="49290"/>
                  </a:lnTo>
                  <a:lnTo>
                    <a:pt x="263663" y="58878"/>
                  </a:lnTo>
                  <a:lnTo>
                    <a:pt x="260442" y="64652"/>
                  </a:lnTo>
                  <a:lnTo>
                    <a:pt x="256601" y="71041"/>
                  </a:lnTo>
                  <a:lnTo>
                    <a:pt x="247819" y="84914"/>
                  </a:lnTo>
                  <a:lnTo>
                    <a:pt x="238271" y="99546"/>
                  </a:lnTo>
                  <a:lnTo>
                    <a:pt x="234201" y="107851"/>
                  </a:lnTo>
                  <a:lnTo>
                    <a:pt x="230640" y="116774"/>
                  </a:lnTo>
                  <a:lnTo>
                    <a:pt x="227420" y="126110"/>
                  </a:lnTo>
                  <a:lnTo>
                    <a:pt x="222733" y="134873"/>
                  </a:lnTo>
                  <a:lnTo>
                    <a:pt x="217069" y="143255"/>
                  </a:lnTo>
                  <a:lnTo>
                    <a:pt x="210753" y="151384"/>
                  </a:lnTo>
                  <a:lnTo>
                    <a:pt x="204849" y="160189"/>
                  </a:lnTo>
                  <a:lnTo>
                    <a:pt x="199219" y="169446"/>
                  </a:lnTo>
                  <a:lnTo>
                    <a:pt x="193773" y="179004"/>
                  </a:lnTo>
                  <a:lnTo>
                    <a:pt x="187602" y="188763"/>
                  </a:lnTo>
                  <a:lnTo>
                    <a:pt x="180948" y="198656"/>
                  </a:lnTo>
                  <a:lnTo>
                    <a:pt x="173972" y="208637"/>
                  </a:lnTo>
                  <a:lnTo>
                    <a:pt x="168475" y="218678"/>
                  </a:lnTo>
                  <a:lnTo>
                    <a:pt x="163963" y="228759"/>
                  </a:lnTo>
                  <a:lnTo>
                    <a:pt x="160109" y="238866"/>
                  </a:lnTo>
                  <a:lnTo>
                    <a:pt x="155846" y="248990"/>
                  </a:lnTo>
                  <a:lnTo>
                    <a:pt x="151311" y="259127"/>
                  </a:lnTo>
                  <a:lnTo>
                    <a:pt x="146594" y="269271"/>
                  </a:lnTo>
                  <a:lnTo>
                    <a:pt x="141756" y="278574"/>
                  </a:lnTo>
                  <a:lnTo>
                    <a:pt x="136837" y="287316"/>
                  </a:lnTo>
                  <a:lnTo>
                    <a:pt x="131865" y="295684"/>
                  </a:lnTo>
                  <a:lnTo>
                    <a:pt x="127703" y="303803"/>
                  </a:lnTo>
                  <a:lnTo>
                    <a:pt x="124082" y="311756"/>
                  </a:lnTo>
                  <a:lnTo>
                    <a:pt x="120822" y="319597"/>
                  </a:lnTo>
                  <a:lnTo>
                    <a:pt x="117801" y="326518"/>
                  </a:lnTo>
                  <a:lnTo>
                    <a:pt x="112187" y="338724"/>
                  </a:lnTo>
                  <a:lnTo>
                    <a:pt x="104267" y="355115"/>
                  </a:lnTo>
                  <a:lnTo>
                    <a:pt x="101374" y="363287"/>
                  </a:lnTo>
                  <a:lnTo>
                    <a:pt x="100603" y="366651"/>
                  </a:lnTo>
                  <a:lnTo>
                    <a:pt x="99242" y="368894"/>
                  </a:lnTo>
                  <a:lnTo>
                    <a:pt x="97488" y="370390"/>
                  </a:lnTo>
                  <a:lnTo>
                    <a:pt x="91440" y="3733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SMARTInkAnnotation151"/>
            <p:cNvSpPr/>
            <p:nvPr/>
          </p:nvSpPr>
          <p:spPr>
            <a:xfrm>
              <a:off x="1363320" y="4008600"/>
              <a:ext cx="236160" cy="1404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36221" h="14182">
                  <a:moveTo>
                    <a:pt x="0" y="7621"/>
                  </a:moveTo>
                  <a:lnTo>
                    <a:pt x="46651" y="7621"/>
                  </a:lnTo>
                  <a:lnTo>
                    <a:pt x="53961" y="8467"/>
                  </a:lnTo>
                  <a:lnTo>
                    <a:pt x="61374" y="9878"/>
                  </a:lnTo>
                  <a:lnTo>
                    <a:pt x="68856" y="11665"/>
                  </a:lnTo>
                  <a:lnTo>
                    <a:pt x="77231" y="12857"/>
                  </a:lnTo>
                  <a:lnTo>
                    <a:pt x="86201" y="13652"/>
                  </a:lnTo>
                  <a:lnTo>
                    <a:pt x="95567" y="14181"/>
                  </a:lnTo>
                  <a:lnTo>
                    <a:pt x="104351" y="13687"/>
                  </a:lnTo>
                  <a:lnTo>
                    <a:pt x="112748" y="12511"/>
                  </a:lnTo>
                  <a:lnTo>
                    <a:pt x="120885" y="10881"/>
                  </a:lnTo>
                  <a:lnTo>
                    <a:pt x="130543" y="9794"/>
                  </a:lnTo>
                  <a:lnTo>
                    <a:pt x="141216" y="9069"/>
                  </a:lnTo>
                  <a:lnTo>
                    <a:pt x="161823" y="8264"/>
                  </a:lnTo>
                  <a:lnTo>
                    <a:pt x="176626" y="7907"/>
                  </a:lnTo>
                  <a:lnTo>
                    <a:pt x="184637" y="6965"/>
                  </a:lnTo>
                  <a:lnTo>
                    <a:pt x="193365" y="5490"/>
                  </a:lnTo>
                  <a:lnTo>
                    <a:pt x="202570" y="3660"/>
                  </a:lnTo>
                  <a:lnTo>
                    <a:pt x="210400" y="2440"/>
                  </a:lnTo>
                  <a:lnTo>
                    <a:pt x="217313" y="1627"/>
                  </a:lnTo>
                  <a:lnTo>
                    <a:pt x="2362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SMARTInkAnnotation152"/>
            <p:cNvSpPr/>
            <p:nvPr/>
          </p:nvSpPr>
          <p:spPr>
            <a:xfrm>
              <a:off x="1661040" y="3741840"/>
              <a:ext cx="471960" cy="457200"/>
            </a:xfrm>
            <a:custGeom>
              <a:avLst/>
              <a:gdLst>
                <a:gd name="textAreaLeft" fmla="*/ 0 w 471960"/>
                <a:gd name="textAreaRight" fmla="*/ 472320 w 4719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472090" h="457201">
                  <a:moveTo>
                    <a:pt x="342549" y="15240"/>
                  </a:moveTo>
                  <a:lnTo>
                    <a:pt x="342549" y="11195"/>
                  </a:lnTo>
                  <a:lnTo>
                    <a:pt x="341702" y="10004"/>
                  </a:lnTo>
                  <a:lnTo>
                    <a:pt x="340291" y="9209"/>
                  </a:lnTo>
                  <a:lnTo>
                    <a:pt x="335988" y="7934"/>
                  </a:lnTo>
                  <a:lnTo>
                    <a:pt x="331198" y="3668"/>
                  </a:lnTo>
                  <a:lnTo>
                    <a:pt x="327362" y="2445"/>
                  </a:lnTo>
                  <a:lnTo>
                    <a:pt x="316326" y="1087"/>
                  </a:lnTo>
                  <a:lnTo>
                    <a:pt x="305212" y="483"/>
                  </a:lnTo>
                  <a:lnTo>
                    <a:pt x="293782" y="215"/>
                  </a:lnTo>
                  <a:lnTo>
                    <a:pt x="128628" y="0"/>
                  </a:lnTo>
                  <a:lnTo>
                    <a:pt x="125428" y="847"/>
                  </a:lnTo>
                  <a:lnTo>
                    <a:pt x="113950" y="7619"/>
                  </a:lnTo>
                  <a:lnTo>
                    <a:pt x="117995" y="11665"/>
                  </a:lnTo>
                  <a:lnTo>
                    <a:pt x="119186" y="13704"/>
                  </a:lnTo>
                  <a:lnTo>
                    <a:pt x="120510" y="18226"/>
                  </a:lnTo>
                  <a:lnTo>
                    <a:pt x="121430" y="30539"/>
                  </a:lnTo>
                  <a:lnTo>
                    <a:pt x="121551" y="44035"/>
                  </a:lnTo>
                  <a:lnTo>
                    <a:pt x="121561" y="52309"/>
                  </a:lnTo>
                  <a:lnTo>
                    <a:pt x="119870" y="56886"/>
                  </a:lnTo>
                  <a:lnTo>
                    <a:pt x="113476" y="66487"/>
                  </a:lnTo>
                  <a:lnTo>
                    <a:pt x="111094" y="72265"/>
                  </a:lnTo>
                  <a:lnTo>
                    <a:pt x="106894" y="91685"/>
                  </a:lnTo>
                  <a:lnTo>
                    <a:pt x="102912" y="103120"/>
                  </a:lnTo>
                  <a:lnTo>
                    <a:pt x="100577" y="116105"/>
                  </a:lnTo>
                  <a:lnTo>
                    <a:pt x="98693" y="130343"/>
                  </a:lnTo>
                  <a:lnTo>
                    <a:pt x="97005" y="137695"/>
                  </a:lnTo>
                  <a:lnTo>
                    <a:pt x="95033" y="145137"/>
                  </a:lnTo>
                  <a:lnTo>
                    <a:pt x="90584" y="160179"/>
                  </a:lnTo>
                  <a:lnTo>
                    <a:pt x="88213" y="167746"/>
                  </a:lnTo>
                  <a:lnTo>
                    <a:pt x="86631" y="175330"/>
                  </a:lnTo>
                  <a:lnTo>
                    <a:pt x="85578" y="182927"/>
                  </a:lnTo>
                  <a:lnTo>
                    <a:pt x="84875" y="190531"/>
                  </a:lnTo>
                  <a:lnTo>
                    <a:pt x="83559" y="198988"/>
                  </a:lnTo>
                  <a:lnTo>
                    <a:pt x="81836" y="208012"/>
                  </a:lnTo>
                  <a:lnTo>
                    <a:pt x="79840" y="217415"/>
                  </a:lnTo>
                  <a:lnTo>
                    <a:pt x="77663" y="226223"/>
                  </a:lnTo>
                  <a:lnTo>
                    <a:pt x="75365" y="234636"/>
                  </a:lnTo>
                  <a:lnTo>
                    <a:pt x="72986" y="242784"/>
                  </a:lnTo>
                  <a:lnTo>
                    <a:pt x="68086" y="260868"/>
                  </a:lnTo>
                  <a:lnTo>
                    <a:pt x="65594" y="270432"/>
                  </a:lnTo>
                  <a:lnTo>
                    <a:pt x="63085" y="279348"/>
                  </a:lnTo>
                  <a:lnTo>
                    <a:pt x="58041" y="296029"/>
                  </a:lnTo>
                  <a:lnTo>
                    <a:pt x="50441" y="319699"/>
                  </a:lnTo>
                  <a:lnTo>
                    <a:pt x="48750" y="327433"/>
                  </a:lnTo>
                  <a:lnTo>
                    <a:pt x="47623" y="335129"/>
                  </a:lnTo>
                  <a:lnTo>
                    <a:pt x="46872" y="342799"/>
                  </a:lnTo>
                  <a:lnTo>
                    <a:pt x="45524" y="350453"/>
                  </a:lnTo>
                  <a:lnTo>
                    <a:pt x="43779" y="358095"/>
                  </a:lnTo>
                  <a:lnTo>
                    <a:pt x="41769" y="365730"/>
                  </a:lnTo>
                  <a:lnTo>
                    <a:pt x="39583" y="373360"/>
                  </a:lnTo>
                  <a:lnTo>
                    <a:pt x="34895" y="388612"/>
                  </a:lnTo>
                  <a:lnTo>
                    <a:pt x="29990" y="399341"/>
                  </a:lnTo>
                  <a:lnTo>
                    <a:pt x="27496" y="403387"/>
                  </a:lnTo>
                  <a:lnTo>
                    <a:pt x="24726" y="412399"/>
                  </a:lnTo>
                  <a:lnTo>
                    <a:pt x="23987" y="417173"/>
                  </a:lnTo>
                  <a:lnTo>
                    <a:pt x="20908" y="424735"/>
                  </a:lnTo>
                  <a:lnTo>
                    <a:pt x="14415" y="433752"/>
                  </a:lnTo>
                  <a:lnTo>
                    <a:pt x="12033" y="436488"/>
                  </a:lnTo>
                  <a:lnTo>
                    <a:pt x="10445" y="439159"/>
                  </a:lnTo>
                  <a:lnTo>
                    <a:pt x="8681" y="444384"/>
                  </a:lnTo>
                  <a:lnTo>
                    <a:pt x="7364" y="446116"/>
                  </a:lnTo>
                  <a:lnTo>
                    <a:pt x="5639" y="447271"/>
                  </a:lnTo>
                  <a:lnTo>
                    <a:pt x="0" y="449445"/>
                  </a:lnTo>
                  <a:lnTo>
                    <a:pt x="13514" y="449573"/>
                  </a:lnTo>
                  <a:lnTo>
                    <a:pt x="21616" y="449577"/>
                  </a:lnTo>
                  <a:lnTo>
                    <a:pt x="30861" y="447321"/>
                  </a:lnTo>
                  <a:lnTo>
                    <a:pt x="35697" y="445534"/>
                  </a:lnTo>
                  <a:lnTo>
                    <a:pt x="47844" y="443549"/>
                  </a:lnTo>
                  <a:lnTo>
                    <a:pt x="62556" y="441820"/>
                  </a:lnTo>
                  <a:lnTo>
                    <a:pt x="71220" y="440173"/>
                  </a:lnTo>
                  <a:lnTo>
                    <a:pt x="80383" y="438229"/>
                  </a:lnTo>
                  <a:lnTo>
                    <a:pt x="90725" y="436933"/>
                  </a:lnTo>
                  <a:lnTo>
                    <a:pt x="101853" y="436069"/>
                  </a:lnTo>
                  <a:lnTo>
                    <a:pt x="113505" y="435492"/>
                  </a:lnTo>
                  <a:lnTo>
                    <a:pt x="137741" y="434853"/>
                  </a:lnTo>
                  <a:lnTo>
                    <a:pt x="275176" y="434349"/>
                  </a:lnTo>
                  <a:lnTo>
                    <a:pt x="289168" y="435193"/>
                  </a:lnTo>
                  <a:lnTo>
                    <a:pt x="302728" y="436602"/>
                  </a:lnTo>
                  <a:lnTo>
                    <a:pt x="316002" y="438388"/>
                  </a:lnTo>
                  <a:lnTo>
                    <a:pt x="329084" y="439579"/>
                  </a:lnTo>
                  <a:lnTo>
                    <a:pt x="342039" y="440373"/>
                  </a:lnTo>
                  <a:lnTo>
                    <a:pt x="354909" y="440901"/>
                  </a:lnTo>
                  <a:lnTo>
                    <a:pt x="366876" y="442101"/>
                  </a:lnTo>
                  <a:lnTo>
                    <a:pt x="378240" y="443748"/>
                  </a:lnTo>
                  <a:lnTo>
                    <a:pt x="389203" y="445692"/>
                  </a:lnTo>
                  <a:lnTo>
                    <a:pt x="399052" y="446988"/>
                  </a:lnTo>
                  <a:lnTo>
                    <a:pt x="408157" y="447852"/>
                  </a:lnTo>
                  <a:lnTo>
                    <a:pt x="416768" y="448429"/>
                  </a:lnTo>
                  <a:lnTo>
                    <a:pt x="430851" y="449068"/>
                  </a:lnTo>
                  <a:lnTo>
                    <a:pt x="442754" y="450199"/>
                  </a:lnTo>
                  <a:lnTo>
                    <a:pt x="458129" y="454749"/>
                  </a:lnTo>
                  <a:lnTo>
                    <a:pt x="472089" y="4572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SMARTInkAnnotation153"/>
            <p:cNvSpPr/>
            <p:nvPr/>
          </p:nvSpPr>
          <p:spPr>
            <a:xfrm>
              <a:off x="1959840" y="3787560"/>
              <a:ext cx="211320" cy="33516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211369" h="335146">
                  <a:moveTo>
                    <a:pt x="211368" y="68445"/>
                  </a:moveTo>
                  <a:lnTo>
                    <a:pt x="211368" y="50533"/>
                  </a:lnTo>
                  <a:lnTo>
                    <a:pt x="210522" y="48037"/>
                  </a:lnTo>
                  <a:lnTo>
                    <a:pt x="203080" y="35690"/>
                  </a:lnTo>
                  <a:lnTo>
                    <a:pt x="200762" y="31369"/>
                  </a:lnTo>
                  <a:lnTo>
                    <a:pt x="197524" y="27641"/>
                  </a:lnTo>
                  <a:lnTo>
                    <a:pt x="193672" y="24309"/>
                  </a:lnTo>
                  <a:lnTo>
                    <a:pt x="189411" y="21241"/>
                  </a:lnTo>
                  <a:lnTo>
                    <a:pt x="184877" y="18349"/>
                  </a:lnTo>
                  <a:lnTo>
                    <a:pt x="180161" y="15574"/>
                  </a:lnTo>
                  <a:lnTo>
                    <a:pt x="175323" y="12878"/>
                  </a:lnTo>
                  <a:lnTo>
                    <a:pt x="165433" y="7624"/>
                  </a:lnTo>
                  <a:lnTo>
                    <a:pt x="160425" y="5038"/>
                  </a:lnTo>
                  <a:lnTo>
                    <a:pt x="154546" y="3314"/>
                  </a:lnTo>
                  <a:lnTo>
                    <a:pt x="148087" y="2164"/>
                  </a:lnTo>
                  <a:lnTo>
                    <a:pt x="141240" y="1398"/>
                  </a:lnTo>
                  <a:lnTo>
                    <a:pt x="134983" y="887"/>
                  </a:lnTo>
                  <a:lnTo>
                    <a:pt x="129118" y="547"/>
                  </a:lnTo>
                  <a:lnTo>
                    <a:pt x="123515" y="319"/>
                  </a:lnTo>
                  <a:lnTo>
                    <a:pt x="99448" y="0"/>
                  </a:lnTo>
                  <a:lnTo>
                    <a:pt x="91035" y="802"/>
                  </a:lnTo>
                  <a:lnTo>
                    <a:pt x="82886" y="2183"/>
                  </a:lnTo>
                  <a:lnTo>
                    <a:pt x="74913" y="3950"/>
                  </a:lnTo>
                  <a:lnTo>
                    <a:pt x="67059" y="5975"/>
                  </a:lnTo>
                  <a:lnTo>
                    <a:pt x="59282" y="8172"/>
                  </a:lnTo>
                  <a:lnTo>
                    <a:pt x="51557" y="10483"/>
                  </a:lnTo>
                  <a:lnTo>
                    <a:pt x="44714" y="13717"/>
                  </a:lnTo>
                  <a:lnTo>
                    <a:pt x="38459" y="17566"/>
                  </a:lnTo>
                  <a:lnTo>
                    <a:pt x="32596" y="21826"/>
                  </a:lnTo>
                  <a:lnTo>
                    <a:pt x="26993" y="26359"/>
                  </a:lnTo>
                  <a:lnTo>
                    <a:pt x="21565" y="31074"/>
                  </a:lnTo>
                  <a:lnTo>
                    <a:pt x="16252" y="35911"/>
                  </a:lnTo>
                  <a:lnTo>
                    <a:pt x="11864" y="40829"/>
                  </a:lnTo>
                  <a:lnTo>
                    <a:pt x="8092" y="45801"/>
                  </a:lnTo>
                  <a:lnTo>
                    <a:pt x="2490" y="54995"/>
                  </a:lnTo>
                  <a:lnTo>
                    <a:pt x="0" y="61903"/>
                  </a:lnTo>
                  <a:lnTo>
                    <a:pt x="183" y="64930"/>
                  </a:lnTo>
                  <a:lnTo>
                    <a:pt x="1151" y="67795"/>
                  </a:lnTo>
                  <a:lnTo>
                    <a:pt x="2644" y="70552"/>
                  </a:lnTo>
                  <a:lnTo>
                    <a:pt x="8817" y="75873"/>
                  </a:lnTo>
                  <a:lnTo>
                    <a:pt x="12834" y="78477"/>
                  </a:lnTo>
                  <a:lnTo>
                    <a:pt x="16359" y="81059"/>
                  </a:lnTo>
                  <a:lnTo>
                    <a:pt x="22533" y="86187"/>
                  </a:lnTo>
                  <a:lnTo>
                    <a:pt x="27058" y="87893"/>
                  </a:lnTo>
                  <a:lnTo>
                    <a:pt x="32615" y="89031"/>
                  </a:lnTo>
                  <a:lnTo>
                    <a:pt x="38859" y="89789"/>
                  </a:lnTo>
                  <a:lnTo>
                    <a:pt x="45562" y="90295"/>
                  </a:lnTo>
                  <a:lnTo>
                    <a:pt x="52571" y="90631"/>
                  </a:lnTo>
                  <a:lnTo>
                    <a:pt x="66285" y="91006"/>
                  </a:lnTo>
                  <a:lnTo>
                    <a:pt x="94154" y="91266"/>
                  </a:lnTo>
                  <a:lnTo>
                    <a:pt x="99359" y="90432"/>
                  </a:lnTo>
                  <a:lnTo>
                    <a:pt x="104522" y="89030"/>
                  </a:lnTo>
                  <a:lnTo>
                    <a:pt x="109657" y="87248"/>
                  </a:lnTo>
                  <a:lnTo>
                    <a:pt x="114774" y="85214"/>
                  </a:lnTo>
                  <a:lnTo>
                    <a:pt x="119879" y="83011"/>
                  </a:lnTo>
                  <a:lnTo>
                    <a:pt x="124975" y="80695"/>
                  </a:lnTo>
                  <a:lnTo>
                    <a:pt x="129220" y="78305"/>
                  </a:lnTo>
                  <a:lnTo>
                    <a:pt x="132896" y="75866"/>
                  </a:lnTo>
                  <a:lnTo>
                    <a:pt x="139238" y="70896"/>
                  </a:lnTo>
                  <a:lnTo>
                    <a:pt x="144879" y="65866"/>
                  </a:lnTo>
                  <a:lnTo>
                    <a:pt x="148770" y="62319"/>
                  </a:lnTo>
                  <a:lnTo>
                    <a:pt x="149316" y="60974"/>
                  </a:lnTo>
                  <a:lnTo>
                    <a:pt x="150366" y="53558"/>
                  </a:lnTo>
                  <a:lnTo>
                    <a:pt x="150395" y="57355"/>
                  </a:lnTo>
                  <a:lnTo>
                    <a:pt x="149553" y="59358"/>
                  </a:lnTo>
                  <a:lnTo>
                    <a:pt x="146359" y="63842"/>
                  </a:lnTo>
                  <a:lnTo>
                    <a:pt x="145169" y="67070"/>
                  </a:lnTo>
                  <a:lnTo>
                    <a:pt x="143846" y="75172"/>
                  </a:lnTo>
                  <a:lnTo>
                    <a:pt x="143258" y="84417"/>
                  </a:lnTo>
                  <a:lnTo>
                    <a:pt x="143102" y="89253"/>
                  </a:lnTo>
                  <a:lnTo>
                    <a:pt x="142151" y="95017"/>
                  </a:lnTo>
                  <a:lnTo>
                    <a:pt x="140670" y="101400"/>
                  </a:lnTo>
                  <a:lnTo>
                    <a:pt x="138836" y="108195"/>
                  </a:lnTo>
                  <a:lnTo>
                    <a:pt x="137613" y="114418"/>
                  </a:lnTo>
                  <a:lnTo>
                    <a:pt x="136798" y="120261"/>
                  </a:lnTo>
                  <a:lnTo>
                    <a:pt x="136255" y="125849"/>
                  </a:lnTo>
                  <a:lnTo>
                    <a:pt x="135046" y="132114"/>
                  </a:lnTo>
                  <a:lnTo>
                    <a:pt x="133393" y="138831"/>
                  </a:lnTo>
                  <a:lnTo>
                    <a:pt x="129300" y="153914"/>
                  </a:lnTo>
                  <a:lnTo>
                    <a:pt x="124658" y="171907"/>
                  </a:lnTo>
                  <a:lnTo>
                    <a:pt x="122235" y="180600"/>
                  </a:lnTo>
                  <a:lnTo>
                    <a:pt x="117284" y="197032"/>
                  </a:lnTo>
                  <a:lnTo>
                    <a:pt x="113932" y="205816"/>
                  </a:lnTo>
                  <a:lnTo>
                    <a:pt x="110004" y="215059"/>
                  </a:lnTo>
                  <a:lnTo>
                    <a:pt x="105692" y="224608"/>
                  </a:lnTo>
                  <a:lnTo>
                    <a:pt x="102818" y="233514"/>
                  </a:lnTo>
                  <a:lnTo>
                    <a:pt x="100901" y="241991"/>
                  </a:lnTo>
                  <a:lnTo>
                    <a:pt x="99623" y="250183"/>
                  </a:lnTo>
                  <a:lnTo>
                    <a:pt x="97925" y="258183"/>
                  </a:lnTo>
                  <a:lnTo>
                    <a:pt x="95946" y="266057"/>
                  </a:lnTo>
                  <a:lnTo>
                    <a:pt x="93780" y="273846"/>
                  </a:lnTo>
                  <a:lnTo>
                    <a:pt x="92336" y="280733"/>
                  </a:lnTo>
                  <a:lnTo>
                    <a:pt x="91373" y="287017"/>
                  </a:lnTo>
                  <a:lnTo>
                    <a:pt x="90732" y="292900"/>
                  </a:lnTo>
                  <a:lnTo>
                    <a:pt x="87761" y="301694"/>
                  </a:lnTo>
                  <a:lnTo>
                    <a:pt x="85783" y="305224"/>
                  </a:lnTo>
                  <a:lnTo>
                    <a:pt x="83586" y="313663"/>
                  </a:lnTo>
                  <a:lnTo>
                    <a:pt x="83000" y="318284"/>
                  </a:lnTo>
                  <a:lnTo>
                    <a:pt x="83456" y="322211"/>
                  </a:lnTo>
                  <a:lnTo>
                    <a:pt x="84607" y="325676"/>
                  </a:lnTo>
                  <a:lnTo>
                    <a:pt x="89448" y="33514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SMARTInkAnnotation154"/>
            <p:cNvSpPr/>
            <p:nvPr/>
          </p:nvSpPr>
          <p:spPr>
            <a:xfrm>
              <a:off x="2308320" y="3802680"/>
              <a:ext cx="60840" cy="27432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60961" h="274321">
                  <a:moveTo>
                    <a:pt x="60960" y="0"/>
                  </a:moveTo>
                  <a:lnTo>
                    <a:pt x="56915" y="4045"/>
                  </a:lnTo>
                  <a:lnTo>
                    <a:pt x="55723" y="6083"/>
                  </a:lnTo>
                  <a:lnTo>
                    <a:pt x="53200" y="13844"/>
                  </a:lnTo>
                  <a:lnTo>
                    <a:pt x="51553" y="17696"/>
                  </a:lnTo>
                  <a:lnTo>
                    <a:pt x="49609" y="21957"/>
                  </a:lnTo>
                  <a:lnTo>
                    <a:pt x="48313" y="25645"/>
                  </a:lnTo>
                  <a:lnTo>
                    <a:pt x="46873" y="32000"/>
                  </a:lnTo>
                  <a:lnTo>
                    <a:pt x="46232" y="39904"/>
                  </a:lnTo>
                  <a:lnTo>
                    <a:pt x="46062" y="44383"/>
                  </a:lnTo>
                  <a:lnTo>
                    <a:pt x="45101" y="49062"/>
                  </a:lnTo>
                  <a:lnTo>
                    <a:pt x="43614" y="53875"/>
                  </a:lnTo>
                  <a:lnTo>
                    <a:pt x="41776" y="58777"/>
                  </a:lnTo>
                  <a:lnTo>
                    <a:pt x="40551" y="63738"/>
                  </a:lnTo>
                  <a:lnTo>
                    <a:pt x="39734" y="68738"/>
                  </a:lnTo>
                  <a:lnTo>
                    <a:pt x="39190" y="73766"/>
                  </a:lnTo>
                  <a:lnTo>
                    <a:pt x="37980" y="79657"/>
                  </a:lnTo>
                  <a:lnTo>
                    <a:pt x="36327" y="86125"/>
                  </a:lnTo>
                  <a:lnTo>
                    <a:pt x="34378" y="92976"/>
                  </a:lnTo>
                  <a:lnTo>
                    <a:pt x="29955" y="107363"/>
                  </a:lnTo>
                  <a:lnTo>
                    <a:pt x="27590" y="114755"/>
                  </a:lnTo>
                  <a:lnTo>
                    <a:pt x="26013" y="122224"/>
                  </a:lnTo>
                  <a:lnTo>
                    <a:pt x="24962" y="129742"/>
                  </a:lnTo>
                  <a:lnTo>
                    <a:pt x="24262" y="137295"/>
                  </a:lnTo>
                  <a:lnTo>
                    <a:pt x="22948" y="145717"/>
                  </a:lnTo>
                  <a:lnTo>
                    <a:pt x="21225" y="154718"/>
                  </a:lnTo>
                  <a:lnTo>
                    <a:pt x="19230" y="164105"/>
                  </a:lnTo>
                  <a:lnTo>
                    <a:pt x="17900" y="172903"/>
                  </a:lnTo>
                  <a:lnTo>
                    <a:pt x="17014" y="181309"/>
                  </a:lnTo>
                  <a:lnTo>
                    <a:pt x="16422" y="189453"/>
                  </a:lnTo>
                  <a:lnTo>
                    <a:pt x="15182" y="196575"/>
                  </a:lnTo>
                  <a:lnTo>
                    <a:pt x="13508" y="203017"/>
                  </a:lnTo>
                  <a:lnTo>
                    <a:pt x="11545" y="209005"/>
                  </a:lnTo>
                  <a:lnTo>
                    <a:pt x="10237" y="215537"/>
                  </a:lnTo>
                  <a:lnTo>
                    <a:pt x="9364" y="222431"/>
                  </a:lnTo>
                  <a:lnTo>
                    <a:pt x="8783" y="229567"/>
                  </a:lnTo>
                  <a:lnTo>
                    <a:pt x="7549" y="236018"/>
                  </a:lnTo>
                  <a:lnTo>
                    <a:pt x="5879" y="242012"/>
                  </a:lnTo>
                  <a:lnTo>
                    <a:pt x="3920" y="247702"/>
                  </a:lnTo>
                  <a:lnTo>
                    <a:pt x="2613" y="252341"/>
                  </a:lnTo>
                  <a:lnTo>
                    <a:pt x="1162" y="259754"/>
                  </a:lnTo>
                  <a:lnTo>
                    <a:pt x="516" y="265871"/>
                  </a:lnTo>
                  <a:lnTo>
                    <a:pt x="0" y="2743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SMARTInkAnnotation155"/>
            <p:cNvSpPr/>
            <p:nvPr/>
          </p:nvSpPr>
          <p:spPr>
            <a:xfrm>
              <a:off x="2232000" y="3962880"/>
              <a:ext cx="182880" cy="2268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82881" h="22861">
                  <a:moveTo>
                    <a:pt x="0" y="22860"/>
                  </a:moveTo>
                  <a:lnTo>
                    <a:pt x="4045" y="18815"/>
                  </a:lnTo>
                  <a:lnTo>
                    <a:pt x="6084" y="17623"/>
                  </a:lnTo>
                  <a:lnTo>
                    <a:pt x="8289" y="16829"/>
                  </a:lnTo>
                  <a:lnTo>
                    <a:pt x="10606" y="16299"/>
                  </a:lnTo>
                  <a:lnTo>
                    <a:pt x="15438" y="15711"/>
                  </a:lnTo>
                  <a:lnTo>
                    <a:pt x="17912" y="15554"/>
                  </a:lnTo>
                  <a:lnTo>
                    <a:pt x="27434" y="15380"/>
                  </a:lnTo>
                  <a:lnTo>
                    <a:pt x="99140" y="15242"/>
                  </a:lnTo>
                  <a:lnTo>
                    <a:pt x="106733" y="14395"/>
                  </a:lnTo>
                  <a:lnTo>
                    <a:pt x="114336" y="12983"/>
                  </a:lnTo>
                  <a:lnTo>
                    <a:pt x="121944" y="11196"/>
                  </a:lnTo>
                  <a:lnTo>
                    <a:pt x="129556" y="10004"/>
                  </a:lnTo>
                  <a:lnTo>
                    <a:pt x="137171" y="9209"/>
                  </a:lnTo>
                  <a:lnTo>
                    <a:pt x="144787" y="8680"/>
                  </a:lnTo>
                  <a:lnTo>
                    <a:pt x="151558" y="7480"/>
                  </a:lnTo>
                  <a:lnTo>
                    <a:pt x="157766" y="5833"/>
                  </a:lnTo>
                  <a:lnTo>
                    <a:pt x="163597" y="3889"/>
                  </a:lnTo>
                  <a:lnTo>
                    <a:pt x="168331" y="2592"/>
                  </a:lnTo>
                  <a:lnTo>
                    <a:pt x="172334" y="1728"/>
                  </a:lnTo>
                  <a:lnTo>
                    <a:pt x="1828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SMARTInkAnnotation156"/>
            <p:cNvSpPr/>
            <p:nvPr/>
          </p:nvSpPr>
          <p:spPr>
            <a:xfrm>
              <a:off x="2491920" y="3825720"/>
              <a:ext cx="174240" cy="204480"/>
            </a:xfrm>
            <a:custGeom>
              <a:avLst/>
              <a:gdLst>
                <a:gd name="textAreaLeft" fmla="*/ 0 w 174240"/>
                <a:gd name="textAreaRight" fmla="*/ 174240 w 1742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74572" h="204409">
                  <a:moveTo>
                    <a:pt x="6931" y="30444"/>
                  </a:moveTo>
                  <a:lnTo>
                    <a:pt x="6931" y="23883"/>
                  </a:lnTo>
                  <a:lnTo>
                    <a:pt x="10976" y="19092"/>
                  </a:lnTo>
                  <a:lnTo>
                    <a:pt x="13015" y="17796"/>
                  </a:lnTo>
                  <a:lnTo>
                    <a:pt x="20775" y="15125"/>
                  </a:lnTo>
                  <a:lnTo>
                    <a:pt x="24627" y="13458"/>
                  </a:lnTo>
                  <a:lnTo>
                    <a:pt x="33423" y="9348"/>
                  </a:lnTo>
                  <a:lnTo>
                    <a:pt x="42976" y="4699"/>
                  </a:lnTo>
                  <a:lnTo>
                    <a:pt x="48741" y="3121"/>
                  </a:lnTo>
                  <a:lnTo>
                    <a:pt x="55125" y="2069"/>
                  </a:lnTo>
                  <a:lnTo>
                    <a:pt x="61920" y="1367"/>
                  </a:lnTo>
                  <a:lnTo>
                    <a:pt x="68144" y="899"/>
                  </a:lnTo>
                  <a:lnTo>
                    <a:pt x="73986" y="588"/>
                  </a:lnTo>
                  <a:lnTo>
                    <a:pt x="79574" y="380"/>
                  </a:lnTo>
                  <a:lnTo>
                    <a:pt x="110338" y="46"/>
                  </a:lnTo>
                  <a:lnTo>
                    <a:pt x="120058" y="0"/>
                  </a:lnTo>
                  <a:lnTo>
                    <a:pt x="123836" y="835"/>
                  </a:lnTo>
                  <a:lnTo>
                    <a:pt x="127201" y="2238"/>
                  </a:lnTo>
                  <a:lnTo>
                    <a:pt x="130291" y="4020"/>
                  </a:lnTo>
                  <a:lnTo>
                    <a:pt x="132351" y="6055"/>
                  </a:lnTo>
                  <a:lnTo>
                    <a:pt x="133724" y="8258"/>
                  </a:lnTo>
                  <a:lnTo>
                    <a:pt x="134640" y="10573"/>
                  </a:lnTo>
                  <a:lnTo>
                    <a:pt x="134404" y="12964"/>
                  </a:lnTo>
                  <a:lnTo>
                    <a:pt x="133399" y="15404"/>
                  </a:lnTo>
                  <a:lnTo>
                    <a:pt x="130026" y="21219"/>
                  </a:lnTo>
                  <a:lnTo>
                    <a:pt x="125705" y="29449"/>
                  </a:lnTo>
                  <a:lnTo>
                    <a:pt x="120827" y="34014"/>
                  </a:lnTo>
                  <a:lnTo>
                    <a:pt x="114188" y="38751"/>
                  </a:lnTo>
                  <a:lnTo>
                    <a:pt x="106376" y="43601"/>
                  </a:lnTo>
                  <a:lnTo>
                    <a:pt x="99474" y="48529"/>
                  </a:lnTo>
                  <a:lnTo>
                    <a:pt x="93180" y="53508"/>
                  </a:lnTo>
                  <a:lnTo>
                    <a:pt x="87290" y="58519"/>
                  </a:lnTo>
                  <a:lnTo>
                    <a:pt x="71715" y="70862"/>
                  </a:lnTo>
                  <a:lnTo>
                    <a:pt x="62820" y="77709"/>
                  </a:lnTo>
                  <a:lnTo>
                    <a:pt x="55197" y="83968"/>
                  </a:lnTo>
                  <a:lnTo>
                    <a:pt x="48422" y="89833"/>
                  </a:lnTo>
                  <a:lnTo>
                    <a:pt x="42212" y="95437"/>
                  </a:lnTo>
                  <a:lnTo>
                    <a:pt x="28538" y="108436"/>
                  </a:lnTo>
                  <a:lnTo>
                    <a:pt x="21336" y="115459"/>
                  </a:lnTo>
                  <a:lnTo>
                    <a:pt x="15687" y="121834"/>
                  </a:lnTo>
                  <a:lnTo>
                    <a:pt x="11075" y="127777"/>
                  </a:lnTo>
                  <a:lnTo>
                    <a:pt x="7154" y="133433"/>
                  </a:lnTo>
                  <a:lnTo>
                    <a:pt x="4540" y="138897"/>
                  </a:lnTo>
                  <a:lnTo>
                    <a:pt x="2797" y="144232"/>
                  </a:lnTo>
                  <a:lnTo>
                    <a:pt x="1635" y="149483"/>
                  </a:lnTo>
                  <a:lnTo>
                    <a:pt x="860" y="154676"/>
                  </a:lnTo>
                  <a:lnTo>
                    <a:pt x="344" y="159833"/>
                  </a:lnTo>
                  <a:lnTo>
                    <a:pt x="0" y="164963"/>
                  </a:lnTo>
                  <a:lnTo>
                    <a:pt x="617" y="169230"/>
                  </a:lnTo>
                  <a:lnTo>
                    <a:pt x="1875" y="172921"/>
                  </a:lnTo>
                  <a:lnTo>
                    <a:pt x="3560" y="176229"/>
                  </a:lnTo>
                  <a:lnTo>
                    <a:pt x="7224" y="180128"/>
                  </a:lnTo>
                  <a:lnTo>
                    <a:pt x="12206" y="184420"/>
                  </a:lnTo>
                  <a:lnTo>
                    <a:pt x="18068" y="188974"/>
                  </a:lnTo>
                  <a:lnTo>
                    <a:pt x="23669" y="192011"/>
                  </a:lnTo>
                  <a:lnTo>
                    <a:pt x="29096" y="194036"/>
                  </a:lnTo>
                  <a:lnTo>
                    <a:pt x="58064" y="201329"/>
                  </a:lnTo>
                  <a:lnTo>
                    <a:pt x="66420" y="202788"/>
                  </a:lnTo>
                  <a:lnTo>
                    <a:pt x="74530" y="203760"/>
                  </a:lnTo>
                  <a:lnTo>
                    <a:pt x="82477" y="204408"/>
                  </a:lnTo>
                  <a:lnTo>
                    <a:pt x="92008" y="203994"/>
                  </a:lnTo>
                  <a:lnTo>
                    <a:pt x="102596" y="202871"/>
                  </a:lnTo>
                  <a:lnTo>
                    <a:pt x="113888" y="201275"/>
                  </a:lnTo>
                  <a:lnTo>
                    <a:pt x="123955" y="199364"/>
                  </a:lnTo>
                  <a:lnTo>
                    <a:pt x="133207" y="197245"/>
                  </a:lnTo>
                  <a:lnTo>
                    <a:pt x="141915" y="194984"/>
                  </a:lnTo>
                  <a:lnTo>
                    <a:pt x="149414" y="193478"/>
                  </a:lnTo>
                  <a:lnTo>
                    <a:pt x="156106" y="192474"/>
                  </a:lnTo>
                  <a:lnTo>
                    <a:pt x="174571" y="19046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SMARTInkAnnotation157"/>
            <p:cNvSpPr/>
            <p:nvPr/>
          </p:nvSpPr>
          <p:spPr>
            <a:xfrm>
              <a:off x="2682000" y="3825720"/>
              <a:ext cx="198000" cy="12816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197990" h="128321">
                  <a:moveTo>
                    <a:pt x="30349" y="0"/>
                  </a:moveTo>
                  <a:lnTo>
                    <a:pt x="30349" y="25439"/>
                  </a:lnTo>
                  <a:lnTo>
                    <a:pt x="29502" y="28813"/>
                  </a:lnTo>
                  <a:lnTo>
                    <a:pt x="28091" y="32755"/>
                  </a:lnTo>
                  <a:lnTo>
                    <a:pt x="26304" y="37077"/>
                  </a:lnTo>
                  <a:lnTo>
                    <a:pt x="24266" y="40805"/>
                  </a:lnTo>
                  <a:lnTo>
                    <a:pt x="22060" y="44136"/>
                  </a:lnTo>
                  <a:lnTo>
                    <a:pt x="19743" y="47204"/>
                  </a:lnTo>
                  <a:lnTo>
                    <a:pt x="17352" y="50943"/>
                  </a:lnTo>
                  <a:lnTo>
                    <a:pt x="14911" y="55129"/>
                  </a:lnTo>
                  <a:lnTo>
                    <a:pt x="12437" y="59612"/>
                  </a:lnTo>
                  <a:lnTo>
                    <a:pt x="7430" y="69110"/>
                  </a:lnTo>
                  <a:lnTo>
                    <a:pt x="4910" y="74013"/>
                  </a:lnTo>
                  <a:lnTo>
                    <a:pt x="3230" y="78129"/>
                  </a:lnTo>
                  <a:lnTo>
                    <a:pt x="2109" y="81720"/>
                  </a:lnTo>
                  <a:lnTo>
                    <a:pt x="1363" y="84960"/>
                  </a:lnTo>
                  <a:lnTo>
                    <a:pt x="865" y="87966"/>
                  </a:lnTo>
                  <a:lnTo>
                    <a:pt x="533" y="90818"/>
                  </a:lnTo>
                  <a:lnTo>
                    <a:pt x="312" y="93565"/>
                  </a:lnTo>
                  <a:lnTo>
                    <a:pt x="164" y="97090"/>
                  </a:lnTo>
                  <a:lnTo>
                    <a:pt x="0" y="105522"/>
                  </a:lnTo>
                  <a:lnTo>
                    <a:pt x="803" y="109295"/>
                  </a:lnTo>
                  <a:lnTo>
                    <a:pt x="2185" y="112657"/>
                  </a:lnTo>
                  <a:lnTo>
                    <a:pt x="3953" y="115745"/>
                  </a:lnTo>
                  <a:lnTo>
                    <a:pt x="5979" y="117803"/>
                  </a:lnTo>
                  <a:lnTo>
                    <a:pt x="8175" y="119175"/>
                  </a:lnTo>
                  <a:lnTo>
                    <a:pt x="13721" y="121547"/>
                  </a:lnTo>
                  <a:lnTo>
                    <a:pt x="21830" y="125423"/>
                  </a:lnTo>
                  <a:lnTo>
                    <a:pt x="27210" y="126796"/>
                  </a:lnTo>
                  <a:lnTo>
                    <a:pt x="33336" y="127711"/>
                  </a:lnTo>
                  <a:lnTo>
                    <a:pt x="39960" y="128320"/>
                  </a:lnTo>
                  <a:lnTo>
                    <a:pt x="47764" y="127880"/>
                  </a:lnTo>
                  <a:lnTo>
                    <a:pt x="56352" y="126740"/>
                  </a:lnTo>
                  <a:lnTo>
                    <a:pt x="65464" y="125133"/>
                  </a:lnTo>
                  <a:lnTo>
                    <a:pt x="74079" y="124062"/>
                  </a:lnTo>
                  <a:lnTo>
                    <a:pt x="82362" y="123348"/>
                  </a:lnTo>
                  <a:lnTo>
                    <a:pt x="90425" y="122872"/>
                  </a:lnTo>
                  <a:lnTo>
                    <a:pt x="99186" y="121708"/>
                  </a:lnTo>
                  <a:lnTo>
                    <a:pt x="108414" y="120085"/>
                  </a:lnTo>
                  <a:lnTo>
                    <a:pt x="117952" y="118157"/>
                  </a:lnTo>
                  <a:lnTo>
                    <a:pt x="126005" y="116024"/>
                  </a:lnTo>
                  <a:lnTo>
                    <a:pt x="133066" y="113756"/>
                  </a:lnTo>
                  <a:lnTo>
                    <a:pt x="146274" y="108978"/>
                  </a:lnTo>
                  <a:lnTo>
                    <a:pt x="160611" y="104033"/>
                  </a:lnTo>
                  <a:lnTo>
                    <a:pt x="167144" y="101528"/>
                  </a:lnTo>
                  <a:lnTo>
                    <a:pt x="173192" y="99012"/>
                  </a:lnTo>
                  <a:lnTo>
                    <a:pt x="186976" y="92936"/>
                  </a:lnTo>
                  <a:lnTo>
                    <a:pt x="191119" y="89847"/>
                  </a:lnTo>
                  <a:lnTo>
                    <a:pt x="197989" y="838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SMARTInkAnnotation158"/>
            <p:cNvSpPr/>
            <p:nvPr/>
          </p:nvSpPr>
          <p:spPr>
            <a:xfrm>
              <a:off x="2849400" y="3817800"/>
              <a:ext cx="15120" cy="22860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5232" h="228601">
                  <a:moveTo>
                    <a:pt x="15231" y="0"/>
                  </a:moveTo>
                  <a:lnTo>
                    <a:pt x="15231" y="4045"/>
                  </a:lnTo>
                  <a:lnTo>
                    <a:pt x="14385" y="6083"/>
                  </a:lnTo>
                  <a:lnTo>
                    <a:pt x="12974" y="8289"/>
                  </a:lnTo>
                  <a:lnTo>
                    <a:pt x="11186" y="10606"/>
                  </a:lnTo>
                  <a:lnTo>
                    <a:pt x="9995" y="12997"/>
                  </a:lnTo>
                  <a:lnTo>
                    <a:pt x="9200" y="15439"/>
                  </a:lnTo>
                  <a:lnTo>
                    <a:pt x="8670" y="17912"/>
                  </a:lnTo>
                  <a:lnTo>
                    <a:pt x="8317" y="21255"/>
                  </a:lnTo>
                  <a:lnTo>
                    <a:pt x="8082" y="25177"/>
                  </a:lnTo>
                  <a:lnTo>
                    <a:pt x="7821" y="34050"/>
                  </a:lnTo>
                  <a:lnTo>
                    <a:pt x="7639" y="58556"/>
                  </a:lnTo>
                  <a:lnTo>
                    <a:pt x="6783" y="63590"/>
                  </a:lnTo>
                  <a:lnTo>
                    <a:pt x="5366" y="68640"/>
                  </a:lnTo>
                  <a:lnTo>
                    <a:pt x="3574" y="73700"/>
                  </a:lnTo>
                  <a:lnTo>
                    <a:pt x="2380" y="79614"/>
                  </a:lnTo>
                  <a:lnTo>
                    <a:pt x="1584" y="86096"/>
                  </a:lnTo>
                  <a:lnTo>
                    <a:pt x="1053" y="92957"/>
                  </a:lnTo>
                  <a:lnTo>
                    <a:pt x="699" y="100072"/>
                  </a:lnTo>
                  <a:lnTo>
                    <a:pt x="306" y="114750"/>
                  </a:lnTo>
                  <a:lnTo>
                    <a:pt x="19" y="149454"/>
                  </a:lnTo>
                  <a:lnTo>
                    <a:pt x="0" y="169025"/>
                  </a:lnTo>
                  <a:lnTo>
                    <a:pt x="843" y="175336"/>
                  </a:lnTo>
                  <a:lnTo>
                    <a:pt x="2253" y="181238"/>
                  </a:lnTo>
                  <a:lnTo>
                    <a:pt x="4039" y="186865"/>
                  </a:lnTo>
                  <a:lnTo>
                    <a:pt x="5230" y="191463"/>
                  </a:lnTo>
                  <a:lnTo>
                    <a:pt x="6024" y="195376"/>
                  </a:lnTo>
                  <a:lnTo>
                    <a:pt x="6553" y="198830"/>
                  </a:lnTo>
                  <a:lnTo>
                    <a:pt x="7752" y="201981"/>
                  </a:lnTo>
                  <a:lnTo>
                    <a:pt x="9398" y="204927"/>
                  </a:lnTo>
                  <a:lnTo>
                    <a:pt x="11343" y="207739"/>
                  </a:lnTo>
                  <a:lnTo>
                    <a:pt x="12639" y="210459"/>
                  </a:lnTo>
                  <a:lnTo>
                    <a:pt x="13503" y="213120"/>
                  </a:lnTo>
                  <a:lnTo>
                    <a:pt x="14079" y="215740"/>
                  </a:lnTo>
                  <a:lnTo>
                    <a:pt x="14463" y="218333"/>
                  </a:lnTo>
                  <a:lnTo>
                    <a:pt x="14719" y="220909"/>
                  </a:lnTo>
                  <a:lnTo>
                    <a:pt x="15231" y="2286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SMARTInkAnnotation159"/>
            <p:cNvSpPr/>
            <p:nvPr/>
          </p:nvSpPr>
          <p:spPr>
            <a:xfrm>
              <a:off x="3184560" y="3802680"/>
              <a:ext cx="22680" cy="45720"/>
            </a:xfrm>
            <a:custGeom>
              <a:avLst/>
              <a:gdLst>
                <a:gd name="textAreaLeft" fmla="*/ 0 w 22680"/>
                <a:gd name="textAreaRight" fmla="*/ 22680 w 2268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2861" h="45721">
                  <a:moveTo>
                    <a:pt x="22860" y="0"/>
                  </a:moveTo>
                  <a:lnTo>
                    <a:pt x="22860" y="17912"/>
                  </a:lnTo>
                  <a:lnTo>
                    <a:pt x="22014" y="20408"/>
                  </a:lnTo>
                  <a:lnTo>
                    <a:pt x="20603" y="22919"/>
                  </a:lnTo>
                  <a:lnTo>
                    <a:pt x="18815" y="25439"/>
                  </a:lnTo>
                  <a:lnTo>
                    <a:pt x="17623" y="27966"/>
                  </a:lnTo>
                  <a:lnTo>
                    <a:pt x="16829" y="30497"/>
                  </a:lnTo>
                  <a:lnTo>
                    <a:pt x="16299" y="-32504"/>
                  </a:lnTo>
                  <a:lnTo>
                    <a:pt x="15100" y="-30815"/>
                  </a:lnTo>
                  <a:lnTo>
                    <a:pt x="13453" y="-29689"/>
                  </a:lnTo>
                  <a:lnTo>
                    <a:pt x="11509" y="-28938"/>
                  </a:lnTo>
                  <a:lnTo>
                    <a:pt x="10213" y="-27590"/>
                  </a:lnTo>
                  <a:lnTo>
                    <a:pt x="9348" y="-25845"/>
                  </a:lnTo>
                  <a:lnTo>
                    <a:pt x="8772" y="-23836"/>
                  </a:lnTo>
                  <a:lnTo>
                    <a:pt x="7542" y="-22496"/>
                  </a:lnTo>
                  <a:lnTo>
                    <a:pt x="5874" y="-21602"/>
                  </a:lnTo>
                  <a:lnTo>
                    <a:pt x="0" y="-198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SMARTInkAnnotation160"/>
            <p:cNvSpPr/>
            <p:nvPr/>
          </p:nvSpPr>
          <p:spPr>
            <a:xfrm>
              <a:off x="3032280" y="3932280"/>
              <a:ext cx="335160" cy="3780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35281" h="38101">
                  <a:moveTo>
                    <a:pt x="0" y="38100"/>
                  </a:moveTo>
                  <a:lnTo>
                    <a:pt x="0" y="34055"/>
                  </a:lnTo>
                  <a:lnTo>
                    <a:pt x="847" y="32863"/>
                  </a:lnTo>
                  <a:lnTo>
                    <a:pt x="2258" y="32069"/>
                  </a:lnTo>
                  <a:lnTo>
                    <a:pt x="6561" y="30794"/>
                  </a:lnTo>
                  <a:lnTo>
                    <a:pt x="19442" y="26528"/>
                  </a:lnTo>
                  <a:lnTo>
                    <a:pt x="25661" y="25305"/>
                  </a:lnTo>
                  <a:lnTo>
                    <a:pt x="32347" y="24490"/>
                  </a:lnTo>
                  <a:lnTo>
                    <a:pt x="39345" y="23947"/>
                  </a:lnTo>
                  <a:lnTo>
                    <a:pt x="47397" y="22738"/>
                  </a:lnTo>
                  <a:lnTo>
                    <a:pt x="56151" y="21085"/>
                  </a:lnTo>
                  <a:lnTo>
                    <a:pt x="65374" y="19137"/>
                  </a:lnTo>
                  <a:lnTo>
                    <a:pt x="75756" y="17838"/>
                  </a:lnTo>
                  <a:lnTo>
                    <a:pt x="86911" y="16972"/>
                  </a:lnTo>
                  <a:lnTo>
                    <a:pt x="98580" y="16394"/>
                  </a:lnTo>
                  <a:lnTo>
                    <a:pt x="109747" y="15163"/>
                  </a:lnTo>
                  <a:lnTo>
                    <a:pt x="120578" y="13496"/>
                  </a:lnTo>
                  <a:lnTo>
                    <a:pt x="131185" y="11537"/>
                  </a:lnTo>
                  <a:lnTo>
                    <a:pt x="141644" y="10232"/>
                  </a:lnTo>
                  <a:lnTo>
                    <a:pt x="152003" y="9361"/>
                  </a:lnTo>
                  <a:lnTo>
                    <a:pt x="162295" y="8781"/>
                  </a:lnTo>
                  <a:lnTo>
                    <a:pt x="185020" y="8136"/>
                  </a:lnTo>
                  <a:lnTo>
                    <a:pt x="281399" y="7630"/>
                  </a:lnTo>
                  <a:lnTo>
                    <a:pt x="288353" y="6780"/>
                  </a:lnTo>
                  <a:lnTo>
                    <a:pt x="294681" y="5366"/>
                  </a:lnTo>
                  <a:lnTo>
                    <a:pt x="300595" y="3578"/>
                  </a:lnTo>
                  <a:lnTo>
                    <a:pt x="306230" y="2385"/>
                  </a:lnTo>
                  <a:lnTo>
                    <a:pt x="311680" y="1591"/>
                  </a:lnTo>
                  <a:lnTo>
                    <a:pt x="321404" y="707"/>
                  </a:lnTo>
                  <a:lnTo>
                    <a:pt x="325183" y="471"/>
                  </a:lnTo>
                  <a:lnTo>
                    <a:pt x="3352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SMARTInkAnnotation161"/>
            <p:cNvSpPr/>
            <p:nvPr/>
          </p:nvSpPr>
          <p:spPr>
            <a:xfrm>
              <a:off x="3123720" y="4039200"/>
              <a:ext cx="22680" cy="7560"/>
            </a:xfrm>
            <a:custGeom>
              <a:avLst/>
              <a:gdLst>
                <a:gd name="textAreaLeft" fmla="*/ 0 w 22680"/>
                <a:gd name="textAreaRight" fmla="*/ 22680 w 226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2861" h="7621">
                  <a:moveTo>
                    <a:pt x="22860" y="0"/>
                  </a:moveTo>
                  <a:lnTo>
                    <a:pt x="11288" y="0"/>
                  </a:lnTo>
                  <a:lnTo>
                    <a:pt x="10065" y="846"/>
                  </a:lnTo>
                  <a:lnTo>
                    <a:pt x="9250" y="2258"/>
                  </a:lnTo>
                  <a:lnTo>
                    <a:pt x="8707" y="4045"/>
                  </a:lnTo>
                  <a:lnTo>
                    <a:pt x="7498" y="5237"/>
                  </a:lnTo>
                  <a:lnTo>
                    <a:pt x="5845" y="6032"/>
                  </a:lnTo>
                  <a:lnTo>
                    <a:pt x="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SMARTInkAnnotation162"/>
            <p:cNvSpPr/>
            <p:nvPr/>
          </p:nvSpPr>
          <p:spPr>
            <a:xfrm>
              <a:off x="3401280" y="3848400"/>
              <a:ext cx="27000" cy="205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27251" h="205741">
                  <a:moveTo>
                    <a:pt x="4391" y="0"/>
                  </a:moveTo>
                  <a:lnTo>
                    <a:pt x="345" y="0"/>
                  </a:lnTo>
                  <a:lnTo>
                    <a:pt x="0" y="847"/>
                  </a:lnTo>
                  <a:lnTo>
                    <a:pt x="617" y="2258"/>
                  </a:lnTo>
                  <a:lnTo>
                    <a:pt x="3645" y="6561"/>
                  </a:lnTo>
                  <a:lnTo>
                    <a:pt x="4059" y="11665"/>
                  </a:lnTo>
                  <a:lnTo>
                    <a:pt x="4292" y="21801"/>
                  </a:lnTo>
                  <a:lnTo>
                    <a:pt x="4385" y="51184"/>
                  </a:lnTo>
                  <a:lnTo>
                    <a:pt x="5233" y="56983"/>
                  </a:lnTo>
                  <a:lnTo>
                    <a:pt x="6645" y="63388"/>
                  </a:lnTo>
                  <a:lnTo>
                    <a:pt x="8434" y="70199"/>
                  </a:lnTo>
                  <a:lnTo>
                    <a:pt x="9625" y="76433"/>
                  </a:lnTo>
                  <a:lnTo>
                    <a:pt x="10420" y="82281"/>
                  </a:lnTo>
                  <a:lnTo>
                    <a:pt x="10950" y="87875"/>
                  </a:lnTo>
                  <a:lnTo>
                    <a:pt x="12150" y="93296"/>
                  </a:lnTo>
                  <a:lnTo>
                    <a:pt x="13797" y="98604"/>
                  </a:lnTo>
                  <a:lnTo>
                    <a:pt x="15741" y="103836"/>
                  </a:lnTo>
                  <a:lnTo>
                    <a:pt x="17038" y="109864"/>
                  </a:lnTo>
                  <a:lnTo>
                    <a:pt x="17902" y="116423"/>
                  </a:lnTo>
                  <a:lnTo>
                    <a:pt x="18478" y="123335"/>
                  </a:lnTo>
                  <a:lnTo>
                    <a:pt x="18862" y="129637"/>
                  </a:lnTo>
                  <a:lnTo>
                    <a:pt x="19289" y="141154"/>
                  </a:lnTo>
                  <a:lnTo>
                    <a:pt x="19529" y="157158"/>
                  </a:lnTo>
                  <a:lnTo>
                    <a:pt x="19600" y="172625"/>
                  </a:lnTo>
                  <a:lnTo>
                    <a:pt x="20457" y="177737"/>
                  </a:lnTo>
                  <a:lnTo>
                    <a:pt x="21875" y="182837"/>
                  </a:lnTo>
                  <a:lnTo>
                    <a:pt x="23666" y="187932"/>
                  </a:lnTo>
                  <a:lnTo>
                    <a:pt x="24861" y="192174"/>
                  </a:lnTo>
                  <a:lnTo>
                    <a:pt x="25657" y="195850"/>
                  </a:lnTo>
                  <a:lnTo>
                    <a:pt x="27250" y="2057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SMARTInkAnnotation163"/>
            <p:cNvSpPr/>
            <p:nvPr/>
          </p:nvSpPr>
          <p:spPr>
            <a:xfrm>
              <a:off x="3535200" y="3848760"/>
              <a:ext cx="236160" cy="20484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236221" h="205065">
                  <a:moveTo>
                    <a:pt x="0" y="22537"/>
                  </a:moveTo>
                  <a:lnTo>
                    <a:pt x="0" y="11186"/>
                  </a:lnTo>
                  <a:lnTo>
                    <a:pt x="846" y="9890"/>
                  </a:lnTo>
                  <a:lnTo>
                    <a:pt x="2258" y="9025"/>
                  </a:lnTo>
                  <a:lnTo>
                    <a:pt x="8608" y="6679"/>
                  </a:lnTo>
                  <a:lnTo>
                    <a:pt x="15397" y="3353"/>
                  </a:lnTo>
                  <a:lnTo>
                    <a:pt x="21801" y="1311"/>
                  </a:lnTo>
                  <a:lnTo>
                    <a:pt x="28316" y="403"/>
                  </a:lnTo>
                  <a:lnTo>
                    <a:pt x="32424" y="161"/>
                  </a:lnTo>
                  <a:lnTo>
                    <a:pt x="36856" y="0"/>
                  </a:lnTo>
                  <a:lnTo>
                    <a:pt x="42350" y="739"/>
                  </a:lnTo>
                  <a:lnTo>
                    <a:pt x="48554" y="2078"/>
                  </a:lnTo>
                  <a:lnTo>
                    <a:pt x="55229" y="3818"/>
                  </a:lnTo>
                  <a:lnTo>
                    <a:pt x="61373" y="4977"/>
                  </a:lnTo>
                  <a:lnTo>
                    <a:pt x="67162" y="5751"/>
                  </a:lnTo>
                  <a:lnTo>
                    <a:pt x="72715" y="6267"/>
                  </a:lnTo>
                  <a:lnTo>
                    <a:pt x="78957" y="8304"/>
                  </a:lnTo>
                  <a:lnTo>
                    <a:pt x="85657" y="11355"/>
                  </a:lnTo>
                  <a:lnTo>
                    <a:pt x="92665" y="15083"/>
                  </a:lnTo>
                  <a:lnTo>
                    <a:pt x="98183" y="17567"/>
                  </a:lnTo>
                  <a:lnTo>
                    <a:pt x="102709" y="19224"/>
                  </a:lnTo>
                  <a:lnTo>
                    <a:pt x="106572" y="20328"/>
                  </a:lnTo>
                  <a:lnTo>
                    <a:pt x="110842" y="22758"/>
                  </a:lnTo>
                  <a:lnTo>
                    <a:pt x="115381" y="26071"/>
                  </a:lnTo>
                  <a:lnTo>
                    <a:pt x="120101" y="29973"/>
                  </a:lnTo>
                  <a:lnTo>
                    <a:pt x="123247" y="33421"/>
                  </a:lnTo>
                  <a:lnTo>
                    <a:pt x="126743" y="39510"/>
                  </a:lnTo>
                  <a:lnTo>
                    <a:pt x="130555" y="45039"/>
                  </a:lnTo>
                  <a:lnTo>
                    <a:pt x="132757" y="47698"/>
                  </a:lnTo>
                  <a:lnTo>
                    <a:pt x="134224" y="51164"/>
                  </a:lnTo>
                  <a:lnTo>
                    <a:pt x="135203" y="55169"/>
                  </a:lnTo>
                  <a:lnTo>
                    <a:pt x="135856" y="59531"/>
                  </a:lnTo>
                  <a:lnTo>
                    <a:pt x="135444" y="63287"/>
                  </a:lnTo>
                  <a:lnTo>
                    <a:pt x="134323" y="66637"/>
                  </a:lnTo>
                  <a:lnTo>
                    <a:pt x="126439" y="82143"/>
                  </a:lnTo>
                  <a:lnTo>
                    <a:pt x="123240" y="86827"/>
                  </a:lnTo>
                  <a:lnTo>
                    <a:pt x="119413" y="91643"/>
                  </a:lnTo>
                  <a:lnTo>
                    <a:pt x="115169" y="96549"/>
                  </a:lnTo>
                  <a:lnTo>
                    <a:pt x="110646" y="100664"/>
                  </a:lnTo>
                  <a:lnTo>
                    <a:pt x="105937" y="104256"/>
                  </a:lnTo>
                  <a:lnTo>
                    <a:pt x="101105" y="107496"/>
                  </a:lnTo>
                  <a:lnTo>
                    <a:pt x="96190" y="111350"/>
                  </a:lnTo>
                  <a:lnTo>
                    <a:pt x="91220" y="115612"/>
                  </a:lnTo>
                  <a:lnTo>
                    <a:pt x="86213" y="120147"/>
                  </a:lnTo>
                  <a:lnTo>
                    <a:pt x="76135" y="129702"/>
                  </a:lnTo>
                  <a:lnTo>
                    <a:pt x="59913" y="145588"/>
                  </a:lnTo>
                  <a:lnTo>
                    <a:pt x="56875" y="149444"/>
                  </a:lnTo>
                  <a:lnTo>
                    <a:pt x="54003" y="153709"/>
                  </a:lnTo>
                  <a:lnTo>
                    <a:pt x="51242" y="158244"/>
                  </a:lnTo>
                  <a:lnTo>
                    <a:pt x="49401" y="162116"/>
                  </a:lnTo>
                  <a:lnTo>
                    <a:pt x="48174" y="165543"/>
                  </a:lnTo>
                  <a:lnTo>
                    <a:pt x="46811" y="171608"/>
                  </a:lnTo>
                  <a:lnTo>
                    <a:pt x="46204" y="177127"/>
                  </a:lnTo>
                  <a:lnTo>
                    <a:pt x="46890" y="179783"/>
                  </a:lnTo>
                  <a:lnTo>
                    <a:pt x="49909" y="184993"/>
                  </a:lnTo>
                  <a:lnTo>
                    <a:pt x="54073" y="190130"/>
                  </a:lnTo>
                  <a:lnTo>
                    <a:pt x="56369" y="192686"/>
                  </a:lnTo>
                  <a:lnTo>
                    <a:pt x="59593" y="194390"/>
                  </a:lnTo>
                  <a:lnTo>
                    <a:pt x="63435" y="195526"/>
                  </a:lnTo>
                  <a:lnTo>
                    <a:pt x="67690" y="196283"/>
                  </a:lnTo>
                  <a:lnTo>
                    <a:pt x="73067" y="197634"/>
                  </a:lnTo>
                  <a:lnTo>
                    <a:pt x="79191" y="199381"/>
                  </a:lnTo>
                  <a:lnTo>
                    <a:pt x="85814" y="201394"/>
                  </a:lnTo>
                  <a:lnTo>
                    <a:pt x="92769" y="202734"/>
                  </a:lnTo>
                  <a:lnTo>
                    <a:pt x="99947" y="203629"/>
                  </a:lnTo>
                  <a:lnTo>
                    <a:pt x="107271" y="204225"/>
                  </a:lnTo>
                  <a:lnTo>
                    <a:pt x="115541" y="204622"/>
                  </a:lnTo>
                  <a:lnTo>
                    <a:pt x="133761" y="205064"/>
                  </a:lnTo>
                  <a:lnTo>
                    <a:pt x="142514" y="204335"/>
                  </a:lnTo>
                  <a:lnTo>
                    <a:pt x="150889" y="203002"/>
                  </a:lnTo>
                  <a:lnTo>
                    <a:pt x="159013" y="201267"/>
                  </a:lnTo>
                  <a:lnTo>
                    <a:pt x="167815" y="200111"/>
                  </a:lnTo>
                  <a:lnTo>
                    <a:pt x="177070" y="199339"/>
                  </a:lnTo>
                  <a:lnTo>
                    <a:pt x="186627" y="198825"/>
                  </a:lnTo>
                  <a:lnTo>
                    <a:pt x="195538" y="196789"/>
                  </a:lnTo>
                  <a:lnTo>
                    <a:pt x="204019" y="193739"/>
                  </a:lnTo>
                  <a:lnTo>
                    <a:pt x="212212" y="190012"/>
                  </a:lnTo>
                  <a:lnTo>
                    <a:pt x="218521" y="187526"/>
                  </a:lnTo>
                  <a:lnTo>
                    <a:pt x="223575" y="185870"/>
                  </a:lnTo>
                  <a:lnTo>
                    <a:pt x="236220" y="18255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SMARTInkAnnotation164"/>
            <p:cNvSpPr/>
            <p:nvPr/>
          </p:nvSpPr>
          <p:spPr>
            <a:xfrm>
              <a:off x="3687840" y="3741840"/>
              <a:ext cx="380880" cy="5486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48640"/>
                <a:gd name="textAreaBottom" fmla="*/ 549000 h 548640"/>
              </a:gdLst>
              <a:ahLst/>
              <a:rect l="textAreaLeft" t="textAreaTop" r="textAreaRight" b="textAreaBottom"/>
              <a:pathLst>
                <a:path w="381001" h="548638">
                  <a:moveTo>
                    <a:pt x="0" y="30477"/>
                  </a:moveTo>
                  <a:lnTo>
                    <a:pt x="4045" y="34522"/>
                  </a:lnTo>
                  <a:lnTo>
                    <a:pt x="6083" y="35714"/>
                  </a:lnTo>
                  <a:lnTo>
                    <a:pt x="10606" y="37038"/>
                  </a:lnTo>
                  <a:lnTo>
                    <a:pt x="21957" y="37783"/>
                  </a:lnTo>
                  <a:lnTo>
                    <a:pt x="36045" y="38004"/>
                  </a:lnTo>
                  <a:lnTo>
                    <a:pt x="99205" y="38095"/>
                  </a:lnTo>
                  <a:lnTo>
                    <a:pt x="107623" y="37249"/>
                  </a:lnTo>
                  <a:lnTo>
                    <a:pt x="116622" y="35838"/>
                  </a:lnTo>
                  <a:lnTo>
                    <a:pt x="126008" y="34051"/>
                  </a:lnTo>
                  <a:lnTo>
                    <a:pt x="134805" y="32860"/>
                  </a:lnTo>
                  <a:lnTo>
                    <a:pt x="143211" y="32065"/>
                  </a:lnTo>
                  <a:lnTo>
                    <a:pt x="151353" y="31536"/>
                  </a:lnTo>
                  <a:lnTo>
                    <a:pt x="160169" y="30336"/>
                  </a:lnTo>
                  <a:lnTo>
                    <a:pt x="169433" y="28690"/>
                  </a:lnTo>
                  <a:lnTo>
                    <a:pt x="178995" y="26745"/>
                  </a:lnTo>
                  <a:lnTo>
                    <a:pt x="187910" y="24603"/>
                  </a:lnTo>
                  <a:lnTo>
                    <a:pt x="196393" y="22327"/>
                  </a:lnTo>
                  <a:lnTo>
                    <a:pt x="204589" y="19964"/>
                  </a:lnTo>
                  <a:lnTo>
                    <a:pt x="211746" y="18388"/>
                  </a:lnTo>
                  <a:lnTo>
                    <a:pt x="218211" y="17338"/>
                  </a:lnTo>
                  <a:lnTo>
                    <a:pt x="229910" y="15324"/>
                  </a:lnTo>
                  <a:lnTo>
                    <a:pt x="240753" y="11607"/>
                  </a:lnTo>
                  <a:lnTo>
                    <a:pt x="251217" y="7132"/>
                  </a:lnTo>
                  <a:lnTo>
                    <a:pt x="260666" y="3169"/>
                  </a:lnTo>
                  <a:lnTo>
                    <a:pt x="272355" y="414"/>
                  </a:lnTo>
                  <a:lnTo>
                    <a:pt x="284036" y="2"/>
                  </a:lnTo>
                  <a:lnTo>
                    <a:pt x="285877" y="0"/>
                  </a:lnTo>
                  <a:lnTo>
                    <a:pt x="287105" y="846"/>
                  </a:lnTo>
                  <a:lnTo>
                    <a:pt x="287923" y="2256"/>
                  </a:lnTo>
                  <a:lnTo>
                    <a:pt x="288470" y="4043"/>
                  </a:lnTo>
                  <a:lnTo>
                    <a:pt x="290192" y="19078"/>
                  </a:lnTo>
                  <a:lnTo>
                    <a:pt x="294733" y="33402"/>
                  </a:lnTo>
                  <a:lnTo>
                    <a:pt x="296455" y="49218"/>
                  </a:lnTo>
                  <a:lnTo>
                    <a:pt x="296858" y="62513"/>
                  </a:lnTo>
                  <a:lnTo>
                    <a:pt x="297152" y="106814"/>
                  </a:lnTo>
                  <a:lnTo>
                    <a:pt x="299425" y="121978"/>
                  </a:lnTo>
                  <a:lnTo>
                    <a:pt x="302411" y="138031"/>
                  </a:lnTo>
                  <a:lnTo>
                    <a:pt x="303208" y="147053"/>
                  </a:lnTo>
                  <a:lnTo>
                    <a:pt x="303738" y="156454"/>
                  </a:lnTo>
                  <a:lnTo>
                    <a:pt x="304329" y="175931"/>
                  </a:lnTo>
                  <a:lnTo>
                    <a:pt x="304486" y="185867"/>
                  </a:lnTo>
                  <a:lnTo>
                    <a:pt x="305437" y="195877"/>
                  </a:lnTo>
                  <a:lnTo>
                    <a:pt x="306918" y="205936"/>
                  </a:lnTo>
                  <a:lnTo>
                    <a:pt x="308752" y="216030"/>
                  </a:lnTo>
                  <a:lnTo>
                    <a:pt x="310822" y="226146"/>
                  </a:lnTo>
                  <a:lnTo>
                    <a:pt x="315379" y="246417"/>
                  </a:lnTo>
                  <a:lnTo>
                    <a:pt x="316933" y="256563"/>
                  </a:lnTo>
                  <a:lnTo>
                    <a:pt x="317968" y="266714"/>
                  </a:lnTo>
                  <a:lnTo>
                    <a:pt x="318659" y="276869"/>
                  </a:lnTo>
                  <a:lnTo>
                    <a:pt x="319966" y="286178"/>
                  </a:lnTo>
                  <a:lnTo>
                    <a:pt x="323676" y="303295"/>
                  </a:lnTo>
                  <a:lnTo>
                    <a:pt x="330525" y="331257"/>
                  </a:lnTo>
                  <a:lnTo>
                    <a:pt x="332110" y="340217"/>
                  </a:lnTo>
                  <a:lnTo>
                    <a:pt x="333871" y="356946"/>
                  </a:lnTo>
                  <a:lnTo>
                    <a:pt x="339170" y="372848"/>
                  </a:lnTo>
                  <a:lnTo>
                    <a:pt x="345475" y="388382"/>
                  </a:lnTo>
                  <a:lnTo>
                    <a:pt x="348278" y="403753"/>
                  </a:lnTo>
                  <a:lnTo>
                    <a:pt x="351782" y="416793"/>
                  </a:lnTo>
                  <a:lnTo>
                    <a:pt x="358514" y="433655"/>
                  </a:lnTo>
                  <a:lnTo>
                    <a:pt x="362539" y="443347"/>
                  </a:lnTo>
                  <a:lnTo>
                    <a:pt x="367382" y="458726"/>
                  </a:lnTo>
                  <a:lnTo>
                    <a:pt x="372195" y="469729"/>
                  </a:lnTo>
                  <a:lnTo>
                    <a:pt x="373029" y="475680"/>
                  </a:lnTo>
                  <a:lnTo>
                    <a:pt x="373993" y="477139"/>
                  </a:lnTo>
                  <a:lnTo>
                    <a:pt x="375482" y="478112"/>
                  </a:lnTo>
                  <a:lnTo>
                    <a:pt x="381000" y="480057"/>
                  </a:lnTo>
                  <a:lnTo>
                    <a:pt x="348216" y="480057"/>
                  </a:lnTo>
                  <a:lnTo>
                    <a:pt x="340518" y="480903"/>
                  </a:lnTo>
                  <a:lnTo>
                    <a:pt x="331998" y="482315"/>
                  </a:lnTo>
                  <a:lnTo>
                    <a:pt x="322933" y="484102"/>
                  </a:lnTo>
                  <a:lnTo>
                    <a:pt x="314348" y="485294"/>
                  </a:lnTo>
                  <a:lnTo>
                    <a:pt x="306086" y="486089"/>
                  </a:lnTo>
                  <a:lnTo>
                    <a:pt x="298037" y="486618"/>
                  </a:lnTo>
                  <a:lnTo>
                    <a:pt x="289285" y="486971"/>
                  </a:lnTo>
                  <a:lnTo>
                    <a:pt x="270529" y="487363"/>
                  </a:lnTo>
                  <a:lnTo>
                    <a:pt x="261632" y="488314"/>
                  </a:lnTo>
                  <a:lnTo>
                    <a:pt x="253162" y="489795"/>
                  </a:lnTo>
                  <a:lnTo>
                    <a:pt x="236130" y="493699"/>
                  </a:lnTo>
                  <a:lnTo>
                    <a:pt x="187614" y="505581"/>
                  </a:lnTo>
                  <a:lnTo>
                    <a:pt x="178416" y="507233"/>
                  </a:lnTo>
                  <a:lnTo>
                    <a:pt x="169745" y="508334"/>
                  </a:lnTo>
                  <a:lnTo>
                    <a:pt x="161423" y="509069"/>
                  </a:lnTo>
                  <a:lnTo>
                    <a:pt x="153335" y="510405"/>
                  </a:lnTo>
                  <a:lnTo>
                    <a:pt x="145403" y="512143"/>
                  </a:lnTo>
                  <a:lnTo>
                    <a:pt x="110378" y="521015"/>
                  </a:lnTo>
                  <a:lnTo>
                    <a:pt x="102372" y="523448"/>
                  </a:lnTo>
                  <a:lnTo>
                    <a:pt x="95341" y="525918"/>
                  </a:lnTo>
                  <a:lnTo>
                    <a:pt x="88961" y="528411"/>
                  </a:lnTo>
                  <a:lnTo>
                    <a:pt x="77356" y="533439"/>
                  </a:lnTo>
                  <a:lnTo>
                    <a:pt x="66553" y="537649"/>
                  </a:lnTo>
                  <a:lnTo>
                    <a:pt x="56108" y="539520"/>
                  </a:lnTo>
                  <a:lnTo>
                    <a:pt x="48080" y="542610"/>
                  </a:lnTo>
                  <a:lnTo>
                    <a:pt x="38100" y="54863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SMARTInkAnnotation165"/>
            <p:cNvSpPr/>
            <p:nvPr/>
          </p:nvSpPr>
          <p:spPr>
            <a:xfrm>
              <a:off x="1538640" y="4428360"/>
              <a:ext cx="304560" cy="33480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304623" h="334930">
                  <a:moveTo>
                    <a:pt x="0" y="45369"/>
                  </a:moveTo>
                  <a:lnTo>
                    <a:pt x="4045" y="45369"/>
                  </a:lnTo>
                  <a:lnTo>
                    <a:pt x="10547" y="43112"/>
                  </a:lnTo>
                  <a:lnTo>
                    <a:pt x="18234" y="40132"/>
                  </a:lnTo>
                  <a:lnTo>
                    <a:pt x="24473" y="38808"/>
                  </a:lnTo>
                  <a:lnTo>
                    <a:pt x="29016" y="37609"/>
                  </a:lnTo>
                  <a:lnTo>
                    <a:pt x="40836" y="34018"/>
                  </a:lnTo>
                  <a:lnTo>
                    <a:pt x="46697" y="31875"/>
                  </a:lnTo>
                  <a:lnTo>
                    <a:pt x="52298" y="29599"/>
                  </a:lnTo>
                  <a:lnTo>
                    <a:pt x="57725" y="27236"/>
                  </a:lnTo>
                  <a:lnTo>
                    <a:pt x="64730" y="25661"/>
                  </a:lnTo>
                  <a:lnTo>
                    <a:pt x="72787" y="24610"/>
                  </a:lnTo>
                  <a:lnTo>
                    <a:pt x="81544" y="23910"/>
                  </a:lnTo>
                  <a:lnTo>
                    <a:pt x="89923" y="22596"/>
                  </a:lnTo>
                  <a:lnTo>
                    <a:pt x="98049" y="20874"/>
                  </a:lnTo>
                  <a:lnTo>
                    <a:pt x="133386" y="12026"/>
                  </a:lnTo>
                  <a:lnTo>
                    <a:pt x="142264" y="10441"/>
                  </a:lnTo>
                  <a:lnTo>
                    <a:pt x="150722" y="9383"/>
                  </a:lnTo>
                  <a:lnTo>
                    <a:pt x="158902" y="8679"/>
                  </a:lnTo>
                  <a:lnTo>
                    <a:pt x="167741" y="7362"/>
                  </a:lnTo>
                  <a:lnTo>
                    <a:pt x="177021" y="5637"/>
                  </a:lnTo>
                  <a:lnTo>
                    <a:pt x="186594" y="3641"/>
                  </a:lnTo>
                  <a:lnTo>
                    <a:pt x="196362" y="2311"/>
                  </a:lnTo>
                  <a:lnTo>
                    <a:pt x="206262" y="1423"/>
                  </a:lnTo>
                  <a:lnTo>
                    <a:pt x="216248" y="832"/>
                  </a:lnTo>
                  <a:lnTo>
                    <a:pt x="236375" y="175"/>
                  </a:lnTo>
                  <a:lnTo>
                    <a:pt x="246483" y="0"/>
                  </a:lnTo>
                  <a:lnTo>
                    <a:pt x="254915" y="730"/>
                  </a:lnTo>
                  <a:lnTo>
                    <a:pt x="262230" y="2062"/>
                  </a:lnTo>
                  <a:lnTo>
                    <a:pt x="268800" y="3798"/>
                  </a:lnTo>
                  <a:lnTo>
                    <a:pt x="274873" y="4955"/>
                  </a:lnTo>
                  <a:lnTo>
                    <a:pt x="280616" y="5726"/>
                  </a:lnTo>
                  <a:lnTo>
                    <a:pt x="286137" y="6240"/>
                  </a:lnTo>
                  <a:lnTo>
                    <a:pt x="294530" y="9070"/>
                  </a:lnTo>
                  <a:lnTo>
                    <a:pt x="297953" y="11010"/>
                  </a:lnTo>
                  <a:lnTo>
                    <a:pt x="300236" y="13996"/>
                  </a:lnTo>
                  <a:lnTo>
                    <a:pt x="301757" y="17681"/>
                  </a:lnTo>
                  <a:lnTo>
                    <a:pt x="303448" y="25443"/>
                  </a:lnTo>
                  <a:lnTo>
                    <a:pt x="304199" y="31715"/>
                  </a:lnTo>
                  <a:lnTo>
                    <a:pt x="304533" y="41840"/>
                  </a:lnTo>
                  <a:lnTo>
                    <a:pt x="304622" y="48097"/>
                  </a:lnTo>
                  <a:lnTo>
                    <a:pt x="303835" y="53960"/>
                  </a:lnTo>
                  <a:lnTo>
                    <a:pt x="302463" y="59564"/>
                  </a:lnTo>
                  <a:lnTo>
                    <a:pt x="294178" y="84768"/>
                  </a:lnTo>
                  <a:lnTo>
                    <a:pt x="290946" y="91955"/>
                  </a:lnTo>
                  <a:lnTo>
                    <a:pt x="287097" y="99286"/>
                  </a:lnTo>
                  <a:lnTo>
                    <a:pt x="282838" y="106714"/>
                  </a:lnTo>
                  <a:lnTo>
                    <a:pt x="279152" y="115052"/>
                  </a:lnTo>
                  <a:lnTo>
                    <a:pt x="275848" y="123998"/>
                  </a:lnTo>
                  <a:lnTo>
                    <a:pt x="272799" y="133348"/>
                  </a:lnTo>
                  <a:lnTo>
                    <a:pt x="269073" y="142969"/>
                  </a:lnTo>
                  <a:lnTo>
                    <a:pt x="264895" y="152769"/>
                  </a:lnTo>
                  <a:lnTo>
                    <a:pt x="260417" y="162689"/>
                  </a:lnTo>
                  <a:lnTo>
                    <a:pt x="256585" y="171842"/>
                  </a:lnTo>
                  <a:lnTo>
                    <a:pt x="253183" y="180485"/>
                  </a:lnTo>
                  <a:lnTo>
                    <a:pt x="250069" y="188787"/>
                  </a:lnTo>
                  <a:lnTo>
                    <a:pt x="247146" y="197707"/>
                  </a:lnTo>
                  <a:lnTo>
                    <a:pt x="244351" y="207041"/>
                  </a:lnTo>
                  <a:lnTo>
                    <a:pt x="238987" y="225597"/>
                  </a:lnTo>
                  <a:lnTo>
                    <a:pt x="231208" y="250323"/>
                  </a:lnTo>
                  <a:lnTo>
                    <a:pt x="226090" y="266000"/>
                  </a:lnTo>
                  <a:lnTo>
                    <a:pt x="224387" y="272890"/>
                  </a:lnTo>
                  <a:lnTo>
                    <a:pt x="223251" y="279177"/>
                  </a:lnTo>
                  <a:lnTo>
                    <a:pt x="222494" y="285060"/>
                  </a:lnTo>
                  <a:lnTo>
                    <a:pt x="221143" y="290676"/>
                  </a:lnTo>
                  <a:lnTo>
                    <a:pt x="219395" y="296114"/>
                  </a:lnTo>
                  <a:lnTo>
                    <a:pt x="217383" y="301433"/>
                  </a:lnTo>
                  <a:lnTo>
                    <a:pt x="216889" y="306671"/>
                  </a:lnTo>
                  <a:lnTo>
                    <a:pt x="218597" y="317008"/>
                  </a:lnTo>
                  <a:lnTo>
                    <a:pt x="219921" y="324989"/>
                  </a:lnTo>
                  <a:lnTo>
                    <a:pt x="220980" y="33492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SMARTInkAnnotation166"/>
            <p:cNvSpPr/>
            <p:nvPr/>
          </p:nvSpPr>
          <p:spPr>
            <a:xfrm>
              <a:off x="1622520" y="4626000"/>
              <a:ext cx="266400" cy="151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66701" h="15148">
                  <a:moveTo>
                    <a:pt x="0" y="7620"/>
                  </a:moveTo>
                  <a:lnTo>
                    <a:pt x="10606" y="7620"/>
                  </a:lnTo>
                  <a:lnTo>
                    <a:pt x="13844" y="8466"/>
                  </a:lnTo>
                  <a:lnTo>
                    <a:pt x="17696" y="9877"/>
                  </a:lnTo>
                  <a:lnTo>
                    <a:pt x="21957" y="11665"/>
                  </a:lnTo>
                  <a:lnTo>
                    <a:pt x="28185" y="12857"/>
                  </a:lnTo>
                  <a:lnTo>
                    <a:pt x="35723" y="13651"/>
                  </a:lnTo>
                  <a:lnTo>
                    <a:pt x="44136" y="14181"/>
                  </a:lnTo>
                  <a:lnTo>
                    <a:pt x="60256" y="14769"/>
                  </a:lnTo>
                  <a:lnTo>
                    <a:pt x="85869" y="15100"/>
                  </a:lnTo>
                  <a:lnTo>
                    <a:pt x="95346" y="15147"/>
                  </a:lnTo>
                  <a:lnTo>
                    <a:pt x="105051" y="14331"/>
                  </a:lnTo>
                  <a:lnTo>
                    <a:pt x="114907" y="12941"/>
                  </a:lnTo>
                  <a:lnTo>
                    <a:pt x="124865" y="11167"/>
                  </a:lnTo>
                  <a:lnTo>
                    <a:pt x="135737" y="9985"/>
                  </a:lnTo>
                  <a:lnTo>
                    <a:pt x="147218" y="9196"/>
                  </a:lnTo>
                  <a:lnTo>
                    <a:pt x="159105" y="8671"/>
                  </a:lnTo>
                  <a:lnTo>
                    <a:pt x="171264" y="7474"/>
                  </a:lnTo>
                  <a:lnTo>
                    <a:pt x="183603" y="5830"/>
                  </a:lnTo>
                  <a:lnTo>
                    <a:pt x="196062" y="3886"/>
                  </a:lnTo>
                  <a:lnTo>
                    <a:pt x="207755" y="2591"/>
                  </a:lnTo>
                  <a:lnTo>
                    <a:pt x="218937" y="1728"/>
                  </a:lnTo>
                  <a:lnTo>
                    <a:pt x="238698" y="768"/>
                  </a:lnTo>
                  <a:lnTo>
                    <a:pt x="2667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SMARTInkAnnotation167"/>
            <p:cNvSpPr/>
            <p:nvPr/>
          </p:nvSpPr>
          <p:spPr>
            <a:xfrm>
              <a:off x="2012760" y="4381920"/>
              <a:ext cx="234720" cy="43452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234708" h="434341">
                  <a:moveTo>
                    <a:pt x="59447" y="0"/>
                  </a:moveTo>
                  <a:lnTo>
                    <a:pt x="55402" y="4045"/>
                  </a:lnTo>
                  <a:lnTo>
                    <a:pt x="54210" y="6083"/>
                  </a:lnTo>
                  <a:lnTo>
                    <a:pt x="50040" y="17697"/>
                  </a:lnTo>
                  <a:lnTo>
                    <a:pt x="45106" y="27338"/>
                  </a:lnTo>
                  <a:lnTo>
                    <a:pt x="41420" y="33466"/>
                  </a:lnTo>
                  <a:lnTo>
                    <a:pt x="37269" y="40091"/>
                  </a:lnTo>
                  <a:lnTo>
                    <a:pt x="33655" y="47047"/>
                  </a:lnTo>
                  <a:lnTo>
                    <a:pt x="30399" y="54225"/>
                  </a:lnTo>
                  <a:lnTo>
                    <a:pt x="27382" y="61550"/>
                  </a:lnTo>
                  <a:lnTo>
                    <a:pt x="24524" y="68973"/>
                  </a:lnTo>
                  <a:lnTo>
                    <a:pt x="19090" y="83995"/>
                  </a:lnTo>
                  <a:lnTo>
                    <a:pt x="16456" y="92404"/>
                  </a:lnTo>
                  <a:lnTo>
                    <a:pt x="11271" y="110777"/>
                  </a:lnTo>
                  <a:lnTo>
                    <a:pt x="8703" y="121265"/>
                  </a:lnTo>
                  <a:lnTo>
                    <a:pt x="3592" y="144207"/>
                  </a:lnTo>
                  <a:lnTo>
                    <a:pt x="1891" y="155404"/>
                  </a:lnTo>
                  <a:lnTo>
                    <a:pt x="756" y="166257"/>
                  </a:lnTo>
                  <a:lnTo>
                    <a:pt x="0" y="176878"/>
                  </a:lnTo>
                  <a:lnTo>
                    <a:pt x="342" y="188192"/>
                  </a:lnTo>
                  <a:lnTo>
                    <a:pt x="1417" y="199968"/>
                  </a:lnTo>
                  <a:lnTo>
                    <a:pt x="2981" y="212052"/>
                  </a:lnTo>
                  <a:lnTo>
                    <a:pt x="5716" y="224341"/>
                  </a:lnTo>
                  <a:lnTo>
                    <a:pt x="9233" y="236767"/>
                  </a:lnTo>
                  <a:lnTo>
                    <a:pt x="13271" y="249285"/>
                  </a:lnTo>
                  <a:lnTo>
                    <a:pt x="17656" y="261863"/>
                  </a:lnTo>
                  <a:lnTo>
                    <a:pt x="27045" y="287128"/>
                  </a:lnTo>
                  <a:lnTo>
                    <a:pt x="31919" y="298946"/>
                  </a:lnTo>
                  <a:lnTo>
                    <a:pt x="36862" y="310211"/>
                  </a:lnTo>
                  <a:lnTo>
                    <a:pt x="41850" y="321107"/>
                  </a:lnTo>
                  <a:lnTo>
                    <a:pt x="48563" y="331758"/>
                  </a:lnTo>
                  <a:lnTo>
                    <a:pt x="56424" y="342245"/>
                  </a:lnTo>
                  <a:lnTo>
                    <a:pt x="65052" y="352624"/>
                  </a:lnTo>
                  <a:lnTo>
                    <a:pt x="74190" y="362082"/>
                  </a:lnTo>
                  <a:lnTo>
                    <a:pt x="83669" y="370928"/>
                  </a:lnTo>
                  <a:lnTo>
                    <a:pt x="93375" y="379365"/>
                  </a:lnTo>
                  <a:lnTo>
                    <a:pt x="103232" y="386683"/>
                  </a:lnTo>
                  <a:lnTo>
                    <a:pt x="113191" y="393255"/>
                  </a:lnTo>
                  <a:lnTo>
                    <a:pt x="123216" y="399331"/>
                  </a:lnTo>
                  <a:lnTo>
                    <a:pt x="133286" y="405073"/>
                  </a:lnTo>
                  <a:lnTo>
                    <a:pt x="153507" y="415970"/>
                  </a:lnTo>
                  <a:lnTo>
                    <a:pt x="162794" y="419553"/>
                  </a:lnTo>
                  <a:lnTo>
                    <a:pt x="171525" y="421943"/>
                  </a:lnTo>
                  <a:lnTo>
                    <a:pt x="179886" y="423535"/>
                  </a:lnTo>
                  <a:lnTo>
                    <a:pt x="198206" y="427562"/>
                  </a:lnTo>
                  <a:lnTo>
                    <a:pt x="207833" y="429821"/>
                  </a:lnTo>
                  <a:lnTo>
                    <a:pt x="215098" y="431328"/>
                  </a:lnTo>
                  <a:lnTo>
                    <a:pt x="220787" y="432332"/>
                  </a:lnTo>
                  <a:lnTo>
                    <a:pt x="234707" y="4343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SMARTInkAnnotation168"/>
            <p:cNvSpPr/>
            <p:nvPr/>
          </p:nvSpPr>
          <p:spPr>
            <a:xfrm>
              <a:off x="2247480" y="4488840"/>
              <a:ext cx="22680" cy="2437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22768" h="243841">
                  <a:moveTo>
                    <a:pt x="15147" y="0"/>
                  </a:moveTo>
                  <a:lnTo>
                    <a:pt x="15147" y="4045"/>
                  </a:lnTo>
                  <a:lnTo>
                    <a:pt x="14301" y="6083"/>
                  </a:lnTo>
                  <a:lnTo>
                    <a:pt x="12889" y="8289"/>
                  </a:lnTo>
                  <a:lnTo>
                    <a:pt x="11102" y="10606"/>
                  </a:lnTo>
                  <a:lnTo>
                    <a:pt x="9910" y="12997"/>
                  </a:lnTo>
                  <a:lnTo>
                    <a:pt x="9116" y="15438"/>
                  </a:lnTo>
                  <a:lnTo>
                    <a:pt x="8586" y="17912"/>
                  </a:lnTo>
                  <a:lnTo>
                    <a:pt x="8233" y="22101"/>
                  </a:lnTo>
                  <a:lnTo>
                    <a:pt x="7998" y="27435"/>
                  </a:lnTo>
                  <a:lnTo>
                    <a:pt x="7667" y="44818"/>
                  </a:lnTo>
                  <a:lnTo>
                    <a:pt x="7555" y="65862"/>
                  </a:lnTo>
                  <a:lnTo>
                    <a:pt x="6699" y="72695"/>
                  </a:lnTo>
                  <a:lnTo>
                    <a:pt x="5282" y="80636"/>
                  </a:lnTo>
                  <a:lnTo>
                    <a:pt x="3490" y="89317"/>
                  </a:lnTo>
                  <a:lnTo>
                    <a:pt x="2296" y="97645"/>
                  </a:lnTo>
                  <a:lnTo>
                    <a:pt x="1500" y="105737"/>
                  </a:lnTo>
                  <a:lnTo>
                    <a:pt x="969" y="113672"/>
                  </a:lnTo>
                  <a:lnTo>
                    <a:pt x="615" y="121501"/>
                  </a:lnTo>
                  <a:lnTo>
                    <a:pt x="222" y="136974"/>
                  </a:lnTo>
                  <a:lnTo>
                    <a:pt x="0" y="159965"/>
                  </a:lnTo>
                  <a:lnTo>
                    <a:pt x="816" y="167603"/>
                  </a:lnTo>
                  <a:lnTo>
                    <a:pt x="2206" y="175236"/>
                  </a:lnTo>
                  <a:lnTo>
                    <a:pt x="3980" y="182864"/>
                  </a:lnTo>
                  <a:lnTo>
                    <a:pt x="5162" y="189643"/>
                  </a:lnTo>
                  <a:lnTo>
                    <a:pt x="5951" y="195855"/>
                  </a:lnTo>
                  <a:lnTo>
                    <a:pt x="6476" y="201690"/>
                  </a:lnTo>
                  <a:lnTo>
                    <a:pt x="7673" y="207274"/>
                  </a:lnTo>
                  <a:lnTo>
                    <a:pt x="9318" y="212689"/>
                  </a:lnTo>
                  <a:lnTo>
                    <a:pt x="11261" y="217993"/>
                  </a:lnTo>
                  <a:lnTo>
                    <a:pt x="13403" y="222375"/>
                  </a:lnTo>
                  <a:lnTo>
                    <a:pt x="15678" y="226144"/>
                  </a:lnTo>
                  <a:lnTo>
                    <a:pt x="18041" y="229503"/>
                  </a:lnTo>
                  <a:lnTo>
                    <a:pt x="19616" y="232588"/>
                  </a:lnTo>
                  <a:lnTo>
                    <a:pt x="20667" y="235492"/>
                  </a:lnTo>
                  <a:lnTo>
                    <a:pt x="22767" y="2438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SMARTInkAnnotation169"/>
            <p:cNvSpPr/>
            <p:nvPr/>
          </p:nvSpPr>
          <p:spPr>
            <a:xfrm>
              <a:off x="2384640" y="4473720"/>
              <a:ext cx="37800" cy="2667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8101" h="266701">
                  <a:moveTo>
                    <a:pt x="0" y="0"/>
                  </a:moveTo>
                  <a:lnTo>
                    <a:pt x="0" y="15397"/>
                  </a:lnTo>
                  <a:lnTo>
                    <a:pt x="847" y="19578"/>
                  </a:lnTo>
                  <a:lnTo>
                    <a:pt x="2258" y="24059"/>
                  </a:lnTo>
                  <a:lnTo>
                    <a:pt x="4045" y="28739"/>
                  </a:lnTo>
                  <a:lnTo>
                    <a:pt x="5237" y="35246"/>
                  </a:lnTo>
                  <a:lnTo>
                    <a:pt x="6031" y="42971"/>
                  </a:lnTo>
                  <a:lnTo>
                    <a:pt x="6561" y="51507"/>
                  </a:lnTo>
                  <a:lnTo>
                    <a:pt x="7150" y="67766"/>
                  </a:lnTo>
                  <a:lnTo>
                    <a:pt x="7481" y="93457"/>
                  </a:lnTo>
                  <a:lnTo>
                    <a:pt x="7612" y="156117"/>
                  </a:lnTo>
                  <a:lnTo>
                    <a:pt x="8461" y="165039"/>
                  </a:lnTo>
                  <a:lnTo>
                    <a:pt x="9874" y="173525"/>
                  </a:lnTo>
                  <a:lnTo>
                    <a:pt x="11663" y="181724"/>
                  </a:lnTo>
                  <a:lnTo>
                    <a:pt x="13702" y="189729"/>
                  </a:lnTo>
                  <a:lnTo>
                    <a:pt x="15908" y="197606"/>
                  </a:lnTo>
                  <a:lnTo>
                    <a:pt x="18225" y="205397"/>
                  </a:lnTo>
                  <a:lnTo>
                    <a:pt x="19770" y="213132"/>
                  </a:lnTo>
                  <a:lnTo>
                    <a:pt x="20800" y="220828"/>
                  </a:lnTo>
                  <a:lnTo>
                    <a:pt x="21487" y="228499"/>
                  </a:lnTo>
                  <a:lnTo>
                    <a:pt x="22791" y="234459"/>
                  </a:lnTo>
                  <a:lnTo>
                    <a:pt x="24508" y="239279"/>
                  </a:lnTo>
                  <a:lnTo>
                    <a:pt x="26499" y="243340"/>
                  </a:lnTo>
                  <a:lnTo>
                    <a:pt x="27826" y="246893"/>
                  </a:lnTo>
                  <a:lnTo>
                    <a:pt x="28710" y="250109"/>
                  </a:lnTo>
                  <a:lnTo>
                    <a:pt x="29300" y="253099"/>
                  </a:lnTo>
                  <a:lnTo>
                    <a:pt x="30540" y="255939"/>
                  </a:lnTo>
                  <a:lnTo>
                    <a:pt x="32213" y="258680"/>
                  </a:lnTo>
                  <a:lnTo>
                    <a:pt x="38100" y="2667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SMARTInkAnnotation170"/>
            <p:cNvSpPr/>
            <p:nvPr/>
          </p:nvSpPr>
          <p:spPr>
            <a:xfrm>
              <a:off x="2430360" y="4359240"/>
              <a:ext cx="151200" cy="42660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426600"/>
                <a:gd name="textAreaBottom" fmla="*/ 426960 h 426600"/>
              </a:gdLst>
              <a:ahLst/>
              <a:rect l="textAreaLeft" t="textAreaTop" r="textAreaRight" b="textAreaBottom"/>
              <a:pathLst>
                <a:path w="151479" h="426721">
                  <a:moveTo>
                    <a:pt x="0" y="0"/>
                  </a:moveTo>
                  <a:lnTo>
                    <a:pt x="0" y="6561"/>
                  </a:lnTo>
                  <a:lnTo>
                    <a:pt x="4045" y="11351"/>
                  </a:lnTo>
                  <a:lnTo>
                    <a:pt x="6930" y="13495"/>
                  </a:lnTo>
                  <a:lnTo>
                    <a:pt x="10547" y="15770"/>
                  </a:lnTo>
                  <a:lnTo>
                    <a:pt x="14651" y="18133"/>
                  </a:lnTo>
                  <a:lnTo>
                    <a:pt x="25985" y="25275"/>
                  </a:lnTo>
                  <a:lnTo>
                    <a:pt x="32563" y="29550"/>
                  </a:lnTo>
                  <a:lnTo>
                    <a:pt x="38642" y="34940"/>
                  </a:lnTo>
                  <a:lnTo>
                    <a:pt x="44388" y="41073"/>
                  </a:lnTo>
                  <a:lnTo>
                    <a:pt x="49912" y="47702"/>
                  </a:lnTo>
                  <a:lnTo>
                    <a:pt x="62823" y="64099"/>
                  </a:lnTo>
                  <a:lnTo>
                    <a:pt x="69822" y="73212"/>
                  </a:lnTo>
                  <a:lnTo>
                    <a:pt x="76181" y="82675"/>
                  </a:lnTo>
                  <a:lnTo>
                    <a:pt x="82114" y="92370"/>
                  </a:lnTo>
                  <a:lnTo>
                    <a:pt x="87763" y="102220"/>
                  </a:lnTo>
                  <a:lnTo>
                    <a:pt x="94069" y="112173"/>
                  </a:lnTo>
                  <a:lnTo>
                    <a:pt x="100812" y="122196"/>
                  </a:lnTo>
                  <a:lnTo>
                    <a:pt x="107848" y="132264"/>
                  </a:lnTo>
                  <a:lnTo>
                    <a:pt x="114232" y="143209"/>
                  </a:lnTo>
                  <a:lnTo>
                    <a:pt x="120182" y="154740"/>
                  </a:lnTo>
                  <a:lnTo>
                    <a:pt x="125841" y="166660"/>
                  </a:lnTo>
                  <a:lnTo>
                    <a:pt x="136645" y="191194"/>
                  </a:lnTo>
                  <a:lnTo>
                    <a:pt x="141897" y="203662"/>
                  </a:lnTo>
                  <a:lnTo>
                    <a:pt x="145398" y="215361"/>
                  </a:lnTo>
                  <a:lnTo>
                    <a:pt x="147732" y="226548"/>
                  </a:lnTo>
                  <a:lnTo>
                    <a:pt x="149288" y="237392"/>
                  </a:lnTo>
                  <a:lnTo>
                    <a:pt x="150325" y="248855"/>
                  </a:lnTo>
                  <a:lnTo>
                    <a:pt x="151017" y="260730"/>
                  </a:lnTo>
                  <a:lnTo>
                    <a:pt x="151478" y="272880"/>
                  </a:lnTo>
                  <a:lnTo>
                    <a:pt x="150939" y="284367"/>
                  </a:lnTo>
                  <a:lnTo>
                    <a:pt x="149732" y="295411"/>
                  </a:lnTo>
                  <a:lnTo>
                    <a:pt x="148081" y="306161"/>
                  </a:lnTo>
                  <a:lnTo>
                    <a:pt x="145288" y="316714"/>
                  </a:lnTo>
                  <a:lnTo>
                    <a:pt x="141732" y="327136"/>
                  </a:lnTo>
                  <a:lnTo>
                    <a:pt x="137668" y="337471"/>
                  </a:lnTo>
                  <a:lnTo>
                    <a:pt x="133265" y="346901"/>
                  </a:lnTo>
                  <a:lnTo>
                    <a:pt x="128637" y="355727"/>
                  </a:lnTo>
                  <a:lnTo>
                    <a:pt x="123858" y="364152"/>
                  </a:lnTo>
                  <a:lnTo>
                    <a:pt x="118978" y="371461"/>
                  </a:lnTo>
                  <a:lnTo>
                    <a:pt x="114032" y="378027"/>
                  </a:lnTo>
                  <a:lnTo>
                    <a:pt x="109042" y="384098"/>
                  </a:lnTo>
                  <a:lnTo>
                    <a:pt x="104021" y="389839"/>
                  </a:lnTo>
                  <a:lnTo>
                    <a:pt x="98981" y="395359"/>
                  </a:lnTo>
                  <a:lnTo>
                    <a:pt x="93927" y="400733"/>
                  </a:lnTo>
                  <a:lnTo>
                    <a:pt x="88865" y="405162"/>
                  </a:lnTo>
                  <a:lnTo>
                    <a:pt x="83797" y="408961"/>
                  </a:lnTo>
                  <a:lnTo>
                    <a:pt x="78724" y="412341"/>
                  </a:lnTo>
                  <a:lnTo>
                    <a:pt x="74496" y="415441"/>
                  </a:lnTo>
                  <a:lnTo>
                    <a:pt x="70831" y="418354"/>
                  </a:lnTo>
                  <a:lnTo>
                    <a:pt x="67540" y="421143"/>
                  </a:lnTo>
                  <a:lnTo>
                    <a:pt x="64500" y="423002"/>
                  </a:lnTo>
                  <a:lnTo>
                    <a:pt x="61627" y="424241"/>
                  </a:lnTo>
                  <a:lnTo>
                    <a:pt x="53340" y="4267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SMARTInkAnnotation171"/>
            <p:cNvSpPr/>
            <p:nvPr/>
          </p:nvSpPr>
          <p:spPr>
            <a:xfrm>
              <a:off x="2643480" y="4557600"/>
              <a:ext cx="335160" cy="15120"/>
            </a:xfrm>
            <a:custGeom>
              <a:avLst/>
              <a:gdLst>
                <a:gd name="textAreaLeft" fmla="*/ 0 w 335160"/>
                <a:gd name="textAreaRight" fmla="*/ 335520 w 3351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335281" h="15240">
                  <a:moveTo>
                    <a:pt x="0" y="7619"/>
                  </a:moveTo>
                  <a:lnTo>
                    <a:pt x="14651" y="7619"/>
                  </a:lnTo>
                  <a:lnTo>
                    <a:pt x="19081" y="6772"/>
                  </a:lnTo>
                  <a:lnTo>
                    <a:pt x="23727" y="5362"/>
                  </a:lnTo>
                  <a:lnTo>
                    <a:pt x="28518" y="3574"/>
                  </a:lnTo>
                  <a:lnTo>
                    <a:pt x="35099" y="2382"/>
                  </a:lnTo>
                  <a:lnTo>
                    <a:pt x="42873" y="1588"/>
                  </a:lnTo>
                  <a:lnTo>
                    <a:pt x="51442" y="1058"/>
                  </a:lnTo>
                  <a:lnTo>
                    <a:pt x="67737" y="470"/>
                  </a:lnTo>
                  <a:lnTo>
                    <a:pt x="93449" y="139"/>
                  </a:lnTo>
                  <a:lnTo>
                    <a:pt x="254969" y="0"/>
                  </a:lnTo>
                  <a:lnTo>
                    <a:pt x="263960" y="846"/>
                  </a:lnTo>
                  <a:lnTo>
                    <a:pt x="272493" y="2257"/>
                  </a:lnTo>
                  <a:lnTo>
                    <a:pt x="280722" y="4044"/>
                  </a:lnTo>
                  <a:lnTo>
                    <a:pt x="287902" y="5236"/>
                  </a:lnTo>
                  <a:lnTo>
                    <a:pt x="294381" y="6030"/>
                  </a:lnTo>
                  <a:lnTo>
                    <a:pt x="300394" y="6560"/>
                  </a:lnTo>
                  <a:lnTo>
                    <a:pt x="306096" y="6913"/>
                  </a:lnTo>
                  <a:lnTo>
                    <a:pt x="316947" y="7305"/>
                  </a:lnTo>
                  <a:lnTo>
                    <a:pt x="321365" y="8256"/>
                  </a:lnTo>
                  <a:lnTo>
                    <a:pt x="325157" y="9737"/>
                  </a:lnTo>
                  <a:lnTo>
                    <a:pt x="335280" y="1523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SMARTInkAnnotation172"/>
            <p:cNvSpPr/>
            <p:nvPr/>
          </p:nvSpPr>
          <p:spPr>
            <a:xfrm>
              <a:off x="2677320" y="4626000"/>
              <a:ext cx="255600" cy="3024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55851" h="30481">
                  <a:moveTo>
                    <a:pt x="4390" y="30480"/>
                  </a:moveTo>
                  <a:lnTo>
                    <a:pt x="0" y="30480"/>
                  </a:lnTo>
                  <a:lnTo>
                    <a:pt x="81078" y="30480"/>
                  </a:lnTo>
                  <a:lnTo>
                    <a:pt x="88535" y="29634"/>
                  </a:lnTo>
                  <a:lnTo>
                    <a:pt x="96047" y="28222"/>
                  </a:lnTo>
                  <a:lnTo>
                    <a:pt x="103595" y="26435"/>
                  </a:lnTo>
                  <a:lnTo>
                    <a:pt x="112013" y="25243"/>
                  </a:lnTo>
                  <a:lnTo>
                    <a:pt x="121012" y="24449"/>
                  </a:lnTo>
                  <a:lnTo>
                    <a:pt x="130398" y="23919"/>
                  </a:lnTo>
                  <a:lnTo>
                    <a:pt x="147600" y="23331"/>
                  </a:lnTo>
                  <a:lnTo>
                    <a:pt x="155744" y="23174"/>
                  </a:lnTo>
                  <a:lnTo>
                    <a:pt x="163713" y="22223"/>
                  </a:lnTo>
                  <a:lnTo>
                    <a:pt x="171565" y="20742"/>
                  </a:lnTo>
                  <a:lnTo>
                    <a:pt x="179340" y="18908"/>
                  </a:lnTo>
                  <a:lnTo>
                    <a:pt x="187063" y="16839"/>
                  </a:lnTo>
                  <a:lnTo>
                    <a:pt x="202418" y="12282"/>
                  </a:lnTo>
                  <a:lnTo>
                    <a:pt x="225343" y="4956"/>
                  </a:lnTo>
                  <a:lnTo>
                    <a:pt x="232125" y="3304"/>
                  </a:lnTo>
                  <a:lnTo>
                    <a:pt x="238340" y="2203"/>
                  </a:lnTo>
                  <a:lnTo>
                    <a:pt x="25585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SMARTInkAnnotation173"/>
            <p:cNvSpPr/>
            <p:nvPr/>
          </p:nvSpPr>
          <p:spPr>
            <a:xfrm>
              <a:off x="3108600" y="4351680"/>
              <a:ext cx="251280" cy="35784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w="251329" h="358038">
                  <a:moveTo>
                    <a:pt x="0" y="91337"/>
                  </a:moveTo>
                  <a:lnTo>
                    <a:pt x="22178" y="91337"/>
                  </a:lnTo>
                  <a:lnTo>
                    <a:pt x="26639" y="90491"/>
                  </a:lnTo>
                  <a:lnTo>
                    <a:pt x="31306" y="89080"/>
                  </a:lnTo>
                  <a:lnTo>
                    <a:pt x="36111" y="87292"/>
                  </a:lnTo>
                  <a:lnTo>
                    <a:pt x="41854" y="86100"/>
                  </a:lnTo>
                  <a:lnTo>
                    <a:pt x="48222" y="85306"/>
                  </a:lnTo>
                  <a:lnTo>
                    <a:pt x="55009" y="84776"/>
                  </a:lnTo>
                  <a:lnTo>
                    <a:pt x="62072" y="83577"/>
                  </a:lnTo>
                  <a:lnTo>
                    <a:pt x="69322" y="81930"/>
                  </a:lnTo>
                  <a:lnTo>
                    <a:pt x="76695" y="79986"/>
                  </a:lnTo>
                  <a:lnTo>
                    <a:pt x="83303" y="77843"/>
                  </a:lnTo>
                  <a:lnTo>
                    <a:pt x="89402" y="75567"/>
                  </a:lnTo>
                  <a:lnTo>
                    <a:pt x="95161" y="73205"/>
                  </a:lnTo>
                  <a:lnTo>
                    <a:pt x="101541" y="70782"/>
                  </a:lnTo>
                  <a:lnTo>
                    <a:pt x="115403" y="65833"/>
                  </a:lnTo>
                  <a:lnTo>
                    <a:pt x="122656" y="62481"/>
                  </a:lnTo>
                  <a:lnTo>
                    <a:pt x="130030" y="58553"/>
                  </a:lnTo>
                  <a:lnTo>
                    <a:pt x="137486" y="54241"/>
                  </a:lnTo>
                  <a:lnTo>
                    <a:pt x="150288" y="47192"/>
                  </a:lnTo>
                  <a:lnTo>
                    <a:pt x="167014" y="38464"/>
                  </a:lnTo>
                  <a:lnTo>
                    <a:pt x="172303" y="35769"/>
                  </a:lnTo>
                  <a:lnTo>
                    <a:pt x="178369" y="33125"/>
                  </a:lnTo>
                  <a:lnTo>
                    <a:pt x="184953" y="30516"/>
                  </a:lnTo>
                  <a:lnTo>
                    <a:pt x="191882" y="27929"/>
                  </a:lnTo>
                  <a:lnTo>
                    <a:pt x="197348" y="25359"/>
                  </a:lnTo>
                  <a:lnTo>
                    <a:pt x="201839" y="22798"/>
                  </a:lnTo>
                  <a:lnTo>
                    <a:pt x="209086" y="18542"/>
                  </a:lnTo>
                  <a:lnTo>
                    <a:pt x="215129" y="16651"/>
                  </a:lnTo>
                  <a:lnTo>
                    <a:pt x="220638" y="13552"/>
                  </a:lnTo>
                  <a:lnTo>
                    <a:pt x="223292" y="11541"/>
                  </a:lnTo>
                  <a:lnTo>
                    <a:pt x="228499" y="9305"/>
                  </a:lnTo>
                  <a:lnTo>
                    <a:pt x="231073" y="8709"/>
                  </a:lnTo>
                  <a:lnTo>
                    <a:pt x="236190" y="5789"/>
                  </a:lnTo>
                  <a:lnTo>
                    <a:pt x="238740" y="3825"/>
                  </a:lnTo>
                  <a:lnTo>
                    <a:pt x="243831" y="1643"/>
                  </a:lnTo>
                  <a:lnTo>
                    <a:pt x="251014" y="0"/>
                  </a:lnTo>
                  <a:lnTo>
                    <a:pt x="251328" y="3973"/>
                  </a:lnTo>
                  <a:lnTo>
                    <a:pt x="250525" y="5154"/>
                  </a:lnTo>
                  <a:lnTo>
                    <a:pt x="249144" y="5941"/>
                  </a:lnTo>
                  <a:lnTo>
                    <a:pt x="247376" y="6467"/>
                  </a:lnTo>
                  <a:lnTo>
                    <a:pt x="243154" y="9309"/>
                  </a:lnTo>
                  <a:lnTo>
                    <a:pt x="236017" y="15668"/>
                  </a:lnTo>
                  <a:lnTo>
                    <a:pt x="233545" y="18031"/>
                  </a:lnTo>
                  <a:lnTo>
                    <a:pt x="228540" y="25173"/>
                  </a:lnTo>
                  <a:lnTo>
                    <a:pt x="223494" y="33991"/>
                  </a:lnTo>
                  <a:lnTo>
                    <a:pt x="218428" y="43554"/>
                  </a:lnTo>
                  <a:lnTo>
                    <a:pt x="215046" y="49322"/>
                  </a:lnTo>
                  <a:lnTo>
                    <a:pt x="203041" y="68728"/>
                  </a:lnTo>
                  <a:lnTo>
                    <a:pt x="199707" y="74572"/>
                  </a:lnTo>
                  <a:lnTo>
                    <a:pt x="196638" y="80160"/>
                  </a:lnTo>
                  <a:lnTo>
                    <a:pt x="192052" y="86426"/>
                  </a:lnTo>
                  <a:lnTo>
                    <a:pt x="186455" y="93143"/>
                  </a:lnTo>
                  <a:lnTo>
                    <a:pt x="180183" y="100161"/>
                  </a:lnTo>
                  <a:lnTo>
                    <a:pt x="175155" y="106533"/>
                  </a:lnTo>
                  <a:lnTo>
                    <a:pt x="170957" y="112474"/>
                  </a:lnTo>
                  <a:lnTo>
                    <a:pt x="154090" y="138222"/>
                  </a:lnTo>
                  <a:lnTo>
                    <a:pt x="148447" y="145454"/>
                  </a:lnTo>
                  <a:lnTo>
                    <a:pt x="142145" y="152815"/>
                  </a:lnTo>
                  <a:lnTo>
                    <a:pt x="135403" y="160262"/>
                  </a:lnTo>
                  <a:lnTo>
                    <a:pt x="129216" y="167767"/>
                  </a:lnTo>
                  <a:lnTo>
                    <a:pt x="123397" y="175311"/>
                  </a:lnTo>
                  <a:lnTo>
                    <a:pt x="117825" y="182879"/>
                  </a:lnTo>
                  <a:lnTo>
                    <a:pt x="107117" y="198063"/>
                  </a:lnTo>
                  <a:lnTo>
                    <a:pt x="86446" y="228507"/>
                  </a:lnTo>
                  <a:lnTo>
                    <a:pt x="82185" y="236123"/>
                  </a:lnTo>
                  <a:lnTo>
                    <a:pt x="78496" y="243741"/>
                  </a:lnTo>
                  <a:lnTo>
                    <a:pt x="75191" y="251360"/>
                  </a:lnTo>
                  <a:lnTo>
                    <a:pt x="71294" y="258133"/>
                  </a:lnTo>
                  <a:lnTo>
                    <a:pt x="67003" y="264341"/>
                  </a:lnTo>
                  <a:lnTo>
                    <a:pt x="62449" y="270173"/>
                  </a:lnTo>
                  <a:lnTo>
                    <a:pt x="55131" y="281169"/>
                  </a:lnTo>
                  <a:lnTo>
                    <a:pt x="49056" y="291701"/>
                  </a:lnTo>
                  <a:lnTo>
                    <a:pt x="43534" y="302026"/>
                  </a:lnTo>
                  <a:lnTo>
                    <a:pt x="35665" y="317358"/>
                  </a:lnTo>
                  <a:lnTo>
                    <a:pt x="30526" y="325282"/>
                  </a:lnTo>
                  <a:lnTo>
                    <a:pt x="27972" y="328581"/>
                  </a:lnTo>
                  <a:lnTo>
                    <a:pt x="25131" y="334503"/>
                  </a:lnTo>
                  <a:lnTo>
                    <a:pt x="23533" y="342597"/>
                  </a:lnTo>
                  <a:lnTo>
                    <a:pt x="23059" y="350358"/>
                  </a:lnTo>
                  <a:lnTo>
                    <a:pt x="22860" y="35803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SMARTInkAnnotation174"/>
            <p:cNvSpPr/>
            <p:nvPr/>
          </p:nvSpPr>
          <p:spPr>
            <a:xfrm>
              <a:off x="3108600" y="4603320"/>
              <a:ext cx="167400" cy="75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67641" h="7621">
                  <a:moveTo>
                    <a:pt x="0" y="7620"/>
                  </a:moveTo>
                  <a:lnTo>
                    <a:pt x="134528" y="7620"/>
                  </a:lnTo>
                  <a:lnTo>
                    <a:pt x="139638" y="6774"/>
                  </a:lnTo>
                  <a:lnTo>
                    <a:pt x="144739" y="5362"/>
                  </a:lnTo>
                  <a:lnTo>
                    <a:pt x="149832" y="3575"/>
                  </a:lnTo>
                  <a:lnTo>
                    <a:pt x="154075" y="2383"/>
                  </a:lnTo>
                  <a:lnTo>
                    <a:pt x="157750" y="1589"/>
                  </a:lnTo>
                  <a:lnTo>
                    <a:pt x="1676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SMARTInkAnnotation175"/>
            <p:cNvSpPr/>
            <p:nvPr/>
          </p:nvSpPr>
          <p:spPr>
            <a:xfrm>
              <a:off x="3375360" y="4397400"/>
              <a:ext cx="234720" cy="2818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235026" h="281840">
                  <a:moveTo>
                    <a:pt x="22860" y="30379"/>
                  </a:moveTo>
                  <a:lnTo>
                    <a:pt x="26905" y="30379"/>
                  </a:lnTo>
                  <a:lnTo>
                    <a:pt x="28943" y="29533"/>
                  </a:lnTo>
                  <a:lnTo>
                    <a:pt x="36041" y="24348"/>
                  </a:lnTo>
                  <a:lnTo>
                    <a:pt x="36727" y="23818"/>
                  </a:lnTo>
                  <a:lnTo>
                    <a:pt x="42005" y="23230"/>
                  </a:lnTo>
                  <a:lnTo>
                    <a:pt x="45784" y="23073"/>
                  </a:lnTo>
                  <a:lnTo>
                    <a:pt x="54497" y="22899"/>
                  </a:lnTo>
                  <a:lnTo>
                    <a:pt x="140780" y="22760"/>
                  </a:lnTo>
                  <a:lnTo>
                    <a:pt x="147194" y="21913"/>
                  </a:lnTo>
                  <a:lnTo>
                    <a:pt x="154009" y="20502"/>
                  </a:lnTo>
                  <a:lnTo>
                    <a:pt x="161093" y="18714"/>
                  </a:lnTo>
                  <a:lnTo>
                    <a:pt x="167509" y="17522"/>
                  </a:lnTo>
                  <a:lnTo>
                    <a:pt x="173479" y="16728"/>
                  </a:lnTo>
                  <a:lnTo>
                    <a:pt x="179153" y="16199"/>
                  </a:lnTo>
                  <a:lnTo>
                    <a:pt x="184628" y="15845"/>
                  </a:lnTo>
                  <a:lnTo>
                    <a:pt x="189973" y="15610"/>
                  </a:lnTo>
                  <a:lnTo>
                    <a:pt x="195229" y="15453"/>
                  </a:lnTo>
                  <a:lnTo>
                    <a:pt x="199579" y="14502"/>
                  </a:lnTo>
                  <a:lnTo>
                    <a:pt x="209748" y="9964"/>
                  </a:lnTo>
                  <a:lnTo>
                    <a:pt x="215423" y="8606"/>
                  </a:lnTo>
                  <a:lnTo>
                    <a:pt x="220768" y="5744"/>
                  </a:lnTo>
                  <a:lnTo>
                    <a:pt x="227053" y="1053"/>
                  </a:lnTo>
                  <a:lnTo>
                    <a:pt x="230170" y="412"/>
                  </a:lnTo>
                  <a:lnTo>
                    <a:pt x="235025" y="0"/>
                  </a:lnTo>
                  <a:lnTo>
                    <a:pt x="234577" y="813"/>
                  </a:lnTo>
                  <a:lnTo>
                    <a:pt x="231821" y="3974"/>
                  </a:lnTo>
                  <a:lnTo>
                    <a:pt x="230747" y="6002"/>
                  </a:lnTo>
                  <a:lnTo>
                    <a:pt x="228390" y="12902"/>
                  </a:lnTo>
                  <a:lnTo>
                    <a:pt x="222705" y="20309"/>
                  </a:lnTo>
                  <a:lnTo>
                    <a:pt x="215659" y="28712"/>
                  </a:lnTo>
                  <a:lnTo>
                    <a:pt x="210713" y="36976"/>
                  </a:lnTo>
                  <a:lnTo>
                    <a:pt x="203435" y="44035"/>
                  </a:lnTo>
                  <a:lnTo>
                    <a:pt x="199123" y="47103"/>
                  </a:lnTo>
                  <a:lnTo>
                    <a:pt x="192075" y="55027"/>
                  </a:lnTo>
                  <a:lnTo>
                    <a:pt x="189010" y="59511"/>
                  </a:lnTo>
                  <a:lnTo>
                    <a:pt x="185273" y="64194"/>
                  </a:lnTo>
                  <a:lnTo>
                    <a:pt x="181089" y="69009"/>
                  </a:lnTo>
                  <a:lnTo>
                    <a:pt x="176606" y="73912"/>
                  </a:lnTo>
                  <a:lnTo>
                    <a:pt x="171924" y="79721"/>
                  </a:lnTo>
                  <a:lnTo>
                    <a:pt x="167109" y="86134"/>
                  </a:lnTo>
                  <a:lnTo>
                    <a:pt x="162206" y="92949"/>
                  </a:lnTo>
                  <a:lnTo>
                    <a:pt x="156398" y="99185"/>
                  </a:lnTo>
                  <a:lnTo>
                    <a:pt x="149985" y="105037"/>
                  </a:lnTo>
                  <a:lnTo>
                    <a:pt x="143170" y="110631"/>
                  </a:lnTo>
                  <a:lnTo>
                    <a:pt x="136933" y="116900"/>
                  </a:lnTo>
                  <a:lnTo>
                    <a:pt x="131083" y="123620"/>
                  </a:lnTo>
                  <a:lnTo>
                    <a:pt x="125488" y="130639"/>
                  </a:lnTo>
                  <a:lnTo>
                    <a:pt x="119219" y="137012"/>
                  </a:lnTo>
                  <a:lnTo>
                    <a:pt x="112499" y="142954"/>
                  </a:lnTo>
                  <a:lnTo>
                    <a:pt x="105480" y="148609"/>
                  </a:lnTo>
                  <a:lnTo>
                    <a:pt x="99953" y="154073"/>
                  </a:lnTo>
                  <a:lnTo>
                    <a:pt x="95422" y="159408"/>
                  </a:lnTo>
                  <a:lnTo>
                    <a:pt x="91555" y="164658"/>
                  </a:lnTo>
                  <a:lnTo>
                    <a:pt x="82742" y="177265"/>
                  </a:lnTo>
                  <a:lnTo>
                    <a:pt x="78021" y="184183"/>
                  </a:lnTo>
                  <a:lnTo>
                    <a:pt x="73181" y="190488"/>
                  </a:lnTo>
                  <a:lnTo>
                    <a:pt x="68261" y="196385"/>
                  </a:lnTo>
                  <a:lnTo>
                    <a:pt x="63287" y="202010"/>
                  </a:lnTo>
                  <a:lnTo>
                    <a:pt x="59125" y="207453"/>
                  </a:lnTo>
                  <a:lnTo>
                    <a:pt x="55504" y="212775"/>
                  </a:lnTo>
                  <a:lnTo>
                    <a:pt x="52242" y="218016"/>
                  </a:lnTo>
                  <a:lnTo>
                    <a:pt x="48375" y="223204"/>
                  </a:lnTo>
                  <a:lnTo>
                    <a:pt x="44103" y="228356"/>
                  </a:lnTo>
                  <a:lnTo>
                    <a:pt x="39563" y="233483"/>
                  </a:lnTo>
                  <a:lnTo>
                    <a:pt x="35688" y="238595"/>
                  </a:lnTo>
                  <a:lnTo>
                    <a:pt x="32259" y="243696"/>
                  </a:lnTo>
                  <a:lnTo>
                    <a:pt x="29126" y="248791"/>
                  </a:lnTo>
                  <a:lnTo>
                    <a:pt x="23387" y="256708"/>
                  </a:lnTo>
                  <a:lnTo>
                    <a:pt x="20671" y="260005"/>
                  </a:lnTo>
                  <a:lnTo>
                    <a:pt x="17654" y="265926"/>
                  </a:lnTo>
                  <a:lnTo>
                    <a:pt x="16849" y="268691"/>
                  </a:lnTo>
                  <a:lnTo>
                    <a:pt x="13698" y="274020"/>
                  </a:lnTo>
                  <a:lnTo>
                    <a:pt x="8821" y="280294"/>
                  </a:lnTo>
                  <a:lnTo>
                    <a:pt x="7574" y="280809"/>
                  </a:lnTo>
                  <a:lnTo>
                    <a:pt x="5896" y="281153"/>
                  </a:lnTo>
                  <a:lnTo>
                    <a:pt x="0" y="28183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SMARTInkAnnotation176"/>
            <p:cNvSpPr/>
            <p:nvPr/>
          </p:nvSpPr>
          <p:spPr>
            <a:xfrm>
              <a:off x="3314160" y="4565160"/>
              <a:ext cx="243720" cy="1512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43841" h="15240">
                  <a:moveTo>
                    <a:pt x="0" y="7619"/>
                  </a:moveTo>
                  <a:lnTo>
                    <a:pt x="7306" y="7619"/>
                  </a:lnTo>
                  <a:lnTo>
                    <a:pt x="8257" y="6773"/>
                  </a:lnTo>
                  <a:lnTo>
                    <a:pt x="11573" y="3574"/>
                  </a:lnTo>
                  <a:lnTo>
                    <a:pt x="14488" y="2382"/>
                  </a:lnTo>
                  <a:lnTo>
                    <a:pt x="18126" y="1588"/>
                  </a:lnTo>
                  <a:lnTo>
                    <a:pt x="22244" y="1058"/>
                  </a:lnTo>
                  <a:lnTo>
                    <a:pt x="26682" y="705"/>
                  </a:lnTo>
                  <a:lnTo>
                    <a:pt x="31335" y="470"/>
                  </a:lnTo>
                  <a:lnTo>
                    <a:pt x="41020" y="209"/>
                  </a:lnTo>
                  <a:lnTo>
                    <a:pt x="134593" y="0"/>
                  </a:lnTo>
                  <a:lnTo>
                    <a:pt x="139682" y="846"/>
                  </a:lnTo>
                  <a:lnTo>
                    <a:pt x="144768" y="2257"/>
                  </a:lnTo>
                  <a:lnTo>
                    <a:pt x="149852" y="4045"/>
                  </a:lnTo>
                  <a:lnTo>
                    <a:pt x="155781" y="5236"/>
                  </a:lnTo>
                  <a:lnTo>
                    <a:pt x="162274" y="6031"/>
                  </a:lnTo>
                  <a:lnTo>
                    <a:pt x="174568" y="6913"/>
                  </a:lnTo>
                  <a:lnTo>
                    <a:pt x="182855" y="7305"/>
                  </a:lnTo>
                  <a:lnTo>
                    <a:pt x="191618" y="7479"/>
                  </a:lnTo>
                  <a:lnTo>
                    <a:pt x="229969" y="7617"/>
                  </a:lnTo>
                  <a:lnTo>
                    <a:pt x="232899" y="8464"/>
                  </a:lnTo>
                  <a:lnTo>
                    <a:pt x="235699" y="9876"/>
                  </a:lnTo>
                  <a:lnTo>
                    <a:pt x="243840" y="1523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80008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4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rder of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0" y="990720"/>
            <a:ext cx="784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Evaluate each expression for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 = 2 and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 = 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5"/>
              <p:cNvSpPr txBox="1"/>
              <p:nvPr/>
            </p:nvSpPr>
            <p:spPr>
              <a:xfrm>
                <a:off x="1523880" y="1828800"/>
                <a:ext cx="21337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b</m:t>
                    </m:r>
                    <m:r>
                      <m:t xml:space="preserve">÷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Text Box 7"/>
          <p:cNvSpPr/>
          <p:nvPr/>
        </p:nvSpPr>
        <p:spPr>
          <a:xfrm>
            <a:off x="485640" y="182880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1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6"/>
              <p:cNvSpPr txBox="1"/>
              <p:nvPr/>
            </p:nvSpPr>
            <p:spPr>
              <a:xfrm>
                <a:off x="1523880" y="4191120"/>
                <a:ext cx="27432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Text Box 8"/>
          <p:cNvSpPr/>
          <p:nvPr/>
        </p:nvSpPr>
        <p:spPr>
          <a:xfrm>
            <a:off x="533520" y="430992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1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MARTInkAnnotation56"/>
          <p:cNvSpPr/>
          <p:nvPr/>
        </p:nvSpPr>
        <p:spPr>
          <a:xfrm>
            <a:off x="1828800" y="1379520"/>
            <a:ext cx="2697120" cy="563760"/>
          </a:xfrm>
          <a:custGeom>
            <a:avLst/>
            <a:gdLst>
              <a:gd name="textAreaLeft" fmla="*/ 0 w 2697120"/>
              <a:gd name="textAreaRight" fmla="*/ 2697480 w 269712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2697481" h="563881">
                <a:moveTo>
                  <a:pt x="2697480" y="0"/>
                </a:moveTo>
                <a:lnTo>
                  <a:pt x="2693435" y="0"/>
                </a:lnTo>
                <a:lnTo>
                  <a:pt x="2692243" y="847"/>
                </a:lnTo>
                <a:lnTo>
                  <a:pt x="2691449" y="2258"/>
                </a:lnTo>
                <a:lnTo>
                  <a:pt x="2690919" y="4045"/>
                </a:lnTo>
                <a:lnTo>
                  <a:pt x="2688073" y="8289"/>
                </a:lnTo>
                <a:lnTo>
                  <a:pt x="2677771" y="20408"/>
                </a:lnTo>
                <a:lnTo>
                  <a:pt x="2676021" y="25439"/>
                </a:lnTo>
                <a:lnTo>
                  <a:pt x="2674707" y="27119"/>
                </a:lnTo>
                <a:lnTo>
                  <a:pt x="2672985" y="28240"/>
                </a:lnTo>
                <a:lnTo>
                  <a:pt x="2670989" y="28986"/>
                </a:lnTo>
                <a:lnTo>
                  <a:pt x="2668813" y="31178"/>
                </a:lnTo>
                <a:lnTo>
                  <a:pt x="2656744" y="47516"/>
                </a:lnTo>
                <a:lnTo>
                  <a:pt x="2654236" y="49457"/>
                </a:lnTo>
                <a:lnTo>
                  <a:pt x="2593301" y="78766"/>
                </a:lnTo>
                <a:lnTo>
                  <a:pt x="2583163" y="81574"/>
                </a:lnTo>
                <a:lnTo>
                  <a:pt x="2573013" y="83668"/>
                </a:lnTo>
                <a:lnTo>
                  <a:pt x="2537460" y="96942"/>
                </a:lnTo>
                <a:lnTo>
                  <a:pt x="2527300" y="98965"/>
                </a:lnTo>
                <a:lnTo>
                  <a:pt x="2511213" y="104018"/>
                </a:lnTo>
                <a:lnTo>
                  <a:pt x="2430049" y="119307"/>
                </a:lnTo>
                <a:lnTo>
                  <a:pt x="2347418" y="127906"/>
                </a:lnTo>
                <a:lnTo>
                  <a:pt x="2271242" y="131755"/>
                </a:lnTo>
                <a:lnTo>
                  <a:pt x="2248044" y="135559"/>
                </a:lnTo>
                <a:lnTo>
                  <a:pt x="2169917" y="137118"/>
                </a:lnTo>
                <a:lnTo>
                  <a:pt x="1902451" y="137160"/>
                </a:lnTo>
                <a:lnTo>
                  <a:pt x="1821179" y="130011"/>
                </a:lnTo>
                <a:lnTo>
                  <a:pt x="1743499" y="129568"/>
                </a:lnTo>
                <a:lnTo>
                  <a:pt x="1663621" y="128695"/>
                </a:lnTo>
                <a:lnTo>
                  <a:pt x="1627364" y="125150"/>
                </a:lnTo>
                <a:lnTo>
                  <a:pt x="1551872" y="129043"/>
                </a:lnTo>
                <a:lnTo>
                  <a:pt x="1415500" y="129534"/>
                </a:lnTo>
                <a:lnTo>
                  <a:pt x="1336327" y="136100"/>
                </a:lnTo>
                <a:lnTo>
                  <a:pt x="1259865" y="137067"/>
                </a:lnTo>
                <a:lnTo>
                  <a:pt x="1179597" y="141197"/>
                </a:lnTo>
                <a:lnTo>
                  <a:pt x="1082939" y="145417"/>
                </a:lnTo>
                <a:lnTo>
                  <a:pt x="1005205" y="151676"/>
                </a:lnTo>
                <a:lnTo>
                  <a:pt x="928114" y="153183"/>
                </a:lnTo>
                <a:lnTo>
                  <a:pt x="845359" y="159546"/>
                </a:lnTo>
                <a:lnTo>
                  <a:pt x="809841" y="162137"/>
                </a:lnTo>
                <a:lnTo>
                  <a:pt x="744688" y="167157"/>
                </a:lnTo>
                <a:lnTo>
                  <a:pt x="664300" y="171657"/>
                </a:lnTo>
                <a:lnTo>
                  <a:pt x="589508" y="180286"/>
                </a:lnTo>
                <a:lnTo>
                  <a:pt x="512054" y="189340"/>
                </a:lnTo>
                <a:lnTo>
                  <a:pt x="434693" y="204337"/>
                </a:lnTo>
                <a:lnTo>
                  <a:pt x="367363" y="221124"/>
                </a:lnTo>
                <a:lnTo>
                  <a:pt x="327871" y="232852"/>
                </a:lnTo>
                <a:lnTo>
                  <a:pt x="304863" y="236915"/>
                </a:lnTo>
                <a:lnTo>
                  <a:pt x="270754" y="253255"/>
                </a:lnTo>
                <a:lnTo>
                  <a:pt x="232332" y="269175"/>
                </a:lnTo>
                <a:lnTo>
                  <a:pt x="196720" y="284474"/>
                </a:lnTo>
                <a:lnTo>
                  <a:pt x="184515" y="291815"/>
                </a:lnTo>
                <a:lnTo>
                  <a:pt x="157695" y="309174"/>
                </a:lnTo>
                <a:lnTo>
                  <a:pt x="132109" y="322487"/>
                </a:lnTo>
                <a:lnTo>
                  <a:pt x="124190" y="329876"/>
                </a:lnTo>
                <a:lnTo>
                  <a:pt x="120894" y="334218"/>
                </a:lnTo>
                <a:lnTo>
                  <a:pt x="112715" y="341299"/>
                </a:lnTo>
                <a:lnTo>
                  <a:pt x="97712" y="352744"/>
                </a:lnTo>
                <a:lnTo>
                  <a:pt x="85749" y="368394"/>
                </a:lnTo>
                <a:lnTo>
                  <a:pt x="67130" y="383218"/>
                </a:lnTo>
                <a:lnTo>
                  <a:pt x="56096" y="398873"/>
                </a:lnTo>
                <a:lnTo>
                  <a:pt x="45763" y="413254"/>
                </a:lnTo>
                <a:lnTo>
                  <a:pt x="38113" y="424988"/>
                </a:lnTo>
                <a:lnTo>
                  <a:pt x="35568" y="428106"/>
                </a:lnTo>
                <a:lnTo>
                  <a:pt x="32742" y="433827"/>
                </a:lnTo>
                <a:lnTo>
                  <a:pt x="31988" y="436538"/>
                </a:lnTo>
                <a:lnTo>
                  <a:pt x="28892" y="441808"/>
                </a:lnTo>
                <a:lnTo>
                  <a:pt x="26882" y="444399"/>
                </a:lnTo>
                <a:lnTo>
                  <a:pt x="25541" y="447819"/>
                </a:lnTo>
                <a:lnTo>
                  <a:pt x="22808" y="459877"/>
                </a:lnTo>
                <a:lnTo>
                  <a:pt x="17858" y="469188"/>
                </a:lnTo>
                <a:lnTo>
                  <a:pt x="16404" y="474664"/>
                </a:lnTo>
                <a:lnTo>
                  <a:pt x="14623" y="490314"/>
                </a:lnTo>
                <a:lnTo>
                  <a:pt x="9254" y="502437"/>
                </a:lnTo>
                <a:lnTo>
                  <a:pt x="7943" y="512985"/>
                </a:lnTo>
                <a:lnTo>
                  <a:pt x="7648" y="528312"/>
                </a:lnTo>
                <a:lnTo>
                  <a:pt x="6792" y="530854"/>
                </a:lnTo>
                <a:lnTo>
                  <a:pt x="2389" y="538478"/>
                </a:lnTo>
                <a:lnTo>
                  <a:pt x="315" y="547135"/>
                </a:lnTo>
                <a:lnTo>
                  <a:pt x="0" y="5638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MARTInkAnnotation57"/>
          <p:cNvSpPr/>
          <p:nvPr/>
        </p:nvSpPr>
        <p:spPr>
          <a:xfrm>
            <a:off x="2873520" y="1341360"/>
            <a:ext cx="3047760" cy="617760"/>
          </a:xfrm>
          <a:custGeom>
            <a:avLst/>
            <a:gdLst>
              <a:gd name="textAreaLeft" fmla="*/ 0 w 3047760"/>
              <a:gd name="textAreaRight" fmla="*/ 3048120 w 3047760"/>
              <a:gd name="textAreaTop" fmla="*/ 0 h 617760"/>
              <a:gd name="textAreaBottom" fmla="*/ 618120 h 617760"/>
            </a:gdLst>
            <a:ahLst/>
            <a:rect l="textAreaLeft" t="textAreaTop" r="textAreaRight" b="textAreaBottom"/>
            <a:pathLst>
              <a:path w="3048002" h="617221">
                <a:moveTo>
                  <a:pt x="3048001" y="0"/>
                </a:moveTo>
                <a:lnTo>
                  <a:pt x="3048001" y="4045"/>
                </a:lnTo>
                <a:lnTo>
                  <a:pt x="3047154" y="5237"/>
                </a:lnTo>
                <a:lnTo>
                  <a:pt x="3045743" y="6031"/>
                </a:lnTo>
                <a:lnTo>
                  <a:pt x="3043955" y="6561"/>
                </a:lnTo>
                <a:lnTo>
                  <a:pt x="3042764" y="7760"/>
                </a:lnTo>
                <a:lnTo>
                  <a:pt x="3041969" y="9407"/>
                </a:lnTo>
                <a:lnTo>
                  <a:pt x="3041087" y="13494"/>
                </a:lnTo>
                <a:lnTo>
                  <a:pt x="3040695" y="18133"/>
                </a:lnTo>
                <a:lnTo>
                  <a:pt x="3039743" y="20555"/>
                </a:lnTo>
                <a:lnTo>
                  <a:pt x="3036428" y="25505"/>
                </a:lnTo>
                <a:lnTo>
                  <a:pt x="3034391" y="32784"/>
                </a:lnTo>
                <a:lnTo>
                  <a:pt x="3032638" y="41664"/>
                </a:lnTo>
                <a:lnTo>
                  <a:pt x="3026872" y="58905"/>
                </a:lnTo>
                <a:lnTo>
                  <a:pt x="3025064" y="65973"/>
                </a:lnTo>
                <a:lnTo>
                  <a:pt x="3019285" y="78626"/>
                </a:lnTo>
                <a:lnTo>
                  <a:pt x="3014636" y="85181"/>
                </a:lnTo>
                <a:lnTo>
                  <a:pt x="3013058" y="88960"/>
                </a:lnTo>
                <a:lnTo>
                  <a:pt x="3008266" y="107194"/>
                </a:lnTo>
                <a:lnTo>
                  <a:pt x="3001796" y="122072"/>
                </a:lnTo>
                <a:lnTo>
                  <a:pt x="2994517" y="137205"/>
                </a:lnTo>
                <a:lnTo>
                  <a:pt x="2988670" y="147340"/>
                </a:lnTo>
                <a:lnTo>
                  <a:pt x="2980427" y="157489"/>
                </a:lnTo>
                <a:lnTo>
                  <a:pt x="2971119" y="165386"/>
                </a:lnTo>
                <a:lnTo>
                  <a:pt x="2966266" y="168678"/>
                </a:lnTo>
                <a:lnTo>
                  <a:pt x="2958616" y="176850"/>
                </a:lnTo>
                <a:lnTo>
                  <a:pt x="2942762" y="195894"/>
                </a:lnTo>
                <a:lnTo>
                  <a:pt x="2930954" y="203622"/>
                </a:lnTo>
                <a:lnTo>
                  <a:pt x="2902678" y="219527"/>
                </a:lnTo>
                <a:lnTo>
                  <a:pt x="2857452" y="238410"/>
                </a:lnTo>
                <a:lnTo>
                  <a:pt x="2803311" y="257366"/>
                </a:lnTo>
                <a:lnTo>
                  <a:pt x="2755454" y="275798"/>
                </a:lnTo>
                <a:lnTo>
                  <a:pt x="2684754" y="294578"/>
                </a:lnTo>
                <a:lnTo>
                  <a:pt x="2605370" y="312416"/>
                </a:lnTo>
                <a:lnTo>
                  <a:pt x="2511328" y="328350"/>
                </a:lnTo>
                <a:lnTo>
                  <a:pt x="2458858" y="339524"/>
                </a:lnTo>
                <a:lnTo>
                  <a:pt x="2367561" y="353309"/>
                </a:lnTo>
                <a:lnTo>
                  <a:pt x="2284743" y="361761"/>
                </a:lnTo>
                <a:lnTo>
                  <a:pt x="2187007" y="370763"/>
                </a:lnTo>
                <a:lnTo>
                  <a:pt x="2083590" y="379258"/>
                </a:lnTo>
                <a:lnTo>
                  <a:pt x="1996064" y="383105"/>
                </a:lnTo>
                <a:lnTo>
                  <a:pt x="1910999" y="388136"/>
                </a:lnTo>
                <a:lnTo>
                  <a:pt x="1821038" y="394609"/>
                </a:lnTo>
                <a:lnTo>
                  <a:pt x="1733501" y="396097"/>
                </a:lnTo>
                <a:lnTo>
                  <a:pt x="1629841" y="396232"/>
                </a:lnTo>
                <a:lnTo>
                  <a:pt x="1545728" y="389679"/>
                </a:lnTo>
                <a:lnTo>
                  <a:pt x="1461882" y="384668"/>
                </a:lnTo>
                <a:lnTo>
                  <a:pt x="1369289" y="375978"/>
                </a:lnTo>
                <a:lnTo>
                  <a:pt x="1280174" y="365243"/>
                </a:lnTo>
                <a:lnTo>
                  <a:pt x="1191261" y="354511"/>
                </a:lnTo>
                <a:lnTo>
                  <a:pt x="1107597" y="342993"/>
                </a:lnTo>
                <a:lnTo>
                  <a:pt x="1014848" y="329070"/>
                </a:lnTo>
                <a:lnTo>
                  <a:pt x="927536" y="314535"/>
                </a:lnTo>
                <a:lnTo>
                  <a:pt x="895432" y="310789"/>
                </a:lnTo>
                <a:lnTo>
                  <a:pt x="865318" y="306575"/>
                </a:lnTo>
                <a:lnTo>
                  <a:pt x="775762" y="295439"/>
                </a:lnTo>
                <a:lnTo>
                  <a:pt x="685762" y="283682"/>
                </a:lnTo>
                <a:lnTo>
                  <a:pt x="590761" y="281970"/>
                </a:lnTo>
                <a:lnTo>
                  <a:pt x="464923" y="281940"/>
                </a:lnTo>
                <a:lnTo>
                  <a:pt x="383259" y="291678"/>
                </a:lnTo>
                <a:lnTo>
                  <a:pt x="350719" y="302728"/>
                </a:lnTo>
                <a:lnTo>
                  <a:pt x="345573" y="303419"/>
                </a:lnTo>
                <a:lnTo>
                  <a:pt x="337597" y="306444"/>
                </a:lnTo>
                <a:lnTo>
                  <a:pt x="303074" y="327703"/>
                </a:lnTo>
                <a:lnTo>
                  <a:pt x="291307" y="335293"/>
                </a:lnTo>
                <a:lnTo>
                  <a:pt x="280200" y="342904"/>
                </a:lnTo>
                <a:lnTo>
                  <a:pt x="268442" y="350521"/>
                </a:lnTo>
                <a:lnTo>
                  <a:pt x="265322" y="353061"/>
                </a:lnTo>
                <a:lnTo>
                  <a:pt x="259597" y="360398"/>
                </a:lnTo>
                <a:lnTo>
                  <a:pt x="249022" y="374861"/>
                </a:lnTo>
                <a:lnTo>
                  <a:pt x="233689" y="391067"/>
                </a:lnTo>
                <a:lnTo>
                  <a:pt x="220982" y="409879"/>
                </a:lnTo>
                <a:lnTo>
                  <a:pt x="206776" y="425369"/>
                </a:lnTo>
                <a:lnTo>
                  <a:pt x="192900" y="438651"/>
                </a:lnTo>
                <a:lnTo>
                  <a:pt x="184229" y="444158"/>
                </a:lnTo>
                <a:lnTo>
                  <a:pt x="176989" y="451686"/>
                </a:lnTo>
                <a:lnTo>
                  <a:pt x="162788" y="470021"/>
                </a:lnTo>
                <a:lnTo>
                  <a:pt x="157581" y="478703"/>
                </a:lnTo>
                <a:lnTo>
                  <a:pt x="150187" y="485948"/>
                </a:lnTo>
                <a:lnTo>
                  <a:pt x="121726" y="505026"/>
                </a:lnTo>
                <a:lnTo>
                  <a:pt x="101732" y="523361"/>
                </a:lnTo>
                <a:lnTo>
                  <a:pt x="88187" y="535882"/>
                </a:lnTo>
                <a:lnTo>
                  <a:pt x="63595" y="553492"/>
                </a:lnTo>
                <a:lnTo>
                  <a:pt x="54793" y="558699"/>
                </a:lnTo>
                <a:lnTo>
                  <a:pt x="47495" y="566093"/>
                </a:lnTo>
                <a:lnTo>
                  <a:pt x="44364" y="570435"/>
                </a:lnTo>
                <a:lnTo>
                  <a:pt x="36369" y="577518"/>
                </a:lnTo>
                <a:lnTo>
                  <a:pt x="18556" y="591609"/>
                </a:lnTo>
                <a:lnTo>
                  <a:pt x="5182" y="604492"/>
                </a:lnTo>
                <a:lnTo>
                  <a:pt x="3455" y="607042"/>
                </a:lnTo>
                <a:lnTo>
                  <a:pt x="0" y="6172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MARTInkAnnotation58"/>
          <p:cNvSpPr/>
          <p:nvPr/>
        </p:nvSpPr>
        <p:spPr>
          <a:xfrm>
            <a:off x="1227240" y="2454120"/>
            <a:ext cx="152280" cy="141480"/>
          </a:xfrm>
          <a:custGeom>
            <a:avLst/>
            <a:gdLst>
              <a:gd name="textAreaLeft" fmla="*/ 0 w 152280"/>
              <a:gd name="textAreaRight" fmla="*/ 152640 w 15228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152362" h="141315">
                <a:moveTo>
                  <a:pt x="45681" y="0"/>
                </a:moveTo>
                <a:lnTo>
                  <a:pt x="41636" y="0"/>
                </a:lnTo>
                <a:lnTo>
                  <a:pt x="40444" y="846"/>
                </a:lnTo>
                <a:lnTo>
                  <a:pt x="39650" y="2258"/>
                </a:lnTo>
                <a:lnTo>
                  <a:pt x="38767" y="6083"/>
                </a:lnTo>
                <a:lnTo>
                  <a:pt x="38532" y="8289"/>
                </a:lnTo>
                <a:lnTo>
                  <a:pt x="38375" y="10606"/>
                </a:lnTo>
                <a:lnTo>
                  <a:pt x="38270" y="12997"/>
                </a:lnTo>
                <a:lnTo>
                  <a:pt x="38154" y="17912"/>
                </a:lnTo>
                <a:lnTo>
                  <a:pt x="37277" y="20408"/>
                </a:lnTo>
                <a:lnTo>
                  <a:pt x="35845" y="22919"/>
                </a:lnTo>
                <a:lnTo>
                  <a:pt x="34043" y="25439"/>
                </a:lnTo>
                <a:lnTo>
                  <a:pt x="32843" y="28813"/>
                </a:lnTo>
                <a:lnTo>
                  <a:pt x="32042" y="32755"/>
                </a:lnTo>
                <a:lnTo>
                  <a:pt x="31508" y="37077"/>
                </a:lnTo>
                <a:lnTo>
                  <a:pt x="31153" y="40804"/>
                </a:lnTo>
                <a:lnTo>
                  <a:pt x="30915" y="44136"/>
                </a:lnTo>
                <a:lnTo>
                  <a:pt x="30757" y="47204"/>
                </a:lnTo>
                <a:lnTo>
                  <a:pt x="29806" y="50943"/>
                </a:lnTo>
                <a:lnTo>
                  <a:pt x="28324" y="55129"/>
                </a:lnTo>
                <a:lnTo>
                  <a:pt x="26489" y="59612"/>
                </a:lnTo>
                <a:lnTo>
                  <a:pt x="24420" y="63448"/>
                </a:lnTo>
                <a:lnTo>
                  <a:pt x="22194" y="66852"/>
                </a:lnTo>
                <a:lnTo>
                  <a:pt x="19863" y="69968"/>
                </a:lnTo>
                <a:lnTo>
                  <a:pt x="17462" y="73739"/>
                </a:lnTo>
                <a:lnTo>
                  <a:pt x="15015" y="77946"/>
                </a:lnTo>
                <a:lnTo>
                  <a:pt x="12537" y="82444"/>
                </a:lnTo>
                <a:lnTo>
                  <a:pt x="7526" y="91958"/>
                </a:lnTo>
                <a:lnTo>
                  <a:pt x="5005" y="96865"/>
                </a:lnTo>
                <a:lnTo>
                  <a:pt x="3323" y="100983"/>
                </a:lnTo>
                <a:lnTo>
                  <a:pt x="2203" y="104576"/>
                </a:lnTo>
                <a:lnTo>
                  <a:pt x="1455" y="107817"/>
                </a:lnTo>
                <a:lnTo>
                  <a:pt x="957" y="110825"/>
                </a:lnTo>
                <a:lnTo>
                  <a:pt x="625" y="113677"/>
                </a:lnTo>
                <a:lnTo>
                  <a:pt x="404" y="116424"/>
                </a:lnTo>
                <a:lnTo>
                  <a:pt x="256" y="119103"/>
                </a:lnTo>
                <a:lnTo>
                  <a:pt x="0" y="127998"/>
                </a:lnTo>
                <a:lnTo>
                  <a:pt x="2236" y="131113"/>
                </a:lnTo>
                <a:lnTo>
                  <a:pt x="4018" y="133128"/>
                </a:lnTo>
                <a:lnTo>
                  <a:pt x="6052" y="134472"/>
                </a:lnTo>
                <a:lnTo>
                  <a:pt x="10571" y="135966"/>
                </a:lnTo>
                <a:lnTo>
                  <a:pt x="13808" y="137210"/>
                </a:lnTo>
                <a:lnTo>
                  <a:pt x="17659" y="138887"/>
                </a:lnTo>
                <a:lnTo>
                  <a:pt x="21920" y="140851"/>
                </a:lnTo>
                <a:lnTo>
                  <a:pt x="25607" y="141314"/>
                </a:lnTo>
                <a:lnTo>
                  <a:pt x="28912" y="140776"/>
                </a:lnTo>
                <a:lnTo>
                  <a:pt x="31961" y="139571"/>
                </a:lnTo>
                <a:lnTo>
                  <a:pt x="36535" y="138767"/>
                </a:lnTo>
                <a:lnTo>
                  <a:pt x="42123" y="138231"/>
                </a:lnTo>
                <a:lnTo>
                  <a:pt x="48389" y="137874"/>
                </a:lnTo>
                <a:lnTo>
                  <a:pt x="62125" y="137477"/>
                </a:lnTo>
                <a:lnTo>
                  <a:pt x="69344" y="137372"/>
                </a:lnTo>
                <a:lnTo>
                  <a:pt x="75850" y="136455"/>
                </a:lnTo>
                <a:lnTo>
                  <a:pt x="81880" y="134996"/>
                </a:lnTo>
                <a:lnTo>
                  <a:pt x="87594" y="133178"/>
                </a:lnTo>
                <a:lnTo>
                  <a:pt x="93096" y="131965"/>
                </a:lnTo>
                <a:lnTo>
                  <a:pt x="98458" y="131157"/>
                </a:lnTo>
                <a:lnTo>
                  <a:pt x="103726" y="130618"/>
                </a:lnTo>
                <a:lnTo>
                  <a:pt x="109777" y="129412"/>
                </a:lnTo>
                <a:lnTo>
                  <a:pt x="116352" y="127761"/>
                </a:lnTo>
                <a:lnTo>
                  <a:pt x="123275" y="125814"/>
                </a:lnTo>
                <a:lnTo>
                  <a:pt x="129584" y="123670"/>
                </a:lnTo>
                <a:lnTo>
                  <a:pt x="135483" y="121393"/>
                </a:lnTo>
                <a:lnTo>
                  <a:pt x="152361" y="1143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MARTInkAnnotation59"/>
          <p:cNvSpPr/>
          <p:nvPr/>
        </p:nvSpPr>
        <p:spPr>
          <a:xfrm>
            <a:off x="1363680" y="2460600"/>
            <a:ext cx="61920" cy="312840"/>
          </a:xfrm>
          <a:custGeom>
            <a:avLst/>
            <a:gdLst>
              <a:gd name="textAreaLeft" fmla="*/ 0 w 61920"/>
              <a:gd name="textAreaRight" fmla="*/ 62280 w 61920"/>
              <a:gd name="textAreaTop" fmla="*/ 0 h 312840"/>
              <a:gd name="textAreaBottom" fmla="*/ 313200 h 312840"/>
            </a:gdLst>
            <a:ahLst/>
            <a:rect l="textAreaLeft" t="textAreaTop" r="textAreaRight" b="textAreaBottom"/>
            <a:pathLst>
              <a:path w="60961" h="312421">
                <a:moveTo>
                  <a:pt x="60960" y="0"/>
                </a:moveTo>
                <a:lnTo>
                  <a:pt x="60960" y="6561"/>
                </a:lnTo>
                <a:lnTo>
                  <a:pt x="60114" y="8607"/>
                </a:lnTo>
                <a:lnTo>
                  <a:pt x="58702" y="11665"/>
                </a:lnTo>
                <a:lnTo>
                  <a:pt x="56915" y="15397"/>
                </a:lnTo>
                <a:lnTo>
                  <a:pt x="56570" y="19578"/>
                </a:lnTo>
                <a:lnTo>
                  <a:pt x="58445" y="28739"/>
                </a:lnTo>
                <a:lnTo>
                  <a:pt x="58436" y="33553"/>
                </a:lnTo>
                <a:lnTo>
                  <a:pt x="57584" y="38455"/>
                </a:lnTo>
                <a:lnTo>
                  <a:pt x="56170" y="43417"/>
                </a:lnTo>
                <a:lnTo>
                  <a:pt x="55226" y="49265"/>
                </a:lnTo>
                <a:lnTo>
                  <a:pt x="54598" y="55703"/>
                </a:lnTo>
                <a:lnTo>
                  <a:pt x="54178" y="62536"/>
                </a:lnTo>
                <a:lnTo>
                  <a:pt x="53052" y="68784"/>
                </a:lnTo>
                <a:lnTo>
                  <a:pt x="51455" y="74642"/>
                </a:lnTo>
                <a:lnTo>
                  <a:pt x="42808" y="100258"/>
                </a:lnTo>
                <a:lnTo>
                  <a:pt x="41239" y="107479"/>
                </a:lnTo>
                <a:lnTo>
                  <a:pt x="40192" y="114832"/>
                </a:lnTo>
                <a:lnTo>
                  <a:pt x="39495" y="122275"/>
                </a:lnTo>
                <a:lnTo>
                  <a:pt x="38183" y="129777"/>
                </a:lnTo>
                <a:lnTo>
                  <a:pt x="36462" y="137318"/>
                </a:lnTo>
                <a:lnTo>
                  <a:pt x="34468" y="144885"/>
                </a:lnTo>
                <a:lnTo>
                  <a:pt x="32292" y="152470"/>
                </a:lnTo>
                <a:lnTo>
                  <a:pt x="27616" y="167671"/>
                </a:lnTo>
                <a:lnTo>
                  <a:pt x="20224" y="190510"/>
                </a:lnTo>
                <a:lnTo>
                  <a:pt x="18563" y="198126"/>
                </a:lnTo>
                <a:lnTo>
                  <a:pt x="17455" y="205744"/>
                </a:lnTo>
                <a:lnTo>
                  <a:pt x="16717" y="213363"/>
                </a:lnTo>
                <a:lnTo>
                  <a:pt x="16225" y="220135"/>
                </a:lnTo>
                <a:lnTo>
                  <a:pt x="15897" y="226343"/>
                </a:lnTo>
                <a:lnTo>
                  <a:pt x="15678" y="232176"/>
                </a:lnTo>
                <a:lnTo>
                  <a:pt x="14685" y="238604"/>
                </a:lnTo>
                <a:lnTo>
                  <a:pt x="13177" y="245429"/>
                </a:lnTo>
                <a:lnTo>
                  <a:pt x="11325" y="252519"/>
                </a:lnTo>
                <a:lnTo>
                  <a:pt x="10090" y="258939"/>
                </a:lnTo>
                <a:lnTo>
                  <a:pt x="9267" y="264913"/>
                </a:lnTo>
                <a:lnTo>
                  <a:pt x="8718" y="270589"/>
                </a:lnTo>
                <a:lnTo>
                  <a:pt x="7505" y="276066"/>
                </a:lnTo>
                <a:lnTo>
                  <a:pt x="5850" y="281411"/>
                </a:lnTo>
                <a:lnTo>
                  <a:pt x="3900" y="286667"/>
                </a:lnTo>
                <a:lnTo>
                  <a:pt x="2600" y="291018"/>
                </a:lnTo>
                <a:lnTo>
                  <a:pt x="1156" y="298111"/>
                </a:lnTo>
                <a:lnTo>
                  <a:pt x="342" y="306863"/>
                </a:lnTo>
                <a:lnTo>
                  <a:pt x="0" y="3124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MARTInkAnnotation60"/>
          <p:cNvSpPr/>
          <p:nvPr/>
        </p:nvSpPr>
        <p:spPr>
          <a:xfrm>
            <a:off x="1562040" y="2408400"/>
            <a:ext cx="190440" cy="403200"/>
          </a:xfrm>
          <a:custGeom>
            <a:avLst/>
            <a:gdLst>
              <a:gd name="textAreaLeft" fmla="*/ 0 w 190440"/>
              <a:gd name="textAreaRight" fmla="*/ 190800 w 19044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190371" h="403861">
                <a:moveTo>
                  <a:pt x="37970" y="0"/>
                </a:moveTo>
                <a:lnTo>
                  <a:pt x="37970" y="6561"/>
                </a:lnTo>
                <a:lnTo>
                  <a:pt x="33925" y="11352"/>
                </a:lnTo>
                <a:lnTo>
                  <a:pt x="32733" y="14341"/>
                </a:lnTo>
                <a:lnTo>
                  <a:pt x="30210" y="25792"/>
                </a:lnTo>
                <a:lnTo>
                  <a:pt x="25322" y="35771"/>
                </a:lnTo>
                <a:lnTo>
                  <a:pt x="23882" y="44403"/>
                </a:lnTo>
                <a:lnTo>
                  <a:pt x="20984" y="56141"/>
                </a:lnTo>
                <a:lnTo>
                  <a:pt x="16874" y="69825"/>
                </a:lnTo>
                <a:lnTo>
                  <a:pt x="4848" y="106844"/>
                </a:lnTo>
                <a:lnTo>
                  <a:pt x="3189" y="114410"/>
                </a:lnTo>
                <a:lnTo>
                  <a:pt x="2083" y="121993"/>
                </a:lnTo>
                <a:lnTo>
                  <a:pt x="1345" y="129589"/>
                </a:lnTo>
                <a:lnTo>
                  <a:pt x="853" y="138039"/>
                </a:lnTo>
                <a:lnTo>
                  <a:pt x="307" y="156460"/>
                </a:lnTo>
                <a:lnTo>
                  <a:pt x="0" y="185871"/>
                </a:lnTo>
                <a:lnTo>
                  <a:pt x="803" y="195034"/>
                </a:lnTo>
                <a:lnTo>
                  <a:pt x="2185" y="203682"/>
                </a:lnTo>
                <a:lnTo>
                  <a:pt x="3954" y="211988"/>
                </a:lnTo>
                <a:lnTo>
                  <a:pt x="5133" y="220912"/>
                </a:lnTo>
                <a:lnTo>
                  <a:pt x="5918" y="230248"/>
                </a:lnTo>
                <a:lnTo>
                  <a:pt x="6442" y="239859"/>
                </a:lnTo>
                <a:lnTo>
                  <a:pt x="7638" y="249652"/>
                </a:lnTo>
                <a:lnTo>
                  <a:pt x="9282" y="259568"/>
                </a:lnTo>
                <a:lnTo>
                  <a:pt x="11225" y="269565"/>
                </a:lnTo>
                <a:lnTo>
                  <a:pt x="14213" y="278771"/>
                </a:lnTo>
                <a:lnTo>
                  <a:pt x="17899" y="287447"/>
                </a:lnTo>
                <a:lnTo>
                  <a:pt x="22049" y="295771"/>
                </a:lnTo>
                <a:lnTo>
                  <a:pt x="26510" y="303861"/>
                </a:lnTo>
                <a:lnTo>
                  <a:pt x="31176" y="311794"/>
                </a:lnTo>
                <a:lnTo>
                  <a:pt x="35981" y="319623"/>
                </a:lnTo>
                <a:lnTo>
                  <a:pt x="41724" y="326535"/>
                </a:lnTo>
                <a:lnTo>
                  <a:pt x="48093" y="332837"/>
                </a:lnTo>
                <a:lnTo>
                  <a:pt x="54879" y="338731"/>
                </a:lnTo>
                <a:lnTo>
                  <a:pt x="61942" y="344354"/>
                </a:lnTo>
                <a:lnTo>
                  <a:pt x="69191" y="349796"/>
                </a:lnTo>
                <a:lnTo>
                  <a:pt x="76564" y="355117"/>
                </a:lnTo>
                <a:lnTo>
                  <a:pt x="84866" y="360358"/>
                </a:lnTo>
                <a:lnTo>
                  <a:pt x="93787" y="365545"/>
                </a:lnTo>
                <a:lnTo>
                  <a:pt x="103122" y="370697"/>
                </a:lnTo>
                <a:lnTo>
                  <a:pt x="111884" y="374978"/>
                </a:lnTo>
                <a:lnTo>
                  <a:pt x="120266" y="378679"/>
                </a:lnTo>
                <a:lnTo>
                  <a:pt x="128394" y="381992"/>
                </a:lnTo>
                <a:lnTo>
                  <a:pt x="138046" y="385048"/>
                </a:lnTo>
                <a:lnTo>
                  <a:pt x="148714" y="387932"/>
                </a:lnTo>
                <a:lnTo>
                  <a:pt x="160059" y="390701"/>
                </a:lnTo>
                <a:lnTo>
                  <a:pt x="168469" y="393394"/>
                </a:lnTo>
                <a:lnTo>
                  <a:pt x="174923" y="396036"/>
                </a:lnTo>
                <a:lnTo>
                  <a:pt x="190370" y="4038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MARTInkAnnotation61"/>
          <p:cNvSpPr/>
          <p:nvPr/>
        </p:nvSpPr>
        <p:spPr>
          <a:xfrm>
            <a:off x="1647720" y="2498760"/>
            <a:ext cx="189000" cy="204840"/>
          </a:xfrm>
          <a:custGeom>
            <a:avLst/>
            <a:gdLst>
              <a:gd name="textAreaLeft" fmla="*/ 0 w 189000"/>
              <a:gd name="textAreaRight" fmla="*/ 189360 w 18900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188519" h="204253">
                <a:moveTo>
                  <a:pt x="13258" y="68538"/>
                </a:moveTo>
                <a:lnTo>
                  <a:pt x="13258" y="64493"/>
                </a:lnTo>
                <a:lnTo>
                  <a:pt x="14104" y="62454"/>
                </a:lnTo>
                <a:lnTo>
                  <a:pt x="19341" y="54694"/>
                </a:lnTo>
                <a:lnTo>
                  <a:pt x="21547" y="50842"/>
                </a:lnTo>
                <a:lnTo>
                  <a:pt x="23864" y="46581"/>
                </a:lnTo>
                <a:lnTo>
                  <a:pt x="26255" y="42893"/>
                </a:lnTo>
                <a:lnTo>
                  <a:pt x="31170" y="36538"/>
                </a:lnTo>
                <a:lnTo>
                  <a:pt x="34513" y="32811"/>
                </a:lnTo>
                <a:lnTo>
                  <a:pt x="42742" y="24155"/>
                </a:lnTo>
                <a:lnTo>
                  <a:pt x="47308" y="20323"/>
                </a:lnTo>
                <a:lnTo>
                  <a:pt x="52044" y="16921"/>
                </a:lnTo>
                <a:lnTo>
                  <a:pt x="56896" y="13807"/>
                </a:lnTo>
                <a:lnTo>
                  <a:pt x="61823" y="10884"/>
                </a:lnTo>
                <a:lnTo>
                  <a:pt x="66801" y="8089"/>
                </a:lnTo>
                <a:lnTo>
                  <a:pt x="71814" y="5379"/>
                </a:lnTo>
                <a:lnTo>
                  <a:pt x="76848" y="3572"/>
                </a:lnTo>
                <a:lnTo>
                  <a:pt x="81898" y="2367"/>
                </a:lnTo>
                <a:lnTo>
                  <a:pt x="86958" y="1564"/>
                </a:lnTo>
                <a:lnTo>
                  <a:pt x="92025" y="1029"/>
                </a:lnTo>
                <a:lnTo>
                  <a:pt x="97096" y="672"/>
                </a:lnTo>
                <a:lnTo>
                  <a:pt x="102170" y="434"/>
                </a:lnTo>
                <a:lnTo>
                  <a:pt x="112324" y="170"/>
                </a:lnTo>
                <a:lnTo>
                  <a:pt x="128594" y="0"/>
                </a:lnTo>
                <a:lnTo>
                  <a:pt x="130788" y="833"/>
                </a:lnTo>
                <a:lnTo>
                  <a:pt x="132252" y="2234"/>
                </a:lnTo>
                <a:lnTo>
                  <a:pt x="134724" y="6050"/>
                </a:lnTo>
                <a:lnTo>
                  <a:pt x="138646" y="10568"/>
                </a:lnTo>
                <a:lnTo>
                  <a:pt x="139183" y="12958"/>
                </a:lnTo>
                <a:lnTo>
                  <a:pt x="138695" y="15398"/>
                </a:lnTo>
                <a:lnTo>
                  <a:pt x="135895" y="21214"/>
                </a:lnTo>
                <a:lnTo>
                  <a:pt x="131828" y="29443"/>
                </a:lnTo>
                <a:lnTo>
                  <a:pt x="129558" y="34855"/>
                </a:lnTo>
                <a:lnTo>
                  <a:pt x="127198" y="41002"/>
                </a:lnTo>
                <a:lnTo>
                  <a:pt x="124778" y="47641"/>
                </a:lnTo>
                <a:lnTo>
                  <a:pt x="120625" y="54607"/>
                </a:lnTo>
                <a:lnTo>
                  <a:pt x="115316" y="61791"/>
                </a:lnTo>
                <a:lnTo>
                  <a:pt x="109236" y="69120"/>
                </a:lnTo>
                <a:lnTo>
                  <a:pt x="102644" y="76546"/>
                </a:lnTo>
                <a:lnTo>
                  <a:pt x="88545" y="91570"/>
                </a:lnTo>
                <a:lnTo>
                  <a:pt x="82076" y="99133"/>
                </a:lnTo>
                <a:lnTo>
                  <a:pt x="76070" y="106715"/>
                </a:lnTo>
                <a:lnTo>
                  <a:pt x="70373" y="114309"/>
                </a:lnTo>
                <a:lnTo>
                  <a:pt x="64034" y="121065"/>
                </a:lnTo>
                <a:lnTo>
                  <a:pt x="57269" y="127263"/>
                </a:lnTo>
                <a:lnTo>
                  <a:pt x="50219" y="133088"/>
                </a:lnTo>
                <a:lnTo>
                  <a:pt x="43825" y="139511"/>
                </a:lnTo>
                <a:lnTo>
                  <a:pt x="37870" y="146334"/>
                </a:lnTo>
                <a:lnTo>
                  <a:pt x="32206" y="153422"/>
                </a:lnTo>
                <a:lnTo>
                  <a:pt x="26736" y="158994"/>
                </a:lnTo>
                <a:lnTo>
                  <a:pt x="21397" y="163555"/>
                </a:lnTo>
                <a:lnTo>
                  <a:pt x="16144" y="167443"/>
                </a:lnTo>
                <a:lnTo>
                  <a:pt x="11795" y="171728"/>
                </a:lnTo>
                <a:lnTo>
                  <a:pt x="8050" y="176278"/>
                </a:lnTo>
                <a:lnTo>
                  <a:pt x="0" y="187657"/>
                </a:lnTo>
                <a:lnTo>
                  <a:pt x="186" y="189437"/>
                </a:lnTo>
                <a:lnTo>
                  <a:pt x="1156" y="191471"/>
                </a:lnTo>
                <a:lnTo>
                  <a:pt x="4493" y="195988"/>
                </a:lnTo>
                <a:lnTo>
                  <a:pt x="8798" y="200818"/>
                </a:lnTo>
                <a:lnTo>
                  <a:pt x="11978" y="202445"/>
                </a:lnTo>
                <a:lnTo>
                  <a:pt x="15791" y="203530"/>
                </a:lnTo>
                <a:lnTo>
                  <a:pt x="20027" y="204252"/>
                </a:lnTo>
                <a:lnTo>
                  <a:pt x="25391" y="203888"/>
                </a:lnTo>
                <a:lnTo>
                  <a:pt x="31507" y="202798"/>
                </a:lnTo>
                <a:lnTo>
                  <a:pt x="38124" y="201225"/>
                </a:lnTo>
                <a:lnTo>
                  <a:pt x="45922" y="200175"/>
                </a:lnTo>
                <a:lnTo>
                  <a:pt x="54507" y="199476"/>
                </a:lnTo>
                <a:lnTo>
                  <a:pt x="63618" y="199010"/>
                </a:lnTo>
                <a:lnTo>
                  <a:pt x="73924" y="197853"/>
                </a:lnTo>
                <a:lnTo>
                  <a:pt x="85029" y="196235"/>
                </a:lnTo>
                <a:lnTo>
                  <a:pt x="96665" y="194309"/>
                </a:lnTo>
                <a:lnTo>
                  <a:pt x="107809" y="191332"/>
                </a:lnTo>
                <a:lnTo>
                  <a:pt x="118626" y="187654"/>
                </a:lnTo>
                <a:lnTo>
                  <a:pt x="129223" y="183509"/>
                </a:lnTo>
                <a:lnTo>
                  <a:pt x="139675" y="179898"/>
                </a:lnTo>
                <a:lnTo>
                  <a:pt x="150029" y="176645"/>
                </a:lnTo>
                <a:lnTo>
                  <a:pt x="160319" y="173629"/>
                </a:lnTo>
                <a:lnTo>
                  <a:pt x="168025" y="170772"/>
                </a:lnTo>
                <a:lnTo>
                  <a:pt x="174010" y="168021"/>
                </a:lnTo>
                <a:lnTo>
                  <a:pt x="188518" y="15997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MARTInkAnnotation62"/>
          <p:cNvSpPr/>
          <p:nvPr/>
        </p:nvSpPr>
        <p:spPr>
          <a:xfrm>
            <a:off x="1790640" y="2408400"/>
            <a:ext cx="204840" cy="425160"/>
          </a:xfrm>
          <a:custGeom>
            <a:avLst/>
            <a:gdLst>
              <a:gd name="textAreaLeft" fmla="*/ 0 w 204840"/>
              <a:gd name="textAreaRight" fmla="*/ 205200 w 204840"/>
              <a:gd name="textAreaTop" fmla="*/ 0 h 425160"/>
              <a:gd name="textAreaBottom" fmla="*/ 425520 h 425160"/>
            </a:gdLst>
            <a:ahLst/>
            <a:rect l="textAreaLeft" t="textAreaTop" r="textAreaRight" b="textAreaBottom"/>
            <a:pathLst>
              <a:path w="205253" h="426260">
                <a:moveTo>
                  <a:pt x="0" y="0"/>
                </a:moveTo>
                <a:lnTo>
                  <a:pt x="0" y="4046"/>
                </a:lnTo>
                <a:lnTo>
                  <a:pt x="847" y="5237"/>
                </a:lnTo>
                <a:lnTo>
                  <a:pt x="2258" y="6031"/>
                </a:lnTo>
                <a:lnTo>
                  <a:pt x="4045" y="6561"/>
                </a:lnTo>
                <a:lnTo>
                  <a:pt x="8289" y="9407"/>
                </a:lnTo>
                <a:lnTo>
                  <a:pt x="12997" y="13495"/>
                </a:lnTo>
                <a:lnTo>
                  <a:pt x="17912" y="18133"/>
                </a:lnTo>
                <a:lnTo>
                  <a:pt x="84306" y="84308"/>
                </a:lnTo>
                <a:lnTo>
                  <a:pt x="91764" y="92612"/>
                </a:lnTo>
                <a:lnTo>
                  <a:pt x="99276" y="101535"/>
                </a:lnTo>
                <a:lnTo>
                  <a:pt x="106824" y="110870"/>
                </a:lnTo>
                <a:lnTo>
                  <a:pt x="113549" y="120480"/>
                </a:lnTo>
                <a:lnTo>
                  <a:pt x="119726" y="130273"/>
                </a:lnTo>
                <a:lnTo>
                  <a:pt x="125537" y="140189"/>
                </a:lnTo>
                <a:lnTo>
                  <a:pt x="131951" y="150186"/>
                </a:lnTo>
                <a:lnTo>
                  <a:pt x="138768" y="160237"/>
                </a:lnTo>
                <a:lnTo>
                  <a:pt x="145852" y="170325"/>
                </a:lnTo>
                <a:lnTo>
                  <a:pt x="152268" y="180437"/>
                </a:lnTo>
                <a:lnTo>
                  <a:pt x="158239" y="190564"/>
                </a:lnTo>
                <a:lnTo>
                  <a:pt x="163912" y="200703"/>
                </a:lnTo>
                <a:lnTo>
                  <a:pt x="174732" y="220999"/>
                </a:lnTo>
                <a:lnTo>
                  <a:pt x="179988" y="231153"/>
                </a:lnTo>
                <a:lnTo>
                  <a:pt x="184339" y="241309"/>
                </a:lnTo>
                <a:lnTo>
                  <a:pt x="188086" y="251466"/>
                </a:lnTo>
                <a:lnTo>
                  <a:pt x="191431" y="261624"/>
                </a:lnTo>
                <a:lnTo>
                  <a:pt x="194507" y="272629"/>
                </a:lnTo>
                <a:lnTo>
                  <a:pt x="197405" y="284199"/>
                </a:lnTo>
                <a:lnTo>
                  <a:pt x="200183" y="296147"/>
                </a:lnTo>
                <a:lnTo>
                  <a:pt x="202036" y="306651"/>
                </a:lnTo>
                <a:lnTo>
                  <a:pt x="203270" y="316194"/>
                </a:lnTo>
                <a:lnTo>
                  <a:pt x="204094" y="325096"/>
                </a:lnTo>
                <a:lnTo>
                  <a:pt x="204642" y="333571"/>
                </a:lnTo>
                <a:lnTo>
                  <a:pt x="205008" y="341761"/>
                </a:lnTo>
                <a:lnTo>
                  <a:pt x="205252" y="349760"/>
                </a:lnTo>
                <a:lnTo>
                  <a:pt x="204568" y="357633"/>
                </a:lnTo>
                <a:lnTo>
                  <a:pt x="203265" y="365422"/>
                </a:lnTo>
                <a:lnTo>
                  <a:pt x="201550" y="373155"/>
                </a:lnTo>
                <a:lnTo>
                  <a:pt x="197387" y="386262"/>
                </a:lnTo>
                <a:lnTo>
                  <a:pt x="195091" y="392128"/>
                </a:lnTo>
                <a:lnTo>
                  <a:pt x="191867" y="396885"/>
                </a:lnTo>
                <a:lnTo>
                  <a:pt x="188025" y="400903"/>
                </a:lnTo>
                <a:lnTo>
                  <a:pt x="183770" y="404429"/>
                </a:lnTo>
                <a:lnTo>
                  <a:pt x="179240" y="407626"/>
                </a:lnTo>
                <a:lnTo>
                  <a:pt x="174526" y="410604"/>
                </a:lnTo>
                <a:lnTo>
                  <a:pt x="169691" y="413436"/>
                </a:lnTo>
                <a:lnTo>
                  <a:pt x="164774" y="416171"/>
                </a:lnTo>
                <a:lnTo>
                  <a:pt x="154795" y="421467"/>
                </a:lnTo>
                <a:lnTo>
                  <a:pt x="149763" y="423218"/>
                </a:lnTo>
                <a:lnTo>
                  <a:pt x="144716" y="424385"/>
                </a:lnTo>
                <a:lnTo>
                  <a:pt x="139657" y="425164"/>
                </a:lnTo>
                <a:lnTo>
                  <a:pt x="134591" y="425683"/>
                </a:lnTo>
                <a:lnTo>
                  <a:pt x="129521" y="426028"/>
                </a:lnTo>
                <a:lnTo>
                  <a:pt x="124447" y="426259"/>
                </a:lnTo>
                <a:lnTo>
                  <a:pt x="121065" y="425566"/>
                </a:lnTo>
                <a:lnTo>
                  <a:pt x="118810" y="424257"/>
                </a:lnTo>
                <a:lnTo>
                  <a:pt x="114300" y="4191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MARTInkAnnotation63"/>
          <p:cNvSpPr/>
          <p:nvPr/>
        </p:nvSpPr>
        <p:spPr>
          <a:xfrm>
            <a:off x="2011320" y="2666880"/>
            <a:ext cx="282600" cy="30240"/>
          </a:xfrm>
          <a:custGeom>
            <a:avLst/>
            <a:gdLst>
              <a:gd name="textAreaLeft" fmla="*/ 0 w 282600"/>
              <a:gd name="textAreaRight" fmla="*/ 282960 w 2826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81941" h="30481">
                <a:moveTo>
                  <a:pt x="0" y="0"/>
                </a:moveTo>
                <a:lnTo>
                  <a:pt x="4045" y="0"/>
                </a:lnTo>
                <a:lnTo>
                  <a:pt x="6930" y="847"/>
                </a:lnTo>
                <a:lnTo>
                  <a:pt x="10547" y="2258"/>
                </a:lnTo>
                <a:lnTo>
                  <a:pt x="14651" y="4045"/>
                </a:lnTo>
                <a:lnTo>
                  <a:pt x="19081" y="5237"/>
                </a:lnTo>
                <a:lnTo>
                  <a:pt x="23727" y="6031"/>
                </a:lnTo>
                <a:lnTo>
                  <a:pt x="28518" y="6561"/>
                </a:lnTo>
                <a:lnTo>
                  <a:pt x="33405" y="6914"/>
                </a:lnTo>
                <a:lnTo>
                  <a:pt x="38357" y="7150"/>
                </a:lnTo>
                <a:lnTo>
                  <a:pt x="49221" y="7411"/>
                </a:lnTo>
                <a:lnTo>
                  <a:pt x="84281" y="7592"/>
                </a:lnTo>
                <a:lnTo>
                  <a:pt x="91747" y="8448"/>
                </a:lnTo>
                <a:lnTo>
                  <a:pt x="99265" y="9866"/>
                </a:lnTo>
                <a:lnTo>
                  <a:pt x="106817" y="11657"/>
                </a:lnTo>
                <a:lnTo>
                  <a:pt x="115238" y="12852"/>
                </a:lnTo>
                <a:lnTo>
                  <a:pt x="124238" y="13647"/>
                </a:lnTo>
                <a:lnTo>
                  <a:pt x="133626" y="14179"/>
                </a:lnTo>
                <a:lnTo>
                  <a:pt x="155345" y="14768"/>
                </a:lnTo>
                <a:lnTo>
                  <a:pt x="195691" y="15147"/>
                </a:lnTo>
                <a:lnTo>
                  <a:pt x="204121" y="16025"/>
                </a:lnTo>
                <a:lnTo>
                  <a:pt x="212281" y="17456"/>
                </a:lnTo>
                <a:lnTo>
                  <a:pt x="220260" y="19257"/>
                </a:lnTo>
                <a:lnTo>
                  <a:pt x="227274" y="20458"/>
                </a:lnTo>
                <a:lnTo>
                  <a:pt x="233642" y="21259"/>
                </a:lnTo>
                <a:lnTo>
                  <a:pt x="239582" y="21793"/>
                </a:lnTo>
                <a:lnTo>
                  <a:pt x="245235" y="22149"/>
                </a:lnTo>
                <a:lnTo>
                  <a:pt x="256031" y="22544"/>
                </a:lnTo>
                <a:lnTo>
                  <a:pt x="271629" y="22766"/>
                </a:lnTo>
                <a:lnTo>
                  <a:pt x="275066" y="23644"/>
                </a:lnTo>
                <a:lnTo>
                  <a:pt x="277357" y="25076"/>
                </a:lnTo>
                <a:lnTo>
                  <a:pt x="281940" y="304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MARTInkAnnotation64"/>
          <p:cNvSpPr/>
          <p:nvPr/>
        </p:nvSpPr>
        <p:spPr>
          <a:xfrm>
            <a:off x="2384280" y="2492280"/>
            <a:ext cx="266760" cy="301680"/>
          </a:xfrm>
          <a:custGeom>
            <a:avLst/>
            <a:gdLst>
              <a:gd name="textAreaLeft" fmla="*/ 0 w 266760"/>
              <a:gd name="textAreaRight" fmla="*/ 267120 w 2667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66701" h="300354">
                <a:moveTo>
                  <a:pt x="0" y="59769"/>
                </a:moveTo>
                <a:lnTo>
                  <a:pt x="0" y="55724"/>
                </a:lnTo>
                <a:lnTo>
                  <a:pt x="847" y="53686"/>
                </a:lnTo>
                <a:lnTo>
                  <a:pt x="4046" y="49163"/>
                </a:lnTo>
                <a:lnTo>
                  <a:pt x="6084" y="47619"/>
                </a:lnTo>
                <a:lnTo>
                  <a:pt x="8289" y="46589"/>
                </a:lnTo>
                <a:lnTo>
                  <a:pt x="10607" y="45902"/>
                </a:lnTo>
                <a:lnTo>
                  <a:pt x="15439" y="42882"/>
                </a:lnTo>
                <a:lnTo>
                  <a:pt x="22919" y="36421"/>
                </a:lnTo>
                <a:lnTo>
                  <a:pt x="28813" y="31612"/>
                </a:lnTo>
                <a:lnTo>
                  <a:pt x="37077" y="26653"/>
                </a:lnTo>
                <a:lnTo>
                  <a:pt x="42498" y="24145"/>
                </a:lnTo>
                <a:lnTo>
                  <a:pt x="48652" y="21626"/>
                </a:lnTo>
                <a:lnTo>
                  <a:pt x="55295" y="19101"/>
                </a:lnTo>
                <a:lnTo>
                  <a:pt x="61417" y="16570"/>
                </a:lnTo>
                <a:lnTo>
                  <a:pt x="67191" y="14037"/>
                </a:lnTo>
                <a:lnTo>
                  <a:pt x="72734" y="11501"/>
                </a:lnTo>
                <a:lnTo>
                  <a:pt x="78123" y="9810"/>
                </a:lnTo>
                <a:lnTo>
                  <a:pt x="83409" y="8683"/>
                </a:lnTo>
                <a:lnTo>
                  <a:pt x="88626" y="7932"/>
                </a:lnTo>
                <a:lnTo>
                  <a:pt x="93797" y="6584"/>
                </a:lnTo>
                <a:lnTo>
                  <a:pt x="98939" y="4839"/>
                </a:lnTo>
                <a:lnTo>
                  <a:pt x="104059" y="2829"/>
                </a:lnTo>
                <a:lnTo>
                  <a:pt x="110013" y="1489"/>
                </a:lnTo>
                <a:lnTo>
                  <a:pt x="116522" y="596"/>
                </a:lnTo>
                <a:lnTo>
                  <a:pt x="123402" y="0"/>
                </a:lnTo>
                <a:lnTo>
                  <a:pt x="129681" y="450"/>
                </a:lnTo>
                <a:lnTo>
                  <a:pt x="135561" y="1597"/>
                </a:lnTo>
                <a:lnTo>
                  <a:pt x="141174" y="3207"/>
                </a:lnTo>
                <a:lnTo>
                  <a:pt x="145763" y="4281"/>
                </a:lnTo>
                <a:lnTo>
                  <a:pt x="153119" y="5475"/>
                </a:lnTo>
                <a:lnTo>
                  <a:pt x="157113" y="6639"/>
                </a:lnTo>
                <a:lnTo>
                  <a:pt x="161469" y="8263"/>
                </a:lnTo>
                <a:lnTo>
                  <a:pt x="166066" y="10192"/>
                </a:lnTo>
                <a:lnTo>
                  <a:pt x="173432" y="14592"/>
                </a:lnTo>
                <a:lnTo>
                  <a:pt x="176582" y="16951"/>
                </a:lnTo>
                <a:lnTo>
                  <a:pt x="182339" y="24088"/>
                </a:lnTo>
                <a:lnTo>
                  <a:pt x="186873" y="32058"/>
                </a:lnTo>
                <a:lnTo>
                  <a:pt x="190272" y="42151"/>
                </a:lnTo>
                <a:lnTo>
                  <a:pt x="194068" y="50810"/>
                </a:lnTo>
                <a:lnTo>
                  <a:pt x="195419" y="55490"/>
                </a:lnTo>
                <a:lnTo>
                  <a:pt x="196319" y="60303"/>
                </a:lnTo>
                <a:lnTo>
                  <a:pt x="196920" y="65205"/>
                </a:lnTo>
                <a:lnTo>
                  <a:pt x="196474" y="70166"/>
                </a:lnTo>
                <a:lnTo>
                  <a:pt x="195329" y="75167"/>
                </a:lnTo>
                <a:lnTo>
                  <a:pt x="193720" y="80195"/>
                </a:lnTo>
                <a:lnTo>
                  <a:pt x="192647" y="85240"/>
                </a:lnTo>
                <a:lnTo>
                  <a:pt x="191931" y="90296"/>
                </a:lnTo>
                <a:lnTo>
                  <a:pt x="191454" y="95361"/>
                </a:lnTo>
                <a:lnTo>
                  <a:pt x="189443" y="100430"/>
                </a:lnTo>
                <a:lnTo>
                  <a:pt x="186409" y="105503"/>
                </a:lnTo>
                <a:lnTo>
                  <a:pt x="182693" y="110578"/>
                </a:lnTo>
                <a:lnTo>
                  <a:pt x="179369" y="115655"/>
                </a:lnTo>
                <a:lnTo>
                  <a:pt x="176306" y="120733"/>
                </a:lnTo>
                <a:lnTo>
                  <a:pt x="173418" y="125812"/>
                </a:lnTo>
                <a:lnTo>
                  <a:pt x="169798" y="130891"/>
                </a:lnTo>
                <a:lnTo>
                  <a:pt x="165692" y="135970"/>
                </a:lnTo>
                <a:lnTo>
                  <a:pt x="161262" y="141050"/>
                </a:lnTo>
                <a:lnTo>
                  <a:pt x="156615" y="146130"/>
                </a:lnTo>
                <a:lnTo>
                  <a:pt x="146936" y="156289"/>
                </a:lnTo>
                <a:lnTo>
                  <a:pt x="141984" y="162216"/>
                </a:lnTo>
                <a:lnTo>
                  <a:pt x="136990" y="168707"/>
                </a:lnTo>
                <a:lnTo>
                  <a:pt x="131967" y="175574"/>
                </a:lnTo>
                <a:lnTo>
                  <a:pt x="126078" y="180999"/>
                </a:lnTo>
                <a:lnTo>
                  <a:pt x="119612" y="185463"/>
                </a:lnTo>
                <a:lnTo>
                  <a:pt x="112761" y="189285"/>
                </a:lnTo>
                <a:lnTo>
                  <a:pt x="106501" y="193526"/>
                </a:lnTo>
                <a:lnTo>
                  <a:pt x="100634" y="198047"/>
                </a:lnTo>
                <a:lnTo>
                  <a:pt x="95030" y="202755"/>
                </a:lnTo>
                <a:lnTo>
                  <a:pt x="88753" y="207586"/>
                </a:lnTo>
                <a:lnTo>
                  <a:pt x="82029" y="212501"/>
                </a:lnTo>
                <a:lnTo>
                  <a:pt x="75006" y="217470"/>
                </a:lnTo>
                <a:lnTo>
                  <a:pt x="68631" y="222477"/>
                </a:lnTo>
                <a:lnTo>
                  <a:pt x="62688" y="227507"/>
                </a:lnTo>
                <a:lnTo>
                  <a:pt x="57032" y="232555"/>
                </a:lnTo>
                <a:lnTo>
                  <a:pt x="51568" y="236766"/>
                </a:lnTo>
                <a:lnTo>
                  <a:pt x="46232" y="240421"/>
                </a:lnTo>
                <a:lnTo>
                  <a:pt x="40982" y="243703"/>
                </a:lnTo>
                <a:lnTo>
                  <a:pt x="32890" y="251867"/>
                </a:lnTo>
                <a:lnTo>
                  <a:pt x="26471" y="260292"/>
                </a:lnTo>
                <a:lnTo>
                  <a:pt x="20797" y="266859"/>
                </a:lnTo>
                <a:lnTo>
                  <a:pt x="18944" y="269796"/>
                </a:lnTo>
                <a:lnTo>
                  <a:pt x="16886" y="275317"/>
                </a:lnTo>
                <a:lnTo>
                  <a:pt x="17184" y="277974"/>
                </a:lnTo>
                <a:lnTo>
                  <a:pt x="18230" y="280593"/>
                </a:lnTo>
                <a:lnTo>
                  <a:pt x="21649" y="285760"/>
                </a:lnTo>
                <a:lnTo>
                  <a:pt x="25991" y="290878"/>
                </a:lnTo>
                <a:lnTo>
                  <a:pt x="30027" y="292582"/>
                </a:lnTo>
                <a:lnTo>
                  <a:pt x="35259" y="293718"/>
                </a:lnTo>
                <a:lnTo>
                  <a:pt x="41286" y="294475"/>
                </a:lnTo>
                <a:lnTo>
                  <a:pt x="47844" y="294980"/>
                </a:lnTo>
                <a:lnTo>
                  <a:pt x="54756" y="295316"/>
                </a:lnTo>
                <a:lnTo>
                  <a:pt x="69210" y="295690"/>
                </a:lnTo>
                <a:lnTo>
                  <a:pt x="84100" y="295856"/>
                </a:lnTo>
                <a:lnTo>
                  <a:pt x="92474" y="296747"/>
                </a:lnTo>
                <a:lnTo>
                  <a:pt x="101443" y="298188"/>
                </a:lnTo>
                <a:lnTo>
                  <a:pt x="110809" y="299995"/>
                </a:lnTo>
                <a:lnTo>
                  <a:pt x="120439" y="300353"/>
                </a:lnTo>
                <a:lnTo>
                  <a:pt x="130246" y="299745"/>
                </a:lnTo>
                <a:lnTo>
                  <a:pt x="140171" y="298493"/>
                </a:lnTo>
                <a:lnTo>
                  <a:pt x="150174" y="297658"/>
                </a:lnTo>
                <a:lnTo>
                  <a:pt x="160230" y="297102"/>
                </a:lnTo>
                <a:lnTo>
                  <a:pt x="180433" y="296484"/>
                </a:lnTo>
                <a:lnTo>
                  <a:pt x="227107" y="296054"/>
                </a:lnTo>
                <a:lnTo>
                  <a:pt x="234379" y="295186"/>
                </a:lnTo>
                <a:lnTo>
                  <a:pt x="240919" y="293760"/>
                </a:lnTo>
                <a:lnTo>
                  <a:pt x="246973" y="291963"/>
                </a:lnTo>
                <a:lnTo>
                  <a:pt x="251856" y="290765"/>
                </a:lnTo>
                <a:lnTo>
                  <a:pt x="255957" y="289966"/>
                </a:lnTo>
                <a:lnTo>
                  <a:pt x="266700" y="28836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MARTInkAnnotation65"/>
          <p:cNvSpPr/>
          <p:nvPr/>
        </p:nvSpPr>
        <p:spPr>
          <a:xfrm>
            <a:off x="2732040" y="2454120"/>
            <a:ext cx="262080" cy="365400"/>
          </a:xfrm>
          <a:custGeom>
            <a:avLst/>
            <a:gdLst>
              <a:gd name="textAreaLeft" fmla="*/ 0 w 262080"/>
              <a:gd name="textAreaRight" fmla="*/ 262440 w 262080"/>
              <a:gd name="textAreaTop" fmla="*/ 0 h 365400"/>
              <a:gd name="textAreaBottom" fmla="*/ 365760 h 365400"/>
            </a:gdLst>
            <a:ahLst/>
            <a:rect l="textAreaLeft" t="textAreaTop" r="textAreaRight" b="textAreaBottom"/>
            <a:pathLst>
              <a:path w="263107" h="365761">
                <a:moveTo>
                  <a:pt x="80226" y="0"/>
                </a:moveTo>
                <a:lnTo>
                  <a:pt x="76181" y="0"/>
                </a:lnTo>
                <a:lnTo>
                  <a:pt x="74989" y="846"/>
                </a:lnTo>
                <a:lnTo>
                  <a:pt x="74195" y="2258"/>
                </a:lnTo>
                <a:lnTo>
                  <a:pt x="73665" y="4045"/>
                </a:lnTo>
                <a:lnTo>
                  <a:pt x="70819" y="8289"/>
                </a:lnTo>
                <a:lnTo>
                  <a:pt x="64457" y="15438"/>
                </a:lnTo>
                <a:lnTo>
                  <a:pt x="62093" y="17912"/>
                </a:lnTo>
                <a:lnTo>
                  <a:pt x="60517" y="22101"/>
                </a:lnTo>
                <a:lnTo>
                  <a:pt x="57453" y="40133"/>
                </a:lnTo>
                <a:lnTo>
                  <a:pt x="55731" y="47075"/>
                </a:lnTo>
                <a:lnTo>
                  <a:pt x="53736" y="54244"/>
                </a:lnTo>
                <a:lnTo>
                  <a:pt x="50712" y="61562"/>
                </a:lnTo>
                <a:lnTo>
                  <a:pt x="47004" y="68982"/>
                </a:lnTo>
                <a:lnTo>
                  <a:pt x="42838" y="76467"/>
                </a:lnTo>
                <a:lnTo>
                  <a:pt x="39214" y="83998"/>
                </a:lnTo>
                <a:lnTo>
                  <a:pt x="35951" y="91559"/>
                </a:lnTo>
                <a:lnTo>
                  <a:pt x="32930" y="99139"/>
                </a:lnTo>
                <a:lnTo>
                  <a:pt x="29222" y="107579"/>
                </a:lnTo>
                <a:lnTo>
                  <a:pt x="20586" y="125988"/>
                </a:lnTo>
                <a:lnTo>
                  <a:pt x="16760" y="135639"/>
                </a:lnTo>
                <a:lnTo>
                  <a:pt x="13362" y="145459"/>
                </a:lnTo>
                <a:lnTo>
                  <a:pt x="10250" y="155393"/>
                </a:lnTo>
                <a:lnTo>
                  <a:pt x="8175" y="164555"/>
                </a:lnTo>
                <a:lnTo>
                  <a:pt x="6792" y="173203"/>
                </a:lnTo>
                <a:lnTo>
                  <a:pt x="5870" y="181509"/>
                </a:lnTo>
                <a:lnTo>
                  <a:pt x="4409" y="190432"/>
                </a:lnTo>
                <a:lnTo>
                  <a:pt x="2588" y="199768"/>
                </a:lnTo>
                <a:lnTo>
                  <a:pt x="527" y="209379"/>
                </a:lnTo>
                <a:lnTo>
                  <a:pt x="0" y="218326"/>
                </a:lnTo>
                <a:lnTo>
                  <a:pt x="496" y="226830"/>
                </a:lnTo>
                <a:lnTo>
                  <a:pt x="1673" y="235040"/>
                </a:lnTo>
                <a:lnTo>
                  <a:pt x="3304" y="243053"/>
                </a:lnTo>
                <a:lnTo>
                  <a:pt x="5238" y="250936"/>
                </a:lnTo>
                <a:lnTo>
                  <a:pt x="7374" y="258730"/>
                </a:lnTo>
                <a:lnTo>
                  <a:pt x="12005" y="274164"/>
                </a:lnTo>
                <a:lnTo>
                  <a:pt x="14425" y="281836"/>
                </a:lnTo>
                <a:lnTo>
                  <a:pt x="18579" y="288644"/>
                </a:lnTo>
                <a:lnTo>
                  <a:pt x="23888" y="294876"/>
                </a:lnTo>
                <a:lnTo>
                  <a:pt x="43496" y="313995"/>
                </a:lnTo>
                <a:lnTo>
                  <a:pt x="50659" y="321090"/>
                </a:lnTo>
                <a:lnTo>
                  <a:pt x="57975" y="326666"/>
                </a:lnTo>
                <a:lnTo>
                  <a:pt x="65392" y="331231"/>
                </a:lnTo>
                <a:lnTo>
                  <a:pt x="72877" y="335120"/>
                </a:lnTo>
                <a:lnTo>
                  <a:pt x="82100" y="338560"/>
                </a:lnTo>
                <a:lnTo>
                  <a:pt x="92482" y="341700"/>
                </a:lnTo>
                <a:lnTo>
                  <a:pt x="103637" y="344640"/>
                </a:lnTo>
                <a:lnTo>
                  <a:pt x="114460" y="348293"/>
                </a:lnTo>
                <a:lnTo>
                  <a:pt x="125062" y="352422"/>
                </a:lnTo>
                <a:lnTo>
                  <a:pt x="135517" y="356868"/>
                </a:lnTo>
                <a:lnTo>
                  <a:pt x="145873" y="359832"/>
                </a:lnTo>
                <a:lnTo>
                  <a:pt x="156164" y="361808"/>
                </a:lnTo>
                <a:lnTo>
                  <a:pt x="166411" y="363125"/>
                </a:lnTo>
                <a:lnTo>
                  <a:pt x="177476" y="364003"/>
                </a:lnTo>
                <a:lnTo>
                  <a:pt x="189086" y="364589"/>
                </a:lnTo>
                <a:lnTo>
                  <a:pt x="211582" y="365239"/>
                </a:lnTo>
                <a:lnTo>
                  <a:pt x="263106" y="3657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MARTInkAnnotation66"/>
          <p:cNvSpPr/>
          <p:nvPr/>
        </p:nvSpPr>
        <p:spPr>
          <a:xfrm>
            <a:off x="2879640" y="2575080"/>
            <a:ext cx="228600" cy="234720"/>
          </a:xfrm>
          <a:custGeom>
            <a:avLst/>
            <a:gdLst>
              <a:gd name="textAreaLeft" fmla="*/ 0 w 228600"/>
              <a:gd name="textAreaRight" fmla="*/ 228960 w 22860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228022" h="234679">
                <a:moveTo>
                  <a:pt x="38100" y="0"/>
                </a:moveTo>
                <a:lnTo>
                  <a:pt x="38100" y="6561"/>
                </a:lnTo>
                <a:lnTo>
                  <a:pt x="32864" y="13495"/>
                </a:lnTo>
                <a:lnTo>
                  <a:pt x="30340" y="20555"/>
                </a:lnTo>
                <a:lnTo>
                  <a:pt x="26749" y="25504"/>
                </a:lnTo>
                <a:lnTo>
                  <a:pt x="22331" y="32784"/>
                </a:lnTo>
                <a:lnTo>
                  <a:pt x="19967" y="37097"/>
                </a:lnTo>
                <a:lnTo>
                  <a:pt x="17341" y="44145"/>
                </a:lnTo>
                <a:lnTo>
                  <a:pt x="15327" y="50947"/>
                </a:lnTo>
                <a:lnTo>
                  <a:pt x="13605" y="55131"/>
                </a:lnTo>
                <a:lnTo>
                  <a:pt x="11610" y="59614"/>
                </a:lnTo>
                <a:lnTo>
                  <a:pt x="9393" y="66853"/>
                </a:lnTo>
                <a:lnTo>
                  <a:pt x="7562" y="73739"/>
                </a:lnTo>
                <a:lnTo>
                  <a:pt x="5887" y="77946"/>
                </a:lnTo>
                <a:lnTo>
                  <a:pt x="3925" y="82444"/>
                </a:lnTo>
                <a:lnTo>
                  <a:pt x="1745" y="89700"/>
                </a:lnTo>
                <a:lnTo>
                  <a:pt x="776" y="95747"/>
                </a:lnTo>
                <a:lnTo>
                  <a:pt x="345" y="101256"/>
                </a:lnTo>
                <a:lnTo>
                  <a:pt x="153" y="106527"/>
                </a:lnTo>
                <a:lnTo>
                  <a:pt x="20" y="114123"/>
                </a:lnTo>
                <a:lnTo>
                  <a:pt x="6" y="118387"/>
                </a:lnTo>
                <a:lnTo>
                  <a:pt x="0" y="110464"/>
                </a:lnTo>
                <a:lnTo>
                  <a:pt x="1694" y="109203"/>
                </a:lnTo>
                <a:lnTo>
                  <a:pt x="8091" y="107801"/>
                </a:lnTo>
                <a:lnTo>
                  <a:pt x="11320" y="105734"/>
                </a:lnTo>
                <a:lnTo>
                  <a:pt x="17167" y="98922"/>
                </a:lnTo>
                <a:lnTo>
                  <a:pt x="21605" y="95581"/>
                </a:lnTo>
                <a:lnTo>
                  <a:pt x="27103" y="92507"/>
                </a:lnTo>
                <a:lnTo>
                  <a:pt x="44720" y="84137"/>
                </a:lnTo>
                <a:lnTo>
                  <a:pt x="50133" y="81491"/>
                </a:lnTo>
                <a:lnTo>
                  <a:pt x="55436" y="79728"/>
                </a:lnTo>
                <a:lnTo>
                  <a:pt x="60664" y="78551"/>
                </a:lnTo>
                <a:lnTo>
                  <a:pt x="65843" y="77768"/>
                </a:lnTo>
                <a:lnTo>
                  <a:pt x="71835" y="77245"/>
                </a:lnTo>
                <a:lnTo>
                  <a:pt x="78370" y="76897"/>
                </a:lnTo>
                <a:lnTo>
                  <a:pt x="91558" y="76510"/>
                </a:lnTo>
                <a:lnTo>
                  <a:pt x="116080" y="76261"/>
                </a:lnTo>
                <a:lnTo>
                  <a:pt x="123107" y="76241"/>
                </a:lnTo>
                <a:lnTo>
                  <a:pt x="130331" y="77921"/>
                </a:lnTo>
                <a:lnTo>
                  <a:pt x="137687" y="80734"/>
                </a:lnTo>
                <a:lnTo>
                  <a:pt x="174637" y="98789"/>
                </a:lnTo>
                <a:lnTo>
                  <a:pt x="179925" y="101420"/>
                </a:lnTo>
                <a:lnTo>
                  <a:pt x="185143" y="104866"/>
                </a:lnTo>
                <a:lnTo>
                  <a:pt x="190316" y="108858"/>
                </a:lnTo>
                <a:lnTo>
                  <a:pt x="195457" y="113212"/>
                </a:lnTo>
                <a:lnTo>
                  <a:pt x="200578" y="117808"/>
                </a:lnTo>
                <a:lnTo>
                  <a:pt x="210784" y="127430"/>
                </a:lnTo>
                <a:lnTo>
                  <a:pt x="215029" y="133214"/>
                </a:lnTo>
                <a:lnTo>
                  <a:pt x="218706" y="139609"/>
                </a:lnTo>
                <a:lnTo>
                  <a:pt x="222004" y="146412"/>
                </a:lnTo>
                <a:lnTo>
                  <a:pt x="224203" y="152642"/>
                </a:lnTo>
                <a:lnTo>
                  <a:pt x="225669" y="158488"/>
                </a:lnTo>
                <a:lnTo>
                  <a:pt x="226646" y="164079"/>
                </a:lnTo>
                <a:lnTo>
                  <a:pt x="227298" y="168653"/>
                </a:lnTo>
                <a:lnTo>
                  <a:pt x="227731" y="172548"/>
                </a:lnTo>
                <a:lnTo>
                  <a:pt x="228021" y="175992"/>
                </a:lnTo>
                <a:lnTo>
                  <a:pt x="227368" y="179981"/>
                </a:lnTo>
                <a:lnTo>
                  <a:pt x="226085" y="184334"/>
                </a:lnTo>
                <a:lnTo>
                  <a:pt x="224383" y="188930"/>
                </a:lnTo>
                <a:lnTo>
                  <a:pt x="222403" y="193686"/>
                </a:lnTo>
                <a:lnTo>
                  <a:pt x="220235" y="198551"/>
                </a:lnTo>
                <a:lnTo>
                  <a:pt x="217943" y="203487"/>
                </a:lnTo>
                <a:lnTo>
                  <a:pt x="214722" y="207625"/>
                </a:lnTo>
                <a:lnTo>
                  <a:pt x="210881" y="211230"/>
                </a:lnTo>
                <a:lnTo>
                  <a:pt x="206627" y="214480"/>
                </a:lnTo>
                <a:lnTo>
                  <a:pt x="199644" y="220349"/>
                </a:lnTo>
                <a:lnTo>
                  <a:pt x="192871" y="225779"/>
                </a:lnTo>
                <a:lnTo>
                  <a:pt x="188694" y="228413"/>
                </a:lnTo>
                <a:lnTo>
                  <a:pt x="184216" y="231015"/>
                </a:lnTo>
                <a:lnTo>
                  <a:pt x="178691" y="232750"/>
                </a:lnTo>
                <a:lnTo>
                  <a:pt x="172467" y="233907"/>
                </a:lnTo>
                <a:lnTo>
                  <a:pt x="165778" y="234678"/>
                </a:lnTo>
                <a:lnTo>
                  <a:pt x="158779" y="234345"/>
                </a:lnTo>
                <a:lnTo>
                  <a:pt x="151572" y="233277"/>
                </a:lnTo>
                <a:lnTo>
                  <a:pt x="144229" y="231718"/>
                </a:lnTo>
                <a:lnTo>
                  <a:pt x="137639" y="230678"/>
                </a:lnTo>
                <a:lnTo>
                  <a:pt x="131553" y="229986"/>
                </a:lnTo>
                <a:lnTo>
                  <a:pt x="125802" y="229524"/>
                </a:lnTo>
                <a:lnTo>
                  <a:pt x="120275" y="229216"/>
                </a:lnTo>
                <a:lnTo>
                  <a:pt x="99060" y="2286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MARTInkAnnotation67"/>
          <p:cNvSpPr/>
          <p:nvPr/>
        </p:nvSpPr>
        <p:spPr>
          <a:xfrm>
            <a:off x="2933640" y="2583000"/>
            <a:ext cx="136440" cy="15840"/>
          </a:xfrm>
          <a:custGeom>
            <a:avLst/>
            <a:gdLst>
              <a:gd name="textAreaLeft" fmla="*/ 0 w 136440"/>
              <a:gd name="textAreaRight" fmla="*/ 136800 w 1364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37161" h="15241">
                <a:moveTo>
                  <a:pt x="0" y="15240"/>
                </a:moveTo>
                <a:lnTo>
                  <a:pt x="6561" y="15240"/>
                </a:lnTo>
                <a:lnTo>
                  <a:pt x="7760" y="14393"/>
                </a:lnTo>
                <a:lnTo>
                  <a:pt x="9407" y="12982"/>
                </a:lnTo>
                <a:lnTo>
                  <a:pt x="11352" y="11195"/>
                </a:lnTo>
                <a:lnTo>
                  <a:pt x="14341" y="10003"/>
                </a:lnTo>
                <a:lnTo>
                  <a:pt x="18027" y="9209"/>
                </a:lnTo>
                <a:lnTo>
                  <a:pt x="22178" y="8679"/>
                </a:lnTo>
                <a:lnTo>
                  <a:pt x="26639" y="8326"/>
                </a:lnTo>
                <a:lnTo>
                  <a:pt x="31306" y="8091"/>
                </a:lnTo>
                <a:lnTo>
                  <a:pt x="36111" y="7934"/>
                </a:lnTo>
                <a:lnTo>
                  <a:pt x="59054" y="7713"/>
                </a:lnTo>
                <a:lnTo>
                  <a:pt x="67309" y="6836"/>
                </a:lnTo>
                <a:lnTo>
                  <a:pt x="75353" y="5403"/>
                </a:lnTo>
                <a:lnTo>
                  <a:pt x="83256" y="3602"/>
                </a:lnTo>
                <a:lnTo>
                  <a:pt x="91064" y="2402"/>
                </a:lnTo>
                <a:lnTo>
                  <a:pt x="98809" y="1601"/>
                </a:lnTo>
                <a:lnTo>
                  <a:pt x="106513" y="1067"/>
                </a:lnTo>
                <a:lnTo>
                  <a:pt x="119588" y="475"/>
                </a:lnTo>
                <a:lnTo>
                  <a:pt x="13716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MARTInkAnnotation68"/>
          <p:cNvSpPr/>
          <p:nvPr/>
        </p:nvSpPr>
        <p:spPr>
          <a:xfrm>
            <a:off x="3108240" y="2430360"/>
            <a:ext cx="219240" cy="495360"/>
          </a:xfrm>
          <a:custGeom>
            <a:avLst/>
            <a:gdLst>
              <a:gd name="textAreaLeft" fmla="*/ 0 w 219240"/>
              <a:gd name="textAreaRight" fmla="*/ 219600 w 21924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218991" h="495301">
                <a:moveTo>
                  <a:pt x="0" y="0"/>
                </a:moveTo>
                <a:lnTo>
                  <a:pt x="4045" y="0"/>
                </a:lnTo>
                <a:lnTo>
                  <a:pt x="5237" y="847"/>
                </a:lnTo>
                <a:lnTo>
                  <a:pt x="6031" y="2258"/>
                </a:lnTo>
                <a:lnTo>
                  <a:pt x="6561" y="4045"/>
                </a:lnTo>
                <a:lnTo>
                  <a:pt x="11665" y="10547"/>
                </a:lnTo>
                <a:lnTo>
                  <a:pt x="15397" y="14651"/>
                </a:lnTo>
                <a:lnTo>
                  <a:pt x="19578" y="18234"/>
                </a:lnTo>
                <a:lnTo>
                  <a:pt x="24059" y="21470"/>
                </a:lnTo>
                <a:lnTo>
                  <a:pt x="28739" y="24473"/>
                </a:lnTo>
                <a:lnTo>
                  <a:pt x="34399" y="29016"/>
                </a:lnTo>
                <a:lnTo>
                  <a:pt x="40713" y="34583"/>
                </a:lnTo>
                <a:lnTo>
                  <a:pt x="47462" y="40836"/>
                </a:lnTo>
                <a:lnTo>
                  <a:pt x="55348" y="47544"/>
                </a:lnTo>
                <a:lnTo>
                  <a:pt x="73141" y="61771"/>
                </a:lnTo>
                <a:lnTo>
                  <a:pt x="81781" y="69967"/>
                </a:lnTo>
                <a:lnTo>
                  <a:pt x="90081" y="78818"/>
                </a:lnTo>
                <a:lnTo>
                  <a:pt x="98154" y="88105"/>
                </a:lnTo>
                <a:lnTo>
                  <a:pt x="106076" y="97684"/>
                </a:lnTo>
                <a:lnTo>
                  <a:pt x="121652" y="117357"/>
                </a:lnTo>
                <a:lnTo>
                  <a:pt x="129361" y="128192"/>
                </a:lnTo>
                <a:lnTo>
                  <a:pt x="137041" y="139648"/>
                </a:lnTo>
                <a:lnTo>
                  <a:pt x="152347" y="163666"/>
                </a:lnTo>
                <a:lnTo>
                  <a:pt x="167616" y="188452"/>
                </a:lnTo>
                <a:lnTo>
                  <a:pt x="174398" y="201834"/>
                </a:lnTo>
                <a:lnTo>
                  <a:pt x="180612" y="215836"/>
                </a:lnTo>
                <a:lnTo>
                  <a:pt x="202752" y="270764"/>
                </a:lnTo>
                <a:lnTo>
                  <a:pt x="207135" y="283803"/>
                </a:lnTo>
                <a:lnTo>
                  <a:pt x="210903" y="296728"/>
                </a:lnTo>
                <a:lnTo>
                  <a:pt x="214262" y="309579"/>
                </a:lnTo>
                <a:lnTo>
                  <a:pt x="216501" y="322379"/>
                </a:lnTo>
                <a:lnTo>
                  <a:pt x="217994" y="335146"/>
                </a:lnTo>
                <a:lnTo>
                  <a:pt x="218990" y="347891"/>
                </a:lnTo>
                <a:lnTo>
                  <a:pt x="218806" y="359774"/>
                </a:lnTo>
                <a:lnTo>
                  <a:pt x="217838" y="371083"/>
                </a:lnTo>
                <a:lnTo>
                  <a:pt x="216345" y="382009"/>
                </a:lnTo>
                <a:lnTo>
                  <a:pt x="215350" y="392679"/>
                </a:lnTo>
                <a:lnTo>
                  <a:pt x="214686" y="403179"/>
                </a:lnTo>
                <a:lnTo>
                  <a:pt x="214245" y="413566"/>
                </a:lnTo>
                <a:lnTo>
                  <a:pt x="213103" y="423031"/>
                </a:lnTo>
                <a:lnTo>
                  <a:pt x="211495" y="431881"/>
                </a:lnTo>
                <a:lnTo>
                  <a:pt x="209577" y="440320"/>
                </a:lnTo>
                <a:lnTo>
                  <a:pt x="202930" y="454213"/>
                </a:lnTo>
                <a:lnTo>
                  <a:pt x="198787" y="460289"/>
                </a:lnTo>
                <a:lnTo>
                  <a:pt x="194331" y="465186"/>
                </a:lnTo>
                <a:lnTo>
                  <a:pt x="189668" y="469297"/>
                </a:lnTo>
                <a:lnTo>
                  <a:pt x="184865" y="472885"/>
                </a:lnTo>
                <a:lnTo>
                  <a:pt x="179970" y="476970"/>
                </a:lnTo>
                <a:lnTo>
                  <a:pt x="175013" y="481387"/>
                </a:lnTo>
                <a:lnTo>
                  <a:pt x="170016" y="486025"/>
                </a:lnTo>
                <a:lnTo>
                  <a:pt x="165837" y="489116"/>
                </a:lnTo>
                <a:lnTo>
                  <a:pt x="162205" y="491177"/>
                </a:lnTo>
                <a:lnTo>
                  <a:pt x="158936" y="492552"/>
                </a:lnTo>
                <a:lnTo>
                  <a:pt x="155064" y="493468"/>
                </a:lnTo>
                <a:lnTo>
                  <a:pt x="150789" y="494079"/>
                </a:lnTo>
                <a:lnTo>
                  <a:pt x="146246" y="494486"/>
                </a:lnTo>
                <a:lnTo>
                  <a:pt x="142371" y="494757"/>
                </a:lnTo>
                <a:lnTo>
                  <a:pt x="138941" y="494938"/>
                </a:lnTo>
                <a:lnTo>
                  <a:pt x="129540" y="4953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MARTInkAnnotation69"/>
          <p:cNvSpPr/>
          <p:nvPr/>
        </p:nvSpPr>
        <p:spPr>
          <a:xfrm>
            <a:off x="3527280" y="2498760"/>
            <a:ext cx="38160" cy="15840"/>
          </a:xfrm>
          <a:custGeom>
            <a:avLst/>
            <a:gdLst>
              <a:gd name="textAreaLeft" fmla="*/ 0 w 38160"/>
              <a:gd name="textAreaRight" fmla="*/ 38160 w 381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8100" h="15241">
                <a:moveTo>
                  <a:pt x="-27437" y="0"/>
                </a:moveTo>
                <a:lnTo>
                  <a:pt x="30480" y="0"/>
                </a:lnTo>
                <a:lnTo>
                  <a:pt x="26434" y="4045"/>
                </a:lnTo>
                <a:lnTo>
                  <a:pt x="24396" y="5237"/>
                </a:lnTo>
                <a:lnTo>
                  <a:pt x="22190" y="6031"/>
                </a:lnTo>
                <a:lnTo>
                  <a:pt x="19873" y="6561"/>
                </a:lnTo>
                <a:lnTo>
                  <a:pt x="17482" y="7761"/>
                </a:lnTo>
                <a:lnTo>
                  <a:pt x="15041" y="9407"/>
                </a:lnTo>
                <a:lnTo>
                  <a:pt x="12567" y="11351"/>
                </a:lnTo>
                <a:lnTo>
                  <a:pt x="10071" y="12648"/>
                </a:lnTo>
                <a:lnTo>
                  <a:pt x="7560" y="13512"/>
                </a:lnTo>
                <a:lnTo>
                  <a:pt x="26" y="15234"/>
                </a:lnTo>
                <a:lnTo>
                  <a:pt x="2" y="15239"/>
                </a:lnTo>
                <a:lnTo>
                  <a:pt x="1" y="15240"/>
                </a:lnTo>
                <a:lnTo>
                  <a:pt x="0" y="15240"/>
                </a:lnTo>
                <a:lnTo>
                  <a:pt x="22859" y="152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MARTInkAnnotation70"/>
          <p:cNvSpPr/>
          <p:nvPr/>
        </p:nvSpPr>
        <p:spPr>
          <a:xfrm>
            <a:off x="3451320" y="2637000"/>
            <a:ext cx="252360" cy="7920"/>
          </a:xfrm>
          <a:custGeom>
            <a:avLst/>
            <a:gdLst>
              <a:gd name="textAreaLeft" fmla="*/ 0 w 252360"/>
              <a:gd name="textAreaRight" fmla="*/ 252720 w 2523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51461" h="7621">
                <a:moveTo>
                  <a:pt x="0" y="7620"/>
                </a:moveTo>
                <a:lnTo>
                  <a:pt x="4045" y="7620"/>
                </a:lnTo>
                <a:lnTo>
                  <a:pt x="6084" y="6773"/>
                </a:lnTo>
                <a:lnTo>
                  <a:pt x="8289" y="5362"/>
                </a:lnTo>
                <a:lnTo>
                  <a:pt x="10606" y="3575"/>
                </a:lnTo>
                <a:lnTo>
                  <a:pt x="13844" y="2383"/>
                </a:lnTo>
                <a:lnTo>
                  <a:pt x="17696" y="1589"/>
                </a:lnTo>
                <a:lnTo>
                  <a:pt x="21957" y="1059"/>
                </a:lnTo>
                <a:lnTo>
                  <a:pt x="27338" y="706"/>
                </a:lnTo>
                <a:lnTo>
                  <a:pt x="33466" y="471"/>
                </a:lnTo>
                <a:lnTo>
                  <a:pt x="54225" y="139"/>
                </a:lnTo>
                <a:lnTo>
                  <a:pt x="208293" y="0"/>
                </a:lnTo>
                <a:lnTo>
                  <a:pt x="215909" y="847"/>
                </a:lnTo>
                <a:lnTo>
                  <a:pt x="221833" y="2258"/>
                </a:lnTo>
                <a:lnTo>
                  <a:pt x="226629" y="4046"/>
                </a:lnTo>
                <a:lnTo>
                  <a:pt x="231519" y="5237"/>
                </a:lnTo>
                <a:lnTo>
                  <a:pt x="236473" y="6031"/>
                </a:lnTo>
                <a:lnTo>
                  <a:pt x="251460" y="76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MARTInkAnnotation71"/>
          <p:cNvSpPr/>
          <p:nvPr/>
        </p:nvSpPr>
        <p:spPr>
          <a:xfrm>
            <a:off x="3484440" y="2759040"/>
            <a:ext cx="42840" cy="14400"/>
          </a:xfrm>
          <a:custGeom>
            <a:avLst/>
            <a:gdLst>
              <a:gd name="textAreaLeft" fmla="*/ 0 w 42840"/>
              <a:gd name="textAreaRight" fmla="*/ 43200 w 428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44209" h="15241">
                <a:moveTo>
                  <a:pt x="13737" y="0"/>
                </a:moveTo>
                <a:lnTo>
                  <a:pt x="-21328" y="0"/>
                </a:lnTo>
                <a:lnTo>
                  <a:pt x="-25367" y="0"/>
                </a:lnTo>
                <a:lnTo>
                  <a:pt x="-26558" y="847"/>
                </a:lnTo>
                <a:lnTo>
                  <a:pt x="-27351" y="2258"/>
                </a:lnTo>
                <a:lnTo>
                  <a:pt x="-27880" y="4045"/>
                </a:lnTo>
                <a:lnTo>
                  <a:pt x="-29080" y="5237"/>
                </a:lnTo>
                <a:lnTo>
                  <a:pt x="-30727" y="6031"/>
                </a:lnTo>
                <a:lnTo>
                  <a:pt x="-32671" y="6561"/>
                </a:lnTo>
                <a:lnTo>
                  <a:pt x="30723" y="6914"/>
                </a:lnTo>
                <a:lnTo>
                  <a:pt x="28447" y="7149"/>
                </a:lnTo>
                <a:lnTo>
                  <a:pt x="26084" y="7306"/>
                </a:lnTo>
                <a:lnTo>
                  <a:pt x="23662" y="8257"/>
                </a:lnTo>
                <a:lnTo>
                  <a:pt x="21200" y="9738"/>
                </a:lnTo>
                <a:lnTo>
                  <a:pt x="18713" y="11572"/>
                </a:lnTo>
                <a:lnTo>
                  <a:pt x="16207" y="12795"/>
                </a:lnTo>
                <a:lnTo>
                  <a:pt x="13691" y="13610"/>
                </a:lnTo>
                <a:lnTo>
                  <a:pt x="11167" y="14153"/>
                </a:lnTo>
                <a:lnTo>
                  <a:pt x="8636" y="14516"/>
                </a:lnTo>
                <a:lnTo>
                  <a:pt x="6104" y="14757"/>
                </a:lnTo>
                <a:lnTo>
                  <a:pt x="0" y="15145"/>
                </a:lnTo>
                <a:lnTo>
                  <a:pt x="345" y="15177"/>
                </a:lnTo>
                <a:lnTo>
                  <a:pt x="2988" y="15212"/>
                </a:lnTo>
                <a:lnTo>
                  <a:pt x="21357" y="152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MARTInkAnnotation72"/>
          <p:cNvSpPr/>
          <p:nvPr/>
        </p:nvSpPr>
        <p:spPr>
          <a:xfrm>
            <a:off x="3916440" y="2514600"/>
            <a:ext cx="236520" cy="289080"/>
          </a:xfrm>
          <a:custGeom>
            <a:avLst/>
            <a:gdLst>
              <a:gd name="textAreaLeft" fmla="*/ 0 w 236520"/>
              <a:gd name="textAreaRight" fmla="*/ 236880 w 236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236182" h="289530">
                <a:moveTo>
                  <a:pt x="15201" y="76169"/>
                </a:moveTo>
                <a:lnTo>
                  <a:pt x="15201" y="69608"/>
                </a:lnTo>
                <a:lnTo>
                  <a:pt x="21284" y="62675"/>
                </a:lnTo>
                <a:lnTo>
                  <a:pt x="28198" y="54767"/>
                </a:lnTo>
                <a:lnTo>
                  <a:pt x="33112" y="46620"/>
                </a:lnTo>
                <a:lnTo>
                  <a:pt x="40377" y="39612"/>
                </a:lnTo>
                <a:lnTo>
                  <a:pt x="44685" y="36557"/>
                </a:lnTo>
                <a:lnTo>
                  <a:pt x="50097" y="33675"/>
                </a:lnTo>
                <a:lnTo>
                  <a:pt x="56245" y="30906"/>
                </a:lnTo>
                <a:lnTo>
                  <a:pt x="62883" y="28214"/>
                </a:lnTo>
                <a:lnTo>
                  <a:pt x="68156" y="25572"/>
                </a:lnTo>
                <a:lnTo>
                  <a:pt x="72517" y="22964"/>
                </a:lnTo>
                <a:lnTo>
                  <a:pt x="76272" y="20379"/>
                </a:lnTo>
                <a:lnTo>
                  <a:pt x="81315" y="17809"/>
                </a:lnTo>
                <a:lnTo>
                  <a:pt x="87217" y="15249"/>
                </a:lnTo>
                <a:lnTo>
                  <a:pt x="93692" y="12696"/>
                </a:lnTo>
                <a:lnTo>
                  <a:pt x="99701" y="10994"/>
                </a:lnTo>
                <a:lnTo>
                  <a:pt x="105401" y="9859"/>
                </a:lnTo>
                <a:lnTo>
                  <a:pt x="110894" y="9102"/>
                </a:lnTo>
                <a:lnTo>
                  <a:pt x="115403" y="7751"/>
                </a:lnTo>
                <a:lnTo>
                  <a:pt x="122670" y="3992"/>
                </a:lnTo>
                <a:lnTo>
                  <a:pt x="126640" y="2651"/>
                </a:lnTo>
                <a:lnTo>
                  <a:pt x="130981" y="1757"/>
                </a:lnTo>
                <a:lnTo>
                  <a:pt x="135567" y="1161"/>
                </a:lnTo>
                <a:lnTo>
                  <a:pt x="142922" y="499"/>
                </a:lnTo>
                <a:lnTo>
                  <a:pt x="149012" y="205"/>
                </a:lnTo>
                <a:lnTo>
                  <a:pt x="154542" y="74"/>
                </a:lnTo>
                <a:lnTo>
                  <a:pt x="162415" y="0"/>
                </a:lnTo>
                <a:lnTo>
                  <a:pt x="164990" y="837"/>
                </a:lnTo>
                <a:lnTo>
                  <a:pt x="171814" y="5212"/>
                </a:lnTo>
                <a:lnTo>
                  <a:pt x="176806" y="9378"/>
                </a:lnTo>
                <a:lnTo>
                  <a:pt x="178818" y="11321"/>
                </a:lnTo>
                <a:lnTo>
                  <a:pt x="180159" y="13464"/>
                </a:lnTo>
                <a:lnTo>
                  <a:pt x="181648" y="18102"/>
                </a:lnTo>
                <a:lnTo>
                  <a:pt x="182487" y="25474"/>
                </a:lnTo>
                <a:lnTo>
                  <a:pt x="182684" y="32753"/>
                </a:lnTo>
                <a:lnTo>
                  <a:pt x="182737" y="37066"/>
                </a:lnTo>
                <a:lnTo>
                  <a:pt x="181925" y="41634"/>
                </a:lnTo>
                <a:lnTo>
                  <a:pt x="180537" y="46372"/>
                </a:lnTo>
                <a:lnTo>
                  <a:pt x="178765" y="51224"/>
                </a:lnTo>
                <a:lnTo>
                  <a:pt x="176737" y="56153"/>
                </a:lnTo>
                <a:lnTo>
                  <a:pt x="174538" y="61132"/>
                </a:lnTo>
                <a:lnTo>
                  <a:pt x="169838" y="71179"/>
                </a:lnTo>
                <a:lnTo>
                  <a:pt x="164926" y="81289"/>
                </a:lnTo>
                <a:lnTo>
                  <a:pt x="161584" y="86356"/>
                </a:lnTo>
                <a:lnTo>
                  <a:pt x="157664" y="91427"/>
                </a:lnTo>
                <a:lnTo>
                  <a:pt x="153356" y="96501"/>
                </a:lnTo>
                <a:lnTo>
                  <a:pt x="149637" y="101577"/>
                </a:lnTo>
                <a:lnTo>
                  <a:pt x="146312" y="106654"/>
                </a:lnTo>
                <a:lnTo>
                  <a:pt x="143249" y="111733"/>
                </a:lnTo>
                <a:lnTo>
                  <a:pt x="139512" y="116812"/>
                </a:lnTo>
                <a:lnTo>
                  <a:pt x="135329" y="121891"/>
                </a:lnTo>
                <a:lnTo>
                  <a:pt x="130846" y="126970"/>
                </a:lnTo>
                <a:lnTo>
                  <a:pt x="119092" y="139387"/>
                </a:lnTo>
                <a:lnTo>
                  <a:pt x="63545" y="195456"/>
                </a:lnTo>
                <a:lnTo>
                  <a:pt x="59283" y="200567"/>
                </a:lnTo>
                <a:lnTo>
                  <a:pt x="55596" y="205668"/>
                </a:lnTo>
                <a:lnTo>
                  <a:pt x="52291" y="210762"/>
                </a:lnTo>
                <a:lnTo>
                  <a:pt x="48394" y="215004"/>
                </a:lnTo>
                <a:lnTo>
                  <a:pt x="44102" y="218679"/>
                </a:lnTo>
                <a:lnTo>
                  <a:pt x="39548" y="221976"/>
                </a:lnTo>
                <a:lnTo>
                  <a:pt x="32231" y="230154"/>
                </a:lnTo>
                <a:lnTo>
                  <a:pt x="26156" y="238587"/>
                </a:lnTo>
                <a:lnTo>
                  <a:pt x="20634" y="245157"/>
                </a:lnTo>
                <a:lnTo>
                  <a:pt x="15358" y="250899"/>
                </a:lnTo>
                <a:lnTo>
                  <a:pt x="7627" y="258892"/>
                </a:lnTo>
                <a:lnTo>
                  <a:pt x="5072" y="261485"/>
                </a:lnTo>
                <a:lnTo>
                  <a:pt x="3368" y="264059"/>
                </a:lnTo>
                <a:lnTo>
                  <a:pt x="409" y="272775"/>
                </a:lnTo>
                <a:lnTo>
                  <a:pt x="0" y="280717"/>
                </a:lnTo>
                <a:lnTo>
                  <a:pt x="4018" y="285601"/>
                </a:lnTo>
                <a:lnTo>
                  <a:pt x="6052" y="286910"/>
                </a:lnTo>
                <a:lnTo>
                  <a:pt x="10570" y="288365"/>
                </a:lnTo>
                <a:lnTo>
                  <a:pt x="17874" y="289184"/>
                </a:lnTo>
                <a:lnTo>
                  <a:pt x="22880" y="289376"/>
                </a:lnTo>
                <a:lnTo>
                  <a:pt x="29620" y="289461"/>
                </a:lnTo>
                <a:lnTo>
                  <a:pt x="41083" y="289499"/>
                </a:lnTo>
                <a:lnTo>
                  <a:pt x="46848" y="288662"/>
                </a:lnTo>
                <a:lnTo>
                  <a:pt x="52386" y="287258"/>
                </a:lnTo>
                <a:lnTo>
                  <a:pt x="57771" y="285475"/>
                </a:lnTo>
                <a:lnTo>
                  <a:pt x="63054" y="284287"/>
                </a:lnTo>
                <a:lnTo>
                  <a:pt x="68270" y="283494"/>
                </a:lnTo>
                <a:lnTo>
                  <a:pt x="73440" y="282966"/>
                </a:lnTo>
                <a:lnTo>
                  <a:pt x="79427" y="282614"/>
                </a:lnTo>
                <a:lnTo>
                  <a:pt x="92852" y="282222"/>
                </a:lnTo>
                <a:lnTo>
                  <a:pt x="123661" y="281950"/>
                </a:lnTo>
                <a:lnTo>
                  <a:pt x="195511" y="281909"/>
                </a:lnTo>
                <a:lnTo>
                  <a:pt x="199754" y="282756"/>
                </a:lnTo>
                <a:lnTo>
                  <a:pt x="209771" y="287146"/>
                </a:lnTo>
                <a:lnTo>
                  <a:pt x="215413" y="288470"/>
                </a:lnTo>
                <a:lnTo>
                  <a:pt x="220742" y="289058"/>
                </a:lnTo>
                <a:lnTo>
                  <a:pt x="227016" y="289436"/>
                </a:lnTo>
                <a:lnTo>
                  <a:pt x="232149" y="289502"/>
                </a:lnTo>
                <a:lnTo>
                  <a:pt x="233493" y="288664"/>
                </a:lnTo>
                <a:lnTo>
                  <a:pt x="234389" y="287259"/>
                </a:lnTo>
                <a:lnTo>
                  <a:pt x="234986" y="285476"/>
                </a:lnTo>
                <a:lnTo>
                  <a:pt x="235385" y="285134"/>
                </a:lnTo>
                <a:lnTo>
                  <a:pt x="235650" y="285752"/>
                </a:lnTo>
                <a:lnTo>
                  <a:pt x="236181" y="28952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MARTInkAnnotation73"/>
          <p:cNvSpPr/>
          <p:nvPr/>
        </p:nvSpPr>
        <p:spPr>
          <a:xfrm>
            <a:off x="4175280" y="2400480"/>
            <a:ext cx="160200" cy="533160"/>
          </a:xfrm>
          <a:custGeom>
            <a:avLst/>
            <a:gdLst>
              <a:gd name="textAreaLeft" fmla="*/ 0 w 160200"/>
              <a:gd name="textAreaRight" fmla="*/ 160560 w 16020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59442" h="533401">
                <a:moveTo>
                  <a:pt x="0" y="0"/>
                </a:moveTo>
                <a:lnTo>
                  <a:pt x="11351" y="11352"/>
                </a:lnTo>
                <a:lnTo>
                  <a:pt x="15769" y="18027"/>
                </a:lnTo>
                <a:lnTo>
                  <a:pt x="18133" y="22178"/>
                </a:lnTo>
                <a:lnTo>
                  <a:pt x="21401" y="26639"/>
                </a:lnTo>
                <a:lnTo>
                  <a:pt x="25274" y="31306"/>
                </a:lnTo>
                <a:lnTo>
                  <a:pt x="29549" y="36111"/>
                </a:lnTo>
                <a:lnTo>
                  <a:pt x="34093" y="41854"/>
                </a:lnTo>
                <a:lnTo>
                  <a:pt x="38815" y="48223"/>
                </a:lnTo>
                <a:lnTo>
                  <a:pt x="48577" y="62072"/>
                </a:lnTo>
                <a:lnTo>
                  <a:pt x="58562" y="76694"/>
                </a:lnTo>
                <a:lnTo>
                  <a:pt x="70900" y="93918"/>
                </a:lnTo>
                <a:lnTo>
                  <a:pt x="77746" y="103252"/>
                </a:lnTo>
                <a:lnTo>
                  <a:pt x="84005" y="112861"/>
                </a:lnTo>
                <a:lnTo>
                  <a:pt x="89869" y="122654"/>
                </a:lnTo>
                <a:lnTo>
                  <a:pt x="95473" y="132569"/>
                </a:lnTo>
                <a:lnTo>
                  <a:pt x="100902" y="143413"/>
                </a:lnTo>
                <a:lnTo>
                  <a:pt x="106214" y="154875"/>
                </a:lnTo>
                <a:lnTo>
                  <a:pt x="116633" y="178900"/>
                </a:lnTo>
                <a:lnTo>
                  <a:pt x="142212" y="241445"/>
                </a:lnTo>
                <a:lnTo>
                  <a:pt x="146455" y="254097"/>
                </a:lnTo>
                <a:lnTo>
                  <a:pt x="150129" y="266764"/>
                </a:lnTo>
                <a:lnTo>
                  <a:pt x="153426" y="279443"/>
                </a:lnTo>
                <a:lnTo>
                  <a:pt x="155624" y="292129"/>
                </a:lnTo>
                <a:lnTo>
                  <a:pt x="157090" y="304819"/>
                </a:lnTo>
                <a:lnTo>
                  <a:pt x="158066" y="317513"/>
                </a:lnTo>
                <a:lnTo>
                  <a:pt x="158717" y="329362"/>
                </a:lnTo>
                <a:lnTo>
                  <a:pt x="159441" y="351559"/>
                </a:lnTo>
                <a:lnTo>
                  <a:pt x="158787" y="363066"/>
                </a:lnTo>
                <a:lnTo>
                  <a:pt x="157504" y="374971"/>
                </a:lnTo>
                <a:lnTo>
                  <a:pt x="155803" y="387141"/>
                </a:lnTo>
                <a:lnTo>
                  <a:pt x="153822" y="398641"/>
                </a:lnTo>
                <a:lnTo>
                  <a:pt x="151654" y="409693"/>
                </a:lnTo>
                <a:lnTo>
                  <a:pt x="149363" y="420449"/>
                </a:lnTo>
                <a:lnTo>
                  <a:pt x="146141" y="431006"/>
                </a:lnTo>
                <a:lnTo>
                  <a:pt x="142301" y="441431"/>
                </a:lnTo>
                <a:lnTo>
                  <a:pt x="138047" y="451767"/>
                </a:lnTo>
                <a:lnTo>
                  <a:pt x="131063" y="467768"/>
                </a:lnTo>
                <a:lnTo>
                  <a:pt x="128015" y="474405"/>
                </a:lnTo>
                <a:lnTo>
                  <a:pt x="124290" y="481370"/>
                </a:lnTo>
                <a:lnTo>
                  <a:pt x="120113" y="488554"/>
                </a:lnTo>
                <a:lnTo>
                  <a:pt x="115635" y="495883"/>
                </a:lnTo>
                <a:lnTo>
                  <a:pt x="110957" y="502461"/>
                </a:lnTo>
                <a:lnTo>
                  <a:pt x="106144" y="508541"/>
                </a:lnTo>
                <a:lnTo>
                  <a:pt x="101243" y="514287"/>
                </a:lnTo>
                <a:lnTo>
                  <a:pt x="96281" y="518118"/>
                </a:lnTo>
                <a:lnTo>
                  <a:pt x="91281" y="520672"/>
                </a:lnTo>
                <a:lnTo>
                  <a:pt x="86254" y="522375"/>
                </a:lnTo>
                <a:lnTo>
                  <a:pt x="82902" y="524357"/>
                </a:lnTo>
                <a:lnTo>
                  <a:pt x="80668" y="526524"/>
                </a:lnTo>
                <a:lnTo>
                  <a:pt x="76200" y="5334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MARTInkAnnotation74"/>
          <p:cNvSpPr/>
          <p:nvPr/>
        </p:nvSpPr>
        <p:spPr>
          <a:xfrm>
            <a:off x="3719520" y="2446200"/>
            <a:ext cx="112680" cy="479520"/>
          </a:xfrm>
          <a:custGeom>
            <a:avLst/>
            <a:gdLst>
              <a:gd name="textAreaLeft" fmla="*/ 0 w 112680"/>
              <a:gd name="textAreaRight" fmla="*/ 113040 w 11268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113926" h="480061">
                <a:moveTo>
                  <a:pt x="83445" y="0"/>
                </a:moveTo>
                <a:lnTo>
                  <a:pt x="79400" y="4046"/>
                </a:lnTo>
                <a:lnTo>
                  <a:pt x="78208" y="6084"/>
                </a:lnTo>
                <a:lnTo>
                  <a:pt x="75685" y="12998"/>
                </a:lnTo>
                <a:lnTo>
                  <a:pt x="74038" y="15438"/>
                </a:lnTo>
                <a:lnTo>
                  <a:pt x="72094" y="17912"/>
                </a:lnTo>
                <a:lnTo>
                  <a:pt x="69950" y="21255"/>
                </a:lnTo>
                <a:lnTo>
                  <a:pt x="67675" y="25177"/>
                </a:lnTo>
                <a:lnTo>
                  <a:pt x="62890" y="34050"/>
                </a:lnTo>
                <a:lnTo>
                  <a:pt x="57940" y="43638"/>
                </a:lnTo>
                <a:lnTo>
                  <a:pt x="55435" y="49412"/>
                </a:lnTo>
                <a:lnTo>
                  <a:pt x="52918" y="55802"/>
                </a:lnTo>
                <a:lnTo>
                  <a:pt x="50394" y="62601"/>
                </a:lnTo>
                <a:lnTo>
                  <a:pt x="47589" y="76929"/>
                </a:lnTo>
                <a:lnTo>
                  <a:pt x="45496" y="91764"/>
                </a:lnTo>
                <a:lnTo>
                  <a:pt x="43752" y="99276"/>
                </a:lnTo>
                <a:lnTo>
                  <a:pt x="41743" y="106824"/>
                </a:lnTo>
                <a:lnTo>
                  <a:pt x="38711" y="115243"/>
                </a:lnTo>
                <a:lnTo>
                  <a:pt x="34996" y="124242"/>
                </a:lnTo>
                <a:lnTo>
                  <a:pt x="30825" y="133628"/>
                </a:lnTo>
                <a:lnTo>
                  <a:pt x="28045" y="143272"/>
                </a:lnTo>
                <a:lnTo>
                  <a:pt x="26192" y="153088"/>
                </a:lnTo>
                <a:lnTo>
                  <a:pt x="24956" y="163019"/>
                </a:lnTo>
                <a:lnTo>
                  <a:pt x="22439" y="173026"/>
                </a:lnTo>
                <a:lnTo>
                  <a:pt x="19067" y="183084"/>
                </a:lnTo>
                <a:lnTo>
                  <a:pt x="15127" y="193176"/>
                </a:lnTo>
                <a:lnTo>
                  <a:pt x="12500" y="203291"/>
                </a:lnTo>
                <a:lnTo>
                  <a:pt x="10749" y="213420"/>
                </a:lnTo>
                <a:lnTo>
                  <a:pt x="9580" y="223560"/>
                </a:lnTo>
                <a:lnTo>
                  <a:pt x="7955" y="233707"/>
                </a:lnTo>
                <a:lnTo>
                  <a:pt x="6025" y="243858"/>
                </a:lnTo>
                <a:lnTo>
                  <a:pt x="3892" y="254012"/>
                </a:lnTo>
                <a:lnTo>
                  <a:pt x="2470" y="265015"/>
                </a:lnTo>
                <a:lnTo>
                  <a:pt x="1521" y="276583"/>
                </a:lnTo>
                <a:lnTo>
                  <a:pt x="889" y="288529"/>
                </a:lnTo>
                <a:lnTo>
                  <a:pt x="187" y="310833"/>
                </a:lnTo>
                <a:lnTo>
                  <a:pt x="0" y="321522"/>
                </a:lnTo>
                <a:lnTo>
                  <a:pt x="721" y="331188"/>
                </a:lnTo>
                <a:lnTo>
                  <a:pt x="2049" y="340172"/>
                </a:lnTo>
                <a:lnTo>
                  <a:pt x="3782" y="348701"/>
                </a:lnTo>
                <a:lnTo>
                  <a:pt x="7963" y="367209"/>
                </a:lnTo>
                <a:lnTo>
                  <a:pt x="10264" y="376886"/>
                </a:lnTo>
                <a:lnTo>
                  <a:pt x="14338" y="385878"/>
                </a:lnTo>
                <a:lnTo>
                  <a:pt x="19593" y="394412"/>
                </a:lnTo>
                <a:lnTo>
                  <a:pt x="31360" y="410667"/>
                </a:lnTo>
                <a:lnTo>
                  <a:pt x="42233" y="426359"/>
                </a:lnTo>
                <a:lnTo>
                  <a:pt x="49197" y="434099"/>
                </a:lnTo>
                <a:lnTo>
                  <a:pt x="57227" y="441799"/>
                </a:lnTo>
                <a:lnTo>
                  <a:pt x="65966" y="449473"/>
                </a:lnTo>
                <a:lnTo>
                  <a:pt x="73485" y="455435"/>
                </a:lnTo>
                <a:lnTo>
                  <a:pt x="80192" y="460257"/>
                </a:lnTo>
                <a:lnTo>
                  <a:pt x="86356" y="464318"/>
                </a:lnTo>
                <a:lnTo>
                  <a:pt x="92160" y="467872"/>
                </a:lnTo>
                <a:lnTo>
                  <a:pt x="97721" y="471088"/>
                </a:lnTo>
                <a:lnTo>
                  <a:pt x="113925" y="4800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MARTInkAnnotation75"/>
          <p:cNvSpPr/>
          <p:nvPr/>
        </p:nvSpPr>
        <p:spPr>
          <a:xfrm>
            <a:off x="1395360" y="3002040"/>
            <a:ext cx="209520" cy="122040"/>
          </a:xfrm>
          <a:custGeom>
            <a:avLst/>
            <a:gdLst>
              <a:gd name="textAreaLeft" fmla="*/ 0 w 209520"/>
              <a:gd name="textAreaRight" fmla="*/ 209880 w 20952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210105" h="121207">
                <a:moveTo>
                  <a:pt x="174136" y="52882"/>
                </a:moveTo>
                <a:lnTo>
                  <a:pt x="174136" y="27222"/>
                </a:lnTo>
                <a:lnTo>
                  <a:pt x="172443" y="24769"/>
                </a:lnTo>
                <a:lnTo>
                  <a:pt x="169621" y="22286"/>
                </a:lnTo>
                <a:lnTo>
                  <a:pt x="166046" y="19785"/>
                </a:lnTo>
                <a:lnTo>
                  <a:pt x="162816" y="17271"/>
                </a:lnTo>
                <a:lnTo>
                  <a:pt x="159816" y="14748"/>
                </a:lnTo>
                <a:lnTo>
                  <a:pt x="156969" y="12219"/>
                </a:lnTo>
                <a:lnTo>
                  <a:pt x="153378" y="10534"/>
                </a:lnTo>
                <a:lnTo>
                  <a:pt x="149291" y="9410"/>
                </a:lnTo>
                <a:lnTo>
                  <a:pt x="144873" y="8660"/>
                </a:lnTo>
                <a:lnTo>
                  <a:pt x="140234" y="8161"/>
                </a:lnTo>
                <a:lnTo>
                  <a:pt x="135448" y="7828"/>
                </a:lnTo>
                <a:lnTo>
                  <a:pt x="130564" y="7606"/>
                </a:lnTo>
                <a:lnTo>
                  <a:pt x="124768" y="8305"/>
                </a:lnTo>
                <a:lnTo>
                  <a:pt x="118364" y="9617"/>
                </a:lnTo>
                <a:lnTo>
                  <a:pt x="85791" y="17807"/>
                </a:lnTo>
                <a:lnTo>
                  <a:pt x="77139" y="20186"/>
                </a:lnTo>
                <a:lnTo>
                  <a:pt x="60753" y="25086"/>
                </a:lnTo>
                <a:lnTo>
                  <a:pt x="51981" y="29271"/>
                </a:lnTo>
                <a:lnTo>
                  <a:pt x="42746" y="34601"/>
                </a:lnTo>
                <a:lnTo>
                  <a:pt x="33203" y="40695"/>
                </a:lnTo>
                <a:lnTo>
                  <a:pt x="25147" y="46451"/>
                </a:lnTo>
                <a:lnTo>
                  <a:pt x="18083" y="51981"/>
                </a:lnTo>
                <a:lnTo>
                  <a:pt x="11681" y="57361"/>
                </a:lnTo>
                <a:lnTo>
                  <a:pt x="7413" y="62642"/>
                </a:lnTo>
                <a:lnTo>
                  <a:pt x="4567" y="67855"/>
                </a:lnTo>
                <a:lnTo>
                  <a:pt x="2670" y="73024"/>
                </a:lnTo>
                <a:lnTo>
                  <a:pt x="1406" y="77317"/>
                </a:lnTo>
                <a:lnTo>
                  <a:pt x="563" y="81025"/>
                </a:lnTo>
                <a:lnTo>
                  <a:pt x="0" y="84344"/>
                </a:lnTo>
                <a:lnTo>
                  <a:pt x="472" y="88250"/>
                </a:lnTo>
                <a:lnTo>
                  <a:pt x="1634" y="92548"/>
                </a:lnTo>
                <a:lnTo>
                  <a:pt x="3255" y="97106"/>
                </a:lnTo>
                <a:lnTo>
                  <a:pt x="6875" y="101838"/>
                </a:lnTo>
                <a:lnTo>
                  <a:pt x="11829" y="106686"/>
                </a:lnTo>
                <a:lnTo>
                  <a:pt x="17671" y="111612"/>
                </a:lnTo>
                <a:lnTo>
                  <a:pt x="24953" y="114895"/>
                </a:lnTo>
                <a:lnTo>
                  <a:pt x="33194" y="117084"/>
                </a:lnTo>
                <a:lnTo>
                  <a:pt x="42075" y="118544"/>
                </a:lnTo>
                <a:lnTo>
                  <a:pt x="52229" y="119517"/>
                </a:lnTo>
                <a:lnTo>
                  <a:pt x="63231" y="120165"/>
                </a:lnTo>
                <a:lnTo>
                  <a:pt x="86745" y="120886"/>
                </a:lnTo>
                <a:lnTo>
                  <a:pt x="111307" y="121206"/>
                </a:lnTo>
                <a:lnTo>
                  <a:pt x="122937" y="120445"/>
                </a:lnTo>
                <a:lnTo>
                  <a:pt x="134076" y="119090"/>
                </a:lnTo>
                <a:lnTo>
                  <a:pt x="144890" y="117341"/>
                </a:lnTo>
                <a:lnTo>
                  <a:pt x="154638" y="115328"/>
                </a:lnTo>
                <a:lnTo>
                  <a:pt x="163678" y="113139"/>
                </a:lnTo>
                <a:lnTo>
                  <a:pt x="172244" y="110834"/>
                </a:lnTo>
                <a:lnTo>
                  <a:pt x="179648" y="107603"/>
                </a:lnTo>
                <a:lnTo>
                  <a:pt x="186278" y="103756"/>
                </a:lnTo>
                <a:lnTo>
                  <a:pt x="192391" y="99498"/>
                </a:lnTo>
                <a:lnTo>
                  <a:pt x="197312" y="94966"/>
                </a:lnTo>
                <a:lnTo>
                  <a:pt x="201440" y="90251"/>
                </a:lnTo>
                <a:lnTo>
                  <a:pt x="205039" y="85415"/>
                </a:lnTo>
                <a:lnTo>
                  <a:pt x="207438" y="79651"/>
                </a:lnTo>
                <a:lnTo>
                  <a:pt x="209037" y="73268"/>
                </a:lnTo>
                <a:lnTo>
                  <a:pt x="210104" y="66473"/>
                </a:lnTo>
                <a:lnTo>
                  <a:pt x="209968" y="60249"/>
                </a:lnTo>
                <a:lnTo>
                  <a:pt x="209030" y="54407"/>
                </a:lnTo>
                <a:lnTo>
                  <a:pt x="207559" y="48819"/>
                </a:lnTo>
                <a:lnTo>
                  <a:pt x="204885" y="43400"/>
                </a:lnTo>
                <a:lnTo>
                  <a:pt x="201409" y="38094"/>
                </a:lnTo>
                <a:lnTo>
                  <a:pt x="197398" y="32863"/>
                </a:lnTo>
                <a:lnTo>
                  <a:pt x="193031" y="28529"/>
                </a:lnTo>
                <a:lnTo>
                  <a:pt x="188426" y="24794"/>
                </a:lnTo>
                <a:lnTo>
                  <a:pt x="183663" y="21457"/>
                </a:lnTo>
                <a:lnTo>
                  <a:pt x="177947" y="18385"/>
                </a:lnTo>
                <a:lnTo>
                  <a:pt x="171597" y="15491"/>
                </a:lnTo>
                <a:lnTo>
                  <a:pt x="164823" y="12715"/>
                </a:lnTo>
                <a:lnTo>
                  <a:pt x="157768" y="10017"/>
                </a:lnTo>
                <a:lnTo>
                  <a:pt x="143155" y="4762"/>
                </a:lnTo>
                <a:lnTo>
                  <a:pt x="136548" y="3022"/>
                </a:lnTo>
                <a:lnTo>
                  <a:pt x="130451" y="1862"/>
                </a:lnTo>
                <a:lnTo>
                  <a:pt x="124693" y="1089"/>
                </a:lnTo>
                <a:lnTo>
                  <a:pt x="118314" y="573"/>
                </a:lnTo>
                <a:lnTo>
                  <a:pt x="111521" y="230"/>
                </a:lnTo>
                <a:lnTo>
                  <a:pt x="104453" y="0"/>
                </a:lnTo>
                <a:lnTo>
                  <a:pt x="98894" y="694"/>
                </a:lnTo>
                <a:lnTo>
                  <a:pt x="94341" y="2004"/>
                </a:lnTo>
                <a:lnTo>
                  <a:pt x="82696" y="716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MARTInkAnnotation76"/>
          <p:cNvSpPr/>
          <p:nvPr/>
        </p:nvSpPr>
        <p:spPr>
          <a:xfrm>
            <a:off x="1400040" y="3108240"/>
            <a:ext cx="173160" cy="152640"/>
          </a:xfrm>
          <a:custGeom>
            <a:avLst/>
            <a:gdLst>
              <a:gd name="textAreaLeft" fmla="*/ 0 w 173160"/>
              <a:gd name="textAreaRight" fmla="*/ 173520 w 1731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2848" h="151888">
                <a:moveTo>
                  <a:pt x="139391" y="68580"/>
                </a:moveTo>
                <a:lnTo>
                  <a:pt x="139391" y="57008"/>
                </a:lnTo>
                <a:lnTo>
                  <a:pt x="138545" y="54939"/>
                </a:lnTo>
                <a:lnTo>
                  <a:pt x="135346" y="50382"/>
                </a:lnTo>
                <a:lnTo>
                  <a:pt x="133308" y="48828"/>
                </a:lnTo>
                <a:lnTo>
                  <a:pt x="131102" y="47792"/>
                </a:lnTo>
                <a:lnTo>
                  <a:pt x="128785" y="47102"/>
                </a:lnTo>
                <a:lnTo>
                  <a:pt x="125547" y="46641"/>
                </a:lnTo>
                <a:lnTo>
                  <a:pt x="121695" y="46334"/>
                </a:lnTo>
                <a:lnTo>
                  <a:pt x="117434" y="46130"/>
                </a:lnTo>
                <a:lnTo>
                  <a:pt x="112900" y="46839"/>
                </a:lnTo>
                <a:lnTo>
                  <a:pt x="108184" y="48160"/>
                </a:lnTo>
                <a:lnTo>
                  <a:pt x="103346" y="49887"/>
                </a:lnTo>
                <a:lnTo>
                  <a:pt x="96734" y="52731"/>
                </a:lnTo>
                <a:lnTo>
                  <a:pt x="80357" y="60407"/>
                </a:lnTo>
                <a:lnTo>
                  <a:pt x="72095" y="64825"/>
                </a:lnTo>
                <a:lnTo>
                  <a:pt x="64047" y="69463"/>
                </a:lnTo>
                <a:lnTo>
                  <a:pt x="56142" y="74249"/>
                </a:lnTo>
                <a:lnTo>
                  <a:pt x="40585" y="84082"/>
                </a:lnTo>
                <a:lnTo>
                  <a:pt x="32880" y="89075"/>
                </a:lnTo>
                <a:lnTo>
                  <a:pt x="26050" y="94096"/>
                </a:lnTo>
                <a:lnTo>
                  <a:pt x="19804" y="99138"/>
                </a:lnTo>
                <a:lnTo>
                  <a:pt x="13946" y="104192"/>
                </a:lnTo>
                <a:lnTo>
                  <a:pt x="9195" y="110101"/>
                </a:lnTo>
                <a:lnTo>
                  <a:pt x="5180" y="116581"/>
                </a:lnTo>
                <a:lnTo>
                  <a:pt x="1657" y="123441"/>
                </a:lnTo>
                <a:lnTo>
                  <a:pt x="155" y="128860"/>
                </a:lnTo>
                <a:lnTo>
                  <a:pt x="0" y="133320"/>
                </a:lnTo>
                <a:lnTo>
                  <a:pt x="744" y="137140"/>
                </a:lnTo>
                <a:lnTo>
                  <a:pt x="2086" y="140534"/>
                </a:lnTo>
                <a:lnTo>
                  <a:pt x="3828" y="143643"/>
                </a:lnTo>
                <a:lnTo>
                  <a:pt x="5835" y="146562"/>
                </a:lnTo>
                <a:lnTo>
                  <a:pt x="9714" y="148508"/>
                </a:lnTo>
                <a:lnTo>
                  <a:pt x="14839" y="149805"/>
                </a:lnTo>
                <a:lnTo>
                  <a:pt x="20797" y="150670"/>
                </a:lnTo>
                <a:lnTo>
                  <a:pt x="28155" y="151247"/>
                </a:lnTo>
                <a:lnTo>
                  <a:pt x="36447" y="151631"/>
                </a:lnTo>
                <a:lnTo>
                  <a:pt x="45362" y="151887"/>
                </a:lnTo>
                <a:lnTo>
                  <a:pt x="54691" y="151212"/>
                </a:lnTo>
                <a:lnTo>
                  <a:pt x="64298" y="149914"/>
                </a:lnTo>
                <a:lnTo>
                  <a:pt x="74089" y="148203"/>
                </a:lnTo>
                <a:lnTo>
                  <a:pt x="84003" y="145369"/>
                </a:lnTo>
                <a:lnTo>
                  <a:pt x="93999" y="141786"/>
                </a:lnTo>
                <a:lnTo>
                  <a:pt x="104050" y="137704"/>
                </a:lnTo>
                <a:lnTo>
                  <a:pt x="113290" y="133289"/>
                </a:lnTo>
                <a:lnTo>
                  <a:pt x="121990" y="128653"/>
                </a:lnTo>
                <a:lnTo>
                  <a:pt x="130331" y="123869"/>
                </a:lnTo>
                <a:lnTo>
                  <a:pt x="137584" y="118139"/>
                </a:lnTo>
                <a:lnTo>
                  <a:pt x="144113" y="111780"/>
                </a:lnTo>
                <a:lnTo>
                  <a:pt x="150159" y="105000"/>
                </a:lnTo>
                <a:lnTo>
                  <a:pt x="155037" y="97940"/>
                </a:lnTo>
                <a:lnTo>
                  <a:pt x="159135" y="90693"/>
                </a:lnTo>
                <a:lnTo>
                  <a:pt x="162713" y="83322"/>
                </a:lnTo>
                <a:lnTo>
                  <a:pt x="165946" y="75868"/>
                </a:lnTo>
                <a:lnTo>
                  <a:pt x="168948" y="68359"/>
                </a:lnTo>
                <a:lnTo>
                  <a:pt x="171796" y="60812"/>
                </a:lnTo>
                <a:lnTo>
                  <a:pt x="172847" y="54089"/>
                </a:lnTo>
                <a:lnTo>
                  <a:pt x="172702" y="47912"/>
                </a:lnTo>
                <a:lnTo>
                  <a:pt x="171758" y="42102"/>
                </a:lnTo>
                <a:lnTo>
                  <a:pt x="170282" y="36534"/>
                </a:lnTo>
                <a:lnTo>
                  <a:pt x="168452" y="31130"/>
                </a:lnTo>
                <a:lnTo>
                  <a:pt x="166385" y="25833"/>
                </a:lnTo>
                <a:lnTo>
                  <a:pt x="163314" y="21456"/>
                </a:lnTo>
                <a:lnTo>
                  <a:pt x="159573" y="17690"/>
                </a:lnTo>
                <a:lnTo>
                  <a:pt x="155385" y="14334"/>
                </a:lnTo>
                <a:lnTo>
                  <a:pt x="152594" y="11249"/>
                </a:lnTo>
                <a:lnTo>
                  <a:pt x="150733" y="8346"/>
                </a:lnTo>
                <a:lnTo>
                  <a:pt x="149492" y="5564"/>
                </a:lnTo>
                <a:lnTo>
                  <a:pt x="147819" y="3710"/>
                </a:lnTo>
                <a:lnTo>
                  <a:pt x="145856" y="2473"/>
                </a:lnTo>
                <a:lnTo>
                  <a:pt x="13939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MARTInkAnnotation77"/>
          <p:cNvSpPr/>
          <p:nvPr/>
        </p:nvSpPr>
        <p:spPr>
          <a:xfrm>
            <a:off x="1744560" y="3184560"/>
            <a:ext cx="236520" cy="23760"/>
          </a:xfrm>
          <a:custGeom>
            <a:avLst/>
            <a:gdLst>
              <a:gd name="textAreaLeft" fmla="*/ 0 w 236520"/>
              <a:gd name="textAreaRight" fmla="*/ 236880 w 23652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236221" h="22861">
                <a:moveTo>
                  <a:pt x="0" y="22860"/>
                </a:moveTo>
                <a:lnTo>
                  <a:pt x="0" y="18815"/>
                </a:lnTo>
                <a:lnTo>
                  <a:pt x="847" y="17623"/>
                </a:lnTo>
                <a:lnTo>
                  <a:pt x="2258" y="16829"/>
                </a:lnTo>
                <a:lnTo>
                  <a:pt x="4046" y="16299"/>
                </a:lnTo>
                <a:lnTo>
                  <a:pt x="10547" y="15711"/>
                </a:lnTo>
                <a:lnTo>
                  <a:pt x="14652" y="15554"/>
                </a:lnTo>
                <a:lnTo>
                  <a:pt x="32564" y="15333"/>
                </a:lnTo>
                <a:lnTo>
                  <a:pt x="39489" y="14455"/>
                </a:lnTo>
                <a:lnTo>
                  <a:pt x="46646" y="13024"/>
                </a:lnTo>
                <a:lnTo>
                  <a:pt x="53957" y="11222"/>
                </a:lnTo>
                <a:lnTo>
                  <a:pt x="62218" y="10022"/>
                </a:lnTo>
                <a:lnTo>
                  <a:pt x="71112" y="9221"/>
                </a:lnTo>
                <a:lnTo>
                  <a:pt x="80428" y="8687"/>
                </a:lnTo>
                <a:lnTo>
                  <a:pt x="102068" y="8094"/>
                </a:lnTo>
                <a:lnTo>
                  <a:pt x="113765" y="7936"/>
                </a:lnTo>
                <a:lnTo>
                  <a:pt x="125797" y="6984"/>
                </a:lnTo>
                <a:lnTo>
                  <a:pt x="138052" y="5503"/>
                </a:lnTo>
                <a:lnTo>
                  <a:pt x="150454" y="3668"/>
                </a:lnTo>
                <a:lnTo>
                  <a:pt x="162956" y="2446"/>
                </a:lnTo>
                <a:lnTo>
                  <a:pt x="175524" y="1631"/>
                </a:lnTo>
                <a:lnTo>
                  <a:pt x="199084" y="725"/>
                </a:lnTo>
                <a:lnTo>
                  <a:pt x="23622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MARTInkAnnotation78"/>
          <p:cNvSpPr/>
          <p:nvPr/>
        </p:nvSpPr>
        <p:spPr>
          <a:xfrm>
            <a:off x="2171880" y="3094200"/>
            <a:ext cx="14040" cy="190440"/>
          </a:xfrm>
          <a:custGeom>
            <a:avLst/>
            <a:gdLst>
              <a:gd name="textAreaLeft" fmla="*/ 0 w 14040"/>
              <a:gd name="textAreaRight" fmla="*/ 14400 w 140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087" h="190501">
                <a:moveTo>
                  <a:pt x="7525" y="0"/>
                </a:moveTo>
                <a:lnTo>
                  <a:pt x="7525" y="10606"/>
                </a:lnTo>
                <a:lnTo>
                  <a:pt x="8372" y="13844"/>
                </a:lnTo>
                <a:lnTo>
                  <a:pt x="9783" y="17696"/>
                </a:lnTo>
                <a:lnTo>
                  <a:pt x="11571" y="21957"/>
                </a:lnTo>
                <a:lnTo>
                  <a:pt x="12762" y="25645"/>
                </a:lnTo>
                <a:lnTo>
                  <a:pt x="13556" y="28950"/>
                </a:lnTo>
                <a:lnTo>
                  <a:pt x="14086" y="32000"/>
                </a:lnTo>
                <a:lnTo>
                  <a:pt x="13593" y="36573"/>
                </a:lnTo>
                <a:lnTo>
                  <a:pt x="12417" y="42162"/>
                </a:lnTo>
                <a:lnTo>
                  <a:pt x="10786" y="48429"/>
                </a:lnTo>
                <a:lnTo>
                  <a:pt x="9699" y="54299"/>
                </a:lnTo>
                <a:lnTo>
                  <a:pt x="8975" y="59906"/>
                </a:lnTo>
                <a:lnTo>
                  <a:pt x="8491" y="65337"/>
                </a:lnTo>
                <a:lnTo>
                  <a:pt x="8169" y="71499"/>
                </a:lnTo>
                <a:lnTo>
                  <a:pt x="7811" y="85117"/>
                </a:lnTo>
                <a:lnTo>
                  <a:pt x="6869" y="92305"/>
                </a:lnTo>
                <a:lnTo>
                  <a:pt x="5394" y="99637"/>
                </a:lnTo>
                <a:lnTo>
                  <a:pt x="3565" y="107065"/>
                </a:lnTo>
                <a:lnTo>
                  <a:pt x="2345" y="113710"/>
                </a:lnTo>
                <a:lnTo>
                  <a:pt x="1532" y="119833"/>
                </a:lnTo>
                <a:lnTo>
                  <a:pt x="989" y="125609"/>
                </a:lnTo>
                <a:lnTo>
                  <a:pt x="628" y="132000"/>
                </a:lnTo>
                <a:lnTo>
                  <a:pt x="226" y="145873"/>
                </a:lnTo>
                <a:lnTo>
                  <a:pt x="0" y="163919"/>
                </a:lnTo>
                <a:lnTo>
                  <a:pt x="815" y="168546"/>
                </a:lnTo>
                <a:lnTo>
                  <a:pt x="2205" y="172478"/>
                </a:lnTo>
                <a:lnTo>
                  <a:pt x="3978" y="175945"/>
                </a:lnTo>
                <a:lnTo>
                  <a:pt x="5160" y="179103"/>
                </a:lnTo>
                <a:lnTo>
                  <a:pt x="5949" y="182056"/>
                </a:lnTo>
                <a:lnTo>
                  <a:pt x="7525" y="1905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MARTInkAnnotation79"/>
          <p:cNvSpPr/>
          <p:nvPr/>
        </p:nvSpPr>
        <p:spPr>
          <a:xfrm>
            <a:off x="2298600" y="3108240"/>
            <a:ext cx="128520" cy="182520"/>
          </a:xfrm>
          <a:custGeom>
            <a:avLst/>
            <a:gdLst>
              <a:gd name="textAreaLeft" fmla="*/ 0 w 128520"/>
              <a:gd name="textAreaRight" fmla="*/ 128880 w 128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29022" h="181139">
                <a:moveTo>
                  <a:pt x="56652" y="0"/>
                </a:moveTo>
                <a:lnTo>
                  <a:pt x="52607" y="4046"/>
                </a:lnTo>
                <a:lnTo>
                  <a:pt x="51415" y="6930"/>
                </a:lnTo>
                <a:lnTo>
                  <a:pt x="50621" y="10547"/>
                </a:lnTo>
                <a:lnTo>
                  <a:pt x="50091" y="14651"/>
                </a:lnTo>
                <a:lnTo>
                  <a:pt x="48045" y="19081"/>
                </a:lnTo>
                <a:lnTo>
                  <a:pt x="44988" y="23727"/>
                </a:lnTo>
                <a:lnTo>
                  <a:pt x="41256" y="28518"/>
                </a:lnTo>
                <a:lnTo>
                  <a:pt x="37075" y="34252"/>
                </a:lnTo>
                <a:lnTo>
                  <a:pt x="27914" y="47397"/>
                </a:lnTo>
                <a:lnTo>
                  <a:pt x="23946" y="54458"/>
                </a:lnTo>
                <a:lnTo>
                  <a:pt x="20455" y="61705"/>
                </a:lnTo>
                <a:lnTo>
                  <a:pt x="17281" y="69077"/>
                </a:lnTo>
                <a:lnTo>
                  <a:pt x="14318" y="76531"/>
                </a:lnTo>
                <a:lnTo>
                  <a:pt x="8768" y="91587"/>
                </a:lnTo>
                <a:lnTo>
                  <a:pt x="884" y="114344"/>
                </a:lnTo>
                <a:lnTo>
                  <a:pt x="0" y="121102"/>
                </a:lnTo>
                <a:lnTo>
                  <a:pt x="257" y="127302"/>
                </a:lnTo>
                <a:lnTo>
                  <a:pt x="1276" y="133128"/>
                </a:lnTo>
                <a:lnTo>
                  <a:pt x="2801" y="139552"/>
                </a:lnTo>
                <a:lnTo>
                  <a:pt x="4665" y="146375"/>
                </a:lnTo>
                <a:lnTo>
                  <a:pt x="6754" y="153463"/>
                </a:lnTo>
                <a:lnTo>
                  <a:pt x="10687" y="159035"/>
                </a:lnTo>
                <a:lnTo>
                  <a:pt x="15848" y="163597"/>
                </a:lnTo>
                <a:lnTo>
                  <a:pt x="21830" y="167485"/>
                </a:lnTo>
                <a:lnTo>
                  <a:pt x="28357" y="170923"/>
                </a:lnTo>
                <a:lnTo>
                  <a:pt x="35249" y="174062"/>
                </a:lnTo>
                <a:lnTo>
                  <a:pt x="42383" y="177001"/>
                </a:lnTo>
                <a:lnTo>
                  <a:pt x="49680" y="178961"/>
                </a:lnTo>
                <a:lnTo>
                  <a:pt x="57084" y="180267"/>
                </a:lnTo>
                <a:lnTo>
                  <a:pt x="64560" y="181138"/>
                </a:lnTo>
                <a:lnTo>
                  <a:pt x="71237" y="180872"/>
                </a:lnTo>
                <a:lnTo>
                  <a:pt x="77383" y="179848"/>
                </a:lnTo>
                <a:lnTo>
                  <a:pt x="83172" y="178318"/>
                </a:lnTo>
                <a:lnTo>
                  <a:pt x="88726" y="176453"/>
                </a:lnTo>
                <a:lnTo>
                  <a:pt x="94121" y="174362"/>
                </a:lnTo>
                <a:lnTo>
                  <a:pt x="99412" y="172121"/>
                </a:lnTo>
                <a:lnTo>
                  <a:pt x="104632" y="168934"/>
                </a:lnTo>
                <a:lnTo>
                  <a:pt x="109805" y="165117"/>
                </a:lnTo>
                <a:lnTo>
                  <a:pt x="114948" y="160877"/>
                </a:lnTo>
                <a:lnTo>
                  <a:pt x="118376" y="154665"/>
                </a:lnTo>
                <a:lnTo>
                  <a:pt x="120662" y="147137"/>
                </a:lnTo>
                <a:lnTo>
                  <a:pt x="122185" y="138731"/>
                </a:lnTo>
                <a:lnTo>
                  <a:pt x="124047" y="131434"/>
                </a:lnTo>
                <a:lnTo>
                  <a:pt x="126136" y="124876"/>
                </a:lnTo>
                <a:lnTo>
                  <a:pt x="128375" y="118811"/>
                </a:lnTo>
                <a:lnTo>
                  <a:pt x="129021" y="112227"/>
                </a:lnTo>
                <a:lnTo>
                  <a:pt x="128605" y="105298"/>
                </a:lnTo>
                <a:lnTo>
                  <a:pt x="127481" y="98139"/>
                </a:lnTo>
                <a:lnTo>
                  <a:pt x="125885" y="90826"/>
                </a:lnTo>
                <a:lnTo>
                  <a:pt x="123974" y="83411"/>
                </a:lnTo>
                <a:lnTo>
                  <a:pt x="121853" y="75927"/>
                </a:lnTo>
                <a:lnTo>
                  <a:pt x="117240" y="60839"/>
                </a:lnTo>
                <a:lnTo>
                  <a:pt x="114824" y="53259"/>
                </a:lnTo>
                <a:lnTo>
                  <a:pt x="111520" y="47360"/>
                </a:lnTo>
                <a:lnTo>
                  <a:pt x="107624" y="42580"/>
                </a:lnTo>
                <a:lnTo>
                  <a:pt x="98780" y="34164"/>
                </a:lnTo>
                <a:lnTo>
                  <a:pt x="89205" y="24780"/>
                </a:lnTo>
                <a:lnTo>
                  <a:pt x="85127" y="21600"/>
                </a:lnTo>
                <a:lnTo>
                  <a:pt x="81562" y="19480"/>
                </a:lnTo>
                <a:lnTo>
                  <a:pt x="78339" y="18067"/>
                </a:lnTo>
                <a:lnTo>
                  <a:pt x="70242" y="14239"/>
                </a:lnTo>
                <a:lnTo>
                  <a:pt x="65712" y="12032"/>
                </a:lnTo>
                <a:lnTo>
                  <a:pt x="61846" y="10562"/>
                </a:lnTo>
                <a:lnTo>
                  <a:pt x="58421" y="9581"/>
                </a:lnTo>
                <a:lnTo>
                  <a:pt x="49032" y="76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25"/>
          <p:cNvSpPr/>
          <p:nvPr/>
        </p:nvSpPr>
        <p:spPr>
          <a:xfrm>
            <a:off x="2629080" y="3124080"/>
            <a:ext cx="1440" cy="360"/>
          </a:xfrm>
          <a:custGeom>
            <a:avLst/>
            <a:gdLst>
              <a:gd name="textAreaLeft" fmla="*/ 0 w 1440"/>
              <a:gd name="textAreaRight" fmla="*/ 1800 w 14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259" h="1">
                <a:moveTo>
                  <a:pt x="0" y="0"/>
                </a:moveTo>
                <a:lnTo>
                  <a:pt x="225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MARTInkAnnotation81"/>
          <p:cNvSpPr/>
          <p:nvPr/>
        </p:nvSpPr>
        <p:spPr>
          <a:xfrm>
            <a:off x="2530440" y="3230640"/>
            <a:ext cx="114480" cy="15840"/>
          </a:xfrm>
          <a:custGeom>
            <a:avLst/>
            <a:gdLst>
              <a:gd name="textAreaLeft" fmla="*/ 0 w 114480"/>
              <a:gd name="textAreaRight" fmla="*/ 114840 w 1144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14301" h="15241">
                <a:moveTo>
                  <a:pt x="0" y="15240"/>
                </a:moveTo>
                <a:lnTo>
                  <a:pt x="17913" y="15240"/>
                </a:lnTo>
                <a:lnTo>
                  <a:pt x="22102" y="14393"/>
                </a:lnTo>
                <a:lnTo>
                  <a:pt x="27435" y="12982"/>
                </a:lnTo>
                <a:lnTo>
                  <a:pt x="33530" y="11195"/>
                </a:lnTo>
                <a:lnTo>
                  <a:pt x="40133" y="10003"/>
                </a:lnTo>
                <a:lnTo>
                  <a:pt x="47076" y="9209"/>
                </a:lnTo>
                <a:lnTo>
                  <a:pt x="54244" y="8679"/>
                </a:lnTo>
                <a:lnTo>
                  <a:pt x="62410" y="8326"/>
                </a:lnTo>
                <a:lnTo>
                  <a:pt x="80513" y="7934"/>
                </a:lnTo>
                <a:lnTo>
                  <a:pt x="88389" y="6983"/>
                </a:lnTo>
                <a:lnTo>
                  <a:pt x="95333" y="5502"/>
                </a:lnTo>
                <a:lnTo>
                  <a:pt x="11430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MARTInkAnnotation82"/>
          <p:cNvSpPr/>
          <p:nvPr/>
        </p:nvSpPr>
        <p:spPr>
          <a:xfrm>
            <a:off x="2544840" y="3336840"/>
            <a:ext cx="23760" cy="7920"/>
          </a:xfrm>
          <a:custGeom>
            <a:avLst/>
            <a:gdLst>
              <a:gd name="textAreaLeft" fmla="*/ 0 w 23760"/>
              <a:gd name="textAreaRight" fmla="*/ 24120 w 237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2862" h="7621">
                <a:moveTo>
                  <a:pt x="0" y="0"/>
                </a:moveTo>
                <a:lnTo>
                  <a:pt x="4046" y="4045"/>
                </a:lnTo>
                <a:lnTo>
                  <a:pt x="6084" y="5237"/>
                </a:lnTo>
                <a:lnTo>
                  <a:pt x="8289" y="6031"/>
                </a:lnTo>
                <a:lnTo>
                  <a:pt x="13867" y="7306"/>
                </a:lnTo>
                <a:lnTo>
                  <a:pt x="15172" y="7411"/>
                </a:lnTo>
                <a:lnTo>
                  <a:pt x="16888" y="7480"/>
                </a:lnTo>
                <a:lnTo>
                  <a:pt x="22861" y="76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MARTInkAnnotation83"/>
          <p:cNvSpPr/>
          <p:nvPr/>
        </p:nvSpPr>
        <p:spPr>
          <a:xfrm>
            <a:off x="2782800" y="3132000"/>
            <a:ext cx="243000" cy="166680"/>
          </a:xfrm>
          <a:custGeom>
            <a:avLst/>
            <a:gdLst>
              <a:gd name="textAreaLeft" fmla="*/ 0 w 243000"/>
              <a:gd name="textAreaRight" fmla="*/ 243360 w 2430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242817" h="167517">
                <a:moveTo>
                  <a:pt x="6595" y="30356"/>
                </a:moveTo>
                <a:lnTo>
                  <a:pt x="6595" y="26311"/>
                </a:lnTo>
                <a:lnTo>
                  <a:pt x="7442" y="24272"/>
                </a:lnTo>
                <a:lnTo>
                  <a:pt x="10641" y="19750"/>
                </a:lnTo>
                <a:lnTo>
                  <a:pt x="12679" y="18205"/>
                </a:lnTo>
                <a:lnTo>
                  <a:pt x="14884" y="17176"/>
                </a:lnTo>
                <a:lnTo>
                  <a:pt x="20440" y="15185"/>
                </a:lnTo>
                <a:lnTo>
                  <a:pt x="24291" y="13469"/>
                </a:lnTo>
                <a:lnTo>
                  <a:pt x="28553" y="11478"/>
                </a:lnTo>
                <a:lnTo>
                  <a:pt x="33934" y="9304"/>
                </a:lnTo>
                <a:lnTo>
                  <a:pt x="46686" y="4631"/>
                </a:lnTo>
                <a:lnTo>
                  <a:pt x="53643" y="3046"/>
                </a:lnTo>
                <a:lnTo>
                  <a:pt x="60820" y="1989"/>
                </a:lnTo>
                <a:lnTo>
                  <a:pt x="68145" y="1285"/>
                </a:lnTo>
                <a:lnTo>
                  <a:pt x="74722" y="815"/>
                </a:lnTo>
                <a:lnTo>
                  <a:pt x="80800" y="502"/>
                </a:lnTo>
                <a:lnTo>
                  <a:pt x="86545" y="293"/>
                </a:lnTo>
                <a:lnTo>
                  <a:pt x="106766" y="0"/>
                </a:lnTo>
                <a:lnTo>
                  <a:pt x="113169" y="805"/>
                </a:lnTo>
                <a:lnTo>
                  <a:pt x="119132" y="2189"/>
                </a:lnTo>
                <a:lnTo>
                  <a:pt x="124800" y="3958"/>
                </a:lnTo>
                <a:lnTo>
                  <a:pt x="129425" y="5137"/>
                </a:lnTo>
                <a:lnTo>
                  <a:pt x="136822" y="6448"/>
                </a:lnTo>
                <a:lnTo>
                  <a:pt x="140827" y="7644"/>
                </a:lnTo>
                <a:lnTo>
                  <a:pt x="145189" y="9288"/>
                </a:lnTo>
                <a:lnTo>
                  <a:pt x="156268" y="13965"/>
                </a:lnTo>
                <a:lnTo>
                  <a:pt x="157178" y="15195"/>
                </a:lnTo>
                <a:lnTo>
                  <a:pt x="158188" y="18820"/>
                </a:lnTo>
                <a:lnTo>
                  <a:pt x="156764" y="20125"/>
                </a:lnTo>
                <a:lnTo>
                  <a:pt x="154121" y="20996"/>
                </a:lnTo>
                <a:lnTo>
                  <a:pt x="150666" y="21576"/>
                </a:lnTo>
                <a:lnTo>
                  <a:pt x="144569" y="24478"/>
                </a:lnTo>
                <a:lnTo>
                  <a:pt x="141758" y="26437"/>
                </a:lnTo>
                <a:lnTo>
                  <a:pt x="136497" y="29437"/>
                </a:lnTo>
                <a:lnTo>
                  <a:pt x="121621" y="37286"/>
                </a:lnTo>
                <a:lnTo>
                  <a:pt x="113759" y="40902"/>
                </a:lnTo>
                <a:lnTo>
                  <a:pt x="105978" y="44160"/>
                </a:lnTo>
                <a:lnTo>
                  <a:pt x="98251" y="47179"/>
                </a:lnTo>
                <a:lnTo>
                  <a:pt x="90559" y="50885"/>
                </a:lnTo>
                <a:lnTo>
                  <a:pt x="82891" y="55049"/>
                </a:lnTo>
                <a:lnTo>
                  <a:pt x="75239" y="59518"/>
                </a:lnTo>
                <a:lnTo>
                  <a:pt x="67598" y="63344"/>
                </a:lnTo>
                <a:lnTo>
                  <a:pt x="59964" y="66741"/>
                </a:lnTo>
                <a:lnTo>
                  <a:pt x="52334" y="69853"/>
                </a:lnTo>
                <a:lnTo>
                  <a:pt x="44708" y="72774"/>
                </a:lnTo>
                <a:lnTo>
                  <a:pt x="29461" y="78277"/>
                </a:lnTo>
                <a:lnTo>
                  <a:pt x="22686" y="80930"/>
                </a:lnTo>
                <a:lnTo>
                  <a:pt x="16476" y="83546"/>
                </a:lnTo>
                <a:lnTo>
                  <a:pt x="10642" y="86136"/>
                </a:lnTo>
                <a:lnTo>
                  <a:pt x="6753" y="88709"/>
                </a:lnTo>
                <a:lnTo>
                  <a:pt x="4161" y="91271"/>
                </a:lnTo>
                <a:lnTo>
                  <a:pt x="2432" y="93826"/>
                </a:lnTo>
                <a:lnTo>
                  <a:pt x="1280" y="97223"/>
                </a:lnTo>
                <a:lnTo>
                  <a:pt x="512" y="101181"/>
                </a:lnTo>
                <a:lnTo>
                  <a:pt x="0" y="105513"/>
                </a:lnTo>
                <a:lnTo>
                  <a:pt x="1352" y="109247"/>
                </a:lnTo>
                <a:lnTo>
                  <a:pt x="3946" y="112583"/>
                </a:lnTo>
                <a:lnTo>
                  <a:pt x="7369" y="115654"/>
                </a:lnTo>
                <a:lnTo>
                  <a:pt x="13038" y="119395"/>
                </a:lnTo>
                <a:lnTo>
                  <a:pt x="20204" y="123582"/>
                </a:lnTo>
                <a:lnTo>
                  <a:pt x="28368" y="128067"/>
                </a:lnTo>
                <a:lnTo>
                  <a:pt x="37197" y="131903"/>
                </a:lnTo>
                <a:lnTo>
                  <a:pt x="46470" y="135307"/>
                </a:lnTo>
                <a:lnTo>
                  <a:pt x="56038" y="138423"/>
                </a:lnTo>
                <a:lnTo>
                  <a:pt x="66651" y="141348"/>
                </a:lnTo>
                <a:lnTo>
                  <a:pt x="77959" y="144144"/>
                </a:lnTo>
                <a:lnTo>
                  <a:pt x="101813" y="149508"/>
                </a:lnTo>
                <a:lnTo>
                  <a:pt x="164238" y="162406"/>
                </a:lnTo>
                <a:lnTo>
                  <a:pt x="176884" y="164110"/>
                </a:lnTo>
                <a:lnTo>
                  <a:pt x="189548" y="165245"/>
                </a:lnTo>
                <a:lnTo>
                  <a:pt x="212368" y="166507"/>
                </a:lnTo>
                <a:lnTo>
                  <a:pt x="242816" y="16751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MARTInkAnnotation84"/>
          <p:cNvSpPr/>
          <p:nvPr/>
        </p:nvSpPr>
        <p:spPr>
          <a:xfrm>
            <a:off x="1289160" y="3436920"/>
            <a:ext cx="161640" cy="98280"/>
          </a:xfrm>
          <a:custGeom>
            <a:avLst/>
            <a:gdLst>
              <a:gd name="textAreaLeft" fmla="*/ 0 w 161640"/>
              <a:gd name="textAreaRight" fmla="*/ 162000 w 16164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163226" h="98731">
                <a:moveTo>
                  <a:pt x="144284" y="15139"/>
                </a:moveTo>
                <a:lnTo>
                  <a:pt x="144284" y="11094"/>
                </a:lnTo>
                <a:lnTo>
                  <a:pt x="143437" y="9902"/>
                </a:lnTo>
                <a:lnTo>
                  <a:pt x="142026" y="9108"/>
                </a:lnTo>
                <a:lnTo>
                  <a:pt x="140239" y="8578"/>
                </a:lnTo>
                <a:lnTo>
                  <a:pt x="139047" y="7378"/>
                </a:lnTo>
                <a:lnTo>
                  <a:pt x="138253" y="5732"/>
                </a:lnTo>
                <a:lnTo>
                  <a:pt x="137723" y="3788"/>
                </a:lnTo>
                <a:lnTo>
                  <a:pt x="136524" y="2492"/>
                </a:lnTo>
                <a:lnTo>
                  <a:pt x="134877" y="1627"/>
                </a:lnTo>
                <a:lnTo>
                  <a:pt x="130790" y="667"/>
                </a:lnTo>
                <a:lnTo>
                  <a:pt x="126151" y="241"/>
                </a:lnTo>
                <a:lnTo>
                  <a:pt x="121267" y="51"/>
                </a:lnTo>
                <a:lnTo>
                  <a:pt x="118780" y="0"/>
                </a:lnTo>
                <a:lnTo>
                  <a:pt x="114581" y="813"/>
                </a:lnTo>
                <a:lnTo>
                  <a:pt x="109242" y="2202"/>
                </a:lnTo>
                <a:lnTo>
                  <a:pt x="103143" y="3974"/>
                </a:lnTo>
                <a:lnTo>
                  <a:pt x="96537" y="6849"/>
                </a:lnTo>
                <a:lnTo>
                  <a:pt x="89593" y="10459"/>
                </a:lnTo>
                <a:lnTo>
                  <a:pt x="82423" y="14559"/>
                </a:lnTo>
                <a:lnTo>
                  <a:pt x="65426" y="23630"/>
                </a:lnTo>
                <a:lnTo>
                  <a:pt x="56152" y="28420"/>
                </a:lnTo>
                <a:lnTo>
                  <a:pt x="47430" y="33306"/>
                </a:lnTo>
                <a:lnTo>
                  <a:pt x="39074" y="38257"/>
                </a:lnTo>
                <a:lnTo>
                  <a:pt x="30964" y="43251"/>
                </a:lnTo>
                <a:lnTo>
                  <a:pt x="24711" y="48274"/>
                </a:lnTo>
                <a:lnTo>
                  <a:pt x="19696" y="53316"/>
                </a:lnTo>
                <a:lnTo>
                  <a:pt x="15505" y="58370"/>
                </a:lnTo>
                <a:lnTo>
                  <a:pt x="11018" y="62586"/>
                </a:lnTo>
                <a:lnTo>
                  <a:pt x="6334" y="66244"/>
                </a:lnTo>
                <a:lnTo>
                  <a:pt x="1517" y="69529"/>
                </a:lnTo>
                <a:lnTo>
                  <a:pt x="0" y="72566"/>
                </a:lnTo>
                <a:lnTo>
                  <a:pt x="681" y="75437"/>
                </a:lnTo>
                <a:lnTo>
                  <a:pt x="2829" y="78197"/>
                </a:lnTo>
                <a:lnTo>
                  <a:pt x="5107" y="81731"/>
                </a:lnTo>
                <a:lnTo>
                  <a:pt x="7473" y="85781"/>
                </a:lnTo>
                <a:lnTo>
                  <a:pt x="9897" y="90173"/>
                </a:lnTo>
                <a:lnTo>
                  <a:pt x="14053" y="93102"/>
                </a:lnTo>
                <a:lnTo>
                  <a:pt x="19363" y="95054"/>
                </a:lnTo>
                <a:lnTo>
                  <a:pt x="25443" y="96356"/>
                </a:lnTo>
                <a:lnTo>
                  <a:pt x="32884" y="97223"/>
                </a:lnTo>
                <a:lnTo>
                  <a:pt x="41231" y="97802"/>
                </a:lnTo>
                <a:lnTo>
                  <a:pt x="50182" y="98188"/>
                </a:lnTo>
                <a:lnTo>
                  <a:pt x="69158" y="98616"/>
                </a:lnTo>
                <a:lnTo>
                  <a:pt x="78961" y="98730"/>
                </a:lnTo>
                <a:lnTo>
                  <a:pt x="88035" y="97960"/>
                </a:lnTo>
                <a:lnTo>
                  <a:pt x="96625" y="96600"/>
                </a:lnTo>
                <a:lnTo>
                  <a:pt x="104891" y="94846"/>
                </a:lnTo>
                <a:lnTo>
                  <a:pt x="112942" y="92831"/>
                </a:lnTo>
                <a:lnTo>
                  <a:pt x="120850" y="90640"/>
                </a:lnTo>
                <a:lnTo>
                  <a:pt x="128661" y="88333"/>
                </a:lnTo>
                <a:lnTo>
                  <a:pt x="135562" y="85102"/>
                </a:lnTo>
                <a:lnTo>
                  <a:pt x="141856" y="81255"/>
                </a:lnTo>
                <a:lnTo>
                  <a:pt x="147746" y="76996"/>
                </a:lnTo>
                <a:lnTo>
                  <a:pt x="151672" y="73310"/>
                </a:lnTo>
                <a:lnTo>
                  <a:pt x="154289" y="70006"/>
                </a:lnTo>
                <a:lnTo>
                  <a:pt x="156034" y="66958"/>
                </a:lnTo>
                <a:lnTo>
                  <a:pt x="160231" y="59054"/>
                </a:lnTo>
                <a:lnTo>
                  <a:pt x="162535" y="54575"/>
                </a:lnTo>
                <a:lnTo>
                  <a:pt x="163225" y="50743"/>
                </a:lnTo>
                <a:lnTo>
                  <a:pt x="162838" y="47342"/>
                </a:lnTo>
                <a:lnTo>
                  <a:pt x="161733" y="44227"/>
                </a:lnTo>
                <a:lnTo>
                  <a:pt x="160997" y="40458"/>
                </a:lnTo>
                <a:lnTo>
                  <a:pt x="160506" y="36252"/>
                </a:lnTo>
                <a:lnTo>
                  <a:pt x="160179" y="31754"/>
                </a:lnTo>
                <a:lnTo>
                  <a:pt x="159114" y="27909"/>
                </a:lnTo>
                <a:lnTo>
                  <a:pt x="157557" y="24499"/>
                </a:lnTo>
                <a:lnTo>
                  <a:pt x="155673" y="21379"/>
                </a:lnTo>
                <a:lnTo>
                  <a:pt x="152723" y="19299"/>
                </a:lnTo>
                <a:lnTo>
                  <a:pt x="149064" y="17912"/>
                </a:lnTo>
                <a:lnTo>
                  <a:pt x="136664" y="1513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MARTInkAnnotation85"/>
          <p:cNvSpPr/>
          <p:nvPr/>
        </p:nvSpPr>
        <p:spPr>
          <a:xfrm>
            <a:off x="1262160" y="3551400"/>
            <a:ext cx="185760" cy="122040"/>
          </a:xfrm>
          <a:custGeom>
            <a:avLst/>
            <a:gdLst>
              <a:gd name="textAreaLeft" fmla="*/ 0 w 185760"/>
              <a:gd name="textAreaRight" fmla="*/ 186120 w 185760"/>
              <a:gd name="textAreaTop" fmla="*/ 0 h 122040"/>
              <a:gd name="textAreaBottom" fmla="*/ 122400 h 122040"/>
            </a:gdLst>
            <a:ahLst/>
            <a:rect l="textAreaLeft" t="textAreaTop" r="textAreaRight" b="textAreaBottom"/>
            <a:pathLst>
              <a:path w="185153" h="121780">
                <a:moveTo>
                  <a:pt x="132397" y="53340"/>
                </a:moveTo>
                <a:lnTo>
                  <a:pt x="121791" y="53340"/>
                </a:lnTo>
                <a:lnTo>
                  <a:pt x="119400" y="52493"/>
                </a:lnTo>
                <a:lnTo>
                  <a:pt x="114485" y="49295"/>
                </a:lnTo>
                <a:lnTo>
                  <a:pt x="111142" y="48104"/>
                </a:lnTo>
                <a:lnTo>
                  <a:pt x="107221" y="47309"/>
                </a:lnTo>
                <a:lnTo>
                  <a:pt x="102913" y="46779"/>
                </a:lnTo>
                <a:lnTo>
                  <a:pt x="97501" y="47273"/>
                </a:lnTo>
                <a:lnTo>
                  <a:pt x="91353" y="48448"/>
                </a:lnTo>
                <a:lnTo>
                  <a:pt x="84714" y="50079"/>
                </a:lnTo>
                <a:lnTo>
                  <a:pt x="77749" y="51166"/>
                </a:lnTo>
                <a:lnTo>
                  <a:pt x="70565" y="51891"/>
                </a:lnTo>
                <a:lnTo>
                  <a:pt x="63236" y="52374"/>
                </a:lnTo>
                <a:lnTo>
                  <a:pt x="56656" y="54389"/>
                </a:lnTo>
                <a:lnTo>
                  <a:pt x="50576" y="57426"/>
                </a:lnTo>
                <a:lnTo>
                  <a:pt x="24607" y="74468"/>
                </a:lnTo>
                <a:lnTo>
                  <a:pt x="19051" y="78432"/>
                </a:lnTo>
                <a:lnTo>
                  <a:pt x="14499" y="81921"/>
                </a:lnTo>
                <a:lnTo>
                  <a:pt x="10619" y="85094"/>
                </a:lnTo>
                <a:lnTo>
                  <a:pt x="7185" y="88903"/>
                </a:lnTo>
                <a:lnTo>
                  <a:pt x="4049" y="93135"/>
                </a:lnTo>
                <a:lnTo>
                  <a:pt x="1112" y="97650"/>
                </a:lnTo>
                <a:lnTo>
                  <a:pt x="0" y="101507"/>
                </a:lnTo>
                <a:lnTo>
                  <a:pt x="106" y="104924"/>
                </a:lnTo>
                <a:lnTo>
                  <a:pt x="1023" y="108049"/>
                </a:lnTo>
                <a:lnTo>
                  <a:pt x="3328" y="110980"/>
                </a:lnTo>
                <a:lnTo>
                  <a:pt x="6558" y="113780"/>
                </a:lnTo>
                <a:lnTo>
                  <a:pt x="10404" y="116493"/>
                </a:lnTo>
                <a:lnTo>
                  <a:pt x="16355" y="118302"/>
                </a:lnTo>
                <a:lnTo>
                  <a:pt x="23709" y="119508"/>
                </a:lnTo>
                <a:lnTo>
                  <a:pt x="31999" y="120312"/>
                </a:lnTo>
                <a:lnTo>
                  <a:pt x="40064" y="120848"/>
                </a:lnTo>
                <a:lnTo>
                  <a:pt x="47982" y="121205"/>
                </a:lnTo>
                <a:lnTo>
                  <a:pt x="64400" y="121602"/>
                </a:lnTo>
                <a:lnTo>
                  <a:pt x="82985" y="121779"/>
                </a:lnTo>
                <a:lnTo>
                  <a:pt x="92682" y="120979"/>
                </a:lnTo>
                <a:lnTo>
                  <a:pt x="102534" y="119600"/>
                </a:lnTo>
                <a:lnTo>
                  <a:pt x="112488" y="117833"/>
                </a:lnTo>
                <a:lnTo>
                  <a:pt x="120818" y="115809"/>
                </a:lnTo>
                <a:lnTo>
                  <a:pt x="128064" y="113613"/>
                </a:lnTo>
                <a:lnTo>
                  <a:pt x="134589" y="111302"/>
                </a:lnTo>
                <a:lnTo>
                  <a:pt x="140632" y="107221"/>
                </a:lnTo>
                <a:lnTo>
                  <a:pt x="146353" y="101961"/>
                </a:lnTo>
                <a:lnTo>
                  <a:pt x="151861" y="95914"/>
                </a:lnTo>
                <a:lnTo>
                  <a:pt x="162497" y="84679"/>
                </a:lnTo>
                <a:lnTo>
                  <a:pt x="167704" y="79313"/>
                </a:lnTo>
                <a:lnTo>
                  <a:pt x="172021" y="74042"/>
                </a:lnTo>
                <a:lnTo>
                  <a:pt x="175746" y="68835"/>
                </a:lnTo>
                <a:lnTo>
                  <a:pt x="179077" y="63670"/>
                </a:lnTo>
                <a:lnTo>
                  <a:pt x="181297" y="57687"/>
                </a:lnTo>
                <a:lnTo>
                  <a:pt x="182777" y="51157"/>
                </a:lnTo>
                <a:lnTo>
                  <a:pt x="183763" y="44265"/>
                </a:lnTo>
                <a:lnTo>
                  <a:pt x="184421" y="37977"/>
                </a:lnTo>
                <a:lnTo>
                  <a:pt x="184860" y="32091"/>
                </a:lnTo>
                <a:lnTo>
                  <a:pt x="185152" y="26474"/>
                </a:lnTo>
                <a:lnTo>
                  <a:pt x="184501" y="21883"/>
                </a:lnTo>
                <a:lnTo>
                  <a:pt x="183219" y="17975"/>
                </a:lnTo>
                <a:lnTo>
                  <a:pt x="181519" y="14524"/>
                </a:lnTo>
                <a:lnTo>
                  <a:pt x="179538" y="11376"/>
                </a:lnTo>
                <a:lnTo>
                  <a:pt x="177371" y="8430"/>
                </a:lnTo>
                <a:lnTo>
                  <a:pt x="175080" y="5621"/>
                </a:lnTo>
                <a:lnTo>
                  <a:pt x="172706" y="3747"/>
                </a:lnTo>
                <a:lnTo>
                  <a:pt x="170276" y="2498"/>
                </a:lnTo>
                <a:lnTo>
                  <a:pt x="16287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MARTInkAnnotation86"/>
          <p:cNvSpPr/>
          <p:nvPr/>
        </p:nvSpPr>
        <p:spPr>
          <a:xfrm>
            <a:off x="1501920" y="3559320"/>
            <a:ext cx="288720" cy="21960"/>
          </a:xfrm>
          <a:custGeom>
            <a:avLst/>
            <a:gdLst>
              <a:gd name="textAreaLeft" fmla="*/ 0 w 288720"/>
              <a:gd name="textAreaRight" fmla="*/ 289080 w 2887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289561" h="22861">
                <a:moveTo>
                  <a:pt x="0" y="22860"/>
                </a:moveTo>
                <a:lnTo>
                  <a:pt x="40836" y="22860"/>
                </a:lnTo>
                <a:lnTo>
                  <a:pt x="48390" y="22014"/>
                </a:lnTo>
                <a:lnTo>
                  <a:pt x="56814" y="20603"/>
                </a:lnTo>
                <a:lnTo>
                  <a:pt x="65816" y="18815"/>
                </a:lnTo>
                <a:lnTo>
                  <a:pt x="75204" y="17623"/>
                </a:lnTo>
                <a:lnTo>
                  <a:pt x="84849" y="16829"/>
                </a:lnTo>
                <a:lnTo>
                  <a:pt x="94666" y="16300"/>
                </a:lnTo>
                <a:lnTo>
                  <a:pt x="116863" y="15711"/>
                </a:lnTo>
                <a:lnTo>
                  <a:pt x="128708" y="15554"/>
                </a:lnTo>
                <a:lnTo>
                  <a:pt x="140839" y="14603"/>
                </a:lnTo>
                <a:lnTo>
                  <a:pt x="153159" y="13122"/>
                </a:lnTo>
                <a:lnTo>
                  <a:pt x="165606" y="11288"/>
                </a:lnTo>
                <a:lnTo>
                  <a:pt x="177291" y="10065"/>
                </a:lnTo>
                <a:lnTo>
                  <a:pt x="188467" y="9250"/>
                </a:lnTo>
                <a:lnTo>
                  <a:pt x="199305" y="8707"/>
                </a:lnTo>
                <a:lnTo>
                  <a:pt x="209070" y="7498"/>
                </a:lnTo>
                <a:lnTo>
                  <a:pt x="218120" y="5845"/>
                </a:lnTo>
                <a:lnTo>
                  <a:pt x="226693" y="3897"/>
                </a:lnTo>
                <a:lnTo>
                  <a:pt x="235796" y="2598"/>
                </a:lnTo>
                <a:lnTo>
                  <a:pt x="245250" y="1732"/>
                </a:lnTo>
                <a:lnTo>
                  <a:pt x="263094" y="770"/>
                </a:lnTo>
                <a:lnTo>
                  <a:pt x="28956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400" bIns="-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MARTInkAnnotation87"/>
          <p:cNvSpPr/>
          <p:nvPr/>
        </p:nvSpPr>
        <p:spPr>
          <a:xfrm>
            <a:off x="1814400" y="3467160"/>
            <a:ext cx="271440" cy="250920"/>
          </a:xfrm>
          <a:custGeom>
            <a:avLst/>
            <a:gdLst>
              <a:gd name="textAreaLeft" fmla="*/ 0 w 271440"/>
              <a:gd name="textAreaRight" fmla="*/ 271800 w 27144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271807" h="250681">
                <a:moveTo>
                  <a:pt x="90677" y="0"/>
                </a:moveTo>
                <a:lnTo>
                  <a:pt x="65173" y="25505"/>
                </a:lnTo>
                <a:lnTo>
                  <a:pt x="60151" y="32784"/>
                </a:lnTo>
                <a:lnTo>
                  <a:pt x="57626" y="37097"/>
                </a:lnTo>
                <a:lnTo>
                  <a:pt x="50306" y="44145"/>
                </a:lnTo>
                <a:lnTo>
                  <a:pt x="42254" y="50100"/>
                </a:lnTo>
                <a:lnTo>
                  <a:pt x="35854" y="55569"/>
                </a:lnTo>
                <a:lnTo>
                  <a:pt x="30187" y="60821"/>
                </a:lnTo>
                <a:lnTo>
                  <a:pt x="27491" y="63408"/>
                </a:lnTo>
                <a:lnTo>
                  <a:pt x="24846" y="65132"/>
                </a:lnTo>
                <a:lnTo>
                  <a:pt x="19650" y="67047"/>
                </a:lnTo>
                <a:lnTo>
                  <a:pt x="12261" y="70157"/>
                </a:lnTo>
                <a:lnTo>
                  <a:pt x="0" y="75846"/>
                </a:lnTo>
                <a:lnTo>
                  <a:pt x="7554" y="76095"/>
                </a:lnTo>
                <a:lnTo>
                  <a:pt x="16471" y="76169"/>
                </a:lnTo>
                <a:lnTo>
                  <a:pt x="20886" y="75333"/>
                </a:lnTo>
                <a:lnTo>
                  <a:pt x="26370" y="73928"/>
                </a:lnTo>
                <a:lnTo>
                  <a:pt x="32566" y="72146"/>
                </a:lnTo>
                <a:lnTo>
                  <a:pt x="40083" y="70957"/>
                </a:lnTo>
                <a:lnTo>
                  <a:pt x="48481" y="70165"/>
                </a:lnTo>
                <a:lnTo>
                  <a:pt x="57466" y="69636"/>
                </a:lnTo>
                <a:lnTo>
                  <a:pt x="76481" y="69050"/>
                </a:lnTo>
                <a:lnTo>
                  <a:pt x="136489" y="68621"/>
                </a:lnTo>
                <a:lnTo>
                  <a:pt x="146619" y="68608"/>
                </a:lnTo>
                <a:lnTo>
                  <a:pt x="155911" y="69445"/>
                </a:lnTo>
                <a:lnTo>
                  <a:pt x="164647" y="70850"/>
                </a:lnTo>
                <a:lnTo>
                  <a:pt x="173010" y="72634"/>
                </a:lnTo>
                <a:lnTo>
                  <a:pt x="181972" y="75516"/>
                </a:lnTo>
                <a:lnTo>
                  <a:pt x="191334" y="79130"/>
                </a:lnTo>
                <a:lnTo>
                  <a:pt x="200962" y="83234"/>
                </a:lnTo>
                <a:lnTo>
                  <a:pt x="209073" y="87662"/>
                </a:lnTo>
                <a:lnTo>
                  <a:pt x="216175" y="92308"/>
                </a:lnTo>
                <a:lnTo>
                  <a:pt x="222603" y="97099"/>
                </a:lnTo>
                <a:lnTo>
                  <a:pt x="236517" y="106937"/>
                </a:lnTo>
                <a:lnTo>
                  <a:pt x="243784" y="111932"/>
                </a:lnTo>
                <a:lnTo>
                  <a:pt x="249475" y="117801"/>
                </a:lnTo>
                <a:lnTo>
                  <a:pt x="254116" y="124254"/>
                </a:lnTo>
                <a:lnTo>
                  <a:pt x="258056" y="131096"/>
                </a:lnTo>
                <a:lnTo>
                  <a:pt x="264692" y="143214"/>
                </a:lnTo>
                <a:lnTo>
                  <a:pt x="267647" y="148816"/>
                </a:lnTo>
                <a:lnTo>
                  <a:pt x="269617" y="155091"/>
                </a:lnTo>
                <a:lnTo>
                  <a:pt x="270931" y="161814"/>
                </a:lnTo>
                <a:lnTo>
                  <a:pt x="271806" y="168836"/>
                </a:lnTo>
                <a:lnTo>
                  <a:pt x="271543" y="175211"/>
                </a:lnTo>
                <a:lnTo>
                  <a:pt x="270521" y="181154"/>
                </a:lnTo>
                <a:lnTo>
                  <a:pt x="268993" y="186809"/>
                </a:lnTo>
                <a:lnTo>
                  <a:pt x="265038" y="199866"/>
                </a:lnTo>
                <a:lnTo>
                  <a:pt x="262798" y="206904"/>
                </a:lnTo>
                <a:lnTo>
                  <a:pt x="259611" y="212443"/>
                </a:lnTo>
                <a:lnTo>
                  <a:pt x="255793" y="216982"/>
                </a:lnTo>
                <a:lnTo>
                  <a:pt x="251554" y="220855"/>
                </a:lnTo>
                <a:lnTo>
                  <a:pt x="247035" y="224283"/>
                </a:lnTo>
                <a:lnTo>
                  <a:pt x="242329" y="227416"/>
                </a:lnTo>
                <a:lnTo>
                  <a:pt x="237499" y="230351"/>
                </a:lnTo>
                <a:lnTo>
                  <a:pt x="232585" y="234000"/>
                </a:lnTo>
                <a:lnTo>
                  <a:pt x="227616" y="238127"/>
                </a:lnTo>
                <a:lnTo>
                  <a:pt x="222610" y="242571"/>
                </a:lnTo>
                <a:lnTo>
                  <a:pt x="216732" y="245534"/>
                </a:lnTo>
                <a:lnTo>
                  <a:pt x="210274" y="247510"/>
                </a:lnTo>
                <a:lnTo>
                  <a:pt x="203428" y="248826"/>
                </a:lnTo>
                <a:lnTo>
                  <a:pt x="196325" y="249705"/>
                </a:lnTo>
                <a:lnTo>
                  <a:pt x="189049" y="250289"/>
                </a:lnTo>
                <a:lnTo>
                  <a:pt x="181658" y="250680"/>
                </a:lnTo>
                <a:lnTo>
                  <a:pt x="175038" y="249246"/>
                </a:lnTo>
                <a:lnTo>
                  <a:pt x="168931" y="246598"/>
                </a:lnTo>
                <a:lnTo>
                  <a:pt x="163167" y="243139"/>
                </a:lnTo>
                <a:lnTo>
                  <a:pt x="157630" y="240832"/>
                </a:lnTo>
                <a:lnTo>
                  <a:pt x="152246" y="239295"/>
                </a:lnTo>
                <a:lnTo>
                  <a:pt x="146963" y="238270"/>
                </a:lnTo>
                <a:lnTo>
                  <a:pt x="138835" y="234874"/>
                </a:lnTo>
                <a:lnTo>
                  <a:pt x="128777" y="2286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MARTInkAnnotation88"/>
          <p:cNvSpPr/>
          <p:nvPr/>
        </p:nvSpPr>
        <p:spPr>
          <a:xfrm>
            <a:off x="1812960" y="3444840"/>
            <a:ext cx="290520" cy="22320"/>
          </a:xfrm>
          <a:custGeom>
            <a:avLst/>
            <a:gdLst>
              <a:gd name="textAreaLeft" fmla="*/ 0 w 290520"/>
              <a:gd name="textAreaRight" fmla="*/ 290880 w 2905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89561" h="22861">
                <a:moveTo>
                  <a:pt x="0" y="22860"/>
                </a:moveTo>
                <a:lnTo>
                  <a:pt x="8091" y="22860"/>
                </a:lnTo>
                <a:lnTo>
                  <a:pt x="11320" y="22014"/>
                </a:lnTo>
                <a:lnTo>
                  <a:pt x="14320" y="20602"/>
                </a:lnTo>
                <a:lnTo>
                  <a:pt x="17167" y="18815"/>
                </a:lnTo>
                <a:lnTo>
                  <a:pt x="19911" y="17623"/>
                </a:lnTo>
                <a:lnTo>
                  <a:pt x="22587" y="16829"/>
                </a:lnTo>
                <a:lnTo>
                  <a:pt x="25218" y="16300"/>
                </a:lnTo>
                <a:lnTo>
                  <a:pt x="45102" y="11509"/>
                </a:lnTo>
                <a:lnTo>
                  <a:pt x="53775" y="10212"/>
                </a:lnTo>
                <a:lnTo>
                  <a:pt x="62943" y="9348"/>
                </a:lnTo>
                <a:lnTo>
                  <a:pt x="72442" y="8772"/>
                </a:lnTo>
                <a:lnTo>
                  <a:pt x="94285" y="8132"/>
                </a:lnTo>
                <a:lnTo>
                  <a:pt x="142802" y="7721"/>
                </a:lnTo>
                <a:lnTo>
                  <a:pt x="156162" y="6841"/>
                </a:lnTo>
                <a:lnTo>
                  <a:pt x="170148" y="5407"/>
                </a:lnTo>
                <a:lnTo>
                  <a:pt x="184552" y="3605"/>
                </a:lnTo>
                <a:lnTo>
                  <a:pt x="197541" y="2403"/>
                </a:lnTo>
                <a:lnTo>
                  <a:pt x="209588" y="1602"/>
                </a:lnTo>
                <a:lnTo>
                  <a:pt x="231157" y="712"/>
                </a:lnTo>
                <a:lnTo>
                  <a:pt x="257580" y="211"/>
                </a:lnTo>
                <a:lnTo>
                  <a:pt x="28956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MARTInkAnnotation89"/>
          <p:cNvSpPr/>
          <p:nvPr/>
        </p:nvSpPr>
        <p:spPr>
          <a:xfrm>
            <a:off x="1554120" y="3840120"/>
            <a:ext cx="265320" cy="236520"/>
          </a:xfrm>
          <a:custGeom>
            <a:avLst/>
            <a:gdLst>
              <a:gd name="textAreaLeft" fmla="*/ 0 w 265320"/>
              <a:gd name="textAreaRight" fmla="*/ 265680 w 26532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64684" h="236080">
                <a:moveTo>
                  <a:pt x="0" y="30378"/>
                </a:moveTo>
                <a:lnTo>
                  <a:pt x="4046" y="30378"/>
                </a:lnTo>
                <a:lnTo>
                  <a:pt x="5237" y="29531"/>
                </a:lnTo>
                <a:lnTo>
                  <a:pt x="6031" y="28121"/>
                </a:lnTo>
                <a:lnTo>
                  <a:pt x="6561" y="26333"/>
                </a:lnTo>
                <a:lnTo>
                  <a:pt x="7761" y="25142"/>
                </a:lnTo>
                <a:lnTo>
                  <a:pt x="9407" y="24347"/>
                </a:lnTo>
                <a:lnTo>
                  <a:pt x="14341" y="22618"/>
                </a:lnTo>
                <a:lnTo>
                  <a:pt x="22178" y="19027"/>
                </a:lnTo>
                <a:lnTo>
                  <a:pt x="29048" y="16866"/>
                </a:lnTo>
                <a:lnTo>
                  <a:pt x="35771" y="15059"/>
                </a:lnTo>
                <a:lnTo>
                  <a:pt x="39934" y="13392"/>
                </a:lnTo>
                <a:lnTo>
                  <a:pt x="44403" y="11434"/>
                </a:lnTo>
                <a:lnTo>
                  <a:pt x="49922" y="10129"/>
                </a:lnTo>
                <a:lnTo>
                  <a:pt x="56141" y="9259"/>
                </a:lnTo>
                <a:lnTo>
                  <a:pt x="62828" y="8678"/>
                </a:lnTo>
                <a:lnTo>
                  <a:pt x="68978" y="7446"/>
                </a:lnTo>
                <a:lnTo>
                  <a:pt x="74772" y="5776"/>
                </a:lnTo>
                <a:lnTo>
                  <a:pt x="80328" y="3817"/>
                </a:lnTo>
                <a:lnTo>
                  <a:pt x="86572" y="2511"/>
                </a:lnTo>
                <a:lnTo>
                  <a:pt x="93275" y="1640"/>
                </a:lnTo>
                <a:lnTo>
                  <a:pt x="100283" y="1059"/>
                </a:lnTo>
                <a:lnTo>
                  <a:pt x="108342" y="672"/>
                </a:lnTo>
                <a:lnTo>
                  <a:pt x="126328" y="242"/>
                </a:lnTo>
                <a:lnTo>
                  <a:pt x="147403" y="0"/>
                </a:lnTo>
                <a:lnTo>
                  <a:pt x="154149" y="813"/>
                </a:lnTo>
                <a:lnTo>
                  <a:pt x="161186" y="2202"/>
                </a:lnTo>
                <a:lnTo>
                  <a:pt x="168417" y="3974"/>
                </a:lnTo>
                <a:lnTo>
                  <a:pt x="174085" y="6002"/>
                </a:lnTo>
                <a:lnTo>
                  <a:pt x="178710" y="8201"/>
                </a:lnTo>
                <a:lnTo>
                  <a:pt x="182640" y="10513"/>
                </a:lnTo>
                <a:lnTo>
                  <a:pt x="186953" y="12055"/>
                </a:lnTo>
                <a:lnTo>
                  <a:pt x="191522" y="13083"/>
                </a:lnTo>
                <a:lnTo>
                  <a:pt x="196261" y="13768"/>
                </a:lnTo>
                <a:lnTo>
                  <a:pt x="199421" y="15071"/>
                </a:lnTo>
                <a:lnTo>
                  <a:pt x="201527" y="16787"/>
                </a:lnTo>
                <a:lnTo>
                  <a:pt x="202931" y="18777"/>
                </a:lnTo>
                <a:lnTo>
                  <a:pt x="204492" y="25505"/>
                </a:lnTo>
                <a:lnTo>
                  <a:pt x="204908" y="29669"/>
                </a:lnTo>
                <a:lnTo>
                  <a:pt x="205185" y="34139"/>
                </a:lnTo>
                <a:lnTo>
                  <a:pt x="205493" y="43620"/>
                </a:lnTo>
                <a:lnTo>
                  <a:pt x="203882" y="47673"/>
                </a:lnTo>
                <a:lnTo>
                  <a:pt x="201115" y="51222"/>
                </a:lnTo>
                <a:lnTo>
                  <a:pt x="193524" y="58268"/>
                </a:lnTo>
                <a:lnTo>
                  <a:pt x="184506" y="67045"/>
                </a:lnTo>
                <a:lnTo>
                  <a:pt x="179731" y="70909"/>
                </a:lnTo>
                <a:lnTo>
                  <a:pt x="174854" y="74333"/>
                </a:lnTo>
                <a:lnTo>
                  <a:pt x="169910" y="77461"/>
                </a:lnTo>
                <a:lnTo>
                  <a:pt x="164920" y="81240"/>
                </a:lnTo>
                <a:lnTo>
                  <a:pt x="159900" y="85453"/>
                </a:lnTo>
                <a:lnTo>
                  <a:pt x="154860" y="89954"/>
                </a:lnTo>
                <a:lnTo>
                  <a:pt x="149806" y="93803"/>
                </a:lnTo>
                <a:lnTo>
                  <a:pt x="144745" y="97214"/>
                </a:lnTo>
                <a:lnTo>
                  <a:pt x="139676" y="100336"/>
                </a:lnTo>
                <a:lnTo>
                  <a:pt x="131787" y="106062"/>
                </a:lnTo>
                <a:lnTo>
                  <a:pt x="128498" y="108774"/>
                </a:lnTo>
                <a:lnTo>
                  <a:pt x="126306" y="111429"/>
                </a:lnTo>
                <a:lnTo>
                  <a:pt x="124843" y="114045"/>
                </a:lnTo>
                <a:lnTo>
                  <a:pt x="123220" y="119210"/>
                </a:lnTo>
                <a:lnTo>
                  <a:pt x="122498" y="124328"/>
                </a:lnTo>
                <a:lnTo>
                  <a:pt x="123152" y="126031"/>
                </a:lnTo>
                <a:lnTo>
                  <a:pt x="124434" y="127167"/>
                </a:lnTo>
                <a:lnTo>
                  <a:pt x="129811" y="129275"/>
                </a:lnTo>
                <a:lnTo>
                  <a:pt x="175722" y="144818"/>
                </a:lnTo>
                <a:lnTo>
                  <a:pt x="183188" y="147311"/>
                </a:lnTo>
                <a:lnTo>
                  <a:pt x="191552" y="149821"/>
                </a:lnTo>
                <a:lnTo>
                  <a:pt x="209876" y="154866"/>
                </a:lnTo>
                <a:lnTo>
                  <a:pt x="217811" y="157397"/>
                </a:lnTo>
                <a:lnTo>
                  <a:pt x="224794" y="159931"/>
                </a:lnTo>
                <a:lnTo>
                  <a:pt x="231143" y="162466"/>
                </a:lnTo>
                <a:lnTo>
                  <a:pt x="237068" y="165851"/>
                </a:lnTo>
                <a:lnTo>
                  <a:pt x="242712" y="169800"/>
                </a:lnTo>
                <a:lnTo>
                  <a:pt x="248168" y="174126"/>
                </a:lnTo>
                <a:lnTo>
                  <a:pt x="252652" y="177856"/>
                </a:lnTo>
                <a:lnTo>
                  <a:pt x="259892" y="184260"/>
                </a:lnTo>
                <a:lnTo>
                  <a:pt x="262161" y="187152"/>
                </a:lnTo>
                <a:lnTo>
                  <a:pt x="264683" y="192625"/>
                </a:lnTo>
                <a:lnTo>
                  <a:pt x="264508" y="195269"/>
                </a:lnTo>
                <a:lnTo>
                  <a:pt x="263546" y="197879"/>
                </a:lnTo>
                <a:lnTo>
                  <a:pt x="262057" y="200466"/>
                </a:lnTo>
                <a:lnTo>
                  <a:pt x="255888" y="205597"/>
                </a:lnTo>
                <a:lnTo>
                  <a:pt x="251872" y="208151"/>
                </a:lnTo>
                <a:lnTo>
                  <a:pt x="247501" y="210700"/>
                </a:lnTo>
                <a:lnTo>
                  <a:pt x="242894" y="213246"/>
                </a:lnTo>
                <a:lnTo>
                  <a:pt x="238129" y="215790"/>
                </a:lnTo>
                <a:lnTo>
                  <a:pt x="231566" y="218333"/>
                </a:lnTo>
                <a:lnTo>
                  <a:pt x="223804" y="220874"/>
                </a:lnTo>
                <a:lnTo>
                  <a:pt x="215243" y="223416"/>
                </a:lnTo>
                <a:lnTo>
                  <a:pt x="196699" y="228497"/>
                </a:lnTo>
                <a:lnTo>
                  <a:pt x="187013" y="231038"/>
                </a:lnTo>
                <a:lnTo>
                  <a:pt x="178015" y="232731"/>
                </a:lnTo>
                <a:lnTo>
                  <a:pt x="169477" y="233860"/>
                </a:lnTo>
                <a:lnTo>
                  <a:pt x="161245" y="234613"/>
                </a:lnTo>
                <a:lnTo>
                  <a:pt x="153217" y="235115"/>
                </a:lnTo>
                <a:lnTo>
                  <a:pt x="137523" y="235672"/>
                </a:lnTo>
                <a:lnTo>
                  <a:pt x="107598" y="236030"/>
                </a:lnTo>
                <a:lnTo>
                  <a:pt x="95517" y="236079"/>
                </a:lnTo>
                <a:lnTo>
                  <a:pt x="89078" y="235246"/>
                </a:lnTo>
                <a:lnTo>
                  <a:pt x="82245" y="233843"/>
                </a:lnTo>
                <a:lnTo>
                  <a:pt x="75151" y="232062"/>
                </a:lnTo>
                <a:lnTo>
                  <a:pt x="69573" y="230874"/>
                </a:lnTo>
                <a:lnTo>
                  <a:pt x="65009" y="230082"/>
                </a:lnTo>
                <a:lnTo>
                  <a:pt x="57680" y="229202"/>
                </a:lnTo>
                <a:lnTo>
                  <a:pt x="49640" y="228707"/>
                </a:lnTo>
                <a:lnTo>
                  <a:pt x="45720" y="22849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MARTInkAnnotation90"/>
          <p:cNvSpPr/>
          <p:nvPr/>
        </p:nvSpPr>
        <p:spPr>
          <a:xfrm>
            <a:off x="1181160" y="3902040"/>
            <a:ext cx="136440" cy="6480"/>
          </a:xfrm>
          <a:custGeom>
            <a:avLst/>
            <a:gdLst>
              <a:gd name="textAreaLeft" fmla="*/ 0 w 136440"/>
              <a:gd name="textAreaRight" fmla="*/ 136800 w 13644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137161" h="7528">
                <a:moveTo>
                  <a:pt x="0" y="7527"/>
                </a:moveTo>
                <a:lnTo>
                  <a:pt x="28739" y="7527"/>
                </a:lnTo>
                <a:lnTo>
                  <a:pt x="33553" y="6681"/>
                </a:lnTo>
                <a:lnTo>
                  <a:pt x="38455" y="5270"/>
                </a:lnTo>
                <a:lnTo>
                  <a:pt x="43417" y="3482"/>
                </a:lnTo>
                <a:lnTo>
                  <a:pt x="49264" y="2290"/>
                </a:lnTo>
                <a:lnTo>
                  <a:pt x="55703" y="1496"/>
                </a:lnTo>
                <a:lnTo>
                  <a:pt x="62535" y="966"/>
                </a:lnTo>
                <a:lnTo>
                  <a:pt x="68784" y="613"/>
                </a:lnTo>
                <a:lnTo>
                  <a:pt x="80242" y="221"/>
                </a:lnTo>
                <a:lnTo>
                  <a:pt x="96212" y="0"/>
                </a:lnTo>
                <a:lnTo>
                  <a:pt x="101395" y="816"/>
                </a:lnTo>
                <a:lnTo>
                  <a:pt x="106543" y="2206"/>
                </a:lnTo>
                <a:lnTo>
                  <a:pt x="111669" y="3980"/>
                </a:lnTo>
                <a:lnTo>
                  <a:pt x="115932" y="5162"/>
                </a:lnTo>
                <a:lnTo>
                  <a:pt x="119622" y="5951"/>
                </a:lnTo>
                <a:lnTo>
                  <a:pt x="122928" y="6476"/>
                </a:lnTo>
                <a:lnTo>
                  <a:pt x="125979" y="6826"/>
                </a:lnTo>
                <a:lnTo>
                  <a:pt x="128859" y="7060"/>
                </a:lnTo>
                <a:lnTo>
                  <a:pt x="137160" y="752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MARTInkAnnotation91"/>
          <p:cNvSpPr/>
          <p:nvPr/>
        </p:nvSpPr>
        <p:spPr>
          <a:xfrm>
            <a:off x="1143000" y="3984480"/>
            <a:ext cx="106200" cy="7920"/>
          </a:xfrm>
          <a:custGeom>
            <a:avLst/>
            <a:gdLst>
              <a:gd name="textAreaLeft" fmla="*/ 0 w 106200"/>
              <a:gd name="textAreaRight" fmla="*/ 106560 w 1062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06681" h="7621">
                <a:moveTo>
                  <a:pt x="0" y="0"/>
                </a:moveTo>
                <a:lnTo>
                  <a:pt x="8091" y="4045"/>
                </a:lnTo>
                <a:lnTo>
                  <a:pt x="12167" y="5237"/>
                </a:lnTo>
                <a:lnTo>
                  <a:pt x="16578" y="6032"/>
                </a:lnTo>
                <a:lnTo>
                  <a:pt x="21212" y="6561"/>
                </a:lnTo>
                <a:lnTo>
                  <a:pt x="26842" y="6915"/>
                </a:lnTo>
                <a:lnTo>
                  <a:pt x="39870" y="7306"/>
                </a:lnTo>
                <a:lnTo>
                  <a:pt x="64540" y="7559"/>
                </a:lnTo>
                <a:lnTo>
                  <a:pt x="106680" y="76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MARTInkAnnotation92"/>
          <p:cNvSpPr/>
          <p:nvPr/>
        </p:nvSpPr>
        <p:spPr>
          <a:xfrm>
            <a:off x="1160640" y="4944960"/>
            <a:ext cx="210960" cy="144720"/>
          </a:xfrm>
          <a:custGeom>
            <a:avLst/>
            <a:gdLst>
              <a:gd name="textAreaLeft" fmla="*/ 0 w 210960"/>
              <a:gd name="textAreaRight" fmla="*/ 211320 w 21096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1847" h="144781">
                <a:moveTo>
                  <a:pt x="82306" y="0"/>
                </a:moveTo>
                <a:lnTo>
                  <a:pt x="75745" y="6561"/>
                </a:lnTo>
                <a:lnTo>
                  <a:pt x="75157" y="9407"/>
                </a:lnTo>
                <a:lnTo>
                  <a:pt x="75000" y="11352"/>
                </a:lnTo>
                <a:lnTo>
                  <a:pt x="74049" y="13494"/>
                </a:lnTo>
                <a:lnTo>
                  <a:pt x="72568" y="15770"/>
                </a:lnTo>
                <a:lnTo>
                  <a:pt x="70734" y="18133"/>
                </a:lnTo>
                <a:lnTo>
                  <a:pt x="68665" y="20556"/>
                </a:lnTo>
                <a:lnTo>
                  <a:pt x="66438" y="23017"/>
                </a:lnTo>
                <a:lnTo>
                  <a:pt x="61707" y="28010"/>
                </a:lnTo>
                <a:lnTo>
                  <a:pt x="49249" y="40649"/>
                </a:lnTo>
                <a:lnTo>
                  <a:pt x="45875" y="43186"/>
                </a:lnTo>
                <a:lnTo>
                  <a:pt x="41932" y="45724"/>
                </a:lnTo>
                <a:lnTo>
                  <a:pt x="37610" y="48262"/>
                </a:lnTo>
                <a:lnTo>
                  <a:pt x="33882" y="50802"/>
                </a:lnTo>
                <a:lnTo>
                  <a:pt x="30550" y="53341"/>
                </a:lnTo>
                <a:lnTo>
                  <a:pt x="27482" y="55881"/>
                </a:lnTo>
                <a:lnTo>
                  <a:pt x="24590" y="58421"/>
                </a:lnTo>
                <a:lnTo>
                  <a:pt x="21815" y="60961"/>
                </a:lnTo>
                <a:lnTo>
                  <a:pt x="16475" y="66040"/>
                </a:lnTo>
                <a:lnTo>
                  <a:pt x="3593" y="78740"/>
                </a:lnTo>
                <a:lnTo>
                  <a:pt x="1891" y="81280"/>
                </a:lnTo>
                <a:lnTo>
                  <a:pt x="756" y="83820"/>
                </a:lnTo>
                <a:lnTo>
                  <a:pt x="0" y="86360"/>
                </a:lnTo>
                <a:lnTo>
                  <a:pt x="342" y="88900"/>
                </a:lnTo>
                <a:lnTo>
                  <a:pt x="1417" y="91440"/>
                </a:lnTo>
                <a:lnTo>
                  <a:pt x="2980" y="93980"/>
                </a:lnTo>
                <a:lnTo>
                  <a:pt x="4022" y="96520"/>
                </a:lnTo>
                <a:lnTo>
                  <a:pt x="4716" y="99060"/>
                </a:lnTo>
                <a:lnTo>
                  <a:pt x="5180" y="101600"/>
                </a:lnTo>
                <a:lnTo>
                  <a:pt x="7182" y="104140"/>
                </a:lnTo>
                <a:lnTo>
                  <a:pt x="10210" y="106680"/>
                </a:lnTo>
                <a:lnTo>
                  <a:pt x="13922" y="109220"/>
                </a:lnTo>
                <a:lnTo>
                  <a:pt x="18937" y="110913"/>
                </a:lnTo>
                <a:lnTo>
                  <a:pt x="24820" y="112042"/>
                </a:lnTo>
                <a:lnTo>
                  <a:pt x="31282" y="112795"/>
                </a:lnTo>
                <a:lnTo>
                  <a:pt x="38977" y="114143"/>
                </a:lnTo>
                <a:lnTo>
                  <a:pt x="47493" y="115889"/>
                </a:lnTo>
                <a:lnTo>
                  <a:pt x="65987" y="120086"/>
                </a:lnTo>
                <a:lnTo>
                  <a:pt x="85495" y="124774"/>
                </a:lnTo>
                <a:lnTo>
                  <a:pt x="95439" y="126362"/>
                </a:lnTo>
                <a:lnTo>
                  <a:pt x="105455" y="127422"/>
                </a:lnTo>
                <a:lnTo>
                  <a:pt x="115518" y="128128"/>
                </a:lnTo>
                <a:lnTo>
                  <a:pt x="124768" y="129445"/>
                </a:lnTo>
                <a:lnTo>
                  <a:pt x="133474" y="131170"/>
                </a:lnTo>
                <a:lnTo>
                  <a:pt x="141818" y="133167"/>
                </a:lnTo>
                <a:lnTo>
                  <a:pt x="149921" y="135344"/>
                </a:lnTo>
                <a:lnTo>
                  <a:pt x="165697" y="140022"/>
                </a:lnTo>
                <a:lnTo>
                  <a:pt x="171767" y="141608"/>
                </a:lnTo>
                <a:lnTo>
                  <a:pt x="176660" y="142665"/>
                </a:lnTo>
                <a:lnTo>
                  <a:pt x="180769" y="143370"/>
                </a:lnTo>
                <a:lnTo>
                  <a:pt x="185201" y="143840"/>
                </a:lnTo>
                <a:lnTo>
                  <a:pt x="189849" y="144153"/>
                </a:lnTo>
                <a:lnTo>
                  <a:pt x="198683" y="144501"/>
                </a:lnTo>
                <a:lnTo>
                  <a:pt x="211846" y="1447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MARTInkAnnotation93"/>
          <p:cNvSpPr/>
          <p:nvPr/>
        </p:nvSpPr>
        <p:spPr>
          <a:xfrm>
            <a:off x="1325520" y="4930920"/>
            <a:ext cx="76320" cy="349200"/>
          </a:xfrm>
          <a:custGeom>
            <a:avLst/>
            <a:gdLst>
              <a:gd name="textAreaLeft" fmla="*/ 0 w 76320"/>
              <a:gd name="textAreaRight" fmla="*/ 76320 w 763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76201" h="350521">
                <a:moveTo>
                  <a:pt x="76200" y="0"/>
                </a:moveTo>
                <a:lnTo>
                  <a:pt x="69639" y="6561"/>
                </a:lnTo>
                <a:lnTo>
                  <a:pt x="69051" y="9407"/>
                </a:lnTo>
                <a:lnTo>
                  <a:pt x="68894" y="11351"/>
                </a:lnTo>
                <a:lnTo>
                  <a:pt x="67943" y="14341"/>
                </a:lnTo>
                <a:lnTo>
                  <a:pt x="66462" y="18027"/>
                </a:lnTo>
                <a:lnTo>
                  <a:pt x="64628" y="22178"/>
                </a:lnTo>
                <a:lnTo>
                  <a:pt x="63405" y="27485"/>
                </a:lnTo>
                <a:lnTo>
                  <a:pt x="62590" y="33563"/>
                </a:lnTo>
                <a:lnTo>
                  <a:pt x="62047" y="40155"/>
                </a:lnTo>
                <a:lnTo>
                  <a:pt x="60838" y="47090"/>
                </a:lnTo>
                <a:lnTo>
                  <a:pt x="59185" y="54253"/>
                </a:lnTo>
                <a:lnTo>
                  <a:pt x="57237" y="61569"/>
                </a:lnTo>
                <a:lnTo>
                  <a:pt x="55938" y="68986"/>
                </a:lnTo>
                <a:lnTo>
                  <a:pt x="55072" y="76471"/>
                </a:lnTo>
                <a:lnTo>
                  <a:pt x="54495" y="84000"/>
                </a:lnTo>
                <a:lnTo>
                  <a:pt x="53263" y="92407"/>
                </a:lnTo>
                <a:lnTo>
                  <a:pt x="51595" y="101398"/>
                </a:lnTo>
                <a:lnTo>
                  <a:pt x="49637" y="110778"/>
                </a:lnTo>
                <a:lnTo>
                  <a:pt x="48331" y="120419"/>
                </a:lnTo>
                <a:lnTo>
                  <a:pt x="47461" y="130233"/>
                </a:lnTo>
                <a:lnTo>
                  <a:pt x="46881" y="140162"/>
                </a:lnTo>
                <a:lnTo>
                  <a:pt x="45647" y="150168"/>
                </a:lnTo>
                <a:lnTo>
                  <a:pt x="43978" y="160226"/>
                </a:lnTo>
                <a:lnTo>
                  <a:pt x="42019" y="170317"/>
                </a:lnTo>
                <a:lnTo>
                  <a:pt x="37584" y="190561"/>
                </a:lnTo>
                <a:lnTo>
                  <a:pt x="22815" y="251465"/>
                </a:lnTo>
                <a:lnTo>
                  <a:pt x="20290" y="261623"/>
                </a:lnTo>
                <a:lnTo>
                  <a:pt x="17760" y="270936"/>
                </a:lnTo>
                <a:lnTo>
                  <a:pt x="12691" y="288056"/>
                </a:lnTo>
                <a:lnTo>
                  <a:pt x="5078" y="311975"/>
                </a:lnTo>
                <a:lnTo>
                  <a:pt x="3385" y="318896"/>
                </a:lnTo>
                <a:lnTo>
                  <a:pt x="2257" y="325204"/>
                </a:lnTo>
                <a:lnTo>
                  <a:pt x="1003" y="335882"/>
                </a:lnTo>
                <a:lnTo>
                  <a:pt x="669" y="339915"/>
                </a:lnTo>
                <a:lnTo>
                  <a:pt x="0" y="3505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MARTInkAnnotation94"/>
          <p:cNvSpPr/>
          <p:nvPr/>
        </p:nvSpPr>
        <p:spPr>
          <a:xfrm>
            <a:off x="1495440" y="4960800"/>
            <a:ext cx="179280" cy="257400"/>
          </a:xfrm>
          <a:custGeom>
            <a:avLst/>
            <a:gdLst>
              <a:gd name="textAreaLeft" fmla="*/ 0 w 179280"/>
              <a:gd name="textAreaRight" fmla="*/ 179640 w 17928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179679" h="257404">
                <a:moveTo>
                  <a:pt x="67047" y="0"/>
                </a:moveTo>
                <a:lnTo>
                  <a:pt x="63002" y="4045"/>
                </a:lnTo>
                <a:lnTo>
                  <a:pt x="58758" y="10546"/>
                </a:lnTo>
                <a:lnTo>
                  <a:pt x="56441" y="14652"/>
                </a:lnTo>
                <a:lnTo>
                  <a:pt x="51609" y="23727"/>
                </a:lnTo>
                <a:lnTo>
                  <a:pt x="41608" y="43351"/>
                </a:lnTo>
                <a:lnTo>
                  <a:pt x="38234" y="49221"/>
                </a:lnTo>
                <a:lnTo>
                  <a:pt x="34292" y="55674"/>
                </a:lnTo>
                <a:lnTo>
                  <a:pt x="29970" y="62516"/>
                </a:lnTo>
                <a:lnTo>
                  <a:pt x="26243" y="70464"/>
                </a:lnTo>
                <a:lnTo>
                  <a:pt x="22911" y="79149"/>
                </a:lnTo>
                <a:lnTo>
                  <a:pt x="11480" y="113377"/>
                </a:lnTo>
                <a:lnTo>
                  <a:pt x="8835" y="122152"/>
                </a:lnTo>
                <a:lnTo>
                  <a:pt x="3640" y="140932"/>
                </a:lnTo>
                <a:lnTo>
                  <a:pt x="1916" y="149835"/>
                </a:lnTo>
                <a:lnTo>
                  <a:pt x="766" y="158310"/>
                </a:lnTo>
                <a:lnTo>
                  <a:pt x="0" y="166500"/>
                </a:lnTo>
                <a:lnTo>
                  <a:pt x="335" y="174500"/>
                </a:lnTo>
                <a:lnTo>
                  <a:pt x="1406" y="182373"/>
                </a:lnTo>
                <a:lnTo>
                  <a:pt x="2966" y="190162"/>
                </a:lnTo>
                <a:lnTo>
                  <a:pt x="4853" y="197895"/>
                </a:lnTo>
                <a:lnTo>
                  <a:pt x="6958" y="205590"/>
                </a:lnTo>
                <a:lnTo>
                  <a:pt x="9207" y="213260"/>
                </a:lnTo>
                <a:lnTo>
                  <a:pt x="11554" y="220066"/>
                </a:lnTo>
                <a:lnTo>
                  <a:pt x="13965" y="226298"/>
                </a:lnTo>
                <a:lnTo>
                  <a:pt x="16419" y="232146"/>
                </a:lnTo>
                <a:lnTo>
                  <a:pt x="20595" y="236890"/>
                </a:lnTo>
                <a:lnTo>
                  <a:pt x="25919" y="240900"/>
                </a:lnTo>
                <a:lnTo>
                  <a:pt x="32008" y="244420"/>
                </a:lnTo>
                <a:lnTo>
                  <a:pt x="43290" y="250589"/>
                </a:lnTo>
                <a:lnTo>
                  <a:pt x="48669" y="253419"/>
                </a:lnTo>
                <a:lnTo>
                  <a:pt x="55642" y="255306"/>
                </a:lnTo>
                <a:lnTo>
                  <a:pt x="63677" y="256564"/>
                </a:lnTo>
                <a:lnTo>
                  <a:pt x="72420" y="257403"/>
                </a:lnTo>
                <a:lnTo>
                  <a:pt x="80789" y="257115"/>
                </a:lnTo>
                <a:lnTo>
                  <a:pt x="88909" y="256077"/>
                </a:lnTo>
                <a:lnTo>
                  <a:pt x="96861" y="254538"/>
                </a:lnTo>
                <a:lnTo>
                  <a:pt x="103857" y="251819"/>
                </a:lnTo>
                <a:lnTo>
                  <a:pt x="110214" y="248312"/>
                </a:lnTo>
                <a:lnTo>
                  <a:pt x="136628" y="230518"/>
                </a:lnTo>
                <a:lnTo>
                  <a:pt x="143068" y="224799"/>
                </a:lnTo>
                <a:lnTo>
                  <a:pt x="149054" y="218446"/>
                </a:lnTo>
                <a:lnTo>
                  <a:pt x="154738" y="211670"/>
                </a:lnTo>
                <a:lnTo>
                  <a:pt x="159375" y="203767"/>
                </a:lnTo>
                <a:lnTo>
                  <a:pt x="163312" y="195112"/>
                </a:lnTo>
                <a:lnTo>
                  <a:pt x="169945" y="177310"/>
                </a:lnTo>
                <a:lnTo>
                  <a:pt x="175715" y="160931"/>
                </a:lnTo>
                <a:lnTo>
                  <a:pt x="177592" y="152161"/>
                </a:lnTo>
                <a:lnTo>
                  <a:pt x="178844" y="142927"/>
                </a:lnTo>
                <a:lnTo>
                  <a:pt x="179678" y="133385"/>
                </a:lnTo>
                <a:lnTo>
                  <a:pt x="179388" y="124484"/>
                </a:lnTo>
                <a:lnTo>
                  <a:pt x="178348" y="116009"/>
                </a:lnTo>
                <a:lnTo>
                  <a:pt x="176808" y="107819"/>
                </a:lnTo>
                <a:lnTo>
                  <a:pt x="174934" y="99820"/>
                </a:lnTo>
                <a:lnTo>
                  <a:pt x="172838" y="91947"/>
                </a:lnTo>
                <a:lnTo>
                  <a:pt x="170595" y="84158"/>
                </a:lnTo>
                <a:lnTo>
                  <a:pt x="166559" y="76425"/>
                </a:lnTo>
                <a:lnTo>
                  <a:pt x="161328" y="68730"/>
                </a:lnTo>
                <a:lnTo>
                  <a:pt x="155301" y="61060"/>
                </a:lnTo>
                <a:lnTo>
                  <a:pt x="148743" y="54254"/>
                </a:lnTo>
                <a:lnTo>
                  <a:pt x="141831" y="48022"/>
                </a:lnTo>
                <a:lnTo>
                  <a:pt x="134683" y="42175"/>
                </a:lnTo>
                <a:lnTo>
                  <a:pt x="128224" y="37430"/>
                </a:lnTo>
                <a:lnTo>
                  <a:pt x="122225" y="33420"/>
                </a:lnTo>
                <a:lnTo>
                  <a:pt x="116533" y="29901"/>
                </a:lnTo>
                <a:lnTo>
                  <a:pt x="110198" y="26707"/>
                </a:lnTo>
                <a:lnTo>
                  <a:pt x="103434" y="23732"/>
                </a:lnTo>
                <a:lnTo>
                  <a:pt x="96385" y="20901"/>
                </a:lnTo>
                <a:lnTo>
                  <a:pt x="89146" y="19861"/>
                </a:lnTo>
                <a:lnTo>
                  <a:pt x="81779" y="20014"/>
                </a:lnTo>
                <a:lnTo>
                  <a:pt x="74329" y="20963"/>
                </a:lnTo>
                <a:lnTo>
                  <a:pt x="67668" y="22442"/>
                </a:lnTo>
                <a:lnTo>
                  <a:pt x="61534" y="24275"/>
                </a:lnTo>
                <a:lnTo>
                  <a:pt x="55752" y="26343"/>
                </a:lnTo>
                <a:lnTo>
                  <a:pt x="50204" y="27722"/>
                </a:lnTo>
                <a:lnTo>
                  <a:pt x="44812" y="28641"/>
                </a:lnTo>
                <a:lnTo>
                  <a:pt x="28947" y="304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9231"/>
          <p:cNvSpPr/>
          <p:nvPr/>
        </p:nvSpPr>
        <p:spPr>
          <a:xfrm>
            <a:off x="1660680" y="5083200"/>
            <a:ext cx="2880" cy="360"/>
          </a:xfrm>
          <a:custGeom>
            <a:avLst/>
            <a:gdLst>
              <a:gd name="textAreaLeft" fmla="*/ 0 w 2880"/>
              <a:gd name="textAreaRight" fmla="*/ 3240 w 28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259" h="1">
                <a:moveTo>
                  <a:pt x="0" y="0"/>
                </a:moveTo>
                <a:lnTo>
                  <a:pt x="225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MARTInkAnnotation96"/>
          <p:cNvSpPr/>
          <p:nvPr/>
        </p:nvSpPr>
        <p:spPr>
          <a:xfrm>
            <a:off x="1844640" y="5089680"/>
            <a:ext cx="174600" cy="15840"/>
          </a:xfrm>
          <a:custGeom>
            <a:avLst/>
            <a:gdLst>
              <a:gd name="textAreaLeft" fmla="*/ 0 w 174600"/>
              <a:gd name="textAreaRight" fmla="*/ 174960 w 1746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75261" h="15241">
                <a:moveTo>
                  <a:pt x="0" y="15240"/>
                </a:moveTo>
                <a:lnTo>
                  <a:pt x="62601" y="15240"/>
                </a:lnTo>
                <a:lnTo>
                  <a:pt x="69674" y="14394"/>
                </a:lnTo>
                <a:lnTo>
                  <a:pt x="76930" y="12982"/>
                </a:lnTo>
                <a:lnTo>
                  <a:pt x="84306" y="11195"/>
                </a:lnTo>
                <a:lnTo>
                  <a:pt x="90918" y="10003"/>
                </a:lnTo>
                <a:lnTo>
                  <a:pt x="97018" y="9209"/>
                </a:lnTo>
                <a:lnTo>
                  <a:pt x="102779" y="8679"/>
                </a:lnTo>
                <a:lnTo>
                  <a:pt x="108313" y="8326"/>
                </a:lnTo>
                <a:lnTo>
                  <a:pt x="118977" y="7934"/>
                </a:lnTo>
                <a:lnTo>
                  <a:pt x="138774" y="7682"/>
                </a:lnTo>
                <a:lnTo>
                  <a:pt x="145779" y="7647"/>
                </a:lnTo>
                <a:lnTo>
                  <a:pt x="149680" y="6792"/>
                </a:lnTo>
                <a:lnTo>
                  <a:pt x="153973" y="5375"/>
                </a:lnTo>
                <a:lnTo>
                  <a:pt x="164940" y="1062"/>
                </a:lnTo>
                <a:lnTo>
                  <a:pt x="166687" y="708"/>
                </a:lnTo>
                <a:lnTo>
                  <a:pt x="170886" y="314"/>
                </a:lnTo>
                <a:lnTo>
                  <a:pt x="17526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MARTInkAnnotation97"/>
          <p:cNvSpPr/>
          <p:nvPr/>
        </p:nvSpPr>
        <p:spPr>
          <a:xfrm>
            <a:off x="2095560" y="4915080"/>
            <a:ext cx="258840" cy="434880"/>
          </a:xfrm>
          <a:custGeom>
            <a:avLst/>
            <a:gdLst>
              <a:gd name="textAreaLeft" fmla="*/ 0 w 258840"/>
              <a:gd name="textAreaRight" fmla="*/ 259200 w 25884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258635" h="434342">
                <a:moveTo>
                  <a:pt x="75754" y="0"/>
                </a:moveTo>
                <a:lnTo>
                  <a:pt x="64403" y="11352"/>
                </a:lnTo>
                <a:lnTo>
                  <a:pt x="62259" y="12648"/>
                </a:lnTo>
                <a:lnTo>
                  <a:pt x="55198" y="15319"/>
                </a:lnTo>
                <a:lnTo>
                  <a:pt x="47744" y="21096"/>
                </a:lnTo>
                <a:lnTo>
                  <a:pt x="42703" y="25745"/>
                </a:lnTo>
                <a:lnTo>
                  <a:pt x="35105" y="37168"/>
                </a:lnTo>
                <a:lnTo>
                  <a:pt x="24952" y="50961"/>
                </a:lnTo>
                <a:lnTo>
                  <a:pt x="17333" y="64301"/>
                </a:lnTo>
                <a:lnTo>
                  <a:pt x="9714" y="78977"/>
                </a:lnTo>
                <a:lnTo>
                  <a:pt x="4634" y="89006"/>
                </a:lnTo>
                <a:lnTo>
                  <a:pt x="1811" y="99107"/>
                </a:lnTo>
                <a:lnTo>
                  <a:pt x="557" y="110935"/>
                </a:lnTo>
                <a:lnTo>
                  <a:pt x="223" y="118830"/>
                </a:lnTo>
                <a:lnTo>
                  <a:pt x="0" y="127480"/>
                </a:lnTo>
                <a:lnTo>
                  <a:pt x="698" y="135787"/>
                </a:lnTo>
                <a:lnTo>
                  <a:pt x="2010" y="143865"/>
                </a:lnTo>
                <a:lnTo>
                  <a:pt x="3731" y="151790"/>
                </a:lnTo>
                <a:lnTo>
                  <a:pt x="5726" y="159614"/>
                </a:lnTo>
                <a:lnTo>
                  <a:pt x="7901" y="167369"/>
                </a:lnTo>
                <a:lnTo>
                  <a:pt x="10199" y="175080"/>
                </a:lnTo>
                <a:lnTo>
                  <a:pt x="13424" y="183607"/>
                </a:lnTo>
                <a:lnTo>
                  <a:pt x="17267" y="192678"/>
                </a:lnTo>
                <a:lnTo>
                  <a:pt x="21523" y="202112"/>
                </a:lnTo>
                <a:lnTo>
                  <a:pt x="26900" y="211788"/>
                </a:lnTo>
                <a:lnTo>
                  <a:pt x="33024" y="221626"/>
                </a:lnTo>
                <a:lnTo>
                  <a:pt x="39648" y="231570"/>
                </a:lnTo>
                <a:lnTo>
                  <a:pt x="53780" y="251652"/>
                </a:lnTo>
                <a:lnTo>
                  <a:pt x="61105" y="261748"/>
                </a:lnTo>
                <a:lnTo>
                  <a:pt x="68528" y="271019"/>
                </a:lnTo>
                <a:lnTo>
                  <a:pt x="76017" y="279740"/>
                </a:lnTo>
                <a:lnTo>
                  <a:pt x="83549" y="288093"/>
                </a:lnTo>
                <a:lnTo>
                  <a:pt x="91111" y="297049"/>
                </a:lnTo>
                <a:lnTo>
                  <a:pt x="106286" y="316031"/>
                </a:lnTo>
                <a:lnTo>
                  <a:pt x="113889" y="324988"/>
                </a:lnTo>
                <a:lnTo>
                  <a:pt x="121497" y="333498"/>
                </a:lnTo>
                <a:lnTo>
                  <a:pt x="129109" y="341712"/>
                </a:lnTo>
                <a:lnTo>
                  <a:pt x="137571" y="348881"/>
                </a:lnTo>
                <a:lnTo>
                  <a:pt x="146599" y="355355"/>
                </a:lnTo>
                <a:lnTo>
                  <a:pt x="156004" y="361363"/>
                </a:lnTo>
                <a:lnTo>
                  <a:pt x="164814" y="367909"/>
                </a:lnTo>
                <a:lnTo>
                  <a:pt x="173227" y="374813"/>
                </a:lnTo>
                <a:lnTo>
                  <a:pt x="181376" y="381955"/>
                </a:lnTo>
                <a:lnTo>
                  <a:pt x="189349" y="388410"/>
                </a:lnTo>
                <a:lnTo>
                  <a:pt x="197204" y="394407"/>
                </a:lnTo>
                <a:lnTo>
                  <a:pt x="204980" y="400098"/>
                </a:lnTo>
                <a:lnTo>
                  <a:pt x="220395" y="410937"/>
                </a:lnTo>
                <a:lnTo>
                  <a:pt x="228061" y="416198"/>
                </a:lnTo>
                <a:lnTo>
                  <a:pt x="234019" y="420553"/>
                </a:lnTo>
                <a:lnTo>
                  <a:pt x="238837" y="424302"/>
                </a:lnTo>
                <a:lnTo>
                  <a:pt x="246449" y="429879"/>
                </a:lnTo>
                <a:lnTo>
                  <a:pt x="249664" y="431366"/>
                </a:lnTo>
                <a:lnTo>
                  <a:pt x="258634" y="43434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MARTInkAnnotation98"/>
          <p:cNvSpPr/>
          <p:nvPr/>
        </p:nvSpPr>
        <p:spPr>
          <a:xfrm>
            <a:off x="2171880" y="4991040"/>
            <a:ext cx="198360" cy="254160"/>
          </a:xfrm>
          <a:custGeom>
            <a:avLst/>
            <a:gdLst>
              <a:gd name="textAreaLeft" fmla="*/ 0 w 198360"/>
              <a:gd name="textAreaRight" fmla="*/ 198720 w 1983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97983" h="254588">
                <a:moveTo>
                  <a:pt x="22857" y="0"/>
                </a:moveTo>
                <a:lnTo>
                  <a:pt x="16296" y="0"/>
                </a:lnTo>
                <a:lnTo>
                  <a:pt x="15943" y="847"/>
                </a:lnTo>
                <a:lnTo>
                  <a:pt x="15377" y="8289"/>
                </a:lnTo>
                <a:lnTo>
                  <a:pt x="15330" y="10606"/>
                </a:lnTo>
                <a:lnTo>
                  <a:pt x="14453" y="12998"/>
                </a:lnTo>
                <a:lnTo>
                  <a:pt x="10019" y="20408"/>
                </a:lnTo>
                <a:lnTo>
                  <a:pt x="7482" y="27967"/>
                </a:lnTo>
                <a:lnTo>
                  <a:pt x="2591" y="35568"/>
                </a:lnTo>
                <a:lnTo>
                  <a:pt x="1150" y="40644"/>
                </a:lnTo>
                <a:lnTo>
                  <a:pt x="339" y="48262"/>
                </a:lnTo>
                <a:lnTo>
                  <a:pt x="11" y="55400"/>
                </a:lnTo>
                <a:lnTo>
                  <a:pt x="3" y="57643"/>
                </a:lnTo>
                <a:lnTo>
                  <a:pt x="0" y="55817"/>
                </a:lnTo>
                <a:lnTo>
                  <a:pt x="846" y="54992"/>
                </a:lnTo>
                <a:lnTo>
                  <a:pt x="2256" y="54441"/>
                </a:lnTo>
                <a:lnTo>
                  <a:pt x="6558" y="53558"/>
                </a:lnTo>
                <a:lnTo>
                  <a:pt x="11662" y="51179"/>
                </a:lnTo>
                <a:lnTo>
                  <a:pt x="15394" y="49360"/>
                </a:lnTo>
                <a:lnTo>
                  <a:pt x="20421" y="47300"/>
                </a:lnTo>
                <a:lnTo>
                  <a:pt x="26313" y="45080"/>
                </a:lnTo>
                <a:lnTo>
                  <a:pt x="32781" y="42754"/>
                </a:lnTo>
                <a:lnTo>
                  <a:pt x="38787" y="41203"/>
                </a:lnTo>
                <a:lnTo>
                  <a:pt x="44483" y="40168"/>
                </a:lnTo>
                <a:lnTo>
                  <a:pt x="49975" y="39479"/>
                </a:lnTo>
                <a:lnTo>
                  <a:pt x="55329" y="39019"/>
                </a:lnTo>
                <a:lnTo>
                  <a:pt x="60592" y="38713"/>
                </a:lnTo>
                <a:lnTo>
                  <a:pt x="65794" y="38509"/>
                </a:lnTo>
                <a:lnTo>
                  <a:pt x="85250" y="38221"/>
                </a:lnTo>
                <a:lnTo>
                  <a:pt x="91546" y="39028"/>
                </a:lnTo>
                <a:lnTo>
                  <a:pt x="97436" y="40412"/>
                </a:lnTo>
                <a:lnTo>
                  <a:pt x="103057" y="42182"/>
                </a:lnTo>
                <a:lnTo>
                  <a:pt x="108497" y="44207"/>
                </a:lnTo>
                <a:lnTo>
                  <a:pt x="113817" y="46406"/>
                </a:lnTo>
                <a:lnTo>
                  <a:pt x="119057" y="48717"/>
                </a:lnTo>
                <a:lnTo>
                  <a:pt x="124244" y="51952"/>
                </a:lnTo>
                <a:lnTo>
                  <a:pt x="129395" y="55801"/>
                </a:lnTo>
                <a:lnTo>
                  <a:pt x="134523" y="60061"/>
                </a:lnTo>
                <a:lnTo>
                  <a:pt x="139634" y="64594"/>
                </a:lnTo>
                <a:lnTo>
                  <a:pt x="149829" y="74147"/>
                </a:lnTo>
                <a:lnTo>
                  <a:pt x="165089" y="89045"/>
                </a:lnTo>
                <a:lnTo>
                  <a:pt x="169325" y="94076"/>
                </a:lnTo>
                <a:lnTo>
                  <a:pt x="172996" y="99125"/>
                </a:lnTo>
                <a:lnTo>
                  <a:pt x="176290" y="104184"/>
                </a:lnTo>
                <a:lnTo>
                  <a:pt x="179332" y="110096"/>
                </a:lnTo>
                <a:lnTo>
                  <a:pt x="182207" y="116577"/>
                </a:lnTo>
                <a:lnTo>
                  <a:pt x="184971" y="123438"/>
                </a:lnTo>
                <a:lnTo>
                  <a:pt x="190299" y="137835"/>
                </a:lnTo>
                <a:lnTo>
                  <a:pt x="192905" y="145230"/>
                </a:lnTo>
                <a:lnTo>
                  <a:pt x="194642" y="151854"/>
                </a:lnTo>
                <a:lnTo>
                  <a:pt x="195801" y="157962"/>
                </a:lnTo>
                <a:lnTo>
                  <a:pt x="196573" y="163729"/>
                </a:lnTo>
                <a:lnTo>
                  <a:pt x="197088" y="170112"/>
                </a:lnTo>
                <a:lnTo>
                  <a:pt x="197431" y="176908"/>
                </a:lnTo>
                <a:lnTo>
                  <a:pt x="197812" y="191233"/>
                </a:lnTo>
                <a:lnTo>
                  <a:pt x="197982" y="206066"/>
                </a:lnTo>
                <a:lnTo>
                  <a:pt x="197180" y="211884"/>
                </a:lnTo>
                <a:lnTo>
                  <a:pt x="195799" y="216610"/>
                </a:lnTo>
                <a:lnTo>
                  <a:pt x="194032" y="220607"/>
                </a:lnTo>
                <a:lnTo>
                  <a:pt x="189810" y="229563"/>
                </a:lnTo>
                <a:lnTo>
                  <a:pt x="187499" y="234323"/>
                </a:lnTo>
                <a:lnTo>
                  <a:pt x="184265" y="238342"/>
                </a:lnTo>
                <a:lnTo>
                  <a:pt x="180416" y="241868"/>
                </a:lnTo>
                <a:lnTo>
                  <a:pt x="176156" y="245066"/>
                </a:lnTo>
                <a:lnTo>
                  <a:pt x="171623" y="248044"/>
                </a:lnTo>
                <a:lnTo>
                  <a:pt x="166908" y="250876"/>
                </a:lnTo>
                <a:lnTo>
                  <a:pt x="162071" y="253610"/>
                </a:lnTo>
                <a:lnTo>
                  <a:pt x="156306" y="254587"/>
                </a:lnTo>
                <a:lnTo>
                  <a:pt x="149924" y="254391"/>
                </a:lnTo>
                <a:lnTo>
                  <a:pt x="143128" y="253414"/>
                </a:lnTo>
                <a:lnTo>
                  <a:pt x="136904" y="252763"/>
                </a:lnTo>
                <a:lnTo>
                  <a:pt x="131062" y="252329"/>
                </a:lnTo>
                <a:lnTo>
                  <a:pt x="125474" y="252040"/>
                </a:lnTo>
                <a:lnTo>
                  <a:pt x="119208" y="250153"/>
                </a:lnTo>
                <a:lnTo>
                  <a:pt x="112491" y="247202"/>
                </a:lnTo>
                <a:lnTo>
                  <a:pt x="105473" y="243542"/>
                </a:lnTo>
                <a:lnTo>
                  <a:pt x="98255" y="240255"/>
                </a:lnTo>
                <a:lnTo>
                  <a:pt x="90902" y="237216"/>
                </a:lnTo>
                <a:lnTo>
                  <a:pt x="83461" y="234344"/>
                </a:lnTo>
                <a:lnTo>
                  <a:pt x="76806" y="230737"/>
                </a:lnTo>
                <a:lnTo>
                  <a:pt x="70676" y="226638"/>
                </a:lnTo>
                <a:lnTo>
                  <a:pt x="64897" y="222212"/>
                </a:lnTo>
                <a:lnTo>
                  <a:pt x="61043" y="218415"/>
                </a:lnTo>
                <a:lnTo>
                  <a:pt x="58475" y="215036"/>
                </a:lnTo>
                <a:lnTo>
                  <a:pt x="53337" y="20574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MARTInkAnnotation99"/>
          <p:cNvSpPr/>
          <p:nvPr/>
        </p:nvSpPr>
        <p:spPr>
          <a:xfrm>
            <a:off x="2149560" y="4915080"/>
            <a:ext cx="196920" cy="7920"/>
          </a:xfrm>
          <a:custGeom>
            <a:avLst/>
            <a:gdLst>
              <a:gd name="textAreaLeft" fmla="*/ 0 w 196920"/>
              <a:gd name="textAreaRight" fmla="*/ 197280 w 196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98121" h="7621">
                <a:moveTo>
                  <a:pt x="0" y="7620"/>
                </a:moveTo>
                <a:lnTo>
                  <a:pt x="118324" y="7620"/>
                </a:lnTo>
                <a:lnTo>
                  <a:pt x="124603" y="6774"/>
                </a:lnTo>
                <a:lnTo>
                  <a:pt x="131329" y="5363"/>
                </a:lnTo>
                <a:lnTo>
                  <a:pt x="138352" y="3576"/>
                </a:lnTo>
                <a:lnTo>
                  <a:pt x="144728" y="2384"/>
                </a:lnTo>
                <a:lnTo>
                  <a:pt x="150673" y="1589"/>
                </a:lnTo>
                <a:lnTo>
                  <a:pt x="156328" y="1060"/>
                </a:lnTo>
                <a:lnTo>
                  <a:pt x="161792" y="707"/>
                </a:lnTo>
                <a:lnTo>
                  <a:pt x="167128" y="471"/>
                </a:lnTo>
                <a:lnTo>
                  <a:pt x="177573" y="210"/>
                </a:lnTo>
                <a:lnTo>
                  <a:pt x="19812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MARTInkAnnotation100"/>
          <p:cNvSpPr/>
          <p:nvPr/>
        </p:nvSpPr>
        <p:spPr>
          <a:xfrm>
            <a:off x="2400480" y="4861080"/>
            <a:ext cx="150480" cy="473040"/>
          </a:xfrm>
          <a:custGeom>
            <a:avLst/>
            <a:gdLst>
              <a:gd name="textAreaLeft" fmla="*/ 0 w 150480"/>
              <a:gd name="textAreaRight" fmla="*/ 150840 w 15048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150312" h="472441">
                <a:moveTo>
                  <a:pt x="0" y="0"/>
                </a:moveTo>
                <a:lnTo>
                  <a:pt x="4045" y="4045"/>
                </a:lnTo>
                <a:lnTo>
                  <a:pt x="6930" y="7777"/>
                </a:lnTo>
                <a:lnTo>
                  <a:pt x="10547" y="12805"/>
                </a:lnTo>
                <a:lnTo>
                  <a:pt x="14651" y="18696"/>
                </a:lnTo>
                <a:lnTo>
                  <a:pt x="18234" y="23471"/>
                </a:lnTo>
                <a:lnTo>
                  <a:pt x="21470" y="27500"/>
                </a:lnTo>
                <a:lnTo>
                  <a:pt x="24473" y="31034"/>
                </a:lnTo>
                <a:lnTo>
                  <a:pt x="29016" y="35929"/>
                </a:lnTo>
                <a:lnTo>
                  <a:pt x="40836" y="48141"/>
                </a:lnTo>
                <a:lnTo>
                  <a:pt x="48390" y="56648"/>
                </a:lnTo>
                <a:lnTo>
                  <a:pt x="65816" y="77388"/>
                </a:lnTo>
                <a:lnTo>
                  <a:pt x="74357" y="88845"/>
                </a:lnTo>
                <a:lnTo>
                  <a:pt x="82592" y="100717"/>
                </a:lnTo>
                <a:lnTo>
                  <a:pt x="90621" y="112865"/>
                </a:lnTo>
                <a:lnTo>
                  <a:pt x="106316" y="137651"/>
                </a:lnTo>
                <a:lnTo>
                  <a:pt x="114057" y="150188"/>
                </a:lnTo>
                <a:lnTo>
                  <a:pt x="120912" y="163625"/>
                </a:lnTo>
                <a:lnTo>
                  <a:pt x="127175" y="177663"/>
                </a:lnTo>
                <a:lnTo>
                  <a:pt x="133043" y="192102"/>
                </a:lnTo>
                <a:lnTo>
                  <a:pt x="137802" y="205961"/>
                </a:lnTo>
                <a:lnTo>
                  <a:pt x="141821" y="219434"/>
                </a:lnTo>
                <a:lnTo>
                  <a:pt x="145348" y="232650"/>
                </a:lnTo>
                <a:lnTo>
                  <a:pt x="147699" y="245693"/>
                </a:lnTo>
                <a:lnTo>
                  <a:pt x="149266" y="258622"/>
                </a:lnTo>
                <a:lnTo>
                  <a:pt x="150311" y="271475"/>
                </a:lnTo>
                <a:lnTo>
                  <a:pt x="150160" y="284277"/>
                </a:lnTo>
                <a:lnTo>
                  <a:pt x="149214" y="297044"/>
                </a:lnTo>
                <a:lnTo>
                  <a:pt x="147736" y="309789"/>
                </a:lnTo>
                <a:lnTo>
                  <a:pt x="145904" y="320826"/>
                </a:lnTo>
                <a:lnTo>
                  <a:pt x="143836" y="330724"/>
                </a:lnTo>
                <a:lnTo>
                  <a:pt x="141611" y="339863"/>
                </a:lnTo>
                <a:lnTo>
                  <a:pt x="138434" y="349342"/>
                </a:lnTo>
                <a:lnTo>
                  <a:pt x="134623" y="359048"/>
                </a:lnTo>
                <a:lnTo>
                  <a:pt x="126719" y="377170"/>
                </a:lnTo>
                <a:lnTo>
                  <a:pt x="120384" y="390869"/>
                </a:lnTo>
                <a:lnTo>
                  <a:pt x="115816" y="397740"/>
                </a:lnTo>
                <a:lnTo>
                  <a:pt x="110230" y="404860"/>
                </a:lnTo>
                <a:lnTo>
                  <a:pt x="103967" y="412146"/>
                </a:lnTo>
                <a:lnTo>
                  <a:pt x="98098" y="418698"/>
                </a:lnTo>
                <a:lnTo>
                  <a:pt x="87061" y="430493"/>
                </a:lnTo>
                <a:lnTo>
                  <a:pt x="71328" y="446652"/>
                </a:lnTo>
                <a:lnTo>
                  <a:pt x="66179" y="451015"/>
                </a:lnTo>
                <a:lnTo>
                  <a:pt x="61052" y="454770"/>
                </a:lnTo>
                <a:lnTo>
                  <a:pt x="55942" y="458120"/>
                </a:lnTo>
                <a:lnTo>
                  <a:pt x="51688" y="461200"/>
                </a:lnTo>
                <a:lnTo>
                  <a:pt x="48005" y="464100"/>
                </a:lnTo>
                <a:lnTo>
                  <a:pt x="38100" y="4724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MARTInkAnnotation101"/>
          <p:cNvSpPr/>
          <p:nvPr/>
        </p:nvSpPr>
        <p:spPr>
          <a:xfrm>
            <a:off x="2446200" y="4792680"/>
            <a:ext cx="220680" cy="160200"/>
          </a:xfrm>
          <a:custGeom>
            <a:avLst/>
            <a:gdLst>
              <a:gd name="textAreaLeft" fmla="*/ 0 w 220680"/>
              <a:gd name="textAreaRight" fmla="*/ 221040 w 2206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220981" h="160012">
                <a:moveTo>
                  <a:pt x="0" y="7611"/>
                </a:moveTo>
                <a:lnTo>
                  <a:pt x="4046" y="3567"/>
                </a:lnTo>
                <a:lnTo>
                  <a:pt x="6930" y="2374"/>
                </a:lnTo>
                <a:lnTo>
                  <a:pt x="10547" y="1580"/>
                </a:lnTo>
                <a:lnTo>
                  <a:pt x="14652" y="1051"/>
                </a:lnTo>
                <a:lnTo>
                  <a:pt x="21470" y="462"/>
                </a:lnTo>
                <a:lnTo>
                  <a:pt x="28169" y="201"/>
                </a:lnTo>
                <a:lnTo>
                  <a:pt x="50783" y="32"/>
                </a:lnTo>
                <a:lnTo>
                  <a:pt x="79270" y="0"/>
                </a:lnTo>
                <a:lnTo>
                  <a:pt x="85866" y="844"/>
                </a:lnTo>
                <a:lnTo>
                  <a:pt x="92804" y="2253"/>
                </a:lnTo>
                <a:lnTo>
                  <a:pt x="99970" y="4039"/>
                </a:lnTo>
                <a:lnTo>
                  <a:pt x="107286" y="6076"/>
                </a:lnTo>
                <a:lnTo>
                  <a:pt x="122190" y="10598"/>
                </a:lnTo>
                <a:lnTo>
                  <a:pt x="128873" y="12143"/>
                </a:lnTo>
                <a:lnTo>
                  <a:pt x="135022" y="13172"/>
                </a:lnTo>
                <a:lnTo>
                  <a:pt x="140815" y="13858"/>
                </a:lnTo>
                <a:lnTo>
                  <a:pt x="145523" y="15163"/>
                </a:lnTo>
                <a:lnTo>
                  <a:pt x="149509" y="16879"/>
                </a:lnTo>
                <a:lnTo>
                  <a:pt x="156195" y="21044"/>
                </a:lnTo>
                <a:lnTo>
                  <a:pt x="161989" y="25717"/>
                </a:lnTo>
                <a:lnTo>
                  <a:pt x="167386" y="30616"/>
                </a:lnTo>
                <a:lnTo>
                  <a:pt x="170011" y="33108"/>
                </a:lnTo>
                <a:lnTo>
                  <a:pt x="170914" y="35616"/>
                </a:lnTo>
                <a:lnTo>
                  <a:pt x="170669" y="38134"/>
                </a:lnTo>
                <a:lnTo>
                  <a:pt x="169660" y="40660"/>
                </a:lnTo>
                <a:lnTo>
                  <a:pt x="168139" y="43190"/>
                </a:lnTo>
                <a:lnTo>
                  <a:pt x="166280" y="45724"/>
                </a:lnTo>
                <a:lnTo>
                  <a:pt x="164194" y="48260"/>
                </a:lnTo>
                <a:lnTo>
                  <a:pt x="161956" y="51643"/>
                </a:lnTo>
                <a:lnTo>
                  <a:pt x="159617" y="55593"/>
                </a:lnTo>
                <a:lnTo>
                  <a:pt x="157212" y="59919"/>
                </a:lnTo>
                <a:lnTo>
                  <a:pt x="153914" y="63649"/>
                </a:lnTo>
                <a:lnTo>
                  <a:pt x="150023" y="66984"/>
                </a:lnTo>
                <a:lnTo>
                  <a:pt x="145736" y="70053"/>
                </a:lnTo>
                <a:lnTo>
                  <a:pt x="142030" y="73792"/>
                </a:lnTo>
                <a:lnTo>
                  <a:pt x="138714" y="77979"/>
                </a:lnTo>
                <a:lnTo>
                  <a:pt x="135656" y="82463"/>
                </a:lnTo>
                <a:lnTo>
                  <a:pt x="131924" y="86299"/>
                </a:lnTo>
                <a:lnTo>
                  <a:pt x="127743" y="89703"/>
                </a:lnTo>
                <a:lnTo>
                  <a:pt x="123262" y="92819"/>
                </a:lnTo>
                <a:lnTo>
                  <a:pt x="118581" y="96590"/>
                </a:lnTo>
                <a:lnTo>
                  <a:pt x="113768" y="100797"/>
                </a:lnTo>
                <a:lnTo>
                  <a:pt x="108865" y="105295"/>
                </a:lnTo>
                <a:lnTo>
                  <a:pt x="103903" y="109140"/>
                </a:lnTo>
                <a:lnTo>
                  <a:pt x="98903" y="112551"/>
                </a:lnTo>
                <a:lnTo>
                  <a:pt x="93875" y="115671"/>
                </a:lnTo>
                <a:lnTo>
                  <a:pt x="89677" y="118597"/>
                </a:lnTo>
                <a:lnTo>
                  <a:pt x="86031" y="121396"/>
                </a:lnTo>
                <a:lnTo>
                  <a:pt x="82754" y="124107"/>
                </a:lnTo>
                <a:lnTo>
                  <a:pt x="79723" y="126762"/>
                </a:lnTo>
                <a:lnTo>
                  <a:pt x="76855" y="129378"/>
                </a:lnTo>
                <a:lnTo>
                  <a:pt x="74097" y="131970"/>
                </a:lnTo>
                <a:lnTo>
                  <a:pt x="72258" y="134543"/>
                </a:lnTo>
                <a:lnTo>
                  <a:pt x="71032" y="137106"/>
                </a:lnTo>
                <a:lnTo>
                  <a:pt x="70215" y="139661"/>
                </a:lnTo>
                <a:lnTo>
                  <a:pt x="69670" y="142211"/>
                </a:lnTo>
                <a:lnTo>
                  <a:pt x="69307" y="144758"/>
                </a:lnTo>
                <a:lnTo>
                  <a:pt x="68724" y="150884"/>
                </a:lnTo>
                <a:lnTo>
                  <a:pt x="68644" y="153979"/>
                </a:lnTo>
                <a:lnTo>
                  <a:pt x="68623" y="155990"/>
                </a:lnTo>
                <a:lnTo>
                  <a:pt x="69455" y="157330"/>
                </a:lnTo>
                <a:lnTo>
                  <a:pt x="70857" y="158223"/>
                </a:lnTo>
                <a:lnTo>
                  <a:pt x="74672" y="159217"/>
                </a:lnTo>
                <a:lnTo>
                  <a:pt x="79190" y="159658"/>
                </a:lnTo>
                <a:lnTo>
                  <a:pt x="82426" y="158929"/>
                </a:lnTo>
                <a:lnTo>
                  <a:pt x="86278" y="157596"/>
                </a:lnTo>
                <a:lnTo>
                  <a:pt x="90539" y="155861"/>
                </a:lnTo>
                <a:lnTo>
                  <a:pt x="95919" y="154704"/>
                </a:lnTo>
                <a:lnTo>
                  <a:pt x="102046" y="153933"/>
                </a:lnTo>
                <a:lnTo>
                  <a:pt x="108671" y="153420"/>
                </a:lnTo>
                <a:lnTo>
                  <a:pt x="115627" y="153077"/>
                </a:lnTo>
                <a:lnTo>
                  <a:pt x="130130" y="152696"/>
                </a:lnTo>
                <a:lnTo>
                  <a:pt x="183484" y="152399"/>
                </a:lnTo>
                <a:lnTo>
                  <a:pt x="186669" y="153243"/>
                </a:lnTo>
                <a:lnTo>
                  <a:pt x="192467" y="156439"/>
                </a:lnTo>
                <a:lnTo>
                  <a:pt x="196044" y="157630"/>
                </a:lnTo>
                <a:lnTo>
                  <a:pt x="200123" y="158423"/>
                </a:lnTo>
                <a:lnTo>
                  <a:pt x="210746" y="159697"/>
                </a:lnTo>
                <a:lnTo>
                  <a:pt x="214456" y="159871"/>
                </a:lnTo>
                <a:lnTo>
                  <a:pt x="220980" y="16001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MARTInkAnnotation102"/>
          <p:cNvSpPr/>
          <p:nvPr/>
        </p:nvSpPr>
        <p:spPr>
          <a:xfrm>
            <a:off x="2835360" y="5006880"/>
            <a:ext cx="360" cy="297000"/>
          </a:xfrm>
          <a:custGeom>
            <a:avLst/>
            <a:gdLst>
              <a:gd name="textAreaLeft" fmla="*/ 0 w 360"/>
              <a:gd name="textAreaRight" fmla="*/ 720 w 36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" h="297181">
                <a:moveTo>
                  <a:pt x="0" y="0"/>
                </a:moveTo>
                <a:lnTo>
                  <a:pt x="0" y="2971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MARTInkAnnotation103"/>
          <p:cNvSpPr/>
          <p:nvPr/>
        </p:nvSpPr>
        <p:spPr>
          <a:xfrm>
            <a:off x="2735280" y="5203800"/>
            <a:ext cx="244440" cy="38160"/>
          </a:xfrm>
          <a:custGeom>
            <a:avLst/>
            <a:gdLst>
              <a:gd name="textAreaLeft" fmla="*/ 0 w 244440"/>
              <a:gd name="textAreaRight" fmla="*/ 244800 w 2444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43841" h="37749">
                <a:moveTo>
                  <a:pt x="0" y="0"/>
                </a:moveTo>
                <a:lnTo>
                  <a:pt x="4045" y="0"/>
                </a:lnTo>
                <a:lnTo>
                  <a:pt x="6930" y="846"/>
                </a:lnTo>
                <a:lnTo>
                  <a:pt x="10547" y="2257"/>
                </a:lnTo>
                <a:lnTo>
                  <a:pt x="14651" y="4045"/>
                </a:lnTo>
                <a:lnTo>
                  <a:pt x="19081" y="5237"/>
                </a:lnTo>
                <a:lnTo>
                  <a:pt x="23727" y="6031"/>
                </a:lnTo>
                <a:lnTo>
                  <a:pt x="28518" y="6561"/>
                </a:lnTo>
                <a:lnTo>
                  <a:pt x="35099" y="7761"/>
                </a:lnTo>
                <a:lnTo>
                  <a:pt x="42872" y="9407"/>
                </a:lnTo>
                <a:lnTo>
                  <a:pt x="69994" y="15770"/>
                </a:lnTo>
                <a:lnTo>
                  <a:pt x="79682" y="18133"/>
                </a:lnTo>
                <a:lnTo>
                  <a:pt x="88682" y="20556"/>
                </a:lnTo>
                <a:lnTo>
                  <a:pt x="105454" y="25505"/>
                </a:lnTo>
                <a:lnTo>
                  <a:pt x="113483" y="27163"/>
                </a:lnTo>
                <a:lnTo>
                  <a:pt x="121375" y="28269"/>
                </a:lnTo>
                <a:lnTo>
                  <a:pt x="129177" y="29006"/>
                </a:lnTo>
                <a:lnTo>
                  <a:pt x="136918" y="30344"/>
                </a:lnTo>
                <a:lnTo>
                  <a:pt x="144618" y="32083"/>
                </a:lnTo>
                <a:lnTo>
                  <a:pt x="152292" y="34088"/>
                </a:lnTo>
                <a:lnTo>
                  <a:pt x="159102" y="35426"/>
                </a:lnTo>
                <a:lnTo>
                  <a:pt x="165334" y="36317"/>
                </a:lnTo>
                <a:lnTo>
                  <a:pt x="171183" y="36912"/>
                </a:lnTo>
                <a:lnTo>
                  <a:pt x="176776" y="37308"/>
                </a:lnTo>
                <a:lnTo>
                  <a:pt x="182197" y="37572"/>
                </a:lnTo>
                <a:lnTo>
                  <a:pt x="187505" y="37748"/>
                </a:lnTo>
                <a:lnTo>
                  <a:pt x="192737" y="37019"/>
                </a:lnTo>
                <a:lnTo>
                  <a:pt x="197918" y="35686"/>
                </a:lnTo>
                <a:lnTo>
                  <a:pt x="203065" y="33951"/>
                </a:lnTo>
                <a:lnTo>
                  <a:pt x="208190" y="32794"/>
                </a:lnTo>
                <a:lnTo>
                  <a:pt x="213300" y="32023"/>
                </a:lnTo>
                <a:lnTo>
                  <a:pt x="218400" y="31509"/>
                </a:lnTo>
                <a:lnTo>
                  <a:pt x="222647" y="30319"/>
                </a:lnTo>
                <a:lnTo>
                  <a:pt x="226325" y="28679"/>
                </a:lnTo>
                <a:lnTo>
                  <a:pt x="229623" y="26739"/>
                </a:lnTo>
                <a:lnTo>
                  <a:pt x="232669" y="25446"/>
                </a:lnTo>
                <a:lnTo>
                  <a:pt x="235546" y="24585"/>
                </a:lnTo>
                <a:lnTo>
                  <a:pt x="238311" y="24010"/>
                </a:lnTo>
                <a:lnTo>
                  <a:pt x="240154" y="22780"/>
                </a:lnTo>
                <a:lnTo>
                  <a:pt x="241383" y="21113"/>
                </a:lnTo>
                <a:lnTo>
                  <a:pt x="243840" y="152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MARTInkAnnotation104"/>
          <p:cNvSpPr/>
          <p:nvPr/>
        </p:nvSpPr>
        <p:spPr>
          <a:xfrm>
            <a:off x="3110040" y="4952880"/>
            <a:ext cx="288720" cy="416160"/>
          </a:xfrm>
          <a:custGeom>
            <a:avLst/>
            <a:gdLst>
              <a:gd name="textAreaLeft" fmla="*/ 0 w 288720"/>
              <a:gd name="textAreaRight" fmla="*/ 289080 w 288720"/>
              <a:gd name="textAreaTop" fmla="*/ 0 h 416160"/>
              <a:gd name="textAreaBottom" fmla="*/ 416520 h 416160"/>
            </a:gdLst>
            <a:ahLst/>
            <a:rect l="textAreaLeft" t="textAreaTop" r="textAreaRight" b="textAreaBottom"/>
            <a:pathLst>
              <a:path w="289118" h="415182">
                <a:moveTo>
                  <a:pt x="52897" y="0"/>
                </a:moveTo>
                <a:lnTo>
                  <a:pt x="48852" y="4045"/>
                </a:lnTo>
                <a:lnTo>
                  <a:pt x="46814" y="5237"/>
                </a:lnTo>
                <a:lnTo>
                  <a:pt x="42291" y="6562"/>
                </a:lnTo>
                <a:lnTo>
                  <a:pt x="39900" y="8608"/>
                </a:lnTo>
                <a:lnTo>
                  <a:pt x="34985" y="15397"/>
                </a:lnTo>
                <a:lnTo>
                  <a:pt x="32236" y="21801"/>
                </a:lnTo>
                <a:lnTo>
                  <a:pt x="30168" y="28316"/>
                </a:lnTo>
                <a:lnTo>
                  <a:pt x="26426" y="36856"/>
                </a:lnTo>
                <a:lnTo>
                  <a:pt x="21941" y="46296"/>
                </a:lnTo>
                <a:lnTo>
                  <a:pt x="17126" y="56983"/>
                </a:lnTo>
                <a:lnTo>
                  <a:pt x="14656" y="63389"/>
                </a:lnTo>
                <a:lnTo>
                  <a:pt x="9654" y="77280"/>
                </a:lnTo>
                <a:lnTo>
                  <a:pt x="4609" y="91920"/>
                </a:lnTo>
                <a:lnTo>
                  <a:pt x="2925" y="100227"/>
                </a:lnTo>
                <a:lnTo>
                  <a:pt x="1803" y="109151"/>
                </a:lnTo>
                <a:lnTo>
                  <a:pt x="1054" y="118488"/>
                </a:lnTo>
                <a:lnTo>
                  <a:pt x="555" y="128099"/>
                </a:lnTo>
                <a:lnTo>
                  <a:pt x="0" y="147809"/>
                </a:lnTo>
                <a:lnTo>
                  <a:pt x="699" y="157806"/>
                </a:lnTo>
                <a:lnTo>
                  <a:pt x="2012" y="167858"/>
                </a:lnTo>
                <a:lnTo>
                  <a:pt x="3734" y="177945"/>
                </a:lnTo>
                <a:lnTo>
                  <a:pt x="5728" y="188057"/>
                </a:lnTo>
                <a:lnTo>
                  <a:pt x="10202" y="208324"/>
                </a:lnTo>
                <a:lnTo>
                  <a:pt x="13427" y="218469"/>
                </a:lnTo>
                <a:lnTo>
                  <a:pt x="17270" y="228620"/>
                </a:lnTo>
                <a:lnTo>
                  <a:pt x="21526" y="238774"/>
                </a:lnTo>
                <a:lnTo>
                  <a:pt x="26057" y="248929"/>
                </a:lnTo>
                <a:lnTo>
                  <a:pt x="35605" y="269245"/>
                </a:lnTo>
                <a:lnTo>
                  <a:pt x="42216" y="279403"/>
                </a:lnTo>
                <a:lnTo>
                  <a:pt x="50010" y="289563"/>
                </a:lnTo>
                <a:lnTo>
                  <a:pt x="58592" y="299722"/>
                </a:lnTo>
                <a:lnTo>
                  <a:pt x="67701" y="309881"/>
                </a:lnTo>
                <a:lnTo>
                  <a:pt x="86852" y="330201"/>
                </a:lnTo>
                <a:lnTo>
                  <a:pt x="97547" y="339515"/>
                </a:lnTo>
                <a:lnTo>
                  <a:pt x="108911" y="348263"/>
                </a:lnTo>
                <a:lnTo>
                  <a:pt x="142872" y="372712"/>
                </a:lnTo>
                <a:lnTo>
                  <a:pt x="163159" y="387477"/>
                </a:lnTo>
                <a:lnTo>
                  <a:pt x="180642" y="399683"/>
                </a:lnTo>
                <a:lnTo>
                  <a:pt x="188860" y="403616"/>
                </a:lnTo>
                <a:lnTo>
                  <a:pt x="196880" y="406238"/>
                </a:lnTo>
                <a:lnTo>
                  <a:pt x="204766" y="407986"/>
                </a:lnTo>
                <a:lnTo>
                  <a:pt x="212563" y="409997"/>
                </a:lnTo>
                <a:lnTo>
                  <a:pt x="220301" y="412185"/>
                </a:lnTo>
                <a:lnTo>
                  <a:pt x="227999" y="414491"/>
                </a:lnTo>
                <a:lnTo>
                  <a:pt x="235672" y="415181"/>
                </a:lnTo>
                <a:lnTo>
                  <a:pt x="243327" y="414794"/>
                </a:lnTo>
                <a:lnTo>
                  <a:pt x="250971" y="413690"/>
                </a:lnTo>
                <a:lnTo>
                  <a:pt x="257760" y="412953"/>
                </a:lnTo>
                <a:lnTo>
                  <a:pt x="263979" y="412463"/>
                </a:lnTo>
                <a:lnTo>
                  <a:pt x="269818" y="412135"/>
                </a:lnTo>
                <a:lnTo>
                  <a:pt x="274558" y="411071"/>
                </a:lnTo>
                <a:lnTo>
                  <a:pt x="278564" y="409514"/>
                </a:lnTo>
                <a:lnTo>
                  <a:pt x="289117" y="40386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MARTInkAnnotation105"/>
          <p:cNvSpPr/>
          <p:nvPr/>
        </p:nvSpPr>
        <p:spPr>
          <a:xfrm>
            <a:off x="3208320" y="5075280"/>
            <a:ext cx="190440" cy="182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82520"/>
              <a:gd name="textAreaBottom" fmla="*/ 182520 h 182520"/>
            </a:gdLst>
            <a:ahLst/>
            <a:rect l="textAreaLeft" t="textAreaTop" r="textAreaRight" b="textAreaBottom"/>
            <a:pathLst>
              <a:path w="190501" h="182557">
                <a:moveTo>
                  <a:pt x="0" y="30156"/>
                </a:moveTo>
                <a:lnTo>
                  <a:pt x="0" y="22850"/>
                </a:lnTo>
                <a:lnTo>
                  <a:pt x="4045" y="18584"/>
                </a:lnTo>
                <a:lnTo>
                  <a:pt x="10606" y="11958"/>
                </a:lnTo>
                <a:lnTo>
                  <a:pt x="13844" y="10404"/>
                </a:lnTo>
                <a:lnTo>
                  <a:pt x="17696" y="9369"/>
                </a:lnTo>
                <a:lnTo>
                  <a:pt x="21957" y="8678"/>
                </a:lnTo>
                <a:lnTo>
                  <a:pt x="26491" y="8217"/>
                </a:lnTo>
                <a:lnTo>
                  <a:pt x="31207" y="7910"/>
                </a:lnTo>
                <a:lnTo>
                  <a:pt x="36045" y="7706"/>
                </a:lnTo>
                <a:lnTo>
                  <a:pt x="40963" y="6723"/>
                </a:lnTo>
                <a:lnTo>
                  <a:pt x="45935" y="5221"/>
                </a:lnTo>
                <a:lnTo>
                  <a:pt x="50943" y="3372"/>
                </a:lnTo>
                <a:lnTo>
                  <a:pt x="55976" y="2140"/>
                </a:lnTo>
                <a:lnTo>
                  <a:pt x="61024" y="1319"/>
                </a:lnTo>
                <a:lnTo>
                  <a:pt x="66082" y="772"/>
                </a:lnTo>
                <a:lnTo>
                  <a:pt x="71148" y="407"/>
                </a:lnTo>
                <a:lnTo>
                  <a:pt x="76219" y="163"/>
                </a:lnTo>
                <a:lnTo>
                  <a:pt x="81293" y="0"/>
                </a:lnTo>
                <a:lnTo>
                  <a:pt x="87215" y="739"/>
                </a:lnTo>
                <a:lnTo>
                  <a:pt x="93704" y="2078"/>
                </a:lnTo>
                <a:lnTo>
                  <a:pt x="100568" y="3818"/>
                </a:lnTo>
                <a:lnTo>
                  <a:pt x="105992" y="5824"/>
                </a:lnTo>
                <a:lnTo>
                  <a:pt x="110455" y="8008"/>
                </a:lnTo>
                <a:lnTo>
                  <a:pt x="114277" y="10311"/>
                </a:lnTo>
                <a:lnTo>
                  <a:pt x="118518" y="11846"/>
                </a:lnTo>
                <a:lnTo>
                  <a:pt x="123039" y="12869"/>
                </a:lnTo>
                <a:lnTo>
                  <a:pt x="127746" y="13552"/>
                </a:lnTo>
                <a:lnTo>
                  <a:pt x="131730" y="14853"/>
                </a:lnTo>
                <a:lnTo>
                  <a:pt x="135234" y="16567"/>
                </a:lnTo>
                <a:lnTo>
                  <a:pt x="138416" y="18557"/>
                </a:lnTo>
                <a:lnTo>
                  <a:pt x="144209" y="23026"/>
                </a:lnTo>
                <a:lnTo>
                  <a:pt x="146940" y="25402"/>
                </a:lnTo>
                <a:lnTo>
                  <a:pt x="148760" y="27834"/>
                </a:lnTo>
                <a:lnTo>
                  <a:pt x="150782" y="32793"/>
                </a:lnTo>
                <a:lnTo>
                  <a:pt x="151921" y="36300"/>
                </a:lnTo>
                <a:lnTo>
                  <a:pt x="151233" y="37639"/>
                </a:lnTo>
                <a:lnTo>
                  <a:pt x="148213" y="41384"/>
                </a:lnTo>
                <a:lnTo>
                  <a:pt x="144048" y="45871"/>
                </a:lnTo>
                <a:lnTo>
                  <a:pt x="134685" y="55415"/>
                </a:lnTo>
                <a:lnTo>
                  <a:pt x="130430" y="59695"/>
                </a:lnTo>
                <a:lnTo>
                  <a:pt x="125900" y="63396"/>
                </a:lnTo>
                <a:lnTo>
                  <a:pt x="121186" y="66709"/>
                </a:lnTo>
                <a:lnTo>
                  <a:pt x="116351" y="69765"/>
                </a:lnTo>
                <a:lnTo>
                  <a:pt x="111434" y="72649"/>
                </a:lnTo>
                <a:lnTo>
                  <a:pt x="106462" y="75418"/>
                </a:lnTo>
                <a:lnTo>
                  <a:pt x="101455" y="78111"/>
                </a:lnTo>
                <a:lnTo>
                  <a:pt x="95576" y="80753"/>
                </a:lnTo>
                <a:lnTo>
                  <a:pt x="89118" y="83361"/>
                </a:lnTo>
                <a:lnTo>
                  <a:pt x="82272" y="85946"/>
                </a:lnTo>
                <a:lnTo>
                  <a:pt x="76861" y="89362"/>
                </a:lnTo>
                <a:lnTo>
                  <a:pt x="72407" y="93334"/>
                </a:lnTo>
                <a:lnTo>
                  <a:pt x="68591" y="97675"/>
                </a:lnTo>
                <a:lnTo>
                  <a:pt x="64354" y="101415"/>
                </a:lnTo>
                <a:lnTo>
                  <a:pt x="59836" y="104756"/>
                </a:lnTo>
                <a:lnTo>
                  <a:pt x="55131" y="107830"/>
                </a:lnTo>
                <a:lnTo>
                  <a:pt x="51147" y="110725"/>
                </a:lnTo>
                <a:lnTo>
                  <a:pt x="47645" y="113502"/>
                </a:lnTo>
                <a:lnTo>
                  <a:pt x="44463" y="116200"/>
                </a:lnTo>
                <a:lnTo>
                  <a:pt x="41495" y="119692"/>
                </a:lnTo>
                <a:lnTo>
                  <a:pt x="38671" y="123713"/>
                </a:lnTo>
                <a:lnTo>
                  <a:pt x="35940" y="128088"/>
                </a:lnTo>
                <a:lnTo>
                  <a:pt x="34120" y="131851"/>
                </a:lnTo>
                <a:lnTo>
                  <a:pt x="32907" y="135206"/>
                </a:lnTo>
                <a:lnTo>
                  <a:pt x="32098" y="138289"/>
                </a:lnTo>
                <a:lnTo>
                  <a:pt x="32405" y="141192"/>
                </a:lnTo>
                <a:lnTo>
                  <a:pt x="33457" y="143973"/>
                </a:lnTo>
                <a:lnTo>
                  <a:pt x="35005" y="146674"/>
                </a:lnTo>
                <a:lnTo>
                  <a:pt x="37730" y="149322"/>
                </a:lnTo>
                <a:lnTo>
                  <a:pt x="41240" y="151933"/>
                </a:lnTo>
                <a:lnTo>
                  <a:pt x="45273" y="154521"/>
                </a:lnTo>
                <a:lnTo>
                  <a:pt x="49655" y="157939"/>
                </a:lnTo>
                <a:lnTo>
                  <a:pt x="54270" y="161912"/>
                </a:lnTo>
                <a:lnTo>
                  <a:pt x="59040" y="166253"/>
                </a:lnTo>
                <a:lnTo>
                  <a:pt x="65607" y="169148"/>
                </a:lnTo>
                <a:lnTo>
                  <a:pt x="73371" y="171077"/>
                </a:lnTo>
                <a:lnTo>
                  <a:pt x="81934" y="172364"/>
                </a:lnTo>
                <a:lnTo>
                  <a:pt x="90183" y="174068"/>
                </a:lnTo>
                <a:lnTo>
                  <a:pt x="98222" y="176051"/>
                </a:lnTo>
                <a:lnTo>
                  <a:pt x="106121" y="178219"/>
                </a:lnTo>
                <a:lnTo>
                  <a:pt x="114774" y="179665"/>
                </a:lnTo>
                <a:lnTo>
                  <a:pt x="123929" y="180629"/>
                </a:lnTo>
                <a:lnTo>
                  <a:pt x="133419" y="181272"/>
                </a:lnTo>
                <a:lnTo>
                  <a:pt x="142286" y="181700"/>
                </a:lnTo>
                <a:lnTo>
                  <a:pt x="158911" y="182175"/>
                </a:lnTo>
                <a:lnTo>
                  <a:pt x="190500" y="18255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MARTInkAnnotation106"/>
          <p:cNvSpPr/>
          <p:nvPr/>
        </p:nvSpPr>
        <p:spPr>
          <a:xfrm>
            <a:off x="3429000" y="4923000"/>
            <a:ext cx="136440" cy="441000"/>
          </a:xfrm>
          <a:custGeom>
            <a:avLst/>
            <a:gdLst>
              <a:gd name="textAreaLeft" fmla="*/ 0 w 136440"/>
              <a:gd name="textAreaRight" fmla="*/ 136800 w 136440"/>
              <a:gd name="textAreaTop" fmla="*/ 0 h 441000"/>
              <a:gd name="textAreaBottom" fmla="*/ 441360 h 441000"/>
            </a:gdLst>
            <a:ahLst/>
            <a:rect l="textAreaLeft" t="textAreaTop" r="textAreaRight" b="textAreaBottom"/>
            <a:pathLst>
              <a:path w="136648" h="441961">
                <a:moveTo>
                  <a:pt x="0" y="0"/>
                </a:moveTo>
                <a:lnTo>
                  <a:pt x="0" y="4045"/>
                </a:lnTo>
                <a:lnTo>
                  <a:pt x="846" y="5237"/>
                </a:lnTo>
                <a:lnTo>
                  <a:pt x="2258" y="6031"/>
                </a:lnTo>
                <a:lnTo>
                  <a:pt x="4045" y="6561"/>
                </a:lnTo>
                <a:lnTo>
                  <a:pt x="5237" y="7760"/>
                </a:lnTo>
                <a:lnTo>
                  <a:pt x="6031" y="9408"/>
                </a:lnTo>
                <a:lnTo>
                  <a:pt x="6561" y="11352"/>
                </a:lnTo>
                <a:lnTo>
                  <a:pt x="8608" y="14341"/>
                </a:lnTo>
                <a:lnTo>
                  <a:pt x="11665" y="18027"/>
                </a:lnTo>
                <a:lnTo>
                  <a:pt x="15397" y="22178"/>
                </a:lnTo>
                <a:lnTo>
                  <a:pt x="18731" y="26639"/>
                </a:lnTo>
                <a:lnTo>
                  <a:pt x="21801" y="31306"/>
                </a:lnTo>
                <a:lnTo>
                  <a:pt x="24694" y="36111"/>
                </a:lnTo>
                <a:lnTo>
                  <a:pt x="29163" y="41854"/>
                </a:lnTo>
                <a:lnTo>
                  <a:pt x="34682" y="48223"/>
                </a:lnTo>
                <a:lnTo>
                  <a:pt x="40901" y="55009"/>
                </a:lnTo>
                <a:lnTo>
                  <a:pt x="46741" y="62919"/>
                </a:lnTo>
                <a:lnTo>
                  <a:pt x="52327" y="71580"/>
                </a:lnTo>
                <a:lnTo>
                  <a:pt x="57745" y="80740"/>
                </a:lnTo>
                <a:lnTo>
                  <a:pt x="63050" y="90233"/>
                </a:lnTo>
                <a:lnTo>
                  <a:pt x="73460" y="109812"/>
                </a:lnTo>
                <a:lnTo>
                  <a:pt x="88841" y="139876"/>
                </a:lnTo>
                <a:lnTo>
                  <a:pt x="94787" y="150824"/>
                </a:lnTo>
                <a:lnTo>
                  <a:pt x="108168" y="174278"/>
                </a:lnTo>
                <a:lnTo>
                  <a:pt x="113599" y="185612"/>
                </a:lnTo>
                <a:lnTo>
                  <a:pt x="118066" y="196555"/>
                </a:lnTo>
                <a:lnTo>
                  <a:pt x="121891" y="207237"/>
                </a:lnTo>
                <a:lnTo>
                  <a:pt x="125287" y="219438"/>
                </a:lnTo>
                <a:lnTo>
                  <a:pt x="128399" y="232652"/>
                </a:lnTo>
                <a:lnTo>
                  <a:pt x="131320" y="246541"/>
                </a:lnTo>
                <a:lnTo>
                  <a:pt x="133266" y="259188"/>
                </a:lnTo>
                <a:lnTo>
                  <a:pt x="134564" y="271005"/>
                </a:lnTo>
                <a:lnTo>
                  <a:pt x="135430" y="282270"/>
                </a:lnTo>
                <a:lnTo>
                  <a:pt x="136006" y="293167"/>
                </a:lnTo>
                <a:lnTo>
                  <a:pt x="136647" y="314305"/>
                </a:lnTo>
                <a:lnTo>
                  <a:pt x="135972" y="324684"/>
                </a:lnTo>
                <a:lnTo>
                  <a:pt x="134674" y="334989"/>
                </a:lnTo>
                <a:lnTo>
                  <a:pt x="132963" y="345246"/>
                </a:lnTo>
                <a:lnTo>
                  <a:pt x="130975" y="353778"/>
                </a:lnTo>
                <a:lnTo>
                  <a:pt x="128803" y="361159"/>
                </a:lnTo>
                <a:lnTo>
                  <a:pt x="119235" y="389217"/>
                </a:lnTo>
                <a:lnTo>
                  <a:pt x="115896" y="395791"/>
                </a:lnTo>
                <a:lnTo>
                  <a:pt x="111978" y="401868"/>
                </a:lnTo>
                <a:lnTo>
                  <a:pt x="107672" y="407612"/>
                </a:lnTo>
                <a:lnTo>
                  <a:pt x="103955" y="412288"/>
                </a:lnTo>
                <a:lnTo>
                  <a:pt x="100630" y="416252"/>
                </a:lnTo>
                <a:lnTo>
                  <a:pt x="97567" y="419742"/>
                </a:lnTo>
                <a:lnTo>
                  <a:pt x="94678" y="423761"/>
                </a:lnTo>
                <a:lnTo>
                  <a:pt x="91905" y="428134"/>
                </a:lnTo>
                <a:lnTo>
                  <a:pt x="89210" y="432743"/>
                </a:lnTo>
                <a:lnTo>
                  <a:pt x="86567" y="435816"/>
                </a:lnTo>
                <a:lnTo>
                  <a:pt x="83958" y="437864"/>
                </a:lnTo>
                <a:lnTo>
                  <a:pt x="76200" y="4419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MARTInkAnnotation107"/>
          <p:cNvSpPr/>
          <p:nvPr/>
        </p:nvSpPr>
        <p:spPr>
          <a:xfrm>
            <a:off x="3597120" y="5059440"/>
            <a:ext cx="250920" cy="334800"/>
          </a:xfrm>
          <a:custGeom>
            <a:avLst/>
            <a:gdLst>
              <a:gd name="textAreaLeft" fmla="*/ 0 w 250920"/>
              <a:gd name="textAreaRight" fmla="*/ 251280 w 25092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250693" h="335281">
                <a:moveTo>
                  <a:pt x="67812" y="0"/>
                </a:moveTo>
                <a:lnTo>
                  <a:pt x="53945" y="13867"/>
                </a:lnTo>
                <a:lnTo>
                  <a:pt x="45913" y="27982"/>
                </a:lnTo>
                <a:lnTo>
                  <a:pt x="38041" y="40377"/>
                </a:lnTo>
                <a:lnTo>
                  <a:pt x="34418" y="46391"/>
                </a:lnTo>
                <a:lnTo>
                  <a:pt x="31156" y="52094"/>
                </a:lnTo>
                <a:lnTo>
                  <a:pt x="28135" y="57589"/>
                </a:lnTo>
                <a:lnTo>
                  <a:pt x="25274" y="63793"/>
                </a:lnTo>
                <a:lnTo>
                  <a:pt x="22520" y="70468"/>
                </a:lnTo>
                <a:lnTo>
                  <a:pt x="19837" y="77459"/>
                </a:lnTo>
                <a:lnTo>
                  <a:pt x="16356" y="83813"/>
                </a:lnTo>
                <a:lnTo>
                  <a:pt x="12341" y="89741"/>
                </a:lnTo>
                <a:lnTo>
                  <a:pt x="7972" y="95388"/>
                </a:lnTo>
                <a:lnTo>
                  <a:pt x="5058" y="102538"/>
                </a:lnTo>
                <a:lnTo>
                  <a:pt x="3116" y="110692"/>
                </a:lnTo>
                <a:lnTo>
                  <a:pt x="1821" y="119515"/>
                </a:lnTo>
                <a:lnTo>
                  <a:pt x="958" y="127936"/>
                </a:lnTo>
                <a:lnTo>
                  <a:pt x="383" y="136091"/>
                </a:lnTo>
                <a:lnTo>
                  <a:pt x="0" y="144067"/>
                </a:lnTo>
                <a:lnTo>
                  <a:pt x="590" y="151925"/>
                </a:lnTo>
                <a:lnTo>
                  <a:pt x="1831" y="159703"/>
                </a:lnTo>
                <a:lnTo>
                  <a:pt x="3504" y="167429"/>
                </a:lnTo>
                <a:lnTo>
                  <a:pt x="6314" y="175119"/>
                </a:lnTo>
                <a:lnTo>
                  <a:pt x="9880" y="182786"/>
                </a:lnTo>
                <a:lnTo>
                  <a:pt x="13951" y="190437"/>
                </a:lnTo>
                <a:lnTo>
                  <a:pt x="18358" y="198078"/>
                </a:lnTo>
                <a:lnTo>
                  <a:pt x="22989" y="205712"/>
                </a:lnTo>
                <a:lnTo>
                  <a:pt x="27770" y="213342"/>
                </a:lnTo>
                <a:lnTo>
                  <a:pt x="33498" y="220968"/>
                </a:lnTo>
                <a:lnTo>
                  <a:pt x="39856" y="228591"/>
                </a:lnTo>
                <a:lnTo>
                  <a:pt x="46634" y="236214"/>
                </a:lnTo>
                <a:lnTo>
                  <a:pt x="60940" y="251458"/>
                </a:lnTo>
                <a:lnTo>
                  <a:pt x="90820" y="281939"/>
                </a:lnTo>
                <a:lnTo>
                  <a:pt x="100084" y="288713"/>
                </a:lnTo>
                <a:lnTo>
                  <a:pt x="110493" y="294922"/>
                </a:lnTo>
                <a:lnTo>
                  <a:pt x="153572" y="317054"/>
                </a:lnTo>
                <a:lnTo>
                  <a:pt x="163932" y="321436"/>
                </a:lnTo>
                <a:lnTo>
                  <a:pt x="174226" y="325204"/>
                </a:lnTo>
                <a:lnTo>
                  <a:pt x="184474" y="328563"/>
                </a:lnTo>
                <a:lnTo>
                  <a:pt x="193846" y="330801"/>
                </a:lnTo>
                <a:lnTo>
                  <a:pt x="202635" y="332294"/>
                </a:lnTo>
                <a:lnTo>
                  <a:pt x="211035" y="333289"/>
                </a:lnTo>
                <a:lnTo>
                  <a:pt x="219174" y="333953"/>
                </a:lnTo>
                <a:lnTo>
                  <a:pt x="227140" y="334395"/>
                </a:lnTo>
                <a:lnTo>
                  <a:pt x="250692" y="3352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MARTInkAnnotation108"/>
          <p:cNvSpPr/>
          <p:nvPr/>
        </p:nvSpPr>
        <p:spPr>
          <a:xfrm>
            <a:off x="3719520" y="5083200"/>
            <a:ext cx="214200" cy="228600"/>
          </a:xfrm>
          <a:custGeom>
            <a:avLst/>
            <a:gdLst>
              <a:gd name="textAreaLeft" fmla="*/ 0 w 214200"/>
              <a:gd name="textAreaRight" fmla="*/ 214560 w 214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4675" h="228601">
                <a:moveTo>
                  <a:pt x="36983" y="0"/>
                </a:moveTo>
                <a:lnTo>
                  <a:pt x="36983" y="33031"/>
                </a:lnTo>
                <a:lnTo>
                  <a:pt x="36136" y="36414"/>
                </a:lnTo>
                <a:lnTo>
                  <a:pt x="34725" y="40363"/>
                </a:lnTo>
                <a:lnTo>
                  <a:pt x="32938" y="44689"/>
                </a:lnTo>
                <a:lnTo>
                  <a:pt x="28694" y="51753"/>
                </a:lnTo>
                <a:lnTo>
                  <a:pt x="26377" y="54822"/>
                </a:lnTo>
                <a:lnTo>
                  <a:pt x="23802" y="60489"/>
                </a:lnTo>
                <a:lnTo>
                  <a:pt x="23116" y="63187"/>
                </a:lnTo>
                <a:lnTo>
                  <a:pt x="20964" y="65831"/>
                </a:lnTo>
                <a:lnTo>
                  <a:pt x="17837" y="68440"/>
                </a:lnTo>
                <a:lnTo>
                  <a:pt x="14059" y="71027"/>
                </a:lnTo>
                <a:lnTo>
                  <a:pt x="11540" y="73598"/>
                </a:lnTo>
                <a:lnTo>
                  <a:pt x="9861" y="76158"/>
                </a:lnTo>
                <a:lnTo>
                  <a:pt x="7166" y="82306"/>
                </a:lnTo>
                <a:lnTo>
                  <a:pt x="6098" y="82811"/>
                </a:lnTo>
                <a:lnTo>
                  <a:pt x="0" y="83687"/>
                </a:lnTo>
                <a:lnTo>
                  <a:pt x="5542" y="83808"/>
                </a:lnTo>
                <a:lnTo>
                  <a:pt x="10591" y="81556"/>
                </a:lnTo>
                <a:lnTo>
                  <a:pt x="14309" y="79771"/>
                </a:lnTo>
                <a:lnTo>
                  <a:pt x="20696" y="75529"/>
                </a:lnTo>
                <a:lnTo>
                  <a:pt x="26358" y="70822"/>
                </a:lnTo>
                <a:lnTo>
                  <a:pt x="31696" y="65907"/>
                </a:lnTo>
                <a:lnTo>
                  <a:pt x="35998" y="63411"/>
                </a:lnTo>
                <a:lnTo>
                  <a:pt x="41407" y="60901"/>
                </a:lnTo>
                <a:lnTo>
                  <a:pt x="47552" y="58380"/>
                </a:lnTo>
                <a:lnTo>
                  <a:pt x="53342" y="56700"/>
                </a:lnTo>
                <a:lnTo>
                  <a:pt x="58896" y="55580"/>
                </a:lnTo>
                <a:lnTo>
                  <a:pt x="64292" y="54833"/>
                </a:lnTo>
                <a:lnTo>
                  <a:pt x="69582" y="53488"/>
                </a:lnTo>
                <a:lnTo>
                  <a:pt x="74802" y="51745"/>
                </a:lnTo>
                <a:lnTo>
                  <a:pt x="79976" y="49737"/>
                </a:lnTo>
                <a:lnTo>
                  <a:pt x="85965" y="49244"/>
                </a:lnTo>
                <a:lnTo>
                  <a:pt x="92498" y="49763"/>
                </a:lnTo>
                <a:lnTo>
                  <a:pt x="99392" y="50955"/>
                </a:lnTo>
                <a:lnTo>
                  <a:pt x="105683" y="51750"/>
                </a:lnTo>
                <a:lnTo>
                  <a:pt x="111570" y="52280"/>
                </a:lnTo>
                <a:lnTo>
                  <a:pt x="117187" y="52633"/>
                </a:lnTo>
                <a:lnTo>
                  <a:pt x="123473" y="53715"/>
                </a:lnTo>
                <a:lnTo>
                  <a:pt x="130202" y="55284"/>
                </a:lnTo>
                <a:lnTo>
                  <a:pt x="137229" y="57176"/>
                </a:lnTo>
                <a:lnTo>
                  <a:pt x="143607" y="60131"/>
                </a:lnTo>
                <a:lnTo>
                  <a:pt x="149552" y="63794"/>
                </a:lnTo>
                <a:lnTo>
                  <a:pt x="155209" y="67929"/>
                </a:lnTo>
                <a:lnTo>
                  <a:pt x="160674" y="72379"/>
                </a:lnTo>
                <a:lnTo>
                  <a:pt x="166010" y="77039"/>
                </a:lnTo>
                <a:lnTo>
                  <a:pt x="171261" y="81839"/>
                </a:lnTo>
                <a:lnTo>
                  <a:pt x="181611" y="91688"/>
                </a:lnTo>
                <a:lnTo>
                  <a:pt x="202053" y="111809"/>
                </a:lnTo>
                <a:lnTo>
                  <a:pt x="206296" y="116873"/>
                </a:lnTo>
                <a:lnTo>
                  <a:pt x="209972" y="121942"/>
                </a:lnTo>
                <a:lnTo>
                  <a:pt x="213269" y="127014"/>
                </a:lnTo>
                <a:lnTo>
                  <a:pt x="214620" y="132089"/>
                </a:lnTo>
                <a:lnTo>
                  <a:pt x="214674" y="137166"/>
                </a:lnTo>
                <a:lnTo>
                  <a:pt x="213864" y="142244"/>
                </a:lnTo>
                <a:lnTo>
                  <a:pt x="212476" y="146476"/>
                </a:lnTo>
                <a:lnTo>
                  <a:pt x="208678" y="153436"/>
                </a:lnTo>
                <a:lnTo>
                  <a:pt x="206479" y="157324"/>
                </a:lnTo>
                <a:lnTo>
                  <a:pt x="201779" y="166159"/>
                </a:lnTo>
                <a:lnTo>
                  <a:pt x="194372" y="180654"/>
                </a:lnTo>
                <a:lnTo>
                  <a:pt x="191016" y="184783"/>
                </a:lnTo>
                <a:lnTo>
                  <a:pt x="187085" y="188381"/>
                </a:lnTo>
                <a:lnTo>
                  <a:pt x="182771" y="191628"/>
                </a:lnTo>
                <a:lnTo>
                  <a:pt x="179048" y="194638"/>
                </a:lnTo>
                <a:lnTo>
                  <a:pt x="172654" y="200241"/>
                </a:lnTo>
                <a:lnTo>
                  <a:pt x="164732" y="207812"/>
                </a:lnTo>
                <a:lnTo>
                  <a:pt x="160249" y="212201"/>
                </a:lnTo>
                <a:lnTo>
                  <a:pt x="154721" y="215127"/>
                </a:lnTo>
                <a:lnTo>
                  <a:pt x="148494" y="217078"/>
                </a:lnTo>
                <a:lnTo>
                  <a:pt x="141804" y="218378"/>
                </a:lnTo>
                <a:lnTo>
                  <a:pt x="136497" y="220092"/>
                </a:lnTo>
                <a:lnTo>
                  <a:pt x="132112" y="222082"/>
                </a:lnTo>
                <a:lnTo>
                  <a:pt x="128342" y="224255"/>
                </a:lnTo>
                <a:lnTo>
                  <a:pt x="124136" y="225703"/>
                </a:lnTo>
                <a:lnTo>
                  <a:pt x="119638" y="226668"/>
                </a:lnTo>
                <a:lnTo>
                  <a:pt x="105563" y="2286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MARTInkAnnotation109"/>
          <p:cNvSpPr/>
          <p:nvPr/>
        </p:nvSpPr>
        <p:spPr>
          <a:xfrm>
            <a:off x="3718080" y="5075280"/>
            <a:ext cx="190440" cy="46080"/>
          </a:xfrm>
          <a:custGeom>
            <a:avLst/>
            <a:gdLst>
              <a:gd name="textAreaLeft" fmla="*/ 0 w 190440"/>
              <a:gd name="textAreaRight" fmla="*/ 190800 w 19044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90501" h="44662">
                <a:moveTo>
                  <a:pt x="0" y="6562"/>
                </a:moveTo>
                <a:lnTo>
                  <a:pt x="6561" y="6562"/>
                </a:lnTo>
                <a:lnTo>
                  <a:pt x="8607" y="5715"/>
                </a:lnTo>
                <a:lnTo>
                  <a:pt x="11665" y="4304"/>
                </a:lnTo>
                <a:lnTo>
                  <a:pt x="15397" y="2516"/>
                </a:lnTo>
                <a:lnTo>
                  <a:pt x="18731" y="1325"/>
                </a:lnTo>
                <a:lnTo>
                  <a:pt x="21800" y="530"/>
                </a:lnTo>
                <a:lnTo>
                  <a:pt x="24693" y="0"/>
                </a:lnTo>
                <a:lnTo>
                  <a:pt x="28316" y="494"/>
                </a:lnTo>
                <a:lnTo>
                  <a:pt x="32424" y="1670"/>
                </a:lnTo>
                <a:lnTo>
                  <a:pt x="36856" y="3300"/>
                </a:lnTo>
                <a:lnTo>
                  <a:pt x="41504" y="4388"/>
                </a:lnTo>
                <a:lnTo>
                  <a:pt x="46295" y="5112"/>
                </a:lnTo>
                <a:lnTo>
                  <a:pt x="51184" y="5595"/>
                </a:lnTo>
                <a:lnTo>
                  <a:pt x="56982" y="5917"/>
                </a:lnTo>
                <a:lnTo>
                  <a:pt x="70199" y="6275"/>
                </a:lnTo>
                <a:lnTo>
                  <a:pt x="76432" y="7217"/>
                </a:lnTo>
                <a:lnTo>
                  <a:pt x="82281" y="8691"/>
                </a:lnTo>
                <a:lnTo>
                  <a:pt x="152506" y="31998"/>
                </a:lnTo>
                <a:lnTo>
                  <a:pt x="159243" y="34526"/>
                </a:lnTo>
                <a:lnTo>
                  <a:pt x="165429" y="37058"/>
                </a:lnTo>
                <a:lnTo>
                  <a:pt x="171246" y="39592"/>
                </a:lnTo>
                <a:lnTo>
                  <a:pt x="175970" y="41282"/>
                </a:lnTo>
                <a:lnTo>
                  <a:pt x="179967" y="42408"/>
                </a:lnTo>
                <a:lnTo>
                  <a:pt x="190500" y="4466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MARTInkAnnotation110"/>
          <p:cNvSpPr/>
          <p:nvPr/>
        </p:nvSpPr>
        <p:spPr>
          <a:xfrm>
            <a:off x="3946680" y="4975200"/>
            <a:ext cx="99720" cy="426960"/>
          </a:xfrm>
          <a:custGeom>
            <a:avLst/>
            <a:gdLst>
              <a:gd name="textAreaLeft" fmla="*/ 0 w 99720"/>
              <a:gd name="textAreaRight" fmla="*/ 100080 w 9972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98587" h="426721">
                <a:moveTo>
                  <a:pt x="30480" y="0"/>
                </a:moveTo>
                <a:lnTo>
                  <a:pt x="34524" y="4045"/>
                </a:lnTo>
                <a:lnTo>
                  <a:pt x="35717" y="6083"/>
                </a:lnTo>
                <a:lnTo>
                  <a:pt x="37041" y="10606"/>
                </a:lnTo>
                <a:lnTo>
                  <a:pt x="37786" y="21957"/>
                </a:lnTo>
                <a:lnTo>
                  <a:pt x="39584" y="27338"/>
                </a:lnTo>
                <a:lnTo>
                  <a:pt x="42476" y="33466"/>
                </a:lnTo>
                <a:lnTo>
                  <a:pt x="46097" y="40090"/>
                </a:lnTo>
                <a:lnTo>
                  <a:pt x="49358" y="47047"/>
                </a:lnTo>
                <a:lnTo>
                  <a:pt x="52379" y="54224"/>
                </a:lnTo>
                <a:lnTo>
                  <a:pt x="55239" y="61550"/>
                </a:lnTo>
                <a:lnTo>
                  <a:pt x="57993" y="69820"/>
                </a:lnTo>
                <a:lnTo>
                  <a:pt x="60676" y="78720"/>
                </a:lnTo>
                <a:lnTo>
                  <a:pt x="63310" y="88040"/>
                </a:lnTo>
                <a:lnTo>
                  <a:pt x="66760" y="98486"/>
                </a:lnTo>
                <a:lnTo>
                  <a:pt x="75109" y="121383"/>
                </a:lnTo>
                <a:lnTo>
                  <a:pt x="78859" y="133415"/>
                </a:lnTo>
                <a:lnTo>
                  <a:pt x="82207" y="145670"/>
                </a:lnTo>
                <a:lnTo>
                  <a:pt x="85284" y="158074"/>
                </a:lnTo>
                <a:lnTo>
                  <a:pt x="90963" y="183144"/>
                </a:lnTo>
                <a:lnTo>
                  <a:pt x="93662" y="195756"/>
                </a:lnTo>
                <a:lnTo>
                  <a:pt x="95461" y="208397"/>
                </a:lnTo>
                <a:lnTo>
                  <a:pt x="96661" y="221058"/>
                </a:lnTo>
                <a:lnTo>
                  <a:pt x="97461" y="233732"/>
                </a:lnTo>
                <a:lnTo>
                  <a:pt x="98349" y="256846"/>
                </a:lnTo>
                <a:lnTo>
                  <a:pt x="98586" y="267750"/>
                </a:lnTo>
                <a:lnTo>
                  <a:pt x="97897" y="278407"/>
                </a:lnTo>
                <a:lnTo>
                  <a:pt x="96592" y="288898"/>
                </a:lnTo>
                <a:lnTo>
                  <a:pt x="94874" y="299279"/>
                </a:lnTo>
                <a:lnTo>
                  <a:pt x="92037" y="308739"/>
                </a:lnTo>
                <a:lnTo>
                  <a:pt x="88451" y="317586"/>
                </a:lnTo>
                <a:lnTo>
                  <a:pt x="84368" y="326024"/>
                </a:lnTo>
                <a:lnTo>
                  <a:pt x="80798" y="335036"/>
                </a:lnTo>
                <a:lnTo>
                  <a:pt x="77573" y="344431"/>
                </a:lnTo>
                <a:lnTo>
                  <a:pt x="74575" y="354081"/>
                </a:lnTo>
                <a:lnTo>
                  <a:pt x="70883" y="362207"/>
                </a:lnTo>
                <a:lnTo>
                  <a:pt x="66729" y="369318"/>
                </a:lnTo>
                <a:lnTo>
                  <a:pt x="62267" y="375752"/>
                </a:lnTo>
                <a:lnTo>
                  <a:pt x="57597" y="380888"/>
                </a:lnTo>
                <a:lnTo>
                  <a:pt x="52791" y="385159"/>
                </a:lnTo>
                <a:lnTo>
                  <a:pt x="47895" y="388852"/>
                </a:lnTo>
                <a:lnTo>
                  <a:pt x="42936" y="393008"/>
                </a:lnTo>
                <a:lnTo>
                  <a:pt x="37938" y="397472"/>
                </a:lnTo>
                <a:lnTo>
                  <a:pt x="28714" y="406101"/>
                </a:lnTo>
                <a:lnTo>
                  <a:pt x="21793" y="412758"/>
                </a:lnTo>
                <a:lnTo>
                  <a:pt x="18762" y="414872"/>
                </a:lnTo>
                <a:lnTo>
                  <a:pt x="15895" y="416281"/>
                </a:lnTo>
                <a:lnTo>
                  <a:pt x="13137" y="417221"/>
                </a:lnTo>
                <a:lnTo>
                  <a:pt x="10451" y="418694"/>
                </a:lnTo>
                <a:lnTo>
                  <a:pt x="7814" y="420523"/>
                </a:lnTo>
                <a:lnTo>
                  <a:pt x="0" y="4267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MARTInkAnnotation111"/>
          <p:cNvSpPr/>
          <p:nvPr/>
        </p:nvSpPr>
        <p:spPr>
          <a:xfrm>
            <a:off x="4100400" y="5159520"/>
            <a:ext cx="60480" cy="21960"/>
          </a:xfrm>
          <a:custGeom>
            <a:avLst/>
            <a:gdLst>
              <a:gd name="textAreaLeft" fmla="*/ 0 w 60480"/>
              <a:gd name="textAreaRight" fmla="*/ 60840 w 6048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60596" h="22852">
                <a:moveTo>
                  <a:pt x="-27797" y="22851"/>
                </a:moveTo>
                <a:lnTo>
                  <a:pt x="-27797" y="18807"/>
                </a:lnTo>
                <a:lnTo>
                  <a:pt x="-28644" y="17614"/>
                </a:lnTo>
                <a:lnTo>
                  <a:pt x="-30054" y="16820"/>
                </a:lnTo>
                <a:lnTo>
                  <a:pt x="-31842" y="16291"/>
                </a:lnTo>
                <a:lnTo>
                  <a:pt x="30809" y="15091"/>
                </a:lnTo>
                <a:lnTo>
                  <a:pt x="27193" y="13444"/>
                </a:lnTo>
                <a:lnTo>
                  <a:pt x="23088" y="11500"/>
                </a:lnTo>
                <a:lnTo>
                  <a:pt x="19505" y="10204"/>
                </a:lnTo>
                <a:lnTo>
                  <a:pt x="16270" y="9339"/>
                </a:lnTo>
                <a:lnTo>
                  <a:pt x="13266" y="8763"/>
                </a:lnTo>
                <a:lnTo>
                  <a:pt x="11264" y="7533"/>
                </a:lnTo>
                <a:lnTo>
                  <a:pt x="9929" y="5865"/>
                </a:lnTo>
                <a:lnTo>
                  <a:pt x="9039" y="3907"/>
                </a:lnTo>
                <a:lnTo>
                  <a:pt x="7599" y="2602"/>
                </a:lnTo>
                <a:lnTo>
                  <a:pt x="5792" y="1731"/>
                </a:lnTo>
                <a:lnTo>
                  <a:pt x="0" y="93"/>
                </a:lnTo>
                <a:lnTo>
                  <a:pt x="726" y="59"/>
                </a:lnTo>
                <a:lnTo>
                  <a:pt x="6232" y="0"/>
                </a:lnTo>
                <a:lnTo>
                  <a:pt x="7421" y="844"/>
                </a:lnTo>
                <a:lnTo>
                  <a:pt x="9060" y="2253"/>
                </a:lnTo>
                <a:lnTo>
                  <a:pt x="11000" y="4039"/>
                </a:lnTo>
                <a:lnTo>
                  <a:pt x="13986" y="5230"/>
                </a:lnTo>
                <a:lnTo>
                  <a:pt x="17670" y="6024"/>
                </a:lnTo>
                <a:lnTo>
                  <a:pt x="21820" y="6553"/>
                </a:lnTo>
                <a:lnTo>
                  <a:pt x="26280" y="6905"/>
                </a:lnTo>
                <a:lnTo>
                  <a:pt x="30947" y="7140"/>
                </a:lnTo>
                <a:lnTo>
                  <a:pt x="-29786" y="7298"/>
                </a:lnTo>
                <a:lnTo>
                  <a:pt x="-25736" y="8249"/>
                </a:lnTo>
                <a:lnTo>
                  <a:pt x="-22189" y="9730"/>
                </a:lnTo>
                <a:lnTo>
                  <a:pt x="-18978" y="11563"/>
                </a:lnTo>
                <a:lnTo>
                  <a:pt x="-15991" y="12786"/>
                </a:lnTo>
                <a:lnTo>
                  <a:pt x="-13153" y="13601"/>
                </a:lnTo>
                <a:lnTo>
                  <a:pt x="-10414" y="14145"/>
                </a:lnTo>
                <a:lnTo>
                  <a:pt x="-8588" y="15354"/>
                </a:lnTo>
                <a:lnTo>
                  <a:pt x="-7372" y="17006"/>
                </a:lnTo>
                <a:lnTo>
                  <a:pt x="-4945" y="22831"/>
                </a:lnTo>
                <a:lnTo>
                  <a:pt x="-4941" y="22842"/>
                </a:lnTo>
                <a:lnTo>
                  <a:pt x="-12557" y="2285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400" bIns="-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MARTInkAnnotation112"/>
          <p:cNvSpPr/>
          <p:nvPr/>
        </p:nvSpPr>
        <p:spPr>
          <a:xfrm>
            <a:off x="4114800" y="4975200"/>
            <a:ext cx="307800" cy="290520"/>
          </a:xfrm>
          <a:custGeom>
            <a:avLst/>
            <a:gdLst>
              <a:gd name="textAreaLeft" fmla="*/ 0 w 307800"/>
              <a:gd name="textAreaRight" fmla="*/ 308160 w 3078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307833" h="289440">
                <a:moveTo>
                  <a:pt x="0" y="22739"/>
                </a:moveTo>
                <a:lnTo>
                  <a:pt x="0" y="16178"/>
                </a:lnTo>
                <a:lnTo>
                  <a:pt x="846" y="15825"/>
                </a:lnTo>
                <a:lnTo>
                  <a:pt x="4045" y="15433"/>
                </a:lnTo>
                <a:lnTo>
                  <a:pt x="10546" y="13001"/>
                </a:lnTo>
                <a:lnTo>
                  <a:pt x="19081" y="9097"/>
                </a:lnTo>
                <a:lnTo>
                  <a:pt x="28518" y="4541"/>
                </a:lnTo>
                <a:lnTo>
                  <a:pt x="34252" y="2986"/>
                </a:lnTo>
                <a:lnTo>
                  <a:pt x="40615" y="1951"/>
                </a:lnTo>
                <a:lnTo>
                  <a:pt x="47397" y="1260"/>
                </a:lnTo>
                <a:lnTo>
                  <a:pt x="54458" y="800"/>
                </a:lnTo>
                <a:lnTo>
                  <a:pt x="61706" y="493"/>
                </a:lnTo>
                <a:lnTo>
                  <a:pt x="77377" y="152"/>
                </a:lnTo>
                <a:lnTo>
                  <a:pt x="95632" y="0"/>
                </a:lnTo>
                <a:lnTo>
                  <a:pt x="105242" y="806"/>
                </a:lnTo>
                <a:lnTo>
                  <a:pt x="115034" y="2191"/>
                </a:lnTo>
                <a:lnTo>
                  <a:pt x="124950" y="3960"/>
                </a:lnTo>
                <a:lnTo>
                  <a:pt x="134100" y="5986"/>
                </a:lnTo>
                <a:lnTo>
                  <a:pt x="142740" y="8184"/>
                </a:lnTo>
                <a:lnTo>
                  <a:pt x="151040" y="10495"/>
                </a:lnTo>
                <a:lnTo>
                  <a:pt x="167036" y="15321"/>
                </a:lnTo>
                <a:lnTo>
                  <a:pt x="174857" y="17794"/>
                </a:lnTo>
                <a:lnTo>
                  <a:pt x="181765" y="21136"/>
                </a:lnTo>
                <a:lnTo>
                  <a:pt x="188063" y="25057"/>
                </a:lnTo>
                <a:lnTo>
                  <a:pt x="193955" y="29364"/>
                </a:lnTo>
                <a:lnTo>
                  <a:pt x="199577" y="32236"/>
                </a:lnTo>
                <a:lnTo>
                  <a:pt x="205018" y="34150"/>
                </a:lnTo>
                <a:lnTo>
                  <a:pt x="210338" y="35427"/>
                </a:lnTo>
                <a:lnTo>
                  <a:pt x="213885" y="37124"/>
                </a:lnTo>
                <a:lnTo>
                  <a:pt x="216251" y="39102"/>
                </a:lnTo>
                <a:lnTo>
                  <a:pt x="217827" y="41267"/>
                </a:lnTo>
                <a:lnTo>
                  <a:pt x="219579" y="45932"/>
                </a:lnTo>
                <a:lnTo>
                  <a:pt x="220046" y="48361"/>
                </a:lnTo>
                <a:lnTo>
                  <a:pt x="219510" y="50827"/>
                </a:lnTo>
                <a:lnTo>
                  <a:pt x="216658" y="55825"/>
                </a:lnTo>
                <a:lnTo>
                  <a:pt x="210310" y="60868"/>
                </a:lnTo>
                <a:lnTo>
                  <a:pt x="200998" y="65932"/>
                </a:lnTo>
                <a:lnTo>
                  <a:pt x="194959" y="68468"/>
                </a:lnTo>
                <a:lnTo>
                  <a:pt x="188393" y="71005"/>
                </a:lnTo>
                <a:lnTo>
                  <a:pt x="182321" y="73543"/>
                </a:lnTo>
                <a:lnTo>
                  <a:pt x="176581" y="76081"/>
                </a:lnTo>
                <a:lnTo>
                  <a:pt x="171061" y="78621"/>
                </a:lnTo>
                <a:lnTo>
                  <a:pt x="164841" y="81160"/>
                </a:lnTo>
                <a:lnTo>
                  <a:pt x="158154" y="83700"/>
                </a:lnTo>
                <a:lnTo>
                  <a:pt x="151156" y="86240"/>
                </a:lnTo>
                <a:lnTo>
                  <a:pt x="144797" y="88779"/>
                </a:lnTo>
                <a:lnTo>
                  <a:pt x="138866" y="91319"/>
                </a:lnTo>
                <a:lnTo>
                  <a:pt x="133217" y="93859"/>
                </a:lnTo>
                <a:lnTo>
                  <a:pt x="124683" y="96681"/>
                </a:lnTo>
                <a:lnTo>
                  <a:pt x="121222" y="97434"/>
                </a:lnTo>
                <a:lnTo>
                  <a:pt x="115119" y="100528"/>
                </a:lnTo>
                <a:lnTo>
                  <a:pt x="108347" y="105367"/>
                </a:lnTo>
                <a:lnTo>
                  <a:pt x="108638" y="106611"/>
                </a:lnTo>
                <a:lnTo>
                  <a:pt x="111219" y="110251"/>
                </a:lnTo>
                <a:lnTo>
                  <a:pt x="117432" y="117061"/>
                </a:lnTo>
                <a:lnTo>
                  <a:pt x="124441" y="121950"/>
                </a:lnTo>
                <a:lnTo>
                  <a:pt x="128681" y="124440"/>
                </a:lnTo>
                <a:lnTo>
                  <a:pt x="134894" y="126947"/>
                </a:lnTo>
                <a:lnTo>
                  <a:pt x="142423" y="129464"/>
                </a:lnTo>
                <a:lnTo>
                  <a:pt x="150828" y="131989"/>
                </a:lnTo>
                <a:lnTo>
                  <a:pt x="159819" y="135366"/>
                </a:lnTo>
                <a:lnTo>
                  <a:pt x="169200" y="139311"/>
                </a:lnTo>
                <a:lnTo>
                  <a:pt x="178840" y="143633"/>
                </a:lnTo>
                <a:lnTo>
                  <a:pt x="200840" y="152952"/>
                </a:lnTo>
                <a:lnTo>
                  <a:pt x="212633" y="157808"/>
                </a:lnTo>
                <a:lnTo>
                  <a:pt x="223882" y="162738"/>
                </a:lnTo>
                <a:lnTo>
                  <a:pt x="245413" y="172732"/>
                </a:lnTo>
                <a:lnTo>
                  <a:pt x="254201" y="177768"/>
                </a:lnTo>
                <a:lnTo>
                  <a:pt x="261754" y="182818"/>
                </a:lnTo>
                <a:lnTo>
                  <a:pt x="268483" y="187878"/>
                </a:lnTo>
                <a:lnTo>
                  <a:pt x="274662" y="192945"/>
                </a:lnTo>
                <a:lnTo>
                  <a:pt x="280475" y="198016"/>
                </a:lnTo>
                <a:lnTo>
                  <a:pt x="290602" y="207320"/>
                </a:lnTo>
                <a:lnTo>
                  <a:pt x="297926" y="214277"/>
                </a:lnTo>
                <a:lnTo>
                  <a:pt x="304003" y="222450"/>
                </a:lnTo>
                <a:lnTo>
                  <a:pt x="306809" y="226999"/>
                </a:lnTo>
                <a:lnTo>
                  <a:pt x="307832" y="230879"/>
                </a:lnTo>
                <a:lnTo>
                  <a:pt x="307668" y="234313"/>
                </a:lnTo>
                <a:lnTo>
                  <a:pt x="305228" y="241232"/>
                </a:lnTo>
                <a:lnTo>
                  <a:pt x="301321" y="249951"/>
                </a:lnTo>
                <a:lnTo>
                  <a:pt x="296763" y="257214"/>
                </a:lnTo>
                <a:lnTo>
                  <a:pt x="289436" y="266062"/>
                </a:lnTo>
                <a:lnTo>
                  <a:pt x="286938" y="268774"/>
                </a:lnTo>
                <a:lnTo>
                  <a:pt x="279646" y="274046"/>
                </a:lnTo>
                <a:lnTo>
                  <a:pt x="275330" y="276637"/>
                </a:lnTo>
                <a:lnTo>
                  <a:pt x="269914" y="278365"/>
                </a:lnTo>
                <a:lnTo>
                  <a:pt x="263763" y="279516"/>
                </a:lnTo>
                <a:lnTo>
                  <a:pt x="257122" y="280284"/>
                </a:lnTo>
                <a:lnTo>
                  <a:pt x="250155" y="281642"/>
                </a:lnTo>
                <a:lnTo>
                  <a:pt x="242970" y="283395"/>
                </a:lnTo>
                <a:lnTo>
                  <a:pt x="235640" y="285409"/>
                </a:lnTo>
                <a:lnTo>
                  <a:pt x="228214" y="286753"/>
                </a:lnTo>
                <a:lnTo>
                  <a:pt x="220722" y="287648"/>
                </a:lnTo>
                <a:lnTo>
                  <a:pt x="213188" y="288245"/>
                </a:lnTo>
                <a:lnTo>
                  <a:pt x="205625" y="288644"/>
                </a:lnTo>
                <a:lnTo>
                  <a:pt x="190449" y="289086"/>
                </a:lnTo>
                <a:lnTo>
                  <a:pt x="152400" y="28943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MARTInkAnnotation113"/>
          <p:cNvSpPr/>
          <p:nvPr/>
        </p:nvSpPr>
        <p:spPr>
          <a:xfrm>
            <a:off x="1204920" y="5622840"/>
            <a:ext cx="204840" cy="92160"/>
          </a:xfrm>
          <a:custGeom>
            <a:avLst/>
            <a:gdLst>
              <a:gd name="textAreaLeft" fmla="*/ 0 w 204840"/>
              <a:gd name="textAreaRight" fmla="*/ 205200 w 2048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205426" h="91413">
                <a:moveTo>
                  <a:pt x="14925" y="0"/>
                </a:moveTo>
                <a:lnTo>
                  <a:pt x="14925" y="6561"/>
                </a:lnTo>
                <a:lnTo>
                  <a:pt x="12667" y="9407"/>
                </a:lnTo>
                <a:lnTo>
                  <a:pt x="10880" y="11351"/>
                </a:lnTo>
                <a:lnTo>
                  <a:pt x="9688" y="13495"/>
                </a:lnTo>
                <a:lnTo>
                  <a:pt x="8894" y="15770"/>
                </a:lnTo>
                <a:lnTo>
                  <a:pt x="8364" y="18133"/>
                </a:lnTo>
                <a:lnTo>
                  <a:pt x="8011" y="20556"/>
                </a:lnTo>
                <a:lnTo>
                  <a:pt x="7776" y="23017"/>
                </a:lnTo>
                <a:lnTo>
                  <a:pt x="7619" y="25504"/>
                </a:lnTo>
                <a:lnTo>
                  <a:pt x="7444" y="30526"/>
                </a:lnTo>
                <a:lnTo>
                  <a:pt x="7333" y="36604"/>
                </a:lnTo>
                <a:lnTo>
                  <a:pt x="6477" y="38796"/>
                </a:lnTo>
                <a:lnTo>
                  <a:pt x="5060" y="41950"/>
                </a:lnTo>
                <a:lnTo>
                  <a:pt x="747" y="51091"/>
                </a:lnTo>
                <a:lnTo>
                  <a:pt x="393" y="52687"/>
                </a:lnTo>
                <a:lnTo>
                  <a:pt x="157" y="54598"/>
                </a:lnTo>
                <a:lnTo>
                  <a:pt x="0" y="56719"/>
                </a:lnTo>
                <a:lnTo>
                  <a:pt x="742" y="58979"/>
                </a:lnTo>
                <a:lnTo>
                  <a:pt x="2083" y="61333"/>
                </a:lnTo>
                <a:lnTo>
                  <a:pt x="6273" y="67149"/>
                </a:lnTo>
                <a:lnTo>
                  <a:pt x="11362" y="67944"/>
                </a:lnTo>
                <a:lnTo>
                  <a:pt x="15090" y="68156"/>
                </a:lnTo>
                <a:lnTo>
                  <a:pt x="19268" y="69144"/>
                </a:lnTo>
                <a:lnTo>
                  <a:pt x="23747" y="70649"/>
                </a:lnTo>
                <a:lnTo>
                  <a:pt x="28426" y="72499"/>
                </a:lnTo>
                <a:lnTo>
                  <a:pt x="33239" y="74580"/>
                </a:lnTo>
                <a:lnTo>
                  <a:pt x="43102" y="79149"/>
                </a:lnTo>
                <a:lnTo>
                  <a:pt x="48950" y="80706"/>
                </a:lnTo>
                <a:lnTo>
                  <a:pt x="55388" y="81744"/>
                </a:lnTo>
                <a:lnTo>
                  <a:pt x="62220" y="82436"/>
                </a:lnTo>
                <a:lnTo>
                  <a:pt x="70162" y="82897"/>
                </a:lnTo>
                <a:lnTo>
                  <a:pt x="88017" y="83410"/>
                </a:lnTo>
                <a:lnTo>
                  <a:pt x="117109" y="83699"/>
                </a:lnTo>
                <a:lnTo>
                  <a:pt x="125381" y="84585"/>
                </a:lnTo>
                <a:lnTo>
                  <a:pt x="132589" y="86024"/>
                </a:lnTo>
                <a:lnTo>
                  <a:pt x="139088" y="87829"/>
                </a:lnTo>
                <a:lnTo>
                  <a:pt x="145960" y="89033"/>
                </a:lnTo>
                <a:lnTo>
                  <a:pt x="153082" y="89835"/>
                </a:lnTo>
                <a:lnTo>
                  <a:pt x="160369" y="90371"/>
                </a:lnTo>
                <a:lnTo>
                  <a:pt x="166921" y="90726"/>
                </a:lnTo>
                <a:lnTo>
                  <a:pt x="178717" y="91123"/>
                </a:lnTo>
                <a:lnTo>
                  <a:pt x="194003" y="91378"/>
                </a:lnTo>
                <a:lnTo>
                  <a:pt x="199784" y="91412"/>
                </a:lnTo>
                <a:lnTo>
                  <a:pt x="201664" y="90575"/>
                </a:lnTo>
                <a:lnTo>
                  <a:pt x="202918" y="89170"/>
                </a:lnTo>
                <a:lnTo>
                  <a:pt x="205425" y="838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MARTInkAnnotation114"/>
          <p:cNvSpPr/>
          <p:nvPr/>
        </p:nvSpPr>
        <p:spPr>
          <a:xfrm>
            <a:off x="1379520" y="5546880"/>
            <a:ext cx="76320" cy="328320"/>
          </a:xfrm>
          <a:custGeom>
            <a:avLst/>
            <a:gdLst>
              <a:gd name="textAreaLeft" fmla="*/ 0 w 76320"/>
              <a:gd name="textAreaRight" fmla="*/ 76320 w 76320"/>
              <a:gd name="textAreaTop" fmla="*/ 0 h 328320"/>
              <a:gd name="textAreaBottom" fmla="*/ 328680 h 328320"/>
            </a:gdLst>
            <a:ahLst/>
            <a:rect l="textAreaLeft" t="textAreaTop" r="textAreaRight" b="textAreaBottom"/>
            <a:pathLst>
              <a:path w="76201" h="327661">
                <a:moveTo>
                  <a:pt x="76200" y="0"/>
                </a:moveTo>
                <a:lnTo>
                  <a:pt x="76200" y="25524"/>
                </a:lnTo>
                <a:lnTo>
                  <a:pt x="73942" y="32792"/>
                </a:lnTo>
                <a:lnTo>
                  <a:pt x="72155" y="37102"/>
                </a:lnTo>
                <a:lnTo>
                  <a:pt x="70963" y="42514"/>
                </a:lnTo>
                <a:lnTo>
                  <a:pt x="70169" y="48663"/>
                </a:lnTo>
                <a:lnTo>
                  <a:pt x="69639" y="55302"/>
                </a:lnTo>
                <a:lnTo>
                  <a:pt x="68440" y="62268"/>
                </a:lnTo>
                <a:lnTo>
                  <a:pt x="66793" y="69452"/>
                </a:lnTo>
                <a:lnTo>
                  <a:pt x="58067" y="103277"/>
                </a:lnTo>
                <a:lnTo>
                  <a:pt x="54798" y="112878"/>
                </a:lnTo>
                <a:lnTo>
                  <a:pt x="50926" y="122666"/>
                </a:lnTo>
                <a:lnTo>
                  <a:pt x="46651" y="132577"/>
                </a:lnTo>
                <a:lnTo>
                  <a:pt x="42954" y="142571"/>
                </a:lnTo>
                <a:lnTo>
                  <a:pt x="39643" y="152621"/>
                </a:lnTo>
                <a:lnTo>
                  <a:pt x="36588" y="162708"/>
                </a:lnTo>
                <a:lnTo>
                  <a:pt x="30937" y="182946"/>
                </a:lnTo>
                <a:lnTo>
                  <a:pt x="28245" y="193084"/>
                </a:lnTo>
                <a:lnTo>
                  <a:pt x="22995" y="211122"/>
                </a:lnTo>
                <a:lnTo>
                  <a:pt x="20410" y="219488"/>
                </a:lnTo>
                <a:lnTo>
                  <a:pt x="15280" y="237815"/>
                </a:lnTo>
                <a:lnTo>
                  <a:pt x="12727" y="247443"/>
                </a:lnTo>
                <a:lnTo>
                  <a:pt x="10178" y="255556"/>
                </a:lnTo>
                <a:lnTo>
                  <a:pt x="7632" y="262657"/>
                </a:lnTo>
                <a:lnTo>
                  <a:pt x="5088" y="269085"/>
                </a:lnTo>
                <a:lnTo>
                  <a:pt x="3392" y="275910"/>
                </a:lnTo>
                <a:lnTo>
                  <a:pt x="2261" y="283000"/>
                </a:lnTo>
                <a:lnTo>
                  <a:pt x="1508" y="290267"/>
                </a:lnTo>
                <a:lnTo>
                  <a:pt x="1005" y="295958"/>
                </a:lnTo>
                <a:lnTo>
                  <a:pt x="447" y="304539"/>
                </a:lnTo>
                <a:lnTo>
                  <a:pt x="132" y="314130"/>
                </a:lnTo>
                <a:lnTo>
                  <a:pt x="0" y="3276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MARTInkAnnotation115"/>
          <p:cNvSpPr/>
          <p:nvPr/>
        </p:nvSpPr>
        <p:spPr>
          <a:xfrm>
            <a:off x="1533600" y="5526000"/>
            <a:ext cx="135000" cy="270000"/>
          </a:xfrm>
          <a:custGeom>
            <a:avLst/>
            <a:gdLst>
              <a:gd name="textAreaLeft" fmla="*/ 0 w 135000"/>
              <a:gd name="textAreaRight" fmla="*/ 135360 w 13500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35258" h="269594">
                <a:moveTo>
                  <a:pt x="74905" y="66585"/>
                </a:moveTo>
                <a:lnTo>
                  <a:pt x="38860" y="102631"/>
                </a:lnTo>
                <a:lnTo>
                  <a:pt x="34788" y="108395"/>
                </a:lnTo>
                <a:lnTo>
                  <a:pt x="31227" y="114779"/>
                </a:lnTo>
                <a:lnTo>
                  <a:pt x="28006" y="121574"/>
                </a:lnTo>
                <a:lnTo>
                  <a:pt x="24166" y="128644"/>
                </a:lnTo>
                <a:lnTo>
                  <a:pt x="19912" y="135899"/>
                </a:lnTo>
                <a:lnTo>
                  <a:pt x="15383" y="143274"/>
                </a:lnTo>
                <a:lnTo>
                  <a:pt x="12364" y="150731"/>
                </a:lnTo>
                <a:lnTo>
                  <a:pt x="10351" y="158243"/>
                </a:lnTo>
                <a:lnTo>
                  <a:pt x="9009" y="165790"/>
                </a:lnTo>
                <a:lnTo>
                  <a:pt x="7267" y="173361"/>
                </a:lnTo>
                <a:lnTo>
                  <a:pt x="5260" y="180950"/>
                </a:lnTo>
                <a:lnTo>
                  <a:pt x="3075" y="188548"/>
                </a:lnTo>
                <a:lnTo>
                  <a:pt x="1618" y="196154"/>
                </a:lnTo>
                <a:lnTo>
                  <a:pt x="647" y="203764"/>
                </a:lnTo>
                <a:lnTo>
                  <a:pt x="0" y="211378"/>
                </a:lnTo>
                <a:lnTo>
                  <a:pt x="415" y="218994"/>
                </a:lnTo>
                <a:lnTo>
                  <a:pt x="1538" y="226610"/>
                </a:lnTo>
                <a:lnTo>
                  <a:pt x="3134" y="234229"/>
                </a:lnTo>
                <a:lnTo>
                  <a:pt x="4198" y="240155"/>
                </a:lnTo>
                <a:lnTo>
                  <a:pt x="4907" y="244951"/>
                </a:lnTo>
                <a:lnTo>
                  <a:pt x="5380" y="248996"/>
                </a:lnTo>
                <a:lnTo>
                  <a:pt x="7388" y="253385"/>
                </a:lnTo>
                <a:lnTo>
                  <a:pt x="10420" y="258005"/>
                </a:lnTo>
                <a:lnTo>
                  <a:pt x="14135" y="262778"/>
                </a:lnTo>
                <a:lnTo>
                  <a:pt x="18305" y="265961"/>
                </a:lnTo>
                <a:lnTo>
                  <a:pt x="22779" y="268082"/>
                </a:lnTo>
                <a:lnTo>
                  <a:pt x="27454" y="269496"/>
                </a:lnTo>
                <a:lnTo>
                  <a:pt x="32264" y="269593"/>
                </a:lnTo>
                <a:lnTo>
                  <a:pt x="37165" y="268811"/>
                </a:lnTo>
                <a:lnTo>
                  <a:pt x="42125" y="267441"/>
                </a:lnTo>
                <a:lnTo>
                  <a:pt x="54409" y="263664"/>
                </a:lnTo>
                <a:lnTo>
                  <a:pt x="61241" y="261471"/>
                </a:lnTo>
                <a:lnTo>
                  <a:pt x="67489" y="257469"/>
                </a:lnTo>
                <a:lnTo>
                  <a:pt x="73348" y="252262"/>
                </a:lnTo>
                <a:lnTo>
                  <a:pt x="85219" y="239701"/>
                </a:lnTo>
                <a:lnTo>
                  <a:pt x="98963" y="225652"/>
                </a:lnTo>
                <a:lnTo>
                  <a:pt x="105337" y="217504"/>
                </a:lnTo>
                <a:lnTo>
                  <a:pt x="111280" y="208684"/>
                </a:lnTo>
                <a:lnTo>
                  <a:pt x="116934" y="199418"/>
                </a:lnTo>
                <a:lnTo>
                  <a:pt x="121551" y="189853"/>
                </a:lnTo>
                <a:lnTo>
                  <a:pt x="125476" y="180091"/>
                </a:lnTo>
                <a:lnTo>
                  <a:pt x="128939" y="170195"/>
                </a:lnTo>
                <a:lnTo>
                  <a:pt x="131248" y="159365"/>
                </a:lnTo>
                <a:lnTo>
                  <a:pt x="132787" y="147912"/>
                </a:lnTo>
                <a:lnTo>
                  <a:pt x="133813" y="136043"/>
                </a:lnTo>
                <a:lnTo>
                  <a:pt x="134497" y="124744"/>
                </a:lnTo>
                <a:lnTo>
                  <a:pt x="135257" y="103158"/>
                </a:lnTo>
                <a:lnTo>
                  <a:pt x="134613" y="93507"/>
                </a:lnTo>
                <a:lnTo>
                  <a:pt x="133337" y="84533"/>
                </a:lnTo>
                <a:lnTo>
                  <a:pt x="131640" y="76010"/>
                </a:lnTo>
                <a:lnTo>
                  <a:pt x="129662" y="67789"/>
                </a:lnTo>
                <a:lnTo>
                  <a:pt x="127496" y="59768"/>
                </a:lnTo>
                <a:lnTo>
                  <a:pt x="125206" y="51880"/>
                </a:lnTo>
                <a:lnTo>
                  <a:pt x="121985" y="44928"/>
                </a:lnTo>
                <a:lnTo>
                  <a:pt x="118145" y="38601"/>
                </a:lnTo>
                <a:lnTo>
                  <a:pt x="113892" y="32689"/>
                </a:lnTo>
                <a:lnTo>
                  <a:pt x="109363" y="27054"/>
                </a:lnTo>
                <a:lnTo>
                  <a:pt x="104651" y="21604"/>
                </a:lnTo>
                <a:lnTo>
                  <a:pt x="95745" y="11880"/>
                </a:lnTo>
                <a:lnTo>
                  <a:pt x="88965" y="4736"/>
                </a:lnTo>
                <a:lnTo>
                  <a:pt x="85972" y="2493"/>
                </a:lnTo>
                <a:lnTo>
                  <a:pt x="83129" y="997"/>
                </a:lnTo>
                <a:lnTo>
                  <a:pt x="80388" y="0"/>
                </a:lnTo>
                <a:lnTo>
                  <a:pt x="77714" y="182"/>
                </a:lnTo>
                <a:lnTo>
                  <a:pt x="75084" y="1149"/>
                </a:lnTo>
                <a:lnTo>
                  <a:pt x="72484" y="2642"/>
                </a:lnTo>
                <a:lnTo>
                  <a:pt x="70751" y="4483"/>
                </a:lnTo>
                <a:lnTo>
                  <a:pt x="69596" y="6557"/>
                </a:lnTo>
                <a:lnTo>
                  <a:pt x="68826" y="8786"/>
                </a:lnTo>
                <a:lnTo>
                  <a:pt x="67970" y="15779"/>
                </a:lnTo>
                <a:lnTo>
                  <a:pt x="67589" y="23685"/>
                </a:lnTo>
                <a:lnTo>
                  <a:pt x="67285" y="3610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MARTInkAnnotation116"/>
          <p:cNvSpPr/>
          <p:nvPr/>
        </p:nvSpPr>
        <p:spPr>
          <a:xfrm>
            <a:off x="1714680" y="5684760"/>
            <a:ext cx="168120" cy="14400"/>
          </a:xfrm>
          <a:custGeom>
            <a:avLst/>
            <a:gdLst>
              <a:gd name="textAreaLeft" fmla="*/ 0 w 168120"/>
              <a:gd name="textAreaRight" fmla="*/ 168480 w 16812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67641" h="15241">
                <a:moveTo>
                  <a:pt x="0" y="0"/>
                </a:moveTo>
                <a:lnTo>
                  <a:pt x="43638" y="0"/>
                </a:lnTo>
                <a:lnTo>
                  <a:pt x="49412" y="847"/>
                </a:lnTo>
                <a:lnTo>
                  <a:pt x="55801" y="2258"/>
                </a:lnTo>
                <a:lnTo>
                  <a:pt x="62601" y="4045"/>
                </a:lnTo>
                <a:lnTo>
                  <a:pt x="68827" y="5237"/>
                </a:lnTo>
                <a:lnTo>
                  <a:pt x="74672" y="6031"/>
                </a:lnTo>
                <a:lnTo>
                  <a:pt x="80261" y="6561"/>
                </a:lnTo>
                <a:lnTo>
                  <a:pt x="86527" y="7761"/>
                </a:lnTo>
                <a:lnTo>
                  <a:pt x="93245" y="9408"/>
                </a:lnTo>
                <a:lnTo>
                  <a:pt x="100264" y="11351"/>
                </a:lnTo>
                <a:lnTo>
                  <a:pt x="106636" y="12647"/>
                </a:lnTo>
                <a:lnTo>
                  <a:pt x="112577" y="13512"/>
                </a:lnTo>
                <a:lnTo>
                  <a:pt x="118232" y="14088"/>
                </a:lnTo>
                <a:lnTo>
                  <a:pt x="123695" y="14472"/>
                </a:lnTo>
                <a:lnTo>
                  <a:pt x="129030" y="14728"/>
                </a:lnTo>
                <a:lnTo>
                  <a:pt x="142371" y="15088"/>
                </a:lnTo>
                <a:lnTo>
                  <a:pt x="167640" y="152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MARTInkAnnotation117"/>
          <p:cNvSpPr/>
          <p:nvPr/>
        </p:nvSpPr>
        <p:spPr>
          <a:xfrm>
            <a:off x="2003400" y="5554800"/>
            <a:ext cx="260280" cy="212760"/>
          </a:xfrm>
          <a:custGeom>
            <a:avLst/>
            <a:gdLst>
              <a:gd name="textAreaLeft" fmla="*/ 0 w 260280"/>
              <a:gd name="textAreaRight" fmla="*/ 260640 w 26028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59081" h="211853">
                <a:moveTo>
                  <a:pt x="0" y="7620"/>
                </a:moveTo>
                <a:lnTo>
                  <a:pt x="0" y="1059"/>
                </a:lnTo>
                <a:lnTo>
                  <a:pt x="847" y="706"/>
                </a:lnTo>
                <a:lnTo>
                  <a:pt x="7615" y="1"/>
                </a:lnTo>
                <a:lnTo>
                  <a:pt x="65125" y="0"/>
                </a:lnTo>
                <a:lnTo>
                  <a:pt x="71357" y="846"/>
                </a:lnTo>
                <a:lnTo>
                  <a:pt x="78051" y="2258"/>
                </a:lnTo>
                <a:lnTo>
                  <a:pt x="85054" y="4045"/>
                </a:lnTo>
                <a:lnTo>
                  <a:pt x="91416" y="5237"/>
                </a:lnTo>
                <a:lnTo>
                  <a:pt x="97351" y="6032"/>
                </a:lnTo>
                <a:lnTo>
                  <a:pt x="103001" y="6561"/>
                </a:lnTo>
                <a:lnTo>
                  <a:pt x="108461" y="7760"/>
                </a:lnTo>
                <a:lnTo>
                  <a:pt x="113794" y="9407"/>
                </a:lnTo>
                <a:lnTo>
                  <a:pt x="119042" y="11352"/>
                </a:lnTo>
                <a:lnTo>
                  <a:pt x="124235" y="13495"/>
                </a:lnTo>
                <a:lnTo>
                  <a:pt x="129390" y="15770"/>
                </a:lnTo>
                <a:lnTo>
                  <a:pt x="134520" y="18133"/>
                </a:lnTo>
                <a:lnTo>
                  <a:pt x="137940" y="20556"/>
                </a:lnTo>
                <a:lnTo>
                  <a:pt x="140220" y="23017"/>
                </a:lnTo>
                <a:lnTo>
                  <a:pt x="143600" y="28010"/>
                </a:lnTo>
                <a:lnTo>
                  <a:pt x="147925" y="33051"/>
                </a:lnTo>
                <a:lnTo>
                  <a:pt x="148570" y="35581"/>
                </a:lnTo>
                <a:lnTo>
                  <a:pt x="148153" y="38113"/>
                </a:lnTo>
                <a:lnTo>
                  <a:pt x="146280" y="43186"/>
                </a:lnTo>
                <a:lnTo>
                  <a:pt x="145446" y="48263"/>
                </a:lnTo>
                <a:lnTo>
                  <a:pt x="143531" y="51649"/>
                </a:lnTo>
                <a:lnTo>
                  <a:pt x="140561" y="55599"/>
                </a:lnTo>
                <a:lnTo>
                  <a:pt x="136887" y="59926"/>
                </a:lnTo>
                <a:lnTo>
                  <a:pt x="133592" y="63658"/>
                </a:lnTo>
                <a:lnTo>
                  <a:pt x="127672" y="70062"/>
                </a:lnTo>
                <a:lnTo>
                  <a:pt x="122368" y="73801"/>
                </a:lnTo>
                <a:lnTo>
                  <a:pt x="115445" y="77987"/>
                </a:lnTo>
                <a:lnTo>
                  <a:pt x="100416" y="86308"/>
                </a:lnTo>
                <a:lnTo>
                  <a:pt x="88091" y="92828"/>
                </a:lnTo>
                <a:lnTo>
                  <a:pt x="81588" y="96599"/>
                </a:lnTo>
                <a:lnTo>
                  <a:pt x="61145" y="109149"/>
                </a:lnTo>
                <a:lnTo>
                  <a:pt x="55157" y="112560"/>
                </a:lnTo>
                <a:lnTo>
                  <a:pt x="49471" y="115680"/>
                </a:lnTo>
                <a:lnTo>
                  <a:pt x="43988" y="119453"/>
                </a:lnTo>
                <a:lnTo>
                  <a:pt x="38639" y="123662"/>
                </a:lnTo>
                <a:lnTo>
                  <a:pt x="33379" y="128161"/>
                </a:lnTo>
                <a:lnTo>
                  <a:pt x="29026" y="132008"/>
                </a:lnTo>
                <a:lnTo>
                  <a:pt x="21932" y="138539"/>
                </a:lnTo>
                <a:lnTo>
                  <a:pt x="19701" y="142313"/>
                </a:lnTo>
                <a:lnTo>
                  <a:pt x="18214" y="146522"/>
                </a:lnTo>
                <a:lnTo>
                  <a:pt x="17223" y="151021"/>
                </a:lnTo>
                <a:lnTo>
                  <a:pt x="16562" y="155715"/>
                </a:lnTo>
                <a:lnTo>
                  <a:pt x="16121" y="160537"/>
                </a:lnTo>
                <a:lnTo>
                  <a:pt x="15827" y="165444"/>
                </a:lnTo>
                <a:lnTo>
                  <a:pt x="17325" y="169563"/>
                </a:lnTo>
                <a:lnTo>
                  <a:pt x="20016" y="173156"/>
                </a:lnTo>
                <a:lnTo>
                  <a:pt x="27523" y="179405"/>
                </a:lnTo>
                <a:lnTo>
                  <a:pt x="31896" y="182257"/>
                </a:lnTo>
                <a:lnTo>
                  <a:pt x="36504" y="185005"/>
                </a:lnTo>
                <a:lnTo>
                  <a:pt x="42116" y="187684"/>
                </a:lnTo>
                <a:lnTo>
                  <a:pt x="48397" y="190316"/>
                </a:lnTo>
                <a:lnTo>
                  <a:pt x="55125" y="192917"/>
                </a:lnTo>
                <a:lnTo>
                  <a:pt x="63843" y="195498"/>
                </a:lnTo>
                <a:lnTo>
                  <a:pt x="73889" y="198067"/>
                </a:lnTo>
                <a:lnTo>
                  <a:pt x="96340" y="203176"/>
                </a:lnTo>
                <a:lnTo>
                  <a:pt x="120429" y="208270"/>
                </a:lnTo>
                <a:lnTo>
                  <a:pt x="131933" y="209967"/>
                </a:lnTo>
                <a:lnTo>
                  <a:pt x="142988" y="211098"/>
                </a:lnTo>
                <a:lnTo>
                  <a:pt x="153746" y="211852"/>
                </a:lnTo>
                <a:lnTo>
                  <a:pt x="164304" y="211508"/>
                </a:lnTo>
                <a:lnTo>
                  <a:pt x="174729" y="210432"/>
                </a:lnTo>
                <a:lnTo>
                  <a:pt x="185066" y="208869"/>
                </a:lnTo>
                <a:lnTo>
                  <a:pt x="194498" y="206979"/>
                </a:lnTo>
                <a:lnTo>
                  <a:pt x="203325" y="204873"/>
                </a:lnTo>
                <a:lnTo>
                  <a:pt x="211750" y="202622"/>
                </a:lnTo>
                <a:lnTo>
                  <a:pt x="219060" y="200275"/>
                </a:lnTo>
                <a:lnTo>
                  <a:pt x="225627" y="197863"/>
                </a:lnTo>
                <a:lnTo>
                  <a:pt x="231698" y="195409"/>
                </a:lnTo>
                <a:lnTo>
                  <a:pt x="236592" y="192927"/>
                </a:lnTo>
                <a:lnTo>
                  <a:pt x="244288" y="187910"/>
                </a:lnTo>
                <a:lnTo>
                  <a:pt x="250530" y="185116"/>
                </a:lnTo>
                <a:lnTo>
                  <a:pt x="259080" y="18288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MARTInkAnnotation118"/>
          <p:cNvSpPr/>
          <p:nvPr/>
        </p:nvSpPr>
        <p:spPr>
          <a:xfrm>
            <a:off x="2270160" y="5532480"/>
            <a:ext cx="182520" cy="266760"/>
          </a:xfrm>
          <a:custGeom>
            <a:avLst/>
            <a:gdLst>
              <a:gd name="textAreaLeft" fmla="*/ 0 w 182520"/>
              <a:gd name="textAreaRight" fmla="*/ 182880 w 1825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82395" h="266701">
                <a:moveTo>
                  <a:pt x="0" y="0"/>
                </a:moveTo>
                <a:lnTo>
                  <a:pt x="0" y="43657"/>
                </a:lnTo>
                <a:lnTo>
                  <a:pt x="847" y="48578"/>
                </a:lnTo>
                <a:lnTo>
                  <a:pt x="2258" y="53553"/>
                </a:lnTo>
                <a:lnTo>
                  <a:pt x="4045" y="58562"/>
                </a:lnTo>
                <a:lnTo>
                  <a:pt x="5237" y="63594"/>
                </a:lnTo>
                <a:lnTo>
                  <a:pt x="6031" y="68643"/>
                </a:lnTo>
                <a:lnTo>
                  <a:pt x="6561" y="73702"/>
                </a:lnTo>
                <a:lnTo>
                  <a:pt x="6914" y="78768"/>
                </a:lnTo>
                <a:lnTo>
                  <a:pt x="7150" y="83839"/>
                </a:lnTo>
                <a:lnTo>
                  <a:pt x="7411" y="93989"/>
                </a:lnTo>
                <a:lnTo>
                  <a:pt x="7527" y="104143"/>
                </a:lnTo>
                <a:lnTo>
                  <a:pt x="8405" y="108376"/>
                </a:lnTo>
                <a:lnTo>
                  <a:pt x="11638" y="115337"/>
                </a:lnTo>
                <a:lnTo>
                  <a:pt x="13639" y="123510"/>
                </a:lnTo>
                <a:lnTo>
                  <a:pt x="14173" y="128060"/>
                </a:lnTo>
                <a:lnTo>
                  <a:pt x="14766" y="135374"/>
                </a:lnTo>
                <a:lnTo>
                  <a:pt x="15232" y="144617"/>
                </a:lnTo>
                <a:lnTo>
                  <a:pt x="15239" y="134160"/>
                </a:lnTo>
                <a:lnTo>
                  <a:pt x="17498" y="127078"/>
                </a:lnTo>
                <a:lnTo>
                  <a:pt x="20477" y="119133"/>
                </a:lnTo>
                <a:lnTo>
                  <a:pt x="21801" y="112779"/>
                </a:lnTo>
                <a:lnTo>
                  <a:pt x="26905" y="104875"/>
                </a:lnTo>
                <a:lnTo>
                  <a:pt x="30637" y="100397"/>
                </a:lnTo>
                <a:lnTo>
                  <a:pt x="33971" y="96564"/>
                </a:lnTo>
                <a:lnTo>
                  <a:pt x="37041" y="93163"/>
                </a:lnTo>
                <a:lnTo>
                  <a:pt x="39934" y="90049"/>
                </a:lnTo>
                <a:lnTo>
                  <a:pt x="43556" y="87972"/>
                </a:lnTo>
                <a:lnTo>
                  <a:pt x="47664" y="86588"/>
                </a:lnTo>
                <a:lnTo>
                  <a:pt x="52096" y="85665"/>
                </a:lnTo>
                <a:lnTo>
                  <a:pt x="56744" y="85050"/>
                </a:lnTo>
                <a:lnTo>
                  <a:pt x="61536" y="84641"/>
                </a:lnTo>
                <a:lnTo>
                  <a:pt x="66424" y="84367"/>
                </a:lnTo>
                <a:lnTo>
                  <a:pt x="72223" y="85032"/>
                </a:lnTo>
                <a:lnTo>
                  <a:pt x="78629" y="86321"/>
                </a:lnTo>
                <a:lnTo>
                  <a:pt x="85439" y="88028"/>
                </a:lnTo>
                <a:lnTo>
                  <a:pt x="92519" y="90011"/>
                </a:lnTo>
                <a:lnTo>
                  <a:pt x="107160" y="94474"/>
                </a:lnTo>
                <a:lnTo>
                  <a:pt x="113773" y="96850"/>
                </a:lnTo>
                <a:lnTo>
                  <a:pt x="119875" y="99280"/>
                </a:lnTo>
                <a:lnTo>
                  <a:pt x="125637" y="101747"/>
                </a:lnTo>
                <a:lnTo>
                  <a:pt x="131171" y="105931"/>
                </a:lnTo>
                <a:lnTo>
                  <a:pt x="136554" y="111261"/>
                </a:lnTo>
                <a:lnTo>
                  <a:pt x="141836" y="117354"/>
                </a:lnTo>
                <a:lnTo>
                  <a:pt x="147051" y="123110"/>
                </a:lnTo>
                <a:lnTo>
                  <a:pt x="157360" y="134020"/>
                </a:lnTo>
                <a:lnTo>
                  <a:pt x="161634" y="139300"/>
                </a:lnTo>
                <a:lnTo>
                  <a:pt x="165329" y="144514"/>
                </a:lnTo>
                <a:lnTo>
                  <a:pt x="168639" y="149682"/>
                </a:lnTo>
                <a:lnTo>
                  <a:pt x="171693" y="155668"/>
                </a:lnTo>
                <a:lnTo>
                  <a:pt x="174575" y="162199"/>
                </a:lnTo>
                <a:lnTo>
                  <a:pt x="177343" y="169093"/>
                </a:lnTo>
                <a:lnTo>
                  <a:pt x="179189" y="176229"/>
                </a:lnTo>
                <a:lnTo>
                  <a:pt x="180419" y="183526"/>
                </a:lnTo>
                <a:lnTo>
                  <a:pt x="181240" y="190930"/>
                </a:lnTo>
                <a:lnTo>
                  <a:pt x="181786" y="197560"/>
                </a:lnTo>
                <a:lnTo>
                  <a:pt x="182151" y="203674"/>
                </a:lnTo>
                <a:lnTo>
                  <a:pt x="182394" y="209443"/>
                </a:lnTo>
                <a:lnTo>
                  <a:pt x="181709" y="214982"/>
                </a:lnTo>
                <a:lnTo>
                  <a:pt x="180406" y="220368"/>
                </a:lnTo>
                <a:lnTo>
                  <a:pt x="178690" y="225652"/>
                </a:lnTo>
                <a:lnTo>
                  <a:pt x="176701" y="230868"/>
                </a:lnTo>
                <a:lnTo>
                  <a:pt x="174527" y="236039"/>
                </a:lnTo>
                <a:lnTo>
                  <a:pt x="172232" y="241180"/>
                </a:lnTo>
                <a:lnTo>
                  <a:pt x="167423" y="249148"/>
                </a:lnTo>
                <a:lnTo>
                  <a:pt x="164955" y="252459"/>
                </a:lnTo>
                <a:lnTo>
                  <a:pt x="162463" y="254666"/>
                </a:lnTo>
                <a:lnTo>
                  <a:pt x="159956" y="256138"/>
                </a:lnTo>
                <a:lnTo>
                  <a:pt x="157437" y="257119"/>
                </a:lnTo>
                <a:lnTo>
                  <a:pt x="154065" y="258619"/>
                </a:lnTo>
                <a:lnTo>
                  <a:pt x="145802" y="262545"/>
                </a:lnTo>
                <a:lnTo>
                  <a:pt x="142075" y="263929"/>
                </a:lnTo>
                <a:lnTo>
                  <a:pt x="138743" y="264853"/>
                </a:lnTo>
                <a:lnTo>
                  <a:pt x="135676" y="265468"/>
                </a:lnTo>
                <a:lnTo>
                  <a:pt x="130009" y="266153"/>
                </a:lnTo>
                <a:lnTo>
                  <a:pt x="121920" y="26670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MARTInkAnnotation119"/>
          <p:cNvSpPr/>
          <p:nvPr/>
        </p:nvSpPr>
        <p:spPr>
          <a:xfrm>
            <a:off x="2205000" y="5486400"/>
            <a:ext cx="339840" cy="46080"/>
          </a:xfrm>
          <a:custGeom>
            <a:avLst/>
            <a:gdLst>
              <a:gd name="textAreaLeft" fmla="*/ 0 w 339840"/>
              <a:gd name="textAreaRight" fmla="*/ 339840 w 33984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339671" h="45721">
                <a:moveTo>
                  <a:pt x="4390" y="0"/>
                </a:moveTo>
                <a:lnTo>
                  <a:pt x="0" y="0"/>
                </a:lnTo>
                <a:lnTo>
                  <a:pt x="3645" y="0"/>
                </a:lnTo>
                <a:lnTo>
                  <a:pt x="3893" y="846"/>
                </a:lnTo>
                <a:lnTo>
                  <a:pt x="4059" y="2258"/>
                </a:lnTo>
                <a:lnTo>
                  <a:pt x="4169" y="4045"/>
                </a:lnTo>
                <a:lnTo>
                  <a:pt x="5936" y="5237"/>
                </a:lnTo>
                <a:lnTo>
                  <a:pt x="12415" y="6561"/>
                </a:lnTo>
                <a:lnTo>
                  <a:pt x="20939" y="7149"/>
                </a:lnTo>
                <a:lnTo>
                  <a:pt x="25583" y="7306"/>
                </a:lnTo>
                <a:lnTo>
                  <a:pt x="32065" y="8258"/>
                </a:lnTo>
                <a:lnTo>
                  <a:pt x="39773" y="9739"/>
                </a:lnTo>
                <a:lnTo>
                  <a:pt x="48299" y="11572"/>
                </a:lnTo>
                <a:lnTo>
                  <a:pt x="57370" y="12795"/>
                </a:lnTo>
                <a:lnTo>
                  <a:pt x="66803" y="13610"/>
                </a:lnTo>
                <a:lnTo>
                  <a:pt x="76478" y="14153"/>
                </a:lnTo>
                <a:lnTo>
                  <a:pt x="87162" y="15363"/>
                </a:lnTo>
                <a:lnTo>
                  <a:pt x="98518" y="17015"/>
                </a:lnTo>
                <a:lnTo>
                  <a:pt x="122425" y="21109"/>
                </a:lnTo>
                <a:lnTo>
                  <a:pt x="147161" y="25751"/>
                </a:lnTo>
                <a:lnTo>
                  <a:pt x="159684" y="27327"/>
                </a:lnTo>
                <a:lnTo>
                  <a:pt x="172266" y="28379"/>
                </a:lnTo>
                <a:lnTo>
                  <a:pt x="184887" y="29079"/>
                </a:lnTo>
                <a:lnTo>
                  <a:pt x="197535" y="30393"/>
                </a:lnTo>
                <a:lnTo>
                  <a:pt x="210200" y="32116"/>
                </a:lnTo>
                <a:lnTo>
                  <a:pt x="235561" y="36287"/>
                </a:lnTo>
                <a:lnTo>
                  <a:pt x="260944" y="40963"/>
                </a:lnTo>
                <a:lnTo>
                  <a:pt x="273639" y="42549"/>
                </a:lnTo>
                <a:lnTo>
                  <a:pt x="286336" y="43606"/>
                </a:lnTo>
                <a:lnTo>
                  <a:pt x="309193" y="44781"/>
                </a:lnTo>
                <a:lnTo>
                  <a:pt x="339670" y="4572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MARTInkAnnotation120"/>
          <p:cNvSpPr/>
          <p:nvPr/>
        </p:nvSpPr>
        <p:spPr>
          <a:xfrm>
            <a:off x="2612880" y="5494320"/>
            <a:ext cx="69840" cy="250920"/>
          </a:xfrm>
          <a:custGeom>
            <a:avLst/>
            <a:gdLst>
              <a:gd name="textAreaLeft" fmla="*/ 0 w 69840"/>
              <a:gd name="textAreaRight" fmla="*/ 70200 w 6984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68449" h="251461">
                <a:moveTo>
                  <a:pt x="0" y="0"/>
                </a:moveTo>
                <a:lnTo>
                  <a:pt x="4045" y="4045"/>
                </a:lnTo>
                <a:lnTo>
                  <a:pt x="5237" y="6084"/>
                </a:lnTo>
                <a:lnTo>
                  <a:pt x="6561" y="10606"/>
                </a:lnTo>
                <a:lnTo>
                  <a:pt x="8607" y="13844"/>
                </a:lnTo>
                <a:lnTo>
                  <a:pt x="11665" y="17696"/>
                </a:lnTo>
                <a:lnTo>
                  <a:pt x="15397" y="21958"/>
                </a:lnTo>
                <a:lnTo>
                  <a:pt x="18731" y="26492"/>
                </a:lnTo>
                <a:lnTo>
                  <a:pt x="21801" y="31208"/>
                </a:lnTo>
                <a:lnTo>
                  <a:pt x="24694" y="36045"/>
                </a:lnTo>
                <a:lnTo>
                  <a:pt x="27469" y="40964"/>
                </a:lnTo>
                <a:lnTo>
                  <a:pt x="32811" y="50943"/>
                </a:lnTo>
                <a:lnTo>
                  <a:pt x="35421" y="56823"/>
                </a:lnTo>
                <a:lnTo>
                  <a:pt x="38007" y="63282"/>
                </a:lnTo>
                <a:lnTo>
                  <a:pt x="43139" y="77232"/>
                </a:lnTo>
                <a:lnTo>
                  <a:pt x="58416" y="122011"/>
                </a:lnTo>
                <a:lnTo>
                  <a:pt x="63499" y="137201"/>
                </a:lnTo>
                <a:lnTo>
                  <a:pt x="65193" y="143960"/>
                </a:lnTo>
                <a:lnTo>
                  <a:pt x="66322" y="150161"/>
                </a:lnTo>
                <a:lnTo>
                  <a:pt x="67074" y="155987"/>
                </a:lnTo>
                <a:lnTo>
                  <a:pt x="67576" y="162411"/>
                </a:lnTo>
                <a:lnTo>
                  <a:pt x="67911" y="169234"/>
                </a:lnTo>
                <a:lnTo>
                  <a:pt x="68283" y="183588"/>
                </a:lnTo>
                <a:lnTo>
                  <a:pt x="68448" y="198435"/>
                </a:lnTo>
                <a:lnTo>
                  <a:pt x="67645" y="205103"/>
                </a:lnTo>
                <a:lnTo>
                  <a:pt x="66263" y="211242"/>
                </a:lnTo>
                <a:lnTo>
                  <a:pt x="64496" y="217028"/>
                </a:lnTo>
                <a:lnTo>
                  <a:pt x="63317" y="222579"/>
                </a:lnTo>
                <a:lnTo>
                  <a:pt x="62531" y="227973"/>
                </a:lnTo>
                <a:lnTo>
                  <a:pt x="62008" y="233262"/>
                </a:lnTo>
                <a:lnTo>
                  <a:pt x="61658" y="237634"/>
                </a:lnTo>
                <a:lnTo>
                  <a:pt x="61426" y="241396"/>
                </a:lnTo>
                <a:lnTo>
                  <a:pt x="60960" y="2514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MARTInkAnnotation121"/>
          <p:cNvSpPr/>
          <p:nvPr/>
        </p:nvSpPr>
        <p:spPr>
          <a:xfrm>
            <a:off x="2568600" y="5654520"/>
            <a:ext cx="166680" cy="22320"/>
          </a:xfrm>
          <a:custGeom>
            <a:avLst/>
            <a:gdLst>
              <a:gd name="textAreaLeft" fmla="*/ 0 w 166680"/>
              <a:gd name="textAreaRight" fmla="*/ 167040 w 1666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67641" h="22860">
                <a:moveTo>
                  <a:pt x="0" y="22859"/>
                </a:moveTo>
                <a:lnTo>
                  <a:pt x="6561" y="16298"/>
                </a:lnTo>
                <a:lnTo>
                  <a:pt x="11665" y="15710"/>
                </a:lnTo>
                <a:lnTo>
                  <a:pt x="15397" y="15553"/>
                </a:lnTo>
                <a:lnTo>
                  <a:pt x="18731" y="14603"/>
                </a:lnTo>
                <a:lnTo>
                  <a:pt x="21801" y="13121"/>
                </a:lnTo>
                <a:lnTo>
                  <a:pt x="24694" y="11287"/>
                </a:lnTo>
                <a:lnTo>
                  <a:pt x="28316" y="10064"/>
                </a:lnTo>
                <a:lnTo>
                  <a:pt x="32424" y="9249"/>
                </a:lnTo>
                <a:lnTo>
                  <a:pt x="36856" y="8706"/>
                </a:lnTo>
                <a:lnTo>
                  <a:pt x="41504" y="8344"/>
                </a:lnTo>
                <a:lnTo>
                  <a:pt x="46296" y="8102"/>
                </a:lnTo>
                <a:lnTo>
                  <a:pt x="56136" y="7834"/>
                </a:lnTo>
                <a:lnTo>
                  <a:pt x="66154" y="7715"/>
                </a:lnTo>
                <a:lnTo>
                  <a:pt x="71196" y="6836"/>
                </a:lnTo>
                <a:lnTo>
                  <a:pt x="76251" y="5404"/>
                </a:lnTo>
                <a:lnTo>
                  <a:pt x="81314" y="3602"/>
                </a:lnTo>
                <a:lnTo>
                  <a:pt x="86382" y="2401"/>
                </a:lnTo>
                <a:lnTo>
                  <a:pt x="91455" y="1601"/>
                </a:lnTo>
                <a:lnTo>
                  <a:pt x="96530" y="1067"/>
                </a:lnTo>
                <a:lnTo>
                  <a:pt x="101607" y="711"/>
                </a:lnTo>
                <a:lnTo>
                  <a:pt x="106685" y="474"/>
                </a:lnTo>
                <a:lnTo>
                  <a:pt x="119664" y="139"/>
                </a:lnTo>
                <a:lnTo>
                  <a:pt x="16764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MARTInkAnnotation122"/>
          <p:cNvSpPr/>
          <p:nvPr/>
        </p:nvSpPr>
        <p:spPr>
          <a:xfrm>
            <a:off x="2789280" y="5478480"/>
            <a:ext cx="250920" cy="272880"/>
          </a:xfrm>
          <a:custGeom>
            <a:avLst/>
            <a:gdLst>
              <a:gd name="textAreaLeft" fmla="*/ 0 w 250920"/>
              <a:gd name="textAreaRight" fmla="*/ 251280 w 25092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251278" h="273088">
                <a:moveTo>
                  <a:pt x="0" y="60922"/>
                </a:moveTo>
                <a:lnTo>
                  <a:pt x="0" y="54360"/>
                </a:lnTo>
                <a:lnTo>
                  <a:pt x="847" y="54007"/>
                </a:lnTo>
                <a:lnTo>
                  <a:pt x="4045" y="53615"/>
                </a:lnTo>
                <a:lnTo>
                  <a:pt x="5237" y="52664"/>
                </a:lnTo>
                <a:lnTo>
                  <a:pt x="6031" y="51183"/>
                </a:lnTo>
                <a:lnTo>
                  <a:pt x="6561" y="49349"/>
                </a:lnTo>
                <a:lnTo>
                  <a:pt x="7760" y="48126"/>
                </a:lnTo>
                <a:lnTo>
                  <a:pt x="9407" y="47311"/>
                </a:lnTo>
                <a:lnTo>
                  <a:pt x="11352" y="46768"/>
                </a:lnTo>
                <a:lnTo>
                  <a:pt x="13494" y="44712"/>
                </a:lnTo>
                <a:lnTo>
                  <a:pt x="18133" y="37913"/>
                </a:lnTo>
                <a:lnTo>
                  <a:pt x="20555" y="35422"/>
                </a:lnTo>
                <a:lnTo>
                  <a:pt x="23017" y="33762"/>
                </a:lnTo>
                <a:lnTo>
                  <a:pt x="28857" y="31070"/>
                </a:lnTo>
                <a:lnTo>
                  <a:pt x="37097" y="27052"/>
                </a:lnTo>
                <a:lnTo>
                  <a:pt x="44145" y="22443"/>
                </a:lnTo>
                <a:lnTo>
                  <a:pt x="47210" y="20029"/>
                </a:lnTo>
                <a:lnTo>
                  <a:pt x="51793" y="17573"/>
                </a:lnTo>
                <a:lnTo>
                  <a:pt x="57389" y="15089"/>
                </a:lnTo>
                <a:lnTo>
                  <a:pt x="63660" y="12586"/>
                </a:lnTo>
                <a:lnTo>
                  <a:pt x="69533" y="10072"/>
                </a:lnTo>
                <a:lnTo>
                  <a:pt x="80575" y="5019"/>
                </a:lnTo>
                <a:lnTo>
                  <a:pt x="86737" y="3333"/>
                </a:lnTo>
                <a:lnTo>
                  <a:pt x="93384" y="2209"/>
                </a:lnTo>
                <a:lnTo>
                  <a:pt x="100356" y="1460"/>
                </a:lnTo>
                <a:lnTo>
                  <a:pt x="107544" y="960"/>
                </a:lnTo>
                <a:lnTo>
                  <a:pt x="114876" y="628"/>
                </a:lnTo>
                <a:lnTo>
                  <a:pt x="135073" y="158"/>
                </a:lnTo>
                <a:lnTo>
                  <a:pt x="161113" y="0"/>
                </a:lnTo>
                <a:lnTo>
                  <a:pt x="166675" y="833"/>
                </a:lnTo>
                <a:lnTo>
                  <a:pt x="171230" y="2237"/>
                </a:lnTo>
                <a:lnTo>
                  <a:pt x="179396" y="6052"/>
                </a:lnTo>
                <a:lnTo>
                  <a:pt x="188669" y="10571"/>
                </a:lnTo>
                <a:lnTo>
                  <a:pt x="196177" y="15401"/>
                </a:lnTo>
                <a:lnTo>
                  <a:pt x="199365" y="17874"/>
                </a:lnTo>
                <a:lnTo>
                  <a:pt x="201490" y="20370"/>
                </a:lnTo>
                <a:lnTo>
                  <a:pt x="202906" y="22880"/>
                </a:lnTo>
                <a:lnTo>
                  <a:pt x="203851" y="25401"/>
                </a:lnTo>
                <a:lnTo>
                  <a:pt x="204900" y="32717"/>
                </a:lnTo>
                <a:lnTo>
                  <a:pt x="205180" y="37038"/>
                </a:lnTo>
                <a:lnTo>
                  <a:pt x="204520" y="40766"/>
                </a:lnTo>
                <a:lnTo>
                  <a:pt x="201529" y="47165"/>
                </a:lnTo>
                <a:lnTo>
                  <a:pt x="197378" y="55089"/>
                </a:lnTo>
                <a:lnTo>
                  <a:pt x="195085" y="59573"/>
                </a:lnTo>
                <a:lnTo>
                  <a:pt x="188022" y="66813"/>
                </a:lnTo>
                <a:lnTo>
                  <a:pt x="183769" y="69929"/>
                </a:lnTo>
                <a:lnTo>
                  <a:pt x="179239" y="73700"/>
                </a:lnTo>
                <a:lnTo>
                  <a:pt x="174526" y="77907"/>
                </a:lnTo>
                <a:lnTo>
                  <a:pt x="169690" y="82405"/>
                </a:lnTo>
                <a:lnTo>
                  <a:pt x="164774" y="86250"/>
                </a:lnTo>
                <a:lnTo>
                  <a:pt x="159803" y="89660"/>
                </a:lnTo>
                <a:lnTo>
                  <a:pt x="154795" y="92781"/>
                </a:lnTo>
                <a:lnTo>
                  <a:pt x="149764" y="95707"/>
                </a:lnTo>
                <a:lnTo>
                  <a:pt x="144716" y="98506"/>
                </a:lnTo>
                <a:lnTo>
                  <a:pt x="139657" y="101217"/>
                </a:lnTo>
                <a:lnTo>
                  <a:pt x="135438" y="103872"/>
                </a:lnTo>
                <a:lnTo>
                  <a:pt x="128492" y="109079"/>
                </a:lnTo>
                <a:lnTo>
                  <a:pt x="124608" y="110807"/>
                </a:lnTo>
                <a:lnTo>
                  <a:pt x="120325" y="111958"/>
                </a:lnTo>
                <a:lnTo>
                  <a:pt x="115777" y="112726"/>
                </a:lnTo>
                <a:lnTo>
                  <a:pt x="112745" y="114084"/>
                </a:lnTo>
                <a:lnTo>
                  <a:pt x="110723" y="115837"/>
                </a:lnTo>
                <a:lnTo>
                  <a:pt x="107479" y="120687"/>
                </a:lnTo>
                <a:lnTo>
                  <a:pt x="108059" y="121085"/>
                </a:lnTo>
                <a:lnTo>
                  <a:pt x="110962" y="121527"/>
                </a:lnTo>
                <a:lnTo>
                  <a:pt x="112921" y="122492"/>
                </a:lnTo>
                <a:lnTo>
                  <a:pt x="117356" y="125821"/>
                </a:lnTo>
                <a:lnTo>
                  <a:pt x="120571" y="127048"/>
                </a:lnTo>
                <a:lnTo>
                  <a:pt x="124407" y="127866"/>
                </a:lnTo>
                <a:lnTo>
                  <a:pt x="128658" y="128411"/>
                </a:lnTo>
                <a:lnTo>
                  <a:pt x="133186" y="128774"/>
                </a:lnTo>
                <a:lnTo>
                  <a:pt x="137897" y="129016"/>
                </a:lnTo>
                <a:lnTo>
                  <a:pt x="142731" y="129178"/>
                </a:lnTo>
                <a:lnTo>
                  <a:pt x="149341" y="130132"/>
                </a:lnTo>
                <a:lnTo>
                  <a:pt x="157134" y="131615"/>
                </a:lnTo>
                <a:lnTo>
                  <a:pt x="165716" y="133450"/>
                </a:lnTo>
                <a:lnTo>
                  <a:pt x="173977" y="135521"/>
                </a:lnTo>
                <a:lnTo>
                  <a:pt x="182025" y="137747"/>
                </a:lnTo>
                <a:lnTo>
                  <a:pt x="189930" y="140079"/>
                </a:lnTo>
                <a:lnTo>
                  <a:pt x="197740" y="143326"/>
                </a:lnTo>
                <a:lnTo>
                  <a:pt x="205486" y="147184"/>
                </a:lnTo>
                <a:lnTo>
                  <a:pt x="220020" y="155140"/>
                </a:lnTo>
                <a:lnTo>
                  <a:pt x="232125" y="161499"/>
                </a:lnTo>
                <a:lnTo>
                  <a:pt x="236877" y="165226"/>
                </a:lnTo>
                <a:lnTo>
                  <a:pt x="240891" y="169404"/>
                </a:lnTo>
                <a:lnTo>
                  <a:pt x="246763" y="177716"/>
                </a:lnTo>
                <a:lnTo>
                  <a:pt x="249372" y="184232"/>
                </a:lnTo>
                <a:lnTo>
                  <a:pt x="250532" y="192208"/>
                </a:lnTo>
                <a:lnTo>
                  <a:pt x="250841" y="196706"/>
                </a:lnTo>
                <a:lnTo>
                  <a:pt x="251047" y="201398"/>
                </a:lnTo>
                <a:lnTo>
                  <a:pt x="251277" y="211126"/>
                </a:lnTo>
                <a:lnTo>
                  <a:pt x="250491" y="215245"/>
                </a:lnTo>
                <a:lnTo>
                  <a:pt x="247361" y="222078"/>
                </a:lnTo>
                <a:lnTo>
                  <a:pt x="240889" y="230196"/>
                </a:lnTo>
                <a:lnTo>
                  <a:pt x="236792" y="234731"/>
                </a:lnTo>
                <a:lnTo>
                  <a:pt x="231522" y="238601"/>
                </a:lnTo>
                <a:lnTo>
                  <a:pt x="225468" y="242028"/>
                </a:lnTo>
                <a:lnTo>
                  <a:pt x="201547" y="253611"/>
                </a:lnTo>
                <a:lnTo>
                  <a:pt x="195324" y="256268"/>
                </a:lnTo>
                <a:lnTo>
                  <a:pt x="188636" y="258885"/>
                </a:lnTo>
                <a:lnTo>
                  <a:pt x="181637" y="261478"/>
                </a:lnTo>
                <a:lnTo>
                  <a:pt x="173585" y="263205"/>
                </a:lnTo>
                <a:lnTo>
                  <a:pt x="164830" y="264357"/>
                </a:lnTo>
                <a:lnTo>
                  <a:pt x="155607" y="265125"/>
                </a:lnTo>
                <a:lnTo>
                  <a:pt x="147765" y="266484"/>
                </a:lnTo>
                <a:lnTo>
                  <a:pt x="140843" y="268236"/>
                </a:lnTo>
                <a:lnTo>
                  <a:pt x="134535" y="270251"/>
                </a:lnTo>
                <a:lnTo>
                  <a:pt x="127791" y="271594"/>
                </a:lnTo>
                <a:lnTo>
                  <a:pt x="120753" y="272490"/>
                </a:lnTo>
                <a:lnTo>
                  <a:pt x="113522" y="273087"/>
                </a:lnTo>
                <a:lnTo>
                  <a:pt x="107855" y="272639"/>
                </a:lnTo>
                <a:lnTo>
                  <a:pt x="103230" y="271493"/>
                </a:lnTo>
                <a:lnTo>
                  <a:pt x="99300" y="269882"/>
                </a:lnTo>
                <a:lnTo>
                  <a:pt x="94987" y="268808"/>
                </a:lnTo>
                <a:lnTo>
                  <a:pt x="90418" y="268093"/>
                </a:lnTo>
                <a:lnTo>
                  <a:pt x="79009" y="266944"/>
                </a:lnTo>
                <a:lnTo>
                  <a:pt x="78072" y="266003"/>
                </a:lnTo>
                <a:lnTo>
                  <a:pt x="77448" y="264529"/>
                </a:lnTo>
                <a:lnTo>
                  <a:pt x="76200" y="25904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MARTInkAnnotation123"/>
          <p:cNvSpPr/>
          <p:nvPr/>
        </p:nvSpPr>
        <p:spPr>
          <a:xfrm>
            <a:off x="3110040" y="5524560"/>
            <a:ext cx="109440" cy="239760"/>
          </a:xfrm>
          <a:custGeom>
            <a:avLst/>
            <a:gdLst>
              <a:gd name="textAreaLeft" fmla="*/ 0 w 109440"/>
              <a:gd name="textAreaRight" fmla="*/ 109800 w 1094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08439" h="239013">
                <a:moveTo>
                  <a:pt x="67266" y="30480"/>
                </a:moveTo>
                <a:lnTo>
                  <a:pt x="67266" y="26435"/>
                </a:lnTo>
                <a:lnTo>
                  <a:pt x="68112" y="25243"/>
                </a:lnTo>
                <a:lnTo>
                  <a:pt x="69524" y="24449"/>
                </a:lnTo>
                <a:lnTo>
                  <a:pt x="71311" y="23919"/>
                </a:lnTo>
                <a:lnTo>
                  <a:pt x="72503" y="22720"/>
                </a:lnTo>
                <a:lnTo>
                  <a:pt x="73297" y="21073"/>
                </a:lnTo>
                <a:lnTo>
                  <a:pt x="74572" y="16392"/>
                </a:lnTo>
                <a:lnTo>
                  <a:pt x="74677" y="16855"/>
                </a:lnTo>
                <a:lnTo>
                  <a:pt x="74793" y="19627"/>
                </a:lnTo>
                <a:lnTo>
                  <a:pt x="73977" y="21552"/>
                </a:lnTo>
                <a:lnTo>
                  <a:pt x="70813" y="25947"/>
                </a:lnTo>
                <a:lnTo>
                  <a:pt x="68784" y="28305"/>
                </a:lnTo>
                <a:lnTo>
                  <a:pt x="66585" y="30723"/>
                </a:lnTo>
                <a:lnTo>
                  <a:pt x="64272" y="33182"/>
                </a:lnTo>
                <a:lnTo>
                  <a:pt x="52926" y="44734"/>
                </a:lnTo>
                <a:lnTo>
                  <a:pt x="49239" y="49295"/>
                </a:lnTo>
                <a:lnTo>
                  <a:pt x="45935" y="54030"/>
                </a:lnTo>
                <a:lnTo>
                  <a:pt x="42885" y="58880"/>
                </a:lnTo>
                <a:lnTo>
                  <a:pt x="39159" y="63807"/>
                </a:lnTo>
                <a:lnTo>
                  <a:pt x="34981" y="68785"/>
                </a:lnTo>
                <a:lnTo>
                  <a:pt x="30503" y="73796"/>
                </a:lnTo>
                <a:lnTo>
                  <a:pt x="25824" y="80525"/>
                </a:lnTo>
                <a:lnTo>
                  <a:pt x="21011" y="88396"/>
                </a:lnTo>
                <a:lnTo>
                  <a:pt x="16110" y="97031"/>
                </a:lnTo>
                <a:lnTo>
                  <a:pt x="12841" y="105327"/>
                </a:lnTo>
                <a:lnTo>
                  <a:pt x="10663" y="113398"/>
                </a:lnTo>
                <a:lnTo>
                  <a:pt x="9211" y="121319"/>
                </a:lnTo>
                <a:lnTo>
                  <a:pt x="7396" y="129139"/>
                </a:lnTo>
                <a:lnTo>
                  <a:pt x="5339" y="136893"/>
                </a:lnTo>
                <a:lnTo>
                  <a:pt x="3122" y="144602"/>
                </a:lnTo>
                <a:lnTo>
                  <a:pt x="1643" y="152281"/>
                </a:lnTo>
                <a:lnTo>
                  <a:pt x="657" y="159941"/>
                </a:lnTo>
                <a:lnTo>
                  <a:pt x="0" y="167587"/>
                </a:lnTo>
                <a:lnTo>
                  <a:pt x="409" y="175225"/>
                </a:lnTo>
                <a:lnTo>
                  <a:pt x="1528" y="182857"/>
                </a:lnTo>
                <a:lnTo>
                  <a:pt x="3121" y="190484"/>
                </a:lnTo>
                <a:lnTo>
                  <a:pt x="5029" y="198110"/>
                </a:lnTo>
                <a:lnTo>
                  <a:pt x="7149" y="205733"/>
                </a:lnTo>
                <a:lnTo>
                  <a:pt x="9407" y="213356"/>
                </a:lnTo>
                <a:lnTo>
                  <a:pt x="12607" y="219284"/>
                </a:lnTo>
                <a:lnTo>
                  <a:pt x="16434" y="224082"/>
                </a:lnTo>
                <a:lnTo>
                  <a:pt x="20678" y="228128"/>
                </a:lnTo>
                <a:lnTo>
                  <a:pt x="25201" y="231672"/>
                </a:lnTo>
                <a:lnTo>
                  <a:pt x="29909" y="234881"/>
                </a:lnTo>
                <a:lnTo>
                  <a:pt x="34741" y="237868"/>
                </a:lnTo>
                <a:lnTo>
                  <a:pt x="40503" y="239012"/>
                </a:lnTo>
                <a:lnTo>
                  <a:pt x="46884" y="238928"/>
                </a:lnTo>
                <a:lnTo>
                  <a:pt x="53678" y="238025"/>
                </a:lnTo>
                <a:lnTo>
                  <a:pt x="59901" y="236577"/>
                </a:lnTo>
                <a:lnTo>
                  <a:pt x="65743" y="234765"/>
                </a:lnTo>
                <a:lnTo>
                  <a:pt x="71331" y="232709"/>
                </a:lnTo>
                <a:lnTo>
                  <a:pt x="76749" y="228800"/>
                </a:lnTo>
                <a:lnTo>
                  <a:pt x="82055" y="223654"/>
                </a:lnTo>
                <a:lnTo>
                  <a:pt x="87285" y="217682"/>
                </a:lnTo>
                <a:lnTo>
                  <a:pt x="91618" y="211162"/>
                </a:lnTo>
                <a:lnTo>
                  <a:pt x="95355" y="204275"/>
                </a:lnTo>
                <a:lnTo>
                  <a:pt x="98692" y="197143"/>
                </a:lnTo>
                <a:lnTo>
                  <a:pt x="101763" y="189002"/>
                </a:lnTo>
                <a:lnTo>
                  <a:pt x="104657" y="180189"/>
                </a:lnTo>
                <a:lnTo>
                  <a:pt x="107434" y="170925"/>
                </a:lnTo>
                <a:lnTo>
                  <a:pt x="108438" y="160517"/>
                </a:lnTo>
                <a:lnTo>
                  <a:pt x="108260" y="149344"/>
                </a:lnTo>
                <a:lnTo>
                  <a:pt x="107296" y="137663"/>
                </a:lnTo>
                <a:lnTo>
                  <a:pt x="104959" y="126489"/>
                </a:lnTo>
                <a:lnTo>
                  <a:pt x="101708" y="115653"/>
                </a:lnTo>
                <a:lnTo>
                  <a:pt x="97848" y="105042"/>
                </a:lnTo>
                <a:lnTo>
                  <a:pt x="93580" y="94581"/>
                </a:lnTo>
                <a:lnTo>
                  <a:pt x="89042" y="84221"/>
                </a:lnTo>
                <a:lnTo>
                  <a:pt x="84323" y="73927"/>
                </a:lnTo>
                <a:lnTo>
                  <a:pt x="79484" y="64525"/>
                </a:lnTo>
                <a:lnTo>
                  <a:pt x="74565" y="55716"/>
                </a:lnTo>
                <a:lnTo>
                  <a:pt x="69592" y="47304"/>
                </a:lnTo>
                <a:lnTo>
                  <a:pt x="64584" y="40003"/>
                </a:lnTo>
                <a:lnTo>
                  <a:pt x="59551" y="33442"/>
                </a:lnTo>
                <a:lnTo>
                  <a:pt x="54503" y="27375"/>
                </a:lnTo>
                <a:lnTo>
                  <a:pt x="50290" y="21637"/>
                </a:lnTo>
                <a:lnTo>
                  <a:pt x="46636" y="16118"/>
                </a:lnTo>
                <a:lnTo>
                  <a:pt x="43352" y="10745"/>
                </a:lnTo>
                <a:lnTo>
                  <a:pt x="40317" y="7163"/>
                </a:lnTo>
                <a:lnTo>
                  <a:pt x="37447" y="4776"/>
                </a:lnTo>
                <a:lnTo>
                  <a:pt x="34687" y="3184"/>
                </a:lnTo>
                <a:lnTo>
                  <a:pt x="32000" y="2123"/>
                </a:lnTo>
                <a:lnTo>
                  <a:pt x="29361" y="1415"/>
                </a:lnTo>
                <a:lnTo>
                  <a:pt x="2154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MARTInkAnnotation124"/>
          <p:cNvSpPr/>
          <p:nvPr/>
        </p:nvSpPr>
        <p:spPr>
          <a:xfrm>
            <a:off x="2111400" y="5981760"/>
            <a:ext cx="166680" cy="54000"/>
          </a:xfrm>
          <a:custGeom>
            <a:avLst/>
            <a:gdLst>
              <a:gd name="textAreaLeft" fmla="*/ 0 w 166680"/>
              <a:gd name="textAreaRight" fmla="*/ 167040 w 16668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67630" h="53342">
                <a:moveTo>
                  <a:pt x="38089" y="0"/>
                </a:moveTo>
                <a:lnTo>
                  <a:pt x="34044" y="0"/>
                </a:lnTo>
                <a:lnTo>
                  <a:pt x="32852" y="847"/>
                </a:lnTo>
                <a:lnTo>
                  <a:pt x="32058" y="2258"/>
                </a:lnTo>
                <a:lnTo>
                  <a:pt x="30783" y="6561"/>
                </a:lnTo>
                <a:lnTo>
                  <a:pt x="29832" y="7760"/>
                </a:lnTo>
                <a:lnTo>
                  <a:pt x="28351" y="9408"/>
                </a:lnTo>
                <a:lnTo>
                  <a:pt x="24448" y="13495"/>
                </a:lnTo>
                <a:lnTo>
                  <a:pt x="19890" y="18133"/>
                </a:lnTo>
                <a:lnTo>
                  <a:pt x="18337" y="20556"/>
                </a:lnTo>
                <a:lnTo>
                  <a:pt x="17301" y="23018"/>
                </a:lnTo>
                <a:lnTo>
                  <a:pt x="16610" y="25505"/>
                </a:lnTo>
                <a:lnTo>
                  <a:pt x="15303" y="27163"/>
                </a:lnTo>
                <a:lnTo>
                  <a:pt x="13585" y="28269"/>
                </a:lnTo>
                <a:lnTo>
                  <a:pt x="9418" y="29497"/>
                </a:lnTo>
                <a:lnTo>
                  <a:pt x="4744" y="30044"/>
                </a:lnTo>
                <a:lnTo>
                  <a:pt x="26" y="30478"/>
                </a:lnTo>
                <a:lnTo>
                  <a:pt x="0" y="34525"/>
                </a:lnTo>
                <a:lnTo>
                  <a:pt x="843" y="35716"/>
                </a:lnTo>
                <a:lnTo>
                  <a:pt x="2252" y="36511"/>
                </a:lnTo>
                <a:lnTo>
                  <a:pt x="4037" y="37041"/>
                </a:lnTo>
                <a:lnTo>
                  <a:pt x="6921" y="37394"/>
                </a:lnTo>
                <a:lnTo>
                  <a:pt x="10537" y="37630"/>
                </a:lnTo>
                <a:lnTo>
                  <a:pt x="14641" y="37786"/>
                </a:lnTo>
                <a:lnTo>
                  <a:pt x="28507" y="38007"/>
                </a:lnTo>
                <a:lnTo>
                  <a:pt x="43341" y="38073"/>
                </a:lnTo>
                <a:lnTo>
                  <a:pt x="49210" y="38929"/>
                </a:lnTo>
                <a:lnTo>
                  <a:pt x="55663" y="40346"/>
                </a:lnTo>
                <a:lnTo>
                  <a:pt x="62505" y="42137"/>
                </a:lnTo>
                <a:lnTo>
                  <a:pt x="67913" y="43332"/>
                </a:lnTo>
                <a:lnTo>
                  <a:pt x="72365" y="44128"/>
                </a:lnTo>
                <a:lnTo>
                  <a:pt x="76180" y="44659"/>
                </a:lnTo>
                <a:lnTo>
                  <a:pt x="81263" y="45013"/>
                </a:lnTo>
                <a:lnTo>
                  <a:pt x="87192" y="45249"/>
                </a:lnTo>
                <a:lnTo>
                  <a:pt x="105414" y="45581"/>
                </a:lnTo>
                <a:lnTo>
                  <a:pt x="110912" y="45627"/>
                </a:lnTo>
                <a:lnTo>
                  <a:pt x="115424" y="46505"/>
                </a:lnTo>
                <a:lnTo>
                  <a:pt x="119279" y="47937"/>
                </a:lnTo>
                <a:lnTo>
                  <a:pt x="122696" y="49738"/>
                </a:lnTo>
                <a:lnTo>
                  <a:pt x="125820" y="50939"/>
                </a:lnTo>
                <a:lnTo>
                  <a:pt x="128750" y="51739"/>
                </a:lnTo>
                <a:lnTo>
                  <a:pt x="131549" y="52273"/>
                </a:lnTo>
                <a:lnTo>
                  <a:pt x="135109" y="52629"/>
                </a:lnTo>
                <a:lnTo>
                  <a:pt x="139176" y="52866"/>
                </a:lnTo>
                <a:lnTo>
                  <a:pt x="147363" y="53129"/>
                </a:lnTo>
                <a:lnTo>
                  <a:pt x="158176" y="53313"/>
                </a:lnTo>
                <a:lnTo>
                  <a:pt x="167629" y="5334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MARTInkAnnotation125"/>
          <p:cNvSpPr/>
          <p:nvPr/>
        </p:nvSpPr>
        <p:spPr>
          <a:xfrm>
            <a:off x="2225520" y="5935680"/>
            <a:ext cx="76320" cy="328680"/>
          </a:xfrm>
          <a:custGeom>
            <a:avLst/>
            <a:gdLst>
              <a:gd name="textAreaLeft" fmla="*/ 0 w 76320"/>
              <a:gd name="textAreaRight" fmla="*/ 76320 w 763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76201" h="327662">
                <a:moveTo>
                  <a:pt x="76200" y="0"/>
                </a:moveTo>
                <a:lnTo>
                  <a:pt x="76200" y="54989"/>
                </a:lnTo>
                <a:lnTo>
                  <a:pt x="75354" y="62059"/>
                </a:lnTo>
                <a:lnTo>
                  <a:pt x="73942" y="69314"/>
                </a:lnTo>
                <a:lnTo>
                  <a:pt x="65594" y="103250"/>
                </a:lnTo>
                <a:lnTo>
                  <a:pt x="63203" y="112013"/>
                </a:lnTo>
                <a:lnTo>
                  <a:pt x="55792" y="137329"/>
                </a:lnTo>
                <a:lnTo>
                  <a:pt x="48234" y="165903"/>
                </a:lnTo>
                <a:lnTo>
                  <a:pt x="27939" y="246412"/>
                </a:lnTo>
                <a:lnTo>
                  <a:pt x="25400" y="255715"/>
                </a:lnTo>
                <a:lnTo>
                  <a:pt x="20320" y="272824"/>
                </a:lnTo>
                <a:lnTo>
                  <a:pt x="12700" y="296738"/>
                </a:lnTo>
                <a:lnTo>
                  <a:pt x="11007" y="302812"/>
                </a:lnTo>
                <a:lnTo>
                  <a:pt x="9125" y="311819"/>
                </a:lnTo>
                <a:lnTo>
                  <a:pt x="7777" y="315406"/>
                </a:lnTo>
                <a:lnTo>
                  <a:pt x="6031" y="318644"/>
                </a:lnTo>
                <a:lnTo>
                  <a:pt x="0" y="32766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MARTInkAnnotation126"/>
          <p:cNvSpPr/>
          <p:nvPr/>
        </p:nvSpPr>
        <p:spPr>
          <a:xfrm>
            <a:off x="2324160" y="5997600"/>
            <a:ext cx="189000" cy="280800"/>
          </a:xfrm>
          <a:custGeom>
            <a:avLst/>
            <a:gdLst>
              <a:gd name="textAreaLeft" fmla="*/ 0 w 189000"/>
              <a:gd name="textAreaRight" fmla="*/ 189360 w 18900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188556" h="281454">
                <a:moveTo>
                  <a:pt x="53309" y="0"/>
                </a:moveTo>
                <a:lnTo>
                  <a:pt x="53309" y="6560"/>
                </a:lnTo>
                <a:lnTo>
                  <a:pt x="48072" y="13494"/>
                </a:lnTo>
                <a:lnTo>
                  <a:pt x="45549" y="20555"/>
                </a:lnTo>
                <a:lnTo>
                  <a:pt x="39815" y="28856"/>
                </a:lnTo>
                <a:lnTo>
                  <a:pt x="35176" y="37096"/>
                </a:lnTo>
                <a:lnTo>
                  <a:pt x="32550" y="44144"/>
                </a:lnTo>
                <a:lnTo>
                  <a:pt x="30536" y="50946"/>
                </a:lnTo>
                <a:lnTo>
                  <a:pt x="26819" y="59614"/>
                </a:lnTo>
                <a:lnTo>
                  <a:pt x="22344" y="66852"/>
                </a:lnTo>
                <a:lnTo>
                  <a:pt x="17534" y="72892"/>
                </a:lnTo>
                <a:lnTo>
                  <a:pt x="12573" y="78399"/>
                </a:lnTo>
                <a:lnTo>
                  <a:pt x="7727" y="83595"/>
                </a:lnTo>
                <a:lnTo>
                  <a:pt x="1158" y="90239"/>
                </a:lnTo>
                <a:lnTo>
                  <a:pt x="762" y="91486"/>
                </a:lnTo>
                <a:lnTo>
                  <a:pt x="0" y="98714"/>
                </a:lnTo>
                <a:lnTo>
                  <a:pt x="5212" y="93755"/>
                </a:lnTo>
                <a:lnTo>
                  <a:pt x="6533" y="92468"/>
                </a:lnTo>
                <a:lnTo>
                  <a:pt x="9378" y="91897"/>
                </a:lnTo>
                <a:lnTo>
                  <a:pt x="14310" y="91642"/>
                </a:lnTo>
                <a:lnTo>
                  <a:pt x="22147" y="91530"/>
                </a:lnTo>
                <a:lnTo>
                  <a:pt x="27455" y="92347"/>
                </a:lnTo>
                <a:lnTo>
                  <a:pt x="33533" y="93737"/>
                </a:lnTo>
                <a:lnTo>
                  <a:pt x="40125" y="95512"/>
                </a:lnTo>
                <a:lnTo>
                  <a:pt x="54223" y="99740"/>
                </a:lnTo>
                <a:lnTo>
                  <a:pt x="83970" y="109354"/>
                </a:lnTo>
                <a:lnTo>
                  <a:pt x="90683" y="112696"/>
                </a:lnTo>
                <a:lnTo>
                  <a:pt x="96851" y="116617"/>
                </a:lnTo>
                <a:lnTo>
                  <a:pt x="102657" y="120924"/>
                </a:lnTo>
                <a:lnTo>
                  <a:pt x="108221" y="125490"/>
                </a:lnTo>
                <a:lnTo>
                  <a:pt x="113624" y="130226"/>
                </a:lnTo>
                <a:lnTo>
                  <a:pt x="118919" y="135077"/>
                </a:lnTo>
                <a:lnTo>
                  <a:pt x="125836" y="140005"/>
                </a:lnTo>
                <a:lnTo>
                  <a:pt x="133834" y="144983"/>
                </a:lnTo>
                <a:lnTo>
                  <a:pt x="142552" y="149995"/>
                </a:lnTo>
                <a:lnTo>
                  <a:pt x="149211" y="155876"/>
                </a:lnTo>
                <a:lnTo>
                  <a:pt x="154497" y="162338"/>
                </a:lnTo>
                <a:lnTo>
                  <a:pt x="158868" y="169185"/>
                </a:lnTo>
                <a:lnTo>
                  <a:pt x="163475" y="175443"/>
                </a:lnTo>
                <a:lnTo>
                  <a:pt x="168240" y="181309"/>
                </a:lnTo>
                <a:lnTo>
                  <a:pt x="173110" y="186912"/>
                </a:lnTo>
                <a:lnTo>
                  <a:pt x="177203" y="193189"/>
                </a:lnTo>
                <a:lnTo>
                  <a:pt x="180778" y="199911"/>
                </a:lnTo>
                <a:lnTo>
                  <a:pt x="184008" y="206934"/>
                </a:lnTo>
                <a:lnTo>
                  <a:pt x="186162" y="213309"/>
                </a:lnTo>
                <a:lnTo>
                  <a:pt x="187598" y="219252"/>
                </a:lnTo>
                <a:lnTo>
                  <a:pt x="188555" y="224908"/>
                </a:lnTo>
                <a:lnTo>
                  <a:pt x="188346" y="230372"/>
                </a:lnTo>
                <a:lnTo>
                  <a:pt x="187361" y="235708"/>
                </a:lnTo>
                <a:lnTo>
                  <a:pt x="185857" y="240958"/>
                </a:lnTo>
                <a:lnTo>
                  <a:pt x="183161" y="246152"/>
                </a:lnTo>
                <a:lnTo>
                  <a:pt x="179670" y="251308"/>
                </a:lnTo>
                <a:lnTo>
                  <a:pt x="175650" y="256438"/>
                </a:lnTo>
                <a:lnTo>
                  <a:pt x="172123" y="260705"/>
                </a:lnTo>
                <a:lnTo>
                  <a:pt x="168925" y="264397"/>
                </a:lnTo>
                <a:lnTo>
                  <a:pt x="165947" y="267705"/>
                </a:lnTo>
                <a:lnTo>
                  <a:pt x="161421" y="270756"/>
                </a:lnTo>
                <a:lnTo>
                  <a:pt x="155864" y="273637"/>
                </a:lnTo>
                <a:lnTo>
                  <a:pt x="149619" y="276405"/>
                </a:lnTo>
                <a:lnTo>
                  <a:pt x="142916" y="278250"/>
                </a:lnTo>
                <a:lnTo>
                  <a:pt x="135907" y="279479"/>
                </a:lnTo>
                <a:lnTo>
                  <a:pt x="128694" y="280299"/>
                </a:lnTo>
                <a:lnTo>
                  <a:pt x="122193" y="280846"/>
                </a:lnTo>
                <a:lnTo>
                  <a:pt x="116165" y="281211"/>
                </a:lnTo>
                <a:lnTo>
                  <a:pt x="110453" y="281453"/>
                </a:lnTo>
                <a:lnTo>
                  <a:pt x="103258" y="280769"/>
                </a:lnTo>
                <a:lnTo>
                  <a:pt x="95075" y="279465"/>
                </a:lnTo>
                <a:lnTo>
                  <a:pt x="86233" y="277751"/>
                </a:lnTo>
                <a:lnTo>
                  <a:pt x="78645" y="275760"/>
                </a:lnTo>
                <a:lnTo>
                  <a:pt x="71893" y="273587"/>
                </a:lnTo>
                <a:lnTo>
                  <a:pt x="59029" y="268914"/>
                </a:lnTo>
                <a:lnTo>
                  <a:pt x="44844" y="264015"/>
                </a:lnTo>
                <a:lnTo>
                  <a:pt x="40046" y="261523"/>
                </a:lnTo>
                <a:lnTo>
                  <a:pt x="36847" y="259015"/>
                </a:lnTo>
                <a:lnTo>
                  <a:pt x="34715" y="256496"/>
                </a:lnTo>
                <a:lnTo>
                  <a:pt x="31599" y="254817"/>
                </a:lnTo>
                <a:lnTo>
                  <a:pt x="27829" y="253698"/>
                </a:lnTo>
                <a:lnTo>
                  <a:pt x="15209" y="25145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MARTInkAnnotation127"/>
          <p:cNvSpPr/>
          <p:nvPr/>
        </p:nvSpPr>
        <p:spPr>
          <a:xfrm>
            <a:off x="2324160" y="5981760"/>
            <a:ext cx="236520" cy="38160"/>
          </a:xfrm>
          <a:custGeom>
            <a:avLst/>
            <a:gdLst>
              <a:gd name="textAreaLeft" fmla="*/ 0 w 236520"/>
              <a:gd name="textAreaRight" fmla="*/ 236880 w 23652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36221" h="37787">
                <a:moveTo>
                  <a:pt x="0" y="7306"/>
                </a:moveTo>
                <a:lnTo>
                  <a:pt x="4045" y="7306"/>
                </a:lnTo>
                <a:lnTo>
                  <a:pt x="5237" y="6459"/>
                </a:lnTo>
                <a:lnTo>
                  <a:pt x="6031" y="5049"/>
                </a:lnTo>
                <a:lnTo>
                  <a:pt x="6561" y="3261"/>
                </a:lnTo>
                <a:lnTo>
                  <a:pt x="7760" y="2069"/>
                </a:lnTo>
                <a:lnTo>
                  <a:pt x="9407" y="1275"/>
                </a:lnTo>
                <a:lnTo>
                  <a:pt x="13494" y="392"/>
                </a:lnTo>
                <a:lnTo>
                  <a:pt x="18133" y="0"/>
                </a:lnTo>
                <a:lnTo>
                  <a:pt x="21402" y="742"/>
                </a:lnTo>
                <a:lnTo>
                  <a:pt x="25275" y="2084"/>
                </a:lnTo>
                <a:lnTo>
                  <a:pt x="29550" y="3824"/>
                </a:lnTo>
                <a:lnTo>
                  <a:pt x="34093" y="4985"/>
                </a:lnTo>
                <a:lnTo>
                  <a:pt x="38815" y="5758"/>
                </a:lnTo>
                <a:lnTo>
                  <a:pt x="43657" y="6274"/>
                </a:lnTo>
                <a:lnTo>
                  <a:pt x="48578" y="7465"/>
                </a:lnTo>
                <a:lnTo>
                  <a:pt x="53552" y="9105"/>
                </a:lnTo>
                <a:lnTo>
                  <a:pt x="58561" y="11045"/>
                </a:lnTo>
                <a:lnTo>
                  <a:pt x="70901" y="15459"/>
                </a:lnTo>
                <a:lnTo>
                  <a:pt x="99519" y="25192"/>
                </a:lnTo>
                <a:lnTo>
                  <a:pt x="106986" y="26849"/>
                </a:lnTo>
                <a:lnTo>
                  <a:pt x="114504" y="27955"/>
                </a:lnTo>
                <a:lnTo>
                  <a:pt x="122056" y="28692"/>
                </a:lnTo>
                <a:lnTo>
                  <a:pt x="130477" y="30031"/>
                </a:lnTo>
                <a:lnTo>
                  <a:pt x="139478" y="31769"/>
                </a:lnTo>
                <a:lnTo>
                  <a:pt x="148866" y="33775"/>
                </a:lnTo>
                <a:lnTo>
                  <a:pt x="157664" y="35112"/>
                </a:lnTo>
                <a:lnTo>
                  <a:pt x="166069" y="36003"/>
                </a:lnTo>
                <a:lnTo>
                  <a:pt x="174213" y="36598"/>
                </a:lnTo>
                <a:lnTo>
                  <a:pt x="182182" y="36993"/>
                </a:lnTo>
                <a:lnTo>
                  <a:pt x="197810" y="37434"/>
                </a:lnTo>
                <a:lnTo>
                  <a:pt x="236220" y="3778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13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80008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4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rder of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4"/>
          <p:cNvSpPr/>
          <p:nvPr/>
        </p:nvSpPr>
        <p:spPr>
          <a:xfrm>
            <a:off x="304920" y="1219320"/>
            <a:ext cx="7848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Evaluate the formula                             for the following pair of valu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5"/>
              <p:cNvSpPr txBox="1"/>
              <p:nvPr/>
            </p:nvSpPr>
            <p:spPr>
              <a:xfrm>
                <a:off x="2133720" y="2286000"/>
                <a:ext cx="52340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0</m:t>
                    </m:r>
                    <m:r>
                      <m:rPr>
                        <m:lit/>
                        <m:nor/>
                      </m:rPr>
                      <m:t xml:space="preserve">ft, 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ft, 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6" name="Text Box 7"/>
          <p:cNvSpPr/>
          <p:nvPr/>
        </p:nvSpPr>
        <p:spPr>
          <a:xfrm>
            <a:off x="1066680" y="228600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1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9"/>
              <p:cNvSpPr txBox="1"/>
              <p:nvPr/>
            </p:nvSpPr>
            <p:spPr>
              <a:xfrm>
                <a:off x="3149640" y="1017720"/>
                <a:ext cx="21574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78" name="Group 10271"/>
          <p:cNvGrpSpPr/>
          <p:nvPr/>
        </p:nvGrpSpPr>
        <p:grpSpPr>
          <a:xfrm>
            <a:off x="1515960" y="1036800"/>
            <a:ext cx="4640400" cy="3886200"/>
            <a:chOff x="1515960" y="1036800"/>
            <a:chExt cx="4640400" cy="3886200"/>
          </a:xfrm>
        </p:grpSpPr>
        <p:sp>
          <p:nvSpPr>
            <p:cNvPr id="479" name="SMARTInkAnnotation0"/>
            <p:cNvSpPr/>
            <p:nvPr/>
          </p:nvSpPr>
          <p:spPr>
            <a:xfrm>
              <a:off x="1775160" y="2905560"/>
              <a:ext cx="289080" cy="36324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289246" h="363298">
                  <a:moveTo>
                    <a:pt x="22545" y="173285"/>
                  </a:moveTo>
                  <a:lnTo>
                    <a:pt x="22545" y="177331"/>
                  </a:lnTo>
                  <a:lnTo>
                    <a:pt x="23392" y="179369"/>
                  </a:lnTo>
                  <a:lnTo>
                    <a:pt x="26590" y="183891"/>
                  </a:lnTo>
                  <a:lnTo>
                    <a:pt x="27782" y="187129"/>
                  </a:lnTo>
                  <a:lnTo>
                    <a:pt x="29106" y="195242"/>
                  </a:lnTo>
                  <a:lnTo>
                    <a:pt x="29851" y="205285"/>
                  </a:lnTo>
                  <a:lnTo>
                    <a:pt x="30025" y="213189"/>
                  </a:lnTo>
                  <a:lnTo>
                    <a:pt x="30137" y="236107"/>
                  </a:lnTo>
                  <a:lnTo>
                    <a:pt x="29300" y="243106"/>
                  </a:lnTo>
                  <a:lnTo>
                    <a:pt x="27895" y="250313"/>
                  </a:lnTo>
                  <a:lnTo>
                    <a:pt x="26112" y="257657"/>
                  </a:lnTo>
                  <a:lnTo>
                    <a:pt x="24923" y="265093"/>
                  </a:lnTo>
                  <a:lnTo>
                    <a:pt x="24130" y="272590"/>
                  </a:lnTo>
                  <a:lnTo>
                    <a:pt x="23602" y="280129"/>
                  </a:lnTo>
                  <a:lnTo>
                    <a:pt x="22403" y="287694"/>
                  </a:lnTo>
                  <a:lnTo>
                    <a:pt x="20757" y="295278"/>
                  </a:lnTo>
                  <a:lnTo>
                    <a:pt x="18813" y="302873"/>
                  </a:lnTo>
                  <a:lnTo>
                    <a:pt x="17517" y="309631"/>
                  </a:lnTo>
                  <a:lnTo>
                    <a:pt x="16653" y="315829"/>
                  </a:lnTo>
                  <a:lnTo>
                    <a:pt x="16077" y="321654"/>
                  </a:lnTo>
                  <a:lnTo>
                    <a:pt x="13179" y="332642"/>
                  </a:lnTo>
                  <a:lnTo>
                    <a:pt x="9916" y="342324"/>
                  </a:lnTo>
                  <a:lnTo>
                    <a:pt x="8079" y="352534"/>
                  </a:lnTo>
                  <a:lnTo>
                    <a:pt x="7336" y="363297"/>
                  </a:lnTo>
                  <a:lnTo>
                    <a:pt x="3269" y="355550"/>
                  </a:lnTo>
                  <a:lnTo>
                    <a:pt x="1278" y="347143"/>
                  </a:lnTo>
                  <a:lnTo>
                    <a:pt x="393" y="336068"/>
                  </a:lnTo>
                  <a:lnTo>
                    <a:pt x="0" y="319858"/>
                  </a:lnTo>
                  <a:lnTo>
                    <a:pt x="742" y="309947"/>
                  </a:lnTo>
                  <a:lnTo>
                    <a:pt x="2083" y="299106"/>
                  </a:lnTo>
                  <a:lnTo>
                    <a:pt x="3823" y="287646"/>
                  </a:lnTo>
                  <a:lnTo>
                    <a:pt x="4984" y="275772"/>
                  </a:lnTo>
                  <a:lnTo>
                    <a:pt x="5758" y="263623"/>
                  </a:lnTo>
                  <a:lnTo>
                    <a:pt x="6273" y="251290"/>
                  </a:lnTo>
                  <a:lnTo>
                    <a:pt x="7464" y="238835"/>
                  </a:lnTo>
                  <a:lnTo>
                    <a:pt x="9104" y="226299"/>
                  </a:lnTo>
                  <a:lnTo>
                    <a:pt x="11045" y="213707"/>
                  </a:lnTo>
                  <a:lnTo>
                    <a:pt x="14031" y="200233"/>
                  </a:lnTo>
                  <a:lnTo>
                    <a:pt x="17716" y="186171"/>
                  </a:lnTo>
                  <a:lnTo>
                    <a:pt x="25479" y="158692"/>
                  </a:lnTo>
                  <a:lnTo>
                    <a:pt x="31751" y="135191"/>
                  </a:lnTo>
                  <a:lnTo>
                    <a:pt x="36303" y="124182"/>
                  </a:lnTo>
                  <a:lnTo>
                    <a:pt x="41877" y="113456"/>
                  </a:lnTo>
                  <a:lnTo>
                    <a:pt x="48133" y="102919"/>
                  </a:lnTo>
                  <a:lnTo>
                    <a:pt x="53997" y="92508"/>
                  </a:lnTo>
                  <a:lnTo>
                    <a:pt x="65028" y="71909"/>
                  </a:lnTo>
                  <a:lnTo>
                    <a:pt x="70340" y="63367"/>
                  </a:lnTo>
                  <a:lnTo>
                    <a:pt x="75576" y="55980"/>
                  </a:lnTo>
                  <a:lnTo>
                    <a:pt x="80759" y="49362"/>
                  </a:lnTo>
                  <a:lnTo>
                    <a:pt x="85907" y="43256"/>
                  </a:lnTo>
                  <a:lnTo>
                    <a:pt x="91033" y="37493"/>
                  </a:lnTo>
                  <a:lnTo>
                    <a:pt x="101244" y="26573"/>
                  </a:lnTo>
                  <a:lnTo>
                    <a:pt x="111427" y="16075"/>
                  </a:lnTo>
                  <a:lnTo>
                    <a:pt x="116513" y="11752"/>
                  </a:lnTo>
                  <a:lnTo>
                    <a:pt x="121597" y="8023"/>
                  </a:lnTo>
                  <a:lnTo>
                    <a:pt x="126680" y="4690"/>
                  </a:lnTo>
                  <a:lnTo>
                    <a:pt x="131761" y="2468"/>
                  </a:lnTo>
                  <a:lnTo>
                    <a:pt x="136843" y="987"/>
                  </a:lnTo>
                  <a:lnTo>
                    <a:pt x="141923" y="0"/>
                  </a:lnTo>
                  <a:lnTo>
                    <a:pt x="146157" y="189"/>
                  </a:lnTo>
                  <a:lnTo>
                    <a:pt x="149827" y="1161"/>
                  </a:lnTo>
                  <a:lnTo>
                    <a:pt x="157008" y="4499"/>
                  </a:lnTo>
                  <a:lnTo>
                    <a:pt x="165844" y="8804"/>
                  </a:lnTo>
                  <a:lnTo>
                    <a:pt x="169725" y="11985"/>
                  </a:lnTo>
                  <a:lnTo>
                    <a:pt x="176294" y="20034"/>
                  </a:lnTo>
                  <a:lnTo>
                    <a:pt x="184294" y="31514"/>
                  </a:lnTo>
                  <a:lnTo>
                    <a:pt x="203226" y="59579"/>
                  </a:lnTo>
                  <a:lnTo>
                    <a:pt x="207346" y="67848"/>
                  </a:lnTo>
                  <a:lnTo>
                    <a:pt x="210939" y="76747"/>
                  </a:lnTo>
                  <a:lnTo>
                    <a:pt x="214181" y="86066"/>
                  </a:lnTo>
                  <a:lnTo>
                    <a:pt x="218036" y="95666"/>
                  </a:lnTo>
                  <a:lnTo>
                    <a:pt x="222299" y="105452"/>
                  </a:lnTo>
                  <a:lnTo>
                    <a:pt x="226834" y="115363"/>
                  </a:lnTo>
                  <a:lnTo>
                    <a:pt x="236389" y="137664"/>
                  </a:lnTo>
                  <a:lnTo>
                    <a:pt x="241308" y="149538"/>
                  </a:lnTo>
                  <a:lnTo>
                    <a:pt x="245434" y="160840"/>
                  </a:lnTo>
                  <a:lnTo>
                    <a:pt x="249031" y="171762"/>
                  </a:lnTo>
                  <a:lnTo>
                    <a:pt x="252276" y="182430"/>
                  </a:lnTo>
                  <a:lnTo>
                    <a:pt x="255286" y="193775"/>
                  </a:lnTo>
                  <a:lnTo>
                    <a:pt x="268802" y="250877"/>
                  </a:lnTo>
                  <a:lnTo>
                    <a:pt x="271383" y="260573"/>
                  </a:lnTo>
                  <a:lnTo>
                    <a:pt x="276508" y="278120"/>
                  </a:lnTo>
                  <a:lnTo>
                    <a:pt x="284154" y="302278"/>
                  </a:lnTo>
                  <a:lnTo>
                    <a:pt x="285851" y="309234"/>
                  </a:lnTo>
                  <a:lnTo>
                    <a:pt x="286983" y="315564"/>
                  </a:lnTo>
                  <a:lnTo>
                    <a:pt x="288240" y="326267"/>
                  </a:lnTo>
                  <a:lnTo>
                    <a:pt x="288798" y="333846"/>
                  </a:lnTo>
                  <a:lnTo>
                    <a:pt x="289047" y="342295"/>
                  </a:lnTo>
                  <a:lnTo>
                    <a:pt x="289245" y="35616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SMARTInkAnnotation1"/>
            <p:cNvSpPr/>
            <p:nvPr/>
          </p:nvSpPr>
          <p:spPr>
            <a:xfrm>
              <a:off x="1782360" y="3109320"/>
              <a:ext cx="320040" cy="1512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320041" h="15241">
                  <a:moveTo>
                    <a:pt x="0" y="15240"/>
                  </a:moveTo>
                  <a:lnTo>
                    <a:pt x="127638" y="15240"/>
                  </a:lnTo>
                  <a:lnTo>
                    <a:pt x="139279" y="14394"/>
                  </a:lnTo>
                  <a:lnTo>
                    <a:pt x="150426" y="12982"/>
                  </a:lnTo>
                  <a:lnTo>
                    <a:pt x="161244" y="11195"/>
                  </a:lnTo>
                  <a:lnTo>
                    <a:pt x="173536" y="10003"/>
                  </a:lnTo>
                  <a:lnTo>
                    <a:pt x="186811" y="9209"/>
                  </a:lnTo>
                  <a:lnTo>
                    <a:pt x="213414" y="8326"/>
                  </a:lnTo>
                  <a:lnTo>
                    <a:pt x="236526" y="7934"/>
                  </a:lnTo>
                  <a:lnTo>
                    <a:pt x="247431" y="6983"/>
                  </a:lnTo>
                  <a:lnTo>
                    <a:pt x="258087" y="5502"/>
                  </a:lnTo>
                  <a:lnTo>
                    <a:pt x="268578" y="3668"/>
                  </a:lnTo>
                  <a:lnTo>
                    <a:pt x="278112" y="2446"/>
                  </a:lnTo>
                  <a:lnTo>
                    <a:pt x="287008" y="1630"/>
                  </a:lnTo>
                  <a:lnTo>
                    <a:pt x="301973" y="725"/>
                  </a:lnTo>
                  <a:lnTo>
                    <a:pt x="3200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SMARTInkAnnotation2"/>
            <p:cNvSpPr/>
            <p:nvPr/>
          </p:nvSpPr>
          <p:spPr>
            <a:xfrm>
              <a:off x="2171160" y="3079080"/>
              <a:ext cx="152280" cy="75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52401" h="7621">
                  <a:moveTo>
                    <a:pt x="0" y="0"/>
                  </a:moveTo>
                  <a:lnTo>
                    <a:pt x="4045" y="0"/>
                  </a:lnTo>
                  <a:lnTo>
                    <a:pt x="6084" y="847"/>
                  </a:lnTo>
                  <a:lnTo>
                    <a:pt x="8289" y="2258"/>
                  </a:lnTo>
                  <a:lnTo>
                    <a:pt x="10606" y="4045"/>
                  </a:lnTo>
                  <a:lnTo>
                    <a:pt x="12997" y="5237"/>
                  </a:lnTo>
                  <a:lnTo>
                    <a:pt x="15438" y="6032"/>
                  </a:lnTo>
                  <a:lnTo>
                    <a:pt x="17912" y="6561"/>
                  </a:lnTo>
                  <a:lnTo>
                    <a:pt x="21255" y="6914"/>
                  </a:lnTo>
                  <a:lnTo>
                    <a:pt x="25177" y="7149"/>
                  </a:lnTo>
                  <a:lnTo>
                    <a:pt x="29485" y="7306"/>
                  </a:lnTo>
                  <a:lnTo>
                    <a:pt x="67864" y="7579"/>
                  </a:lnTo>
                  <a:lnTo>
                    <a:pt x="15240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SMARTInkAnnotation3"/>
            <p:cNvSpPr/>
            <p:nvPr/>
          </p:nvSpPr>
          <p:spPr>
            <a:xfrm>
              <a:off x="2163600" y="3185640"/>
              <a:ext cx="220680" cy="151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20981" h="15213">
                  <a:moveTo>
                    <a:pt x="0" y="0"/>
                  </a:moveTo>
                  <a:lnTo>
                    <a:pt x="0" y="6561"/>
                  </a:lnTo>
                  <a:lnTo>
                    <a:pt x="847" y="6914"/>
                  </a:lnTo>
                  <a:lnTo>
                    <a:pt x="4045" y="7306"/>
                  </a:lnTo>
                  <a:lnTo>
                    <a:pt x="6930" y="8257"/>
                  </a:lnTo>
                  <a:lnTo>
                    <a:pt x="10547" y="9738"/>
                  </a:lnTo>
                  <a:lnTo>
                    <a:pt x="14651" y="11572"/>
                  </a:lnTo>
                  <a:lnTo>
                    <a:pt x="19081" y="12795"/>
                  </a:lnTo>
                  <a:lnTo>
                    <a:pt x="23727" y="13610"/>
                  </a:lnTo>
                  <a:lnTo>
                    <a:pt x="28518" y="14153"/>
                  </a:lnTo>
                  <a:lnTo>
                    <a:pt x="35099" y="14516"/>
                  </a:lnTo>
                  <a:lnTo>
                    <a:pt x="51442" y="14918"/>
                  </a:lnTo>
                  <a:lnTo>
                    <a:pt x="116060" y="15212"/>
                  </a:lnTo>
                  <a:lnTo>
                    <a:pt x="126480" y="14374"/>
                  </a:lnTo>
                  <a:lnTo>
                    <a:pt x="136813" y="12970"/>
                  </a:lnTo>
                  <a:lnTo>
                    <a:pt x="147089" y="11187"/>
                  </a:lnTo>
                  <a:lnTo>
                    <a:pt x="156480" y="9998"/>
                  </a:lnTo>
                  <a:lnTo>
                    <a:pt x="165280" y="9205"/>
                  </a:lnTo>
                  <a:lnTo>
                    <a:pt x="173686" y="8677"/>
                  </a:lnTo>
                  <a:lnTo>
                    <a:pt x="189801" y="8090"/>
                  </a:lnTo>
                  <a:lnTo>
                    <a:pt x="22098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SMARTInkAnnotation4"/>
            <p:cNvSpPr/>
            <p:nvPr/>
          </p:nvSpPr>
          <p:spPr>
            <a:xfrm>
              <a:off x="2655720" y="2926440"/>
              <a:ext cx="239040" cy="35784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w="239313" h="358141">
                  <a:moveTo>
                    <a:pt x="86912" y="0"/>
                  </a:moveTo>
                  <a:lnTo>
                    <a:pt x="86912" y="4045"/>
                  </a:lnTo>
                  <a:lnTo>
                    <a:pt x="86065" y="5237"/>
                  </a:lnTo>
                  <a:lnTo>
                    <a:pt x="84654" y="6031"/>
                  </a:lnTo>
                  <a:lnTo>
                    <a:pt x="82867" y="6561"/>
                  </a:lnTo>
                  <a:lnTo>
                    <a:pt x="81675" y="7760"/>
                  </a:lnTo>
                  <a:lnTo>
                    <a:pt x="80881" y="9407"/>
                  </a:lnTo>
                  <a:lnTo>
                    <a:pt x="77505" y="20285"/>
                  </a:lnTo>
                  <a:lnTo>
                    <a:pt x="75561" y="26223"/>
                  </a:lnTo>
                  <a:lnTo>
                    <a:pt x="68885" y="37337"/>
                  </a:lnTo>
                  <a:lnTo>
                    <a:pt x="64734" y="42672"/>
                  </a:lnTo>
                  <a:lnTo>
                    <a:pt x="60273" y="49614"/>
                  </a:lnTo>
                  <a:lnTo>
                    <a:pt x="55606" y="57630"/>
                  </a:lnTo>
                  <a:lnTo>
                    <a:pt x="50801" y="66360"/>
                  </a:lnTo>
                  <a:lnTo>
                    <a:pt x="40947" y="85091"/>
                  </a:lnTo>
                  <a:lnTo>
                    <a:pt x="20824" y="124711"/>
                  </a:lnTo>
                  <a:lnTo>
                    <a:pt x="16606" y="134787"/>
                  </a:lnTo>
                  <a:lnTo>
                    <a:pt x="12948" y="144892"/>
                  </a:lnTo>
                  <a:lnTo>
                    <a:pt x="9663" y="155014"/>
                  </a:lnTo>
                  <a:lnTo>
                    <a:pt x="6626" y="165997"/>
                  </a:lnTo>
                  <a:lnTo>
                    <a:pt x="3755" y="177551"/>
                  </a:lnTo>
                  <a:lnTo>
                    <a:pt x="994" y="189487"/>
                  </a:lnTo>
                  <a:lnTo>
                    <a:pt x="0" y="200832"/>
                  </a:lnTo>
                  <a:lnTo>
                    <a:pt x="184" y="211781"/>
                  </a:lnTo>
                  <a:lnTo>
                    <a:pt x="1153" y="222468"/>
                  </a:lnTo>
                  <a:lnTo>
                    <a:pt x="3493" y="232132"/>
                  </a:lnTo>
                  <a:lnTo>
                    <a:pt x="6746" y="241114"/>
                  </a:lnTo>
                  <a:lnTo>
                    <a:pt x="10608" y="249643"/>
                  </a:lnTo>
                  <a:lnTo>
                    <a:pt x="15722" y="257869"/>
                  </a:lnTo>
                  <a:lnTo>
                    <a:pt x="21672" y="265893"/>
                  </a:lnTo>
                  <a:lnTo>
                    <a:pt x="28179" y="273782"/>
                  </a:lnTo>
                  <a:lnTo>
                    <a:pt x="35903" y="281581"/>
                  </a:lnTo>
                  <a:lnTo>
                    <a:pt x="44439" y="289321"/>
                  </a:lnTo>
                  <a:lnTo>
                    <a:pt x="53517" y="297021"/>
                  </a:lnTo>
                  <a:lnTo>
                    <a:pt x="64649" y="304694"/>
                  </a:lnTo>
                  <a:lnTo>
                    <a:pt x="77150" y="312349"/>
                  </a:lnTo>
                  <a:lnTo>
                    <a:pt x="90564" y="319993"/>
                  </a:lnTo>
                  <a:lnTo>
                    <a:pt x="104587" y="326782"/>
                  </a:lnTo>
                  <a:lnTo>
                    <a:pt x="119015" y="333002"/>
                  </a:lnTo>
                  <a:lnTo>
                    <a:pt x="133714" y="338841"/>
                  </a:lnTo>
                  <a:lnTo>
                    <a:pt x="149440" y="343581"/>
                  </a:lnTo>
                  <a:lnTo>
                    <a:pt x="165851" y="347587"/>
                  </a:lnTo>
                  <a:lnTo>
                    <a:pt x="182718" y="351105"/>
                  </a:lnTo>
                  <a:lnTo>
                    <a:pt x="196503" y="353450"/>
                  </a:lnTo>
                  <a:lnTo>
                    <a:pt x="208233" y="355014"/>
                  </a:lnTo>
                  <a:lnTo>
                    <a:pt x="239312" y="3581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SMARTInkAnnotation5"/>
            <p:cNvSpPr/>
            <p:nvPr/>
          </p:nvSpPr>
          <p:spPr>
            <a:xfrm>
              <a:off x="2834640" y="3010320"/>
              <a:ext cx="28800" cy="2361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29072" h="236221">
                  <a:moveTo>
                    <a:pt x="22510" y="0"/>
                  </a:moveTo>
                  <a:lnTo>
                    <a:pt x="22510" y="13121"/>
                  </a:lnTo>
                  <a:lnTo>
                    <a:pt x="23357" y="15521"/>
                  </a:lnTo>
                  <a:lnTo>
                    <a:pt x="24768" y="18814"/>
                  </a:lnTo>
                  <a:lnTo>
                    <a:pt x="26555" y="22703"/>
                  </a:lnTo>
                  <a:lnTo>
                    <a:pt x="27747" y="26988"/>
                  </a:lnTo>
                  <a:lnTo>
                    <a:pt x="28542" y="31539"/>
                  </a:lnTo>
                  <a:lnTo>
                    <a:pt x="29071" y="36266"/>
                  </a:lnTo>
                  <a:lnTo>
                    <a:pt x="28577" y="41957"/>
                  </a:lnTo>
                  <a:lnTo>
                    <a:pt x="27402" y="48292"/>
                  </a:lnTo>
                  <a:lnTo>
                    <a:pt x="25771" y="55055"/>
                  </a:lnTo>
                  <a:lnTo>
                    <a:pt x="24684" y="62103"/>
                  </a:lnTo>
                  <a:lnTo>
                    <a:pt x="23960" y="69342"/>
                  </a:lnTo>
                  <a:lnTo>
                    <a:pt x="23476" y="76708"/>
                  </a:lnTo>
                  <a:lnTo>
                    <a:pt x="23154" y="84159"/>
                  </a:lnTo>
                  <a:lnTo>
                    <a:pt x="22796" y="99211"/>
                  </a:lnTo>
                  <a:lnTo>
                    <a:pt x="21854" y="107627"/>
                  </a:lnTo>
                  <a:lnTo>
                    <a:pt x="20380" y="116624"/>
                  </a:lnTo>
                  <a:lnTo>
                    <a:pt x="18550" y="126010"/>
                  </a:lnTo>
                  <a:lnTo>
                    <a:pt x="16483" y="134807"/>
                  </a:lnTo>
                  <a:lnTo>
                    <a:pt x="14259" y="143211"/>
                  </a:lnTo>
                  <a:lnTo>
                    <a:pt x="11929" y="151354"/>
                  </a:lnTo>
                  <a:lnTo>
                    <a:pt x="10376" y="159323"/>
                  </a:lnTo>
                  <a:lnTo>
                    <a:pt x="9341" y="167175"/>
                  </a:lnTo>
                  <a:lnTo>
                    <a:pt x="8651" y="174950"/>
                  </a:lnTo>
                  <a:lnTo>
                    <a:pt x="7344" y="182674"/>
                  </a:lnTo>
                  <a:lnTo>
                    <a:pt x="5626" y="190363"/>
                  </a:lnTo>
                  <a:lnTo>
                    <a:pt x="3634" y="198028"/>
                  </a:lnTo>
                  <a:lnTo>
                    <a:pt x="2306" y="204832"/>
                  </a:lnTo>
                  <a:lnTo>
                    <a:pt x="1421" y="211062"/>
                  </a:lnTo>
                  <a:lnTo>
                    <a:pt x="830" y="216908"/>
                  </a:lnTo>
                  <a:lnTo>
                    <a:pt x="437" y="221652"/>
                  </a:lnTo>
                  <a:lnTo>
                    <a:pt x="175" y="225661"/>
                  </a:lnTo>
                  <a:lnTo>
                    <a:pt x="0" y="229181"/>
                  </a:lnTo>
                  <a:lnTo>
                    <a:pt x="730" y="231528"/>
                  </a:lnTo>
                  <a:lnTo>
                    <a:pt x="2063" y="233092"/>
                  </a:lnTo>
                  <a:lnTo>
                    <a:pt x="7270" y="2362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SMARTInkAnnotation6"/>
            <p:cNvSpPr/>
            <p:nvPr/>
          </p:nvSpPr>
          <p:spPr>
            <a:xfrm>
              <a:off x="2948400" y="3010680"/>
              <a:ext cx="192960" cy="25056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93229" h="250883">
                  <a:moveTo>
                    <a:pt x="0" y="22739"/>
                  </a:moveTo>
                  <a:lnTo>
                    <a:pt x="4045" y="22739"/>
                  </a:lnTo>
                  <a:lnTo>
                    <a:pt x="6084" y="21892"/>
                  </a:lnTo>
                  <a:lnTo>
                    <a:pt x="10606" y="18694"/>
                  </a:lnTo>
                  <a:lnTo>
                    <a:pt x="13844" y="17502"/>
                  </a:lnTo>
                  <a:lnTo>
                    <a:pt x="17697" y="16708"/>
                  </a:lnTo>
                  <a:lnTo>
                    <a:pt x="21958" y="16178"/>
                  </a:lnTo>
                  <a:lnTo>
                    <a:pt x="26492" y="15825"/>
                  </a:lnTo>
                  <a:lnTo>
                    <a:pt x="31208" y="15590"/>
                  </a:lnTo>
                  <a:lnTo>
                    <a:pt x="36045" y="15433"/>
                  </a:lnTo>
                  <a:lnTo>
                    <a:pt x="41810" y="14482"/>
                  </a:lnTo>
                  <a:lnTo>
                    <a:pt x="48194" y="13001"/>
                  </a:lnTo>
                  <a:lnTo>
                    <a:pt x="54989" y="11167"/>
                  </a:lnTo>
                  <a:lnTo>
                    <a:pt x="69313" y="6872"/>
                  </a:lnTo>
                  <a:lnTo>
                    <a:pt x="76689" y="4541"/>
                  </a:lnTo>
                  <a:lnTo>
                    <a:pt x="84993" y="2987"/>
                  </a:lnTo>
                  <a:lnTo>
                    <a:pt x="93916" y="1951"/>
                  </a:lnTo>
                  <a:lnTo>
                    <a:pt x="103250" y="1261"/>
                  </a:lnTo>
                  <a:lnTo>
                    <a:pt x="112013" y="800"/>
                  </a:lnTo>
                  <a:lnTo>
                    <a:pt x="128524" y="288"/>
                  </a:lnTo>
                  <a:lnTo>
                    <a:pt x="152099" y="0"/>
                  </a:lnTo>
                  <a:lnTo>
                    <a:pt x="158126" y="807"/>
                  </a:lnTo>
                  <a:lnTo>
                    <a:pt x="162991" y="2191"/>
                  </a:lnTo>
                  <a:lnTo>
                    <a:pt x="167080" y="3960"/>
                  </a:lnTo>
                  <a:lnTo>
                    <a:pt x="170654" y="5986"/>
                  </a:lnTo>
                  <a:lnTo>
                    <a:pt x="173882" y="8184"/>
                  </a:lnTo>
                  <a:lnTo>
                    <a:pt x="176882" y="10496"/>
                  </a:lnTo>
                  <a:lnTo>
                    <a:pt x="178881" y="12884"/>
                  </a:lnTo>
                  <a:lnTo>
                    <a:pt x="180214" y="15322"/>
                  </a:lnTo>
                  <a:lnTo>
                    <a:pt x="181103" y="17795"/>
                  </a:lnTo>
                  <a:lnTo>
                    <a:pt x="180849" y="20290"/>
                  </a:lnTo>
                  <a:lnTo>
                    <a:pt x="179833" y="22799"/>
                  </a:lnTo>
                  <a:lnTo>
                    <a:pt x="175599" y="28693"/>
                  </a:lnTo>
                  <a:lnTo>
                    <a:pt x="172100" y="32635"/>
                  </a:lnTo>
                  <a:lnTo>
                    <a:pt x="168073" y="36956"/>
                  </a:lnTo>
                  <a:lnTo>
                    <a:pt x="162849" y="41531"/>
                  </a:lnTo>
                  <a:lnTo>
                    <a:pt x="156826" y="46274"/>
                  </a:lnTo>
                  <a:lnTo>
                    <a:pt x="150271" y="51128"/>
                  </a:lnTo>
                  <a:lnTo>
                    <a:pt x="142514" y="55212"/>
                  </a:lnTo>
                  <a:lnTo>
                    <a:pt x="133956" y="58781"/>
                  </a:lnTo>
                  <a:lnTo>
                    <a:pt x="124864" y="62007"/>
                  </a:lnTo>
                  <a:lnTo>
                    <a:pt x="116263" y="65851"/>
                  </a:lnTo>
                  <a:lnTo>
                    <a:pt x="107989" y="70107"/>
                  </a:lnTo>
                  <a:lnTo>
                    <a:pt x="99933" y="74638"/>
                  </a:lnTo>
                  <a:lnTo>
                    <a:pt x="92022" y="78505"/>
                  </a:lnTo>
                  <a:lnTo>
                    <a:pt x="84208" y="81930"/>
                  </a:lnTo>
                  <a:lnTo>
                    <a:pt x="76459" y="85060"/>
                  </a:lnTo>
                  <a:lnTo>
                    <a:pt x="70446" y="87993"/>
                  </a:lnTo>
                  <a:lnTo>
                    <a:pt x="65591" y="90795"/>
                  </a:lnTo>
                  <a:lnTo>
                    <a:pt x="61507" y="93510"/>
                  </a:lnTo>
                  <a:lnTo>
                    <a:pt x="57938" y="96166"/>
                  </a:lnTo>
                  <a:lnTo>
                    <a:pt x="54712" y="98784"/>
                  </a:lnTo>
                  <a:lnTo>
                    <a:pt x="51715" y="101376"/>
                  </a:lnTo>
                  <a:lnTo>
                    <a:pt x="49717" y="103950"/>
                  </a:lnTo>
                  <a:lnTo>
                    <a:pt x="47496" y="109068"/>
                  </a:lnTo>
                  <a:lnTo>
                    <a:pt x="48598" y="110772"/>
                  </a:lnTo>
                  <a:lnTo>
                    <a:pt x="51025" y="111908"/>
                  </a:lnTo>
                  <a:lnTo>
                    <a:pt x="54337" y="112665"/>
                  </a:lnTo>
                  <a:lnTo>
                    <a:pt x="58238" y="113170"/>
                  </a:lnTo>
                  <a:lnTo>
                    <a:pt x="62532" y="113506"/>
                  </a:lnTo>
                  <a:lnTo>
                    <a:pt x="67088" y="113731"/>
                  </a:lnTo>
                  <a:lnTo>
                    <a:pt x="73512" y="114727"/>
                  </a:lnTo>
                  <a:lnTo>
                    <a:pt x="81181" y="116238"/>
                  </a:lnTo>
                  <a:lnTo>
                    <a:pt x="89681" y="118092"/>
                  </a:lnTo>
                  <a:lnTo>
                    <a:pt x="97887" y="120174"/>
                  </a:lnTo>
                  <a:lnTo>
                    <a:pt x="105899" y="122409"/>
                  </a:lnTo>
                  <a:lnTo>
                    <a:pt x="113779" y="124746"/>
                  </a:lnTo>
                  <a:lnTo>
                    <a:pt x="131566" y="129600"/>
                  </a:lnTo>
                  <a:lnTo>
                    <a:pt x="141051" y="132080"/>
                  </a:lnTo>
                  <a:lnTo>
                    <a:pt x="149914" y="135426"/>
                  </a:lnTo>
                  <a:lnTo>
                    <a:pt x="158363" y="139351"/>
                  </a:lnTo>
                  <a:lnTo>
                    <a:pt x="166535" y="143660"/>
                  </a:lnTo>
                  <a:lnTo>
                    <a:pt x="172830" y="147380"/>
                  </a:lnTo>
                  <a:lnTo>
                    <a:pt x="177874" y="150706"/>
                  </a:lnTo>
                  <a:lnTo>
                    <a:pt x="182082" y="153771"/>
                  </a:lnTo>
                  <a:lnTo>
                    <a:pt x="185735" y="157507"/>
                  </a:lnTo>
                  <a:lnTo>
                    <a:pt x="189017" y="161691"/>
                  </a:lnTo>
                  <a:lnTo>
                    <a:pt x="192051" y="166174"/>
                  </a:lnTo>
                  <a:lnTo>
                    <a:pt x="193228" y="170855"/>
                  </a:lnTo>
                  <a:lnTo>
                    <a:pt x="193165" y="175670"/>
                  </a:lnTo>
                  <a:lnTo>
                    <a:pt x="192277" y="180573"/>
                  </a:lnTo>
                  <a:lnTo>
                    <a:pt x="189032" y="188279"/>
                  </a:lnTo>
                  <a:lnTo>
                    <a:pt x="183921" y="195372"/>
                  </a:lnTo>
                  <a:lnTo>
                    <a:pt x="180188" y="199635"/>
                  </a:lnTo>
                  <a:lnTo>
                    <a:pt x="176005" y="204169"/>
                  </a:lnTo>
                  <a:lnTo>
                    <a:pt x="169830" y="208886"/>
                  </a:lnTo>
                  <a:lnTo>
                    <a:pt x="162327" y="213724"/>
                  </a:lnTo>
                  <a:lnTo>
                    <a:pt x="153938" y="218642"/>
                  </a:lnTo>
                  <a:lnTo>
                    <a:pt x="145805" y="222768"/>
                  </a:lnTo>
                  <a:lnTo>
                    <a:pt x="137843" y="226365"/>
                  </a:lnTo>
                  <a:lnTo>
                    <a:pt x="129996" y="229610"/>
                  </a:lnTo>
                  <a:lnTo>
                    <a:pt x="121377" y="232620"/>
                  </a:lnTo>
                  <a:lnTo>
                    <a:pt x="112245" y="235473"/>
                  </a:lnTo>
                  <a:lnTo>
                    <a:pt x="102770" y="238221"/>
                  </a:lnTo>
                  <a:lnTo>
                    <a:pt x="94760" y="240901"/>
                  </a:lnTo>
                  <a:lnTo>
                    <a:pt x="87727" y="243534"/>
                  </a:lnTo>
                  <a:lnTo>
                    <a:pt x="81345" y="246136"/>
                  </a:lnTo>
                  <a:lnTo>
                    <a:pt x="74550" y="247870"/>
                  </a:lnTo>
                  <a:lnTo>
                    <a:pt x="67480" y="249026"/>
                  </a:lnTo>
                  <a:lnTo>
                    <a:pt x="60227" y="249797"/>
                  </a:lnTo>
                  <a:lnTo>
                    <a:pt x="53698" y="250311"/>
                  </a:lnTo>
                  <a:lnTo>
                    <a:pt x="47652" y="250654"/>
                  </a:lnTo>
                  <a:lnTo>
                    <a:pt x="41928" y="250882"/>
                  </a:lnTo>
                  <a:lnTo>
                    <a:pt x="36419" y="250188"/>
                  </a:lnTo>
                  <a:lnTo>
                    <a:pt x="31053" y="248878"/>
                  </a:lnTo>
                  <a:lnTo>
                    <a:pt x="25782" y="247159"/>
                  </a:lnTo>
                  <a:lnTo>
                    <a:pt x="21422" y="246012"/>
                  </a:lnTo>
                  <a:lnTo>
                    <a:pt x="17668" y="245247"/>
                  </a:lnTo>
                  <a:lnTo>
                    <a:pt x="14319" y="244738"/>
                  </a:lnTo>
                  <a:lnTo>
                    <a:pt x="12086" y="243552"/>
                  </a:lnTo>
                  <a:lnTo>
                    <a:pt x="10597" y="241914"/>
                  </a:lnTo>
                  <a:lnTo>
                    <a:pt x="7620" y="23609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SMARTInkAnnotation7"/>
            <p:cNvSpPr/>
            <p:nvPr/>
          </p:nvSpPr>
          <p:spPr>
            <a:xfrm>
              <a:off x="3172680" y="3079080"/>
              <a:ext cx="209160" cy="19512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209449" h="195405">
                  <a:moveTo>
                    <a:pt x="111145" y="7620"/>
                  </a:moveTo>
                  <a:lnTo>
                    <a:pt x="103054" y="11665"/>
                  </a:lnTo>
                  <a:lnTo>
                    <a:pt x="96825" y="15909"/>
                  </a:lnTo>
                  <a:lnTo>
                    <a:pt x="93978" y="18226"/>
                  </a:lnTo>
                  <a:lnTo>
                    <a:pt x="73791" y="33622"/>
                  </a:lnTo>
                  <a:lnTo>
                    <a:pt x="58137" y="44859"/>
                  </a:lnTo>
                  <a:lnTo>
                    <a:pt x="50406" y="50226"/>
                  </a:lnTo>
                  <a:lnTo>
                    <a:pt x="42713" y="56344"/>
                  </a:lnTo>
                  <a:lnTo>
                    <a:pt x="35044" y="62963"/>
                  </a:lnTo>
                  <a:lnTo>
                    <a:pt x="27391" y="69915"/>
                  </a:lnTo>
                  <a:lnTo>
                    <a:pt x="20595" y="77937"/>
                  </a:lnTo>
                  <a:lnTo>
                    <a:pt x="14372" y="86671"/>
                  </a:lnTo>
                  <a:lnTo>
                    <a:pt x="8530" y="95881"/>
                  </a:lnTo>
                  <a:lnTo>
                    <a:pt x="4635" y="104561"/>
                  </a:lnTo>
                  <a:lnTo>
                    <a:pt x="2038" y="112887"/>
                  </a:lnTo>
                  <a:lnTo>
                    <a:pt x="307" y="120978"/>
                  </a:lnTo>
                  <a:lnTo>
                    <a:pt x="0" y="128065"/>
                  </a:lnTo>
                  <a:lnTo>
                    <a:pt x="642" y="134483"/>
                  </a:lnTo>
                  <a:lnTo>
                    <a:pt x="1916" y="140455"/>
                  </a:lnTo>
                  <a:lnTo>
                    <a:pt x="4459" y="146977"/>
                  </a:lnTo>
                  <a:lnTo>
                    <a:pt x="7848" y="153865"/>
                  </a:lnTo>
                  <a:lnTo>
                    <a:pt x="11800" y="160996"/>
                  </a:lnTo>
                  <a:lnTo>
                    <a:pt x="17822" y="166598"/>
                  </a:lnTo>
                  <a:lnTo>
                    <a:pt x="25223" y="171178"/>
                  </a:lnTo>
                  <a:lnTo>
                    <a:pt x="42478" y="179372"/>
                  </a:lnTo>
                  <a:lnTo>
                    <a:pt x="61435" y="188659"/>
                  </a:lnTo>
                  <a:lnTo>
                    <a:pt x="71232" y="191813"/>
                  </a:lnTo>
                  <a:lnTo>
                    <a:pt x="81150" y="193915"/>
                  </a:lnTo>
                  <a:lnTo>
                    <a:pt x="91148" y="195317"/>
                  </a:lnTo>
                  <a:lnTo>
                    <a:pt x="102047" y="195404"/>
                  </a:lnTo>
                  <a:lnTo>
                    <a:pt x="113547" y="194616"/>
                  </a:lnTo>
                  <a:lnTo>
                    <a:pt x="125446" y="193244"/>
                  </a:lnTo>
                  <a:lnTo>
                    <a:pt x="136766" y="191483"/>
                  </a:lnTo>
                  <a:lnTo>
                    <a:pt x="147699" y="189462"/>
                  </a:lnTo>
                  <a:lnTo>
                    <a:pt x="158374" y="187268"/>
                  </a:lnTo>
                  <a:lnTo>
                    <a:pt x="168032" y="184112"/>
                  </a:lnTo>
                  <a:lnTo>
                    <a:pt x="177009" y="180314"/>
                  </a:lnTo>
                  <a:lnTo>
                    <a:pt x="185534" y="176090"/>
                  </a:lnTo>
                  <a:lnTo>
                    <a:pt x="192065" y="170733"/>
                  </a:lnTo>
                  <a:lnTo>
                    <a:pt x="197265" y="164622"/>
                  </a:lnTo>
                  <a:lnTo>
                    <a:pt x="201578" y="158008"/>
                  </a:lnTo>
                  <a:lnTo>
                    <a:pt x="204454" y="151059"/>
                  </a:lnTo>
                  <a:lnTo>
                    <a:pt x="206371" y="143886"/>
                  </a:lnTo>
                  <a:lnTo>
                    <a:pt x="207649" y="136564"/>
                  </a:lnTo>
                  <a:lnTo>
                    <a:pt x="208501" y="129143"/>
                  </a:lnTo>
                  <a:lnTo>
                    <a:pt x="209069" y="121655"/>
                  </a:lnTo>
                  <a:lnTo>
                    <a:pt x="209448" y="114123"/>
                  </a:lnTo>
                  <a:lnTo>
                    <a:pt x="208007" y="105716"/>
                  </a:lnTo>
                  <a:lnTo>
                    <a:pt x="205353" y="96724"/>
                  </a:lnTo>
                  <a:lnTo>
                    <a:pt x="201890" y="87342"/>
                  </a:lnTo>
                  <a:lnTo>
                    <a:pt x="197042" y="78548"/>
                  </a:lnTo>
                  <a:lnTo>
                    <a:pt x="191270" y="70145"/>
                  </a:lnTo>
                  <a:lnTo>
                    <a:pt x="184882" y="62004"/>
                  </a:lnTo>
                  <a:lnTo>
                    <a:pt x="178083" y="54882"/>
                  </a:lnTo>
                  <a:lnTo>
                    <a:pt x="171010" y="48442"/>
                  </a:lnTo>
                  <a:lnTo>
                    <a:pt x="163755" y="42455"/>
                  </a:lnTo>
                  <a:lnTo>
                    <a:pt x="157225" y="36770"/>
                  </a:lnTo>
                  <a:lnTo>
                    <a:pt x="151178" y="31286"/>
                  </a:lnTo>
                  <a:lnTo>
                    <a:pt x="145454" y="25938"/>
                  </a:lnTo>
                  <a:lnTo>
                    <a:pt x="139098" y="21525"/>
                  </a:lnTo>
                  <a:lnTo>
                    <a:pt x="132320" y="17737"/>
                  </a:lnTo>
                  <a:lnTo>
                    <a:pt x="125262" y="14365"/>
                  </a:lnTo>
                  <a:lnTo>
                    <a:pt x="119710" y="11270"/>
                  </a:lnTo>
                  <a:lnTo>
                    <a:pt x="115161" y="8360"/>
                  </a:lnTo>
                  <a:lnTo>
                    <a:pt x="111283" y="5573"/>
                  </a:lnTo>
                  <a:lnTo>
                    <a:pt x="107850" y="3715"/>
                  </a:lnTo>
                  <a:lnTo>
                    <a:pt x="104715" y="2477"/>
                  </a:lnTo>
                  <a:lnTo>
                    <a:pt x="95905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SMARTInkAnnotation8"/>
            <p:cNvSpPr/>
            <p:nvPr/>
          </p:nvSpPr>
          <p:spPr>
            <a:xfrm>
              <a:off x="3367440" y="2941920"/>
              <a:ext cx="203400" cy="36180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361800"/>
                <a:gd name="textAreaBottom" fmla="*/ 361800 h 361800"/>
              </a:gdLst>
              <a:ahLst/>
              <a:rect l="textAreaLeft" t="textAreaTop" r="textAreaRight" b="textAreaBottom"/>
              <a:pathLst>
                <a:path w="203500" h="361888">
                  <a:moveTo>
                    <a:pt x="0" y="0"/>
                  </a:moveTo>
                  <a:lnTo>
                    <a:pt x="4045" y="4046"/>
                  </a:lnTo>
                  <a:lnTo>
                    <a:pt x="5237" y="6930"/>
                  </a:lnTo>
                  <a:lnTo>
                    <a:pt x="7761" y="18234"/>
                  </a:lnTo>
                  <a:lnTo>
                    <a:pt x="11351" y="24473"/>
                  </a:lnTo>
                  <a:lnTo>
                    <a:pt x="15188" y="28169"/>
                  </a:lnTo>
                  <a:lnTo>
                    <a:pt x="20285" y="32326"/>
                  </a:lnTo>
                  <a:lnTo>
                    <a:pt x="26224" y="36791"/>
                  </a:lnTo>
                  <a:lnTo>
                    <a:pt x="31876" y="42307"/>
                  </a:lnTo>
                  <a:lnTo>
                    <a:pt x="37337" y="48525"/>
                  </a:lnTo>
                  <a:lnTo>
                    <a:pt x="42672" y="55210"/>
                  </a:lnTo>
                  <a:lnTo>
                    <a:pt x="49614" y="63053"/>
                  </a:lnTo>
                  <a:lnTo>
                    <a:pt x="66360" y="80800"/>
                  </a:lnTo>
                  <a:lnTo>
                    <a:pt x="128756" y="143926"/>
                  </a:lnTo>
                  <a:lnTo>
                    <a:pt x="140024" y="156064"/>
                  </a:lnTo>
                  <a:lnTo>
                    <a:pt x="150923" y="168389"/>
                  </a:lnTo>
                  <a:lnTo>
                    <a:pt x="161575" y="180840"/>
                  </a:lnTo>
                  <a:lnTo>
                    <a:pt x="170370" y="192527"/>
                  </a:lnTo>
                  <a:lnTo>
                    <a:pt x="177927" y="203704"/>
                  </a:lnTo>
                  <a:lnTo>
                    <a:pt x="184658" y="214543"/>
                  </a:lnTo>
                  <a:lnTo>
                    <a:pt x="189992" y="226002"/>
                  </a:lnTo>
                  <a:lnTo>
                    <a:pt x="194395" y="237875"/>
                  </a:lnTo>
                  <a:lnTo>
                    <a:pt x="198176" y="250023"/>
                  </a:lnTo>
                  <a:lnTo>
                    <a:pt x="200698" y="260662"/>
                  </a:lnTo>
                  <a:lnTo>
                    <a:pt x="202378" y="270295"/>
                  </a:lnTo>
                  <a:lnTo>
                    <a:pt x="203499" y="279257"/>
                  </a:lnTo>
                  <a:lnTo>
                    <a:pt x="203399" y="288618"/>
                  </a:lnTo>
                  <a:lnTo>
                    <a:pt x="202486" y="298245"/>
                  </a:lnTo>
                  <a:lnTo>
                    <a:pt x="201031" y="308050"/>
                  </a:lnTo>
                  <a:lnTo>
                    <a:pt x="198367" y="316280"/>
                  </a:lnTo>
                  <a:lnTo>
                    <a:pt x="194898" y="323460"/>
                  </a:lnTo>
                  <a:lnTo>
                    <a:pt x="190892" y="329940"/>
                  </a:lnTo>
                  <a:lnTo>
                    <a:pt x="185682" y="335954"/>
                  </a:lnTo>
                  <a:lnTo>
                    <a:pt x="179668" y="341656"/>
                  </a:lnTo>
                  <a:lnTo>
                    <a:pt x="173119" y="347151"/>
                  </a:lnTo>
                  <a:lnTo>
                    <a:pt x="166212" y="350814"/>
                  </a:lnTo>
                  <a:lnTo>
                    <a:pt x="159068" y="353256"/>
                  </a:lnTo>
                  <a:lnTo>
                    <a:pt x="143510" y="356816"/>
                  </a:lnTo>
                  <a:lnTo>
                    <a:pt x="125307" y="361220"/>
                  </a:lnTo>
                  <a:lnTo>
                    <a:pt x="117405" y="361887"/>
                  </a:lnTo>
                  <a:lnTo>
                    <a:pt x="110443" y="361485"/>
                  </a:lnTo>
                  <a:lnTo>
                    <a:pt x="104109" y="360370"/>
                  </a:lnTo>
                  <a:lnTo>
                    <a:pt x="98193" y="359627"/>
                  </a:lnTo>
                  <a:lnTo>
                    <a:pt x="92555" y="359131"/>
                  </a:lnTo>
                  <a:lnTo>
                    <a:pt x="76200" y="3581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SMARTInkAnnotation9"/>
            <p:cNvSpPr/>
            <p:nvPr/>
          </p:nvSpPr>
          <p:spPr>
            <a:xfrm>
              <a:off x="3745440" y="2796840"/>
              <a:ext cx="543960" cy="77724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777240"/>
                <a:gd name="textAreaBottom" fmla="*/ 777600 h 777240"/>
              </a:gdLst>
              <a:ahLst/>
              <a:rect l="textAreaLeft" t="textAreaTop" r="textAreaRight" b="textAreaBottom"/>
              <a:pathLst>
                <a:path w="544105" h="777241">
                  <a:moveTo>
                    <a:pt x="170724" y="0"/>
                  </a:moveTo>
                  <a:lnTo>
                    <a:pt x="166679" y="0"/>
                  </a:lnTo>
                  <a:lnTo>
                    <a:pt x="165487" y="847"/>
                  </a:lnTo>
                  <a:lnTo>
                    <a:pt x="164693" y="2258"/>
                  </a:lnTo>
                  <a:lnTo>
                    <a:pt x="164163" y="4045"/>
                  </a:lnTo>
                  <a:lnTo>
                    <a:pt x="161317" y="8289"/>
                  </a:lnTo>
                  <a:lnTo>
                    <a:pt x="152592" y="17912"/>
                  </a:lnTo>
                  <a:lnTo>
                    <a:pt x="141868" y="39286"/>
                  </a:lnTo>
                  <a:lnTo>
                    <a:pt x="129060" y="57172"/>
                  </a:lnTo>
                  <a:lnTo>
                    <a:pt x="119469" y="73952"/>
                  </a:lnTo>
                  <a:lnTo>
                    <a:pt x="109562" y="92699"/>
                  </a:lnTo>
                  <a:lnTo>
                    <a:pt x="89404" y="132329"/>
                  </a:lnTo>
                  <a:lnTo>
                    <a:pt x="77009" y="154768"/>
                  </a:lnTo>
                  <a:lnTo>
                    <a:pt x="63879" y="178853"/>
                  </a:lnTo>
                  <a:lnTo>
                    <a:pt x="58008" y="191202"/>
                  </a:lnTo>
                  <a:lnTo>
                    <a:pt x="52400" y="203668"/>
                  </a:lnTo>
                  <a:lnTo>
                    <a:pt x="46968" y="217059"/>
                  </a:lnTo>
                  <a:lnTo>
                    <a:pt x="41654" y="231066"/>
                  </a:lnTo>
                  <a:lnTo>
                    <a:pt x="31233" y="260176"/>
                  </a:lnTo>
                  <a:lnTo>
                    <a:pt x="20956" y="290047"/>
                  </a:lnTo>
                  <a:lnTo>
                    <a:pt x="16693" y="304278"/>
                  </a:lnTo>
                  <a:lnTo>
                    <a:pt x="13003" y="317999"/>
                  </a:lnTo>
                  <a:lnTo>
                    <a:pt x="9697" y="331379"/>
                  </a:lnTo>
                  <a:lnTo>
                    <a:pt x="6646" y="345379"/>
                  </a:lnTo>
                  <a:lnTo>
                    <a:pt x="998" y="374482"/>
                  </a:lnTo>
                  <a:lnTo>
                    <a:pt x="0" y="389355"/>
                  </a:lnTo>
                  <a:lnTo>
                    <a:pt x="182" y="404350"/>
                  </a:lnTo>
                  <a:lnTo>
                    <a:pt x="1149" y="419427"/>
                  </a:lnTo>
                  <a:lnTo>
                    <a:pt x="2641" y="434558"/>
                  </a:lnTo>
                  <a:lnTo>
                    <a:pt x="4482" y="449725"/>
                  </a:lnTo>
                  <a:lnTo>
                    <a:pt x="6556" y="464917"/>
                  </a:lnTo>
                  <a:lnTo>
                    <a:pt x="10479" y="480125"/>
                  </a:lnTo>
                  <a:lnTo>
                    <a:pt x="15634" y="495343"/>
                  </a:lnTo>
                  <a:lnTo>
                    <a:pt x="21610" y="510569"/>
                  </a:lnTo>
                  <a:lnTo>
                    <a:pt x="28135" y="524952"/>
                  </a:lnTo>
                  <a:lnTo>
                    <a:pt x="35024" y="538775"/>
                  </a:lnTo>
                  <a:lnTo>
                    <a:pt x="42158" y="552223"/>
                  </a:lnTo>
                  <a:lnTo>
                    <a:pt x="51147" y="565422"/>
                  </a:lnTo>
                  <a:lnTo>
                    <a:pt x="61372" y="578455"/>
                  </a:lnTo>
                  <a:lnTo>
                    <a:pt x="72423" y="591376"/>
                  </a:lnTo>
                  <a:lnTo>
                    <a:pt x="84870" y="603378"/>
                  </a:lnTo>
                  <a:lnTo>
                    <a:pt x="98248" y="614765"/>
                  </a:lnTo>
                  <a:lnTo>
                    <a:pt x="112246" y="625744"/>
                  </a:lnTo>
                  <a:lnTo>
                    <a:pt x="143605" y="649231"/>
                  </a:lnTo>
                  <a:lnTo>
                    <a:pt x="160265" y="661421"/>
                  </a:lnTo>
                  <a:lnTo>
                    <a:pt x="178145" y="672087"/>
                  </a:lnTo>
                  <a:lnTo>
                    <a:pt x="196838" y="681738"/>
                  </a:lnTo>
                  <a:lnTo>
                    <a:pt x="216073" y="690712"/>
                  </a:lnTo>
                  <a:lnTo>
                    <a:pt x="235670" y="699235"/>
                  </a:lnTo>
                  <a:lnTo>
                    <a:pt x="275507" y="715478"/>
                  </a:lnTo>
                  <a:lnTo>
                    <a:pt x="295613" y="722518"/>
                  </a:lnTo>
                  <a:lnTo>
                    <a:pt x="315789" y="728905"/>
                  </a:lnTo>
                  <a:lnTo>
                    <a:pt x="356271" y="740518"/>
                  </a:lnTo>
                  <a:lnTo>
                    <a:pt x="396840" y="751323"/>
                  </a:lnTo>
                  <a:lnTo>
                    <a:pt x="416295" y="755729"/>
                  </a:lnTo>
                  <a:lnTo>
                    <a:pt x="435191" y="759512"/>
                  </a:lnTo>
                  <a:lnTo>
                    <a:pt x="453716" y="762881"/>
                  </a:lnTo>
                  <a:lnTo>
                    <a:pt x="468605" y="765974"/>
                  </a:lnTo>
                  <a:lnTo>
                    <a:pt x="481071" y="768883"/>
                  </a:lnTo>
                  <a:lnTo>
                    <a:pt x="491922" y="771669"/>
                  </a:lnTo>
                  <a:lnTo>
                    <a:pt x="502543" y="773526"/>
                  </a:lnTo>
                  <a:lnTo>
                    <a:pt x="513010" y="774764"/>
                  </a:lnTo>
                  <a:lnTo>
                    <a:pt x="544104" y="777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SMARTInkAnnotation10"/>
            <p:cNvSpPr/>
            <p:nvPr/>
          </p:nvSpPr>
          <p:spPr>
            <a:xfrm>
              <a:off x="4068720" y="2873160"/>
              <a:ext cx="137160" cy="1904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37161" h="190501">
                  <a:moveTo>
                    <a:pt x="137160" y="0"/>
                  </a:moveTo>
                  <a:lnTo>
                    <a:pt x="129633" y="0"/>
                  </a:lnTo>
                  <a:lnTo>
                    <a:pt x="125522" y="4045"/>
                  </a:lnTo>
                  <a:lnTo>
                    <a:pt x="124321" y="6084"/>
                  </a:lnTo>
                  <a:lnTo>
                    <a:pt x="122987" y="10606"/>
                  </a:lnTo>
                  <a:lnTo>
                    <a:pt x="120938" y="14691"/>
                  </a:lnTo>
                  <a:lnTo>
                    <a:pt x="117878" y="19954"/>
                  </a:lnTo>
                  <a:lnTo>
                    <a:pt x="114146" y="26002"/>
                  </a:lnTo>
                  <a:lnTo>
                    <a:pt x="110811" y="31728"/>
                  </a:lnTo>
                  <a:lnTo>
                    <a:pt x="104847" y="42606"/>
                  </a:lnTo>
                  <a:lnTo>
                    <a:pt x="101224" y="48724"/>
                  </a:lnTo>
                  <a:lnTo>
                    <a:pt x="92685" y="62295"/>
                  </a:lnTo>
                  <a:lnTo>
                    <a:pt x="78356" y="84216"/>
                  </a:lnTo>
                  <a:lnTo>
                    <a:pt x="72557" y="91704"/>
                  </a:lnTo>
                  <a:lnTo>
                    <a:pt x="66151" y="99236"/>
                  </a:lnTo>
                  <a:lnTo>
                    <a:pt x="59341" y="106797"/>
                  </a:lnTo>
                  <a:lnTo>
                    <a:pt x="53108" y="114378"/>
                  </a:lnTo>
                  <a:lnTo>
                    <a:pt x="47258" y="121972"/>
                  </a:lnTo>
                  <a:lnTo>
                    <a:pt x="41665" y="129575"/>
                  </a:lnTo>
                  <a:lnTo>
                    <a:pt x="36244" y="136337"/>
                  </a:lnTo>
                  <a:lnTo>
                    <a:pt x="30936" y="142538"/>
                  </a:lnTo>
                  <a:lnTo>
                    <a:pt x="25704" y="148365"/>
                  </a:lnTo>
                  <a:lnTo>
                    <a:pt x="21370" y="153943"/>
                  </a:lnTo>
                  <a:lnTo>
                    <a:pt x="17633" y="159356"/>
                  </a:lnTo>
                  <a:lnTo>
                    <a:pt x="14296" y="164657"/>
                  </a:lnTo>
                  <a:lnTo>
                    <a:pt x="11223" y="169038"/>
                  </a:lnTo>
                  <a:lnTo>
                    <a:pt x="8329" y="172805"/>
                  </a:lnTo>
                  <a:lnTo>
                    <a:pt x="1645" y="180890"/>
                  </a:lnTo>
                  <a:lnTo>
                    <a:pt x="1097" y="182400"/>
                  </a:lnTo>
                  <a:lnTo>
                    <a:pt x="731" y="184254"/>
                  </a:lnTo>
                  <a:lnTo>
                    <a:pt x="0" y="1905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SMARTInkAnnotation11"/>
            <p:cNvSpPr/>
            <p:nvPr/>
          </p:nvSpPr>
          <p:spPr>
            <a:xfrm>
              <a:off x="4223160" y="2865600"/>
              <a:ext cx="133200" cy="1659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133319" h="166022">
                  <a:moveTo>
                    <a:pt x="112414" y="0"/>
                  </a:moveTo>
                  <a:lnTo>
                    <a:pt x="108369" y="4046"/>
                  </a:lnTo>
                  <a:lnTo>
                    <a:pt x="105484" y="6084"/>
                  </a:lnTo>
                  <a:lnTo>
                    <a:pt x="101868" y="8289"/>
                  </a:lnTo>
                  <a:lnTo>
                    <a:pt x="91987" y="13867"/>
                  </a:lnTo>
                  <a:lnTo>
                    <a:pt x="78139" y="22924"/>
                  </a:lnTo>
                  <a:lnTo>
                    <a:pt x="72631" y="27983"/>
                  </a:lnTo>
                  <a:lnTo>
                    <a:pt x="67265" y="33895"/>
                  </a:lnTo>
                  <a:lnTo>
                    <a:pt x="61995" y="40377"/>
                  </a:lnTo>
                  <a:lnTo>
                    <a:pt x="55941" y="46391"/>
                  </a:lnTo>
                  <a:lnTo>
                    <a:pt x="49365" y="52094"/>
                  </a:lnTo>
                  <a:lnTo>
                    <a:pt x="42441" y="57589"/>
                  </a:lnTo>
                  <a:lnTo>
                    <a:pt x="36979" y="63793"/>
                  </a:lnTo>
                  <a:lnTo>
                    <a:pt x="32491" y="70469"/>
                  </a:lnTo>
                  <a:lnTo>
                    <a:pt x="28652" y="77459"/>
                  </a:lnTo>
                  <a:lnTo>
                    <a:pt x="24400" y="83813"/>
                  </a:lnTo>
                  <a:lnTo>
                    <a:pt x="19871" y="89742"/>
                  </a:lnTo>
                  <a:lnTo>
                    <a:pt x="15158" y="95388"/>
                  </a:lnTo>
                  <a:lnTo>
                    <a:pt x="11170" y="101692"/>
                  </a:lnTo>
                  <a:lnTo>
                    <a:pt x="7665" y="108435"/>
                  </a:lnTo>
                  <a:lnTo>
                    <a:pt x="4482" y="115470"/>
                  </a:lnTo>
                  <a:lnTo>
                    <a:pt x="2359" y="121007"/>
                  </a:lnTo>
                  <a:lnTo>
                    <a:pt x="944" y="125544"/>
                  </a:lnTo>
                  <a:lnTo>
                    <a:pt x="0" y="129416"/>
                  </a:lnTo>
                  <a:lnTo>
                    <a:pt x="218" y="133691"/>
                  </a:lnTo>
                  <a:lnTo>
                    <a:pt x="1210" y="138234"/>
                  </a:lnTo>
                  <a:lnTo>
                    <a:pt x="2718" y="142956"/>
                  </a:lnTo>
                  <a:lnTo>
                    <a:pt x="4570" y="146951"/>
                  </a:lnTo>
                  <a:lnTo>
                    <a:pt x="6651" y="150461"/>
                  </a:lnTo>
                  <a:lnTo>
                    <a:pt x="8885" y="153647"/>
                  </a:lnTo>
                  <a:lnTo>
                    <a:pt x="11222" y="156618"/>
                  </a:lnTo>
                  <a:lnTo>
                    <a:pt x="13625" y="159445"/>
                  </a:lnTo>
                  <a:lnTo>
                    <a:pt x="16075" y="162177"/>
                  </a:lnTo>
                  <a:lnTo>
                    <a:pt x="19402" y="163998"/>
                  </a:lnTo>
                  <a:lnTo>
                    <a:pt x="23312" y="165212"/>
                  </a:lnTo>
                  <a:lnTo>
                    <a:pt x="27613" y="166021"/>
                  </a:lnTo>
                  <a:lnTo>
                    <a:pt x="33867" y="165714"/>
                  </a:lnTo>
                  <a:lnTo>
                    <a:pt x="41423" y="164663"/>
                  </a:lnTo>
                  <a:lnTo>
                    <a:pt x="49846" y="163115"/>
                  </a:lnTo>
                  <a:lnTo>
                    <a:pt x="57156" y="161237"/>
                  </a:lnTo>
                  <a:lnTo>
                    <a:pt x="63721" y="159138"/>
                  </a:lnTo>
                  <a:lnTo>
                    <a:pt x="69793" y="156892"/>
                  </a:lnTo>
                  <a:lnTo>
                    <a:pt x="75533" y="153702"/>
                  </a:lnTo>
                  <a:lnTo>
                    <a:pt x="81054" y="149881"/>
                  </a:lnTo>
                  <a:lnTo>
                    <a:pt x="86427" y="145641"/>
                  </a:lnTo>
                  <a:lnTo>
                    <a:pt x="91703" y="140274"/>
                  </a:lnTo>
                  <a:lnTo>
                    <a:pt x="96913" y="134156"/>
                  </a:lnTo>
                  <a:lnTo>
                    <a:pt x="102080" y="127537"/>
                  </a:lnTo>
                  <a:lnTo>
                    <a:pt x="107219" y="121432"/>
                  </a:lnTo>
                  <a:lnTo>
                    <a:pt x="112337" y="115668"/>
                  </a:lnTo>
                  <a:lnTo>
                    <a:pt x="117442" y="110132"/>
                  </a:lnTo>
                  <a:lnTo>
                    <a:pt x="121693" y="103054"/>
                  </a:lnTo>
                  <a:lnTo>
                    <a:pt x="125373" y="94950"/>
                  </a:lnTo>
                  <a:lnTo>
                    <a:pt x="128673" y="86160"/>
                  </a:lnTo>
                  <a:lnTo>
                    <a:pt x="130874" y="78607"/>
                  </a:lnTo>
                  <a:lnTo>
                    <a:pt x="132340" y="71878"/>
                  </a:lnTo>
                  <a:lnTo>
                    <a:pt x="133318" y="65699"/>
                  </a:lnTo>
                  <a:lnTo>
                    <a:pt x="133124" y="59039"/>
                  </a:lnTo>
                  <a:lnTo>
                    <a:pt x="132147" y="52059"/>
                  </a:lnTo>
                  <a:lnTo>
                    <a:pt x="130650" y="44866"/>
                  </a:lnTo>
                  <a:lnTo>
                    <a:pt x="127958" y="38378"/>
                  </a:lnTo>
                  <a:lnTo>
                    <a:pt x="124470" y="32358"/>
                  </a:lnTo>
                  <a:lnTo>
                    <a:pt x="120451" y="26653"/>
                  </a:lnTo>
                  <a:lnTo>
                    <a:pt x="116925" y="22002"/>
                  </a:lnTo>
                  <a:lnTo>
                    <a:pt x="113728" y="18055"/>
                  </a:lnTo>
                  <a:lnTo>
                    <a:pt x="110750" y="14577"/>
                  </a:lnTo>
                  <a:lnTo>
                    <a:pt x="107918" y="12258"/>
                  </a:lnTo>
                  <a:lnTo>
                    <a:pt x="105183" y="10712"/>
                  </a:lnTo>
                  <a:lnTo>
                    <a:pt x="102514" y="9681"/>
                  </a:lnTo>
                  <a:lnTo>
                    <a:pt x="99041" y="8148"/>
                  </a:lnTo>
                  <a:lnTo>
                    <a:pt x="90666" y="4186"/>
                  </a:lnTo>
                  <a:lnTo>
                    <a:pt x="86909" y="2790"/>
                  </a:lnTo>
                  <a:lnTo>
                    <a:pt x="83557" y="1860"/>
                  </a:lnTo>
                  <a:lnTo>
                    <a:pt x="7431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SMARTInkAnnotation12"/>
            <p:cNvSpPr/>
            <p:nvPr/>
          </p:nvSpPr>
          <p:spPr>
            <a:xfrm>
              <a:off x="4412160" y="2911320"/>
              <a:ext cx="68040" cy="1440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68035" h="144200">
                  <a:moveTo>
                    <a:pt x="68034" y="0"/>
                  </a:moveTo>
                  <a:lnTo>
                    <a:pt x="59943" y="0"/>
                  </a:lnTo>
                  <a:lnTo>
                    <a:pt x="56714" y="1693"/>
                  </a:lnTo>
                  <a:lnTo>
                    <a:pt x="53714" y="4516"/>
                  </a:lnTo>
                  <a:lnTo>
                    <a:pt x="46861" y="13121"/>
                  </a:lnTo>
                  <a:lnTo>
                    <a:pt x="44605" y="15521"/>
                  </a:lnTo>
                  <a:lnTo>
                    <a:pt x="37583" y="22703"/>
                  </a:lnTo>
                  <a:lnTo>
                    <a:pt x="34187" y="27835"/>
                  </a:lnTo>
                  <a:lnTo>
                    <a:pt x="31076" y="33797"/>
                  </a:lnTo>
                  <a:lnTo>
                    <a:pt x="28155" y="40311"/>
                  </a:lnTo>
                  <a:lnTo>
                    <a:pt x="24515" y="46347"/>
                  </a:lnTo>
                  <a:lnTo>
                    <a:pt x="20395" y="52065"/>
                  </a:lnTo>
                  <a:lnTo>
                    <a:pt x="15955" y="57570"/>
                  </a:lnTo>
                  <a:lnTo>
                    <a:pt x="12148" y="63780"/>
                  </a:lnTo>
                  <a:lnTo>
                    <a:pt x="8764" y="70460"/>
                  </a:lnTo>
                  <a:lnTo>
                    <a:pt x="5660" y="77453"/>
                  </a:lnTo>
                  <a:lnTo>
                    <a:pt x="3592" y="83809"/>
                  </a:lnTo>
                  <a:lnTo>
                    <a:pt x="2213" y="89739"/>
                  </a:lnTo>
                  <a:lnTo>
                    <a:pt x="1293" y="95386"/>
                  </a:lnTo>
                  <a:lnTo>
                    <a:pt x="681" y="100844"/>
                  </a:lnTo>
                  <a:lnTo>
                    <a:pt x="271" y="106176"/>
                  </a:lnTo>
                  <a:lnTo>
                    <a:pt x="0" y="111424"/>
                  </a:lnTo>
                  <a:lnTo>
                    <a:pt x="664" y="116616"/>
                  </a:lnTo>
                  <a:lnTo>
                    <a:pt x="1954" y="121771"/>
                  </a:lnTo>
                  <a:lnTo>
                    <a:pt x="3661" y="126901"/>
                  </a:lnTo>
                  <a:lnTo>
                    <a:pt x="5646" y="131168"/>
                  </a:lnTo>
                  <a:lnTo>
                    <a:pt x="7815" y="134858"/>
                  </a:lnTo>
                  <a:lnTo>
                    <a:pt x="10108" y="138165"/>
                  </a:lnTo>
                  <a:lnTo>
                    <a:pt x="13330" y="140370"/>
                  </a:lnTo>
                  <a:lnTo>
                    <a:pt x="17171" y="141840"/>
                  </a:lnTo>
                  <a:lnTo>
                    <a:pt x="21425" y="142820"/>
                  </a:lnTo>
                  <a:lnTo>
                    <a:pt x="25108" y="143474"/>
                  </a:lnTo>
                  <a:lnTo>
                    <a:pt x="28410" y="143909"/>
                  </a:lnTo>
                  <a:lnTo>
                    <a:pt x="31458" y="144199"/>
                  </a:lnTo>
                  <a:lnTo>
                    <a:pt x="35184" y="143546"/>
                  </a:lnTo>
                  <a:lnTo>
                    <a:pt x="39360" y="142265"/>
                  </a:lnTo>
                  <a:lnTo>
                    <a:pt x="43839" y="140563"/>
                  </a:lnTo>
                  <a:lnTo>
                    <a:pt x="46823" y="138582"/>
                  </a:lnTo>
                  <a:lnTo>
                    <a:pt x="48814" y="136415"/>
                  </a:lnTo>
                  <a:lnTo>
                    <a:pt x="50141" y="134123"/>
                  </a:lnTo>
                  <a:lnTo>
                    <a:pt x="52719" y="130902"/>
                  </a:lnTo>
                  <a:lnTo>
                    <a:pt x="56130" y="127061"/>
                  </a:lnTo>
                  <a:lnTo>
                    <a:pt x="60098" y="122808"/>
                  </a:lnTo>
                  <a:lnTo>
                    <a:pt x="62744" y="117432"/>
                  </a:lnTo>
                  <a:lnTo>
                    <a:pt x="64507" y="111308"/>
                  </a:lnTo>
                  <a:lnTo>
                    <a:pt x="65682" y="104685"/>
                  </a:lnTo>
                  <a:lnTo>
                    <a:pt x="66466" y="97730"/>
                  </a:lnTo>
                  <a:lnTo>
                    <a:pt x="66989" y="90554"/>
                  </a:lnTo>
                  <a:lnTo>
                    <a:pt x="67338" y="83229"/>
                  </a:lnTo>
                  <a:lnTo>
                    <a:pt x="67724" y="68317"/>
                  </a:lnTo>
                  <a:lnTo>
                    <a:pt x="68016" y="23315"/>
                  </a:lnTo>
                  <a:lnTo>
                    <a:pt x="67175" y="18930"/>
                  </a:lnTo>
                  <a:lnTo>
                    <a:pt x="65768" y="14313"/>
                  </a:lnTo>
                  <a:lnTo>
                    <a:pt x="63984" y="9542"/>
                  </a:lnTo>
                  <a:lnTo>
                    <a:pt x="61947" y="6361"/>
                  </a:lnTo>
                  <a:lnTo>
                    <a:pt x="59743" y="4241"/>
                  </a:lnTo>
                  <a:lnTo>
                    <a:pt x="5279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SMARTInkAnnotation13"/>
            <p:cNvSpPr/>
            <p:nvPr/>
          </p:nvSpPr>
          <p:spPr>
            <a:xfrm>
              <a:off x="4556520" y="2850480"/>
              <a:ext cx="113400" cy="28188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113408" h="281941">
                  <a:moveTo>
                    <a:pt x="0" y="0"/>
                  </a:moveTo>
                  <a:lnTo>
                    <a:pt x="4045" y="0"/>
                  </a:lnTo>
                  <a:lnTo>
                    <a:pt x="6083" y="847"/>
                  </a:lnTo>
                  <a:lnTo>
                    <a:pt x="8288" y="2258"/>
                  </a:lnTo>
                  <a:lnTo>
                    <a:pt x="10606" y="4045"/>
                  </a:lnTo>
                  <a:lnTo>
                    <a:pt x="12997" y="6084"/>
                  </a:lnTo>
                  <a:lnTo>
                    <a:pt x="15438" y="8289"/>
                  </a:lnTo>
                  <a:lnTo>
                    <a:pt x="20408" y="12997"/>
                  </a:lnTo>
                  <a:lnTo>
                    <a:pt x="41122" y="33529"/>
                  </a:lnTo>
                  <a:lnTo>
                    <a:pt x="46888" y="40133"/>
                  </a:lnTo>
                  <a:lnTo>
                    <a:pt x="52426" y="47075"/>
                  </a:lnTo>
                  <a:lnTo>
                    <a:pt x="57810" y="54244"/>
                  </a:lnTo>
                  <a:lnTo>
                    <a:pt x="68309" y="68982"/>
                  </a:lnTo>
                  <a:lnTo>
                    <a:pt x="73480" y="76468"/>
                  </a:lnTo>
                  <a:lnTo>
                    <a:pt x="78620" y="85692"/>
                  </a:lnTo>
                  <a:lnTo>
                    <a:pt x="83740" y="96074"/>
                  </a:lnTo>
                  <a:lnTo>
                    <a:pt x="93945" y="118053"/>
                  </a:lnTo>
                  <a:lnTo>
                    <a:pt x="104124" y="139110"/>
                  </a:lnTo>
                  <a:lnTo>
                    <a:pt x="107516" y="149467"/>
                  </a:lnTo>
                  <a:lnTo>
                    <a:pt x="109778" y="159758"/>
                  </a:lnTo>
                  <a:lnTo>
                    <a:pt x="111285" y="170005"/>
                  </a:lnTo>
                  <a:lnTo>
                    <a:pt x="112290" y="179377"/>
                  </a:lnTo>
                  <a:lnTo>
                    <a:pt x="112960" y="188165"/>
                  </a:lnTo>
                  <a:lnTo>
                    <a:pt x="113407" y="196563"/>
                  </a:lnTo>
                  <a:lnTo>
                    <a:pt x="112012" y="205549"/>
                  </a:lnTo>
                  <a:lnTo>
                    <a:pt x="109388" y="214926"/>
                  </a:lnTo>
                  <a:lnTo>
                    <a:pt x="105946" y="224564"/>
                  </a:lnTo>
                  <a:lnTo>
                    <a:pt x="102804" y="232683"/>
                  </a:lnTo>
                  <a:lnTo>
                    <a:pt x="99862" y="239789"/>
                  </a:lnTo>
                  <a:lnTo>
                    <a:pt x="97055" y="246219"/>
                  </a:lnTo>
                  <a:lnTo>
                    <a:pt x="93490" y="253046"/>
                  </a:lnTo>
                  <a:lnTo>
                    <a:pt x="89420" y="260138"/>
                  </a:lnTo>
                  <a:lnTo>
                    <a:pt x="85013" y="267405"/>
                  </a:lnTo>
                  <a:lnTo>
                    <a:pt x="80383" y="272250"/>
                  </a:lnTo>
                  <a:lnTo>
                    <a:pt x="75602" y="275480"/>
                  </a:lnTo>
                  <a:lnTo>
                    <a:pt x="60960" y="2819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SMARTInkAnnotation14"/>
            <p:cNvSpPr/>
            <p:nvPr/>
          </p:nvSpPr>
          <p:spPr>
            <a:xfrm>
              <a:off x="3994200" y="2880720"/>
              <a:ext cx="135000" cy="2588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35296" h="259081">
                  <a:moveTo>
                    <a:pt x="74334" y="0"/>
                  </a:moveTo>
                  <a:lnTo>
                    <a:pt x="66243" y="4046"/>
                  </a:lnTo>
                  <a:lnTo>
                    <a:pt x="63014" y="6930"/>
                  </a:lnTo>
                  <a:lnTo>
                    <a:pt x="60014" y="10547"/>
                  </a:lnTo>
                  <a:lnTo>
                    <a:pt x="57167" y="14651"/>
                  </a:lnTo>
                  <a:lnTo>
                    <a:pt x="54004" y="21470"/>
                  </a:lnTo>
                  <a:lnTo>
                    <a:pt x="53161" y="24473"/>
                  </a:lnTo>
                  <a:lnTo>
                    <a:pt x="50059" y="29016"/>
                  </a:lnTo>
                  <a:lnTo>
                    <a:pt x="45451" y="34584"/>
                  </a:lnTo>
                  <a:lnTo>
                    <a:pt x="39838" y="40836"/>
                  </a:lnTo>
                  <a:lnTo>
                    <a:pt x="35251" y="47544"/>
                  </a:lnTo>
                  <a:lnTo>
                    <a:pt x="31345" y="54556"/>
                  </a:lnTo>
                  <a:lnTo>
                    <a:pt x="27894" y="61771"/>
                  </a:lnTo>
                  <a:lnTo>
                    <a:pt x="23901" y="69121"/>
                  </a:lnTo>
                  <a:lnTo>
                    <a:pt x="19545" y="76560"/>
                  </a:lnTo>
                  <a:lnTo>
                    <a:pt x="14948" y="84060"/>
                  </a:lnTo>
                  <a:lnTo>
                    <a:pt x="11037" y="92447"/>
                  </a:lnTo>
                  <a:lnTo>
                    <a:pt x="7583" y="101424"/>
                  </a:lnTo>
                  <a:lnTo>
                    <a:pt x="4433" y="110796"/>
                  </a:lnTo>
                  <a:lnTo>
                    <a:pt x="2333" y="119585"/>
                  </a:lnTo>
                  <a:lnTo>
                    <a:pt x="934" y="127983"/>
                  </a:lnTo>
                  <a:lnTo>
                    <a:pt x="0" y="136122"/>
                  </a:lnTo>
                  <a:lnTo>
                    <a:pt x="225" y="144935"/>
                  </a:lnTo>
                  <a:lnTo>
                    <a:pt x="1221" y="154196"/>
                  </a:lnTo>
                  <a:lnTo>
                    <a:pt x="2732" y="163758"/>
                  </a:lnTo>
                  <a:lnTo>
                    <a:pt x="4586" y="172672"/>
                  </a:lnTo>
                  <a:lnTo>
                    <a:pt x="6669" y="181154"/>
                  </a:lnTo>
                  <a:lnTo>
                    <a:pt x="8904" y="189350"/>
                  </a:lnTo>
                  <a:lnTo>
                    <a:pt x="13780" y="196506"/>
                  </a:lnTo>
                  <a:lnTo>
                    <a:pt x="20419" y="202971"/>
                  </a:lnTo>
                  <a:lnTo>
                    <a:pt x="28231" y="208974"/>
                  </a:lnTo>
                  <a:lnTo>
                    <a:pt x="36825" y="214669"/>
                  </a:lnTo>
                  <a:lnTo>
                    <a:pt x="45942" y="220159"/>
                  </a:lnTo>
                  <a:lnTo>
                    <a:pt x="55406" y="225513"/>
                  </a:lnTo>
                  <a:lnTo>
                    <a:pt x="65948" y="230775"/>
                  </a:lnTo>
                  <a:lnTo>
                    <a:pt x="77210" y="235977"/>
                  </a:lnTo>
                  <a:lnTo>
                    <a:pt x="88952" y="241138"/>
                  </a:lnTo>
                  <a:lnTo>
                    <a:pt x="99319" y="245425"/>
                  </a:lnTo>
                  <a:lnTo>
                    <a:pt x="108771" y="249130"/>
                  </a:lnTo>
                  <a:lnTo>
                    <a:pt x="135295" y="2590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SMARTInkAnnotation15"/>
            <p:cNvSpPr/>
            <p:nvPr/>
          </p:nvSpPr>
          <p:spPr>
            <a:xfrm>
              <a:off x="4823280" y="2903760"/>
              <a:ext cx="7560" cy="198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7621" h="198121">
                  <a:moveTo>
                    <a:pt x="7620" y="0"/>
                  </a:moveTo>
                  <a:lnTo>
                    <a:pt x="7620" y="29485"/>
                  </a:lnTo>
                  <a:lnTo>
                    <a:pt x="6773" y="34896"/>
                  </a:lnTo>
                  <a:lnTo>
                    <a:pt x="5362" y="41044"/>
                  </a:lnTo>
                  <a:lnTo>
                    <a:pt x="3575" y="47683"/>
                  </a:lnTo>
                  <a:lnTo>
                    <a:pt x="2383" y="54649"/>
                  </a:lnTo>
                  <a:lnTo>
                    <a:pt x="1589" y="61832"/>
                  </a:lnTo>
                  <a:lnTo>
                    <a:pt x="1059" y="69162"/>
                  </a:lnTo>
                  <a:lnTo>
                    <a:pt x="706" y="76588"/>
                  </a:lnTo>
                  <a:lnTo>
                    <a:pt x="314" y="91613"/>
                  </a:lnTo>
                  <a:lnTo>
                    <a:pt x="0" y="198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SMARTInkAnnotation16"/>
            <p:cNvSpPr/>
            <p:nvPr/>
          </p:nvSpPr>
          <p:spPr>
            <a:xfrm>
              <a:off x="4731840" y="2995200"/>
              <a:ext cx="251280" cy="2268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51461" h="22861">
                  <a:moveTo>
                    <a:pt x="0" y="22860"/>
                  </a:moveTo>
                  <a:lnTo>
                    <a:pt x="37575" y="22860"/>
                  </a:lnTo>
                  <a:lnTo>
                    <a:pt x="46217" y="22013"/>
                  </a:lnTo>
                  <a:lnTo>
                    <a:pt x="55365" y="20602"/>
                  </a:lnTo>
                  <a:lnTo>
                    <a:pt x="64850" y="18815"/>
                  </a:lnTo>
                  <a:lnTo>
                    <a:pt x="75407" y="17623"/>
                  </a:lnTo>
                  <a:lnTo>
                    <a:pt x="86677" y="16829"/>
                  </a:lnTo>
                  <a:lnTo>
                    <a:pt x="109643" y="15946"/>
                  </a:lnTo>
                  <a:lnTo>
                    <a:pt x="131140" y="15554"/>
                  </a:lnTo>
                  <a:lnTo>
                    <a:pt x="141613" y="14603"/>
                  </a:lnTo>
                  <a:lnTo>
                    <a:pt x="151982" y="13122"/>
                  </a:lnTo>
                  <a:lnTo>
                    <a:pt x="162281" y="11288"/>
                  </a:lnTo>
                  <a:lnTo>
                    <a:pt x="171688" y="10065"/>
                  </a:lnTo>
                  <a:lnTo>
                    <a:pt x="180498" y="9250"/>
                  </a:lnTo>
                  <a:lnTo>
                    <a:pt x="188912" y="8707"/>
                  </a:lnTo>
                  <a:lnTo>
                    <a:pt x="196215" y="7498"/>
                  </a:lnTo>
                  <a:lnTo>
                    <a:pt x="202776" y="5845"/>
                  </a:lnTo>
                  <a:lnTo>
                    <a:pt x="208845" y="3897"/>
                  </a:lnTo>
                  <a:lnTo>
                    <a:pt x="215430" y="2598"/>
                  </a:lnTo>
                  <a:lnTo>
                    <a:pt x="222359" y="1732"/>
                  </a:lnTo>
                  <a:lnTo>
                    <a:pt x="239597" y="342"/>
                  </a:lnTo>
                  <a:lnTo>
                    <a:pt x="244212" y="152"/>
                  </a:lnTo>
                  <a:lnTo>
                    <a:pt x="2514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SMARTInkAnnotation17"/>
            <p:cNvSpPr/>
            <p:nvPr/>
          </p:nvSpPr>
          <p:spPr>
            <a:xfrm>
              <a:off x="5071680" y="2850480"/>
              <a:ext cx="223920" cy="25884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24057" h="259081">
                  <a:moveTo>
                    <a:pt x="109756" y="0"/>
                  </a:moveTo>
                  <a:lnTo>
                    <a:pt x="105711" y="0"/>
                  </a:lnTo>
                  <a:lnTo>
                    <a:pt x="104519" y="847"/>
                  </a:lnTo>
                  <a:lnTo>
                    <a:pt x="103725" y="2258"/>
                  </a:lnTo>
                  <a:lnTo>
                    <a:pt x="103195" y="4045"/>
                  </a:lnTo>
                  <a:lnTo>
                    <a:pt x="101996" y="5237"/>
                  </a:lnTo>
                  <a:lnTo>
                    <a:pt x="100349" y="6031"/>
                  </a:lnTo>
                  <a:lnTo>
                    <a:pt x="98405" y="6561"/>
                  </a:lnTo>
                  <a:lnTo>
                    <a:pt x="96262" y="8607"/>
                  </a:lnTo>
                  <a:lnTo>
                    <a:pt x="91624" y="15396"/>
                  </a:lnTo>
                  <a:lnTo>
                    <a:pt x="88354" y="18731"/>
                  </a:lnTo>
                  <a:lnTo>
                    <a:pt x="84481" y="21801"/>
                  </a:lnTo>
                  <a:lnTo>
                    <a:pt x="80207" y="24694"/>
                  </a:lnTo>
                  <a:lnTo>
                    <a:pt x="76510" y="29162"/>
                  </a:lnTo>
                  <a:lnTo>
                    <a:pt x="73198" y="34682"/>
                  </a:lnTo>
                  <a:lnTo>
                    <a:pt x="70144" y="40901"/>
                  </a:lnTo>
                  <a:lnTo>
                    <a:pt x="65568" y="47588"/>
                  </a:lnTo>
                  <a:lnTo>
                    <a:pt x="59978" y="54585"/>
                  </a:lnTo>
                  <a:lnTo>
                    <a:pt x="53711" y="61790"/>
                  </a:lnTo>
                  <a:lnTo>
                    <a:pt x="47839" y="69980"/>
                  </a:lnTo>
                  <a:lnTo>
                    <a:pt x="42231" y="78827"/>
                  </a:lnTo>
                  <a:lnTo>
                    <a:pt x="36800" y="88111"/>
                  </a:lnTo>
                  <a:lnTo>
                    <a:pt x="26249" y="105200"/>
                  </a:lnTo>
                  <a:lnTo>
                    <a:pt x="21065" y="113314"/>
                  </a:lnTo>
                  <a:lnTo>
                    <a:pt x="16762" y="121262"/>
                  </a:lnTo>
                  <a:lnTo>
                    <a:pt x="13046" y="129102"/>
                  </a:lnTo>
                  <a:lnTo>
                    <a:pt x="9724" y="136868"/>
                  </a:lnTo>
                  <a:lnTo>
                    <a:pt x="6661" y="144585"/>
                  </a:lnTo>
                  <a:lnTo>
                    <a:pt x="1001" y="159934"/>
                  </a:lnTo>
                  <a:lnTo>
                    <a:pt x="0" y="167583"/>
                  </a:lnTo>
                  <a:lnTo>
                    <a:pt x="178" y="175222"/>
                  </a:lnTo>
                  <a:lnTo>
                    <a:pt x="1144" y="182855"/>
                  </a:lnTo>
                  <a:lnTo>
                    <a:pt x="3482" y="189637"/>
                  </a:lnTo>
                  <a:lnTo>
                    <a:pt x="6733" y="195851"/>
                  </a:lnTo>
                  <a:lnTo>
                    <a:pt x="10595" y="201687"/>
                  </a:lnTo>
                  <a:lnTo>
                    <a:pt x="15708" y="207272"/>
                  </a:lnTo>
                  <a:lnTo>
                    <a:pt x="21658" y="212688"/>
                  </a:lnTo>
                  <a:lnTo>
                    <a:pt x="28164" y="217992"/>
                  </a:lnTo>
                  <a:lnTo>
                    <a:pt x="35888" y="223222"/>
                  </a:lnTo>
                  <a:lnTo>
                    <a:pt x="44424" y="228401"/>
                  </a:lnTo>
                  <a:lnTo>
                    <a:pt x="53502" y="233547"/>
                  </a:lnTo>
                  <a:lnTo>
                    <a:pt x="63787" y="237825"/>
                  </a:lnTo>
                  <a:lnTo>
                    <a:pt x="74877" y="241523"/>
                  </a:lnTo>
                  <a:lnTo>
                    <a:pt x="86503" y="244836"/>
                  </a:lnTo>
                  <a:lnTo>
                    <a:pt x="99334" y="247044"/>
                  </a:lnTo>
                  <a:lnTo>
                    <a:pt x="112968" y="248516"/>
                  </a:lnTo>
                  <a:lnTo>
                    <a:pt x="127138" y="249497"/>
                  </a:lnTo>
                  <a:lnTo>
                    <a:pt x="142510" y="250998"/>
                  </a:lnTo>
                  <a:lnTo>
                    <a:pt x="188229" y="256309"/>
                  </a:lnTo>
                  <a:lnTo>
                    <a:pt x="198478" y="257233"/>
                  </a:lnTo>
                  <a:lnTo>
                    <a:pt x="224056" y="2590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SMARTInkAnnotation18"/>
            <p:cNvSpPr/>
            <p:nvPr/>
          </p:nvSpPr>
          <p:spPr>
            <a:xfrm>
              <a:off x="5253840" y="2888640"/>
              <a:ext cx="140760" cy="18216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40889" h="182376">
                  <a:moveTo>
                    <a:pt x="11348" y="7592"/>
                  </a:moveTo>
                  <a:lnTo>
                    <a:pt x="15393" y="3547"/>
                  </a:lnTo>
                  <a:lnTo>
                    <a:pt x="18278" y="2355"/>
                  </a:lnTo>
                  <a:lnTo>
                    <a:pt x="21894" y="1561"/>
                  </a:lnTo>
                  <a:lnTo>
                    <a:pt x="25999" y="1031"/>
                  </a:lnTo>
                  <a:lnTo>
                    <a:pt x="29582" y="678"/>
                  </a:lnTo>
                  <a:lnTo>
                    <a:pt x="32817" y="443"/>
                  </a:lnTo>
                  <a:lnTo>
                    <a:pt x="35821" y="286"/>
                  </a:lnTo>
                  <a:lnTo>
                    <a:pt x="45932" y="112"/>
                  </a:lnTo>
                  <a:lnTo>
                    <a:pt x="69073" y="0"/>
                  </a:lnTo>
                  <a:lnTo>
                    <a:pt x="74385" y="837"/>
                  </a:lnTo>
                  <a:lnTo>
                    <a:pt x="79619" y="2242"/>
                  </a:lnTo>
                  <a:lnTo>
                    <a:pt x="84802" y="4026"/>
                  </a:lnTo>
                  <a:lnTo>
                    <a:pt x="89951" y="6061"/>
                  </a:lnTo>
                  <a:lnTo>
                    <a:pt x="95077" y="8265"/>
                  </a:lnTo>
                  <a:lnTo>
                    <a:pt x="100187" y="10581"/>
                  </a:lnTo>
                  <a:lnTo>
                    <a:pt x="103594" y="12971"/>
                  </a:lnTo>
                  <a:lnTo>
                    <a:pt x="105866" y="15411"/>
                  </a:lnTo>
                  <a:lnTo>
                    <a:pt x="107380" y="17885"/>
                  </a:lnTo>
                  <a:lnTo>
                    <a:pt x="108389" y="21227"/>
                  </a:lnTo>
                  <a:lnTo>
                    <a:pt x="109062" y="25149"/>
                  </a:lnTo>
                  <a:lnTo>
                    <a:pt x="109511" y="29457"/>
                  </a:lnTo>
                  <a:lnTo>
                    <a:pt x="108963" y="33175"/>
                  </a:lnTo>
                  <a:lnTo>
                    <a:pt x="107751" y="36501"/>
                  </a:lnTo>
                  <a:lnTo>
                    <a:pt x="104147" y="43300"/>
                  </a:lnTo>
                  <a:lnTo>
                    <a:pt x="99723" y="51967"/>
                  </a:lnTo>
                  <a:lnTo>
                    <a:pt x="96512" y="57495"/>
                  </a:lnTo>
                  <a:lnTo>
                    <a:pt x="88427" y="70411"/>
                  </a:lnTo>
                  <a:lnTo>
                    <a:pt x="83054" y="76565"/>
                  </a:lnTo>
                  <a:lnTo>
                    <a:pt x="76932" y="82361"/>
                  </a:lnTo>
                  <a:lnTo>
                    <a:pt x="70310" y="87918"/>
                  </a:lnTo>
                  <a:lnTo>
                    <a:pt x="64203" y="93316"/>
                  </a:lnTo>
                  <a:lnTo>
                    <a:pt x="52901" y="103829"/>
                  </a:lnTo>
                  <a:lnTo>
                    <a:pt x="46670" y="109003"/>
                  </a:lnTo>
                  <a:lnTo>
                    <a:pt x="39977" y="114146"/>
                  </a:lnTo>
                  <a:lnTo>
                    <a:pt x="32974" y="119268"/>
                  </a:lnTo>
                  <a:lnTo>
                    <a:pt x="26612" y="124376"/>
                  </a:lnTo>
                  <a:lnTo>
                    <a:pt x="20677" y="129475"/>
                  </a:lnTo>
                  <a:lnTo>
                    <a:pt x="15027" y="134567"/>
                  </a:lnTo>
                  <a:lnTo>
                    <a:pt x="11261" y="138809"/>
                  </a:lnTo>
                  <a:lnTo>
                    <a:pt x="8750" y="142484"/>
                  </a:lnTo>
                  <a:lnTo>
                    <a:pt x="675" y="158509"/>
                  </a:lnTo>
                  <a:lnTo>
                    <a:pt x="0" y="162390"/>
                  </a:lnTo>
                  <a:lnTo>
                    <a:pt x="396" y="165824"/>
                  </a:lnTo>
                  <a:lnTo>
                    <a:pt x="1506" y="168960"/>
                  </a:lnTo>
                  <a:lnTo>
                    <a:pt x="3940" y="171897"/>
                  </a:lnTo>
                  <a:lnTo>
                    <a:pt x="7256" y="174702"/>
                  </a:lnTo>
                  <a:lnTo>
                    <a:pt x="11160" y="177419"/>
                  </a:lnTo>
                  <a:lnTo>
                    <a:pt x="16303" y="179230"/>
                  </a:lnTo>
                  <a:lnTo>
                    <a:pt x="22271" y="180437"/>
                  </a:lnTo>
                  <a:lnTo>
                    <a:pt x="28790" y="181242"/>
                  </a:lnTo>
                  <a:lnTo>
                    <a:pt x="36523" y="181779"/>
                  </a:lnTo>
                  <a:lnTo>
                    <a:pt x="45065" y="182137"/>
                  </a:lnTo>
                  <a:lnTo>
                    <a:pt x="54146" y="182375"/>
                  </a:lnTo>
                  <a:lnTo>
                    <a:pt x="63587" y="181687"/>
                  </a:lnTo>
                  <a:lnTo>
                    <a:pt x="73267" y="180383"/>
                  </a:lnTo>
                  <a:lnTo>
                    <a:pt x="83107" y="178666"/>
                  </a:lnTo>
                  <a:lnTo>
                    <a:pt x="91361" y="177521"/>
                  </a:lnTo>
                  <a:lnTo>
                    <a:pt x="98556" y="176758"/>
                  </a:lnTo>
                  <a:lnTo>
                    <a:pt x="105047" y="176250"/>
                  </a:lnTo>
                  <a:lnTo>
                    <a:pt x="111914" y="175910"/>
                  </a:lnTo>
                  <a:lnTo>
                    <a:pt x="140888" y="1752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SMARTInkAnnotation19"/>
            <p:cNvSpPr/>
            <p:nvPr/>
          </p:nvSpPr>
          <p:spPr>
            <a:xfrm>
              <a:off x="5459760" y="2911320"/>
              <a:ext cx="145800" cy="19332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45834" h="193583">
                  <a:moveTo>
                    <a:pt x="49103" y="22860"/>
                  </a:moveTo>
                  <a:lnTo>
                    <a:pt x="49103" y="33466"/>
                  </a:lnTo>
                  <a:lnTo>
                    <a:pt x="47410" y="36704"/>
                  </a:lnTo>
                  <a:lnTo>
                    <a:pt x="44588" y="40556"/>
                  </a:lnTo>
                  <a:lnTo>
                    <a:pt x="41012" y="44817"/>
                  </a:lnTo>
                  <a:lnTo>
                    <a:pt x="37783" y="49352"/>
                  </a:lnTo>
                  <a:lnTo>
                    <a:pt x="34783" y="54068"/>
                  </a:lnTo>
                  <a:lnTo>
                    <a:pt x="31936" y="58905"/>
                  </a:lnTo>
                  <a:lnTo>
                    <a:pt x="29192" y="64670"/>
                  </a:lnTo>
                  <a:lnTo>
                    <a:pt x="26515" y="71054"/>
                  </a:lnTo>
                  <a:lnTo>
                    <a:pt x="23885" y="77849"/>
                  </a:lnTo>
                  <a:lnTo>
                    <a:pt x="18704" y="92173"/>
                  </a:lnTo>
                  <a:lnTo>
                    <a:pt x="8479" y="122065"/>
                  </a:lnTo>
                  <a:lnTo>
                    <a:pt x="5933" y="128790"/>
                  </a:lnTo>
                  <a:lnTo>
                    <a:pt x="3390" y="134967"/>
                  </a:lnTo>
                  <a:lnTo>
                    <a:pt x="848" y="140778"/>
                  </a:lnTo>
                  <a:lnTo>
                    <a:pt x="0" y="146345"/>
                  </a:lnTo>
                  <a:lnTo>
                    <a:pt x="281" y="151750"/>
                  </a:lnTo>
                  <a:lnTo>
                    <a:pt x="1315" y="157047"/>
                  </a:lnTo>
                  <a:lnTo>
                    <a:pt x="2851" y="162271"/>
                  </a:lnTo>
                  <a:lnTo>
                    <a:pt x="4721" y="167447"/>
                  </a:lnTo>
                  <a:lnTo>
                    <a:pt x="6816" y="172592"/>
                  </a:lnTo>
                  <a:lnTo>
                    <a:pt x="9904" y="176868"/>
                  </a:lnTo>
                  <a:lnTo>
                    <a:pt x="13658" y="180565"/>
                  </a:lnTo>
                  <a:lnTo>
                    <a:pt x="17853" y="183877"/>
                  </a:lnTo>
                  <a:lnTo>
                    <a:pt x="23190" y="186931"/>
                  </a:lnTo>
                  <a:lnTo>
                    <a:pt x="29287" y="189814"/>
                  </a:lnTo>
                  <a:lnTo>
                    <a:pt x="35893" y="192583"/>
                  </a:lnTo>
                  <a:lnTo>
                    <a:pt x="42836" y="193582"/>
                  </a:lnTo>
                  <a:lnTo>
                    <a:pt x="50005" y="193401"/>
                  </a:lnTo>
                  <a:lnTo>
                    <a:pt x="57324" y="192435"/>
                  </a:lnTo>
                  <a:lnTo>
                    <a:pt x="65590" y="190943"/>
                  </a:lnTo>
                  <a:lnTo>
                    <a:pt x="74488" y="189102"/>
                  </a:lnTo>
                  <a:lnTo>
                    <a:pt x="83807" y="187028"/>
                  </a:lnTo>
                  <a:lnTo>
                    <a:pt x="91712" y="183952"/>
                  </a:lnTo>
                  <a:lnTo>
                    <a:pt x="98676" y="180208"/>
                  </a:lnTo>
                  <a:lnTo>
                    <a:pt x="105012" y="176018"/>
                  </a:lnTo>
                  <a:lnTo>
                    <a:pt x="111775" y="169839"/>
                  </a:lnTo>
                  <a:lnTo>
                    <a:pt x="118825" y="162333"/>
                  </a:lnTo>
                  <a:lnTo>
                    <a:pt x="126064" y="153942"/>
                  </a:lnTo>
                  <a:lnTo>
                    <a:pt x="131737" y="145808"/>
                  </a:lnTo>
                  <a:lnTo>
                    <a:pt x="136366" y="137845"/>
                  </a:lnTo>
                  <a:lnTo>
                    <a:pt x="140298" y="129997"/>
                  </a:lnTo>
                  <a:lnTo>
                    <a:pt x="142920" y="121378"/>
                  </a:lnTo>
                  <a:lnTo>
                    <a:pt x="144668" y="112245"/>
                  </a:lnTo>
                  <a:lnTo>
                    <a:pt x="145833" y="102770"/>
                  </a:lnTo>
                  <a:lnTo>
                    <a:pt x="145763" y="93914"/>
                  </a:lnTo>
                  <a:lnTo>
                    <a:pt x="144870" y="85469"/>
                  </a:lnTo>
                  <a:lnTo>
                    <a:pt x="143427" y="77299"/>
                  </a:lnTo>
                  <a:lnTo>
                    <a:pt x="140772" y="69313"/>
                  </a:lnTo>
                  <a:lnTo>
                    <a:pt x="137309" y="61449"/>
                  </a:lnTo>
                  <a:lnTo>
                    <a:pt x="133308" y="53666"/>
                  </a:lnTo>
                  <a:lnTo>
                    <a:pt x="128946" y="46784"/>
                  </a:lnTo>
                  <a:lnTo>
                    <a:pt x="124346" y="40503"/>
                  </a:lnTo>
                  <a:lnTo>
                    <a:pt x="119584" y="34621"/>
                  </a:lnTo>
                  <a:lnTo>
                    <a:pt x="114717" y="29854"/>
                  </a:lnTo>
                  <a:lnTo>
                    <a:pt x="109779" y="25830"/>
                  </a:lnTo>
                  <a:lnTo>
                    <a:pt x="104794" y="22300"/>
                  </a:lnTo>
                  <a:lnTo>
                    <a:pt x="99777" y="19100"/>
                  </a:lnTo>
                  <a:lnTo>
                    <a:pt x="94739" y="16120"/>
                  </a:lnTo>
                  <a:lnTo>
                    <a:pt x="89686" y="13287"/>
                  </a:lnTo>
                  <a:lnTo>
                    <a:pt x="83779" y="10551"/>
                  </a:lnTo>
                  <a:lnTo>
                    <a:pt x="77300" y="7881"/>
                  </a:lnTo>
                  <a:lnTo>
                    <a:pt x="70441" y="5254"/>
                  </a:lnTo>
                  <a:lnTo>
                    <a:pt x="65022" y="3502"/>
                  </a:lnTo>
                  <a:lnTo>
                    <a:pt x="60563" y="2335"/>
                  </a:lnTo>
                  <a:lnTo>
                    <a:pt x="56743" y="1557"/>
                  </a:lnTo>
                  <a:lnTo>
                    <a:pt x="53349" y="1038"/>
                  </a:lnTo>
                  <a:lnTo>
                    <a:pt x="50241" y="692"/>
                  </a:lnTo>
                  <a:lnTo>
                    <a:pt x="4148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SMARTInkAnnotation20"/>
            <p:cNvSpPr/>
            <p:nvPr/>
          </p:nvSpPr>
          <p:spPr>
            <a:xfrm>
              <a:off x="5610240" y="2949480"/>
              <a:ext cx="163440" cy="15192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63665" h="151919">
                  <a:moveTo>
                    <a:pt x="97084" y="45720"/>
                  </a:moveTo>
                  <a:lnTo>
                    <a:pt x="79917" y="45720"/>
                  </a:lnTo>
                  <a:lnTo>
                    <a:pt x="76327" y="46567"/>
                  </a:lnTo>
                  <a:lnTo>
                    <a:pt x="72239" y="47978"/>
                  </a:lnTo>
                  <a:lnTo>
                    <a:pt x="67821" y="49766"/>
                  </a:lnTo>
                  <a:lnTo>
                    <a:pt x="56138" y="54009"/>
                  </a:lnTo>
                  <a:lnTo>
                    <a:pt x="49467" y="56326"/>
                  </a:lnTo>
                  <a:lnTo>
                    <a:pt x="43326" y="58717"/>
                  </a:lnTo>
                  <a:lnTo>
                    <a:pt x="37539" y="61158"/>
                  </a:lnTo>
                  <a:lnTo>
                    <a:pt x="31987" y="63632"/>
                  </a:lnTo>
                  <a:lnTo>
                    <a:pt x="26592" y="66975"/>
                  </a:lnTo>
                  <a:lnTo>
                    <a:pt x="21303" y="70897"/>
                  </a:lnTo>
                  <a:lnTo>
                    <a:pt x="16083" y="75205"/>
                  </a:lnTo>
                  <a:lnTo>
                    <a:pt x="11757" y="79770"/>
                  </a:lnTo>
                  <a:lnTo>
                    <a:pt x="8026" y="84506"/>
                  </a:lnTo>
                  <a:lnTo>
                    <a:pt x="4692" y="89358"/>
                  </a:lnTo>
                  <a:lnTo>
                    <a:pt x="2469" y="93438"/>
                  </a:lnTo>
                  <a:lnTo>
                    <a:pt x="987" y="97006"/>
                  </a:lnTo>
                  <a:lnTo>
                    <a:pt x="0" y="100230"/>
                  </a:lnTo>
                  <a:lnTo>
                    <a:pt x="188" y="104074"/>
                  </a:lnTo>
                  <a:lnTo>
                    <a:pt x="1160" y="108329"/>
                  </a:lnTo>
                  <a:lnTo>
                    <a:pt x="2654" y="112860"/>
                  </a:lnTo>
                  <a:lnTo>
                    <a:pt x="5344" y="117573"/>
                  </a:lnTo>
                  <a:lnTo>
                    <a:pt x="8831" y="122409"/>
                  </a:lnTo>
                  <a:lnTo>
                    <a:pt x="12849" y="127326"/>
                  </a:lnTo>
                  <a:lnTo>
                    <a:pt x="18067" y="131451"/>
                  </a:lnTo>
                  <a:lnTo>
                    <a:pt x="24086" y="135047"/>
                  </a:lnTo>
                  <a:lnTo>
                    <a:pt x="30639" y="138292"/>
                  </a:lnTo>
                  <a:lnTo>
                    <a:pt x="38394" y="141301"/>
                  </a:lnTo>
                  <a:lnTo>
                    <a:pt x="46950" y="144154"/>
                  </a:lnTo>
                  <a:lnTo>
                    <a:pt x="56041" y="146903"/>
                  </a:lnTo>
                  <a:lnTo>
                    <a:pt x="65489" y="148735"/>
                  </a:lnTo>
                  <a:lnTo>
                    <a:pt x="75174" y="149957"/>
                  </a:lnTo>
                  <a:lnTo>
                    <a:pt x="85018" y="150772"/>
                  </a:lnTo>
                  <a:lnTo>
                    <a:pt x="94119" y="151314"/>
                  </a:lnTo>
                  <a:lnTo>
                    <a:pt x="111007" y="151918"/>
                  </a:lnTo>
                  <a:lnTo>
                    <a:pt x="118219" y="151232"/>
                  </a:lnTo>
                  <a:lnTo>
                    <a:pt x="124721" y="149928"/>
                  </a:lnTo>
                  <a:lnTo>
                    <a:pt x="130749" y="148212"/>
                  </a:lnTo>
                  <a:lnTo>
                    <a:pt x="136461" y="146221"/>
                  </a:lnTo>
                  <a:lnTo>
                    <a:pt x="141962" y="144048"/>
                  </a:lnTo>
                  <a:lnTo>
                    <a:pt x="147323" y="141752"/>
                  </a:lnTo>
                  <a:lnTo>
                    <a:pt x="151743" y="138528"/>
                  </a:lnTo>
                  <a:lnTo>
                    <a:pt x="155537" y="134685"/>
                  </a:lnTo>
                  <a:lnTo>
                    <a:pt x="158913" y="130430"/>
                  </a:lnTo>
                  <a:lnTo>
                    <a:pt x="161163" y="125900"/>
                  </a:lnTo>
                  <a:lnTo>
                    <a:pt x="162664" y="121187"/>
                  </a:lnTo>
                  <a:lnTo>
                    <a:pt x="163664" y="116351"/>
                  </a:lnTo>
                  <a:lnTo>
                    <a:pt x="163484" y="109741"/>
                  </a:lnTo>
                  <a:lnTo>
                    <a:pt x="162517" y="101947"/>
                  </a:lnTo>
                  <a:lnTo>
                    <a:pt x="161027" y="93365"/>
                  </a:lnTo>
                  <a:lnTo>
                    <a:pt x="159186" y="85103"/>
                  </a:lnTo>
                  <a:lnTo>
                    <a:pt x="157112" y="77056"/>
                  </a:lnTo>
                  <a:lnTo>
                    <a:pt x="154883" y="69150"/>
                  </a:lnTo>
                  <a:lnTo>
                    <a:pt x="151703" y="62187"/>
                  </a:lnTo>
                  <a:lnTo>
                    <a:pt x="147890" y="55851"/>
                  </a:lnTo>
                  <a:lnTo>
                    <a:pt x="143655" y="49934"/>
                  </a:lnTo>
                  <a:lnTo>
                    <a:pt x="139138" y="44296"/>
                  </a:lnTo>
                  <a:lnTo>
                    <a:pt x="134434" y="38844"/>
                  </a:lnTo>
                  <a:lnTo>
                    <a:pt x="129604" y="33516"/>
                  </a:lnTo>
                  <a:lnTo>
                    <a:pt x="125538" y="28271"/>
                  </a:lnTo>
                  <a:lnTo>
                    <a:pt x="121980" y="23080"/>
                  </a:lnTo>
                  <a:lnTo>
                    <a:pt x="118761" y="17927"/>
                  </a:lnTo>
                  <a:lnTo>
                    <a:pt x="114922" y="13645"/>
                  </a:lnTo>
                  <a:lnTo>
                    <a:pt x="110669" y="9943"/>
                  </a:lnTo>
                  <a:lnTo>
                    <a:pt x="106141" y="6629"/>
                  </a:lnTo>
                  <a:lnTo>
                    <a:pt x="102276" y="4419"/>
                  </a:lnTo>
                  <a:lnTo>
                    <a:pt x="98851" y="2946"/>
                  </a:lnTo>
                  <a:lnTo>
                    <a:pt x="8946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SMARTInkAnnotation21"/>
            <p:cNvSpPr/>
            <p:nvPr/>
          </p:nvSpPr>
          <p:spPr>
            <a:xfrm>
              <a:off x="5768280" y="2835000"/>
              <a:ext cx="176760" cy="36576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365760"/>
                <a:gd name="textAreaBottom" fmla="*/ 366120 h 365760"/>
              </a:gdLst>
              <a:ahLst/>
              <a:rect l="textAreaLeft" t="textAreaTop" r="textAreaRight" b="textAreaBottom"/>
              <a:pathLst>
                <a:path w="177024" h="365761">
                  <a:moveTo>
                    <a:pt x="0" y="0"/>
                  </a:moveTo>
                  <a:lnTo>
                    <a:pt x="0" y="4045"/>
                  </a:lnTo>
                  <a:lnTo>
                    <a:pt x="1693" y="6084"/>
                  </a:lnTo>
                  <a:lnTo>
                    <a:pt x="4515" y="8289"/>
                  </a:lnTo>
                  <a:lnTo>
                    <a:pt x="8090" y="10606"/>
                  </a:lnTo>
                  <a:lnTo>
                    <a:pt x="13013" y="12997"/>
                  </a:lnTo>
                  <a:lnTo>
                    <a:pt x="18836" y="15438"/>
                  </a:lnTo>
                  <a:lnTo>
                    <a:pt x="25257" y="17912"/>
                  </a:lnTo>
                  <a:lnTo>
                    <a:pt x="31231" y="22101"/>
                  </a:lnTo>
                  <a:lnTo>
                    <a:pt x="36907" y="27434"/>
                  </a:lnTo>
                  <a:lnTo>
                    <a:pt x="42385" y="33530"/>
                  </a:lnTo>
                  <a:lnTo>
                    <a:pt x="49423" y="40133"/>
                  </a:lnTo>
                  <a:lnTo>
                    <a:pt x="57501" y="47075"/>
                  </a:lnTo>
                  <a:lnTo>
                    <a:pt x="66275" y="54244"/>
                  </a:lnTo>
                  <a:lnTo>
                    <a:pt x="74663" y="62409"/>
                  </a:lnTo>
                  <a:lnTo>
                    <a:pt x="82794" y="71240"/>
                  </a:lnTo>
                  <a:lnTo>
                    <a:pt x="90757" y="80513"/>
                  </a:lnTo>
                  <a:lnTo>
                    <a:pt x="98604" y="90082"/>
                  </a:lnTo>
                  <a:lnTo>
                    <a:pt x="114097" y="109746"/>
                  </a:lnTo>
                  <a:lnTo>
                    <a:pt x="121784" y="120577"/>
                  </a:lnTo>
                  <a:lnTo>
                    <a:pt x="129449" y="132031"/>
                  </a:lnTo>
                  <a:lnTo>
                    <a:pt x="144740" y="156047"/>
                  </a:lnTo>
                  <a:lnTo>
                    <a:pt x="160002" y="180832"/>
                  </a:lnTo>
                  <a:lnTo>
                    <a:pt x="165934" y="192522"/>
                  </a:lnTo>
                  <a:lnTo>
                    <a:pt x="170736" y="203701"/>
                  </a:lnTo>
                  <a:lnTo>
                    <a:pt x="174783" y="214541"/>
                  </a:lnTo>
                  <a:lnTo>
                    <a:pt x="176635" y="225154"/>
                  </a:lnTo>
                  <a:lnTo>
                    <a:pt x="177023" y="235616"/>
                  </a:lnTo>
                  <a:lnTo>
                    <a:pt x="176435" y="245977"/>
                  </a:lnTo>
                  <a:lnTo>
                    <a:pt x="174350" y="256272"/>
                  </a:lnTo>
                  <a:lnTo>
                    <a:pt x="171266" y="266521"/>
                  </a:lnTo>
                  <a:lnTo>
                    <a:pt x="167518" y="276741"/>
                  </a:lnTo>
                  <a:lnTo>
                    <a:pt x="163324" y="286094"/>
                  </a:lnTo>
                  <a:lnTo>
                    <a:pt x="158836" y="294869"/>
                  </a:lnTo>
                  <a:lnTo>
                    <a:pt x="154150" y="303260"/>
                  </a:lnTo>
                  <a:lnTo>
                    <a:pt x="148487" y="310547"/>
                  </a:lnTo>
                  <a:lnTo>
                    <a:pt x="142171" y="317098"/>
                  </a:lnTo>
                  <a:lnTo>
                    <a:pt x="135420" y="323158"/>
                  </a:lnTo>
                  <a:lnTo>
                    <a:pt x="128380" y="328892"/>
                  </a:lnTo>
                  <a:lnTo>
                    <a:pt x="121147" y="334408"/>
                  </a:lnTo>
                  <a:lnTo>
                    <a:pt x="113784" y="339779"/>
                  </a:lnTo>
                  <a:lnTo>
                    <a:pt x="106336" y="344206"/>
                  </a:lnTo>
                  <a:lnTo>
                    <a:pt x="98831" y="348004"/>
                  </a:lnTo>
                  <a:lnTo>
                    <a:pt x="91287" y="351383"/>
                  </a:lnTo>
                  <a:lnTo>
                    <a:pt x="83717" y="353635"/>
                  </a:lnTo>
                  <a:lnTo>
                    <a:pt x="76132" y="355137"/>
                  </a:lnTo>
                  <a:lnTo>
                    <a:pt x="68534" y="356138"/>
                  </a:lnTo>
                  <a:lnTo>
                    <a:pt x="61776" y="357652"/>
                  </a:lnTo>
                  <a:lnTo>
                    <a:pt x="55578" y="359508"/>
                  </a:lnTo>
                  <a:lnTo>
                    <a:pt x="49751" y="361592"/>
                  </a:lnTo>
                  <a:lnTo>
                    <a:pt x="45021" y="362981"/>
                  </a:lnTo>
                  <a:lnTo>
                    <a:pt x="41020" y="363908"/>
                  </a:lnTo>
                  <a:lnTo>
                    <a:pt x="30479" y="3657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SMARTInkAnnotation22"/>
            <p:cNvSpPr/>
            <p:nvPr/>
          </p:nvSpPr>
          <p:spPr>
            <a:xfrm>
              <a:off x="4068720" y="3269520"/>
              <a:ext cx="1699200" cy="53280"/>
            </a:xfrm>
            <a:custGeom>
              <a:avLst/>
              <a:gdLst>
                <a:gd name="textAreaLeft" fmla="*/ 0 w 1699200"/>
                <a:gd name="textAreaRight" fmla="*/ 1699560 w 16992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1699262" h="53341">
                  <a:moveTo>
                    <a:pt x="0" y="0"/>
                  </a:moveTo>
                  <a:lnTo>
                    <a:pt x="4045" y="4045"/>
                  </a:lnTo>
                  <a:lnTo>
                    <a:pt x="6931" y="5237"/>
                  </a:lnTo>
                  <a:lnTo>
                    <a:pt x="14651" y="6561"/>
                  </a:lnTo>
                  <a:lnTo>
                    <a:pt x="40630" y="8405"/>
                  </a:lnTo>
                  <a:lnTo>
                    <a:pt x="47407" y="9837"/>
                  </a:lnTo>
                  <a:lnTo>
                    <a:pt x="54464" y="11638"/>
                  </a:lnTo>
                  <a:lnTo>
                    <a:pt x="63403" y="12838"/>
                  </a:lnTo>
                  <a:lnTo>
                    <a:pt x="84623" y="14173"/>
                  </a:lnTo>
                  <a:lnTo>
                    <a:pt x="133587" y="15029"/>
                  </a:lnTo>
                  <a:lnTo>
                    <a:pt x="255663" y="15232"/>
                  </a:lnTo>
                  <a:lnTo>
                    <a:pt x="272888" y="16081"/>
                  </a:lnTo>
                  <a:lnTo>
                    <a:pt x="290299" y="17494"/>
                  </a:lnTo>
                  <a:lnTo>
                    <a:pt x="307833" y="19283"/>
                  </a:lnTo>
                  <a:lnTo>
                    <a:pt x="327142" y="20475"/>
                  </a:lnTo>
                  <a:lnTo>
                    <a:pt x="368917" y="21800"/>
                  </a:lnTo>
                  <a:lnTo>
                    <a:pt x="476703" y="22721"/>
                  </a:lnTo>
                  <a:lnTo>
                    <a:pt x="901025" y="22860"/>
                  </a:lnTo>
                  <a:lnTo>
                    <a:pt x="930037" y="23707"/>
                  </a:lnTo>
                  <a:lnTo>
                    <a:pt x="1015365" y="28097"/>
                  </a:lnTo>
                  <a:lnTo>
                    <a:pt x="1071598" y="29421"/>
                  </a:lnTo>
                  <a:lnTo>
                    <a:pt x="1159662" y="30166"/>
                  </a:lnTo>
                  <a:lnTo>
                    <a:pt x="1188821" y="31118"/>
                  </a:lnTo>
                  <a:lnTo>
                    <a:pt x="1274358" y="35655"/>
                  </a:lnTo>
                  <a:lnTo>
                    <a:pt x="1330639" y="37013"/>
                  </a:lnTo>
                  <a:lnTo>
                    <a:pt x="1410640" y="37778"/>
                  </a:lnTo>
                  <a:lnTo>
                    <a:pt x="1436573" y="38732"/>
                  </a:lnTo>
                  <a:lnTo>
                    <a:pt x="1511831" y="43273"/>
                  </a:lnTo>
                  <a:lnTo>
                    <a:pt x="1556409" y="44632"/>
                  </a:lnTo>
                  <a:lnTo>
                    <a:pt x="1615541" y="45398"/>
                  </a:lnTo>
                  <a:lnTo>
                    <a:pt x="1630748" y="46352"/>
                  </a:lnTo>
                  <a:lnTo>
                    <a:pt x="1643426" y="47835"/>
                  </a:lnTo>
                  <a:lnTo>
                    <a:pt x="1654418" y="49670"/>
                  </a:lnTo>
                  <a:lnTo>
                    <a:pt x="1664284" y="50894"/>
                  </a:lnTo>
                  <a:lnTo>
                    <a:pt x="1673404" y="51709"/>
                  </a:lnTo>
                  <a:lnTo>
                    <a:pt x="1699261" y="533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920" bIns="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SMARTInkAnnotation23"/>
            <p:cNvSpPr/>
            <p:nvPr/>
          </p:nvSpPr>
          <p:spPr>
            <a:xfrm>
              <a:off x="4723920" y="3429720"/>
              <a:ext cx="502920" cy="171360"/>
            </a:xfrm>
            <a:custGeom>
              <a:avLst/>
              <a:gdLst>
                <a:gd name="textAreaLeft" fmla="*/ 0 w 502920"/>
                <a:gd name="textAreaRight" fmla="*/ 503280 w 50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502921" h="171693">
                  <a:moveTo>
                    <a:pt x="0" y="30441"/>
                  </a:moveTo>
                  <a:lnTo>
                    <a:pt x="0" y="26396"/>
                  </a:lnTo>
                  <a:lnTo>
                    <a:pt x="846" y="25204"/>
                  </a:lnTo>
                  <a:lnTo>
                    <a:pt x="2258" y="24410"/>
                  </a:lnTo>
                  <a:lnTo>
                    <a:pt x="10546" y="21034"/>
                  </a:lnTo>
                  <a:lnTo>
                    <a:pt x="19927" y="16947"/>
                  </a:lnTo>
                  <a:lnTo>
                    <a:pt x="32564" y="12309"/>
                  </a:lnTo>
                  <a:lnTo>
                    <a:pt x="53958" y="4937"/>
                  </a:lnTo>
                  <a:lnTo>
                    <a:pt x="62218" y="3278"/>
                  </a:lnTo>
                  <a:lnTo>
                    <a:pt x="71112" y="2172"/>
                  </a:lnTo>
                  <a:lnTo>
                    <a:pt x="80428" y="1435"/>
                  </a:lnTo>
                  <a:lnTo>
                    <a:pt x="89179" y="944"/>
                  </a:lnTo>
                  <a:lnTo>
                    <a:pt x="105675" y="398"/>
                  </a:lnTo>
                  <a:lnTo>
                    <a:pt x="155195" y="19"/>
                  </a:lnTo>
                  <a:lnTo>
                    <a:pt x="166963" y="0"/>
                  </a:lnTo>
                  <a:lnTo>
                    <a:pt x="177349" y="833"/>
                  </a:lnTo>
                  <a:lnTo>
                    <a:pt x="186813" y="2236"/>
                  </a:lnTo>
                  <a:lnTo>
                    <a:pt x="195662" y="4018"/>
                  </a:lnTo>
                  <a:lnTo>
                    <a:pt x="204101" y="5206"/>
                  </a:lnTo>
                  <a:lnTo>
                    <a:pt x="212268" y="5997"/>
                  </a:lnTo>
                  <a:lnTo>
                    <a:pt x="220252" y="6525"/>
                  </a:lnTo>
                  <a:lnTo>
                    <a:pt x="235897" y="9370"/>
                  </a:lnTo>
                  <a:lnTo>
                    <a:pt x="249624" y="13456"/>
                  </a:lnTo>
                  <a:lnTo>
                    <a:pt x="258546" y="18094"/>
                  </a:lnTo>
                  <a:lnTo>
                    <a:pt x="261264" y="20517"/>
                  </a:lnTo>
                  <a:lnTo>
                    <a:pt x="263076" y="22978"/>
                  </a:lnTo>
                  <a:lnTo>
                    <a:pt x="264284" y="25466"/>
                  </a:lnTo>
                  <a:lnTo>
                    <a:pt x="263396" y="27971"/>
                  </a:lnTo>
                  <a:lnTo>
                    <a:pt x="261111" y="30488"/>
                  </a:lnTo>
                  <a:lnTo>
                    <a:pt x="257894" y="33012"/>
                  </a:lnTo>
                  <a:lnTo>
                    <a:pt x="254903" y="36389"/>
                  </a:lnTo>
                  <a:lnTo>
                    <a:pt x="252062" y="40333"/>
                  </a:lnTo>
                  <a:lnTo>
                    <a:pt x="249321" y="44656"/>
                  </a:lnTo>
                  <a:lnTo>
                    <a:pt x="244954" y="49231"/>
                  </a:lnTo>
                  <a:lnTo>
                    <a:pt x="239503" y="53974"/>
                  </a:lnTo>
                  <a:lnTo>
                    <a:pt x="233329" y="58830"/>
                  </a:lnTo>
                  <a:lnTo>
                    <a:pt x="226673" y="62914"/>
                  </a:lnTo>
                  <a:lnTo>
                    <a:pt x="219694" y="66483"/>
                  </a:lnTo>
                  <a:lnTo>
                    <a:pt x="212503" y="69709"/>
                  </a:lnTo>
                  <a:lnTo>
                    <a:pt x="205169" y="73553"/>
                  </a:lnTo>
                  <a:lnTo>
                    <a:pt x="197739" y="77809"/>
                  </a:lnTo>
                  <a:lnTo>
                    <a:pt x="190247" y="82340"/>
                  </a:lnTo>
                  <a:lnTo>
                    <a:pt x="182711" y="86207"/>
                  </a:lnTo>
                  <a:lnTo>
                    <a:pt x="175147" y="89632"/>
                  </a:lnTo>
                  <a:lnTo>
                    <a:pt x="167565" y="92762"/>
                  </a:lnTo>
                  <a:lnTo>
                    <a:pt x="159970" y="96541"/>
                  </a:lnTo>
                  <a:lnTo>
                    <a:pt x="152367" y="100754"/>
                  </a:lnTo>
                  <a:lnTo>
                    <a:pt x="144758" y="105257"/>
                  </a:lnTo>
                  <a:lnTo>
                    <a:pt x="138839" y="109105"/>
                  </a:lnTo>
                  <a:lnTo>
                    <a:pt x="134046" y="112517"/>
                  </a:lnTo>
                  <a:lnTo>
                    <a:pt x="130004" y="115638"/>
                  </a:lnTo>
                  <a:lnTo>
                    <a:pt x="127309" y="119413"/>
                  </a:lnTo>
                  <a:lnTo>
                    <a:pt x="125513" y="123622"/>
                  </a:lnTo>
                  <a:lnTo>
                    <a:pt x="124316" y="128122"/>
                  </a:lnTo>
                  <a:lnTo>
                    <a:pt x="124364" y="131968"/>
                  </a:lnTo>
                  <a:lnTo>
                    <a:pt x="125242" y="135379"/>
                  </a:lnTo>
                  <a:lnTo>
                    <a:pt x="126675" y="138500"/>
                  </a:lnTo>
                  <a:lnTo>
                    <a:pt x="130170" y="141427"/>
                  </a:lnTo>
                  <a:lnTo>
                    <a:pt x="135041" y="144225"/>
                  </a:lnTo>
                  <a:lnTo>
                    <a:pt x="140827" y="146937"/>
                  </a:lnTo>
                  <a:lnTo>
                    <a:pt x="154030" y="152208"/>
                  </a:lnTo>
                  <a:lnTo>
                    <a:pt x="161106" y="154799"/>
                  </a:lnTo>
                  <a:lnTo>
                    <a:pt x="170057" y="157373"/>
                  </a:lnTo>
                  <a:lnTo>
                    <a:pt x="180259" y="159936"/>
                  </a:lnTo>
                  <a:lnTo>
                    <a:pt x="191293" y="162491"/>
                  </a:lnTo>
                  <a:lnTo>
                    <a:pt x="204575" y="164195"/>
                  </a:lnTo>
                  <a:lnTo>
                    <a:pt x="219357" y="165330"/>
                  </a:lnTo>
                  <a:lnTo>
                    <a:pt x="235138" y="166087"/>
                  </a:lnTo>
                  <a:lnTo>
                    <a:pt x="251585" y="167439"/>
                  </a:lnTo>
                  <a:lnTo>
                    <a:pt x="285664" y="171197"/>
                  </a:lnTo>
                  <a:lnTo>
                    <a:pt x="303050" y="171692"/>
                  </a:lnTo>
                  <a:lnTo>
                    <a:pt x="320566" y="171175"/>
                  </a:lnTo>
                  <a:lnTo>
                    <a:pt x="338172" y="169984"/>
                  </a:lnTo>
                  <a:lnTo>
                    <a:pt x="355834" y="169190"/>
                  </a:lnTo>
                  <a:lnTo>
                    <a:pt x="391264" y="168307"/>
                  </a:lnTo>
                  <a:lnTo>
                    <a:pt x="409010" y="167225"/>
                  </a:lnTo>
                  <a:lnTo>
                    <a:pt x="426767" y="165657"/>
                  </a:lnTo>
                  <a:lnTo>
                    <a:pt x="444531" y="163765"/>
                  </a:lnTo>
                  <a:lnTo>
                    <a:pt x="458914" y="161657"/>
                  </a:lnTo>
                  <a:lnTo>
                    <a:pt x="471043" y="159406"/>
                  </a:lnTo>
                  <a:lnTo>
                    <a:pt x="502920" y="15236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SMARTInkAnnotation24"/>
            <p:cNvSpPr/>
            <p:nvPr/>
          </p:nvSpPr>
          <p:spPr>
            <a:xfrm>
              <a:off x="5951160" y="2751120"/>
              <a:ext cx="205200" cy="88380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883800"/>
                <a:gd name="textAreaBottom" fmla="*/ 884160 h 883800"/>
              </a:gdLst>
              <a:ahLst/>
              <a:rect l="textAreaLeft" t="textAreaTop" r="textAreaRight" b="textAreaBottom"/>
              <a:pathLst>
                <a:path w="205504" h="883921">
                  <a:moveTo>
                    <a:pt x="60960" y="0"/>
                  </a:moveTo>
                  <a:lnTo>
                    <a:pt x="67521" y="6561"/>
                  </a:lnTo>
                  <a:lnTo>
                    <a:pt x="72625" y="9407"/>
                  </a:lnTo>
                  <a:lnTo>
                    <a:pt x="76357" y="11352"/>
                  </a:lnTo>
                  <a:lnTo>
                    <a:pt x="80538" y="15188"/>
                  </a:lnTo>
                  <a:lnTo>
                    <a:pt x="85019" y="20285"/>
                  </a:lnTo>
                  <a:lnTo>
                    <a:pt x="89699" y="26223"/>
                  </a:lnTo>
                  <a:lnTo>
                    <a:pt x="94513" y="31876"/>
                  </a:lnTo>
                  <a:lnTo>
                    <a:pt x="99416" y="37337"/>
                  </a:lnTo>
                  <a:lnTo>
                    <a:pt x="104377" y="42672"/>
                  </a:lnTo>
                  <a:lnTo>
                    <a:pt x="109378" y="49614"/>
                  </a:lnTo>
                  <a:lnTo>
                    <a:pt x="114405" y="57630"/>
                  </a:lnTo>
                  <a:lnTo>
                    <a:pt x="119450" y="66360"/>
                  </a:lnTo>
                  <a:lnTo>
                    <a:pt x="125354" y="75567"/>
                  </a:lnTo>
                  <a:lnTo>
                    <a:pt x="131829" y="85091"/>
                  </a:lnTo>
                  <a:lnTo>
                    <a:pt x="138686" y="94828"/>
                  </a:lnTo>
                  <a:lnTo>
                    <a:pt x="144951" y="105552"/>
                  </a:lnTo>
                  <a:lnTo>
                    <a:pt x="150820" y="116935"/>
                  </a:lnTo>
                  <a:lnTo>
                    <a:pt x="156427" y="128757"/>
                  </a:lnTo>
                  <a:lnTo>
                    <a:pt x="161858" y="141718"/>
                  </a:lnTo>
                  <a:lnTo>
                    <a:pt x="167172" y="155439"/>
                  </a:lnTo>
                  <a:lnTo>
                    <a:pt x="172409" y="169666"/>
                  </a:lnTo>
                  <a:lnTo>
                    <a:pt x="176746" y="184230"/>
                  </a:lnTo>
                  <a:lnTo>
                    <a:pt x="180484" y="199020"/>
                  </a:lnTo>
                  <a:lnTo>
                    <a:pt x="183823" y="213960"/>
                  </a:lnTo>
                  <a:lnTo>
                    <a:pt x="192048" y="246365"/>
                  </a:lnTo>
                  <a:lnTo>
                    <a:pt x="196612" y="263303"/>
                  </a:lnTo>
                  <a:lnTo>
                    <a:pt x="199655" y="280522"/>
                  </a:lnTo>
                  <a:lnTo>
                    <a:pt x="201683" y="297928"/>
                  </a:lnTo>
                  <a:lnTo>
                    <a:pt x="203036" y="315459"/>
                  </a:lnTo>
                  <a:lnTo>
                    <a:pt x="203937" y="333073"/>
                  </a:lnTo>
                  <a:lnTo>
                    <a:pt x="204940" y="368448"/>
                  </a:lnTo>
                  <a:lnTo>
                    <a:pt x="205503" y="421684"/>
                  </a:lnTo>
                  <a:lnTo>
                    <a:pt x="204735" y="440296"/>
                  </a:lnTo>
                  <a:lnTo>
                    <a:pt x="203377" y="459477"/>
                  </a:lnTo>
                  <a:lnTo>
                    <a:pt x="201625" y="479038"/>
                  </a:lnTo>
                  <a:lnTo>
                    <a:pt x="197420" y="516577"/>
                  </a:lnTo>
                  <a:lnTo>
                    <a:pt x="195113" y="534885"/>
                  </a:lnTo>
                  <a:lnTo>
                    <a:pt x="191036" y="552170"/>
                  </a:lnTo>
                  <a:lnTo>
                    <a:pt x="185778" y="568773"/>
                  </a:lnTo>
                  <a:lnTo>
                    <a:pt x="179732" y="584923"/>
                  </a:lnTo>
                  <a:lnTo>
                    <a:pt x="174008" y="601615"/>
                  </a:lnTo>
                  <a:lnTo>
                    <a:pt x="163133" y="635967"/>
                  </a:lnTo>
                  <a:lnTo>
                    <a:pt x="157015" y="651731"/>
                  </a:lnTo>
                  <a:lnTo>
                    <a:pt x="150396" y="666474"/>
                  </a:lnTo>
                  <a:lnTo>
                    <a:pt x="121524" y="724598"/>
                  </a:lnTo>
                  <a:lnTo>
                    <a:pt x="114037" y="738759"/>
                  </a:lnTo>
                  <a:lnTo>
                    <a:pt x="98943" y="765782"/>
                  </a:lnTo>
                  <a:lnTo>
                    <a:pt x="91362" y="777221"/>
                  </a:lnTo>
                  <a:lnTo>
                    <a:pt x="83768" y="787387"/>
                  </a:lnTo>
                  <a:lnTo>
                    <a:pt x="76166" y="796705"/>
                  </a:lnTo>
                  <a:lnTo>
                    <a:pt x="69404" y="806303"/>
                  </a:lnTo>
                  <a:lnTo>
                    <a:pt x="63202" y="816089"/>
                  </a:lnTo>
                  <a:lnTo>
                    <a:pt x="57376" y="825999"/>
                  </a:lnTo>
                  <a:lnTo>
                    <a:pt x="50950" y="834300"/>
                  </a:lnTo>
                  <a:lnTo>
                    <a:pt x="44127" y="841526"/>
                  </a:lnTo>
                  <a:lnTo>
                    <a:pt x="30619" y="854072"/>
                  </a:lnTo>
                  <a:lnTo>
                    <a:pt x="10407" y="873665"/>
                  </a:lnTo>
                  <a:lnTo>
                    <a:pt x="0" y="8839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SMARTInkAnnotation25"/>
            <p:cNvSpPr/>
            <p:nvPr/>
          </p:nvSpPr>
          <p:spPr>
            <a:xfrm>
              <a:off x="4853520" y="1036800"/>
              <a:ext cx="213120" cy="40356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213310" h="403861">
                  <a:moveTo>
                    <a:pt x="0" y="0"/>
                  </a:moveTo>
                  <a:lnTo>
                    <a:pt x="14650" y="0"/>
                  </a:lnTo>
                  <a:lnTo>
                    <a:pt x="19080" y="847"/>
                  </a:lnTo>
                  <a:lnTo>
                    <a:pt x="23726" y="2258"/>
                  </a:lnTo>
                  <a:lnTo>
                    <a:pt x="28517" y="4045"/>
                  </a:lnTo>
                  <a:lnTo>
                    <a:pt x="33405" y="6083"/>
                  </a:lnTo>
                  <a:lnTo>
                    <a:pt x="38356" y="8289"/>
                  </a:lnTo>
                  <a:lnTo>
                    <a:pt x="43351" y="10606"/>
                  </a:lnTo>
                  <a:lnTo>
                    <a:pt x="49220" y="12997"/>
                  </a:lnTo>
                  <a:lnTo>
                    <a:pt x="55673" y="15438"/>
                  </a:lnTo>
                  <a:lnTo>
                    <a:pt x="62515" y="17912"/>
                  </a:lnTo>
                  <a:lnTo>
                    <a:pt x="68770" y="21255"/>
                  </a:lnTo>
                  <a:lnTo>
                    <a:pt x="74633" y="25177"/>
                  </a:lnTo>
                  <a:lnTo>
                    <a:pt x="80235" y="29484"/>
                  </a:lnTo>
                  <a:lnTo>
                    <a:pt x="86510" y="34050"/>
                  </a:lnTo>
                  <a:lnTo>
                    <a:pt x="100255" y="43638"/>
                  </a:lnTo>
                  <a:lnTo>
                    <a:pt x="106630" y="48565"/>
                  </a:lnTo>
                  <a:lnTo>
                    <a:pt x="112573" y="53543"/>
                  </a:lnTo>
                  <a:lnTo>
                    <a:pt x="118229" y="58556"/>
                  </a:lnTo>
                  <a:lnTo>
                    <a:pt x="129028" y="68640"/>
                  </a:lnTo>
                  <a:lnTo>
                    <a:pt x="149758" y="88912"/>
                  </a:lnTo>
                  <a:lnTo>
                    <a:pt x="165069" y="104144"/>
                  </a:lnTo>
                  <a:lnTo>
                    <a:pt x="170159" y="110069"/>
                  </a:lnTo>
                  <a:lnTo>
                    <a:pt x="175247" y="116559"/>
                  </a:lnTo>
                  <a:lnTo>
                    <a:pt x="180331" y="123426"/>
                  </a:lnTo>
                  <a:lnTo>
                    <a:pt x="190495" y="137829"/>
                  </a:lnTo>
                  <a:lnTo>
                    <a:pt x="195577" y="145226"/>
                  </a:lnTo>
                  <a:lnTo>
                    <a:pt x="199811" y="152698"/>
                  </a:lnTo>
                  <a:lnTo>
                    <a:pt x="203481" y="160218"/>
                  </a:lnTo>
                  <a:lnTo>
                    <a:pt x="206773" y="167772"/>
                  </a:lnTo>
                  <a:lnTo>
                    <a:pt x="208969" y="175348"/>
                  </a:lnTo>
                  <a:lnTo>
                    <a:pt x="210432" y="182939"/>
                  </a:lnTo>
                  <a:lnTo>
                    <a:pt x="211408" y="190539"/>
                  </a:lnTo>
                  <a:lnTo>
                    <a:pt x="212058" y="197299"/>
                  </a:lnTo>
                  <a:lnTo>
                    <a:pt x="212781" y="209326"/>
                  </a:lnTo>
                  <a:lnTo>
                    <a:pt x="213102" y="222574"/>
                  </a:lnTo>
                  <a:lnTo>
                    <a:pt x="213309" y="251775"/>
                  </a:lnTo>
                  <a:lnTo>
                    <a:pt x="212479" y="259290"/>
                  </a:lnTo>
                  <a:lnTo>
                    <a:pt x="211079" y="266840"/>
                  </a:lnTo>
                  <a:lnTo>
                    <a:pt x="209299" y="274413"/>
                  </a:lnTo>
                  <a:lnTo>
                    <a:pt x="207266" y="282002"/>
                  </a:lnTo>
                  <a:lnTo>
                    <a:pt x="202748" y="297208"/>
                  </a:lnTo>
                  <a:lnTo>
                    <a:pt x="200359" y="303972"/>
                  </a:lnTo>
                  <a:lnTo>
                    <a:pt x="195446" y="316003"/>
                  </a:lnTo>
                  <a:lnTo>
                    <a:pt x="192698" y="326995"/>
                  </a:lnTo>
                  <a:lnTo>
                    <a:pt x="191965" y="332296"/>
                  </a:lnTo>
                  <a:lnTo>
                    <a:pt x="189783" y="337524"/>
                  </a:lnTo>
                  <a:lnTo>
                    <a:pt x="186635" y="342703"/>
                  </a:lnTo>
                  <a:lnTo>
                    <a:pt x="180315" y="352126"/>
                  </a:lnTo>
                  <a:lnTo>
                    <a:pt x="171880" y="371888"/>
                  </a:lnTo>
                  <a:lnTo>
                    <a:pt x="167266" y="379208"/>
                  </a:lnTo>
                  <a:lnTo>
                    <a:pt x="162394" y="385284"/>
                  </a:lnTo>
                  <a:lnTo>
                    <a:pt x="157406" y="390806"/>
                  </a:lnTo>
                  <a:lnTo>
                    <a:pt x="154890" y="392617"/>
                  </a:lnTo>
                  <a:lnTo>
                    <a:pt x="149837" y="394630"/>
                  </a:lnTo>
                  <a:lnTo>
                    <a:pt x="148152" y="396013"/>
                  </a:lnTo>
                  <a:lnTo>
                    <a:pt x="147028" y="397782"/>
                  </a:lnTo>
                  <a:lnTo>
                    <a:pt x="144779" y="4038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SMARTInkAnnotation26"/>
            <p:cNvSpPr/>
            <p:nvPr/>
          </p:nvSpPr>
          <p:spPr>
            <a:xfrm>
              <a:off x="4024440" y="1067040"/>
              <a:ext cx="234720" cy="3502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234789" h="350521">
                  <a:moveTo>
                    <a:pt x="82388" y="0"/>
                  </a:moveTo>
                  <a:lnTo>
                    <a:pt x="82388" y="4045"/>
                  </a:lnTo>
                  <a:lnTo>
                    <a:pt x="81541" y="5237"/>
                  </a:lnTo>
                  <a:lnTo>
                    <a:pt x="80130" y="6031"/>
                  </a:lnTo>
                  <a:lnTo>
                    <a:pt x="75827" y="7306"/>
                  </a:lnTo>
                  <a:lnTo>
                    <a:pt x="68894" y="13642"/>
                  </a:lnTo>
                  <a:lnTo>
                    <a:pt x="56883" y="25524"/>
                  </a:lnTo>
                  <a:lnTo>
                    <a:pt x="51861" y="32793"/>
                  </a:lnTo>
                  <a:lnTo>
                    <a:pt x="46808" y="41668"/>
                  </a:lnTo>
                  <a:lnTo>
                    <a:pt x="41739" y="51257"/>
                  </a:lnTo>
                  <a:lnTo>
                    <a:pt x="34125" y="66175"/>
                  </a:lnTo>
                  <a:lnTo>
                    <a:pt x="31305" y="76260"/>
                  </a:lnTo>
                  <a:lnTo>
                    <a:pt x="30552" y="81320"/>
                  </a:lnTo>
                  <a:lnTo>
                    <a:pt x="28357" y="87233"/>
                  </a:lnTo>
                  <a:lnTo>
                    <a:pt x="25201" y="93716"/>
                  </a:lnTo>
                  <a:lnTo>
                    <a:pt x="21404" y="100577"/>
                  </a:lnTo>
                  <a:lnTo>
                    <a:pt x="18872" y="106845"/>
                  </a:lnTo>
                  <a:lnTo>
                    <a:pt x="17184" y="112716"/>
                  </a:lnTo>
                  <a:lnTo>
                    <a:pt x="16059" y="118324"/>
                  </a:lnTo>
                  <a:lnTo>
                    <a:pt x="14462" y="124603"/>
                  </a:lnTo>
                  <a:lnTo>
                    <a:pt x="12550" y="131329"/>
                  </a:lnTo>
                  <a:lnTo>
                    <a:pt x="8169" y="145575"/>
                  </a:lnTo>
                  <a:lnTo>
                    <a:pt x="3400" y="160373"/>
                  </a:lnTo>
                  <a:lnTo>
                    <a:pt x="1790" y="167876"/>
                  </a:lnTo>
                  <a:lnTo>
                    <a:pt x="715" y="175417"/>
                  </a:lnTo>
                  <a:lnTo>
                    <a:pt x="0" y="182985"/>
                  </a:lnTo>
                  <a:lnTo>
                    <a:pt x="369" y="190570"/>
                  </a:lnTo>
                  <a:lnTo>
                    <a:pt x="1462" y="198166"/>
                  </a:lnTo>
                  <a:lnTo>
                    <a:pt x="3037" y="205771"/>
                  </a:lnTo>
                  <a:lnTo>
                    <a:pt x="4934" y="212534"/>
                  </a:lnTo>
                  <a:lnTo>
                    <a:pt x="7046" y="218736"/>
                  </a:lnTo>
                  <a:lnTo>
                    <a:pt x="9299" y="224564"/>
                  </a:lnTo>
                  <a:lnTo>
                    <a:pt x="14063" y="237813"/>
                  </a:lnTo>
                  <a:lnTo>
                    <a:pt x="16518" y="244902"/>
                  </a:lnTo>
                  <a:lnTo>
                    <a:pt x="19001" y="251321"/>
                  </a:lnTo>
                  <a:lnTo>
                    <a:pt x="21503" y="257294"/>
                  </a:lnTo>
                  <a:lnTo>
                    <a:pt x="24018" y="262969"/>
                  </a:lnTo>
                  <a:lnTo>
                    <a:pt x="31328" y="273791"/>
                  </a:lnTo>
                  <a:lnTo>
                    <a:pt x="35648" y="279047"/>
                  </a:lnTo>
                  <a:lnTo>
                    <a:pt x="41068" y="284245"/>
                  </a:lnTo>
                  <a:lnTo>
                    <a:pt x="47221" y="289403"/>
                  </a:lnTo>
                  <a:lnTo>
                    <a:pt x="53864" y="294536"/>
                  </a:lnTo>
                  <a:lnTo>
                    <a:pt x="59985" y="299650"/>
                  </a:lnTo>
                  <a:lnTo>
                    <a:pt x="65759" y="304753"/>
                  </a:lnTo>
                  <a:lnTo>
                    <a:pt x="71302" y="309849"/>
                  </a:lnTo>
                  <a:lnTo>
                    <a:pt x="78384" y="314093"/>
                  </a:lnTo>
                  <a:lnTo>
                    <a:pt x="86492" y="317768"/>
                  </a:lnTo>
                  <a:lnTo>
                    <a:pt x="103686" y="324110"/>
                  </a:lnTo>
                  <a:lnTo>
                    <a:pt x="119794" y="329751"/>
                  </a:lnTo>
                  <a:lnTo>
                    <a:pt x="128492" y="332441"/>
                  </a:lnTo>
                  <a:lnTo>
                    <a:pt x="156068" y="340271"/>
                  </a:lnTo>
                  <a:lnTo>
                    <a:pt x="172708" y="345401"/>
                  </a:lnTo>
                  <a:lnTo>
                    <a:pt x="180701" y="347107"/>
                  </a:lnTo>
                  <a:lnTo>
                    <a:pt x="188570" y="348245"/>
                  </a:lnTo>
                  <a:lnTo>
                    <a:pt x="196357" y="349003"/>
                  </a:lnTo>
                  <a:lnTo>
                    <a:pt x="203241" y="349509"/>
                  </a:lnTo>
                  <a:lnTo>
                    <a:pt x="209522" y="349846"/>
                  </a:lnTo>
                  <a:lnTo>
                    <a:pt x="224197" y="350320"/>
                  </a:lnTo>
                  <a:lnTo>
                    <a:pt x="234788" y="3505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SMARTInkAnnotation27"/>
            <p:cNvSpPr/>
            <p:nvPr/>
          </p:nvSpPr>
          <p:spPr>
            <a:xfrm>
              <a:off x="1744560" y="3681720"/>
              <a:ext cx="274320" cy="36504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274321" h="365142">
                  <a:moveTo>
                    <a:pt x="0" y="98441"/>
                  </a:moveTo>
                  <a:lnTo>
                    <a:pt x="0" y="102486"/>
                  </a:lnTo>
                  <a:lnTo>
                    <a:pt x="847" y="103678"/>
                  </a:lnTo>
                  <a:lnTo>
                    <a:pt x="2258" y="104472"/>
                  </a:lnTo>
                  <a:lnTo>
                    <a:pt x="4046" y="105002"/>
                  </a:lnTo>
                  <a:lnTo>
                    <a:pt x="5237" y="107048"/>
                  </a:lnTo>
                  <a:lnTo>
                    <a:pt x="7760" y="117172"/>
                  </a:lnTo>
                  <a:lnTo>
                    <a:pt x="11352" y="123135"/>
                  </a:lnTo>
                  <a:lnTo>
                    <a:pt x="13512" y="133123"/>
                  </a:lnTo>
                  <a:lnTo>
                    <a:pt x="14088" y="139342"/>
                  </a:lnTo>
                  <a:lnTo>
                    <a:pt x="14472" y="145182"/>
                  </a:lnTo>
                  <a:lnTo>
                    <a:pt x="14899" y="156186"/>
                  </a:lnTo>
                  <a:lnTo>
                    <a:pt x="15173" y="183131"/>
                  </a:lnTo>
                  <a:lnTo>
                    <a:pt x="15240" y="315588"/>
                  </a:lnTo>
                  <a:lnTo>
                    <a:pt x="15240" y="308422"/>
                  </a:lnTo>
                  <a:lnTo>
                    <a:pt x="11195" y="297348"/>
                  </a:lnTo>
                  <a:lnTo>
                    <a:pt x="9157" y="291159"/>
                  </a:lnTo>
                  <a:lnTo>
                    <a:pt x="6951" y="283646"/>
                  </a:lnTo>
                  <a:lnTo>
                    <a:pt x="4635" y="275251"/>
                  </a:lnTo>
                  <a:lnTo>
                    <a:pt x="3089" y="266268"/>
                  </a:lnTo>
                  <a:lnTo>
                    <a:pt x="2060" y="256892"/>
                  </a:lnTo>
                  <a:lnTo>
                    <a:pt x="1373" y="247255"/>
                  </a:lnTo>
                  <a:lnTo>
                    <a:pt x="916" y="237444"/>
                  </a:lnTo>
                  <a:lnTo>
                    <a:pt x="407" y="217511"/>
                  </a:lnTo>
                  <a:lnTo>
                    <a:pt x="1118" y="206608"/>
                  </a:lnTo>
                  <a:lnTo>
                    <a:pt x="2439" y="195106"/>
                  </a:lnTo>
                  <a:lnTo>
                    <a:pt x="4166" y="183205"/>
                  </a:lnTo>
                  <a:lnTo>
                    <a:pt x="8343" y="158691"/>
                  </a:lnTo>
                  <a:lnTo>
                    <a:pt x="10642" y="146228"/>
                  </a:lnTo>
                  <a:lnTo>
                    <a:pt x="13868" y="134532"/>
                  </a:lnTo>
                  <a:lnTo>
                    <a:pt x="17712" y="123349"/>
                  </a:lnTo>
                  <a:lnTo>
                    <a:pt x="21968" y="112506"/>
                  </a:lnTo>
                  <a:lnTo>
                    <a:pt x="26499" y="102738"/>
                  </a:lnTo>
                  <a:lnTo>
                    <a:pt x="31213" y="93686"/>
                  </a:lnTo>
                  <a:lnTo>
                    <a:pt x="36048" y="85111"/>
                  </a:lnTo>
                  <a:lnTo>
                    <a:pt x="40965" y="76854"/>
                  </a:lnTo>
                  <a:lnTo>
                    <a:pt x="50945" y="60907"/>
                  </a:lnTo>
                  <a:lnTo>
                    <a:pt x="56823" y="53098"/>
                  </a:lnTo>
                  <a:lnTo>
                    <a:pt x="63282" y="45352"/>
                  </a:lnTo>
                  <a:lnTo>
                    <a:pt x="70128" y="37649"/>
                  </a:lnTo>
                  <a:lnTo>
                    <a:pt x="82250" y="24573"/>
                  </a:lnTo>
                  <a:lnTo>
                    <a:pt x="87854" y="18716"/>
                  </a:lnTo>
                  <a:lnTo>
                    <a:pt x="94129" y="13964"/>
                  </a:lnTo>
                  <a:lnTo>
                    <a:pt x="100853" y="9950"/>
                  </a:lnTo>
                  <a:lnTo>
                    <a:pt x="107875" y="6427"/>
                  </a:lnTo>
                  <a:lnTo>
                    <a:pt x="114250" y="4079"/>
                  </a:lnTo>
                  <a:lnTo>
                    <a:pt x="120194" y="2513"/>
                  </a:lnTo>
                  <a:lnTo>
                    <a:pt x="125849" y="1469"/>
                  </a:lnTo>
                  <a:lnTo>
                    <a:pt x="131313" y="773"/>
                  </a:lnTo>
                  <a:lnTo>
                    <a:pt x="136649" y="309"/>
                  </a:lnTo>
                  <a:lnTo>
                    <a:pt x="141899" y="0"/>
                  </a:lnTo>
                  <a:lnTo>
                    <a:pt x="147093" y="640"/>
                  </a:lnTo>
                  <a:lnTo>
                    <a:pt x="152248" y="1914"/>
                  </a:lnTo>
                  <a:lnTo>
                    <a:pt x="157379" y="3610"/>
                  </a:lnTo>
                  <a:lnTo>
                    <a:pt x="162493" y="6434"/>
                  </a:lnTo>
                  <a:lnTo>
                    <a:pt x="167595" y="10009"/>
                  </a:lnTo>
                  <a:lnTo>
                    <a:pt x="172690" y="14087"/>
                  </a:lnTo>
                  <a:lnTo>
                    <a:pt x="177780" y="18498"/>
                  </a:lnTo>
                  <a:lnTo>
                    <a:pt x="182867" y="23132"/>
                  </a:lnTo>
                  <a:lnTo>
                    <a:pt x="187951" y="27916"/>
                  </a:lnTo>
                  <a:lnTo>
                    <a:pt x="192188" y="33644"/>
                  </a:lnTo>
                  <a:lnTo>
                    <a:pt x="195858" y="40003"/>
                  </a:lnTo>
                  <a:lnTo>
                    <a:pt x="199152" y="46783"/>
                  </a:lnTo>
                  <a:lnTo>
                    <a:pt x="202195" y="54689"/>
                  </a:lnTo>
                  <a:lnTo>
                    <a:pt x="205070" y="63346"/>
                  </a:lnTo>
                  <a:lnTo>
                    <a:pt x="207833" y="72505"/>
                  </a:lnTo>
                  <a:lnTo>
                    <a:pt x="213162" y="91712"/>
                  </a:lnTo>
                  <a:lnTo>
                    <a:pt x="215768" y="101575"/>
                  </a:lnTo>
                  <a:lnTo>
                    <a:pt x="220921" y="123823"/>
                  </a:lnTo>
                  <a:lnTo>
                    <a:pt x="226034" y="146975"/>
                  </a:lnTo>
                  <a:lnTo>
                    <a:pt x="233672" y="179897"/>
                  </a:lnTo>
                  <a:lnTo>
                    <a:pt x="246379" y="241039"/>
                  </a:lnTo>
                  <a:lnTo>
                    <a:pt x="248073" y="252773"/>
                  </a:lnTo>
                  <a:lnTo>
                    <a:pt x="249202" y="263982"/>
                  </a:lnTo>
                  <a:lnTo>
                    <a:pt x="249954" y="274842"/>
                  </a:lnTo>
                  <a:lnTo>
                    <a:pt x="251303" y="284622"/>
                  </a:lnTo>
                  <a:lnTo>
                    <a:pt x="253049" y="293681"/>
                  </a:lnTo>
                  <a:lnTo>
                    <a:pt x="255059" y="302261"/>
                  </a:lnTo>
                  <a:lnTo>
                    <a:pt x="257246" y="310521"/>
                  </a:lnTo>
                  <a:lnTo>
                    <a:pt x="261934" y="326473"/>
                  </a:lnTo>
                  <a:lnTo>
                    <a:pt x="263523" y="333435"/>
                  </a:lnTo>
                  <a:lnTo>
                    <a:pt x="264582" y="339771"/>
                  </a:lnTo>
                  <a:lnTo>
                    <a:pt x="265288" y="345688"/>
                  </a:lnTo>
                  <a:lnTo>
                    <a:pt x="268330" y="354520"/>
                  </a:lnTo>
                  <a:lnTo>
                    <a:pt x="274320" y="36514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SMARTInkAnnotation28"/>
            <p:cNvSpPr/>
            <p:nvPr/>
          </p:nvSpPr>
          <p:spPr>
            <a:xfrm>
              <a:off x="1721520" y="3856320"/>
              <a:ext cx="220680" cy="75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20981" h="7618">
                  <a:moveTo>
                    <a:pt x="0" y="0"/>
                  </a:moveTo>
                  <a:lnTo>
                    <a:pt x="8091" y="4045"/>
                  </a:lnTo>
                  <a:lnTo>
                    <a:pt x="11321" y="5237"/>
                  </a:lnTo>
                  <a:lnTo>
                    <a:pt x="14320" y="6031"/>
                  </a:lnTo>
                  <a:lnTo>
                    <a:pt x="17167" y="6561"/>
                  </a:lnTo>
                  <a:lnTo>
                    <a:pt x="20758" y="6914"/>
                  </a:lnTo>
                  <a:lnTo>
                    <a:pt x="24845" y="7149"/>
                  </a:lnTo>
                  <a:lnTo>
                    <a:pt x="29264" y="7306"/>
                  </a:lnTo>
                  <a:lnTo>
                    <a:pt x="61535" y="7558"/>
                  </a:lnTo>
                  <a:lnTo>
                    <a:pt x="151140" y="7617"/>
                  </a:lnTo>
                  <a:lnTo>
                    <a:pt x="161720" y="6772"/>
                  </a:lnTo>
                  <a:lnTo>
                    <a:pt x="171313" y="5361"/>
                  </a:lnTo>
                  <a:lnTo>
                    <a:pt x="180249" y="3574"/>
                  </a:lnTo>
                  <a:lnTo>
                    <a:pt x="188746" y="2383"/>
                  </a:lnTo>
                  <a:lnTo>
                    <a:pt x="196951" y="1588"/>
                  </a:lnTo>
                  <a:lnTo>
                    <a:pt x="2209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SMARTInkAnnotation29"/>
            <p:cNvSpPr/>
            <p:nvPr/>
          </p:nvSpPr>
          <p:spPr>
            <a:xfrm>
              <a:off x="2117880" y="3856320"/>
              <a:ext cx="129240" cy="36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29541" h="1">
                  <a:moveTo>
                    <a:pt x="0" y="0"/>
                  </a:moveTo>
                  <a:lnTo>
                    <a:pt x="1295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SMARTInkAnnotation30"/>
            <p:cNvSpPr/>
            <p:nvPr/>
          </p:nvSpPr>
          <p:spPr>
            <a:xfrm>
              <a:off x="2094840" y="3924720"/>
              <a:ext cx="205560" cy="3672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05741" h="36949">
                  <a:moveTo>
                    <a:pt x="0" y="22860"/>
                  </a:moveTo>
                  <a:lnTo>
                    <a:pt x="0" y="26905"/>
                  </a:lnTo>
                  <a:lnTo>
                    <a:pt x="847" y="28097"/>
                  </a:lnTo>
                  <a:lnTo>
                    <a:pt x="2258" y="28891"/>
                  </a:lnTo>
                  <a:lnTo>
                    <a:pt x="4045" y="29421"/>
                  </a:lnTo>
                  <a:lnTo>
                    <a:pt x="6930" y="30621"/>
                  </a:lnTo>
                  <a:lnTo>
                    <a:pt x="10547" y="32267"/>
                  </a:lnTo>
                  <a:lnTo>
                    <a:pt x="14651" y="34211"/>
                  </a:lnTo>
                  <a:lnTo>
                    <a:pt x="19927" y="35508"/>
                  </a:lnTo>
                  <a:lnTo>
                    <a:pt x="25985" y="36372"/>
                  </a:lnTo>
                  <a:lnTo>
                    <a:pt x="32564" y="36948"/>
                  </a:lnTo>
                  <a:lnTo>
                    <a:pt x="40336" y="36485"/>
                  </a:lnTo>
                  <a:lnTo>
                    <a:pt x="48904" y="35330"/>
                  </a:lnTo>
                  <a:lnTo>
                    <a:pt x="58002" y="33713"/>
                  </a:lnTo>
                  <a:lnTo>
                    <a:pt x="67455" y="31789"/>
                  </a:lnTo>
                  <a:lnTo>
                    <a:pt x="121072" y="20158"/>
                  </a:lnTo>
                  <a:lnTo>
                    <a:pt x="132361" y="18519"/>
                  </a:lnTo>
                  <a:lnTo>
                    <a:pt x="143274" y="17426"/>
                  </a:lnTo>
                  <a:lnTo>
                    <a:pt x="153936" y="16697"/>
                  </a:lnTo>
                  <a:lnTo>
                    <a:pt x="163584" y="15365"/>
                  </a:lnTo>
                  <a:lnTo>
                    <a:pt x="172556" y="13630"/>
                  </a:lnTo>
                  <a:lnTo>
                    <a:pt x="181078" y="11627"/>
                  </a:lnTo>
                  <a:lnTo>
                    <a:pt x="187605" y="9445"/>
                  </a:lnTo>
                  <a:lnTo>
                    <a:pt x="192804" y="7143"/>
                  </a:lnTo>
                  <a:lnTo>
                    <a:pt x="2057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SMARTInkAnnotation31"/>
            <p:cNvSpPr/>
            <p:nvPr/>
          </p:nvSpPr>
          <p:spPr>
            <a:xfrm>
              <a:off x="2536920" y="3741840"/>
              <a:ext cx="30240" cy="2664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30481" h="266701">
                  <a:moveTo>
                    <a:pt x="0" y="0"/>
                  </a:moveTo>
                  <a:lnTo>
                    <a:pt x="0" y="68921"/>
                  </a:lnTo>
                  <a:lnTo>
                    <a:pt x="847" y="77274"/>
                  </a:lnTo>
                  <a:lnTo>
                    <a:pt x="2258" y="86230"/>
                  </a:lnTo>
                  <a:lnTo>
                    <a:pt x="4045" y="95586"/>
                  </a:lnTo>
                  <a:lnTo>
                    <a:pt x="5237" y="104364"/>
                  </a:lnTo>
                  <a:lnTo>
                    <a:pt x="6031" y="112756"/>
                  </a:lnTo>
                  <a:lnTo>
                    <a:pt x="6561" y="120891"/>
                  </a:lnTo>
                  <a:lnTo>
                    <a:pt x="6914" y="129701"/>
                  </a:lnTo>
                  <a:lnTo>
                    <a:pt x="7306" y="148520"/>
                  </a:lnTo>
                  <a:lnTo>
                    <a:pt x="8257" y="158280"/>
                  </a:lnTo>
                  <a:lnTo>
                    <a:pt x="9738" y="168174"/>
                  </a:lnTo>
                  <a:lnTo>
                    <a:pt x="11573" y="178156"/>
                  </a:lnTo>
                  <a:lnTo>
                    <a:pt x="12795" y="187351"/>
                  </a:lnTo>
                  <a:lnTo>
                    <a:pt x="13610" y="196021"/>
                  </a:lnTo>
                  <a:lnTo>
                    <a:pt x="14153" y="204340"/>
                  </a:lnTo>
                  <a:lnTo>
                    <a:pt x="15362" y="212427"/>
                  </a:lnTo>
                  <a:lnTo>
                    <a:pt x="17015" y="220358"/>
                  </a:lnTo>
                  <a:lnTo>
                    <a:pt x="18963" y="228185"/>
                  </a:lnTo>
                  <a:lnTo>
                    <a:pt x="21109" y="235097"/>
                  </a:lnTo>
                  <a:lnTo>
                    <a:pt x="23386" y="241398"/>
                  </a:lnTo>
                  <a:lnTo>
                    <a:pt x="25751" y="247292"/>
                  </a:lnTo>
                  <a:lnTo>
                    <a:pt x="27327" y="252068"/>
                  </a:lnTo>
                  <a:lnTo>
                    <a:pt x="28379" y="256098"/>
                  </a:lnTo>
                  <a:lnTo>
                    <a:pt x="30480" y="2667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SMARTInkAnnotation32"/>
            <p:cNvSpPr/>
            <p:nvPr/>
          </p:nvSpPr>
          <p:spPr>
            <a:xfrm>
              <a:off x="2643480" y="3741840"/>
              <a:ext cx="235080" cy="25524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235318" h="255543">
                  <a:moveTo>
                    <a:pt x="0" y="38091"/>
                  </a:moveTo>
                  <a:lnTo>
                    <a:pt x="0" y="26740"/>
                  </a:lnTo>
                  <a:lnTo>
                    <a:pt x="847" y="25443"/>
                  </a:lnTo>
                  <a:lnTo>
                    <a:pt x="2258" y="24579"/>
                  </a:lnTo>
                  <a:lnTo>
                    <a:pt x="4045" y="24003"/>
                  </a:lnTo>
                  <a:lnTo>
                    <a:pt x="8289" y="21105"/>
                  </a:lnTo>
                  <a:lnTo>
                    <a:pt x="10606" y="19147"/>
                  </a:lnTo>
                  <a:lnTo>
                    <a:pt x="12998" y="17842"/>
                  </a:lnTo>
                  <a:lnTo>
                    <a:pt x="17912" y="16392"/>
                  </a:lnTo>
                  <a:lnTo>
                    <a:pt x="22919" y="13489"/>
                  </a:lnTo>
                  <a:lnTo>
                    <a:pt x="25439" y="11530"/>
                  </a:lnTo>
                  <a:lnTo>
                    <a:pt x="30498" y="9353"/>
                  </a:lnTo>
                  <a:lnTo>
                    <a:pt x="35568" y="8386"/>
                  </a:lnTo>
                  <a:lnTo>
                    <a:pt x="40644" y="7955"/>
                  </a:lnTo>
                  <a:lnTo>
                    <a:pt x="45722" y="7764"/>
                  </a:lnTo>
                  <a:lnTo>
                    <a:pt x="52894" y="7620"/>
                  </a:lnTo>
                  <a:lnTo>
                    <a:pt x="60958" y="7611"/>
                  </a:lnTo>
                  <a:lnTo>
                    <a:pt x="65005" y="3566"/>
                  </a:lnTo>
                  <a:lnTo>
                    <a:pt x="67890" y="2375"/>
                  </a:lnTo>
                  <a:lnTo>
                    <a:pt x="71507" y="1580"/>
                  </a:lnTo>
                  <a:lnTo>
                    <a:pt x="75611" y="1050"/>
                  </a:lnTo>
                  <a:lnTo>
                    <a:pt x="80041" y="697"/>
                  </a:lnTo>
                  <a:lnTo>
                    <a:pt x="84687" y="462"/>
                  </a:lnTo>
                  <a:lnTo>
                    <a:pt x="89478" y="305"/>
                  </a:lnTo>
                  <a:lnTo>
                    <a:pt x="115418" y="53"/>
                  </a:lnTo>
                  <a:lnTo>
                    <a:pt x="152547" y="0"/>
                  </a:lnTo>
                  <a:lnTo>
                    <a:pt x="160118" y="843"/>
                  </a:lnTo>
                  <a:lnTo>
                    <a:pt x="167706" y="2253"/>
                  </a:lnTo>
                  <a:lnTo>
                    <a:pt x="175304" y="4039"/>
                  </a:lnTo>
                  <a:lnTo>
                    <a:pt x="182063" y="5230"/>
                  </a:lnTo>
                  <a:lnTo>
                    <a:pt x="188262" y="6023"/>
                  </a:lnTo>
                  <a:lnTo>
                    <a:pt x="194088" y="6553"/>
                  </a:lnTo>
                  <a:lnTo>
                    <a:pt x="199665" y="8599"/>
                  </a:lnTo>
                  <a:lnTo>
                    <a:pt x="205077" y="11657"/>
                  </a:lnTo>
                  <a:lnTo>
                    <a:pt x="210378" y="15388"/>
                  </a:lnTo>
                  <a:lnTo>
                    <a:pt x="215605" y="18722"/>
                  </a:lnTo>
                  <a:lnTo>
                    <a:pt x="220784" y="21792"/>
                  </a:lnTo>
                  <a:lnTo>
                    <a:pt x="225929" y="24685"/>
                  </a:lnTo>
                  <a:lnTo>
                    <a:pt x="229360" y="27460"/>
                  </a:lnTo>
                  <a:lnTo>
                    <a:pt x="231647" y="30157"/>
                  </a:lnTo>
                  <a:lnTo>
                    <a:pt x="233171" y="32802"/>
                  </a:lnTo>
                  <a:lnTo>
                    <a:pt x="234865" y="40256"/>
                  </a:lnTo>
                  <a:lnTo>
                    <a:pt x="235317" y="44614"/>
                  </a:lnTo>
                  <a:lnTo>
                    <a:pt x="233925" y="48367"/>
                  </a:lnTo>
                  <a:lnTo>
                    <a:pt x="231303" y="51715"/>
                  </a:lnTo>
                  <a:lnTo>
                    <a:pt x="227862" y="54794"/>
                  </a:lnTo>
                  <a:lnTo>
                    <a:pt x="223875" y="57693"/>
                  </a:lnTo>
                  <a:lnTo>
                    <a:pt x="219524" y="60472"/>
                  </a:lnTo>
                  <a:lnTo>
                    <a:pt x="214929" y="63172"/>
                  </a:lnTo>
                  <a:lnTo>
                    <a:pt x="208479" y="66665"/>
                  </a:lnTo>
                  <a:lnTo>
                    <a:pt x="192282" y="75062"/>
                  </a:lnTo>
                  <a:lnTo>
                    <a:pt x="183221" y="78825"/>
                  </a:lnTo>
                  <a:lnTo>
                    <a:pt x="173794" y="82180"/>
                  </a:lnTo>
                  <a:lnTo>
                    <a:pt x="164123" y="85264"/>
                  </a:lnTo>
                  <a:lnTo>
                    <a:pt x="154289" y="88166"/>
                  </a:lnTo>
                  <a:lnTo>
                    <a:pt x="134331" y="93649"/>
                  </a:lnTo>
                  <a:lnTo>
                    <a:pt x="104055" y="101496"/>
                  </a:lnTo>
                  <a:lnTo>
                    <a:pt x="95616" y="104068"/>
                  </a:lnTo>
                  <a:lnTo>
                    <a:pt x="88298" y="106629"/>
                  </a:lnTo>
                  <a:lnTo>
                    <a:pt x="81725" y="109183"/>
                  </a:lnTo>
                  <a:lnTo>
                    <a:pt x="75650" y="111732"/>
                  </a:lnTo>
                  <a:lnTo>
                    <a:pt x="69907" y="114278"/>
                  </a:lnTo>
                  <a:lnTo>
                    <a:pt x="56613" y="120403"/>
                  </a:lnTo>
                  <a:lnTo>
                    <a:pt x="55522" y="121753"/>
                  </a:lnTo>
                  <a:lnTo>
                    <a:pt x="54795" y="123499"/>
                  </a:lnTo>
                  <a:lnTo>
                    <a:pt x="54310" y="125509"/>
                  </a:lnTo>
                  <a:lnTo>
                    <a:pt x="55680" y="126850"/>
                  </a:lnTo>
                  <a:lnTo>
                    <a:pt x="58287" y="127744"/>
                  </a:lnTo>
                  <a:lnTo>
                    <a:pt x="61718" y="128339"/>
                  </a:lnTo>
                  <a:lnTo>
                    <a:pt x="66546" y="129583"/>
                  </a:lnTo>
                  <a:lnTo>
                    <a:pt x="72304" y="131259"/>
                  </a:lnTo>
                  <a:lnTo>
                    <a:pt x="78683" y="133223"/>
                  </a:lnTo>
                  <a:lnTo>
                    <a:pt x="86322" y="136226"/>
                  </a:lnTo>
                  <a:lnTo>
                    <a:pt x="94801" y="139921"/>
                  </a:lnTo>
                  <a:lnTo>
                    <a:pt x="103841" y="144078"/>
                  </a:lnTo>
                  <a:lnTo>
                    <a:pt x="113254" y="147696"/>
                  </a:lnTo>
                  <a:lnTo>
                    <a:pt x="122916" y="150954"/>
                  </a:lnTo>
                  <a:lnTo>
                    <a:pt x="132744" y="153973"/>
                  </a:lnTo>
                  <a:lnTo>
                    <a:pt x="143530" y="156833"/>
                  </a:lnTo>
                  <a:lnTo>
                    <a:pt x="166802" y="162267"/>
                  </a:lnTo>
                  <a:lnTo>
                    <a:pt x="177242" y="165748"/>
                  </a:lnTo>
                  <a:lnTo>
                    <a:pt x="186741" y="169762"/>
                  </a:lnTo>
                  <a:lnTo>
                    <a:pt x="216193" y="184327"/>
                  </a:lnTo>
                  <a:lnTo>
                    <a:pt x="221175" y="188075"/>
                  </a:lnTo>
                  <a:lnTo>
                    <a:pt x="225343" y="192267"/>
                  </a:lnTo>
                  <a:lnTo>
                    <a:pt x="228969" y="196755"/>
                  </a:lnTo>
                  <a:lnTo>
                    <a:pt x="231386" y="201441"/>
                  </a:lnTo>
                  <a:lnTo>
                    <a:pt x="232997" y="206258"/>
                  </a:lnTo>
                  <a:lnTo>
                    <a:pt x="234072" y="211162"/>
                  </a:lnTo>
                  <a:lnTo>
                    <a:pt x="233094" y="215278"/>
                  </a:lnTo>
                  <a:lnTo>
                    <a:pt x="230750" y="218870"/>
                  </a:lnTo>
                  <a:lnTo>
                    <a:pt x="223629" y="225117"/>
                  </a:lnTo>
                  <a:lnTo>
                    <a:pt x="219359" y="227968"/>
                  </a:lnTo>
                  <a:lnTo>
                    <a:pt x="214820" y="230716"/>
                  </a:lnTo>
                  <a:lnTo>
                    <a:pt x="209253" y="233395"/>
                  </a:lnTo>
                  <a:lnTo>
                    <a:pt x="203002" y="236027"/>
                  </a:lnTo>
                  <a:lnTo>
                    <a:pt x="196295" y="238628"/>
                  </a:lnTo>
                  <a:lnTo>
                    <a:pt x="188437" y="241209"/>
                  </a:lnTo>
                  <a:lnTo>
                    <a:pt x="179811" y="243777"/>
                  </a:lnTo>
                  <a:lnTo>
                    <a:pt x="170674" y="246335"/>
                  </a:lnTo>
                  <a:lnTo>
                    <a:pt x="162043" y="248040"/>
                  </a:lnTo>
                  <a:lnTo>
                    <a:pt x="153749" y="249177"/>
                  </a:lnTo>
                  <a:lnTo>
                    <a:pt x="145679" y="249936"/>
                  </a:lnTo>
                  <a:lnTo>
                    <a:pt x="136913" y="251287"/>
                  </a:lnTo>
                  <a:lnTo>
                    <a:pt x="127682" y="253035"/>
                  </a:lnTo>
                  <a:lnTo>
                    <a:pt x="118142" y="255047"/>
                  </a:lnTo>
                  <a:lnTo>
                    <a:pt x="109241" y="255542"/>
                  </a:lnTo>
                  <a:lnTo>
                    <a:pt x="100767" y="255025"/>
                  </a:lnTo>
                  <a:lnTo>
                    <a:pt x="92578" y="253834"/>
                  </a:lnTo>
                  <a:lnTo>
                    <a:pt x="85426" y="253040"/>
                  </a:lnTo>
                  <a:lnTo>
                    <a:pt x="78964" y="252510"/>
                  </a:lnTo>
                  <a:lnTo>
                    <a:pt x="72963" y="252157"/>
                  </a:lnTo>
                  <a:lnTo>
                    <a:pt x="68115" y="251075"/>
                  </a:lnTo>
                  <a:lnTo>
                    <a:pt x="64037" y="249507"/>
                  </a:lnTo>
                  <a:lnTo>
                    <a:pt x="60471" y="247615"/>
                  </a:lnTo>
                  <a:lnTo>
                    <a:pt x="56401" y="244660"/>
                  </a:lnTo>
                  <a:lnTo>
                    <a:pt x="51994" y="240997"/>
                  </a:lnTo>
                  <a:lnTo>
                    <a:pt x="47363" y="236862"/>
                  </a:lnTo>
                  <a:lnTo>
                    <a:pt x="42217" y="230009"/>
                  </a:lnTo>
                  <a:lnTo>
                    <a:pt x="38100" y="22097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SMARTInkAnnotation33"/>
            <p:cNvSpPr/>
            <p:nvPr/>
          </p:nvSpPr>
          <p:spPr>
            <a:xfrm>
              <a:off x="2955240" y="3772440"/>
              <a:ext cx="219240" cy="26460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264600"/>
                <a:gd name="textAreaBottom" fmla="*/ 264960 h 264600"/>
              </a:gdLst>
              <a:ahLst/>
              <a:rect l="textAreaLeft" t="textAreaTop" r="textAreaRight" b="textAreaBottom"/>
              <a:pathLst>
                <a:path w="219522" h="264606">
                  <a:moveTo>
                    <a:pt x="115066" y="15240"/>
                  </a:moveTo>
                  <a:lnTo>
                    <a:pt x="111021" y="19285"/>
                  </a:lnTo>
                  <a:lnTo>
                    <a:pt x="108982" y="20477"/>
                  </a:lnTo>
                  <a:lnTo>
                    <a:pt x="104460" y="21801"/>
                  </a:lnTo>
                  <a:lnTo>
                    <a:pt x="101222" y="23847"/>
                  </a:lnTo>
                  <a:lnTo>
                    <a:pt x="97370" y="26905"/>
                  </a:lnTo>
                  <a:lnTo>
                    <a:pt x="93109" y="30637"/>
                  </a:lnTo>
                  <a:lnTo>
                    <a:pt x="88574" y="34818"/>
                  </a:lnTo>
                  <a:lnTo>
                    <a:pt x="79021" y="43979"/>
                  </a:lnTo>
                  <a:lnTo>
                    <a:pt x="72409" y="49639"/>
                  </a:lnTo>
                  <a:lnTo>
                    <a:pt x="64615" y="55953"/>
                  </a:lnTo>
                  <a:lnTo>
                    <a:pt x="56032" y="62702"/>
                  </a:lnTo>
                  <a:lnTo>
                    <a:pt x="48616" y="69741"/>
                  </a:lnTo>
                  <a:lnTo>
                    <a:pt x="41980" y="76974"/>
                  </a:lnTo>
                  <a:lnTo>
                    <a:pt x="35862" y="84336"/>
                  </a:lnTo>
                  <a:lnTo>
                    <a:pt x="30090" y="93478"/>
                  </a:lnTo>
                  <a:lnTo>
                    <a:pt x="24549" y="103805"/>
                  </a:lnTo>
                  <a:lnTo>
                    <a:pt x="3488" y="146753"/>
                  </a:lnTo>
                  <a:lnTo>
                    <a:pt x="887" y="157102"/>
                  </a:lnTo>
                  <a:lnTo>
                    <a:pt x="0" y="167388"/>
                  </a:lnTo>
                  <a:lnTo>
                    <a:pt x="256" y="177632"/>
                  </a:lnTo>
                  <a:lnTo>
                    <a:pt x="1272" y="187001"/>
                  </a:lnTo>
                  <a:lnTo>
                    <a:pt x="2797" y="195788"/>
                  </a:lnTo>
                  <a:lnTo>
                    <a:pt x="4660" y="204185"/>
                  </a:lnTo>
                  <a:lnTo>
                    <a:pt x="8442" y="212323"/>
                  </a:lnTo>
                  <a:lnTo>
                    <a:pt x="13503" y="220289"/>
                  </a:lnTo>
                  <a:lnTo>
                    <a:pt x="19418" y="228139"/>
                  </a:lnTo>
                  <a:lnTo>
                    <a:pt x="26747" y="235066"/>
                  </a:lnTo>
                  <a:lnTo>
                    <a:pt x="35020" y="241378"/>
                  </a:lnTo>
                  <a:lnTo>
                    <a:pt x="43922" y="247278"/>
                  </a:lnTo>
                  <a:lnTo>
                    <a:pt x="54090" y="252059"/>
                  </a:lnTo>
                  <a:lnTo>
                    <a:pt x="65102" y="256093"/>
                  </a:lnTo>
                  <a:lnTo>
                    <a:pt x="76677" y="259628"/>
                  </a:lnTo>
                  <a:lnTo>
                    <a:pt x="88626" y="261986"/>
                  </a:lnTo>
                  <a:lnTo>
                    <a:pt x="100827" y="263558"/>
                  </a:lnTo>
                  <a:lnTo>
                    <a:pt x="113193" y="264605"/>
                  </a:lnTo>
                  <a:lnTo>
                    <a:pt x="124824" y="264456"/>
                  </a:lnTo>
                  <a:lnTo>
                    <a:pt x="135965" y="263511"/>
                  </a:lnTo>
                  <a:lnTo>
                    <a:pt x="146778" y="262034"/>
                  </a:lnTo>
                  <a:lnTo>
                    <a:pt x="157374" y="259356"/>
                  </a:lnTo>
                  <a:lnTo>
                    <a:pt x="167825" y="255877"/>
                  </a:lnTo>
                  <a:lnTo>
                    <a:pt x="178179" y="251865"/>
                  </a:lnTo>
                  <a:lnTo>
                    <a:pt x="186774" y="246650"/>
                  </a:lnTo>
                  <a:lnTo>
                    <a:pt x="194199" y="240633"/>
                  </a:lnTo>
                  <a:lnTo>
                    <a:pt x="200841" y="234082"/>
                  </a:lnTo>
                  <a:lnTo>
                    <a:pt x="206116" y="226328"/>
                  </a:lnTo>
                  <a:lnTo>
                    <a:pt x="210479" y="217772"/>
                  </a:lnTo>
                  <a:lnTo>
                    <a:pt x="214235" y="208681"/>
                  </a:lnTo>
                  <a:lnTo>
                    <a:pt x="216738" y="198388"/>
                  </a:lnTo>
                  <a:lnTo>
                    <a:pt x="218408" y="187291"/>
                  </a:lnTo>
                  <a:lnTo>
                    <a:pt x="219521" y="175661"/>
                  </a:lnTo>
                  <a:lnTo>
                    <a:pt x="219416" y="164521"/>
                  </a:lnTo>
                  <a:lnTo>
                    <a:pt x="218499" y="153707"/>
                  </a:lnTo>
                  <a:lnTo>
                    <a:pt x="217041" y="143111"/>
                  </a:lnTo>
                  <a:lnTo>
                    <a:pt x="213164" y="120050"/>
                  </a:lnTo>
                  <a:lnTo>
                    <a:pt x="210945" y="107973"/>
                  </a:lnTo>
                  <a:lnTo>
                    <a:pt x="206925" y="97382"/>
                  </a:lnTo>
                  <a:lnTo>
                    <a:pt x="201705" y="87781"/>
                  </a:lnTo>
                  <a:lnTo>
                    <a:pt x="179123" y="54123"/>
                  </a:lnTo>
                  <a:lnTo>
                    <a:pt x="173857" y="47088"/>
                  </a:lnTo>
                  <a:lnTo>
                    <a:pt x="168654" y="40706"/>
                  </a:lnTo>
                  <a:lnTo>
                    <a:pt x="163491" y="34758"/>
                  </a:lnTo>
                  <a:lnTo>
                    <a:pt x="158356" y="29945"/>
                  </a:lnTo>
                  <a:lnTo>
                    <a:pt x="153239" y="25890"/>
                  </a:lnTo>
                  <a:lnTo>
                    <a:pt x="148135" y="22340"/>
                  </a:lnTo>
                  <a:lnTo>
                    <a:pt x="143039" y="18280"/>
                  </a:lnTo>
                  <a:lnTo>
                    <a:pt x="137948" y="13880"/>
                  </a:lnTo>
                  <a:lnTo>
                    <a:pt x="132860" y="9253"/>
                  </a:lnTo>
                  <a:lnTo>
                    <a:pt x="128623" y="6169"/>
                  </a:lnTo>
                  <a:lnTo>
                    <a:pt x="124950" y="4113"/>
                  </a:lnTo>
                  <a:lnTo>
                    <a:pt x="11506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SMARTInkAnnotation34"/>
            <p:cNvSpPr/>
            <p:nvPr/>
          </p:nvSpPr>
          <p:spPr>
            <a:xfrm>
              <a:off x="3360240" y="3886920"/>
              <a:ext cx="51840" cy="1512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51983" h="15241">
                  <a:moveTo>
                    <a:pt x="-19948" y="0"/>
                  </a:moveTo>
                  <a:lnTo>
                    <a:pt x="0" y="0"/>
                  </a:lnTo>
                  <a:lnTo>
                    <a:pt x="-21848" y="0"/>
                  </a:lnTo>
                  <a:lnTo>
                    <a:pt x="-20368" y="847"/>
                  </a:lnTo>
                  <a:lnTo>
                    <a:pt x="-18534" y="2258"/>
                  </a:lnTo>
                  <a:lnTo>
                    <a:pt x="-13554" y="6561"/>
                  </a:lnTo>
                  <a:lnTo>
                    <a:pt x="-13992" y="6914"/>
                  </a:lnTo>
                  <a:lnTo>
                    <a:pt x="-15130" y="7149"/>
                  </a:lnTo>
                  <a:lnTo>
                    <a:pt x="-16736" y="7306"/>
                  </a:lnTo>
                  <a:lnTo>
                    <a:pt x="-18653" y="7411"/>
                  </a:lnTo>
                  <a:lnTo>
                    <a:pt x="-23041" y="7527"/>
                  </a:lnTo>
                  <a:lnTo>
                    <a:pt x="27759" y="7612"/>
                  </a:lnTo>
                  <a:lnTo>
                    <a:pt x="26082" y="8461"/>
                  </a:lnTo>
                  <a:lnTo>
                    <a:pt x="24964" y="9874"/>
                  </a:lnTo>
                  <a:lnTo>
                    <a:pt x="22728" y="15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SMARTInkAnnotation35"/>
            <p:cNvSpPr/>
            <p:nvPr/>
          </p:nvSpPr>
          <p:spPr>
            <a:xfrm>
              <a:off x="3580920" y="3734280"/>
              <a:ext cx="15120" cy="2818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15241" h="281941">
                  <a:moveTo>
                    <a:pt x="0" y="0"/>
                  </a:moveTo>
                  <a:lnTo>
                    <a:pt x="0" y="40090"/>
                  </a:lnTo>
                  <a:lnTo>
                    <a:pt x="846" y="46200"/>
                  </a:lnTo>
                  <a:lnTo>
                    <a:pt x="2258" y="51967"/>
                  </a:lnTo>
                  <a:lnTo>
                    <a:pt x="4045" y="57505"/>
                  </a:lnTo>
                  <a:lnTo>
                    <a:pt x="4390" y="64583"/>
                  </a:lnTo>
                  <a:lnTo>
                    <a:pt x="3773" y="72689"/>
                  </a:lnTo>
                  <a:lnTo>
                    <a:pt x="2516" y="81479"/>
                  </a:lnTo>
                  <a:lnTo>
                    <a:pt x="2523" y="90726"/>
                  </a:lnTo>
                  <a:lnTo>
                    <a:pt x="3376" y="100278"/>
                  </a:lnTo>
                  <a:lnTo>
                    <a:pt x="4790" y="110032"/>
                  </a:lnTo>
                  <a:lnTo>
                    <a:pt x="5734" y="119075"/>
                  </a:lnTo>
                  <a:lnTo>
                    <a:pt x="6362" y="127643"/>
                  </a:lnTo>
                  <a:lnTo>
                    <a:pt x="6781" y="135895"/>
                  </a:lnTo>
                  <a:lnTo>
                    <a:pt x="7248" y="154096"/>
                  </a:lnTo>
                  <a:lnTo>
                    <a:pt x="7618" y="255970"/>
                  </a:lnTo>
                  <a:lnTo>
                    <a:pt x="8466" y="260394"/>
                  </a:lnTo>
                  <a:lnTo>
                    <a:pt x="9877" y="264190"/>
                  </a:lnTo>
                  <a:lnTo>
                    <a:pt x="11664" y="267567"/>
                  </a:lnTo>
                  <a:lnTo>
                    <a:pt x="12857" y="270664"/>
                  </a:lnTo>
                  <a:lnTo>
                    <a:pt x="13651" y="273576"/>
                  </a:lnTo>
                  <a:lnTo>
                    <a:pt x="15240" y="2819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SMARTInkAnnotation36"/>
            <p:cNvSpPr/>
            <p:nvPr/>
          </p:nvSpPr>
          <p:spPr>
            <a:xfrm>
              <a:off x="3687840" y="3749760"/>
              <a:ext cx="235800" cy="27936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235940" h="279637">
                  <a:moveTo>
                    <a:pt x="68448" y="7306"/>
                  </a:moveTo>
                  <a:lnTo>
                    <a:pt x="68448" y="0"/>
                  </a:lnTo>
                  <a:lnTo>
                    <a:pt x="61887" y="6275"/>
                  </a:lnTo>
                  <a:lnTo>
                    <a:pt x="61299" y="9105"/>
                  </a:lnTo>
                  <a:lnTo>
                    <a:pt x="60922" y="17821"/>
                  </a:lnTo>
                  <a:lnTo>
                    <a:pt x="58612" y="24962"/>
                  </a:lnTo>
                  <a:lnTo>
                    <a:pt x="56811" y="29236"/>
                  </a:lnTo>
                  <a:lnTo>
                    <a:pt x="55610" y="33780"/>
                  </a:lnTo>
                  <a:lnTo>
                    <a:pt x="54810" y="38502"/>
                  </a:lnTo>
                  <a:lnTo>
                    <a:pt x="54275" y="43343"/>
                  </a:lnTo>
                  <a:lnTo>
                    <a:pt x="52226" y="47417"/>
                  </a:lnTo>
                  <a:lnTo>
                    <a:pt x="49166" y="50981"/>
                  </a:lnTo>
                  <a:lnTo>
                    <a:pt x="45434" y="54202"/>
                  </a:lnTo>
                  <a:lnTo>
                    <a:pt x="42099" y="58890"/>
                  </a:lnTo>
                  <a:lnTo>
                    <a:pt x="39028" y="64555"/>
                  </a:lnTo>
                  <a:lnTo>
                    <a:pt x="36135" y="70873"/>
                  </a:lnTo>
                  <a:lnTo>
                    <a:pt x="33360" y="75930"/>
                  </a:lnTo>
                  <a:lnTo>
                    <a:pt x="25408" y="87941"/>
                  </a:lnTo>
                  <a:lnTo>
                    <a:pt x="22822" y="92389"/>
                  </a:lnTo>
                  <a:lnTo>
                    <a:pt x="17689" y="101001"/>
                  </a:lnTo>
                  <a:lnTo>
                    <a:pt x="12586" y="107650"/>
                  </a:lnTo>
                  <a:lnTo>
                    <a:pt x="7497" y="113428"/>
                  </a:lnTo>
                  <a:lnTo>
                    <a:pt x="1375" y="119991"/>
                  </a:lnTo>
                  <a:lnTo>
                    <a:pt x="873" y="121376"/>
                  </a:lnTo>
                  <a:lnTo>
                    <a:pt x="166" y="125677"/>
                  </a:lnTo>
                  <a:lnTo>
                    <a:pt x="0" y="123980"/>
                  </a:lnTo>
                  <a:lnTo>
                    <a:pt x="803" y="123188"/>
                  </a:lnTo>
                  <a:lnTo>
                    <a:pt x="2185" y="122661"/>
                  </a:lnTo>
                  <a:lnTo>
                    <a:pt x="3953" y="122309"/>
                  </a:lnTo>
                  <a:lnTo>
                    <a:pt x="8174" y="119661"/>
                  </a:lnTo>
                  <a:lnTo>
                    <a:pt x="13720" y="114815"/>
                  </a:lnTo>
                  <a:lnTo>
                    <a:pt x="21829" y="107017"/>
                  </a:lnTo>
                  <a:lnTo>
                    <a:pt x="27209" y="103413"/>
                  </a:lnTo>
                  <a:lnTo>
                    <a:pt x="33335" y="100164"/>
                  </a:lnTo>
                  <a:lnTo>
                    <a:pt x="39959" y="97152"/>
                  </a:lnTo>
                  <a:lnTo>
                    <a:pt x="46915" y="94296"/>
                  </a:lnTo>
                  <a:lnTo>
                    <a:pt x="54093" y="91546"/>
                  </a:lnTo>
                  <a:lnTo>
                    <a:pt x="68842" y="86232"/>
                  </a:lnTo>
                  <a:lnTo>
                    <a:pt x="83863" y="81049"/>
                  </a:lnTo>
                  <a:lnTo>
                    <a:pt x="91424" y="79328"/>
                  </a:lnTo>
                  <a:lnTo>
                    <a:pt x="99005" y="78181"/>
                  </a:lnTo>
                  <a:lnTo>
                    <a:pt x="106600" y="77416"/>
                  </a:lnTo>
                  <a:lnTo>
                    <a:pt x="113356" y="76906"/>
                  </a:lnTo>
                  <a:lnTo>
                    <a:pt x="119553" y="76566"/>
                  </a:lnTo>
                  <a:lnTo>
                    <a:pt x="125378" y="76340"/>
                  </a:lnTo>
                  <a:lnTo>
                    <a:pt x="131801" y="77035"/>
                  </a:lnTo>
                  <a:lnTo>
                    <a:pt x="138624" y="78345"/>
                  </a:lnTo>
                  <a:lnTo>
                    <a:pt x="145712" y="80065"/>
                  </a:lnTo>
                  <a:lnTo>
                    <a:pt x="152130" y="82059"/>
                  </a:lnTo>
                  <a:lnTo>
                    <a:pt x="158103" y="84235"/>
                  </a:lnTo>
                  <a:lnTo>
                    <a:pt x="163778" y="86532"/>
                  </a:lnTo>
                  <a:lnTo>
                    <a:pt x="170948" y="89757"/>
                  </a:lnTo>
                  <a:lnTo>
                    <a:pt x="187946" y="97855"/>
                  </a:lnTo>
                  <a:lnTo>
                    <a:pt x="195527" y="103232"/>
                  </a:lnTo>
                  <a:lnTo>
                    <a:pt x="202273" y="109357"/>
                  </a:lnTo>
                  <a:lnTo>
                    <a:pt x="208465" y="115980"/>
                  </a:lnTo>
                  <a:lnTo>
                    <a:pt x="213440" y="122935"/>
                  </a:lnTo>
                  <a:lnTo>
                    <a:pt x="217602" y="130112"/>
                  </a:lnTo>
                  <a:lnTo>
                    <a:pt x="221225" y="137437"/>
                  </a:lnTo>
                  <a:lnTo>
                    <a:pt x="224486" y="144860"/>
                  </a:lnTo>
                  <a:lnTo>
                    <a:pt x="227507" y="152349"/>
                  </a:lnTo>
                  <a:lnTo>
                    <a:pt x="230367" y="159881"/>
                  </a:lnTo>
                  <a:lnTo>
                    <a:pt x="232274" y="167443"/>
                  </a:lnTo>
                  <a:lnTo>
                    <a:pt x="233545" y="175024"/>
                  </a:lnTo>
                  <a:lnTo>
                    <a:pt x="234392" y="182618"/>
                  </a:lnTo>
                  <a:lnTo>
                    <a:pt x="234958" y="190221"/>
                  </a:lnTo>
                  <a:lnTo>
                    <a:pt x="235335" y="197829"/>
                  </a:lnTo>
                  <a:lnTo>
                    <a:pt x="235753" y="213056"/>
                  </a:lnTo>
                  <a:lnTo>
                    <a:pt x="235939" y="228291"/>
                  </a:lnTo>
                  <a:lnTo>
                    <a:pt x="234295" y="235062"/>
                  </a:lnTo>
                  <a:lnTo>
                    <a:pt x="231506" y="241271"/>
                  </a:lnTo>
                  <a:lnTo>
                    <a:pt x="227954" y="247102"/>
                  </a:lnTo>
                  <a:lnTo>
                    <a:pt x="224739" y="252684"/>
                  </a:lnTo>
                  <a:lnTo>
                    <a:pt x="218908" y="263400"/>
                  </a:lnTo>
                  <a:lnTo>
                    <a:pt x="215321" y="267782"/>
                  </a:lnTo>
                  <a:lnTo>
                    <a:pt x="211237" y="271551"/>
                  </a:lnTo>
                  <a:lnTo>
                    <a:pt x="206821" y="274909"/>
                  </a:lnTo>
                  <a:lnTo>
                    <a:pt x="201337" y="277148"/>
                  </a:lnTo>
                  <a:lnTo>
                    <a:pt x="195140" y="278641"/>
                  </a:lnTo>
                  <a:lnTo>
                    <a:pt x="188470" y="279636"/>
                  </a:lnTo>
                  <a:lnTo>
                    <a:pt x="182329" y="279453"/>
                  </a:lnTo>
                  <a:lnTo>
                    <a:pt x="176542" y="278484"/>
                  </a:lnTo>
                  <a:lnTo>
                    <a:pt x="170990" y="276991"/>
                  </a:lnTo>
                  <a:lnTo>
                    <a:pt x="165597" y="275149"/>
                  </a:lnTo>
                  <a:lnTo>
                    <a:pt x="160307" y="273075"/>
                  </a:lnTo>
                  <a:lnTo>
                    <a:pt x="155088" y="270846"/>
                  </a:lnTo>
                  <a:lnTo>
                    <a:pt x="144772" y="266110"/>
                  </a:lnTo>
                  <a:lnTo>
                    <a:pt x="129408" y="2587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SMARTInkAnnotation37"/>
            <p:cNvSpPr/>
            <p:nvPr/>
          </p:nvSpPr>
          <p:spPr>
            <a:xfrm>
              <a:off x="3771360" y="3772440"/>
              <a:ext cx="228600" cy="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28601" h="1">
                  <a:moveTo>
                    <a:pt x="0" y="0"/>
                  </a:moveTo>
                  <a:lnTo>
                    <a:pt x="2286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SMARTInkAnnotation38"/>
            <p:cNvSpPr/>
            <p:nvPr/>
          </p:nvSpPr>
          <p:spPr>
            <a:xfrm>
              <a:off x="4032360" y="3719160"/>
              <a:ext cx="180000" cy="264600"/>
            </a:xfrm>
            <a:custGeom>
              <a:avLst/>
              <a:gdLst>
                <a:gd name="textAreaLeft" fmla="*/ 0 w 180000"/>
                <a:gd name="textAreaRight" fmla="*/ 180000 w 180000"/>
                <a:gd name="textAreaTop" fmla="*/ 0 h 264600"/>
                <a:gd name="textAreaBottom" fmla="*/ 264960 h 264600"/>
              </a:gdLst>
              <a:ahLst/>
              <a:rect l="textAreaLeft" t="textAreaTop" r="textAreaRight" b="textAreaBottom"/>
              <a:pathLst>
                <a:path w="180268" h="264587">
                  <a:moveTo>
                    <a:pt x="66707" y="0"/>
                  </a:moveTo>
                  <a:lnTo>
                    <a:pt x="66707" y="15397"/>
                  </a:lnTo>
                  <a:lnTo>
                    <a:pt x="65860" y="18731"/>
                  </a:lnTo>
                  <a:lnTo>
                    <a:pt x="60623" y="29163"/>
                  </a:lnTo>
                  <a:lnTo>
                    <a:pt x="58418" y="34682"/>
                  </a:lnTo>
                  <a:lnTo>
                    <a:pt x="56101" y="40901"/>
                  </a:lnTo>
                  <a:lnTo>
                    <a:pt x="52016" y="47588"/>
                  </a:lnTo>
                  <a:lnTo>
                    <a:pt x="46753" y="54586"/>
                  </a:lnTo>
                  <a:lnTo>
                    <a:pt x="40705" y="61790"/>
                  </a:lnTo>
                  <a:lnTo>
                    <a:pt x="35825" y="69980"/>
                  </a:lnTo>
                  <a:lnTo>
                    <a:pt x="31726" y="78827"/>
                  </a:lnTo>
                  <a:lnTo>
                    <a:pt x="28146" y="88112"/>
                  </a:lnTo>
                  <a:lnTo>
                    <a:pt x="24066" y="97688"/>
                  </a:lnTo>
                  <a:lnTo>
                    <a:pt x="15018" y="117359"/>
                  </a:lnTo>
                  <a:lnTo>
                    <a:pt x="11081" y="127346"/>
                  </a:lnTo>
                  <a:lnTo>
                    <a:pt x="7609" y="137391"/>
                  </a:lnTo>
                  <a:lnTo>
                    <a:pt x="4448" y="147474"/>
                  </a:lnTo>
                  <a:lnTo>
                    <a:pt x="2341" y="156736"/>
                  </a:lnTo>
                  <a:lnTo>
                    <a:pt x="937" y="165451"/>
                  </a:lnTo>
                  <a:lnTo>
                    <a:pt x="0" y="173800"/>
                  </a:lnTo>
                  <a:lnTo>
                    <a:pt x="223" y="182753"/>
                  </a:lnTo>
                  <a:lnTo>
                    <a:pt x="1217" y="192109"/>
                  </a:lnTo>
                  <a:lnTo>
                    <a:pt x="2727" y="201733"/>
                  </a:lnTo>
                  <a:lnTo>
                    <a:pt x="5427" y="210689"/>
                  </a:lnTo>
                  <a:lnTo>
                    <a:pt x="8920" y="219199"/>
                  </a:lnTo>
                  <a:lnTo>
                    <a:pt x="12943" y="227413"/>
                  </a:lnTo>
                  <a:lnTo>
                    <a:pt x="18164" y="234582"/>
                  </a:lnTo>
                  <a:lnTo>
                    <a:pt x="24185" y="241055"/>
                  </a:lnTo>
                  <a:lnTo>
                    <a:pt x="30739" y="247063"/>
                  </a:lnTo>
                  <a:lnTo>
                    <a:pt x="37648" y="251915"/>
                  </a:lnTo>
                  <a:lnTo>
                    <a:pt x="44795" y="255997"/>
                  </a:lnTo>
                  <a:lnTo>
                    <a:pt x="52098" y="259565"/>
                  </a:lnTo>
                  <a:lnTo>
                    <a:pt x="60355" y="261943"/>
                  </a:lnTo>
                  <a:lnTo>
                    <a:pt x="69245" y="263529"/>
                  </a:lnTo>
                  <a:lnTo>
                    <a:pt x="78559" y="264586"/>
                  </a:lnTo>
                  <a:lnTo>
                    <a:pt x="87308" y="264444"/>
                  </a:lnTo>
                  <a:lnTo>
                    <a:pt x="95681" y="263502"/>
                  </a:lnTo>
                  <a:lnTo>
                    <a:pt x="103803" y="262029"/>
                  </a:lnTo>
                  <a:lnTo>
                    <a:pt x="112604" y="260199"/>
                  </a:lnTo>
                  <a:lnTo>
                    <a:pt x="131415" y="255908"/>
                  </a:lnTo>
                  <a:lnTo>
                    <a:pt x="140325" y="251886"/>
                  </a:lnTo>
                  <a:lnTo>
                    <a:pt x="148806" y="246663"/>
                  </a:lnTo>
                  <a:lnTo>
                    <a:pt x="156999" y="240643"/>
                  </a:lnTo>
                  <a:lnTo>
                    <a:pt x="163308" y="233241"/>
                  </a:lnTo>
                  <a:lnTo>
                    <a:pt x="168361" y="224921"/>
                  </a:lnTo>
                  <a:lnTo>
                    <a:pt x="172577" y="215987"/>
                  </a:lnTo>
                  <a:lnTo>
                    <a:pt x="175387" y="207491"/>
                  </a:lnTo>
                  <a:lnTo>
                    <a:pt x="177260" y="199288"/>
                  </a:lnTo>
                  <a:lnTo>
                    <a:pt x="178509" y="191278"/>
                  </a:lnTo>
                  <a:lnTo>
                    <a:pt x="179342" y="182553"/>
                  </a:lnTo>
                  <a:lnTo>
                    <a:pt x="179897" y="173349"/>
                  </a:lnTo>
                  <a:lnTo>
                    <a:pt x="180267" y="163826"/>
                  </a:lnTo>
                  <a:lnTo>
                    <a:pt x="178820" y="154937"/>
                  </a:lnTo>
                  <a:lnTo>
                    <a:pt x="176162" y="146471"/>
                  </a:lnTo>
                  <a:lnTo>
                    <a:pt x="172697" y="138288"/>
                  </a:lnTo>
                  <a:lnTo>
                    <a:pt x="168693" y="131138"/>
                  </a:lnTo>
                  <a:lnTo>
                    <a:pt x="164332" y="124679"/>
                  </a:lnTo>
                  <a:lnTo>
                    <a:pt x="159730" y="118679"/>
                  </a:lnTo>
                  <a:lnTo>
                    <a:pt x="154122" y="112986"/>
                  </a:lnTo>
                  <a:lnTo>
                    <a:pt x="147843" y="107498"/>
                  </a:lnTo>
                  <a:lnTo>
                    <a:pt x="141118" y="102145"/>
                  </a:lnTo>
                  <a:lnTo>
                    <a:pt x="134094" y="96883"/>
                  </a:lnTo>
                  <a:lnTo>
                    <a:pt x="119517" y="86521"/>
                  </a:lnTo>
                  <a:lnTo>
                    <a:pt x="112073" y="83081"/>
                  </a:lnTo>
                  <a:lnTo>
                    <a:pt x="104571" y="80787"/>
                  </a:lnTo>
                  <a:lnTo>
                    <a:pt x="97030" y="79259"/>
                  </a:lnTo>
                  <a:lnTo>
                    <a:pt x="90309" y="77392"/>
                  </a:lnTo>
                  <a:lnTo>
                    <a:pt x="84134" y="75301"/>
                  </a:lnTo>
                  <a:lnTo>
                    <a:pt x="78326" y="73061"/>
                  </a:lnTo>
                  <a:lnTo>
                    <a:pt x="73606" y="71567"/>
                  </a:lnTo>
                  <a:lnTo>
                    <a:pt x="69613" y="70572"/>
                  </a:lnTo>
                  <a:lnTo>
                    <a:pt x="59087" y="685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SMARTInkAnnotation39"/>
            <p:cNvSpPr/>
            <p:nvPr/>
          </p:nvSpPr>
          <p:spPr>
            <a:xfrm>
              <a:off x="2110320" y="4568400"/>
              <a:ext cx="220680" cy="1188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20981" h="12011">
                  <a:moveTo>
                    <a:pt x="0" y="4390"/>
                  </a:moveTo>
                  <a:lnTo>
                    <a:pt x="39870" y="4390"/>
                  </a:lnTo>
                  <a:lnTo>
                    <a:pt x="47747" y="3544"/>
                  </a:lnTo>
                  <a:lnTo>
                    <a:pt x="56385" y="2132"/>
                  </a:lnTo>
                  <a:lnTo>
                    <a:pt x="65530" y="345"/>
                  </a:lnTo>
                  <a:lnTo>
                    <a:pt x="75860" y="0"/>
                  </a:lnTo>
                  <a:lnTo>
                    <a:pt x="86980" y="617"/>
                  </a:lnTo>
                  <a:lnTo>
                    <a:pt x="98627" y="1874"/>
                  </a:lnTo>
                  <a:lnTo>
                    <a:pt x="109778" y="2713"/>
                  </a:lnTo>
                  <a:lnTo>
                    <a:pt x="120599" y="3272"/>
                  </a:lnTo>
                  <a:lnTo>
                    <a:pt x="141653" y="3894"/>
                  </a:lnTo>
                  <a:lnTo>
                    <a:pt x="162299" y="4169"/>
                  </a:lnTo>
                  <a:lnTo>
                    <a:pt x="171700" y="5090"/>
                  </a:lnTo>
                  <a:lnTo>
                    <a:pt x="180506" y="6550"/>
                  </a:lnTo>
                  <a:lnTo>
                    <a:pt x="188918" y="8370"/>
                  </a:lnTo>
                  <a:lnTo>
                    <a:pt x="196219" y="9583"/>
                  </a:lnTo>
                  <a:lnTo>
                    <a:pt x="202779" y="10393"/>
                  </a:lnTo>
                  <a:lnTo>
                    <a:pt x="220980" y="120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SMARTInkAnnotation40"/>
            <p:cNvSpPr/>
            <p:nvPr/>
          </p:nvSpPr>
          <p:spPr>
            <a:xfrm>
              <a:off x="2087280" y="4702320"/>
              <a:ext cx="236160" cy="226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36221" h="22861">
                  <a:moveTo>
                    <a:pt x="0" y="22860"/>
                  </a:moveTo>
                  <a:lnTo>
                    <a:pt x="6561" y="16299"/>
                  </a:lnTo>
                  <a:lnTo>
                    <a:pt x="11665" y="15711"/>
                  </a:lnTo>
                  <a:lnTo>
                    <a:pt x="15396" y="15554"/>
                  </a:lnTo>
                  <a:lnTo>
                    <a:pt x="21271" y="14603"/>
                  </a:lnTo>
                  <a:lnTo>
                    <a:pt x="28574" y="13121"/>
                  </a:lnTo>
                  <a:lnTo>
                    <a:pt x="45719" y="9219"/>
                  </a:lnTo>
                  <a:lnTo>
                    <a:pt x="64629" y="4661"/>
                  </a:lnTo>
                  <a:lnTo>
                    <a:pt x="76106" y="3108"/>
                  </a:lnTo>
                  <a:lnTo>
                    <a:pt x="88837" y="2072"/>
                  </a:lnTo>
                  <a:lnTo>
                    <a:pt x="102405" y="1381"/>
                  </a:lnTo>
                  <a:lnTo>
                    <a:pt x="131027" y="614"/>
                  </a:lnTo>
                  <a:lnTo>
                    <a:pt x="2362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SMARTInkAnnotation41"/>
            <p:cNvSpPr/>
            <p:nvPr/>
          </p:nvSpPr>
          <p:spPr>
            <a:xfrm>
              <a:off x="1539000" y="4315320"/>
              <a:ext cx="205200" cy="32544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325440"/>
                <a:gd name="textAreaBottom" fmla="*/ 325440 h 325440"/>
              </a:gdLst>
              <a:ahLst/>
              <a:rect l="textAreaLeft" t="textAreaTop" r="textAreaRight" b="textAreaBottom"/>
              <a:pathLst>
                <a:path w="205415" h="325445">
                  <a:moveTo>
                    <a:pt x="68254" y="120231"/>
                  </a:moveTo>
                  <a:lnTo>
                    <a:pt x="68254" y="134882"/>
                  </a:lnTo>
                  <a:lnTo>
                    <a:pt x="65996" y="143958"/>
                  </a:lnTo>
                  <a:lnTo>
                    <a:pt x="64209" y="148749"/>
                  </a:lnTo>
                  <a:lnTo>
                    <a:pt x="63017" y="154483"/>
                  </a:lnTo>
                  <a:lnTo>
                    <a:pt x="62223" y="160846"/>
                  </a:lnTo>
                  <a:lnTo>
                    <a:pt x="61693" y="167628"/>
                  </a:lnTo>
                  <a:lnTo>
                    <a:pt x="60494" y="174689"/>
                  </a:lnTo>
                  <a:lnTo>
                    <a:pt x="58847" y="181936"/>
                  </a:lnTo>
                  <a:lnTo>
                    <a:pt x="50121" y="215863"/>
                  </a:lnTo>
                  <a:lnTo>
                    <a:pt x="46852" y="225472"/>
                  </a:lnTo>
                  <a:lnTo>
                    <a:pt x="42980" y="235266"/>
                  </a:lnTo>
                  <a:lnTo>
                    <a:pt x="38705" y="245181"/>
                  </a:lnTo>
                  <a:lnTo>
                    <a:pt x="35008" y="254331"/>
                  </a:lnTo>
                  <a:lnTo>
                    <a:pt x="28642" y="271272"/>
                  </a:lnTo>
                  <a:lnTo>
                    <a:pt x="20299" y="295089"/>
                  </a:lnTo>
                  <a:lnTo>
                    <a:pt x="17657" y="301150"/>
                  </a:lnTo>
                  <a:lnTo>
                    <a:pt x="12464" y="310141"/>
                  </a:lnTo>
                  <a:lnTo>
                    <a:pt x="9592" y="316960"/>
                  </a:lnTo>
                  <a:lnTo>
                    <a:pt x="7748" y="324192"/>
                  </a:lnTo>
                  <a:lnTo>
                    <a:pt x="6750" y="324785"/>
                  </a:lnTo>
                  <a:lnTo>
                    <a:pt x="3383" y="325444"/>
                  </a:lnTo>
                  <a:lnTo>
                    <a:pt x="2147" y="323926"/>
                  </a:lnTo>
                  <a:lnTo>
                    <a:pt x="773" y="317725"/>
                  </a:lnTo>
                  <a:lnTo>
                    <a:pt x="407" y="312854"/>
                  </a:lnTo>
                  <a:lnTo>
                    <a:pt x="162" y="307066"/>
                  </a:lnTo>
                  <a:lnTo>
                    <a:pt x="0" y="300668"/>
                  </a:lnTo>
                  <a:lnTo>
                    <a:pt x="738" y="293016"/>
                  </a:lnTo>
                  <a:lnTo>
                    <a:pt x="2077" y="284528"/>
                  </a:lnTo>
                  <a:lnTo>
                    <a:pt x="3816" y="275482"/>
                  </a:lnTo>
                  <a:lnTo>
                    <a:pt x="6669" y="266065"/>
                  </a:lnTo>
                  <a:lnTo>
                    <a:pt x="10264" y="256400"/>
                  </a:lnTo>
                  <a:lnTo>
                    <a:pt x="14354" y="246571"/>
                  </a:lnTo>
                  <a:lnTo>
                    <a:pt x="19621" y="235784"/>
                  </a:lnTo>
                  <a:lnTo>
                    <a:pt x="25672" y="224360"/>
                  </a:lnTo>
                  <a:lnTo>
                    <a:pt x="32246" y="212510"/>
                  </a:lnTo>
                  <a:lnTo>
                    <a:pt x="38322" y="200377"/>
                  </a:lnTo>
                  <a:lnTo>
                    <a:pt x="44066" y="188056"/>
                  </a:lnTo>
                  <a:lnTo>
                    <a:pt x="54964" y="163075"/>
                  </a:lnTo>
                  <a:lnTo>
                    <a:pt x="65452" y="137861"/>
                  </a:lnTo>
                  <a:lnTo>
                    <a:pt x="71466" y="126058"/>
                  </a:lnTo>
                  <a:lnTo>
                    <a:pt x="78015" y="114802"/>
                  </a:lnTo>
                  <a:lnTo>
                    <a:pt x="84922" y="103912"/>
                  </a:lnTo>
                  <a:lnTo>
                    <a:pt x="91219" y="93265"/>
                  </a:lnTo>
                  <a:lnTo>
                    <a:pt x="97111" y="82780"/>
                  </a:lnTo>
                  <a:lnTo>
                    <a:pt x="102732" y="72404"/>
                  </a:lnTo>
                  <a:lnTo>
                    <a:pt x="108173" y="62946"/>
                  </a:lnTo>
                  <a:lnTo>
                    <a:pt x="113493" y="54101"/>
                  </a:lnTo>
                  <a:lnTo>
                    <a:pt x="118734" y="45664"/>
                  </a:lnTo>
                  <a:lnTo>
                    <a:pt x="123920" y="38347"/>
                  </a:lnTo>
                  <a:lnTo>
                    <a:pt x="129072" y="31775"/>
                  </a:lnTo>
                  <a:lnTo>
                    <a:pt x="134199" y="25700"/>
                  </a:lnTo>
                  <a:lnTo>
                    <a:pt x="139311" y="20804"/>
                  </a:lnTo>
                  <a:lnTo>
                    <a:pt x="144412" y="16693"/>
                  </a:lnTo>
                  <a:lnTo>
                    <a:pt x="149506" y="13106"/>
                  </a:lnTo>
                  <a:lnTo>
                    <a:pt x="152902" y="9867"/>
                  </a:lnTo>
                  <a:lnTo>
                    <a:pt x="155166" y="6862"/>
                  </a:lnTo>
                  <a:lnTo>
                    <a:pt x="156675" y="4012"/>
                  </a:lnTo>
                  <a:lnTo>
                    <a:pt x="158528" y="2111"/>
                  </a:lnTo>
                  <a:lnTo>
                    <a:pt x="160610" y="845"/>
                  </a:lnTo>
                  <a:lnTo>
                    <a:pt x="162845" y="0"/>
                  </a:lnTo>
                  <a:lnTo>
                    <a:pt x="165181" y="284"/>
                  </a:lnTo>
                  <a:lnTo>
                    <a:pt x="167586" y="1319"/>
                  </a:lnTo>
                  <a:lnTo>
                    <a:pt x="172515" y="4728"/>
                  </a:lnTo>
                  <a:lnTo>
                    <a:pt x="177528" y="9065"/>
                  </a:lnTo>
                  <a:lnTo>
                    <a:pt x="179203" y="13100"/>
                  </a:lnTo>
                  <a:lnTo>
                    <a:pt x="180320" y="18330"/>
                  </a:lnTo>
                  <a:lnTo>
                    <a:pt x="181065" y="24357"/>
                  </a:lnTo>
                  <a:lnTo>
                    <a:pt x="182408" y="30915"/>
                  </a:lnTo>
                  <a:lnTo>
                    <a:pt x="184150" y="37827"/>
                  </a:lnTo>
                  <a:lnTo>
                    <a:pt x="186158" y="44975"/>
                  </a:lnTo>
                  <a:lnTo>
                    <a:pt x="190647" y="59691"/>
                  </a:lnTo>
                  <a:lnTo>
                    <a:pt x="193030" y="67170"/>
                  </a:lnTo>
                  <a:lnTo>
                    <a:pt x="194617" y="76391"/>
                  </a:lnTo>
                  <a:lnTo>
                    <a:pt x="195676" y="86771"/>
                  </a:lnTo>
                  <a:lnTo>
                    <a:pt x="196382" y="97924"/>
                  </a:lnTo>
                  <a:lnTo>
                    <a:pt x="197167" y="119348"/>
                  </a:lnTo>
                  <a:lnTo>
                    <a:pt x="197670" y="160697"/>
                  </a:lnTo>
                  <a:lnTo>
                    <a:pt x="198558" y="170915"/>
                  </a:lnTo>
                  <a:lnTo>
                    <a:pt x="199997" y="181113"/>
                  </a:lnTo>
                  <a:lnTo>
                    <a:pt x="201803" y="191300"/>
                  </a:lnTo>
                  <a:lnTo>
                    <a:pt x="203007" y="200630"/>
                  </a:lnTo>
                  <a:lnTo>
                    <a:pt x="203809" y="209390"/>
                  </a:lnTo>
                  <a:lnTo>
                    <a:pt x="204344" y="217771"/>
                  </a:lnTo>
                  <a:lnTo>
                    <a:pt x="204701" y="226744"/>
                  </a:lnTo>
                  <a:lnTo>
                    <a:pt x="205203" y="254707"/>
                  </a:lnTo>
                  <a:lnTo>
                    <a:pt x="205414" y="31835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SMARTInkAnnotation42"/>
            <p:cNvSpPr/>
            <p:nvPr/>
          </p:nvSpPr>
          <p:spPr>
            <a:xfrm>
              <a:off x="1515960" y="4496400"/>
              <a:ext cx="220680" cy="457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20981" h="45721">
                  <a:moveTo>
                    <a:pt x="0" y="0"/>
                  </a:moveTo>
                  <a:lnTo>
                    <a:pt x="4046" y="4045"/>
                  </a:lnTo>
                  <a:lnTo>
                    <a:pt x="7777" y="5237"/>
                  </a:lnTo>
                  <a:lnTo>
                    <a:pt x="12805" y="6031"/>
                  </a:lnTo>
                  <a:lnTo>
                    <a:pt x="18696" y="6561"/>
                  </a:lnTo>
                  <a:lnTo>
                    <a:pt x="26011" y="7760"/>
                  </a:lnTo>
                  <a:lnTo>
                    <a:pt x="34274" y="9408"/>
                  </a:lnTo>
                  <a:lnTo>
                    <a:pt x="52486" y="13495"/>
                  </a:lnTo>
                  <a:lnTo>
                    <a:pt x="71870" y="18133"/>
                  </a:lnTo>
                  <a:lnTo>
                    <a:pt x="83473" y="20556"/>
                  </a:lnTo>
                  <a:lnTo>
                    <a:pt x="149313" y="33051"/>
                  </a:lnTo>
                  <a:lnTo>
                    <a:pt x="160502" y="35581"/>
                  </a:lnTo>
                  <a:lnTo>
                    <a:pt x="170502" y="38114"/>
                  </a:lnTo>
                  <a:lnTo>
                    <a:pt x="179708" y="40649"/>
                  </a:lnTo>
                  <a:lnTo>
                    <a:pt x="188385" y="42339"/>
                  </a:lnTo>
                  <a:lnTo>
                    <a:pt x="196710" y="43467"/>
                  </a:lnTo>
                  <a:lnTo>
                    <a:pt x="220980" y="457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SMARTInkAnnotation43"/>
            <p:cNvSpPr/>
            <p:nvPr/>
          </p:nvSpPr>
          <p:spPr>
            <a:xfrm>
              <a:off x="2430360" y="4496400"/>
              <a:ext cx="30240" cy="236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30443" h="236221">
                  <a:moveTo>
                    <a:pt x="30442" y="0"/>
                  </a:moveTo>
                  <a:lnTo>
                    <a:pt x="30442" y="8091"/>
                  </a:lnTo>
                  <a:lnTo>
                    <a:pt x="29595" y="12167"/>
                  </a:lnTo>
                  <a:lnTo>
                    <a:pt x="28184" y="16578"/>
                  </a:lnTo>
                  <a:lnTo>
                    <a:pt x="26397" y="21212"/>
                  </a:lnTo>
                  <a:lnTo>
                    <a:pt x="25205" y="25148"/>
                  </a:lnTo>
                  <a:lnTo>
                    <a:pt x="24411" y="28618"/>
                  </a:lnTo>
                  <a:lnTo>
                    <a:pt x="23881" y="31779"/>
                  </a:lnTo>
                  <a:lnTo>
                    <a:pt x="22681" y="37273"/>
                  </a:lnTo>
                  <a:lnTo>
                    <a:pt x="9887" y="89719"/>
                  </a:lnTo>
                  <a:lnTo>
                    <a:pt x="4938" y="109584"/>
                  </a:lnTo>
                  <a:lnTo>
                    <a:pt x="3279" y="119623"/>
                  </a:lnTo>
                  <a:lnTo>
                    <a:pt x="2173" y="129702"/>
                  </a:lnTo>
                  <a:lnTo>
                    <a:pt x="1436" y="139808"/>
                  </a:lnTo>
                  <a:lnTo>
                    <a:pt x="945" y="149085"/>
                  </a:lnTo>
                  <a:lnTo>
                    <a:pt x="399" y="166167"/>
                  </a:lnTo>
                  <a:lnTo>
                    <a:pt x="92" y="186019"/>
                  </a:lnTo>
                  <a:lnTo>
                    <a:pt x="0" y="210715"/>
                  </a:lnTo>
                  <a:lnTo>
                    <a:pt x="834" y="217524"/>
                  </a:lnTo>
                  <a:lnTo>
                    <a:pt x="2237" y="222910"/>
                  </a:lnTo>
                  <a:lnTo>
                    <a:pt x="7582" y="2362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SMARTInkAnnotation44"/>
            <p:cNvSpPr/>
            <p:nvPr/>
          </p:nvSpPr>
          <p:spPr>
            <a:xfrm>
              <a:off x="2572560" y="4352760"/>
              <a:ext cx="192600" cy="38736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192623" h="387411">
                  <a:moveTo>
                    <a:pt x="162499" y="36890"/>
                  </a:moveTo>
                  <a:lnTo>
                    <a:pt x="155938" y="30329"/>
                  </a:lnTo>
                  <a:lnTo>
                    <a:pt x="155193" y="21494"/>
                  </a:lnTo>
                  <a:lnTo>
                    <a:pt x="154242" y="18159"/>
                  </a:lnTo>
                  <a:lnTo>
                    <a:pt x="150927" y="12197"/>
                  </a:lnTo>
                  <a:lnTo>
                    <a:pt x="148011" y="10268"/>
                  </a:lnTo>
                  <a:lnTo>
                    <a:pt x="144373" y="8982"/>
                  </a:lnTo>
                  <a:lnTo>
                    <a:pt x="140256" y="8125"/>
                  </a:lnTo>
                  <a:lnTo>
                    <a:pt x="135816" y="6706"/>
                  </a:lnTo>
                  <a:lnTo>
                    <a:pt x="131164" y="4915"/>
                  </a:lnTo>
                  <a:lnTo>
                    <a:pt x="126369" y="2873"/>
                  </a:lnTo>
                  <a:lnTo>
                    <a:pt x="120632" y="1512"/>
                  </a:lnTo>
                  <a:lnTo>
                    <a:pt x="114268" y="604"/>
                  </a:lnTo>
                  <a:lnTo>
                    <a:pt x="107485" y="0"/>
                  </a:lnTo>
                  <a:lnTo>
                    <a:pt x="101270" y="443"/>
                  </a:lnTo>
                  <a:lnTo>
                    <a:pt x="95433" y="1586"/>
                  </a:lnTo>
                  <a:lnTo>
                    <a:pt x="89849" y="3194"/>
                  </a:lnTo>
                  <a:lnTo>
                    <a:pt x="76870" y="7239"/>
                  </a:lnTo>
                  <a:lnTo>
                    <a:pt x="69853" y="9503"/>
                  </a:lnTo>
                  <a:lnTo>
                    <a:pt x="61788" y="12705"/>
                  </a:lnTo>
                  <a:lnTo>
                    <a:pt x="53025" y="16534"/>
                  </a:lnTo>
                  <a:lnTo>
                    <a:pt x="43796" y="20779"/>
                  </a:lnTo>
                  <a:lnTo>
                    <a:pt x="36798" y="25303"/>
                  </a:lnTo>
                  <a:lnTo>
                    <a:pt x="31285" y="30012"/>
                  </a:lnTo>
                  <a:lnTo>
                    <a:pt x="22055" y="39760"/>
                  </a:lnTo>
                  <a:lnTo>
                    <a:pt x="12308" y="49737"/>
                  </a:lnTo>
                  <a:lnTo>
                    <a:pt x="8185" y="54768"/>
                  </a:lnTo>
                  <a:lnTo>
                    <a:pt x="4590" y="59815"/>
                  </a:lnTo>
                  <a:lnTo>
                    <a:pt x="1346" y="64874"/>
                  </a:lnTo>
                  <a:lnTo>
                    <a:pt x="31" y="69940"/>
                  </a:lnTo>
                  <a:lnTo>
                    <a:pt x="0" y="75009"/>
                  </a:lnTo>
                  <a:lnTo>
                    <a:pt x="827" y="80083"/>
                  </a:lnTo>
                  <a:lnTo>
                    <a:pt x="4003" y="87978"/>
                  </a:lnTo>
                  <a:lnTo>
                    <a:pt x="8236" y="95156"/>
                  </a:lnTo>
                  <a:lnTo>
                    <a:pt x="12940" y="103990"/>
                  </a:lnTo>
                  <a:lnTo>
                    <a:pt x="16226" y="107870"/>
                  </a:lnTo>
                  <a:lnTo>
                    <a:pt x="20111" y="111304"/>
                  </a:lnTo>
                  <a:lnTo>
                    <a:pt x="24394" y="114439"/>
                  </a:lnTo>
                  <a:lnTo>
                    <a:pt x="29789" y="116530"/>
                  </a:lnTo>
                  <a:lnTo>
                    <a:pt x="35926" y="117923"/>
                  </a:lnTo>
                  <a:lnTo>
                    <a:pt x="42557" y="118852"/>
                  </a:lnTo>
                  <a:lnTo>
                    <a:pt x="49517" y="120318"/>
                  </a:lnTo>
                  <a:lnTo>
                    <a:pt x="56698" y="122142"/>
                  </a:lnTo>
                  <a:lnTo>
                    <a:pt x="64025" y="124205"/>
                  </a:lnTo>
                  <a:lnTo>
                    <a:pt x="71450" y="125580"/>
                  </a:lnTo>
                  <a:lnTo>
                    <a:pt x="78940" y="126497"/>
                  </a:lnTo>
                  <a:lnTo>
                    <a:pt x="86473" y="127108"/>
                  </a:lnTo>
                  <a:lnTo>
                    <a:pt x="93188" y="126669"/>
                  </a:lnTo>
                  <a:lnTo>
                    <a:pt x="99358" y="125529"/>
                  </a:lnTo>
                  <a:lnTo>
                    <a:pt x="105165" y="123923"/>
                  </a:lnTo>
                  <a:lnTo>
                    <a:pt x="111576" y="122852"/>
                  </a:lnTo>
                  <a:lnTo>
                    <a:pt x="118391" y="122138"/>
                  </a:lnTo>
                  <a:lnTo>
                    <a:pt x="125473" y="121662"/>
                  </a:lnTo>
                  <a:lnTo>
                    <a:pt x="131889" y="119652"/>
                  </a:lnTo>
                  <a:lnTo>
                    <a:pt x="137859" y="116618"/>
                  </a:lnTo>
                  <a:lnTo>
                    <a:pt x="143532" y="112902"/>
                  </a:lnTo>
                  <a:lnTo>
                    <a:pt x="149008" y="109578"/>
                  </a:lnTo>
                  <a:lnTo>
                    <a:pt x="154352" y="106515"/>
                  </a:lnTo>
                  <a:lnTo>
                    <a:pt x="159607" y="103627"/>
                  </a:lnTo>
                  <a:lnTo>
                    <a:pt x="163958" y="100854"/>
                  </a:lnTo>
                  <a:lnTo>
                    <a:pt x="167705" y="98160"/>
                  </a:lnTo>
                  <a:lnTo>
                    <a:pt x="171050" y="95517"/>
                  </a:lnTo>
                  <a:lnTo>
                    <a:pt x="177024" y="90322"/>
                  </a:lnTo>
                  <a:lnTo>
                    <a:pt x="179802" y="87751"/>
                  </a:lnTo>
                  <a:lnTo>
                    <a:pt x="181655" y="85191"/>
                  </a:lnTo>
                  <a:lnTo>
                    <a:pt x="183713" y="80088"/>
                  </a:lnTo>
                  <a:lnTo>
                    <a:pt x="185108" y="78389"/>
                  </a:lnTo>
                  <a:lnTo>
                    <a:pt x="186885" y="77256"/>
                  </a:lnTo>
                  <a:lnTo>
                    <a:pt x="192622" y="75123"/>
                  </a:lnTo>
                  <a:lnTo>
                    <a:pt x="188828" y="75030"/>
                  </a:lnTo>
                  <a:lnTo>
                    <a:pt x="186825" y="75863"/>
                  </a:lnTo>
                  <a:lnTo>
                    <a:pt x="182342" y="79047"/>
                  </a:lnTo>
                  <a:lnTo>
                    <a:pt x="180807" y="81928"/>
                  </a:lnTo>
                  <a:lnTo>
                    <a:pt x="179103" y="89645"/>
                  </a:lnTo>
                  <a:lnTo>
                    <a:pt x="173829" y="98719"/>
                  </a:lnTo>
                  <a:lnTo>
                    <a:pt x="170053" y="103510"/>
                  </a:lnTo>
                  <a:lnTo>
                    <a:pt x="166688" y="109243"/>
                  </a:lnTo>
                  <a:lnTo>
                    <a:pt x="163598" y="115605"/>
                  </a:lnTo>
                  <a:lnTo>
                    <a:pt x="160692" y="122387"/>
                  </a:lnTo>
                  <a:lnTo>
                    <a:pt x="158754" y="129448"/>
                  </a:lnTo>
                  <a:lnTo>
                    <a:pt x="157462" y="136696"/>
                  </a:lnTo>
                  <a:lnTo>
                    <a:pt x="156601" y="144067"/>
                  </a:lnTo>
                  <a:lnTo>
                    <a:pt x="155181" y="151521"/>
                  </a:lnTo>
                  <a:lnTo>
                    <a:pt x="153386" y="159031"/>
                  </a:lnTo>
                  <a:lnTo>
                    <a:pt x="151344" y="166577"/>
                  </a:lnTo>
                  <a:lnTo>
                    <a:pt x="149982" y="174995"/>
                  </a:lnTo>
                  <a:lnTo>
                    <a:pt x="149075" y="183994"/>
                  </a:lnTo>
                  <a:lnTo>
                    <a:pt x="148470" y="193379"/>
                  </a:lnTo>
                  <a:lnTo>
                    <a:pt x="147219" y="203023"/>
                  </a:lnTo>
                  <a:lnTo>
                    <a:pt x="145539" y="212838"/>
                  </a:lnTo>
                  <a:lnTo>
                    <a:pt x="143573" y="222769"/>
                  </a:lnTo>
                  <a:lnTo>
                    <a:pt x="142262" y="231930"/>
                  </a:lnTo>
                  <a:lnTo>
                    <a:pt x="141387" y="240576"/>
                  </a:lnTo>
                  <a:lnTo>
                    <a:pt x="140805" y="248881"/>
                  </a:lnTo>
                  <a:lnTo>
                    <a:pt x="140416" y="257804"/>
                  </a:lnTo>
                  <a:lnTo>
                    <a:pt x="139984" y="276749"/>
                  </a:lnTo>
                  <a:lnTo>
                    <a:pt x="139648" y="349206"/>
                  </a:lnTo>
                  <a:lnTo>
                    <a:pt x="140492" y="356014"/>
                  </a:lnTo>
                  <a:lnTo>
                    <a:pt x="143687" y="368094"/>
                  </a:lnTo>
                  <a:lnTo>
                    <a:pt x="147929" y="376849"/>
                  </a:lnTo>
                  <a:lnTo>
                    <a:pt x="154879" y="3874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SMARTInkAnnotation45"/>
            <p:cNvSpPr/>
            <p:nvPr/>
          </p:nvSpPr>
          <p:spPr>
            <a:xfrm>
              <a:off x="2835720" y="4420080"/>
              <a:ext cx="323280" cy="304560"/>
            </a:xfrm>
            <a:custGeom>
              <a:avLst/>
              <a:gdLst/>
              <a:ahLst/>
              <a:rect l="l" t="t" r="r" b="b"/>
              <a:pathLst>
                <a:path w="323444" h="304801">
                  <a:moveTo>
                    <a:pt x="120283" y="0"/>
                  </a:moveTo>
                  <a:lnTo>
                    <a:pt x="116238" y="0"/>
                  </a:lnTo>
                  <a:lnTo>
                    <a:pt x="114200" y="846"/>
                  </a:lnTo>
                  <a:lnTo>
                    <a:pt x="104266" y="7760"/>
                  </a:lnTo>
                  <a:lnTo>
                    <a:pt x="93148" y="13495"/>
                  </a:lnTo>
                  <a:lnTo>
                    <a:pt x="69255" y="25505"/>
                  </a:lnTo>
                  <a:lnTo>
                    <a:pt x="59222" y="32784"/>
                  </a:lnTo>
                  <a:lnTo>
                    <a:pt x="49118" y="40818"/>
                  </a:lnTo>
                  <a:lnTo>
                    <a:pt x="44053" y="44145"/>
                  </a:lnTo>
                  <a:lnTo>
                    <a:pt x="38983" y="47210"/>
                  </a:lnTo>
                  <a:lnTo>
                    <a:pt x="33910" y="50100"/>
                  </a:lnTo>
                  <a:lnTo>
                    <a:pt x="23758" y="55569"/>
                  </a:lnTo>
                  <a:lnTo>
                    <a:pt x="15859" y="60822"/>
                  </a:lnTo>
                  <a:lnTo>
                    <a:pt x="12567" y="63408"/>
                  </a:lnTo>
                  <a:lnTo>
                    <a:pt x="6652" y="66281"/>
                  </a:lnTo>
                  <a:lnTo>
                    <a:pt x="0" y="68126"/>
                  </a:lnTo>
                  <a:lnTo>
                    <a:pt x="301" y="69124"/>
                  </a:lnTo>
                  <a:lnTo>
                    <a:pt x="2894" y="72491"/>
                  </a:lnTo>
                  <a:lnTo>
                    <a:pt x="6463" y="73727"/>
                  </a:lnTo>
                  <a:lnTo>
                    <a:pt x="11383" y="74551"/>
                  </a:lnTo>
                  <a:lnTo>
                    <a:pt x="17203" y="75101"/>
                  </a:lnTo>
                  <a:lnTo>
                    <a:pt x="23623" y="75467"/>
                  </a:lnTo>
                  <a:lnTo>
                    <a:pt x="37530" y="75874"/>
                  </a:lnTo>
                  <a:lnTo>
                    <a:pt x="63685" y="76104"/>
                  </a:lnTo>
                  <a:lnTo>
                    <a:pt x="74931" y="76983"/>
                  </a:lnTo>
                  <a:lnTo>
                    <a:pt x="87509" y="78415"/>
                  </a:lnTo>
                  <a:lnTo>
                    <a:pt x="148241" y="86797"/>
                  </a:lnTo>
                  <a:lnTo>
                    <a:pt x="163475" y="90039"/>
                  </a:lnTo>
                  <a:lnTo>
                    <a:pt x="177864" y="93892"/>
                  </a:lnTo>
                  <a:lnTo>
                    <a:pt x="220600" y="107407"/>
                  </a:lnTo>
                  <a:lnTo>
                    <a:pt x="235421" y="112244"/>
                  </a:lnTo>
                  <a:lnTo>
                    <a:pt x="248689" y="117163"/>
                  </a:lnTo>
                  <a:lnTo>
                    <a:pt x="260920" y="122136"/>
                  </a:lnTo>
                  <a:lnTo>
                    <a:pt x="272461" y="127143"/>
                  </a:lnTo>
                  <a:lnTo>
                    <a:pt x="282695" y="132176"/>
                  </a:lnTo>
                  <a:lnTo>
                    <a:pt x="292058" y="137224"/>
                  </a:lnTo>
                  <a:lnTo>
                    <a:pt x="300840" y="142282"/>
                  </a:lnTo>
                  <a:lnTo>
                    <a:pt x="307541" y="148196"/>
                  </a:lnTo>
                  <a:lnTo>
                    <a:pt x="312855" y="154677"/>
                  </a:lnTo>
                  <a:lnTo>
                    <a:pt x="317244" y="161538"/>
                  </a:lnTo>
                  <a:lnTo>
                    <a:pt x="320171" y="168652"/>
                  </a:lnTo>
                  <a:lnTo>
                    <a:pt x="322122" y="175935"/>
                  </a:lnTo>
                  <a:lnTo>
                    <a:pt x="323422" y="183330"/>
                  </a:lnTo>
                  <a:lnTo>
                    <a:pt x="323443" y="189954"/>
                  </a:lnTo>
                  <a:lnTo>
                    <a:pt x="322610" y="196062"/>
                  </a:lnTo>
                  <a:lnTo>
                    <a:pt x="321207" y="201828"/>
                  </a:lnTo>
                  <a:lnTo>
                    <a:pt x="319426" y="208212"/>
                  </a:lnTo>
                  <a:lnTo>
                    <a:pt x="315189" y="222079"/>
                  </a:lnTo>
                  <a:lnTo>
                    <a:pt x="311180" y="228486"/>
                  </a:lnTo>
                  <a:lnTo>
                    <a:pt x="305968" y="234451"/>
                  </a:lnTo>
                  <a:lnTo>
                    <a:pt x="299953" y="240120"/>
                  </a:lnTo>
                  <a:lnTo>
                    <a:pt x="292556" y="245594"/>
                  </a:lnTo>
                  <a:lnTo>
                    <a:pt x="284238" y="250936"/>
                  </a:lnTo>
                  <a:lnTo>
                    <a:pt x="275307" y="256191"/>
                  </a:lnTo>
                  <a:lnTo>
                    <a:pt x="265966" y="261387"/>
                  </a:lnTo>
                  <a:lnTo>
                    <a:pt x="246556" y="271676"/>
                  </a:lnTo>
                  <a:lnTo>
                    <a:pt x="237485" y="275944"/>
                  </a:lnTo>
                  <a:lnTo>
                    <a:pt x="228898" y="279636"/>
                  </a:lnTo>
                  <a:lnTo>
                    <a:pt x="220633" y="282944"/>
                  </a:lnTo>
                  <a:lnTo>
                    <a:pt x="211736" y="286843"/>
                  </a:lnTo>
                  <a:lnTo>
                    <a:pt x="192820" y="295690"/>
                  </a:lnTo>
                  <a:lnTo>
                    <a:pt x="183034" y="298727"/>
                  </a:lnTo>
                  <a:lnTo>
                    <a:pt x="173124" y="300751"/>
                  </a:lnTo>
                  <a:lnTo>
                    <a:pt x="163130" y="302101"/>
                  </a:lnTo>
                  <a:lnTo>
                    <a:pt x="152235" y="303000"/>
                  </a:lnTo>
                  <a:lnTo>
                    <a:pt x="140738" y="303600"/>
                  </a:lnTo>
                  <a:lnTo>
                    <a:pt x="97423" y="3048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SMARTInkAnnotation46"/>
            <p:cNvSpPr/>
            <p:nvPr/>
          </p:nvSpPr>
          <p:spPr>
            <a:xfrm>
              <a:off x="2940840" y="4397400"/>
              <a:ext cx="297000" cy="1512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97181" h="15211">
                  <a:moveTo>
                    <a:pt x="0" y="15210"/>
                  </a:moveTo>
                  <a:lnTo>
                    <a:pt x="0" y="11165"/>
                  </a:lnTo>
                  <a:lnTo>
                    <a:pt x="847" y="9973"/>
                  </a:lnTo>
                  <a:lnTo>
                    <a:pt x="2258" y="9179"/>
                  </a:lnTo>
                  <a:lnTo>
                    <a:pt x="4045" y="8649"/>
                  </a:lnTo>
                  <a:lnTo>
                    <a:pt x="6930" y="7450"/>
                  </a:lnTo>
                  <a:lnTo>
                    <a:pt x="10547" y="5803"/>
                  </a:lnTo>
                  <a:lnTo>
                    <a:pt x="14651" y="3859"/>
                  </a:lnTo>
                  <a:lnTo>
                    <a:pt x="19928" y="2563"/>
                  </a:lnTo>
                  <a:lnTo>
                    <a:pt x="25985" y="1698"/>
                  </a:lnTo>
                  <a:lnTo>
                    <a:pt x="32564" y="1122"/>
                  </a:lnTo>
                  <a:lnTo>
                    <a:pt x="40336" y="738"/>
                  </a:lnTo>
                  <a:lnTo>
                    <a:pt x="58003" y="312"/>
                  </a:lnTo>
                  <a:lnTo>
                    <a:pt x="131678" y="0"/>
                  </a:lnTo>
                  <a:lnTo>
                    <a:pt x="146205" y="837"/>
                  </a:lnTo>
                  <a:lnTo>
                    <a:pt x="160970" y="2242"/>
                  </a:lnTo>
                  <a:lnTo>
                    <a:pt x="175893" y="4024"/>
                  </a:lnTo>
                  <a:lnTo>
                    <a:pt x="190076" y="5213"/>
                  </a:lnTo>
                  <a:lnTo>
                    <a:pt x="203764" y="6005"/>
                  </a:lnTo>
                  <a:lnTo>
                    <a:pt x="217122" y="6534"/>
                  </a:lnTo>
                  <a:lnTo>
                    <a:pt x="229415" y="7732"/>
                  </a:lnTo>
                  <a:lnTo>
                    <a:pt x="240996" y="9378"/>
                  </a:lnTo>
                  <a:lnTo>
                    <a:pt x="252104" y="11323"/>
                  </a:lnTo>
                  <a:lnTo>
                    <a:pt x="262050" y="12618"/>
                  </a:lnTo>
                  <a:lnTo>
                    <a:pt x="271220" y="13482"/>
                  </a:lnTo>
                  <a:lnTo>
                    <a:pt x="297180" y="152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SMARTInkAnnotation47"/>
            <p:cNvSpPr/>
            <p:nvPr/>
          </p:nvSpPr>
          <p:spPr>
            <a:xfrm>
              <a:off x="3285720" y="4374360"/>
              <a:ext cx="217800" cy="41688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416880"/>
                <a:gd name="textAreaBottom" fmla="*/ 417240 h 416880"/>
              </a:gdLst>
              <a:ahLst/>
              <a:rect l="textAreaLeft" t="textAreaTop" r="textAreaRight" b="textAreaBottom"/>
              <a:pathLst>
                <a:path w="217998" h="416967">
                  <a:moveTo>
                    <a:pt x="119962" y="0"/>
                  </a:moveTo>
                  <a:lnTo>
                    <a:pt x="115917" y="4045"/>
                  </a:lnTo>
                  <a:lnTo>
                    <a:pt x="114725" y="6083"/>
                  </a:lnTo>
                  <a:lnTo>
                    <a:pt x="113401" y="10606"/>
                  </a:lnTo>
                  <a:lnTo>
                    <a:pt x="108297" y="17696"/>
                  </a:lnTo>
                  <a:lnTo>
                    <a:pt x="104565" y="21957"/>
                  </a:lnTo>
                  <a:lnTo>
                    <a:pt x="98161" y="33466"/>
                  </a:lnTo>
                  <a:lnTo>
                    <a:pt x="95268" y="40090"/>
                  </a:lnTo>
                  <a:lnTo>
                    <a:pt x="91646" y="47047"/>
                  </a:lnTo>
                  <a:lnTo>
                    <a:pt x="87538" y="54225"/>
                  </a:lnTo>
                  <a:lnTo>
                    <a:pt x="64733" y="92085"/>
                  </a:lnTo>
                  <a:lnTo>
                    <a:pt x="58589" y="102877"/>
                  </a:lnTo>
                  <a:lnTo>
                    <a:pt x="47248" y="123899"/>
                  </a:lnTo>
                  <a:lnTo>
                    <a:pt x="41853" y="135092"/>
                  </a:lnTo>
                  <a:lnTo>
                    <a:pt x="36562" y="146788"/>
                  </a:lnTo>
                  <a:lnTo>
                    <a:pt x="31342" y="158819"/>
                  </a:lnTo>
                  <a:lnTo>
                    <a:pt x="26169" y="171919"/>
                  </a:lnTo>
                  <a:lnTo>
                    <a:pt x="15905" y="200022"/>
                  </a:lnTo>
                  <a:lnTo>
                    <a:pt x="11644" y="213782"/>
                  </a:lnTo>
                  <a:lnTo>
                    <a:pt x="7957" y="227188"/>
                  </a:lnTo>
                  <a:lnTo>
                    <a:pt x="4652" y="240359"/>
                  </a:lnTo>
                  <a:lnTo>
                    <a:pt x="2449" y="253372"/>
                  </a:lnTo>
                  <a:lnTo>
                    <a:pt x="979" y="266281"/>
                  </a:lnTo>
                  <a:lnTo>
                    <a:pt x="0" y="279121"/>
                  </a:lnTo>
                  <a:lnTo>
                    <a:pt x="195" y="291914"/>
                  </a:lnTo>
                  <a:lnTo>
                    <a:pt x="1170" y="304676"/>
                  </a:lnTo>
                  <a:lnTo>
                    <a:pt x="2667" y="317417"/>
                  </a:lnTo>
                  <a:lnTo>
                    <a:pt x="5359" y="329298"/>
                  </a:lnTo>
                  <a:lnTo>
                    <a:pt x="8846" y="340606"/>
                  </a:lnTo>
                  <a:lnTo>
                    <a:pt x="12865" y="351530"/>
                  </a:lnTo>
                  <a:lnTo>
                    <a:pt x="17237" y="361354"/>
                  </a:lnTo>
                  <a:lnTo>
                    <a:pt x="21845" y="370442"/>
                  </a:lnTo>
                  <a:lnTo>
                    <a:pt x="26611" y="379042"/>
                  </a:lnTo>
                  <a:lnTo>
                    <a:pt x="31482" y="386468"/>
                  </a:lnTo>
                  <a:lnTo>
                    <a:pt x="36422" y="393112"/>
                  </a:lnTo>
                  <a:lnTo>
                    <a:pt x="41408" y="399235"/>
                  </a:lnTo>
                  <a:lnTo>
                    <a:pt x="48120" y="404163"/>
                  </a:lnTo>
                  <a:lnTo>
                    <a:pt x="55980" y="408296"/>
                  </a:lnTo>
                  <a:lnTo>
                    <a:pt x="64608" y="411898"/>
                  </a:lnTo>
                  <a:lnTo>
                    <a:pt x="73746" y="414298"/>
                  </a:lnTo>
                  <a:lnTo>
                    <a:pt x="83225" y="415899"/>
                  </a:lnTo>
                  <a:lnTo>
                    <a:pt x="92931" y="416966"/>
                  </a:lnTo>
                  <a:lnTo>
                    <a:pt x="101941" y="415984"/>
                  </a:lnTo>
                  <a:lnTo>
                    <a:pt x="110488" y="413636"/>
                  </a:lnTo>
                  <a:lnTo>
                    <a:pt x="118726" y="410378"/>
                  </a:lnTo>
                  <a:lnTo>
                    <a:pt x="126758" y="405665"/>
                  </a:lnTo>
                  <a:lnTo>
                    <a:pt x="134653" y="399984"/>
                  </a:lnTo>
                  <a:lnTo>
                    <a:pt x="142456" y="393656"/>
                  </a:lnTo>
                  <a:lnTo>
                    <a:pt x="150198" y="385204"/>
                  </a:lnTo>
                  <a:lnTo>
                    <a:pt x="157899" y="375336"/>
                  </a:lnTo>
                  <a:lnTo>
                    <a:pt x="165574" y="364524"/>
                  </a:lnTo>
                  <a:lnTo>
                    <a:pt x="173229" y="352236"/>
                  </a:lnTo>
                  <a:lnTo>
                    <a:pt x="180874" y="338964"/>
                  </a:lnTo>
                  <a:lnTo>
                    <a:pt x="188510" y="325036"/>
                  </a:lnTo>
                  <a:lnTo>
                    <a:pt x="195294" y="310671"/>
                  </a:lnTo>
                  <a:lnTo>
                    <a:pt x="201510" y="296014"/>
                  </a:lnTo>
                  <a:lnTo>
                    <a:pt x="207348" y="281163"/>
                  </a:lnTo>
                  <a:lnTo>
                    <a:pt x="211239" y="267029"/>
                  </a:lnTo>
                  <a:lnTo>
                    <a:pt x="213834" y="253372"/>
                  </a:lnTo>
                  <a:lnTo>
                    <a:pt x="215563" y="240035"/>
                  </a:lnTo>
                  <a:lnTo>
                    <a:pt x="216716" y="226910"/>
                  </a:lnTo>
                  <a:lnTo>
                    <a:pt x="217484" y="213926"/>
                  </a:lnTo>
                  <a:lnTo>
                    <a:pt x="217997" y="201038"/>
                  </a:lnTo>
                  <a:lnTo>
                    <a:pt x="217492" y="188212"/>
                  </a:lnTo>
                  <a:lnTo>
                    <a:pt x="216309" y="175428"/>
                  </a:lnTo>
                  <a:lnTo>
                    <a:pt x="214673" y="162672"/>
                  </a:lnTo>
                  <a:lnTo>
                    <a:pt x="211043" y="150781"/>
                  </a:lnTo>
                  <a:lnTo>
                    <a:pt x="206083" y="139468"/>
                  </a:lnTo>
                  <a:lnTo>
                    <a:pt x="194644" y="117866"/>
                  </a:lnTo>
                  <a:lnTo>
                    <a:pt x="183917" y="96976"/>
                  </a:lnTo>
                  <a:lnTo>
                    <a:pt x="178685" y="88357"/>
                  </a:lnTo>
                  <a:lnTo>
                    <a:pt x="173504" y="80918"/>
                  </a:lnTo>
                  <a:lnTo>
                    <a:pt x="168357" y="74266"/>
                  </a:lnTo>
                  <a:lnTo>
                    <a:pt x="162385" y="68137"/>
                  </a:lnTo>
                  <a:lnTo>
                    <a:pt x="155865" y="62358"/>
                  </a:lnTo>
                  <a:lnTo>
                    <a:pt x="148977" y="56812"/>
                  </a:lnTo>
                  <a:lnTo>
                    <a:pt x="143539" y="52268"/>
                  </a:lnTo>
                  <a:lnTo>
                    <a:pt x="139066" y="48392"/>
                  </a:lnTo>
                  <a:lnTo>
                    <a:pt x="135238" y="44962"/>
                  </a:lnTo>
                  <a:lnTo>
                    <a:pt x="128727" y="38892"/>
                  </a:lnTo>
                  <a:lnTo>
                    <a:pt x="119962" y="304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SMARTInkAnnotation48"/>
            <p:cNvSpPr/>
            <p:nvPr/>
          </p:nvSpPr>
          <p:spPr>
            <a:xfrm>
              <a:off x="3544560" y="4465800"/>
              <a:ext cx="213840" cy="31428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3975" h="314586">
                  <a:moveTo>
                    <a:pt x="74594" y="7621"/>
                  </a:moveTo>
                  <a:lnTo>
                    <a:pt x="70549" y="11665"/>
                  </a:lnTo>
                  <a:lnTo>
                    <a:pt x="68511" y="12857"/>
                  </a:lnTo>
                  <a:lnTo>
                    <a:pt x="63988" y="14181"/>
                  </a:lnTo>
                  <a:lnTo>
                    <a:pt x="61597" y="16227"/>
                  </a:lnTo>
                  <a:lnTo>
                    <a:pt x="53339" y="27198"/>
                  </a:lnTo>
                  <a:lnTo>
                    <a:pt x="49418" y="31679"/>
                  </a:lnTo>
                  <a:lnTo>
                    <a:pt x="45110" y="36359"/>
                  </a:lnTo>
                  <a:lnTo>
                    <a:pt x="41391" y="42866"/>
                  </a:lnTo>
                  <a:lnTo>
                    <a:pt x="38066" y="50591"/>
                  </a:lnTo>
                  <a:lnTo>
                    <a:pt x="35002" y="59127"/>
                  </a:lnTo>
                  <a:lnTo>
                    <a:pt x="31266" y="68205"/>
                  </a:lnTo>
                  <a:lnTo>
                    <a:pt x="27082" y="77643"/>
                  </a:lnTo>
                  <a:lnTo>
                    <a:pt x="22599" y="87322"/>
                  </a:lnTo>
                  <a:lnTo>
                    <a:pt x="18764" y="97162"/>
                  </a:lnTo>
                  <a:lnTo>
                    <a:pt x="15361" y="107108"/>
                  </a:lnTo>
                  <a:lnTo>
                    <a:pt x="12245" y="117125"/>
                  </a:lnTo>
                  <a:lnTo>
                    <a:pt x="9322" y="128037"/>
                  </a:lnTo>
                  <a:lnTo>
                    <a:pt x="6526" y="139545"/>
                  </a:lnTo>
                  <a:lnTo>
                    <a:pt x="3815" y="151450"/>
                  </a:lnTo>
                  <a:lnTo>
                    <a:pt x="2009" y="162773"/>
                  </a:lnTo>
                  <a:lnTo>
                    <a:pt x="803" y="173709"/>
                  </a:lnTo>
                  <a:lnTo>
                    <a:pt x="0" y="184386"/>
                  </a:lnTo>
                  <a:lnTo>
                    <a:pt x="312" y="195737"/>
                  </a:lnTo>
                  <a:lnTo>
                    <a:pt x="1366" y="207539"/>
                  </a:lnTo>
                  <a:lnTo>
                    <a:pt x="2915" y="219639"/>
                  </a:lnTo>
                  <a:lnTo>
                    <a:pt x="4795" y="231093"/>
                  </a:lnTo>
                  <a:lnTo>
                    <a:pt x="6895" y="242116"/>
                  </a:lnTo>
                  <a:lnTo>
                    <a:pt x="9142" y="252850"/>
                  </a:lnTo>
                  <a:lnTo>
                    <a:pt x="13179" y="262547"/>
                  </a:lnTo>
                  <a:lnTo>
                    <a:pt x="18411" y="271551"/>
                  </a:lnTo>
                  <a:lnTo>
                    <a:pt x="24439" y="280094"/>
                  </a:lnTo>
                  <a:lnTo>
                    <a:pt x="30997" y="287483"/>
                  </a:lnTo>
                  <a:lnTo>
                    <a:pt x="37909" y="294102"/>
                  </a:lnTo>
                  <a:lnTo>
                    <a:pt x="45057" y="300208"/>
                  </a:lnTo>
                  <a:lnTo>
                    <a:pt x="53210" y="305125"/>
                  </a:lnTo>
                  <a:lnTo>
                    <a:pt x="62031" y="309250"/>
                  </a:lnTo>
                  <a:lnTo>
                    <a:pt x="71299" y="312846"/>
                  </a:lnTo>
                  <a:lnTo>
                    <a:pt x="80864" y="314398"/>
                  </a:lnTo>
                  <a:lnTo>
                    <a:pt x="90628" y="314585"/>
                  </a:lnTo>
                  <a:lnTo>
                    <a:pt x="100523" y="313863"/>
                  </a:lnTo>
                  <a:lnTo>
                    <a:pt x="110507" y="312535"/>
                  </a:lnTo>
                  <a:lnTo>
                    <a:pt x="120549" y="310804"/>
                  </a:lnTo>
                  <a:lnTo>
                    <a:pt x="130631" y="308803"/>
                  </a:lnTo>
                  <a:lnTo>
                    <a:pt x="139892" y="304928"/>
                  </a:lnTo>
                  <a:lnTo>
                    <a:pt x="148605" y="299805"/>
                  </a:lnTo>
                  <a:lnTo>
                    <a:pt x="156955" y="293850"/>
                  </a:lnTo>
                  <a:lnTo>
                    <a:pt x="165062" y="286494"/>
                  </a:lnTo>
                  <a:lnTo>
                    <a:pt x="173005" y="278202"/>
                  </a:lnTo>
                  <a:lnTo>
                    <a:pt x="180842" y="269288"/>
                  </a:lnTo>
                  <a:lnTo>
                    <a:pt x="187759" y="259112"/>
                  </a:lnTo>
                  <a:lnTo>
                    <a:pt x="194064" y="248095"/>
                  </a:lnTo>
                  <a:lnTo>
                    <a:pt x="199960" y="236517"/>
                  </a:lnTo>
                  <a:lnTo>
                    <a:pt x="204738" y="224565"/>
                  </a:lnTo>
                  <a:lnTo>
                    <a:pt x="208771" y="212363"/>
                  </a:lnTo>
                  <a:lnTo>
                    <a:pt x="212305" y="199995"/>
                  </a:lnTo>
                  <a:lnTo>
                    <a:pt x="213815" y="187517"/>
                  </a:lnTo>
                  <a:lnTo>
                    <a:pt x="213974" y="174964"/>
                  </a:lnTo>
                  <a:lnTo>
                    <a:pt x="213234" y="162363"/>
                  </a:lnTo>
                  <a:lnTo>
                    <a:pt x="211894" y="148882"/>
                  </a:lnTo>
                  <a:lnTo>
                    <a:pt x="210154" y="134815"/>
                  </a:lnTo>
                  <a:lnTo>
                    <a:pt x="208147" y="120357"/>
                  </a:lnTo>
                  <a:lnTo>
                    <a:pt x="204270" y="108178"/>
                  </a:lnTo>
                  <a:lnTo>
                    <a:pt x="199145" y="97519"/>
                  </a:lnTo>
                  <a:lnTo>
                    <a:pt x="193188" y="87873"/>
                  </a:lnTo>
                  <a:lnTo>
                    <a:pt x="187523" y="78055"/>
                  </a:lnTo>
                  <a:lnTo>
                    <a:pt x="176713" y="58116"/>
                  </a:lnTo>
                  <a:lnTo>
                    <a:pt x="170613" y="48904"/>
                  </a:lnTo>
                  <a:lnTo>
                    <a:pt x="164007" y="40223"/>
                  </a:lnTo>
                  <a:lnTo>
                    <a:pt x="157063" y="31895"/>
                  </a:lnTo>
                  <a:lnTo>
                    <a:pt x="150740" y="25497"/>
                  </a:lnTo>
                  <a:lnTo>
                    <a:pt x="144832" y="20385"/>
                  </a:lnTo>
                  <a:lnTo>
                    <a:pt x="139199" y="16130"/>
                  </a:lnTo>
                  <a:lnTo>
                    <a:pt x="133750" y="12446"/>
                  </a:lnTo>
                  <a:lnTo>
                    <a:pt x="128425" y="9144"/>
                  </a:lnTo>
                  <a:lnTo>
                    <a:pt x="123181" y="6097"/>
                  </a:lnTo>
                  <a:lnTo>
                    <a:pt x="118839" y="4064"/>
                  </a:lnTo>
                  <a:lnTo>
                    <a:pt x="115097" y="2710"/>
                  </a:lnTo>
                  <a:lnTo>
                    <a:pt x="10507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SMARTInkAnnotation49"/>
            <p:cNvSpPr/>
            <p:nvPr/>
          </p:nvSpPr>
          <p:spPr>
            <a:xfrm>
              <a:off x="3911760" y="4435560"/>
              <a:ext cx="4320" cy="75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4391" h="7621">
                  <a:moveTo>
                    <a:pt x="4390" y="0"/>
                  </a:moveTo>
                  <a:lnTo>
                    <a:pt x="0" y="0"/>
                  </a:lnTo>
                  <a:lnTo>
                    <a:pt x="1875" y="0"/>
                  </a:lnTo>
                  <a:lnTo>
                    <a:pt x="2713" y="847"/>
                  </a:lnTo>
                  <a:lnTo>
                    <a:pt x="3272" y="2258"/>
                  </a:lnTo>
                  <a:lnTo>
                    <a:pt x="439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SMARTInkAnnotation50"/>
            <p:cNvSpPr/>
            <p:nvPr/>
          </p:nvSpPr>
          <p:spPr>
            <a:xfrm>
              <a:off x="2712240" y="4671720"/>
              <a:ext cx="128520" cy="2512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128612" h="251461">
                  <a:moveTo>
                    <a:pt x="0" y="0"/>
                  </a:moveTo>
                  <a:lnTo>
                    <a:pt x="8091" y="4045"/>
                  </a:lnTo>
                  <a:lnTo>
                    <a:pt x="11321" y="6084"/>
                  </a:lnTo>
                  <a:lnTo>
                    <a:pt x="14320" y="8289"/>
                  </a:lnTo>
                  <a:lnTo>
                    <a:pt x="17167" y="10606"/>
                  </a:lnTo>
                  <a:lnTo>
                    <a:pt x="19911" y="12151"/>
                  </a:lnTo>
                  <a:lnTo>
                    <a:pt x="22587" y="13181"/>
                  </a:lnTo>
                  <a:lnTo>
                    <a:pt x="25219" y="13867"/>
                  </a:lnTo>
                  <a:lnTo>
                    <a:pt x="29512" y="16018"/>
                  </a:lnTo>
                  <a:lnTo>
                    <a:pt x="34915" y="19146"/>
                  </a:lnTo>
                  <a:lnTo>
                    <a:pt x="41056" y="22924"/>
                  </a:lnTo>
                  <a:lnTo>
                    <a:pt x="47691" y="27983"/>
                  </a:lnTo>
                  <a:lnTo>
                    <a:pt x="54654" y="33895"/>
                  </a:lnTo>
                  <a:lnTo>
                    <a:pt x="61836" y="40377"/>
                  </a:lnTo>
                  <a:lnTo>
                    <a:pt x="69164" y="46392"/>
                  </a:lnTo>
                  <a:lnTo>
                    <a:pt x="76590" y="52094"/>
                  </a:lnTo>
                  <a:lnTo>
                    <a:pt x="84079" y="57590"/>
                  </a:lnTo>
                  <a:lnTo>
                    <a:pt x="90766" y="63793"/>
                  </a:lnTo>
                  <a:lnTo>
                    <a:pt x="96918" y="70468"/>
                  </a:lnTo>
                  <a:lnTo>
                    <a:pt x="102712" y="77459"/>
                  </a:lnTo>
                  <a:lnTo>
                    <a:pt x="108268" y="84660"/>
                  </a:lnTo>
                  <a:lnTo>
                    <a:pt x="113665" y="92000"/>
                  </a:lnTo>
                  <a:lnTo>
                    <a:pt x="118957" y="99433"/>
                  </a:lnTo>
                  <a:lnTo>
                    <a:pt x="122485" y="107775"/>
                  </a:lnTo>
                  <a:lnTo>
                    <a:pt x="124836" y="116724"/>
                  </a:lnTo>
                  <a:lnTo>
                    <a:pt x="126404" y="126076"/>
                  </a:lnTo>
                  <a:lnTo>
                    <a:pt x="127450" y="134851"/>
                  </a:lnTo>
                  <a:lnTo>
                    <a:pt x="128146" y="143241"/>
                  </a:lnTo>
                  <a:lnTo>
                    <a:pt x="128611" y="151374"/>
                  </a:lnTo>
                  <a:lnTo>
                    <a:pt x="128074" y="159336"/>
                  </a:lnTo>
                  <a:lnTo>
                    <a:pt x="126869" y="167184"/>
                  </a:lnTo>
                  <a:lnTo>
                    <a:pt x="125220" y="174956"/>
                  </a:lnTo>
                  <a:lnTo>
                    <a:pt x="122427" y="183525"/>
                  </a:lnTo>
                  <a:lnTo>
                    <a:pt x="118871" y="192623"/>
                  </a:lnTo>
                  <a:lnTo>
                    <a:pt x="111252" y="210070"/>
                  </a:lnTo>
                  <a:lnTo>
                    <a:pt x="105043" y="223469"/>
                  </a:lnTo>
                  <a:lnTo>
                    <a:pt x="101355" y="229413"/>
                  </a:lnTo>
                  <a:lnTo>
                    <a:pt x="97203" y="235068"/>
                  </a:lnTo>
                  <a:lnTo>
                    <a:pt x="83820" y="2514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SMARTInkAnnotation51"/>
            <p:cNvSpPr/>
            <p:nvPr/>
          </p:nvSpPr>
          <p:spPr>
            <a:xfrm>
              <a:off x="3893400" y="4077360"/>
              <a:ext cx="205200" cy="63972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205350" h="639909">
                  <a:moveTo>
                    <a:pt x="159990" y="289388"/>
                  </a:moveTo>
                  <a:lnTo>
                    <a:pt x="171341" y="266685"/>
                  </a:lnTo>
                  <a:lnTo>
                    <a:pt x="174330" y="261553"/>
                  </a:lnTo>
                  <a:lnTo>
                    <a:pt x="182168" y="249077"/>
                  </a:lnTo>
                  <a:lnTo>
                    <a:pt x="185781" y="243041"/>
                  </a:lnTo>
                  <a:lnTo>
                    <a:pt x="192055" y="231818"/>
                  </a:lnTo>
                  <a:lnTo>
                    <a:pt x="195407" y="218928"/>
                  </a:lnTo>
                  <a:lnTo>
                    <a:pt x="197744" y="204732"/>
                  </a:lnTo>
                  <a:lnTo>
                    <a:pt x="201605" y="189956"/>
                  </a:lnTo>
                  <a:lnTo>
                    <a:pt x="203885" y="174923"/>
                  </a:lnTo>
                  <a:lnTo>
                    <a:pt x="204898" y="158928"/>
                  </a:lnTo>
                  <a:lnTo>
                    <a:pt x="205349" y="140530"/>
                  </a:lnTo>
                  <a:lnTo>
                    <a:pt x="203291" y="123323"/>
                  </a:lnTo>
                  <a:lnTo>
                    <a:pt x="199555" y="107207"/>
                  </a:lnTo>
                  <a:lnTo>
                    <a:pt x="195072" y="91579"/>
                  </a:lnTo>
                  <a:lnTo>
                    <a:pt x="187788" y="68501"/>
                  </a:lnTo>
                  <a:lnTo>
                    <a:pt x="183602" y="61696"/>
                  </a:lnTo>
                  <a:lnTo>
                    <a:pt x="178271" y="55466"/>
                  </a:lnTo>
                  <a:lnTo>
                    <a:pt x="172177" y="49620"/>
                  </a:lnTo>
                  <a:lnTo>
                    <a:pt x="167268" y="44030"/>
                  </a:lnTo>
                  <a:lnTo>
                    <a:pt x="163148" y="38609"/>
                  </a:lnTo>
                  <a:lnTo>
                    <a:pt x="159555" y="33302"/>
                  </a:lnTo>
                  <a:lnTo>
                    <a:pt x="154620" y="28070"/>
                  </a:lnTo>
                  <a:lnTo>
                    <a:pt x="148789" y="22890"/>
                  </a:lnTo>
                  <a:lnTo>
                    <a:pt x="142363" y="17743"/>
                  </a:lnTo>
                  <a:lnTo>
                    <a:pt x="136385" y="13464"/>
                  </a:lnTo>
                  <a:lnTo>
                    <a:pt x="130706" y="9766"/>
                  </a:lnTo>
                  <a:lnTo>
                    <a:pt x="125227" y="6453"/>
                  </a:lnTo>
                  <a:lnTo>
                    <a:pt x="119882" y="4244"/>
                  </a:lnTo>
                  <a:lnTo>
                    <a:pt x="114624" y="2772"/>
                  </a:lnTo>
                  <a:lnTo>
                    <a:pt x="109426" y="1791"/>
                  </a:lnTo>
                  <a:lnTo>
                    <a:pt x="104267" y="1137"/>
                  </a:lnTo>
                  <a:lnTo>
                    <a:pt x="99135" y="700"/>
                  </a:lnTo>
                  <a:lnTo>
                    <a:pt x="94019" y="409"/>
                  </a:lnTo>
                  <a:lnTo>
                    <a:pt x="83821" y="87"/>
                  </a:lnTo>
                  <a:lnTo>
                    <a:pt x="78730" y="0"/>
                  </a:lnTo>
                  <a:lnTo>
                    <a:pt x="73643" y="790"/>
                  </a:lnTo>
                  <a:lnTo>
                    <a:pt x="68558" y="2163"/>
                  </a:lnTo>
                  <a:lnTo>
                    <a:pt x="63475" y="3925"/>
                  </a:lnTo>
                  <a:lnTo>
                    <a:pt x="58393" y="6793"/>
                  </a:lnTo>
                  <a:lnTo>
                    <a:pt x="53312" y="10398"/>
                  </a:lnTo>
                  <a:lnTo>
                    <a:pt x="48231" y="14495"/>
                  </a:lnTo>
                  <a:lnTo>
                    <a:pt x="43151" y="18919"/>
                  </a:lnTo>
                  <a:lnTo>
                    <a:pt x="38070" y="23562"/>
                  </a:lnTo>
                  <a:lnTo>
                    <a:pt x="32990" y="28351"/>
                  </a:lnTo>
                  <a:lnTo>
                    <a:pt x="28756" y="34083"/>
                  </a:lnTo>
                  <a:lnTo>
                    <a:pt x="25087" y="40445"/>
                  </a:lnTo>
                  <a:lnTo>
                    <a:pt x="18753" y="54287"/>
                  </a:lnTo>
                  <a:lnTo>
                    <a:pt x="13115" y="68905"/>
                  </a:lnTo>
                  <a:lnTo>
                    <a:pt x="10046" y="86127"/>
                  </a:lnTo>
                  <a:lnTo>
                    <a:pt x="7834" y="105917"/>
                  </a:lnTo>
                  <a:lnTo>
                    <a:pt x="6059" y="117121"/>
                  </a:lnTo>
                  <a:lnTo>
                    <a:pt x="4029" y="128823"/>
                  </a:lnTo>
                  <a:lnTo>
                    <a:pt x="2676" y="140858"/>
                  </a:lnTo>
                  <a:lnTo>
                    <a:pt x="1774" y="153115"/>
                  </a:lnTo>
                  <a:lnTo>
                    <a:pt x="1172" y="165519"/>
                  </a:lnTo>
                  <a:lnTo>
                    <a:pt x="504" y="190591"/>
                  </a:lnTo>
                  <a:lnTo>
                    <a:pt x="0" y="285805"/>
                  </a:lnTo>
                  <a:lnTo>
                    <a:pt x="837" y="299699"/>
                  </a:lnTo>
                  <a:lnTo>
                    <a:pt x="2241" y="314042"/>
                  </a:lnTo>
                  <a:lnTo>
                    <a:pt x="4024" y="328684"/>
                  </a:lnTo>
                  <a:lnTo>
                    <a:pt x="8262" y="358500"/>
                  </a:lnTo>
                  <a:lnTo>
                    <a:pt x="10578" y="373563"/>
                  </a:lnTo>
                  <a:lnTo>
                    <a:pt x="12121" y="387838"/>
                  </a:lnTo>
                  <a:lnTo>
                    <a:pt x="13150" y="401588"/>
                  </a:lnTo>
                  <a:lnTo>
                    <a:pt x="13837" y="414988"/>
                  </a:lnTo>
                  <a:lnTo>
                    <a:pt x="15141" y="428155"/>
                  </a:lnTo>
                  <a:lnTo>
                    <a:pt x="16857" y="441166"/>
                  </a:lnTo>
                  <a:lnTo>
                    <a:pt x="18848" y="454074"/>
                  </a:lnTo>
                  <a:lnTo>
                    <a:pt x="20175" y="466912"/>
                  </a:lnTo>
                  <a:lnTo>
                    <a:pt x="21060" y="479704"/>
                  </a:lnTo>
                  <a:lnTo>
                    <a:pt x="22043" y="504360"/>
                  </a:lnTo>
                  <a:lnTo>
                    <a:pt x="22480" y="526607"/>
                  </a:lnTo>
                  <a:lnTo>
                    <a:pt x="23443" y="537280"/>
                  </a:lnTo>
                  <a:lnTo>
                    <a:pt x="24932" y="547783"/>
                  </a:lnTo>
                  <a:lnTo>
                    <a:pt x="27998" y="566790"/>
                  </a:lnTo>
                  <a:lnTo>
                    <a:pt x="29360" y="580882"/>
                  </a:lnTo>
                  <a:lnTo>
                    <a:pt x="32223" y="595047"/>
                  </a:lnTo>
                  <a:lnTo>
                    <a:pt x="36337" y="612787"/>
                  </a:lnTo>
                  <a:lnTo>
                    <a:pt x="36914" y="616747"/>
                  </a:lnTo>
                  <a:lnTo>
                    <a:pt x="39814" y="623405"/>
                  </a:lnTo>
                  <a:lnTo>
                    <a:pt x="41772" y="626367"/>
                  </a:lnTo>
                  <a:lnTo>
                    <a:pt x="43949" y="631914"/>
                  </a:lnTo>
                  <a:lnTo>
                    <a:pt x="45690" y="6399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SMARTInkAnnotation52"/>
            <p:cNvSpPr/>
            <p:nvPr/>
          </p:nvSpPr>
          <p:spPr>
            <a:xfrm>
              <a:off x="3825000" y="4534560"/>
              <a:ext cx="205560" cy="2916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205740" h="29318">
                  <a:moveTo>
                    <a:pt x="0" y="0"/>
                  </a:moveTo>
                  <a:lnTo>
                    <a:pt x="8090" y="0"/>
                  </a:lnTo>
                  <a:lnTo>
                    <a:pt x="12167" y="846"/>
                  </a:lnTo>
                  <a:lnTo>
                    <a:pt x="16577" y="2258"/>
                  </a:lnTo>
                  <a:lnTo>
                    <a:pt x="21211" y="4045"/>
                  </a:lnTo>
                  <a:lnTo>
                    <a:pt x="25994" y="6083"/>
                  </a:lnTo>
                  <a:lnTo>
                    <a:pt x="35824" y="10606"/>
                  </a:lnTo>
                  <a:lnTo>
                    <a:pt x="41663" y="12150"/>
                  </a:lnTo>
                  <a:lnTo>
                    <a:pt x="48095" y="13181"/>
                  </a:lnTo>
                  <a:lnTo>
                    <a:pt x="54922" y="13867"/>
                  </a:lnTo>
                  <a:lnTo>
                    <a:pt x="62015" y="15171"/>
                  </a:lnTo>
                  <a:lnTo>
                    <a:pt x="69283" y="16887"/>
                  </a:lnTo>
                  <a:lnTo>
                    <a:pt x="76669" y="18878"/>
                  </a:lnTo>
                  <a:lnTo>
                    <a:pt x="84979" y="20206"/>
                  </a:lnTo>
                  <a:lnTo>
                    <a:pt x="93905" y="21091"/>
                  </a:lnTo>
                  <a:lnTo>
                    <a:pt x="103244" y="21680"/>
                  </a:lnTo>
                  <a:lnTo>
                    <a:pt x="112009" y="22920"/>
                  </a:lnTo>
                  <a:lnTo>
                    <a:pt x="120392" y="24593"/>
                  </a:lnTo>
                  <a:lnTo>
                    <a:pt x="128521" y="26556"/>
                  </a:lnTo>
                  <a:lnTo>
                    <a:pt x="136481" y="27864"/>
                  </a:lnTo>
                  <a:lnTo>
                    <a:pt x="144327" y="28736"/>
                  </a:lnTo>
                  <a:lnTo>
                    <a:pt x="152097" y="29317"/>
                  </a:lnTo>
                  <a:lnTo>
                    <a:pt x="160665" y="28858"/>
                  </a:lnTo>
                  <a:lnTo>
                    <a:pt x="169762" y="27706"/>
                  </a:lnTo>
                  <a:lnTo>
                    <a:pt x="179214" y="26091"/>
                  </a:lnTo>
                  <a:lnTo>
                    <a:pt x="186363" y="25014"/>
                  </a:lnTo>
                  <a:lnTo>
                    <a:pt x="191975" y="24296"/>
                  </a:lnTo>
                  <a:lnTo>
                    <a:pt x="205739" y="228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SMARTInkAnnotation53"/>
            <p:cNvSpPr/>
            <p:nvPr/>
          </p:nvSpPr>
          <p:spPr>
            <a:xfrm>
              <a:off x="4137120" y="4389840"/>
              <a:ext cx="45720" cy="3351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45721" h="335281">
                  <a:moveTo>
                    <a:pt x="0" y="0"/>
                  </a:moveTo>
                  <a:lnTo>
                    <a:pt x="4045" y="4045"/>
                  </a:lnTo>
                  <a:lnTo>
                    <a:pt x="5237" y="6930"/>
                  </a:lnTo>
                  <a:lnTo>
                    <a:pt x="6561" y="14652"/>
                  </a:lnTo>
                  <a:lnTo>
                    <a:pt x="7149" y="23727"/>
                  </a:lnTo>
                  <a:lnTo>
                    <a:pt x="7306" y="28518"/>
                  </a:lnTo>
                  <a:lnTo>
                    <a:pt x="8257" y="34252"/>
                  </a:lnTo>
                  <a:lnTo>
                    <a:pt x="9738" y="40615"/>
                  </a:lnTo>
                  <a:lnTo>
                    <a:pt x="11572" y="47397"/>
                  </a:lnTo>
                  <a:lnTo>
                    <a:pt x="12795" y="54458"/>
                  </a:lnTo>
                  <a:lnTo>
                    <a:pt x="13610" y="61706"/>
                  </a:lnTo>
                  <a:lnTo>
                    <a:pt x="14153" y="69077"/>
                  </a:lnTo>
                  <a:lnTo>
                    <a:pt x="14515" y="76531"/>
                  </a:lnTo>
                  <a:lnTo>
                    <a:pt x="14918" y="91588"/>
                  </a:lnTo>
                  <a:lnTo>
                    <a:pt x="15872" y="100005"/>
                  </a:lnTo>
                  <a:lnTo>
                    <a:pt x="17355" y="109004"/>
                  </a:lnTo>
                  <a:lnTo>
                    <a:pt x="19189" y="118389"/>
                  </a:lnTo>
                  <a:lnTo>
                    <a:pt x="20413" y="128033"/>
                  </a:lnTo>
                  <a:lnTo>
                    <a:pt x="21228" y="137849"/>
                  </a:lnTo>
                  <a:lnTo>
                    <a:pt x="21773" y="147779"/>
                  </a:lnTo>
                  <a:lnTo>
                    <a:pt x="22377" y="167844"/>
                  </a:lnTo>
                  <a:lnTo>
                    <a:pt x="22537" y="177936"/>
                  </a:lnTo>
                  <a:lnTo>
                    <a:pt x="23492" y="188051"/>
                  </a:lnTo>
                  <a:lnTo>
                    <a:pt x="24974" y="198181"/>
                  </a:lnTo>
                  <a:lnTo>
                    <a:pt x="26809" y="208320"/>
                  </a:lnTo>
                  <a:lnTo>
                    <a:pt x="28033" y="217621"/>
                  </a:lnTo>
                  <a:lnTo>
                    <a:pt x="28848" y="226360"/>
                  </a:lnTo>
                  <a:lnTo>
                    <a:pt x="29393" y="234727"/>
                  </a:lnTo>
                  <a:lnTo>
                    <a:pt x="30602" y="243691"/>
                  </a:lnTo>
                  <a:lnTo>
                    <a:pt x="32254" y="253055"/>
                  </a:lnTo>
                  <a:lnTo>
                    <a:pt x="34203" y="262682"/>
                  </a:lnTo>
                  <a:lnTo>
                    <a:pt x="35502" y="270796"/>
                  </a:lnTo>
                  <a:lnTo>
                    <a:pt x="36368" y="277897"/>
                  </a:lnTo>
                  <a:lnTo>
                    <a:pt x="36945" y="284325"/>
                  </a:lnTo>
                  <a:lnTo>
                    <a:pt x="38177" y="290304"/>
                  </a:lnTo>
                  <a:lnTo>
                    <a:pt x="39845" y="295982"/>
                  </a:lnTo>
                  <a:lnTo>
                    <a:pt x="41803" y="301461"/>
                  </a:lnTo>
                  <a:lnTo>
                    <a:pt x="43108" y="306807"/>
                  </a:lnTo>
                  <a:lnTo>
                    <a:pt x="43979" y="312065"/>
                  </a:lnTo>
                  <a:lnTo>
                    <a:pt x="44946" y="321576"/>
                  </a:lnTo>
                  <a:lnTo>
                    <a:pt x="45204" y="325297"/>
                  </a:lnTo>
                  <a:lnTo>
                    <a:pt x="45720" y="3352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SMARTInkAnnotation54"/>
            <p:cNvSpPr/>
            <p:nvPr/>
          </p:nvSpPr>
          <p:spPr>
            <a:xfrm>
              <a:off x="4038120" y="4618440"/>
              <a:ext cx="251280" cy="756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51461" h="7620">
                  <a:moveTo>
                    <a:pt x="0" y="0"/>
                  </a:moveTo>
                  <a:lnTo>
                    <a:pt x="6561" y="0"/>
                  </a:lnTo>
                  <a:lnTo>
                    <a:pt x="9454" y="847"/>
                  </a:lnTo>
                  <a:lnTo>
                    <a:pt x="19441" y="4045"/>
                  </a:lnTo>
                  <a:lnTo>
                    <a:pt x="24814" y="5237"/>
                  </a:lnTo>
                  <a:lnTo>
                    <a:pt x="30090" y="6031"/>
                  </a:lnTo>
                  <a:lnTo>
                    <a:pt x="35300" y="6561"/>
                  </a:lnTo>
                  <a:lnTo>
                    <a:pt x="41313" y="6914"/>
                  </a:lnTo>
                  <a:lnTo>
                    <a:pt x="54768" y="7306"/>
                  </a:lnTo>
                  <a:lnTo>
                    <a:pt x="122644" y="7607"/>
                  </a:lnTo>
                  <a:lnTo>
                    <a:pt x="189037" y="7619"/>
                  </a:lnTo>
                  <a:lnTo>
                    <a:pt x="197145" y="6773"/>
                  </a:lnTo>
                  <a:lnTo>
                    <a:pt x="205090" y="5362"/>
                  </a:lnTo>
                  <a:lnTo>
                    <a:pt x="212927" y="3575"/>
                  </a:lnTo>
                  <a:lnTo>
                    <a:pt x="219844" y="2383"/>
                  </a:lnTo>
                  <a:lnTo>
                    <a:pt x="226150" y="1589"/>
                  </a:lnTo>
                  <a:lnTo>
                    <a:pt x="232046" y="1059"/>
                  </a:lnTo>
                  <a:lnTo>
                    <a:pt x="236824" y="706"/>
                  </a:lnTo>
                  <a:lnTo>
                    <a:pt x="25146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SMARTInkAnnotation55"/>
            <p:cNvSpPr/>
            <p:nvPr/>
          </p:nvSpPr>
          <p:spPr>
            <a:xfrm>
              <a:off x="4297320" y="4246200"/>
              <a:ext cx="297000" cy="1659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165960"/>
                <a:gd name="textAreaBottom" fmla="*/ 165960 h 165960"/>
              </a:gdLst>
              <a:ahLst/>
              <a:rect l="textAreaLeft" t="textAreaTop" r="textAreaRight" b="textAreaBottom"/>
              <a:pathLst>
                <a:path w="297181" h="166127">
                  <a:moveTo>
                    <a:pt x="0" y="21699"/>
                  </a:moveTo>
                  <a:lnTo>
                    <a:pt x="0" y="17654"/>
                  </a:lnTo>
                  <a:lnTo>
                    <a:pt x="846" y="16462"/>
                  </a:lnTo>
                  <a:lnTo>
                    <a:pt x="2258" y="15668"/>
                  </a:lnTo>
                  <a:lnTo>
                    <a:pt x="4045" y="15138"/>
                  </a:lnTo>
                  <a:lnTo>
                    <a:pt x="8289" y="12292"/>
                  </a:lnTo>
                  <a:lnTo>
                    <a:pt x="10606" y="10348"/>
                  </a:lnTo>
                  <a:lnTo>
                    <a:pt x="13844" y="9051"/>
                  </a:lnTo>
                  <a:lnTo>
                    <a:pt x="27339" y="6381"/>
                  </a:lnTo>
                  <a:lnTo>
                    <a:pt x="33466" y="4713"/>
                  </a:lnTo>
                  <a:lnTo>
                    <a:pt x="40090" y="2755"/>
                  </a:lnTo>
                  <a:lnTo>
                    <a:pt x="47047" y="1449"/>
                  </a:lnTo>
                  <a:lnTo>
                    <a:pt x="54225" y="579"/>
                  </a:lnTo>
                  <a:lnTo>
                    <a:pt x="61550" y="0"/>
                  </a:lnTo>
                  <a:lnTo>
                    <a:pt x="68973" y="460"/>
                  </a:lnTo>
                  <a:lnTo>
                    <a:pt x="76462" y="1613"/>
                  </a:lnTo>
                  <a:lnTo>
                    <a:pt x="83995" y="3228"/>
                  </a:lnTo>
                  <a:lnTo>
                    <a:pt x="92403" y="4305"/>
                  </a:lnTo>
                  <a:lnTo>
                    <a:pt x="101395" y="5023"/>
                  </a:lnTo>
                  <a:lnTo>
                    <a:pt x="110776" y="5502"/>
                  </a:lnTo>
                  <a:lnTo>
                    <a:pt x="119571" y="6667"/>
                  </a:lnTo>
                  <a:lnTo>
                    <a:pt x="127974" y="8292"/>
                  </a:lnTo>
                  <a:lnTo>
                    <a:pt x="136116" y="10221"/>
                  </a:lnTo>
                  <a:lnTo>
                    <a:pt x="143237" y="12353"/>
                  </a:lnTo>
                  <a:lnTo>
                    <a:pt x="149678" y="14622"/>
                  </a:lnTo>
                  <a:lnTo>
                    <a:pt x="155666" y="16981"/>
                  </a:lnTo>
                  <a:lnTo>
                    <a:pt x="161350" y="19400"/>
                  </a:lnTo>
                  <a:lnTo>
                    <a:pt x="172182" y="24347"/>
                  </a:lnTo>
                  <a:lnTo>
                    <a:pt x="180383" y="29366"/>
                  </a:lnTo>
                  <a:lnTo>
                    <a:pt x="183756" y="31891"/>
                  </a:lnTo>
                  <a:lnTo>
                    <a:pt x="185157" y="35267"/>
                  </a:lnTo>
                  <a:lnTo>
                    <a:pt x="185244" y="39211"/>
                  </a:lnTo>
                  <a:lnTo>
                    <a:pt x="184456" y="43534"/>
                  </a:lnTo>
                  <a:lnTo>
                    <a:pt x="183931" y="47263"/>
                  </a:lnTo>
                  <a:lnTo>
                    <a:pt x="183581" y="50595"/>
                  </a:lnTo>
                  <a:lnTo>
                    <a:pt x="183347" y="53663"/>
                  </a:lnTo>
                  <a:lnTo>
                    <a:pt x="181498" y="56555"/>
                  </a:lnTo>
                  <a:lnTo>
                    <a:pt x="178572" y="59329"/>
                  </a:lnTo>
                  <a:lnTo>
                    <a:pt x="174928" y="62026"/>
                  </a:lnTo>
                  <a:lnTo>
                    <a:pt x="169959" y="64671"/>
                  </a:lnTo>
                  <a:lnTo>
                    <a:pt x="164106" y="67280"/>
                  </a:lnTo>
                  <a:lnTo>
                    <a:pt x="157664" y="69866"/>
                  </a:lnTo>
                  <a:lnTo>
                    <a:pt x="151676" y="73284"/>
                  </a:lnTo>
                  <a:lnTo>
                    <a:pt x="145991" y="77255"/>
                  </a:lnTo>
                  <a:lnTo>
                    <a:pt x="140506" y="81597"/>
                  </a:lnTo>
                  <a:lnTo>
                    <a:pt x="134311" y="85337"/>
                  </a:lnTo>
                  <a:lnTo>
                    <a:pt x="127641" y="88678"/>
                  </a:lnTo>
                  <a:lnTo>
                    <a:pt x="114303" y="94648"/>
                  </a:lnTo>
                  <a:lnTo>
                    <a:pt x="97273" y="102768"/>
                  </a:lnTo>
                  <a:lnTo>
                    <a:pt x="86694" y="107966"/>
                  </a:lnTo>
                  <a:lnTo>
                    <a:pt x="78606" y="113097"/>
                  </a:lnTo>
                  <a:lnTo>
                    <a:pt x="75265" y="115651"/>
                  </a:lnTo>
                  <a:lnTo>
                    <a:pt x="73036" y="118201"/>
                  </a:lnTo>
                  <a:lnTo>
                    <a:pt x="71551" y="120746"/>
                  </a:lnTo>
                  <a:lnTo>
                    <a:pt x="69900" y="125834"/>
                  </a:lnTo>
                  <a:lnTo>
                    <a:pt x="69167" y="130917"/>
                  </a:lnTo>
                  <a:lnTo>
                    <a:pt x="69819" y="133457"/>
                  </a:lnTo>
                  <a:lnTo>
                    <a:pt x="72799" y="138538"/>
                  </a:lnTo>
                  <a:lnTo>
                    <a:pt x="81462" y="143619"/>
                  </a:lnTo>
                  <a:lnTo>
                    <a:pt x="87328" y="146159"/>
                  </a:lnTo>
                  <a:lnTo>
                    <a:pt x="93778" y="148699"/>
                  </a:lnTo>
                  <a:lnTo>
                    <a:pt x="107720" y="153779"/>
                  </a:lnTo>
                  <a:lnTo>
                    <a:pt x="115839" y="155472"/>
                  </a:lnTo>
                  <a:lnTo>
                    <a:pt x="124640" y="156602"/>
                  </a:lnTo>
                  <a:lnTo>
                    <a:pt x="133894" y="157354"/>
                  </a:lnTo>
                  <a:lnTo>
                    <a:pt x="143449" y="158702"/>
                  </a:lnTo>
                  <a:lnTo>
                    <a:pt x="153205" y="160448"/>
                  </a:lnTo>
                  <a:lnTo>
                    <a:pt x="163097" y="162459"/>
                  </a:lnTo>
                  <a:lnTo>
                    <a:pt x="173079" y="163798"/>
                  </a:lnTo>
                  <a:lnTo>
                    <a:pt x="183119" y="164692"/>
                  </a:lnTo>
                  <a:lnTo>
                    <a:pt x="193199" y="165288"/>
                  </a:lnTo>
                  <a:lnTo>
                    <a:pt x="211173" y="165949"/>
                  </a:lnTo>
                  <a:lnTo>
                    <a:pt x="219522" y="166126"/>
                  </a:lnTo>
                  <a:lnTo>
                    <a:pt x="227628" y="165397"/>
                  </a:lnTo>
                  <a:lnTo>
                    <a:pt x="235572" y="164065"/>
                  </a:lnTo>
                  <a:lnTo>
                    <a:pt x="243408" y="162329"/>
                  </a:lnTo>
                  <a:lnTo>
                    <a:pt x="250325" y="161173"/>
                  </a:lnTo>
                  <a:lnTo>
                    <a:pt x="256630" y="160401"/>
                  </a:lnTo>
                  <a:lnTo>
                    <a:pt x="262527" y="159887"/>
                  </a:lnTo>
                  <a:lnTo>
                    <a:pt x="271336" y="157058"/>
                  </a:lnTo>
                  <a:lnTo>
                    <a:pt x="278074" y="153826"/>
                  </a:lnTo>
                  <a:lnTo>
                    <a:pt x="286627" y="152006"/>
                  </a:lnTo>
                  <a:lnTo>
                    <a:pt x="289298" y="151750"/>
                  </a:lnTo>
                  <a:lnTo>
                    <a:pt x="297180" y="1512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15:04:30Z</dcterms:created>
  <dc:creator>srentel</dc:creator>
  <dc:description/>
  <dc:language>en-US</dc:language>
  <cp:lastModifiedBy>m</cp:lastModifiedBy>
  <dcterms:modified xsi:type="dcterms:W3CDTF">2012-01-10T21:12:54Z</dcterms:modified>
  <cp:revision>6</cp:revision>
  <dc:subject/>
  <dc:title>Slide 1</dc:title>
</cp:coreProperties>
</file>